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80E5-23EC-4642-A075-568B04BD1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basic fibre-pin interactions which occur during carding.  An understanding of these actions is essential in understand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2B2D-EFB9-4282-9293-8AE41133C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certain fundamental elements in the carding process.  Entangled fibres are separated at working points by fibre/pin interaction.  These working points are formed by the interaction between two sets of pins (also called teeth or sometimes wires).  Each set of pins is mounted on a surface which is in relative motion to the other set of pins.  As well as disentanglement, the carding action also leads to fibre movement which ensures that the fibres undergo multiple fibre/pin inter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bjective of carding is fibre opening, i.e. separating the fibres from clumps into individual fibres.  During this process it is also possible to clean the fibres, and various secondary card mechanisms help this process, such as burr beaters and Morel wire.  The fibres undergo multiple fibre/pin interactions and also multiple passes over moving rollers, thereby also achieving a high degree of fibre blending and mixing.  During the multiple fibre/pin interactions the individual fibres tend to be straightened, although there are still many “hooks” in fibres after combing.  These hooks or unstraightened fibres can also be induced by the carding process.  As a final objective, the fibre web which spans the width of the card is stripped and condensed into a card sliver, in preparation for the next processing s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C7D5-7F8D-4B6E-9B57-455914F56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s of pins or teeth on a card are examined in detail in the module “Worsted Card Fea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pin interaction which is the contact between fibres and pins can occur in a number of ways.  The fibres can move along the pins, or they can be trapped around the pins.  Movement along the pins may not lead to fibre transfer between rollers, however fibres usually move between rollers when they wrap around pins, which can occur in carding or stripping.  The primary function of carding is, however, fibre s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re are a number of fibre/pin interactions which can be identified during carding.  The first basic action is carding leading to fibre separation.  The second basic action is stripping leading to fibre movement between roll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93AE-8B07-4A7D-87D6-38BD5138C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c action which occurs is decided by a number of factors: pin direction, the relative roller (cylinder) rotation direction and the relative roller surface speeds.  Each of these factors can be varied, and any one can alter the basic action that occurs during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basic actions are illustrated in this slide based on opposite roller rotation direction for roller A and roller B.  Some further examples on the next slides will illustrate what can occur if the roller rotation is concurrent, which is more common in practice.  In the case of opposite roller direction, the relative roller speed is not critical to the action that occurs, rather the relative speed would determine the severity of the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rst illustration the relative pin direction is also opposite, therefore the point of the pins on roller A will meet the points of the pins on roller B.  This is “point to point” interaction, and is indicative of the basic action of carding.  In this case fibres would be carded between the pins of the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entre illustration shows the occurrence of “point to back” interaction between the pins, since in this case the relative pin direction is the same.  This interaction is indicative of the basic action of stripping.  In this case the pins on roller A would strip the fibres from roller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llustration on the right shows “back to back” interaction between the pins, since the relative pin direction is opposite, but opposed to the roller rotational direction.  This is indicative of the basic action of raising.  In this case, roller A would raise fibres higher on the pins of roller 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83F1-C05E-4851-B6FA-6822B8EA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299880" y="4572000"/>
          <a:ext cx="6259680" cy="1143000"/>
        </p:xfrm>
        <a:graphic>
          <a:graphicData uri="http://schemas.openxmlformats.org/presentationml/2006/ole">
            <p:oleObj progId="Excel.Sheet.12" r:id="rId1" spid="">
              <p:embed/>
              <p:pic>
                <p:nvPicPr>
                  <p:cNvPr id="125" name="" descr=""/>
                  <p:cNvPicPr/>
                  <p:nvPr/>
                </p:nvPicPr>
                <p:blipFill>
                  <a:blip r:embed="rId2"/>
                  <a:stretch/>
                </p:blipFill>
                <p:spPr>
                  <a:xfrm>
                    <a:off x="299880" y="4572000"/>
                    <a:ext cx="6259680" cy="1143000"/>
                  </a:xfrm>
                  <a:prstGeom prst="rect">
                    <a:avLst/>
                  </a:prstGeom>
                  <a:ln w="0">
                    <a:noFill/>
                  </a:ln>
                </p:spPr>
              </p:pic>
            </p:oleObj>
          </a:graphicData>
        </a:graphic>
      </p:graphicFrame>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below shows the basic actions that occur when the rollers and pins are in the configurations as displayed in the slid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6994-A15E-42D7-A66B-A7D1390B1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266760" y="4419720"/>
          <a:ext cx="6326280" cy="1143000"/>
        </p:xfrm>
        <a:graphic>
          <a:graphicData uri="http://schemas.openxmlformats.org/presentationml/2006/ole">
            <p:oleObj progId="Excel.Sheet.12" r:id="rId1" spid="">
              <p:embed/>
              <p:pic>
                <p:nvPicPr>
                  <p:cNvPr id="135" name="" descr=""/>
                  <p:cNvPicPr/>
                  <p:nvPr/>
                </p:nvPicPr>
                <p:blipFill>
                  <a:blip r:embed="rId2"/>
                  <a:stretch/>
                </p:blipFill>
                <p:spPr>
                  <a:xfrm>
                    <a:off x="266760" y="4419720"/>
                    <a:ext cx="6326280" cy="1143000"/>
                  </a:xfrm>
                  <a:prstGeom prst="rect">
                    <a:avLst/>
                  </a:prstGeom>
                  <a:ln w="0">
                    <a:noFill/>
                  </a:ln>
                </p:spPr>
              </p:pic>
            </p:oleObj>
          </a:graphicData>
        </a:graphic>
      </p:graphicFrame>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below shows the basic actions that occur when the rollers and pins are in the configurations as displayed in the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earley, A. (1964), Worsted, Pitman Press, p.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some examples of the basic actions as they occur on a working c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titled “carding” shows the carding action that takes place between the fast moving swift (main cylinder) and the worker roller.  A similar point to point action is seen to occur between the slow doffer and the swift.  Therefore the action that occurs in doffing is a carding action.  This is important to note with relation to the formation of hooks in fibres.  For more information see the “Worsted Card Featu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titled “stripping” shows the point to back interaction that characterises stripping.  This occurs between the stripper and the worker (stripper strips worker) and the stripper and the swift (swift strips strip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diagram titled “raising” shows how the back to back interaction between the fancy roller and the swift leads to the raising of fibres along the pins on the swift.  This basic action is important to prepare fibres for carding and stripping.  Otherwise fibres would tend to be caught in the base of wires.  Fancy rollers are used less today since the short metallic wire commonly used doesn’t display the tendency to trap fibres, compared to older-style flexible fillet wi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rding</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damenta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tangled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rated at working poi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ns / teeth / wire fixed to two surf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 motion of surf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movemen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ope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clea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ing / mix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traighte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forma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Fibre / Pin Interaction</a:t>
            </a:r>
            <a:endParaRPr b="1" lang="en-US" sz="30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 PIN intera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ct between fibres and p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ong pi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ound pin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basic a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epara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ipp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transf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is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paration for carding and stripping</a:t>
            </a:r>
            <a:endParaRPr b="1" lang="en-US" sz="2000" spc="-1" strike="noStrike">
              <a:solidFill>
                <a:srgbClr val="ffffff"/>
              </a:solidFill>
              <a:latin typeface="Arial"/>
            </a:endParaRPr>
          </a:p>
        </p:txBody>
      </p:sp>
      <p:sp>
        <p:nvSpPr>
          <p:cNvPr id="59"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Actions during Carding</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id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in dir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ylinder rotational dir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cylinder speed</a:t>
            </a:r>
            <a:endParaRPr b="1" lang="en-US" sz="2400" spc="-1" strike="noStrike">
              <a:solidFill>
                <a:srgbClr val="ffffff"/>
              </a:solidFill>
              <a:latin typeface="Arial"/>
            </a:endParaRPr>
          </a:p>
        </p:txBody>
      </p:sp>
      <p:pic>
        <p:nvPicPr>
          <p:cNvPr id="64" name="" descr=""/>
          <p:cNvPicPr/>
          <p:nvPr/>
        </p:nvPicPr>
        <p:blipFill>
          <a:blip r:embed="rId1"/>
          <a:stretch/>
        </p:blipFill>
        <p:spPr>
          <a:xfrm>
            <a:off x="1295280" y="3276720"/>
            <a:ext cx="7696440" cy="2624040"/>
          </a:xfrm>
          <a:prstGeom prst="rect">
            <a:avLst/>
          </a:prstGeom>
          <a:ln w="0">
            <a:noFill/>
          </a:ln>
        </p:spPr>
      </p:pic>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ercise</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basic actions arise from the following arrangements?  </a:t>
            </a:r>
            <a:endParaRPr b="1" lang="en-US" sz="2400" spc="-1" strike="noStrike">
              <a:solidFill>
                <a:srgbClr val="ffffff"/>
              </a:solidFill>
              <a:latin typeface="Arial"/>
            </a:endParaRPr>
          </a:p>
        </p:txBody>
      </p:sp>
      <p:pic>
        <p:nvPicPr>
          <p:cNvPr id="70" name="" descr=""/>
          <p:cNvPicPr/>
          <p:nvPr/>
        </p:nvPicPr>
        <p:blipFill>
          <a:blip r:embed="rId1"/>
          <a:stretch/>
        </p:blipFill>
        <p:spPr>
          <a:xfrm>
            <a:off x="1693800" y="1676520"/>
            <a:ext cx="6840720" cy="4495680"/>
          </a:xfrm>
          <a:prstGeom prst="rect">
            <a:avLst/>
          </a:prstGeom>
          <a:ln w="0">
            <a:noFill/>
          </a:ln>
        </p:spPr>
      </p:pic>
      <p:sp>
        <p:nvSpPr>
          <p:cNvPr id="7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ercise</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basic actions arise from the following arrangements?  </a:t>
            </a:r>
            <a:endParaRPr b="1" lang="en-US" sz="2400" spc="-1" strike="noStrike">
              <a:solidFill>
                <a:srgbClr val="ffffff"/>
              </a:solidFill>
              <a:latin typeface="Arial"/>
            </a:endParaRPr>
          </a:p>
        </p:txBody>
      </p:sp>
      <p:pic>
        <p:nvPicPr>
          <p:cNvPr id="76" name="" descr=""/>
          <p:cNvPicPr/>
          <p:nvPr/>
        </p:nvPicPr>
        <p:blipFill>
          <a:blip r:embed="rId1"/>
          <a:stretch/>
        </p:blipFill>
        <p:spPr>
          <a:xfrm>
            <a:off x="1727280" y="1676520"/>
            <a:ext cx="6654600" cy="4497120"/>
          </a:xfrm>
          <a:prstGeom prst="rect">
            <a:avLst/>
          </a:prstGeom>
          <a:ln w="0">
            <a:noFill/>
          </a:ln>
        </p:spPr>
      </p:pic>
      <p:sp>
        <p:nvSpPr>
          <p:cNvPr id="7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ding Configurations</a:t>
            </a:r>
            <a:endParaRPr b="1" lang="en-US" sz="3200" spc="-1" strike="noStrike">
              <a:solidFill>
                <a:srgbClr val="fafd00"/>
              </a:solidFill>
              <a:latin typeface="Arial"/>
            </a:endParaRPr>
          </a:p>
        </p:txBody>
      </p:sp>
      <p:grpSp>
        <p:nvGrpSpPr>
          <p:cNvPr id="79" name=""/>
          <p:cNvGrpSpPr/>
          <p:nvPr/>
        </p:nvGrpSpPr>
        <p:grpSpPr>
          <a:xfrm>
            <a:off x="1219320" y="762120"/>
            <a:ext cx="4800600" cy="2898000"/>
            <a:chOff x="1219320" y="762120"/>
            <a:chExt cx="4800600" cy="2898000"/>
          </a:xfrm>
        </p:grpSpPr>
        <p:graphicFrame>
          <p:nvGraphicFramePr>
            <p:cNvPr id="80" name=""/>
            <p:cNvGraphicFramePr/>
            <p:nvPr/>
          </p:nvGraphicFramePr>
          <p:xfrm>
            <a:off x="1219320" y="762120"/>
            <a:ext cx="4800600" cy="2455920"/>
          </p:xfrm>
          <a:graphic>
            <a:graphicData uri="http://schemas.openxmlformats.org/presentationml/2006/ole">
              <p:oleObj r:id="rId1" spid="">
                <p:embed/>
                <p:pic>
                  <p:nvPicPr>
                    <p:cNvPr id="81" name="" descr=""/>
                    <p:cNvPicPr/>
                    <p:nvPr/>
                  </p:nvPicPr>
                  <p:blipFill>
                    <a:blip r:embed="rId2"/>
                    <a:stretch/>
                  </p:blipFill>
                  <p:spPr>
                    <a:xfrm>
                      <a:off x="1219320" y="762120"/>
                      <a:ext cx="4800600" cy="2455920"/>
                    </a:xfrm>
                    <a:prstGeom prst="rect">
                      <a:avLst/>
                    </a:prstGeom>
                    <a:ln w="0">
                      <a:noFill/>
                    </a:ln>
                  </p:spPr>
                </p:pic>
              </p:oleObj>
            </a:graphicData>
          </a:graphic>
        </p:graphicFrame>
        <p:sp>
          <p:nvSpPr>
            <p:cNvPr id="82" name=""/>
            <p:cNvSpPr/>
            <p:nvPr/>
          </p:nvSpPr>
          <p:spPr>
            <a:xfrm>
              <a:off x="2744640" y="320040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carding</a:t>
              </a:r>
              <a:endParaRPr b="0" lang="en-US" sz="2400" spc="-1" strike="noStrike">
                <a:solidFill>
                  <a:srgbClr val="000000"/>
                </a:solidFill>
                <a:latin typeface="Times New Roman"/>
              </a:endParaRPr>
            </a:p>
          </p:txBody>
        </p:sp>
      </p:grpSp>
      <p:grpSp>
        <p:nvGrpSpPr>
          <p:cNvPr id="83" name=""/>
          <p:cNvGrpSpPr/>
          <p:nvPr/>
        </p:nvGrpSpPr>
        <p:grpSpPr>
          <a:xfrm>
            <a:off x="1219320" y="3962520"/>
            <a:ext cx="4800600" cy="2593080"/>
            <a:chOff x="1219320" y="3962520"/>
            <a:chExt cx="4800600" cy="2593080"/>
          </a:xfrm>
        </p:grpSpPr>
        <p:graphicFrame>
          <p:nvGraphicFramePr>
            <p:cNvPr id="84" name=""/>
            <p:cNvGraphicFramePr/>
            <p:nvPr/>
          </p:nvGraphicFramePr>
          <p:xfrm>
            <a:off x="1219320" y="3962520"/>
            <a:ext cx="4800600" cy="2100240"/>
          </p:xfrm>
          <a:graphic>
            <a:graphicData uri="http://schemas.openxmlformats.org/presentationml/2006/ole">
              <p:oleObj r:id="rId3" spid="">
                <p:embed/>
                <p:pic>
                  <p:nvPicPr>
                    <p:cNvPr id="85" name="" descr=""/>
                    <p:cNvPicPr/>
                    <p:nvPr/>
                  </p:nvPicPr>
                  <p:blipFill>
                    <a:blip r:embed="rId4"/>
                    <a:stretch/>
                  </p:blipFill>
                  <p:spPr>
                    <a:xfrm>
                      <a:off x="1219320" y="3962520"/>
                      <a:ext cx="4800600" cy="2100240"/>
                    </a:xfrm>
                    <a:prstGeom prst="rect">
                      <a:avLst/>
                    </a:prstGeom>
                    <a:ln w="0">
                      <a:noFill/>
                    </a:ln>
                  </p:spPr>
                </p:pic>
              </p:oleObj>
            </a:graphicData>
          </a:graphic>
        </p:graphicFrame>
        <p:sp>
          <p:nvSpPr>
            <p:cNvPr id="86" name=""/>
            <p:cNvSpPr/>
            <p:nvPr/>
          </p:nvSpPr>
          <p:spPr>
            <a:xfrm>
              <a:off x="2819520" y="609588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stripping</a:t>
              </a:r>
              <a:endParaRPr b="0" lang="en-US" sz="2400" spc="-1" strike="noStrike">
                <a:solidFill>
                  <a:srgbClr val="000000"/>
                </a:solidFill>
                <a:latin typeface="Times New Roman"/>
              </a:endParaRPr>
            </a:p>
          </p:txBody>
        </p:sp>
      </p:grpSp>
      <p:grpSp>
        <p:nvGrpSpPr>
          <p:cNvPr id="87" name=""/>
          <p:cNvGrpSpPr/>
          <p:nvPr/>
        </p:nvGrpSpPr>
        <p:grpSpPr>
          <a:xfrm>
            <a:off x="6087960" y="2133720"/>
            <a:ext cx="2979720" cy="3202920"/>
            <a:chOff x="6087960" y="2133720"/>
            <a:chExt cx="2979720" cy="3202920"/>
          </a:xfrm>
        </p:grpSpPr>
        <p:graphicFrame>
          <p:nvGraphicFramePr>
            <p:cNvPr id="88" name=""/>
            <p:cNvGraphicFramePr/>
            <p:nvPr/>
          </p:nvGraphicFramePr>
          <p:xfrm>
            <a:off x="6087960" y="2133720"/>
            <a:ext cx="2979720" cy="2666880"/>
          </p:xfrm>
          <a:graphic>
            <a:graphicData uri="http://schemas.openxmlformats.org/presentationml/2006/ole">
              <p:oleObj r:id="rId5" spid="">
                <p:embed/>
                <p:pic>
                  <p:nvPicPr>
                    <p:cNvPr id="89" name="" descr=""/>
                    <p:cNvPicPr/>
                    <p:nvPr/>
                  </p:nvPicPr>
                  <p:blipFill>
                    <a:blip r:embed="rId6"/>
                    <a:stretch/>
                  </p:blipFill>
                  <p:spPr>
                    <a:xfrm>
                      <a:off x="6087960" y="2133720"/>
                      <a:ext cx="2979720" cy="2666880"/>
                    </a:xfrm>
                    <a:prstGeom prst="rect">
                      <a:avLst/>
                    </a:prstGeom>
                    <a:ln w="0">
                      <a:noFill/>
                    </a:ln>
                  </p:spPr>
                </p:pic>
              </p:oleObj>
            </a:graphicData>
          </a:graphic>
        </p:graphicFrame>
        <p:sp>
          <p:nvSpPr>
            <p:cNvPr id="90" name=""/>
            <p:cNvSpPr/>
            <p:nvPr/>
          </p:nvSpPr>
          <p:spPr>
            <a:xfrm>
              <a:off x="6938280" y="48769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raising</a:t>
              </a:r>
              <a:endParaRPr b="0" lang="en-US" sz="2400" spc="-1" strike="noStrike">
                <a:solidFill>
                  <a:srgbClr val="000000"/>
                </a:solidFill>
                <a:latin typeface="Times New Roman"/>
              </a:endParaRPr>
            </a:p>
          </p:txBody>
        </p:sp>
      </p:grpSp>
      <p:sp>
        <p:nvSpPr>
          <p:cNvPr id="91" name=""/>
          <p:cNvSpPr/>
          <p:nvPr/>
        </p:nvSpPr>
        <p:spPr>
          <a:xfrm>
            <a:off x="7037280" y="6324480"/>
            <a:ext cx="2034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2:01:34Z</dcterms:created>
  <dc:creator>USER</dc:creator>
  <dc:description/>
  <dc:language>en-US</dc:language>
  <cp:lastModifiedBy>select agreement</cp:lastModifiedBy>
  <cp:lastPrinted>2000-02-03T09:09:47Z</cp:lastPrinted>
  <dcterms:modified xsi:type="dcterms:W3CDTF">2000-03-08T05:00:07Z</dcterms:modified>
  <cp:revision>2</cp:revision>
  <dc:subject/>
  <dc:title>Carding Principles</dc:title>
</cp:coreProperties>
</file>