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64581-90FE-4415-8442-7C11D7DD6F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562040" y="533520"/>
            <a:ext cx="3657600" cy="2743200"/>
          </a:xfrm>
          <a:prstGeom prst="rect">
            <a:avLst/>
          </a:prstGeom>
          <a:ln w="0">
            <a:noFill/>
          </a:ln>
        </p:spPr>
      </p:sp>
      <p:sp>
        <p:nvSpPr>
          <p:cNvPr id="16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examines the multi-stage process of woollen and worsted yarn production.  Separate processes such as drawing, roving formation, spinning and folding combine to produce a plied yar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recommended that the module, “Yarn Twist” is viewed before this module.  The modules on “Doubling and Drafting” and “Evenness” are also recommended read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uthor would like to thank Assoc. Prof. Xungai Wang from Deakin University for his valuable input into this modu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Auer, The University of New South Wale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79242-9B47-4B17-B286-5EAB5D8EBA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5" name="PlaceHolder 1"/>
          <p:cNvSpPr>
            <a:spLocks noGrp="1"/>
          </p:cNvSpPr>
          <p:nvPr>
            <p:ph type="sldImg"/>
          </p:nvPr>
        </p:nvSpPr>
        <p:spPr>
          <a:xfrm>
            <a:off x="1562040" y="533520"/>
            <a:ext cx="3657600" cy="2743200"/>
          </a:xfrm>
          <a:prstGeom prst="rect">
            <a:avLst/>
          </a:prstGeom>
          <a:ln w="0">
            <a:noFill/>
          </a:ln>
        </p:spPr>
      </p:sp>
      <p:sp>
        <p:nvSpPr>
          <p:cNvPr id="19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von Bergen, W. (1970), Wool Handbook, Vol. 2, Part2, John Wiley &amp; Sons Inc., 110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ormation of singles yarn has been described in the preceding slides.  In normal operations, this yarn is unsuitable for further processing.  It will be abraded during weaving and knitt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lding occurs after spinning to give the yarn characteristics which make it suitable for weaving.  This process is also referred to as plying or twist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ied yarns have greater uniformity, smoothness, lustre and strength than the equivalent singles yarn.  The plied yarn is able to withstand the demands of weaving without being unduly damaged whereas the singles yarn would be unsuitab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ied or folded twist is usually the opposite of singles twist.  The folded singles are usually the same twist.  This is shown in the diagram as “K” plied yarns.  However, yarns can be plied with the same twist, shown as “A” yar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the twist being inserted during folding is opposite to that on the singles yarn, then folding actually removes twist from the singles yarn.  This phenomenon can have a significant effect on the final yarn appearan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A4023-7BDE-40F8-8CD6-A72F4FFF9C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9" name="PlaceHolder 1"/>
          <p:cNvSpPr>
            <a:spLocks noGrp="1"/>
          </p:cNvSpPr>
          <p:nvPr>
            <p:ph type="sldImg"/>
          </p:nvPr>
        </p:nvSpPr>
        <p:spPr>
          <a:xfrm>
            <a:off x="1562040" y="533520"/>
            <a:ext cx="3657600" cy="2743200"/>
          </a:xfrm>
          <a:prstGeom prst="rect">
            <a:avLst/>
          </a:prstGeom>
          <a:ln w="0">
            <a:noFill/>
          </a:ln>
        </p:spPr>
      </p:sp>
      <p:sp>
        <p:nvSpPr>
          <p:cNvPr id="20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fore folding, the singles yarns have been taken off the bobbins and wound onto packages.  These packages may be shaped like cones or cheeses as shown above.  The amount of yarn on each bobbin is relatively small, so the ends are spliced or knotted to form the full packag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operation is also for the purpose of yarn clearing whereby any yarn faults can be cut out of the yarn at this stage.  Yarn clearing can employ such developments as Siroclear which can detect dark fibres and other faul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wo types of machines are used to fold or ply yarns, either an up-twister, or a 2-for-1 twist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an up-twisting operation there are two ends on a yarn package or two packages on top of each other.  One revolution of the yarn as it is pulled off the package inserts one turn of twist into the plied yarn.  The twist level is determined by spindle speed (rpm) revolu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a 2-for-1 Twister, which is a more modern arrangement, and more efficient, two packages are mounted on a hollow rotating spindle.  Both yarns down the spindle before being taken up onto another package above.  This clever arrangement means that 2 turns of twist are being inserted in the folded yarn for every spindle revolution, hence the efficienc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5FA77-EA12-4495-9B82-4000E8B35B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PlaceHolder 1"/>
          <p:cNvSpPr>
            <a:spLocks noGrp="1"/>
          </p:cNvSpPr>
          <p:nvPr>
            <p:ph type="sldImg"/>
          </p:nvPr>
        </p:nvSpPr>
        <p:spPr>
          <a:xfrm>
            <a:off x="1562040" y="533520"/>
            <a:ext cx="3657600" cy="2743200"/>
          </a:xfrm>
          <a:prstGeom prst="rect">
            <a:avLst/>
          </a:prstGeom>
          <a:ln w="0">
            <a:noFill/>
          </a:ln>
        </p:spPr>
      </p:sp>
      <p:sp>
        <p:nvSpPr>
          <p:cNvPr id="16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pinning is a term used to describe yarn production generally, however it is only one operation in a series in the production of a yarn. Finished top must go through a series of drawing operations to reduce its linear density to a stage where it is able to be spu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reality the principles used in yarn production are the same as that employed in the ancient form of yarn production called spindle spinning as illustrated above.  A thicker fibre assembly is drafted, twist is applied to the drafted assembly and the twisted yarn is taken up on to a bobbi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ingles yarn produced from spinning must then be folded or plied with another to produce a yarn which will withstand the rigours of weaving and knitt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variety of machine combinations and number of drawing operations in yarn production has varied over the yea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dern" spinning practice has been to reduce the number of drawing operations, use autolevellers and use higher drafts in spinning.  These systems are referred to as the "New Bradford System" and the "New Continental System" (circa 1959).  The principles used in these systems still apply toda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ng spinning is usually used to produce worsted and woollen yarns.  Competing fibres are mostly produced using the more productive open-end (OE) spinning systems that convert a “sliver” to a singles yarn in one operation.  OE spinning has not yet been adapted to woollen or worsted spinning.</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0673A-DDE1-4E41-8034-E4B83F9D07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7" name="PlaceHolder 1"/>
          <p:cNvSpPr>
            <a:spLocks noGrp="1"/>
          </p:cNvSpPr>
          <p:nvPr>
            <p:ph type="sldImg"/>
          </p:nvPr>
        </p:nvSpPr>
        <p:spPr>
          <a:xfrm>
            <a:off x="1562040" y="533520"/>
            <a:ext cx="3657600" cy="2743200"/>
          </a:xfrm>
          <a:prstGeom prst="rect">
            <a:avLst/>
          </a:prstGeom>
          <a:ln w="0">
            <a:noFill/>
          </a:ln>
        </p:spPr>
      </p:sp>
      <p:sp>
        <p:nvSpPr>
          <p:cNvPr id="16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rawing is an intermediate stage in worsted yarn production in the conversion of a top to a yarn.  The product of drawing at this stage is called a roving.  The sliver linear density is gradually reduced to form a very thin sliver through a series of gillboxes.  Assembly evenness is modulated as much as possible by this sequential doubling and drawing.  The number of fibres in the cross-section of the fibre assembly is reduced as shown abov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op must be thinned gradually to maintain maximum control on the shorter fibres in sliver to minimise drafting waves.  This is achieved by feeding in less slivers by number than the draf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quential drafting means that the number of doublings and drafting vary during the three stage gilling that is usual in modern spinning mill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umber of gillings can vary, but the first two can employ autolevellers to enhance assembly evenness.  The last gilling before the roving frame may be a high speed chain gill capable of producing the fine sliver requir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examp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Doubling</a:t>
            </a:r>
            <a:r>
              <a:rPr b="0" lang="en-GB" sz="1200" spc="-1" strike="noStrike">
                <a:solidFill>
                  <a:srgbClr val="000000"/>
                </a:solidFill>
                <a:latin typeface="Times New Roman"/>
              </a:rPr>
              <a:t>	</a:t>
            </a:r>
            <a:r>
              <a:rPr b="0" lang="en-GB" sz="1200" spc="-1" strike="noStrike">
                <a:solidFill>
                  <a:srgbClr val="000000"/>
                </a:solidFill>
                <a:latin typeface="Times New Roman"/>
              </a:rPr>
              <a:t>Drafting</a:t>
            </a:r>
            <a:r>
              <a:rPr b="0" lang="en-GB" sz="1200" spc="-1" strike="noStrike">
                <a:solidFill>
                  <a:srgbClr val="000000"/>
                </a:solidFill>
                <a:latin typeface="Times New Roman"/>
              </a:rPr>
              <a:t>	</a:t>
            </a:r>
            <a:r>
              <a:rPr b="0" lang="en-GB" sz="1200" spc="-1" strike="noStrike">
                <a:solidFill>
                  <a:srgbClr val="000000"/>
                </a:solidFill>
                <a:latin typeface="Times New Roman"/>
              </a:rPr>
              <a:t>Linear Densi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ill 1</a:t>
            </a:r>
            <a:r>
              <a:rPr b="0" lang="en-GB" sz="1200" spc="-1" strike="noStrike">
                <a:solidFill>
                  <a:srgbClr val="000000"/>
                </a:solidFill>
                <a:latin typeface="Times New Roman"/>
              </a:rPr>
              <a:t>	</a:t>
            </a:r>
            <a:r>
              <a:rPr b="0" lang="en-GB" sz="1200" spc="-1" strike="noStrike">
                <a:solidFill>
                  <a:srgbClr val="000000"/>
                </a:solidFill>
                <a:latin typeface="Times New Roman"/>
              </a:rPr>
              <a:t>8</a:t>
            </a:r>
            <a:r>
              <a:rPr b="0" lang="en-GB" sz="1200" spc="-1" strike="noStrike">
                <a:solidFill>
                  <a:srgbClr val="000000"/>
                </a:solidFill>
                <a:latin typeface="Times New Roman"/>
              </a:rPr>
              <a:t>	</a:t>
            </a:r>
            <a:r>
              <a:rPr b="0" lang="en-GB" sz="1200" spc="-1" strike="noStrike">
                <a:solidFill>
                  <a:srgbClr val="000000"/>
                </a:solidFill>
                <a:latin typeface="Times New Roman"/>
              </a:rPr>
              <a:t>8</a:t>
            </a:r>
            <a:r>
              <a:rPr b="0" lang="en-GB" sz="1200" spc="-1" strike="noStrike">
                <a:solidFill>
                  <a:srgbClr val="000000"/>
                </a:solidFill>
                <a:latin typeface="Times New Roman"/>
              </a:rPr>
              <a:t>	</a:t>
            </a:r>
            <a:r>
              <a:rPr b="0" lang="en-GB" sz="1200" spc="-1" strike="noStrike">
                <a:solidFill>
                  <a:srgbClr val="000000"/>
                </a:solidFill>
                <a:latin typeface="Times New Roman"/>
              </a:rPr>
              <a:t>~16 ktex</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ill 2</a:t>
            </a:r>
            <a:r>
              <a:rPr b="0" lang="en-GB" sz="1200" spc="-1" strike="noStrike">
                <a:solidFill>
                  <a:srgbClr val="000000"/>
                </a:solidFill>
                <a:latin typeface="Times New Roman"/>
              </a:rPr>
              <a:t>	</a:t>
            </a:r>
            <a:r>
              <a:rPr b="0" lang="en-GB" sz="1200" spc="-1" strike="noStrike">
                <a:solidFill>
                  <a:srgbClr val="000000"/>
                </a:solidFill>
                <a:latin typeface="Times New Roman"/>
              </a:rPr>
              <a:t>4</a:t>
            </a:r>
            <a:r>
              <a:rPr b="0" lang="en-GB" sz="1200" spc="-1" strike="noStrike">
                <a:solidFill>
                  <a:srgbClr val="000000"/>
                </a:solidFill>
                <a:latin typeface="Times New Roman"/>
              </a:rPr>
              <a:t>	</a:t>
            </a:r>
            <a:r>
              <a:rPr b="0" lang="en-GB" sz="1200" spc="-1" strike="noStrike">
                <a:solidFill>
                  <a:srgbClr val="000000"/>
                </a:solidFill>
                <a:latin typeface="Times New Roman"/>
              </a:rPr>
              <a:t>8</a:t>
            </a:r>
            <a:r>
              <a:rPr b="0" lang="en-GB" sz="1200" spc="-1" strike="noStrike">
                <a:solidFill>
                  <a:srgbClr val="000000"/>
                </a:solidFill>
                <a:latin typeface="Times New Roman"/>
              </a:rPr>
              <a:t>	</a:t>
            </a:r>
            <a:r>
              <a:rPr b="0" lang="en-GB" sz="1200" spc="-1" strike="noStrike">
                <a:solidFill>
                  <a:srgbClr val="000000"/>
                </a:solidFill>
                <a:latin typeface="Times New Roman"/>
              </a:rPr>
              <a:t>~8 ktex</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ill 3</a:t>
            </a:r>
            <a:r>
              <a:rPr b="0" lang="en-GB" sz="1200" spc="-1" strike="noStrike">
                <a:solidFill>
                  <a:srgbClr val="000000"/>
                </a:solidFill>
                <a:latin typeface="Times New Roman"/>
              </a:rPr>
              <a:t>	</a:t>
            </a:r>
            <a:r>
              <a:rPr b="0" lang="en-GB" sz="1200" spc="-1" strike="noStrike">
                <a:solidFill>
                  <a:srgbClr val="000000"/>
                </a:solidFill>
                <a:latin typeface="Times New Roman"/>
              </a:rPr>
              <a:t>3</a:t>
            </a:r>
            <a:r>
              <a:rPr b="0" lang="en-GB" sz="1200" spc="-1" strike="noStrike">
                <a:solidFill>
                  <a:srgbClr val="000000"/>
                </a:solidFill>
                <a:latin typeface="Times New Roman"/>
              </a:rPr>
              <a:t>	</a:t>
            </a:r>
            <a:r>
              <a:rPr b="0" lang="en-GB" sz="1200" spc="-1" strike="noStrike">
                <a:solidFill>
                  <a:srgbClr val="000000"/>
                </a:solidFill>
                <a:latin typeface="Times New Roman"/>
              </a:rPr>
              <a:t>6.5</a:t>
            </a:r>
            <a:r>
              <a:rPr b="0" lang="en-GB" sz="1200" spc="-1" strike="noStrike">
                <a:solidFill>
                  <a:srgbClr val="000000"/>
                </a:solidFill>
                <a:latin typeface="Times New Roman"/>
              </a:rPr>
              <a:t>	</a:t>
            </a:r>
            <a:r>
              <a:rPr b="0" lang="en-GB" sz="1200" spc="-1" strike="noStrike">
                <a:solidFill>
                  <a:srgbClr val="000000"/>
                </a:solidFill>
                <a:latin typeface="Times New Roman"/>
              </a:rPr>
              <a:t>~3.5 ktex</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59A05-9588-4B90-B59E-B23FA29EDB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1" name="PlaceHolder 1"/>
          <p:cNvSpPr>
            <a:spLocks noGrp="1"/>
          </p:cNvSpPr>
          <p:nvPr>
            <p:ph type="sldImg"/>
          </p:nvPr>
        </p:nvSpPr>
        <p:spPr>
          <a:xfrm>
            <a:off x="1562040" y="533520"/>
            <a:ext cx="3657600" cy="2743200"/>
          </a:xfrm>
          <a:prstGeom prst="rect">
            <a:avLst/>
          </a:prstGeom>
          <a:ln w="0">
            <a:noFill/>
          </a:ln>
        </p:spPr>
      </p:sp>
      <p:sp>
        <p:nvSpPr>
          <p:cNvPr id="17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gilling operations in sequential drawing may employ specialised drawing systems.  Porcupine drawing is another unusual form of drafting using pin control, in this case the pins are mounted on roll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in speed is only 5% more than the back roller speed which means that drafting occurs between the pins and the front rollers.  The penetration of the sliver into the pins can be controlled by carrier rollers to enhance fibre contr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B9A8B-0AFF-4D6B-99D4-3C651F3584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5" name="PlaceHolder 1"/>
          <p:cNvSpPr>
            <a:spLocks noGrp="1"/>
          </p:cNvSpPr>
          <p:nvPr>
            <p:ph type="sldImg"/>
          </p:nvPr>
        </p:nvSpPr>
        <p:spPr>
          <a:xfrm>
            <a:off x="1562040" y="533520"/>
            <a:ext cx="3657600" cy="2743200"/>
          </a:xfrm>
          <a:prstGeom prst="rect">
            <a:avLst/>
          </a:prstGeom>
          <a:ln w="0">
            <a:noFill/>
          </a:ln>
        </p:spPr>
      </p:sp>
      <p:sp>
        <p:nvSpPr>
          <p:cNvPr id="17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roving frame is used when the number of fibres in the cross-section is such that fibre control cannot be achieved by pin control.  The input sliver has between 5 and 10 times less fibres in the cross-section than the starting to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bre control during roller drafting is achieved with either soft rollers (sampre) or aprons.  Drafting is achieved through the use of roll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wist is also applied for the first time at this stage to achieve compactness and coherence.  Rub finishing roving frames are usually used at this stage, so false twist is being applied.  There is zero net twist, which is achieved by rubbing aprons which roll the roving to and fro as it passes through the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wo rovings are wound on to each take-up bobbin to save creel space during spinning, one bobbin services two spindles with a roving for eac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50092-C2BC-42B2-A850-328254D765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9" name="PlaceHolder 1"/>
          <p:cNvSpPr>
            <a:spLocks noGrp="1"/>
          </p:cNvSpPr>
          <p:nvPr>
            <p:ph type="sldImg"/>
          </p:nvPr>
        </p:nvSpPr>
        <p:spPr>
          <a:xfrm>
            <a:off x="1562040" y="533520"/>
            <a:ext cx="3657600" cy="2743200"/>
          </a:xfrm>
          <a:prstGeom prst="rect">
            <a:avLst/>
          </a:prstGeom>
          <a:ln w="0">
            <a:noFill/>
          </a:ln>
        </p:spPr>
      </p:sp>
      <p:sp>
        <p:nvSpPr>
          <p:cNvPr id="18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Written by: </a:t>
            </a:r>
            <a:r>
              <a:rPr b="0" lang="en-AU" sz="1100" spc="-1" strike="noStrike">
                <a:solidFill>
                  <a:srgbClr val="000000"/>
                </a:solidFill>
                <a:latin typeface="Times New Roman"/>
              </a:rPr>
              <a:t>Dr. Peter Auer, The University of New South Wale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Source: Brearley, A. (1964), Worsted, Pitman Pres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spinning process occurs on a spinning frame. A spinning frame can hold hundreds of spindles.  The biggest worsted spinning mills in the world have about 100,000 spindles, which is the usual expression for the size of a spinning mill.</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Each spindle position consists of a drawing section, a method of fibre control during drafting, a method of achieving twist insertion and a means of taking up the twisted yarn.</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highest drafts occur on the spinning frame, typically 20-30 for worsted yarns.  Roller drafting is employed to achieve these level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Fibre control during drafting is by false twist on the woollen or aprons on the worsted system.</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wist insertion and take-up are achieved by the use of the ring spindle for woollen and worsted yarn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A typical spindle is illustrated above.  The drafting section is not shown, but consists of back and front rollers with aprons for fibre control (refer to “Drafting” module for more information).</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fibres pass from the front rollers of the drafting section through the lappet guide, through the traveller (which rotates around the ring) and onto the bobbin which sits on the spindle.</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yarn forms a balloon as it rotates with the traveller.  One turn of twist is inserted in the yarn for every traveller revolution.</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ring rail is moving up and down laying yarn over its vertical traverse of the bobbin, otherwise the yarn would be taken up at one point on the bobbin.  The circumference of the bobbin is restricted by the diameter of the ring.</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delivery speed of the yarn is constant since the speed of the front rollers is constant.  The spindle is driven by the belts at a constant speed, so spindle speed is constant.</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separators stop each balloon from fouling the next spindle position.</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3558B-C000-4A54-9EDD-802A45A449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3" name="PlaceHolder 1"/>
          <p:cNvSpPr>
            <a:spLocks noGrp="1"/>
          </p:cNvSpPr>
          <p:nvPr>
            <p:ph type="sldImg"/>
          </p:nvPr>
        </p:nvSpPr>
        <p:spPr>
          <a:xfrm>
            <a:off x="1562040" y="533520"/>
            <a:ext cx="3657600" cy="2743200"/>
          </a:xfrm>
          <a:prstGeom prst="rect">
            <a:avLst/>
          </a:prstGeom>
          <a:ln w="0">
            <a:noFill/>
          </a:ln>
        </p:spPr>
      </p:sp>
      <p:sp>
        <p:nvSpPr>
          <p:cNvPr id="18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each traveller revolution relative to the ring one turn of twist is inserted in the yarn.  If the traveller is going anti-clockwise “S” twist will result as displayed in the previous slide.  The friction between the yarn and the traveller allows twist to be inserted into the yar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nserted twist is transmitted in the fibre assembly to a point just after the fibres emerge from the front rollers (NB there is a point as the fibres emerge from the front rollers where there is zero twist).  The twist level can be estimated by dividing the spindle speed by the delivery spe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yarn cannot be wound on to the spindle faster than the fibres emerge from the front rollers.  The delivery speed and the winding-on speed are equal during the build up of the bobbin circumference.  As the circumference varies it can be shown that the rotational speed of the traveller var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livery Speed = </a:t>
            </a:r>
            <a:r>
              <a:rPr b="0" lang="en-GB" sz="1200" spc="-1" strike="noStrike">
                <a:solidFill>
                  <a:srgbClr val="000000"/>
                </a:solidFill>
                <a:latin typeface="Symbol"/>
                <a:ea typeface="Symbol"/>
              </a:rPr>
              <a:t></a:t>
            </a:r>
            <a:r>
              <a:rPr b="0" lang="en-GB" sz="1200" spc="-1" strike="noStrike">
                <a:solidFill>
                  <a:srgbClr val="000000"/>
                </a:solidFill>
                <a:latin typeface="Times New Roman"/>
              </a:rPr>
              <a:t> * Circumference * </a:t>
            </a:r>
            <a:r>
              <a:rPr b="0" lang="en-GB" sz="1200" spc="-1" strike="noStrike">
                <a:solidFill>
                  <a:srgbClr val="000000"/>
                </a:solidFill>
                <a:latin typeface="Symbol"/>
                <a:ea typeface="Symbol"/>
              </a:rPr>
              <a:t></a:t>
            </a:r>
            <a:r>
              <a:rPr b="0" lang="en-GB" sz="1200" spc="-1" strike="noStrike">
                <a:solidFill>
                  <a:srgbClr val="000000"/>
                </a:solidFill>
                <a:latin typeface="Times New Roman"/>
              </a:rPr>
              <a:t> (bobbin rotational speed - traveller rot. spe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yarn balloon is important because it allows the yarn to shorten during twisting.  The balloon size can be varied by changing traveller weigh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9E2C7-624F-4FFA-8DC8-A53FFB35A4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7" name="PlaceHolder 1"/>
          <p:cNvSpPr>
            <a:spLocks noGrp="1"/>
          </p:cNvSpPr>
          <p:nvPr>
            <p:ph type="sldImg"/>
          </p:nvPr>
        </p:nvSpPr>
        <p:spPr>
          <a:xfrm>
            <a:off x="1562040" y="533520"/>
            <a:ext cx="3657600" cy="2743200"/>
          </a:xfrm>
          <a:prstGeom prst="rect">
            <a:avLst/>
          </a:prstGeom>
          <a:ln w="0">
            <a:noFill/>
          </a:ln>
        </p:spPr>
      </p:sp>
      <p:sp>
        <p:nvSpPr>
          <p:cNvPr id="18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the yarn is being wound onto the bobbin it will be under tension.  A component of this tension will be the  force required to move the traveller against the friction between the ring and the travell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can be shown that this tension is greatest when winding circumference is smallest.  This leads to the common practice of slow start up speeds for spinning fram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ension is usually adjusted by changing the traveller weight.  This is usually determined empirically by the spinner.  This will also change the balloon shap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balloon rotation also adds a component of centripetal force to yarn tension.  Other factors such as air resistance, yarn tex and twist also have an effect on yarn tension but to a lesser ext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the fibres emerge from the front rollers after drafting, there is a region of zero twist called the “spinning triangle”.  This is the location of most of the yarn breaks or “ends down” during spinn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 twist exists for fibre cohesion at this point, so when the number of fibres becomes too low to support the tension on the fibre assembly, the end breaks.  The number of fibres is determined by the laws of probability, so even if the average number of fibres is 35, the actual number will be lower than this 50% of the tim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atest spinning frames control the fibres as they emerge from the front rollers by various mechanisms to achieve almost perfect yarns.  This so-called “compact spinning” effectively eliminates the spinning triangl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495E4-6A6F-46A4-90C5-943D6B3CEE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1562040" y="533520"/>
            <a:ext cx="3657600" cy="2743200"/>
          </a:xfrm>
          <a:prstGeom prst="rect">
            <a:avLst/>
          </a:prstGeom>
          <a:ln w="0">
            <a:noFill/>
          </a:ln>
        </p:spPr>
      </p:sp>
      <p:sp>
        <p:nvSpPr>
          <p:cNvPr id="19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Brearley, A.,  (1965) “The Woollen Industry”, Pitman Press</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just illustrates the main difference between woollen and worsted spinning, which is the method of fibre control during drafting.  Drafts are also generally much lower in woollen spinning (approximately 1.3 times), since coarser, shorter fibres are being drafted.  For more information see module “Processing on the Woollen Syste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ibres are controlled using a mechanism to induce false twist in the fibres when they are in the drafting zone between the back (delivery) rollers and the front rollers.  The mechanism is called a false twist tube that is illustrated abov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wist is inserted because of the friction between the fibres and the top of the twist tube.  At any time twist exists in one direction between the top of the twist tube and the front of the back (delivery) rollers.  The twist is reversed after the top of the tube, hence false twist is being inser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rafting takes place between the top of the tube and the back rollers.  The false twist controls the drafting.  A thin place will have a higher twist angle (more lateral force) and therefore will draft less than a thick place which will have a lower twist ang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is practically zero twist after the fibres leave the false twister.  Real twist is inserted by ring spinning and the twisted yarn is taken up in that oper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ly small drafts are possible by this twist levelling mechanism, but the yarns produced are soft, bulky and elastic.</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5.xml"/><Relationship Id="rId5"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Yarn Production</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Auer, The University of New South Wa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20" name=""/>
          <p:cNvSpPr/>
          <p:nvPr/>
        </p:nvSpPr>
        <p:spPr>
          <a:xfrm>
            <a:off x="3565440" y="630864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3641760" y="6232680"/>
            <a:ext cx="183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olding</a:t>
            </a:r>
            <a:endParaRPr b="1" lang="en-US" sz="3200" spc="-1" strike="noStrike">
              <a:solidFill>
                <a:srgbClr val="fafd00"/>
              </a:solidFill>
              <a:latin typeface="Arial"/>
            </a:endParaRPr>
          </a:p>
        </p:txBody>
      </p:sp>
      <p:sp>
        <p:nvSpPr>
          <p:cNvPr id="123" name="PlaceHolder 2"/>
          <p:cNvSpPr>
            <a:spLocks noGrp="1"/>
          </p:cNvSpPr>
          <p:nvPr>
            <p:ph/>
          </p:nvPr>
        </p:nvSpPr>
        <p:spPr>
          <a:xfrm>
            <a:off x="1294920" y="838080"/>
            <a:ext cx="403884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asons for folding</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Uniformity</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moothness</a:t>
            </a:r>
            <a:endParaRPr b="1"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4" name="PlaceHolder 3"/>
          <p:cNvSpPr>
            <a:spLocks noGrp="1"/>
          </p:cNvSpPr>
          <p:nvPr>
            <p:ph/>
          </p:nvPr>
        </p:nvSpPr>
        <p:spPr>
          <a:xfrm>
            <a:off x="5257440" y="838080"/>
            <a:ext cx="3809880" cy="5181840"/>
          </a:xfrm>
          <a:prstGeom prst="rect">
            <a:avLst/>
          </a:prstGeom>
          <a:noFill/>
          <a:ln w="0">
            <a:noFill/>
          </a:ln>
        </p:spPr>
        <p:txBody>
          <a:bodyPr lIns="90000" rIns="90000" tIns="46800" bIns="46800" anchor="t">
            <a:normAutofit/>
          </a:bodyPr>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Lustre</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trength</a:t>
            </a:r>
            <a:endParaRPr b="1" lang="en-US" sz="20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pic>
        <p:nvPicPr>
          <p:cNvPr id="125" name="TWIST" descr=""/>
          <p:cNvPicPr/>
          <p:nvPr/>
        </p:nvPicPr>
        <p:blipFill>
          <a:blip r:embed="rId1"/>
          <a:srcRect l="14288" t="7733" r="0" b="3191"/>
          <a:stretch/>
        </p:blipFill>
        <p:spPr>
          <a:xfrm>
            <a:off x="2438280" y="2286000"/>
            <a:ext cx="5105520" cy="3675240"/>
          </a:xfrm>
          <a:prstGeom prst="rect">
            <a:avLst/>
          </a:prstGeom>
          <a:ln w="0">
            <a:noFill/>
          </a:ln>
        </p:spPr>
      </p:pic>
      <p:sp>
        <p:nvSpPr>
          <p:cNvPr id="126" name=""/>
          <p:cNvSpPr/>
          <p:nvPr/>
        </p:nvSpPr>
        <p:spPr>
          <a:xfrm>
            <a:off x="6706080" y="6324480"/>
            <a:ext cx="22899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von Bergen, W. (1970)</a:t>
            </a:r>
            <a:endParaRPr b="0" lang="en-US" sz="1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27" name=""/>
          <p:cNvGrpSpPr/>
          <p:nvPr/>
        </p:nvGrpSpPr>
        <p:grpSpPr>
          <a:xfrm>
            <a:off x="1254960" y="1066680"/>
            <a:ext cx="7511040" cy="5113440"/>
            <a:chOff x="1254960" y="1066680"/>
            <a:chExt cx="7511040" cy="5113440"/>
          </a:xfrm>
        </p:grpSpPr>
        <p:sp>
          <p:nvSpPr>
            <p:cNvPr id="128" name=""/>
            <p:cNvSpPr/>
            <p:nvPr/>
          </p:nvSpPr>
          <p:spPr>
            <a:xfrm>
              <a:off x="1254960" y="1066680"/>
              <a:ext cx="217044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ffffff"/>
                  </a:solidFill>
                  <a:latin typeface="Arial"/>
                </a:rPr>
                <a:t>Up-twister</a:t>
              </a:r>
              <a:endParaRPr b="0" lang="en-US" sz="3200" spc="-1" strike="noStrike">
                <a:solidFill>
                  <a:srgbClr val="000000"/>
                </a:solidFill>
                <a:latin typeface="Times New Roman"/>
              </a:endParaRPr>
            </a:p>
          </p:txBody>
        </p:sp>
        <p:sp>
          <p:nvSpPr>
            <p:cNvPr id="129" name=""/>
            <p:cNvSpPr/>
            <p:nvPr/>
          </p:nvSpPr>
          <p:spPr>
            <a:xfrm>
              <a:off x="5783400" y="1117440"/>
              <a:ext cx="298260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ffffff"/>
                  </a:solidFill>
                  <a:latin typeface="Arial"/>
                </a:rPr>
                <a:t>2-for-1 Twister</a:t>
              </a:r>
              <a:endParaRPr b="0" lang="en-US" sz="3200" spc="-1" strike="noStrike">
                <a:solidFill>
                  <a:srgbClr val="000000"/>
                </a:solidFill>
                <a:latin typeface="Times New Roman"/>
              </a:endParaRPr>
            </a:p>
          </p:txBody>
        </p:sp>
        <p:grpSp>
          <p:nvGrpSpPr>
            <p:cNvPr id="130" name=""/>
            <p:cNvGrpSpPr/>
            <p:nvPr/>
          </p:nvGrpSpPr>
          <p:grpSpPr>
            <a:xfrm>
              <a:off x="1760400" y="1671480"/>
              <a:ext cx="6969960" cy="4508640"/>
              <a:chOff x="1760400" y="1671480"/>
              <a:chExt cx="6969960" cy="4508640"/>
            </a:xfrm>
          </p:grpSpPr>
          <p:sp>
            <p:nvSpPr>
              <p:cNvPr id="131" name=""/>
              <p:cNvSpPr/>
              <p:nvPr/>
            </p:nvSpPr>
            <p:spPr>
              <a:xfrm>
                <a:off x="2368080" y="3804840"/>
                <a:ext cx="474480" cy="23655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7152840" y="1699920"/>
                <a:ext cx="261720" cy="250920"/>
              </a:xfrm>
              <a:prstGeom prst="ellipse">
                <a:avLst/>
              </a:prstGeom>
              <a:noFill/>
              <a:ln w="50760">
                <a:solidFill>
                  <a:srgbClr val="cf0e3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7446240" y="1730160"/>
                <a:ext cx="8596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guide</a:t>
                </a:r>
                <a:endParaRPr b="0" lang="en-US" sz="2000" spc="-1" strike="noStrike">
                  <a:solidFill>
                    <a:srgbClr val="000000"/>
                  </a:solidFill>
                  <a:latin typeface="Times New Roman"/>
                </a:endParaRPr>
              </a:p>
            </p:txBody>
          </p:sp>
          <p:sp>
            <p:nvSpPr>
              <p:cNvPr id="134" name=""/>
              <p:cNvSpPr/>
              <p:nvPr/>
            </p:nvSpPr>
            <p:spPr>
              <a:xfrm>
                <a:off x="1760400" y="4338360"/>
                <a:ext cx="1733400" cy="1231920"/>
              </a:xfrm>
              <a:prstGeom prst="roundRect">
                <a:avLst>
                  <a:gd name="adj" fmla="val 16667"/>
                </a:avLst>
              </a:prstGeom>
              <a:solidFill>
                <a:srgbClr val="cf0e3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2598480" y="3625560"/>
                <a:ext cx="539280" cy="157320"/>
              </a:xfrm>
              <a:custGeom>
                <a:avLst/>
                <a:gdLst/>
                <a:ahLst/>
                <a:rect l="l" t="t" r="r" b="b"/>
                <a:pathLst>
                  <a:path w="340" h="99">
                    <a:moveTo>
                      <a:pt x="0" y="98"/>
                    </a:moveTo>
                    <a:lnTo>
                      <a:pt x="0" y="0"/>
                    </a:lnTo>
                    <a:lnTo>
                      <a:pt x="339"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144600" y="3522240"/>
                <a:ext cx="204120" cy="214560"/>
              </a:xfrm>
              <a:prstGeom prst="ellipse">
                <a:avLst/>
              </a:prstGeom>
              <a:noFill/>
              <a:ln w="50760">
                <a:solidFill>
                  <a:srgbClr val="cf0e3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512800" y="2298600"/>
                <a:ext cx="205920" cy="217440"/>
              </a:xfrm>
              <a:prstGeom prst="ellipse">
                <a:avLst/>
              </a:prstGeom>
              <a:noFill/>
              <a:ln w="50760">
                <a:solidFill>
                  <a:srgbClr val="cf0e3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2577600" y="1800000"/>
                <a:ext cx="1090440" cy="3206520"/>
              </a:xfrm>
              <a:custGeom>
                <a:avLst/>
                <a:gdLst/>
                <a:ahLst/>
                <a:rect l="l" t="t" r="r" b="b"/>
                <a:pathLst>
                  <a:path w="687" h="2020">
                    <a:moveTo>
                      <a:pt x="572" y="2019"/>
                    </a:moveTo>
                    <a:lnTo>
                      <a:pt x="611" y="1975"/>
                    </a:lnTo>
                    <a:lnTo>
                      <a:pt x="661" y="1907"/>
                    </a:lnTo>
                    <a:lnTo>
                      <a:pt x="666" y="1872"/>
                    </a:lnTo>
                    <a:lnTo>
                      <a:pt x="662" y="1826"/>
                    </a:lnTo>
                    <a:lnTo>
                      <a:pt x="662" y="1804"/>
                    </a:lnTo>
                    <a:lnTo>
                      <a:pt x="662" y="1783"/>
                    </a:lnTo>
                    <a:lnTo>
                      <a:pt x="676" y="1752"/>
                    </a:lnTo>
                    <a:lnTo>
                      <a:pt x="669" y="1736"/>
                    </a:lnTo>
                    <a:lnTo>
                      <a:pt x="667" y="1713"/>
                    </a:lnTo>
                    <a:lnTo>
                      <a:pt x="677" y="1657"/>
                    </a:lnTo>
                    <a:lnTo>
                      <a:pt x="686" y="1603"/>
                    </a:lnTo>
                    <a:lnTo>
                      <a:pt x="685" y="1583"/>
                    </a:lnTo>
                    <a:lnTo>
                      <a:pt x="676" y="1570"/>
                    </a:lnTo>
                    <a:lnTo>
                      <a:pt x="676" y="1547"/>
                    </a:lnTo>
                    <a:lnTo>
                      <a:pt x="658" y="1516"/>
                    </a:lnTo>
                    <a:lnTo>
                      <a:pt x="616" y="1458"/>
                    </a:lnTo>
                    <a:lnTo>
                      <a:pt x="543" y="1346"/>
                    </a:lnTo>
                    <a:lnTo>
                      <a:pt x="485" y="1290"/>
                    </a:lnTo>
                    <a:lnTo>
                      <a:pt x="440" y="1206"/>
                    </a:lnTo>
                    <a:lnTo>
                      <a:pt x="411" y="1164"/>
                    </a:lnTo>
                    <a:lnTo>
                      <a:pt x="322" y="1052"/>
                    </a:lnTo>
                    <a:lnTo>
                      <a:pt x="234" y="981"/>
                    </a:lnTo>
                    <a:lnTo>
                      <a:pt x="200" y="907"/>
                    </a:lnTo>
                    <a:lnTo>
                      <a:pt x="176" y="827"/>
                    </a:lnTo>
                    <a:lnTo>
                      <a:pt x="146" y="688"/>
                    </a:lnTo>
                    <a:lnTo>
                      <a:pt x="88" y="589"/>
                    </a:lnTo>
                    <a:lnTo>
                      <a:pt x="47" y="531"/>
                    </a:lnTo>
                    <a:lnTo>
                      <a:pt x="29" y="501"/>
                    </a:lnTo>
                    <a:lnTo>
                      <a:pt x="28" y="477"/>
                    </a:lnTo>
                    <a:lnTo>
                      <a:pt x="24" y="462"/>
                    </a:lnTo>
                    <a:lnTo>
                      <a:pt x="28" y="437"/>
                    </a:lnTo>
                    <a:lnTo>
                      <a:pt x="33" y="411"/>
                    </a:lnTo>
                    <a:lnTo>
                      <a:pt x="28" y="393"/>
                    </a:lnTo>
                    <a:lnTo>
                      <a:pt x="31" y="373"/>
                    </a:lnTo>
                    <a:lnTo>
                      <a:pt x="21" y="344"/>
                    </a:lnTo>
                    <a:lnTo>
                      <a:pt x="13" y="295"/>
                    </a:lnTo>
                    <a:lnTo>
                      <a:pt x="1" y="266"/>
                    </a:lnTo>
                    <a:lnTo>
                      <a:pt x="0" y="246"/>
                    </a:lnTo>
                    <a:lnTo>
                      <a:pt x="2" y="223"/>
                    </a:lnTo>
                    <a:lnTo>
                      <a:pt x="13" y="141"/>
                    </a:lnTo>
                    <a:lnTo>
                      <a:pt x="13" y="98"/>
                    </a:lnTo>
                    <a:lnTo>
                      <a:pt x="28" y="44"/>
                    </a:lnTo>
                    <a:lnTo>
                      <a:pt x="28" y="14"/>
                    </a:lnTo>
                    <a:lnTo>
                      <a:pt x="28" y="0"/>
                    </a:lnTo>
                  </a:path>
                </a:pathLst>
              </a:custGeom>
              <a:noFill/>
              <a:ln cap="rnd" w="50760">
                <a:solidFill>
                  <a:srgbClr val="fcfeb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3406320" y="3444480"/>
                <a:ext cx="719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flyer</a:t>
                </a:r>
                <a:endParaRPr b="0" lang="en-US" sz="2000" spc="-1" strike="noStrike">
                  <a:solidFill>
                    <a:srgbClr val="000000"/>
                  </a:solidFill>
                  <a:latin typeface="Times New Roman"/>
                </a:endParaRPr>
              </a:p>
            </p:txBody>
          </p:sp>
          <p:sp>
            <p:nvSpPr>
              <p:cNvPr id="140" name=""/>
              <p:cNvSpPr/>
              <p:nvPr/>
            </p:nvSpPr>
            <p:spPr>
              <a:xfrm>
                <a:off x="4085280" y="5535360"/>
                <a:ext cx="11293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rotating</a:t>
                </a:r>
                <a:endParaRPr b="0" lang="en-US" sz="2000" spc="-1" strike="noStrike">
                  <a:solidFill>
                    <a:srgbClr val="000000"/>
                  </a:solidFill>
                  <a:latin typeface="Times New Roman"/>
                </a:endParaRPr>
              </a:p>
            </p:txBody>
          </p:sp>
          <p:sp>
            <p:nvSpPr>
              <p:cNvPr id="141" name=""/>
              <p:cNvSpPr/>
              <p:nvPr/>
            </p:nvSpPr>
            <p:spPr>
              <a:xfrm>
                <a:off x="4086360" y="5786280"/>
                <a:ext cx="12132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spindles</a:t>
                </a:r>
                <a:endParaRPr b="0" lang="en-US" sz="2000" spc="-1" strike="noStrike">
                  <a:solidFill>
                    <a:srgbClr val="000000"/>
                  </a:solidFill>
                  <a:latin typeface="Times New Roman"/>
                </a:endParaRPr>
              </a:p>
            </p:txBody>
          </p:sp>
          <p:sp>
            <p:nvSpPr>
              <p:cNvPr id="142" name=""/>
              <p:cNvSpPr/>
              <p:nvPr/>
            </p:nvSpPr>
            <p:spPr>
              <a:xfrm>
                <a:off x="2295000" y="5005080"/>
                <a:ext cx="1191960" cy="534960"/>
              </a:xfrm>
              <a:custGeom>
                <a:avLst/>
                <a:gdLst/>
                <a:ahLst/>
                <a:rect l="l" t="t" r="r" b="b"/>
                <a:pathLst>
                  <a:path w="751" h="337">
                    <a:moveTo>
                      <a:pt x="750" y="0"/>
                    </a:moveTo>
                    <a:lnTo>
                      <a:pt x="589" y="70"/>
                    </a:lnTo>
                    <a:lnTo>
                      <a:pt x="280" y="196"/>
                    </a:lnTo>
                    <a:lnTo>
                      <a:pt x="147" y="281"/>
                    </a:lnTo>
                    <a:lnTo>
                      <a:pt x="0" y="336"/>
                    </a:lnTo>
                  </a:path>
                </a:pathLst>
              </a:custGeom>
              <a:noFill/>
              <a:ln cap="rnd" w="50760">
                <a:solidFill>
                  <a:srgbClr val="fcfeb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7083000" y="2599920"/>
                <a:ext cx="169560" cy="341172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7408440" y="2599920"/>
                <a:ext cx="169560" cy="341172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6497280" y="3044520"/>
                <a:ext cx="1734840" cy="1231920"/>
              </a:xfrm>
              <a:prstGeom prst="roundRect">
                <a:avLst>
                  <a:gd name="adj" fmla="val 16667"/>
                </a:avLst>
              </a:prstGeom>
              <a:solidFill>
                <a:srgbClr val="cf0e3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6497280" y="4492440"/>
                <a:ext cx="1734840" cy="1228680"/>
              </a:xfrm>
              <a:prstGeom prst="roundRect">
                <a:avLst>
                  <a:gd name="adj" fmla="val 16667"/>
                </a:avLst>
              </a:prstGeom>
              <a:solidFill>
                <a:srgbClr val="cf0e3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7407000" y="2439720"/>
                <a:ext cx="1323360" cy="2719440"/>
              </a:xfrm>
              <a:custGeom>
                <a:avLst/>
                <a:gdLst/>
                <a:ahLst/>
                <a:rect l="l" t="t" r="r" b="b"/>
                <a:pathLst>
                  <a:path w="834" h="1713">
                    <a:moveTo>
                      <a:pt x="514" y="1712"/>
                    </a:moveTo>
                    <a:lnTo>
                      <a:pt x="611" y="1657"/>
                    </a:lnTo>
                    <a:lnTo>
                      <a:pt x="686" y="1606"/>
                    </a:lnTo>
                    <a:lnTo>
                      <a:pt x="736" y="1558"/>
                    </a:lnTo>
                    <a:lnTo>
                      <a:pt x="759" y="1471"/>
                    </a:lnTo>
                    <a:lnTo>
                      <a:pt x="763" y="1354"/>
                    </a:lnTo>
                    <a:lnTo>
                      <a:pt x="771" y="1243"/>
                    </a:lnTo>
                    <a:lnTo>
                      <a:pt x="784" y="1198"/>
                    </a:lnTo>
                    <a:lnTo>
                      <a:pt x="809" y="1166"/>
                    </a:lnTo>
                    <a:lnTo>
                      <a:pt x="793" y="1130"/>
                    </a:lnTo>
                    <a:lnTo>
                      <a:pt x="790" y="1106"/>
                    </a:lnTo>
                    <a:lnTo>
                      <a:pt x="790" y="1079"/>
                    </a:lnTo>
                    <a:lnTo>
                      <a:pt x="812" y="958"/>
                    </a:lnTo>
                    <a:lnTo>
                      <a:pt x="832" y="840"/>
                    </a:lnTo>
                    <a:lnTo>
                      <a:pt x="833" y="816"/>
                    </a:lnTo>
                    <a:lnTo>
                      <a:pt x="829" y="793"/>
                    </a:lnTo>
                    <a:lnTo>
                      <a:pt x="809" y="759"/>
                    </a:lnTo>
                    <a:lnTo>
                      <a:pt x="830" y="692"/>
                    </a:lnTo>
                    <a:lnTo>
                      <a:pt x="830" y="670"/>
                    </a:lnTo>
                    <a:lnTo>
                      <a:pt x="828" y="647"/>
                    </a:lnTo>
                    <a:lnTo>
                      <a:pt x="819" y="597"/>
                    </a:lnTo>
                    <a:lnTo>
                      <a:pt x="764" y="422"/>
                    </a:lnTo>
                    <a:lnTo>
                      <a:pt x="715" y="319"/>
                    </a:lnTo>
                    <a:lnTo>
                      <a:pt x="647" y="226"/>
                    </a:lnTo>
                    <a:lnTo>
                      <a:pt x="572" y="175"/>
                    </a:lnTo>
                    <a:lnTo>
                      <a:pt x="472" y="123"/>
                    </a:lnTo>
                    <a:lnTo>
                      <a:pt x="279" y="45"/>
                    </a:lnTo>
                    <a:lnTo>
                      <a:pt x="185" y="13"/>
                    </a:lnTo>
                    <a:lnTo>
                      <a:pt x="133" y="1"/>
                    </a:lnTo>
                    <a:lnTo>
                      <a:pt x="109" y="0"/>
                    </a:lnTo>
                    <a:lnTo>
                      <a:pt x="88" y="1"/>
                    </a:lnTo>
                    <a:lnTo>
                      <a:pt x="34" y="39"/>
                    </a:lnTo>
                    <a:lnTo>
                      <a:pt x="0" y="72"/>
                    </a:lnTo>
                  </a:path>
                </a:pathLst>
              </a:custGeom>
              <a:noFill/>
              <a:ln cap="rnd" w="50760">
                <a:solidFill>
                  <a:srgbClr val="fcfeb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407000" y="2531880"/>
                <a:ext cx="1028160" cy="1158840"/>
              </a:xfrm>
              <a:custGeom>
                <a:avLst/>
                <a:gdLst/>
                <a:ahLst/>
                <a:rect l="l" t="t" r="r" b="b"/>
                <a:pathLst>
                  <a:path w="648" h="730">
                    <a:moveTo>
                      <a:pt x="514" y="729"/>
                    </a:moveTo>
                    <a:lnTo>
                      <a:pt x="567" y="669"/>
                    </a:lnTo>
                    <a:lnTo>
                      <a:pt x="632" y="575"/>
                    </a:lnTo>
                    <a:lnTo>
                      <a:pt x="645" y="499"/>
                    </a:lnTo>
                    <a:lnTo>
                      <a:pt x="647" y="456"/>
                    </a:lnTo>
                    <a:lnTo>
                      <a:pt x="647" y="437"/>
                    </a:lnTo>
                    <a:lnTo>
                      <a:pt x="647" y="421"/>
                    </a:lnTo>
                    <a:lnTo>
                      <a:pt x="632" y="350"/>
                    </a:lnTo>
                    <a:lnTo>
                      <a:pt x="573" y="252"/>
                    </a:lnTo>
                    <a:lnTo>
                      <a:pt x="514" y="182"/>
                    </a:lnTo>
                    <a:lnTo>
                      <a:pt x="427" y="112"/>
                    </a:lnTo>
                    <a:lnTo>
                      <a:pt x="338" y="70"/>
                    </a:lnTo>
                    <a:lnTo>
                      <a:pt x="294" y="56"/>
                    </a:lnTo>
                    <a:lnTo>
                      <a:pt x="220" y="14"/>
                    </a:lnTo>
                    <a:lnTo>
                      <a:pt x="201" y="19"/>
                    </a:lnTo>
                    <a:lnTo>
                      <a:pt x="183" y="19"/>
                    </a:lnTo>
                    <a:lnTo>
                      <a:pt x="161" y="17"/>
                    </a:lnTo>
                    <a:lnTo>
                      <a:pt x="103" y="14"/>
                    </a:lnTo>
                    <a:lnTo>
                      <a:pt x="0" y="0"/>
                    </a:lnTo>
                    <a:lnTo>
                      <a:pt x="0" y="28"/>
                    </a:lnTo>
                  </a:path>
                </a:pathLst>
              </a:custGeom>
              <a:noFill/>
              <a:ln cap="rnd" w="50760">
                <a:solidFill>
                  <a:srgbClr val="fcfeb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289280" y="2531880"/>
                <a:ext cx="141120" cy="492120"/>
              </a:xfrm>
              <a:custGeom>
                <a:avLst/>
                <a:gdLst/>
                <a:ahLst/>
                <a:rect l="l" t="t" r="r" b="b"/>
                <a:pathLst>
                  <a:path w="89" h="310">
                    <a:moveTo>
                      <a:pt x="88" y="0"/>
                    </a:moveTo>
                    <a:lnTo>
                      <a:pt x="42" y="29"/>
                    </a:lnTo>
                    <a:lnTo>
                      <a:pt x="0" y="70"/>
                    </a:lnTo>
                    <a:lnTo>
                      <a:pt x="0" y="112"/>
                    </a:lnTo>
                    <a:lnTo>
                      <a:pt x="9" y="137"/>
                    </a:lnTo>
                    <a:lnTo>
                      <a:pt x="10" y="154"/>
                    </a:lnTo>
                    <a:lnTo>
                      <a:pt x="8" y="175"/>
                    </a:lnTo>
                    <a:lnTo>
                      <a:pt x="6" y="212"/>
                    </a:lnTo>
                    <a:lnTo>
                      <a:pt x="15" y="238"/>
                    </a:lnTo>
                    <a:lnTo>
                      <a:pt x="11" y="252"/>
                    </a:lnTo>
                    <a:lnTo>
                      <a:pt x="11" y="271"/>
                    </a:lnTo>
                    <a:lnTo>
                      <a:pt x="15" y="309"/>
                    </a:lnTo>
                    <a:lnTo>
                      <a:pt x="30" y="309"/>
                    </a:lnTo>
                  </a:path>
                </a:pathLst>
              </a:custGeom>
              <a:noFill/>
              <a:ln cap="rnd" w="50760">
                <a:solidFill>
                  <a:srgbClr val="fcfeb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3400" y="4316040"/>
                <a:ext cx="0" cy="127080"/>
              </a:xfrm>
              <a:prstGeom prst="line">
                <a:avLst/>
              </a:prstGeom>
              <a:ln w="50760">
                <a:solidFill>
                  <a:srgbClr val="fcfeb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824160" y="5157360"/>
                <a:ext cx="1401480" cy="536760"/>
              </a:xfrm>
              <a:custGeom>
                <a:avLst/>
                <a:gdLst/>
                <a:ahLst/>
                <a:rect l="l" t="t" r="r" b="b"/>
                <a:pathLst>
                  <a:path w="883" h="338">
                    <a:moveTo>
                      <a:pt x="882" y="0"/>
                    </a:moveTo>
                    <a:lnTo>
                      <a:pt x="705" y="71"/>
                    </a:lnTo>
                    <a:lnTo>
                      <a:pt x="514" y="169"/>
                    </a:lnTo>
                    <a:lnTo>
                      <a:pt x="396" y="211"/>
                    </a:lnTo>
                    <a:lnTo>
                      <a:pt x="220" y="267"/>
                    </a:lnTo>
                    <a:lnTo>
                      <a:pt x="73" y="309"/>
                    </a:lnTo>
                    <a:lnTo>
                      <a:pt x="0" y="337"/>
                    </a:lnTo>
                  </a:path>
                </a:pathLst>
              </a:custGeom>
              <a:noFill/>
              <a:ln cap="rnd" w="50760">
                <a:solidFill>
                  <a:srgbClr val="fcfeb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6824160" y="3668400"/>
                <a:ext cx="1401480" cy="534960"/>
              </a:xfrm>
              <a:custGeom>
                <a:avLst/>
                <a:gdLst/>
                <a:ahLst/>
                <a:rect l="l" t="t" r="r" b="b"/>
                <a:pathLst>
                  <a:path w="883" h="337">
                    <a:moveTo>
                      <a:pt x="882" y="0"/>
                    </a:moveTo>
                    <a:lnTo>
                      <a:pt x="705" y="70"/>
                    </a:lnTo>
                    <a:lnTo>
                      <a:pt x="514" y="168"/>
                    </a:lnTo>
                    <a:lnTo>
                      <a:pt x="396" y="210"/>
                    </a:lnTo>
                    <a:lnTo>
                      <a:pt x="220" y="266"/>
                    </a:lnTo>
                    <a:lnTo>
                      <a:pt x="73" y="309"/>
                    </a:lnTo>
                    <a:lnTo>
                      <a:pt x="0" y="336"/>
                    </a:lnTo>
                  </a:path>
                </a:pathLst>
              </a:custGeom>
              <a:noFill/>
              <a:ln cap="rnd" w="50760">
                <a:solidFill>
                  <a:srgbClr val="fcfeb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5678280" y="1671480"/>
                <a:ext cx="1691640" cy="4487760"/>
              </a:xfrm>
              <a:custGeom>
                <a:avLst/>
                <a:gdLst/>
                <a:ahLst/>
                <a:rect l="l" t="t" r="r" b="b"/>
                <a:pathLst>
                  <a:path w="1066" h="2827">
                    <a:moveTo>
                      <a:pt x="1062" y="0"/>
                    </a:moveTo>
                    <a:lnTo>
                      <a:pt x="1065" y="51"/>
                    </a:lnTo>
                    <a:lnTo>
                      <a:pt x="1020" y="96"/>
                    </a:lnTo>
                    <a:lnTo>
                      <a:pt x="990" y="141"/>
                    </a:lnTo>
                    <a:lnTo>
                      <a:pt x="945" y="171"/>
                    </a:lnTo>
                    <a:lnTo>
                      <a:pt x="930" y="216"/>
                    </a:lnTo>
                    <a:lnTo>
                      <a:pt x="885" y="231"/>
                    </a:lnTo>
                    <a:lnTo>
                      <a:pt x="840" y="276"/>
                    </a:lnTo>
                    <a:lnTo>
                      <a:pt x="795" y="291"/>
                    </a:lnTo>
                    <a:lnTo>
                      <a:pt x="750" y="336"/>
                    </a:lnTo>
                    <a:lnTo>
                      <a:pt x="705" y="351"/>
                    </a:lnTo>
                    <a:lnTo>
                      <a:pt x="660" y="366"/>
                    </a:lnTo>
                    <a:lnTo>
                      <a:pt x="615" y="381"/>
                    </a:lnTo>
                    <a:lnTo>
                      <a:pt x="570" y="396"/>
                    </a:lnTo>
                    <a:lnTo>
                      <a:pt x="525" y="411"/>
                    </a:lnTo>
                    <a:lnTo>
                      <a:pt x="480" y="426"/>
                    </a:lnTo>
                    <a:lnTo>
                      <a:pt x="435" y="456"/>
                    </a:lnTo>
                    <a:lnTo>
                      <a:pt x="390" y="471"/>
                    </a:lnTo>
                    <a:lnTo>
                      <a:pt x="330" y="486"/>
                    </a:lnTo>
                    <a:lnTo>
                      <a:pt x="285" y="516"/>
                    </a:lnTo>
                    <a:lnTo>
                      <a:pt x="240" y="531"/>
                    </a:lnTo>
                    <a:lnTo>
                      <a:pt x="195" y="561"/>
                    </a:lnTo>
                    <a:lnTo>
                      <a:pt x="150" y="606"/>
                    </a:lnTo>
                    <a:lnTo>
                      <a:pt x="120" y="651"/>
                    </a:lnTo>
                    <a:lnTo>
                      <a:pt x="90" y="711"/>
                    </a:lnTo>
                    <a:lnTo>
                      <a:pt x="90" y="756"/>
                    </a:lnTo>
                    <a:lnTo>
                      <a:pt x="60" y="816"/>
                    </a:lnTo>
                    <a:lnTo>
                      <a:pt x="60" y="876"/>
                    </a:lnTo>
                    <a:lnTo>
                      <a:pt x="45" y="921"/>
                    </a:lnTo>
                    <a:lnTo>
                      <a:pt x="45" y="966"/>
                    </a:lnTo>
                    <a:lnTo>
                      <a:pt x="30" y="1011"/>
                    </a:lnTo>
                    <a:lnTo>
                      <a:pt x="30" y="1071"/>
                    </a:lnTo>
                    <a:lnTo>
                      <a:pt x="15" y="1131"/>
                    </a:lnTo>
                    <a:lnTo>
                      <a:pt x="15" y="1191"/>
                    </a:lnTo>
                    <a:lnTo>
                      <a:pt x="15" y="1251"/>
                    </a:lnTo>
                    <a:lnTo>
                      <a:pt x="0" y="1296"/>
                    </a:lnTo>
                    <a:lnTo>
                      <a:pt x="0" y="1401"/>
                    </a:lnTo>
                    <a:lnTo>
                      <a:pt x="0" y="1446"/>
                    </a:lnTo>
                    <a:lnTo>
                      <a:pt x="0" y="1566"/>
                    </a:lnTo>
                    <a:lnTo>
                      <a:pt x="0" y="1671"/>
                    </a:lnTo>
                    <a:lnTo>
                      <a:pt x="0" y="1776"/>
                    </a:lnTo>
                    <a:lnTo>
                      <a:pt x="0" y="1881"/>
                    </a:lnTo>
                    <a:lnTo>
                      <a:pt x="0" y="2001"/>
                    </a:lnTo>
                    <a:lnTo>
                      <a:pt x="0" y="2061"/>
                    </a:lnTo>
                    <a:lnTo>
                      <a:pt x="0" y="2106"/>
                    </a:lnTo>
                    <a:lnTo>
                      <a:pt x="0" y="2166"/>
                    </a:lnTo>
                    <a:lnTo>
                      <a:pt x="0" y="2211"/>
                    </a:lnTo>
                    <a:lnTo>
                      <a:pt x="15" y="2271"/>
                    </a:lnTo>
                    <a:lnTo>
                      <a:pt x="60" y="2331"/>
                    </a:lnTo>
                    <a:lnTo>
                      <a:pt x="90" y="2391"/>
                    </a:lnTo>
                    <a:lnTo>
                      <a:pt x="135" y="2436"/>
                    </a:lnTo>
                    <a:lnTo>
                      <a:pt x="165" y="2481"/>
                    </a:lnTo>
                    <a:lnTo>
                      <a:pt x="210" y="2526"/>
                    </a:lnTo>
                    <a:lnTo>
                      <a:pt x="255" y="2541"/>
                    </a:lnTo>
                    <a:lnTo>
                      <a:pt x="270" y="2586"/>
                    </a:lnTo>
                    <a:lnTo>
                      <a:pt x="300" y="2631"/>
                    </a:lnTo>
                    <a:lnTo>
                      <a:pt x="405" y="2661"/>
                    </a:lnTo>
                    <a:lnTo>
                      <a:pt x="555" y="2751"/>
                    </a:lnTo>
                    <a:lnTo>
                      <a:pt x="675" y="2781"/>
                    </a:lnTo>
                    <a:lnTo>
                      <a:pt x="720" y="2781"/>
                    </a:lnTo>
                    <a:lnTo>
                      <a:pt x="765" y="2781"/>
                    </a:lnTo>
                    <a:lnTo>
                      <a:pt x="810" y="2781"/>
                    </a:lnTo>
                    <a:lnTo>
                      <a:pt x="870" y="2826"/>
                    </a:lnTo>
                    <a:lnTo>
                      <a:pt x="915" y="2826"/>
                    </a:lnTo>
                    <a:lnTo>
                      <a:pt x="960" y="2811"/>
                    </a:lnTo>
                    <a:lnTo>
                      <a:pt x="1005" y="2781"/>
                    </a:lnTo>
                    <a:lnTo>
                      <a:pt x="1020" y="2736"/>
                    </a:lnTo>
                    <a:lnTo>
                      <a:pt x="1035" y="2616"/>
                    </a:lnTo>
                    <a:lnTo>
                      <a:pt x="1035" y="2571"/>
                    </a:lnTo>
                  </a:path>
                </a:pathLst>
              </a:custGeom>
              <a:noFill/>
              <a:ln cap="rnd" w="50760">
                <a:solidFill>
                  <a:srgbClr val="fcfeb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H="1">
                <a:off x="2995200" y="5862240"/>
                <a:ext cx="964800" cy="0"/>
              </a:xfrm>
              <a:prstGeom prst="line">
                <a:avLst/>
              </a:prstGeom>
              <a:ln w="507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5256000" y="5862240"/>
                <a:ext cx="1701360" cy="0"/>
              </a:xfrm>
              <a:prstGeom prst="line">
                <a:avLst/>
              </a:prstGeom>
              <a:ln w="507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4544640" y="2738160"/>
                <a:ext cx="456840" cy="1828800"/>
              </a:xfrm>
              <a:prstGeom prst="upArrow">
                <a:avLst>
                  <a:gd name="adj1" fmla="val 50000"/>
                  <a:gd name="adj2" fmla="val 100079"/>
                </a:avLst>
              </a:prstGeom>
              <a:solidFill>
                <a:srgbClr val="ff956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5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olding Apparatus</a:t>
            </a:r>
            <a:endParaRPr b="1" lang="en-US" sz="3200" spc="-1" strike="noStrike">
              <a:solidFill>
                <a:srgbClr val="fafd00"/>
              </a:solidFill>
              <a:latin typeface="Arial"/>
            </a:endParaRPr>
          </a:p>
        </p:txBody>
      </p:sp>
      <p:sp>
        <p:nvSpPr>
          <p:cNvPr id="158" name=""/>
          <p:cNvSpPr/>
          <p:nvPr/>
        </p:nvSpPr>
        <p:spPr>
          <a:xfrm>
            <a:off x="807984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Yarn Production</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7772400" cy="5181840"/>
          </a:xfrm>
          <a:prstGeom prst="rect">
            <a:avLst/>
          </a:prstGeom>
          <a:noFill/>
          <a:ln w="0">
            <a:noFill/>
          </a:ln>
        </p:spPr>
        <p:txBody>
          <a:bodyPr lIns="90360" rIns="90360" tIns="44280" bIns="442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Drawing</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ew" Bradford</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ew" Continental</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pinning</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ing spinning</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E spinning</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not wool</a:t>
            </a:r>
            <a:endParaRPr b="1" lang="en-US" sz="2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olding</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lying</a:t>
            </a:r>
            <a:endParaRPr b="1" lang="en-US" sz="2400" spc="-1" strike="noStrike">
              <a:solidFill>
                <a:srgbClr val="ffffff"/>
              </a:solidFill>
              <a:latin typeface="Arial"/>
            </a:endParaRPr>
          </a:p>
        </p:txBody>
      </p:sp>
      <p:graphicFrame>
        <p:nvGraphicFramePr>
          <p:cNvPr id="51" name=""/>
          <p:cNvGraphicFramePr/>
          <p:nvPr/>
        </p:nvGraphicFramePr>
        <p:xfrm>
          <a:off x="5486400" y="1143000"/>
          <a:ext cx="3219480" cy="4876920"/>
        </p:xfrm>
        <a:graphic>
          <a:graphicData uri="http://schemas.openxmlformats.org/presentationml/2006/ole">
            <p:oleObj r:id="rId1" spid="">
              <p:embed/>
              <p:pic>
                <p:nvPicPr>
                  <p:cNvPr id="52" name="" descr=""/>
                  <p:cNvPicPr/>
                  <p:nvPr/>
                </p:nvPicPr>
                <p:blipFill>
                  <a:blip r:embed="rId2"/>
                  <a:stretch/>
                </p:blipFill>
                <p:spPr>
                  <a:xfrm>
                    <a:off x="5486400" y="1143000"/>
                    <a:ext cx="3219480" cy="4876920"/>
                  </a:xfrm>
                  <a:prstGeom prst="rect">
                    <a:avLst/>
                  </a:prstGeom>
                  <a:ln w="0">
                    <a:noFill/>
                  </a:ln>
                </p:spPr>
              </p:pic>
            </p:oleObj>
          </a:graphicData>
        </a:graphic>
      </p:graphicFrame>
      <p:sp>
        <p:nvSpPr>
          <p:cNvPr id="53" name=""/>
          <p:cNvSpPr/>
          <p:nvPr/>
        </p:nvSpPr>
        <p:spPr>
          <a:xfrm>
            <a:off x="807984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Drawing</a:t>
            </a:r>
            <a:endParaRPr b="1" lang="en-US" sz="3200" spc="-1" strike="noStrike">
              <a:solidFill>
                <a:srgbClr val="fafd00"/>
              </a:solidFill>
              <a:latin typeface="Arial"/>
            </a:endParaRPr>
          </a:p>
        </p:txBody>
      </p:sp>
      <p:sp>
        <p:nvSpPr>
          <p:cNvPr id="55"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ibres in X-sectio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op</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25,000 fibre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oving</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800 fibre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ingles yarn</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35 fibre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equential drafting</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aximum draft never exceeded</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gilling proces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 gillings in modern mill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in control</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hain gill is last</a:t>
            </a:r>
            <a:endParaRPr b="1" lang="en-US" sz="2400" spc="-1" strike="noStrike">
              <a:solidFill>
                <a:srgbClr val="ffffff"/>
              </a:solidFill>
              <a:latin typeface="Arial"/>
            </a:endParaRPr>
          </a:p>
        </p:txBody>
      </p:sp>
      <p:sp>
        <p:nvSpPr>
          <p:cNvPr id="56" name=""/>
          <p:cNvSpPr/>
          <p:nvPr/>
        </p:nvSpPr>
        <p:spPr>
          <a:xfrm>
            <a:off x="807984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7" name=""/>
          <p:cNvGrpSpPr/>
          <p:nvPr/>
        </p:nvGrpSpPr>
        <p:grpSpPr>
          <a:xfrm>
            <a:off x="1219320" y="990720"/>
            <a:ext cx="7848360" cy="4870440"/>
            <a:chOff x="1219320" y="990720"/>
            <a:chExt cx="7848360" cy="4870440"/>
          </a:xfrm>
        </p:grpSpPr>
        <p:sp>
          <p:nvSpPr>
            <p:cNvPr id="58" name=""/>
            <p:cNvSpPr/>
            <p:nvPr/>
          </p:nvSpPr>
          <p:spPr>
            <a:xfrm>
              <a:off x="1219320" y="1122480"/>
              <a:ext cx="7848360" cy="4738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1225440" y="990720"/>
              <a:ext cx="7835400" cy="4727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6481800" y="1705320"/>
              <a:ext cx="1290240" cy="133164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481800" y="3016440"/>
              <a:ext cx="1290240" cy="133344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6772680" y="1259280"/>
              <a:ext cx="99216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000000"/>
                  </a:solidFill>
                  <a:latin typeface="Arial"/>
                </a:rPr>
                <a:t>back</a:t>
              </a:r>
              <a:endParaRPr b="0" lang="en-US" sz="2800" spc="-1" strike="noStrike">
                <a:solidFill>
                  <a:srgbClr val="000000"/>
                </a:solidFill>
                <a:latin typeface="Times New Roman"/>
              </a:endParaRPr>
            </a:p>
          </p:txBody>
        </p:sp>
        <p:sp>
          <p:nvSpPr>
            <p:cNvPr id="63" name=""/>
            <p:cNvSpPr/>
            <p:nvPr/>
          </p:nvSpPr>
          <p:spPr>
            <a:xfrm>
              <a:off x="2606400" y="1705320"/>
              <a:ext cx="1287360" cy="133164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606400" y="3016440"/>
              <a:ext cx="1287360" cy="133344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876760" y="1270080"/>
              <a:ext cx="99072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000000"/>
                  </a:solidFill>
                  <a:latin typeface="Arial"/>
                </a:rPr>
                <a:t>front</a:t>
              </a:r>
              <a:endParaRPr b="0" lang="en-US" sz="2800" spc="-1" strike="noStrike">
                <a:solidFill>
                  <a:srgbClr val="000000"/>
                </a:solidFill>
                <a:latin typeface="Times New Roman"/>
              </a:endParaRPr>
            </a:p>
          </p:txBody>
        </p:sp>
        <p:sp>
          <p:nvSpPr>
            <p:cNvPr id="66" name=""/>
            <p:cNvSpPr/>
            <p:nvPr/>
          </p:nvSpPr>
          <p:spPr>
            <a:xfrm>
              <a:off x="4568760" y="3019680"/>
              <a:ext cx="1280520" cy="1326960"/>
            </a:xfrm>
            <a:prstGeom prst="ellipse">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a:off x="4778280" y="2938680"/>
              <a:ext cx="7272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a:off x="4854240" y="2894400"/>
              <a:ext cx="110520" cy="21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a:off x="4938480" y="2891160"/>
              <a:ext cx="16488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a:off x="5041440" y="2892600"/>
              <a:ext cx="202680" cy="135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5165640" y="2905200"/>
              <a:ext cx="22032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a:off x="5311440" y="2918160"/>
              <a:ext cx="21852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a:off x="5435640" y="2943360"/>
              <a:ext cx="22032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3554640" y="5002560"/>
              <a:ext cx="2970360" cy="622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500" spc="-1" strike="noStrike">
                  <a:solidFill>
                    <a:srgbClr val="000000"/>
                  </a:solidFill>
                  <a:latin typeface="Arial"/>
                </a:rPr>
                <a:t>drafting zone</a:t>
              </a:r>
              <a:endParaRPr b="0" lang="en-US" sz="3500" spc="-1" strike="noStrike">
                <a:solidFill>
                  <a:srgbClr val="000000"/>
                </a:solidFill>
                <a:latin typeface="Times New Roman"/>
              </a:endParaRPr>
            </a:p>
          </p:txBody>
        </p:sp>
        <p:sp>
          <p:nvSpPr>
            <p:cNvPr id="75" name=""/>
            <p:cNvSpPr/>
            <p:nvPr/>
          </p:nvSpPr>
          <p:spPr>
            <a:xfrm>
              <a:off x="5924520" y="2559240"/>
              <a:ext cx="485280" cy="47160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924520" y="3015000"/>
              <a:ext cx="485280" cy="47448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5410440" y="1746360"/>
              <a:ext cx="113076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carrier</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rollers</a:t>
              </a:r>
              <a:endParaRPr b="0" lang="en-US" sz="2400" spc="-1" strike="noStrike">
                <a:solidFill>
                  <a:srgbClr val="000000"/>
                </a:solidFill>
                <a:latin typeface="Times New Roman"/>
              </a:endParaRPr>
            </a:p>
          </p:txBody>
        </p:sp>
        <p:sp>
          <p:nvSpPr>
            <p:cNvPr id="78" name=""/>
            <p:cNvSpPr/>
            <p:nvPr/>
          </p:nvSpPr>
          <p:spPr>
            <a:xfrm>
              <a:off x="4037040" y="2838600"/>
              <a:ext cx="267840" cy="2335320"/>
            </a:xfrm>
            <a:prstGeom prst="upArrow">
              <a:avLst>
                <a:gd name="adj1" fmla="val 50000"/>
                <a:gd name="adj2" fmla="val 21797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1285920" y="2702160"/>
              <a:ext cx="1409040" cy="687240"/>
            </a:xfrm>
            <a:prstGeom prst="leftArrow">
              <a:avLst>
                <a:gd name="adj1" fmla="val 50000"/>
                <a:gd name="adj2" fmla="val 51257"/>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7524720" y="2702160"/>
              <a:ext cx="1407600" cy="687240"/>
            </a:xfrm>
            <a:prstGeom prst="leftArrow">
              <a:avLst>
                <a:gd name="adj1" fmla="val 50000"/>
                <a:gd name="adj2" fmla="val 51205"/>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678000">
              <a:off x="2895480" y="3251160"/>
              <a:ext cx="738000" cy="1098360"/>
            </a:xfrm>
            <a:custGeom>
              <a:avLst/>
              <a:gdLst>
                <a:gd name="textAreaLeft" fmla="*/ 360 w 738000"/>
                <a:gd name="textAreaRight" fmla="*/ 738720 w 738000"/>
                <a:gd name="textAreaTop" fmla="*/ 0 h 1098360"/>
                <a:gd name="textAreaBottom" fmla="*/ 1098720 h 109836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ff956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rot="678000">
              <a:off x="4841640" y="3251160"/>
              <a:ext cx="738000" cy="1098360"/>
            </a:xfrm>
            <a:custGeom>
              <a:avLst/>
              <a:gdLst>
                <a:gd name="textAreaLeft" fmla="*/ 360 w 738000"/>
                <a:gd name="textAreaRight" fmla="*/ 738720 w 738000"/>
                <a:gd name="textAreaTop" fmla="*/ 0 h 1098360"/>
                <a:gd name="textAreaBottom" fmla="*/ 1098720 h 109836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ff956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678000">
              <a:off x="6786360" y="3251160"/>
              <a:ext cx="738000" cy="1098360"/>
            </a:xfrm>
            <a:custGeom>
              <a:avLst/>
              <a:gdLst>
                <a:gd name="textAreaLeft" fmla="*/ 360 w 738000"/>
                <a:gd name="textAreaRight" fmla="*/ 738720 w 738000"/>
                <a:gd name="textAreaTop" fmla="*/ 0 h 1098360"/>
                <a:gd name="textAreaBottom" fmla="*/ 1098720 h 109836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ff956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Porcupine Gilling</a:t>
            </a:r>
            <a:endParaRPr b="1" lang="en-US" sz="3200" spc="-1" strike="noStrike">
              <a:solidFill>
                <a:srgbClr val="fafd00"/>
              </a:solidFill>
              <a:latin typeface="Arial"/>
            </a:endParaRPr>
          </a:p>
        </p:txBody>
      </p:sp>
      <p:sp>
        <p:nvSpPr>
          <p:cNvPr id="85" name=""/>
          <p:cNvSpPr/>
          <p:nvPr/>
        </p:nvSpPr>
        <p:spPr>
          <a:xfrm>
            <a:off x="807984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Roving Formation</a:t>
            </a:r>
            <a:endParaRPr b="1" lang="en-US" sz="3200" spc="-1" strike="noStrike">
              <a:solidFill>
                <a:srgbClr val="fafd00"/>
              </a:solidFill>
              <a:latin typeface="Arial"/>
            </a:endParaRPr>
          </a:p>
        </p:txBody>
      </p:sp>
      <p:sp>
        <p:nvSpPr>
          <p:cNvPr id="87"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oving fram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ibre control critical</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ampre or aprons</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NPUT: </a:t>
            </a:r>
            <a:r>
              <a:rPr b="1" lang="en-GB" sz="2000" spc="-1" strike="noStrike">
                <a:solidFill>
                  <a:srgbClr val="ffffff"/>
                </a:solidFill>
                <a:latin typeface="Arial"/>
              </a:rPr>
              <a:t>	</a:t>
            </a:r>
            <a:r>
              <a:rPr b="1" lang="en-GB" sz="2000" spc="-1" strike="noStrike">
                <a:solidFill>
                  <a:srgbClr val="ffffff"/>
                </a:solidFill>
                <a:latin typeface="Arial"/>
              </a:rPr>
              <a:t>~3,000 fibres in X-section</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OUTPUT: </a:t>
            </a:r>
            <a:r>
              <a:rPr b="1" lang="en-GB" sz="2000" spc="-1" strike="noStrike">
                <a:solidFill>
                  <a:srgbClr val="ffffff"/>
                </a:solidFill>
                <a:latin typeface="Arial"/>
              </a:rPr>
              <a:t>	</a:t>
            </a:r>
            <a:r>
              <a:rPr b="1" lang="en-GB" sz="2000" spc="-1" strike="noStrike">
                <a:solidFill>
                  <a:srgbClr val="ffffff"/>
                </a:solidFill>
                <a:latin typeface="Arial"/>
              </a:rPr>
              <a:t>~800 fibres</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alse Twist</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ubbing apron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ake-up</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obbins (2 ends per bobbin)</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aves creel space</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 bobbin = 2 spindles</a:t>
            </a:r>
            <a:endParaRPr b="1" lang="en-US" sz="2000" spc="-1" strike="noStrike">
              <a:solidFill>
                <a:srgbClr val="ffffff"/>
              </a:solidFill>
              <a:latin typeface="Arial"/>
            </a:endParaRPr>
          </a:p>
        </p:txBody>
      </p:sp>
      <p:sp>
        <p:nvSpPr>
          <p:cNvPr id="88" name=""/>
          <p:cNvSpPr/>
          <p:nvPr/>
        </p:nvSpPr>
        <p:spPr>
          <a:xfrm>
            <a:off x="807984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Ring Spinning Operations</a:t>
            </a:r>
            <a:endParaRPr b="1" lang="en-US" sz="3200" spc="-1" strike="noStrike">
              <a:solidFill>
                <a:srgbClr val="fafd00"/>
              </a:solidFill>
              <a:latin typeface="Arial"/>
            </a:endParaRPr>
          </a:p>
        </p:txBody>
      </p:sp>
      <p:sp>
        <p:nvSpPr>
          <p:cNvPr id="90" name="PlaceHolder 2"/>
          <p:cNvSpPr>
            <a:spLocks noGrp="1"/>
          </p:cNvSpPr>
          <p:nvPr>
            <p:ph/>
          </p:nvPr>
        </p:nvSpPr>
        <p:spPr>
          <a:xfrm>
            <a:off x="1295280" y="838080"/>
            <a:ext cx="3810240" cy="5181840"/>
          </a:xfrm>
          <a:prstGeom prst="rect">
            <a:avLst/>
          </a:prstGeom>
          <a:noFill/>
          <a:ln w="0">
            <a:noFill/>
          </a:ln>
        </p:spPr>
        <p:txBody>
          <a:bodyPr lIns="90360" rIns="90360" tIns="44280" bIns="442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rafting</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roller drafting</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ibre Control</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pron (worsted)</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alse twist (woollen)</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wist Insertion</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ring &amp; traveller</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ake-up</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inding-on</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bobbin &amp; spindle</a:t>
            </a:r>
            <a:endParaRPr b="1" lang="en-US" sz="2000" spc="-1" strike="noStrike">
              <a:solidFill>
                <a:srgbClr val="ffffff"/>
              </a:solidFill>
              <a:latin typeface="Arial"/>
            </a:endParaRPr>
          </a:p>
        </p:txBody>
      </p:sp>
      <p:graphicFrame>
        <p:nvGraphicFramePr>
          <p:cNvPr id="91" name=""/>
          <p:cNvGraphicFramePr/>
          <p:nvPr/>
        </p:nvGraphicFramePr>
        <p:xfrm>
          <a:off x="4648320" y="1378080"/>
          <a:ext cx="4343400" cy="4260600"/>
        </p:xfrm>
        <a:graphic>
          <a:graphicData uri="http://schemas.openxmlformats.org/presentationml/2006/ole">
            <p:oleObj r:id="rId1" spid="">
              <p:embed/>
              <p:pic>
                <p:nvPicPr>
                  <p:cNvPr id="92" name="" descr=""/>
                  <p:cNvPicPr/>
                  <p:nvPr/>
                </p:nvPicPr>
                <p:blipFill>
                  <a:blip r:embed="rId2"/>
                  <a:stretch/>
                </p:blipFill>
                <p:spPr>
                  <a:xfrm>
                    <a:off x="4648320" y="1378080"/>
                    <a:ext cx="4343400" cy="4260600"/>
                  </a:xfrm>
                  <a:prstGeom prst="rect">
                    <a:avLst/>
                  </a:prstGeom>
                  <a:ln w="0">
                    <a:noFill/>
                  </a:ln>
                </p:spPr>
              </p:pic>
            </p:oleObj>
          </a:graphicData>
        </a:graphic>
      </p:graphicFrame>
      <p:sp>
        <p:nvSpPr>
          <p:cNvPr id="93" name=""/>
          <p:cNvSpPr/>
          <p:nvPr/>
        </p:nvSpPr>
        <p:spPr>
          <a:xfrm>
            <a:off x="7112520" y="6324480"/>
            <a:ext cx="18738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Times New Roman"/>
              </a:rPr>
              <a:t>Source: Brearley, A. (1964)</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wist Insertion &amp; Twist Level</a:t>
            </a:r>
            <a:endParaRPr b="1" lang="en-US" sz="3200" spc="-1" strike="noStrike">
              <a:solidFill>
                <a:srgbClr val="fafd00"/>
              </a:solidFill>
              <a:latin typeface="Arial"/>
            </a:endParaRPr>
          </a:p>
        </p:txBody>
      </p:sp>
      <p:sp>
        <p:nvSpPr>
          <p:cNvPr id="95"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ibres are delivered by the front rollers</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bobbin is driven by the spindle</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yarn is wound on to the bobbin</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raveller is pulled along by the yar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raveller rotation causes twist</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oint of zero twist</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bobbin circumference increases</a:t>
            </a:r>
            <a:endParaRPr b="1" lang="en-US" sz="28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400" spc="-1" strike="noStrike">
                <a:solidFill>
                  <a:srgbClr val="ffffff"/>
                </a:solidFill>
                <a:latin typeface="Arial"/>
              </a:rPr>
              <a:t>twist level (tpm) = </a:t>
            </a:r>
            <a:r>
              <a:rPr b="1" lang="en-GB" sz="2400" spc="-1" strike="noStrike" u="sng">
                <a:solidFill>
                  <a:srgbClr val="ffffff"/>
                </a:solidFill>
                <a:uFillTx/>
                <a:latin typeface="Arial"/>
              </a:rPr>
              <a:t>spindle speed</a:t>
            </a:r>
            <a:r>
              <a:rPr b="1" lang="en-GB" sz="2400" spc="-1" strike="noStrike">
                <a:solidFill>
                  <a:srgbClr val="ffffff"/>
                </a:solidFill>
                <a:latin typeface="Arial"/>
              </a:rPr>
              <a:t> (rpm)</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approx.)                delivery speed (mpm)</a:t>
            </a:r>
            <a:endParaRPr b="1" lang="en-US" sz="2400" spc="-1" strike="noStrike">
              <a:solidFill>
                <a:srgbClr val="ffffff"/>
              </a:solidFill>
              <a:latin typeface="Arial"/>
            </a:endParaRPr>
          </a:p>
        </p:txBody>
      </p:sp>
      <p:sp>
        <p:nvSpPr>
          <p:cNvPr id="96" name=""/>
          <p:cNvSpPr/>
          <p:nvPr/>
        </p:nvSpPr>
        <p:spPr>
          <a:xfrm>
            <a:off x="807984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ailures in Spinning</a:t>
            </a:r>
            <a:endParaRPr b="1" lang="en-US" sz="3200" spc="-1" strike="noStrike">
              <a:solidFill>
                <a:srgbClr val="fafd00"/>
              </a:solidFill>
              <a:latin typeface="Arial"/>
            </a:endParaRPr>
          </a:p>
        </p:txBody>
      </p:sp>
      <p:sp>
        <p:nvSpPr>
          <p:cNvPr id="98" name="PlaceHolder 2"/>
          <p:cNvSpPr>
            <a:spLocks noGrp="1"/>
          </p:cNvSpPr>
          <p:nvPr>
            <p:ph/>
          </p:nvPr>
        </p:nvSpPr>
        <p:spPr>
          <a:xfrm>
            <a:off x="1295280" y="838080"/>
            <a:ext cx="411480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hy do ends break? </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ension on Yarn</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rictional resistance of traveller</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entripetal force of balloon</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pinning limit</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5 fibres in X-section</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random distribution</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oo few to withstand tension</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oint of zero twist</a:t>
            </a:r>
            <a:endParaRPr b="1" lang="en-US" sz="2000" spc="-1" strike="noStrike">
              <a:solidFill>
                <a:srgbClr val="ffffff"/>
              </a:solidFill>
              <a:latin typeface="Arial"/>
            </a:endParaRPr>
          </a:p>
        </p:txBody>
      </p:sp>
      <p:grpSp>
        <p:nvGrpSpPr>
          <p:cNvPr id="99" name=""/>
          <p:cNvGrpSpPr/>
          <p:nvPr/>
        </p:nvGrpSpPr>
        <p:grpSpPr>
          <a:xfrm>
            <a:off x="5029200" y="2209680"/>
            <a:ext cx="4114800" cy="3124440"/>
            <a:chOff x="5029200" y="2209680"/>
            <a:chExt cx="4114800" cy="3124440"/>
          </a:xfrm>
        </p:grpSpPr>
        <p:sp>
          <p:nvSpPr>
            <p:cNvPr id="100" name=""/>
            <p:cNvSpPr/>
            <p:nvPr/>
          </p:nvSpPr>
          <p:spPr>
            <a:xfrm>
              <a:off x="5029200" y="2209680"/>
              <a:ext cx="4114800" cy="3124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472080" y="2979000"/>
              <a:ext cx="1603080" cy="163728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5886360" y="2363040"/>
              <a:ext cx="2771640" cy="287388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V="1">
              <a:off x="5889240" y="3187080"/>
              <a:ext cx="797040" cy="6462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363720" y="3150000"/>
              <a:ext cx="402480" cy="354240"/>
            </a:xfrm>
            <a:custGeom>
              <a:avLst/>
              <a:gdLst/>
              <a:ahLst/>
              <a:rect l="l" t="t" r="r" b="b"/>
              <a:pathLst>
                <a:path w="253" h="222">
                  <a:moveTo>
                    <a:pt x="0" y="103"/>
                  </a:moveTo>
                  <a:lnTo>
                    <a:pt x="252" y="0"/>
                  </a:lnTo>
                  <a:lnTo>
                    <a:pt x="73" y="221"/>
                  </a:lnTo>
                  <a:lnTo>
                    <a:pt x="0" y="103"/>
                  </a:lnTo>
                </a:path>
              </a:pathLst>
            </a:custGeom>
            <a:solidFill>
              <a:srgbClr val="ff0000"/>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5421960" y="2459880"/>
              <a:ext cx="455400" cy="1362600"/>
            </a:xfrm>
            <a:custGeom>
              <a:avLst/>
              <a:gdLst/>
              <a:ahLst/>
              <a:rect l="l" t="t" r="r" b="b"/>
              <a:pathLst>
                <a:path w="286" h="855">
                  <a:moveTo>
                    <a:pt x="285" y="854"/>
                  </a:moveTo>
                  <a:lnTo>
                    <a:pt x="234" y="812"/>
                  </a:lnTo>
                  <a:lnTo>
                    <a:pt x="171" y="742"/>
                  </a:lnTo>
                  <a:lnTo>
                    <a:pt x="121" y="658"/>
                  </a:lnTo>
                  <a:lnTo>
                    <a:pt x="83" y="532"/>
                  </a:lnTo>
                  <a:lnTo>
                    <a:pt x="45" y="365"/>
                  </a:lnTo>
                  <a:lnTo>
                    <a:pt x="33" y="238"/>
                  </a:lnTo>
                  <a:lnTo>
                    <a:pt x="11" y="165"/>
                  </a:lnTo>
                  <a:lnTo>
                    <a:pt x="2" y="127"/>
                  </a:lnTo>
                  <a:lnTo>
                    <a:pt x="2" y="111"/>
                  </a:lnTo>
                  <a:lnTo>
                    <a:pt x="7" y="98"/>
                  </a:lnTo>
                  <a:lnTo>
                    <a:pt x="1" y="77"/>
                  </a:lnTo>
                  <a:lnTo>
                    <a:pt x="0" y="62"/>
                  </a:lnTo>
                  <a:lnTo>
                    <a:pt x="1" y="44"/>
                  </a:lnTo>
                  <a:lnTo>
                    <a:pt x="7" y="0"/>
                  </a:lnTo>
                </a:path>
              </a:pathLst>
            </a:custGeom>
            <a:noFill/>
            <a:ln cap="rnd" w="572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5652000" y="3664800"/>
              <a:ext cx="528120" cy="403200"/>
            </a:xfrm>
            <a:custGeom>
              <a:avLst/>
              <a:gdLst/>
              <a:ahLst/>
              <a:rect l="l" t="t" r="r" b="b"/>
              <a:pathLst>
                <a:path w="332" h="253">
                  <a:moveTo>
                    <a:pt x="164" y="252"/>
                  </a:moveTo>
                  <a:lnTo>
                    <a:pt x="233" y="243"/>
                  </a:lnTo>
                  <a:lnTo>
                    <a:pt x="283" y="217"/>
                  </a:lnTo>
                  <a:lnTo>
                    <a:pt x="316" y="180"/>
                  </a:lnTo>
                  <a:lnTo>
                    <a:pt x="331" y="136"/>
                  </a:lnTo>
                  <a:lnTo>
                    <a:pt x="331" y="115"/>
                  </a:lnTo>
                  <a:lnTo>
                    <a:pt x="326" y="92"/>
                  </a:lnTo>
                  <a:lnTo>
                    <a:pt x="301" y="51"/>
                  </a:lnTo>
                  <a:lnTo>
                    <a:pt x="255" y="20"/>
                  </a:lnTo>
                  <a:lnTo>
                    <a:pt x="189" y="2"/>
                  </a:lnTo>
                  <a:lnTo>
                    <a:pt x="154" y="0"/>
                  </a:lnTo>
                  <a:lnTo>
                    <a:pt x="120" y="4"/>
                  </a:lnTo>
                  <a:lnTo>
                    <a:pt x="65" y="24"/>
                  </a:lnTo>
                  <a:lnTo>
                    <a:pt x="26" y="57"/>
                  </a:lnTo>
                  <a:lnTo>
                    <a:pt x="3" y="100"/>
                  </a:lnTo>
                  <a:lnTo>
                    <a:pt x="0" y="121"/>
                  </a:lnTo>
                  <a:lnTo>
                    <a:pt x="1" y="144"/>
                  </a:lnTo>
                  <a:lnTo>
                    <a:pt x="18" y="187"/>
                  </a:lnTo>
                  <a:lnTo>
                    <a:pt x="57" y="223"/>
                  </a:lnTo>
                  <a:lnTo>
                    <a:pt x="119" y="247"/>
                  </a:lnTo>
                </a:path>
              </a:pathLst>
            </a:custGeom>
            <a:noFill/>
            <a:ln cap="rnd" w="507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5126040" y="3265560"/>
              <a:ext cx="1188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traveller</a:t>
              </a:r>
              <a:endParaRPr b="0" lang="en-US" sz="2400" spc="-1" strike="noStrike">
                <a:solidFill>
                  <a:srgbClr val="000000"/>
                </a:solidFill>
                <a:latin typeface="Times New Roman"/>
              </a:endParaRPr>
            </a:p>
          </p:txBody>
        </p:sp>
        <p:sp>
          <p:nvSpPr>
            <p:cNvPr id="108" name=""/>
            <p:cNvSpPr/>
            <p:nvPr/>
          </p:nvSpPr>
          <p:spPr>
            <a:xfrm>
              <a:off x="8404920" y="2549520"/>
              <a:ext cx="5767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ring</a:t>
              </a:r>
              <a:endParaRPr b="0" lang="en-US" sz="2400" spc="-1" strike="noStrike">
                <a:solidFill>
                  <a:srgbClr val="000000"/>
                </a:solidFill>
                <a:latin typeface="Times New Roman"/>
              </a:endParaRPr>
            </a:p>
          </p:txBody>
        </p:sp>
        <p:sp>
          <p:nvSpPr>
            <p:cNvPr id="109" name=""/>
            <p:cNvSpPr/>
            <p:nvPr/>
          </p:nvSpPr>
          <p:spPr>
            <a:xfrm>
              <a:off x="6857280" y="3864240"/>
              <a:ext cx="8481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bobbin</a:t>
              </a:r>
              <a:endParaRPr b="0" lang="en-US" sz="2000" spc="-1" strike="noStrike">
                <a:solidFill>
                  <a:srgbClr val="000000"/>
                </a:solidFill>
                <a:latin typeface="Times New Roman"/>
              </a:endParaRPr>
            </a:p>
          </p:txBody>
        </p:sp>
        <p:sp>
          <p:nvSpPr>
            <p:cNvPr id="110" name=""/>
            <p:cNvSpPr/>
            <p:nvPr/>
          </p:nvSpPr>
          <p:spPr>
            <a:xfrm>
              <a:off x="6780600" y="3197520"/>
              <a:ext cx="992880" cy="918360"/>
            </a:xfrm>
            <a:custGeom>
              <a:avLst/>
              <a:gdLst>
                <a:gd name="textAreaLeft" fmla="*/ 0 w 992880"/>
                <a:gd name="textAreaRight" fmla="*/ 993240 w 992880"/>
                <a:gd name="textAreaTop" fmla="*/ 0 h 918360"/>
                <a:gd name="textAreaBottom" fmla="*/ 918720 h 91836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V="1">
              <a:off x="5097600" y="3853800"/>
              <a:ext cx="797040" cy="6462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flipH="1" rot="17153400">
              <a:off x="5067720" y="4191120"/>
              <a:ext cx="407880" cy="349920"/>
            </a:xfrm>
            <a:custGeom>
              <a:avLst/>
              <a:gdLst/>
              <a:ahLst/>
              <a:rect l="l" t="t" r="r" b="b"/>
              <a:pathLst>
                <a:path w="253" h="222">
                  <a:moveTo>
                    <a:pt x="0" y="103"/>
                  </a:moveTo>
                  <a:lnTo>
                    <a:pt x="252" y="0"/>
                  </a:lnTo>
                  <a:lnTo>
                    <a:pt x="73" y="221"/>
                  </a:lnTo>
                  <a:lnTo>
                    <a:pt x="0" y="103"/>
                  </a:lnTo>
                </a:path>
              </a:pathLst>
            </a:custGeom>
            <a:solidFill>
              <a:srgbClr val="ff0000"/>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 name=""/>
          <p:cNvSpPr/>
          <p:nvPr/>
        </p:nvSpPr>
        <p:spPr>
          <a:xfrm>
            <a:off x="807984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Woollen Spinning</a:t>
            </a:r>
            <a:endParaRPr b="1" lang="en-US" sz="3200" spc="-1" strike="noStrike">
              <a:solidFill>
                <a:srgbClr val="fafd00"/>
              </a:solidFill>
              <a:latin typeface="Arial"/>
            </a:endParaRPr>
          </a:p>
        </p:txBody>
      </p:sp>
      <p:sp>
        <p:nvSpPr>
          <p:cNvPr id="115" name="PlaceHolder 2"/>
          <p:cNvSpPr>
            <a:spLocks noGrp="1"/>
          </p:cNvSpPr>
          <p:nvPr>
            <p:ph/>
          </p:nvPr>
        </p:nvSpPr>
        <p:spPr>
          <a:xfrm>
            <a:off x="1295280" y="838080"/>
            <a:ext cx="3810240" cy="5181840"/>
          </a:xfrm>
          <a:prstGeom prst="rect">
            <a:avLst/>
          </a:prstGeom>
          <a:noFill/>
          <a:ln w="0">
            <a:noFill/>
          </a:ln>
        </p:spPr>
        <p:txBody>
          <a:bodyPr lIns="90360" rIns="90360" tIns="44280" bIns="442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Yarn Characteristic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Bulky, Soft Yarn </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ow Draft</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low speed</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rafting</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rollers</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ibre Control</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alse twist tube</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wist &amp; Takeup</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ring spinning</a:t>
            </a:r>
            <a:endParaRPr b="1" lang="en-US" sz="2000" spc="-1" strike="noStrike">
              <a:solidFill>
                <a:srgbClr val="ffffff"/>
              </a:solidFill>
              <a:latin typeface="Arial"/>
            </a:endParaRPr>
          </a:p>
        </p:txBody>
      </p:sp>
      <p:graphicFrame>
        <p:nvGraphicFramePr>
          <p:cNvPr id="116" name=""/>
          <p:cNvGraphicFramePr/>
          <p:nvPr/>
        </p:nvGraphicFramePr>
        <p:xfrm>
          <a:off x="4876920" y="1441440"/>
          <a:ext cx="4267080" cy="4222800"/>
        </p:xfrm>
        <a:graphic>
          <a:graphicData uri="http://schemas.openxmlformats.org/presentationml/2006/ole">
            <p:oleObj r:id="rId1" spid="">
              <p:embed/>
              <p:pic>
                <p:nvPicPr>
                  <p:cNvPr id="117" name="" descr=""/>
                  <p:cNvPicPr/>
                  <p:nvPr/>
                </p:nvPicPr>
                <p:blipFill>
                  <a:blip r:embed="rId2"/>
                  <a:stretch/>
                </p:blipFill>
                <p:spPr>
                  <a:xfrm>
                    <a:off x="4876920" y="1441440"/>
                    <a:ext cx="4267080" cy="4222800"/>
                  </a:xfrm>
                  <a:prstGeom prst="rect">
                    <a:avLst/>
                  </a:prstGeom>
                  <a:ln w="0">
                    <a:noFill/>
                  </a:ln>
                </p:spPr>
              </p:pic>
            </p:oleObj>
          </a:graphicData>
        </a:graphic>
      </p:graphicFrame>
      <p:sp>
        <p:nvSpPr>
          <p:cNvPr id="118" name=""/>
          <p:cNvSpPr/>
          <p:nvPr/>
        </p:nvSpPr>
        <p:spPr>
          <a:xfrm>
            <a:off x="4632480" y="5715000"/>
            <a:ext cx="45115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99"/>
                </a:solidFill>
                <a:latin typeface="Times New Roman"/>
              </a:rPr>
              <a:t>False-twist tube (centrifugal type) and front rollers of a Woollen ring-frame.</a:t>
            </a:r>
            <a:endParaRPr b="0" lang="en-US" sz="1600" spc="-1" strike="noStrike">
              <a:solidFill>
                <a:srgbClr val="000000"/>
              </a:solidFill>
              <a:latin typeface="Times New Roman"/>
            </a:endParaRPr>
          </a:p>
        </p:txBody>
      </p:sp>
      <p:sp>
        <p:nvSpPr>
          <p:cNvPr id="119" name=""/>
          <p:cNvSpPr/>
          <p:nvPr/>
        </p:nvSpPr>
        <p:spPr>
          <a:xfrm>
            <a:off x="7112160" y="6324480"/>
            <a:ext cx="19501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Times New Roman"/>
              </a:rPr>
              <a:t>Source: Brearley, A.,  (1965)</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1T01:23:47Z</dcterms:created>
  <dc:creator>USER</dc:creator>
  <dc:description/>
  <dc:language>en-US</dc:language>
  <cp:lastModifiedBy>Hdaily</cp:lastModifiedBy>
  <cp:lastPrinted>2000-02-11T01:33:16Z</cp:lastPrinted>
  <dcterms:modified xsi:type="dcterms:W3CDTF">2000-03-27T00:10:43Z</dcterms:modified>
  <cp:revision>11</cp:revision>
  <dc:subject/>
  <dc:title>Yarn Production</dc:title>
</cp:coreProperties>
</file>