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0F764-11EB-40C5-A9CE-3D40C1D5BE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562040" y="533520"/>
            <a:ext cx="3657600" cy="2743200"/>
          </a:xfrm>
          <a:prstGeom prst="rect">
            <a:avLst/>
          </a:prstGeom>
          <a:ln w="0">
            <a:noFill/>
          </a:ln>
        </p:spPr>
      </p:sp>
      <p:sp>
        <p:nvSpPr>
          <p:cNvPr id="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needs of spinners’ customers to the consumer level, how these needs can be met by changing top specifications, and by developments in spin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B6C9D-5E63-465F-B27C-A77820C9C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562040" y="53352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eds of consumers ultimately drive the spinn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has been a twenty-five year trend to lighter-weight fabrics and an increasing desire for softness and comfort. Light-weight fabrics require fine yarns and these can only be made from fine fibres.  Softer fabrics also require finer fibres.  These needs drive the spinner in his selection of fibre properties via top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er fibres give improved performance for most fabric properties but at an increased price for the input material.  Spinning is a very low production process with each spindle producing only about 100 kg/spindle per year of fine yarn using three shift running.  This is because every turn of twist requires the whole package to be rotated once and the required turns of twist goes up inversely as the thickness of the yarn while the production (kg/hr) goes down as the square of the thickness (for constant twist).  So finer yarns cost much more.  The large number of spindles also mean substantial labour requirements and in high labour cost countries no more than 40 ends-down per thousand spindles per hour is allowable.  This equates to about one break per 50 km of ya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rder-wearing fabrics can be obtained by blending with synthetics.  Finer yarns can also be spun at higher speeds by using synthetics, but at the expense of complexity from blending and in dyeing, and very fine synthetics can be more expensive than wool.  Blends with synthetics can also help in the achievement of easy-care and stretch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ustomers selection on fashion qualities such as colour and appearance may not seem to directly affect the spinner but rapid changes in fashion do increase the need for just-in-time.  There is also increasing emphasis on novelty.  This may come from blending of different colours or fibres in drawing or during spinning or afterwards in folding, or during fabric constr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pure wool, easy care is achieved by shrinkproofing treatments at top or garment stag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C8EBB-5A67-4BD9-AAC8-9209880CA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562040" y="533520"/>
            <a:ext cx="3657600" cy="2743200"/>
          </a:xfrm>
          <a:prstGeom prst="rect">
            <a:avLst/>
          </a:prstGeom>
          <a:ln w="0">
            <a:noFill/>
          </a:ln>
        </p:spPr>
      </p:sp>
      <p:sp>
        <p:nvSpPr>
          <p:cNvPr id="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eds of later stages of processing work all the way back to the spinn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arment Maker wants fault-free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yer and Finisher must be able to match previous colours and appearance.  The spinner must supply a consistent substrate.  Clear or white plastic contamination will sometimes only show up at this s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bric-Makers are aiming for zero stops during weaving or knitting.  Stoppages can arise from thin places, thick places, poor splices and contamination, and with today’s high speed looms and one operator required to look after about 10 looms, this means less than one stoppage per 50 km of yarn.  As weaving speeds increase the yarn must be both stronger and have fewer faults.  The fabric-maker must also inspect and mark or mend any faults in the fabric.  This is a high cost op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requirements push the spinner to produce a consistent, almost fault-free, yarn with acceptable evenness and tenacity.  Hairiness can be a concern because it may lead to interference between yarns in weaving or a visibly different fabric.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9E195-AC3F-4B43-B465-4C32A0F93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562040" y="533520"/>
            <a:ext cx="3657600" cy="2743200"/>
          </a:xfrm>
          <a:prstGeom prst="rect">
            <a:avLst/>
          </a:prstGeom>
          <a:ln w="0">
            <a:noFill/>
          </a:ln>
        </p:spPr>
      </p:sp>
      <p:sp>
        <p:nvSpPr>
          <p:cNvPr id="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inning is the most expensive step in fabric production.  Typical costs are shown here for a light-weight woven fabric.  It is therefore the needs of the spinner that drives the specifications on the topmaker.  On the flip-side, it is therefore also a potential source of significant cost savin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inners may achieve higher efficiencies in a number of ways.  Fewer ends-down allow less labour or higher spinning speed.  The use of finer fibres to raise the number of fibres in the cross-section is usually the most effective means of achieving this, but longer Hauteur or lower CV</a:t>
            </a:r>
            <a:r>
              <a:rPr b="0" lang="en-GB" sz="1200" spc="-1" strike="noStrike" baseline="-25000">
                <a:solidFill>
                  <a:srgbClr val="000000"/>
                </a:solidFill>
                <a:latin typeface="Times New Roman"/>
              </a:rPr>
              <a:t>D</a:t>
            </a:r>
            <a:r>
              <a:rPr b="0" lang="en-GB" sz="1200" spc="-1" strike="noStrike">
                <a:solidFill>
                  <a:srgbClr val="000000"/>
                </a:solidFill>
                <a:latin typeface="Times New Roman"/>
              </a:rPr>
              <a:t> will also help.  However, if the raw material cost is high it may be cheaper to use a cheaper, coarser wool and spin more slow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w spinning technologies such as SIROSPUN and SOLOSPUN aim to produce yarns more cheaply while having the fabric properties almost unchanged.  Alternative technologies such as air-jet and friction spinning may also allow higher produc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59141-5E92-4E1B-912E-B5C45AE51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562040" y="533520"/>
            <a:ext cx="3657600" cy="2743200"/>
          </a:xfrm>
          <a:prstGeom prst="rect">
            <a:avLst/>
          </a:prstGeom>
          <a:ln w="0">
            <a:noFill/>
          </a:ln>
        </p:spPr>
      </p:sp>
      <p:sp>
        <p:nvSpPr>
          <p:cNvPr id="102" name="PlaceHolder 2"/>
          <p:cNvSpPr>
            <a:spLocks noGrp="1"/>
          </p:cNvSpPr>
          <p:nvPr>
            <p:ph type="body"/>
          </p:nvPr>
        </p:nvSpPr>
        <p:spPr>
          <a:xfrm>
            <a:off x="457200" y="3505320"/>
            <a:ext cx="5943600" cy="495288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Lamb, CSIRO Textile &amp; Fibre Technolog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spinner may be able to increase performance by buying newer, faster machinery, but a better understanding of the relative importance of top properties may also allow either lower costs or higher productio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iner fibres will reduce processing costs and aid downstream performance but the spinner must consider the cost of both raw material and production.  Knowledge of the relative importance of CV</a:t>
            </a:r>
            <a:r>
              <a:rPr b="0" lang="en-GB" sz="1100" spc="-1" strike="noStrike" baseline="-25000">
                <a:solidFill>
                  <a:srgbClr val="000000"/>
                </a:solidFill>
                <a:latin typeface="Times New Roman"/>
              </a:rPr>
              <a:t>D</a:t>
            </a:r>
            <a:r>
              <a:rPr b="0" lang="en-GB" sz="1100" spc="-1" strike="noStrike">
                <a:solidFill>
                  <a:srgbClr val="000000"/>
                </a:solidFill>
                <a:latin typeface="Times New Roman"/>
              </a:rPr>
              <a:t> should allow the spinner to choose the cheapest top that will still give the desired spinning performanc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possible alternative is the specification of longer Hauteur tops.  At present, an extra 10 mm of Hauteur probably costs significantly less than buying top 1 </a:t>
            </a:r>
            <a:r>
              <a:rPr b="0" lang="en-GB" sz="1100" spc="-1" strike="noStrike">
                <a:solidFill>
                  <a:srgbClr val="000000"/>
                </a:solidFill>
                <a:latin typeface="Symbol"/>
                <a:ea typeface="Symbol"/>
              </a:rPr>
              <a:t></a:t>
            </a:r>
            <a:r>
              <a:rPr b="0" lang="en-GB" sz="1100" spc="-1" strike="noStrike">
                <a:solidFill>
                  <a:srgbClr val="000000"/>
                </a:solidFill>
                <a:latin typeface="Times New Roman"/>
              </a:rPr>
              <a:t>m finer.</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urrently the market pays more for high crimp wools.  However, it has been shown, particularly for weaving yarns, that lower crimp or curvature gives longer Hauteur, less wastes, more even yarns, better spinning performance and preferred fabric softness.  The astute spinner should be looking to take advantage of these result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current limits on CV</a:t>
            </a:r>
            <a:r>
              <a:rPr b="0" lang="en-GB" sz="1100" spc="-1" strike="noStrike" baseline="-25000">
                <a:solidFill>
                  <a:srgbClr val="000000"/>
                </a:solidFill>
                <a:latin typeface="Times New Roman"/>
              </a:rPr>
              <a:t>H</a:t>
            </a:r>
            <a:r>
              <a:rPr b="0" lang="en-GB" sz="1100" spc="-1" strike="noStrike">
                <a:solidFill>
                  <a:srgbClr val="000000"/>
                </a:solidFill>
                <a:latin typeface="Times New Roman"/>
              </a:rPr>
              <a:t> appear totally unnecessary and it has been estimated that opening up these limits would allow an equivalent top to be produced for $1 or $2 less per k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op colour has always been specified in critical applications such as the production of white and pastel shades.  However, it should be remembered that greasy colour has essentially no relationship to scoured colour.</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ontamination still leads to significant cost penalties.  It is possible to select wools for low dark fibre contamination e.g. by choosing wool from sheep that have been crutched within 3 months of shearing, avoiding lambs and pieces etc.  The avoidance of contamination at the farm is by far the most economical method of reducing this major source of yarn and fabric fault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inally, mills can complete the quality control circle by monitoring their performance against Yarnspec predictions and so benchmark their performance on a global basis.</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562040" y="533520"/>
            <a:ext cx="3657600" cy="2743200"/>
          </a:xfrm>
          <a:prstGeom prst="rect">
            <a:avLst/>
          </a:prstGeom>
          <a:ln w="0">
            <a:noFill/>
          </a:ln>
        </p:spPr>
      </p:sp>
      <p:sp>
        <p:nvSpPr>
          <p:cNvPr id="1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technology aimed at reducing the costs of the spinner include -Siroclear (which is aimed at removing yarn faults during winding), Sirospun and Solospun.  The latter two aim to reduce yarn costs by avoiding the need to two-fo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work seeks to adapt existing technologies such as air-jet spinning and friction spinning to process wool fibre.  This could lead to lower cost yarns, as well as yarns which look differ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isting ring spinning technology is also being improved.  A recent development has been “compact” spinning where the drafted strand is compacted in an extra zone before the spinning trial, greatly reducing yarn hairiness.  Incremental increases in speed and production are being achieved by machinery manufacturers using such modifications as collapsed balloon spinning.  Developments in on-line quality control are being implemented and automatic doffing is now the norm with bobbins conveyed directly to the winder or via a linked mini-steamer.  It is thus possible to monitor yarn quality on the winder and automatically report on which spindle on the spinning frame requires maintenance.  There has also been a trend to fewer drawing steps prior to spinn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562040" y="533520"/>
            <a:ext cx="3657600" cy="2743200"/>
          </a:xfrm>
          <a:prstGeom prst="rect">
            <a:avLst/>
          </a:prstGeom>
          <a:ln w="0">
            <a:noFill/>
          </a:ln>
        </p:spPr>
      </p:sp>
      <p:sp>
        <p:nvSpPr>
          <p:cNvPr id="1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CSIRO Wool Technology booklet 1992, published by CSIRO Division of Wool Technology, Geelong V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rospun was developed to satisfy a need for lighter-weight yarns and fabrics.  The yarn produced can be utilised in weaving without folding, and is therefore much cheaper to produce than the equivalent two-fold ya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cept behind Sirospun is that if two drafted strands of fibres are spaced apart but twisted together in spinning then a number of fibre trapping mechanisms operate to bind the surface fibres and enable the yarn to survive the abrasive action of the loom.  This concept worked except when one of the strands broke before being twisted with the other, then the yarn produced would have a section with only one input strand.  A “break-out” device was developed which blocked twist flowing into the other input strand when one strand bro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key problem was that when faults were cut out in winding the splice was not supported by a second yarn as would occur in two-folding.  This required the development of an improved splicer by CSIRO - the Thermosplicer, which uses hot ai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yarn still has uni-directional twist and the fibres are not trapped as well as in two-folding but given certain conditions such as sufficient twist, fibre length and a similar number of fibres to the two-fold yarn then the weaving performance is satisfacto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evelopment has been commercialis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562040" y="533520"/>
            <a:ext cx="3657600" cy="2743200"/>
          </a:xfrm>
          <a:prstGeom prst="rect">
            <a:avLst/>
          </a:prstGeom>
          <a:ln w="0">
            <a:noFill/>
          </a:ln>
        </p:spPr>
      </p:sp>
      <p:sp>
        <p:nvSpPr>
          <p:cNvPr id="1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illustration from WDI Ltd. handout, Solospun, Weavable Singles Spin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new yarn technology, invented at CSIRO, was developed jointly by CSIRO/Woolmark/WRONZ and launched in 1998.  Also known as “weavable singles yarn” it acts on the normal single strand of fibres (as opposed to Sirospu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ovel structure of the yarn is achieved by placing a finely grooved roller over the spinning triangle at the front rollers of the drafting zone as shown in this slide.  This roller divides the fibres coming out of the front roller into separate streams, which has the effect of enhancing fibre migration during spinning.  This leads to a coherent yarn stru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no folding operation involved in the production of this yarn.  Cost savings have been estimated to be between 15 and 40%.  The big advantages over Sirospun are much improved spinning performance, no need for two strands, and it can operate at lower twist levels and with fewer fibres in the cross-section than the normal two-fold equival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562040" y="533520"/>
            <a:ext cx="3657600" cy="2743200"/>
          </a:xfrm>
          <a:prstGeom prst="rect">
            <a:avLst/>
          </a:prstGeom>
          <a:ln w="0">
            <a:noFill/>
          </a:ln>
        </p:spPr>
      </p:sp>
      <p:sp>
        <p:nvSpPr>
          <p:cNvPr id="1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roclear is a device developed by CSIRO which detects yarn faults during winding (the operation which takes singles yarn off bobbins and on to cones ready for fol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roclear is a specialised detector for dark fibres and VM and non-VM faults in undyed yarn.  It works by making the undyed (white) yarn “invisible” and detecting a drop in signal when a coloured contaminant is present.  When a fault is detected the yarn is cut, removing the fault, and the yarn is re-joined with a spl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ay seem like the answer to prayers about lowering contamination, but there is a trade-off.  If there are too many faults, the production efficiency of winding plummets.  It is far better to remove the faults at the source, which is usually the far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atest Developments in Spinn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Lamb, CSIRO Textile &amp; Fibre Technolog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ustomer Needs</a:t>
            </a:r>
            <a:endParaRPr b="1" lang="en-US" sz="3200" spc="-1" strike="noStrike">
              <a:solidFill>
                <a:srgbClr val="fafd00"/>
              </a:solidFill>
              <a:latin typeface="Arial"/>
            </a:endParaRPr>
          </a:p>
        </p:txBody>
      </p:sp>
      <p:sp>
        <p:nvSpPr>
          <p:cNvPr id="50"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UM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fort</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ighter weight</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fter</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ice &amp; Performanc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shi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lour</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ppearanc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asy-care</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1" name="PlaceHolder 3"/>
          <p:cNvSpPr>
            <a:spLocks noGrp="1"/>
          </p:cNvSpPr>
          <p:nvPr>
            <p:ph/>
          </p:nvPr>
        </p:nvSpPr>
        <p:spPr>
          <a:xfrm>
            <a:off x="4647960" y="990360"/>
            <a:ext cx="434340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INN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fort</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p specifications</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ice &amp; Performanc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p specification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lended yarn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ternate technology</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ashi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ovel yarn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ast turn-around</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asy-car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hrinkproofing or blends</a:t>
            </a:r>
            <a:endParaRPr b="1"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 name=""/>
          <p:cNvSpPr/>
          <p:nvPr/>
        </p:nvSpPr>
        <p:spPr>
          <a:xfrm>
            <a:off x="8076600" y="650700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afd00"/>
                </a:solidFill>
                <a:latin typeface="Arial"/>
              </a:rPr>
              <a:t>Processing Needs</a:t>
            </a:r>
            <a:endParaRPr b="1" lang="en-US" sz="2700" spc="-1" strike="noStrike">
              <a:solidFill>
                <a:srgbClr val="fafd00"/>
              </a:solidFill>
              <a:latin typeface="Arial"/>
            </a:endParaRPr>
          </a:p>
        </p:txBody>
      </p:sp>
      <p:sp>
        <p:nvSpPr>
          <p:cNvPr id="54" name="PlaceHolder 2"/>
          <p:cNvSpPr>
            <a:spLocks noGrp="1"/>
          </p:cNvSpPr>
          <p:nvPr>
            <p:ph/>
          </p:nvPr>
        </p:nvSpPr>
        <p:spPr>
          <a:xfrm>
            <a:off x="5181480" y="761760"/>
            <a:ext cx="3810240" cy="51814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INN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evenness &amp; tenacity</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ew stop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ame appearanc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hairines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ppearanc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fault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ery expensive</a:t>
            </a:r>
            <a:endParaRPr b="1" lang="en-US" sz="1800" spc="-1" strike="noStrike">
              <a:solidFill>
                <a:srgbClr val="ffffff"/>
              </a:solidFill>
              <a:latin typeface="Arial"/>
            </a:endParaRPr>
          </a:p>
        </p:txBody>
      </p:sp>
      <p:sp>
        <p:nvSpPr>
          <p:cNvPr id="55" name="PlaceHolder 3"/>
          <p:cNvSpPr>
            <a:spLocks noGrp="1"/>
          </p:cNvSpPr>
          <p:nvPr>
            <p:ph/>
          </p:nvPr>
        </p:nvSpPr>
        <p:spPr>
          <a:xfrm>
            <a:off x="1523880" y="838080"/>
            <a:ext cx="3810240" cy="518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ARMENT MAK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bric faults</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YER / FINISH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lou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tamination</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BRIC-MAK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ewer stop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ster production</a:t>
            </a:r>
            <a:endParaRPr b="1" lang="en-US" sz="2000" spc="-1" strike="noStrike">
              <a:solidFill>
                <a:srgbClr val="ffffff"/>
              </a:solidFill>
              <a:latin typeface="Arial"/>
            </a:endParaRPr>
          </a:p>
        </p:txBody>
      </p:sp>
      <p:sp>
        <p:nvSpPr>
          <p:cNvPr id="56" name=""/>
          <p:cNvSpPr/>
          <p:nvPr/>
        </p:nvSpPr>
        <p:spPr>
          <a:xfrm>
            <a:off x="8076600" y="650700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lative Processing Costs</a:t>
            </a:r>
            <a:endParaRPr b="1" lang="en-US" sz="3200" spc="-1" strike="noStrike">
              <a:solidFill>
                <a:srgbClr val="fafd00"/>
              </a:solidFill>
              <a:latin typeface="Arial"/>
            </a:endParaRPr>
          </a:p>
        </p:txBody>
      </p:sp>
      <p:sp>
        <p:nvSpPr>
          <p:cNvPr id="5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opmaking</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1.50</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pinning</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8.50</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eaving</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5.50</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nishing</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4.00</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pinn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latively expensiv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urce of significant cost sav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er efficiencies</a:t>
            </a:r>
            <a:endParaRPr b="1" lang="en-US" sz="2400" spc="-1" strike="noStrike">
              <a:solidFill>
                <a:srgbClr val="ffffff"/>
              </a:solidFill>
              <a:latin typeface="Arial"/>
            </a:endParaRPr>
          </a:p>
        </p:txBody>
      </p:sp>
      <p:sp>
        <p:nvSpPr>
          <p:cNvPr id="59" name=""/>
          <p:cNvSpPr/>
          <p:nvPr/>
        </p:nvSpPr>
        <p:spPr>
          <a:xfrm>
            <a:off x="8076600" y="650700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velopments in Spinning</a:t>
            </a:r>
            <a:endParaRPr b="1" lang="en-US" sz="3200" spc="-1" strike="noStrike">
              <a:solidFill>
                <a:srgbClr val="fafd00"/>
              </a:solidFill>
              <a:latin typeface="Arial"/>
            </a:endParaRPr>
          </a:p>
        </p:txBody>
      </p:sp>
      <p:sp>
        <p:nvSpPr>
          <p:cNvPr id="61" name="PlaceHolder 2"/>
          <p:cNvSpPr>
            <a:spLocks noGrp="1"/>
          </p:cNvSpPr>
          <p:nvPr>
            <p:ph/>
          </p:nvPr>
        </p:nvSpPr>
        <p:spPr>
          <a:xfrm>
            <a:off x="1295280" y="1142640"/>
            <a:ext cx="7772400" cy="487692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op Specificat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ner fibres, or lower CV</a:t>
            </a:r>
            <a:r>
              <a:rPr b="1" lang="en-GB" sz="2400" spc="-1" strike="noStrike" baseline="-25000">
                <a:solidFill>
                  <a:srgbClr val="ffffff"/>
                </a:solidFill>
                <a:latin typeface="Arial"/>
              </a:rPr>
              <a:t>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er fibr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wer fibre curvatu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a:t>
            </a:r>
            <a:r>
              <a:rPr b="1" lang="en-GB" sz="2400" spc="-1" strike="noStrike" baseline="-25000">
                <a:solidFill>
                  <a:srgbClr val="ffffff"/>
                </a:solidFill>
                <a:latin typeface="Arial"/>
              </a:rPr>
              <a:t>H</a:t>
            </a:r>
            <a:r>
              <a:rPr b="1" lang="en-GB" sz="2400" spc="-1" strike="noStrike">
                <a:solidFill>
                  <a:srgbClr val="ffffff"/>
                </a:solidFill>
                <a:latin typeface="Arial"/>
              </a:rPr>
              <a:t> limi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colou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ss contamination</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Benchmarking</a:t>
            </a:r>
            <a:endParaRPr b="1" lang="en-US" sz="2400" spc="-1" strike="noStrike">
              <a:solidFill>
                <a:srgbClr val="ffffff"/>
              </a:solidFill>
              <a:latin typeface="Arial"/>
            </a:endParaRPr>
          </a:p>
        </p:txBody>
      </p:sp>
      <p:sp>
        <p:nvSpPr>
          <p:cNvPr id="62" name=""/>
          <p:cNvSpPr/>
          <p:nvPr/>
        </p:nvSpPr>
        <p:spPr>
          <a:xfrm>
            <a:off x="8076600" y="650700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 name=""/>
          <p:cNvSpPr/>
          <p:nvPr/>
        </p:nvSpPr>
        <p:spPr>
          <a:xfrm>
            <a:off x="8076600" y="650700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ew Technology</a:t>
            </a:r>
            <a:endParaRPr b="1" lang="en-US" sz="3200" spc="-1" strike="noStrike">
              <a:solidFill>
                <a:srgbClr val="fafd00"/>
              </a:solidFill>
              <a:latin typeface="Arial"/>
            </a:endParaRPr>
          </a:p>
        </p:txBody>
      </p:sp>
      <p:sp>
        <p:nvSpPr>
          <p:cNvPr id="65"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ROCLEA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fault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ROSPU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LOSPU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ternate Technologi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ir-je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riction</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6"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roved ring spinn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r>
              <a:rPr b="1" lang="en-GB" sz="2000" spc="-1" strike="noStrike">
                <a:solidFill>
                  <a:srgbClr val="ffffff"/>
                </a:solidFill>
                <a:latin typeface="Arial"/>
              </a:rPr>
              <a:t>compact” yarn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igher speeds &amp; produc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n-line quality contro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ewer step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inking</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utomation</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IROSPUN</a:t>
            </a:r>
            <a:endParaRPr b="1" lang="en-US" sz="3200" spc="-1" strike="noStrike">
              <a:solidFill>
                <a:srgbClr val="fafd00"/>
              </a:solidFill>
              <a:latin typeface="Arial"/>
            </a:endParaRPr>
          </a:p>
        </p:txBody>
      </p:sp>
      <p:pic>
        <p:nvPicPr>
          <p:cNvPr id="68" name="siorspun%202%20foldiing" descr=""/>
          <p:cNvPicPr/>
          <p:nvPr/>
        </p:nvPicPr>
        <p:blipFill>
          <a:blip r:embed="rId1"/>
          <a:srcRect l="0" t="0" r="4928" b="0"/>
          <a:stretch/>
        </p:blipFill>
        <p:spPr>
          <a:xfrm>
            <a:off x="4581360" y="3352680"/>
            <a:ext cx="4410360" cy="1371600"/>
          </a:xfrm>
          <a:prstGeom prst="rect">
            <a:avLst/>
          </a:prstGeom>
          <a:ln w="0">
            <a:noFill/>
          </a:ln>
        </p:spPr>
      </p:pic>
      <p:sp>
        <p:nvSpPr>
          <p:cNvPr id="69" name=""/>
          <p:cNvSpPr/>
          <p:nvPr/>
        </p:nvSpPr>
        <p:spPr>
          <a:xfrm>
            <a:off x="4556160" y="1066680"/>
            <a:ext cx="42069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reak-out devices positioned above revolving spind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vice on the left in the ‘down’ position after interrupting a fault</a:t>
            </a:r>
            <a:endParaRPr b="0" lang="en-US" sz="2000" spc="-1" strike="noStrike">
              <a:solidFill>
                <a:srgbClr val="000000"/>
              </a:solidFill>
              <a:latin typeface="Times New Roman"/>
            </a:endParaRPr>
          </a:p>
        </p:txBody>
      </p:sp>
      <p:grpSp>
        <p:nvGrpSpPr>
          <p:cNvPr id="70" name=""/>
          <p:cNvGrpSpPr/>
          <p:nvPr/>
        </p:nvGrpSpPr>
        <p:grpSpPr>
          <a:xfrm>
            <a:off x="1143000" y="1060560"/>
            <a:ext cx="3425400" cy="4730760"/>
            <a:chOff x="1143000" y="1060560"/>
            <a:chExt cx="3425400" cy="4730760"/>
          </a:xfrm>
        </p:grpSpPr>
        <p:pic>
          <p:nvPicPr>
            <p:cNvPr id="71" name="sirospun%20spindles" descr=""/>
            <p:cNvPicPr/>
            <p:nvPr/>
          </p:nvPicPr>
          <p:blipFill>
            <a:blip r:embed="rId2"/>
            <a:stretch/>
          </p:blipFill>
          <p:spPr>
            <a:xfrm>
              <a:off x="1143000" y="1060560"/>
              <a:ext cx="3251160" cy="4730760"/>
            </a:xfrm>
            <a:prstGeom prst="rect">
              <a:avLst/>
            </a:prstGeom>
            <a:ln w="0">
              <a:noFill/>
            </a:ln>
          </p:spPr>
        </p:pic>
        <p:sp>
          <p:nvSpPr>
            <p:cNvPr id="72" name=""/>
            <p:cNvSpPr/>
            <p:nvPr/>
          </p:nvSpPr>
          <p:spPr>
            <a:xfrm flipH="1" flipV="1">
              <a:off x="1908360" y="2327400"/>
              <a:ext cx="2660040" cy="2984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4556160" y="4724280"/>
            <a:ext cx="4587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irospun spinning showing the binding of surface fibres into the structure</a:t>
            </a:r>
            <a:endParaRPr b="0" lang="en-US" sz="2000" spc="-1" strike="noStrike">
              <a:solidFill>
                <a:srgbClr val="000000"/>
              </a:solidFill>
              <a:latin typeface="Times New Roman"/>
            </a:endParaRPr>
          </a:p>
        </p:txBody>
      </p:sp>
      <p:sp>
        <p:nvSpPr>
          <p:cNvPr id="74" name=""/>
          <p:cNvSpPr/>
          <p:nvPr/>
        </p:nvSpPr>
        <p:spPr>
          <a:xfrm>
            <a:off x="5635080" y="6324480"/>
            <a:ext cx="3420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SIRO Wool Technology booklet,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OLOSPUN</a:t>
            </a:r>
            <a:endParaRPr b="1" lang="en-US" sz="3200" spc="-1" strike="noStrike">
              <a:solidFill>
                <a:srgbClr val="fafd00"/>
              </a:solidFill>
              <a:latin typeface="Arial"/>
            </a:endParaRPr>
          </a:p>
        </p:txBody>
      </p:sp>
      <p:sp>
        <p:nvSpPr>
          <p:cNvPr id="76" name=""/>
          <p:cNvSpPr/>
          <p:nvPr/>
        </p:nvSpPr>
        <p:spPr>
          <a:xfrm>
            <a:off x="4556160" y="628164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4587480" y="6400800"/>
            <a:ext cx="4571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DI Ltd handout, Solospun, Weavable Singles Spinning</a:t>
            </a:r>
            <a:endParaRPr b="0" lang="en-US" sz="1200" spc="-1" strike="noStrike">
              <a:solidFill>
                <a:srgbClr val="000000"/>
              </a:solidFill>
              <a:latin typeface="Times New Roman"/>
            </a:endParaRPr>
          </a:p>
        </p:txBody>
      </p:sp>
      <p:grpSp>
        <p:nvGrpSpPr>
          <p:cNvPr id="78" name=""/>
          <p:cNvGrpSpPr/>
          <p:nvPr/>
        </p:nvGrpSpPr>
        <p:grpSpPr>
          <a:xfrm>
            <a:off x="1366920" y="762120"/>
            <a:ext cx="7624080" cy="5029200"/>
            <a:chOff x="1366920" y="762120"/>
            <a:chExt cx="7624080" cy="5029200"/>
          </a:xfrm>
        </p:grpSpPr>
        <p:sp>
          <p:nvSpPr>
            <p:cNvPr id="79" name=""/>
            <p:cNvSpPr/>
            <p:nvPr/>
          </p:nvSpPr>
          <p:spPr>
            <a:xfrm>
              <a:off x="6304680" y="3392640"/>
              <a:ext cx="2686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nely Groov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lospun Rollers</a:t>
              </a:r>
              <a:endParaRPr b="0" lang="en-US" sz="2400" spc="-1" strike="noStrike">
                <a:solidFill>
                  <a:srgbClr val="000000"/>
                </a:solidFill>
                <a:latin typeface="Times New Roman"/>
              </a:endParaRPr>
            </a:p>
          </p:txBody>
        </p:sp>
        <p:pic>
          <p:nvPicPr>
            <p:cNvPr id="80" name="solospun_home2" descr=""/>
            <p:cNvPicPr/>
            <p:nvPr/>
          </p:nvPicPr>
          <p:blipFill>
            <a:blip r:embed="rId1"/>
            <a:srcRect l="0" t="1478" r="1967" b="1074"/>
            <a:stretch/>
          </p:blipFill>
          <p:spPr>
            <a:xfrm>
              <a:off x="1366920" y="762120"/>
              <a:ext cx="4267080" cy="5029200"/>
            </a:xfrm>
            <a:prstGeom prst="rect">
              <a:avLst/>
            </a:prstGeom>
            <a:ln w="0">
              <a:noFill/>
            </a:ln>
          </p:spPr>
        </p:pic>
        <p:sp>
          <p:nvSpPr>
            <p:cNvPr id="81" name=""/>
            <p:cNvSpPr/>
            <p:nvPr/>
          </p:nvSpPr>
          <p:spPr>
            <a:xfrm flipH="1">
              <a:off x="5176440" y="3581280"/>
              <a:ext cx="1143000" cy="60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IROCLEAR</a:t>
            </a:r>
            <a:endParaRPr b="1" lang="en-US" sz="3200" spc="-1" strike="noStrike">
              <a:solidFill>
                <a:srgbClr val="fafd00"/>
              </a:solidFill>
              <a:latin typeface="Arial"/>
            </a:endParaRPr>
          </a:p>
        </p:txBody>
      </p:sp>
      <p:sp>
        <p:nvSpPr>
          <p:cNvPr id="8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tects yarn faults during wind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ark fibr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M &amp; non-VM fault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uts yarn, removing faul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yarn is splice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rks on undyed yar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xpensive in terms of production efficienc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etter to remove faults at source (farm)</a:t>
            </a:r>
            <a:endParaRPr b="1" lang="en-US" sz="2400" spc="-1" strike="noStrike">
              <a:solidFill>
                <a:srgbClr val="ffffff"/>
              </a:solidFill>
              <a:latin typeface="Arial"/>
            </a:endParaRPr>
          </a:p>
        </p:txBody>
      </p:sp>
      <p:sp>
        <p:nvSpPr>
          <p:cNvPr id="84" name=""/>
          <p:cNvSpPr/>
          <p:nvPr/>
        </p:nvSpPr>
        <p:spPr>
          <a:xfrm>
            <a:off x="8076600" y="650700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4T00:08:40Z</dcterms:created>
  <dc:creator>USER</dc:creator>
  <dc:description/>
  <dc:language>en-US</dc:language>
  <cp:lastModifiedBy>Hdaily</cp:lastModifiedBy>
  <cp:lastPrinted>2000-02-03T09:09:47Z</cp:lastPrinted>
  <dcterms:modified xsi:type="dcterms:W3CDTF">2000-03-22T22:45:35Z</dcterms:modified>
  <cp:revision>6</cp:revision>
  <dc:subject/>
  <dc:title>Latest Developments in Spinning</dc:title>
</cp:coreProperties>
</file>