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F427-A9FA-4353-8EB6-DEF6A1EAD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summary of the influence and effects that wool fibre properties have on early stage processing performance and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detailed information may be available in the relevant modules for each processing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level of detergent used depends upon the type of wool being scoured.  Detergent consumption for Merino wools are about 0.6% - 0.8% on greasy weight, whereas the level of detergent used on the coarser carpet wool is about 0.3% - 0.4% on greasy weight.  This increase in detergent concentration is required due to the increase in fibre surface area (more fibres) for a given mass.  Finer Merino wools also tend to have more grease and less suint than coarser Merino woo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important that the mechanisms of the scouring process be understood and adjusted for different types of wool.  For example, if the detergent concentration in a bowl falls below a level called the critical micelle concentration, the detergent loses its emulsifying and suspending effectiven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 entanglement is a major factor causing fibre breakage in carding.  The great majority of fibre entanglement originates in the scouring process.  Unbalanced with-scale and against-scale frictional forces between wet fibres causes the fibres to entangle.  Extreme levels of entanglement are referred to as “felting”.  Since finer wool has more fibres per given mass, it follows that finer wool has a predisposition for entanglement.  Finer fibres are also more pliable than coarser fibres and therefore there is more potential for wet fibres to enfold causing entanglements.  The differing scale structure between fine and coarse wool may also play a role in entanglement differenc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taple crimp frequency and crimp definition also play a role in entanglement during scouring.  There are differing views on the role of crimp frequency in scouring but more recent work tends to indicate that increased frequency causes an increase in fibre entanglement.  However, this could be related to the association between an increase in crimp frequency and a decrease in fibre dia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oorly aligned fibres, as embodied in staples with poor definition, already have a degree of fibre entanglement, therefore there is an even greater potential for further entanglement during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ifferences in swelling and straightening on wetting and relaxation caused by differences in diameter and curvature between fibres may also contribute (P.Swan, pers. comm.).</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ndition of the scoured wool entering the card is of major importance to the final product quality.  If the scoured wool is entangled there is more specific opening energy (SOE) required to disentangle fibres from their tufts and consequently more fibre breakage.  The previous slide indicates some fibre properties which can enhance the potential for entangl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esses applied to fibres during carding result from fibre-to-fibre and fibre-to-metal frictional forces.  Any factor which increases the stress on fibres in carding increases the potential for fibre breakag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r fibres are more flexible and therefore may have an increased potential for wrapping around the clothing pins.  In fine wool lots there will be more fibres in a given mass and thus more fibre-to-fibre and fibre-to-metal interactions increasing frictional forces on the fibres and consequently increasing the possibility of fibre breakage.  As discussed previously, finer fibres also entangle more in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ps are more likely to appear in carding finer wools than coarser wools.  This fact has been supported by research where the number of neps per 100g of top increased by a factor of 4 as the micron decreased from 26 to 20.  In more recent CSIRO research it has been demonstrated that as crimp frequency increases and crimp definition improves processing performance improves thus suggesting that crimp may play a secondary role in carding parameters such as nep form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onger fibres will have greater forces exerted on them than shorter fibres of the same fibre diameter,  and therefore have a greater possibility of breaking more than once.  Weathered fibres which have been weaken by UV light and environmental factors will usually break during carding.  The same principle applies to fibres which are tender or have a point of low minimum diameter along the fibre.  These usually aren’t able to withstand the forces applied in the carding process.  These points of low minimum diameter can be the result of pregnancy, lactation or poor nutrition.  Any increase in fibre breakage during carding will increase the amount of card waste.</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variables of the gillbox may need tuning, depending on the type of wool being proc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ch setting on a gillbox is dependent on the fibre length of the input sliver.  The primary adjustment for the ratch setting is the distance between the end of the faller bars and the nip of the front rollers.  This can be adjusted to account for different mean fibre lengths; longer fibres require a longer ratch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ft that a sliver can undergo is dependent on the fibre length also.  Shorter wools may require lower drafts to maintain sliver cohesion.  The usual correlation between fibre diameter and fibre length means that this reasoning can also apply to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ontrol during drafting is maintained by fibre / pin interaction.  As the fibre diameter of the fibres decreases then the number of fibres per dent (gap between pins) increases (i.e. fibre/pin interaction decreases).  This means that finer wool may need higher gauge pins (more pins per length) for adequate fibre control in worsted gilling.  In practice, the feed loading may be reduced for wools of finer diameter, rather than changing pin density.  This means that gills can be less productive running finer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quite common to run combs slower in order to improve the quality of the combed sliver.  This applies particularly to finer wool, which is a more expensive raw material.  Slower running speeds can mean that finer wools cost more to comb than coarser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 feed loading is also dependent on fibre diameter.  The principle is again the amount of fibre/pin interaction at lower diameters.  If the same feed loading was maintained, then there would be less fibre control with finer diameter wool (more fibres per pin spac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lines set up specifically for finer wools may have a top/front comb with more teeth than that used in medium or coarse wool combing.  Again, the principle of the amount of fibre/pin interaction app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r wools have a greater potential for nep formation in previous operations.  Since neps are removed as noil in the combing process, finer wool batches may have a higher romaine or waste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not all short fibres below the gauge setting are removed in combing, even though this is the principle aim.  Combs are not 100% efficient.  The percentage of short fibres in the input slivers to the comb will influence the amount of noil produced, and also the % short fibres in the top.  The higher the short fibre content of the input, the greater the % of short fibres in the output, and consequently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cept is also true for VM content.  The higher the VM content in the input slivers, the greater the VM contamination of the top.  It is estimated that about 4% of particles &lt;3mm will get through the com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 yarns require fine fibres.  Fibre diameter is the primary determinant in the number of fibres in the yarn cross-section for a given yarn linear density.  The lower limit of the mean number of fibres in the yarn cross-section is approximately 35 for commercial ring spinning.  Below this limit, inefficiencies due to stoppages caused by yarn breaks (ends-down) make production uneconomical.  The numbers of fibres in the cross-section also influences the evenness of the yar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has been found that a change in the coefficient of fibre diameter of 5 % is equivalent to a change of 1µm in mean diameter.  For example, if a wool with a diameter of 21µm and CVD of 20%, and wool of diameter 20 µm and 25%CVD were compared, there would be negligible difference in yarn and fabric properties, spinning performance or next-to-skin comfor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Yarns produced from wool of lower fibre crimp frequency have been shown to be more even than those made from wool with higher crimp frequency.  This may be because highly crimped fibres draft less evenly.  However, some level of crimp is required to give sufficient sliver cohesion in earlier processes.  This is clearly so, since synthetic fibre manufacturers impart a degree of crimp to their staple fibres.  It should be noted that yarns made from lower crimped wool are less bulky than those made from similar higher crimped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verage fibre length (Hauteur) has a measurable effect on yarn evenness and a significant effect on yarn tenacity and elongation and spinning efficiency as measured by ends-down.  The magnitude of the effects is inconclusive as it has been shown that these properties are also affected by the variation in length and the measured variation in fibre strength between tops.  In principle it appears that, for ring spinning, a longer Hauteur is better if the machinery is set accordingly.  Trials are currently underway looking at the spinning performance and product quality of yarns spun from longer-Hauteur top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istribution of fibre length has long been held to have a optimum value of about 50% for wool tops; spinner’s request this in their specifications.  Recent work suggests this is not the case.  Some variation is necessary for drafting.  Between 10 and 30% is imparted to synthetic fibres during staple manufacture from continuous filaments, depending on the conversion proces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Processing</a:t>
            </a:r>
            <a:br>
              <a:rPr sz="3200"/>
            </a:b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 Auer and Ms. L.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cour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 (decreas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detergent concentration required</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urface area</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 possibl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increase)</a:t>
            </a:r>
            <a:endParaRPr b="1" lang="en-US" sz="28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sociated with diameter decrease</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 (increas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entanglement</a:t>
            </a:r>
            <a:endParaRPr b="1"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Worsted Car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reakage</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ED wool properties MOST important</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fibres break more easily</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nger fibres have more chance to break</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thered fibres usually  break</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 Form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fibres are more flexible</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 may be secondary effect</a:t>
            </a:r>
            <a:endParaRPr b="1" lang="en-US" sz="20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 Waste (fibre lo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longer fibres break mo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thered fibres contribute to card waste</a:t>
            </a:r>
            <a:endParaRPr b="1" lang="en-US" sz="2000" spc="-1" strike="noStrike">
              <a:solidFill>
                <a:srgbClr val="ffffff"/>
              </a:solidFill>
              <a:latin typeface="Arial"/>
            </a:endParaRPr>
          </a:p>
        </p:txBody>
      </p:sp>
      <p:sp>
        <p:nvSpPr>
          <p:cNvPr id="55"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Gilling</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ad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a:t>
            </a:r>
            <a:endParaRPr b="1" lang="en-US" sz="2400" spc="-1" strike="noStrike">
              <a:solidFill>
                <a:srgbClr val="ffffff"/>
              </a:solidFill>
              <a:latin typeface="Arial"/>
            </a:endParaRPr>
          </a:p>
        </p:txBody>
      </p:sp>
      <p:sp>
        <p:nvSpPr>
          <p:cNvPr id="58"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Combing</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 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loading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nt comb pin densi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 form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egetable Mat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in, more out</a:t>
            </a:r>
            <a:endParaRPr b="1" lang="en-US" sz="2400" spc="-1" strike="noStrike">
              <a:solidFill>
                <a:srgbClr val="ffffff"/>
              </a:solidFill>
              <a:latin typeface="Arial"/>
            </a:endParaRPr>
          </a:p>
        </p:txBody>
      </p:sp>
      <p:sp>
        <p:nvSpPr>
          <p:cNvPr id="61"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pinning</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limit (~35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fibres in yarn X-se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s-down during 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distribu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to - 1 rul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4876920" y="838080"/>
            <a:ext cx="40384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rimp (low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even yar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bulk is lower</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tena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long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 distribu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flict</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tr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ds-down</a:t>
            </a:r>
            <a:endParaRPr b="1" lang="en-US" sz="2000" spc="-1" strike="noStrike">
              <a:solidFill>
                <a:srgbClr val="ffffff"/>
              </a:solidFill>
              <a:latin typeface="Arial"/>
            </a:endParaRPr>
          </a:p>
        </p:txBody>
      </p:sp>
      <p:sp>
        <p:nvSpPr>
          <p:cNvPr id="65"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bliography</a:t>
            </a:r>
            <a:endParaRPr b="1" lang="en-US" sz="3200" spc="-1" strike="noStrike">
              <a:solidFill>
                <a:srgbClr val="fafd00"/>
              </a:solidFill>
              <a:latin typeface="Arial"/>
            </a:endParaRPr>
          </a:p>
        </p:txBody>
      </p:sp>
      <p:sp>
        <p:nvSpPr>
          <p:cNvPr id="6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unter, L. (1980), The Effects of Wool Fibre Properties on Processing Performance and Yarn and Fabric Properties, Proc. 6th Quinquennial International Wool Textile Research Conf., Pretoria,Vol III</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rious papers from the proceedings of a Symposium “Wool Scouring and Worsted Carding: New Approaches”, CSIRO Division of Textile Industry, Geelong, 1986.</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mb, P.R. &amp; Yang, S. (1994), “The Effect of Wool Properties on Spinning Performance and Yarn Properties”, in seminar proceedings of Woolspec 94.</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on Bergen, W. (1969), “Wool Handbook”, vol. II, part 1.</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rious papers from “Top-Tech ‘96”, CSIRO seminar, 1996.</a:t>
            </a:r>
            <a:endParaRPr b="1" lang="en-US" sz="1800" spc="-1" strike="noStrike">
              <a:solidFill>
                <a:srgbClr val="ffffff"/>
              </a:solidFill>
              <a:latin typeface="Arial"/>
            </a:endParaRPr>
          </a:p>
        </p:txBody>
      </p:sp>
      <p:sp>
        <p:nvSpPr>
          <p:cNvPr id="68"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13:05Z</dcterms:created>
  <dc:creator>USER</dc:creator>
  <dc:description/>
  <dc:language>en-US</dc:language>
  <cp:lastModifiedBy>Hdaily</cp:lastModifiedBy>
  <cp:lastPrinted>2000-02-03T09:09:47Z</cp:lastPrinted>
  <dcterms:modified xsi:type="dcterms:W3CDTF">2000-03-16T02:04:49Z</dcterms:modified>
  <cp:revision>4</cp:revision>
  <dc:subject/>
  <dc:title>No Slide Title</dc:title>
</cp:coreProperties>
</file>