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676160" y="533520"/>
            <a:ext cx="34290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3505320"/>
            <a:ext cx="5943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D2066-A0D8-4FD3-A58F-9E5FAF10AE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562040" y="5335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3505320"/>
            <a:ext cx="5943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is module is included as a “snapshot” of some other fibres that compete against wool.  It is not intended to be a complete list, just a quick look at some information on the Intern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Produced for the CRC for Premium Quality Wool undergraduate program by Dr. Peter Auer, The University of New South Wa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562040" y="5335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3505320"/>
            <a:ext cx="5943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Written by: Dr. Peter Auer, The University of New South Wa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Source: http://www.dupont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Coolmax™ is a specially profiled nylon fibre developed by Dupont.  It has been rated as the fastest drying fibre, interestingly not against wo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he four channel profile of the fibre is designed to increase the “wicking” behaviour of the fibre, and pull moisture away from the body as it swe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562040" y="5335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3505320"/>
            <a:ext cx="5943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Written by: Dr. Peter Auer, The University of New South Wa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Source: http://www.damart.com/DAMART/uk/tex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Another competing fibre in the active wear market is marketed as Thermolactyl™ by Damart, a French company founded in 185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hermolactyl™ was developed in the 1950’s, and is most likely to be a textured nylon fibre, although this wasn’t clear from the sour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Products are claimed to be cold and damp-proof because of barrier and moisture transmission prope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562040" y="5335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3505320"/>
            <a:ext cx="5943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Written by: Dr. Peter Auer, The University of New South Wa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Source: http://www.damart.com/DAMART/uk/tex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An interesting feature of this fibre is the claim that it generates warmth through the device of static electricity, or charge sepa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562040" y="5335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457200" y="3505320"/>
            <a:ext cx="5943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Written by: Dr. Peter Auer, The University of New South Wa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Source: http://www.damart.com/DAMART/uk/tex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As with Coolmax™, the drying time of this fibre is promoted, but again it is not compared to wo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562040" y="5335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3505320"/>
            <a:ext cx="5943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Written by: Dr. Peter Auer, The University of New South Wa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Source: http://www.damart.com/DAMART/uk/tex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hermolactyl™ is claimed to conserve more heat than either wool or cott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95280" y="354456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796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95280" y="35445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7960" y="35445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23280" y="8380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50920" y="8380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95280" y="35445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23280" y="35445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50920" y="35445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95280" y="8380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7960" y="8380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92468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7960" y="8380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95280" y="35445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7960" y="35445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95280" y="354456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50000">
              <a:srgbClr val="006ed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5280" y="8380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af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20760" y="6583320"/>
            <a:ext cx="161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www.woolwi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idebar" descr=""/>
          <p:cNvPicPr/>
          <p:nvPr/>
        </p:nvPicPr>
        <p:blipFill>
          <a:blip r:embed="rId2"/>
          <a:stretch/>
        </p:blipFill>
        <p:spPr>
          <a:xfrm>
            <a:off x="0" y="0"/>
            <a:ext cx="11145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50000">
              <a:srgbClr val="006ed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193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afd00"/>
                </a:solidFill>
                <a:latin typeface="Arial"/>
              </a:rPr>
              <a:t>Competing Fibres on the Internet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19320" y="510552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Produced for the CRC for Premium Quality Wool undergraduate program 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Dr. Peter Auer, The University of New South Wa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50000">
              <a:srgbClr val="006ed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afd00"/>
                </a:solidFill>
                <a:latin typeface="Arial"/>
              </a:rPr>
              <a:t>CoolMax</a:t>
            </a:r>
            <a:r>
              <a:rPr b="1" lang="en-AU" sz="3200" spc="-1" strike="noStrike" baseline="30000">
                <a:solidFill>
                  <a:srgbClr val="fafd00"/>
                </a:solidFill>
                <a:latin typeface="Arial"/>
              </a:rPr>
              <a:t>TM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fastest dry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not rated against woo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pulls sweat wa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designed to breath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coolmax_fabric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6019920" y="914400"/>
            <a:ext cx="2824200" cy="5029200"/>
          </a:xfrm>
          <a:prstGeom prst="rect">
            <a:avLst/>
          </a:prstGeom>
          <a:ln w="0">
            <a:noFill/>
          </a:ln>
        </p:spPr>
      </p:pic>
      <p:pic>
        <p:nvPicPr>
          <p:cNvPr id="52" name="detail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1371600" y="297180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841440" y="6400800"/>
            <a:ext cx="230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afd00"/>
                </a:solidFill>
                <a:latin typeface="Arial"/>
              </a:rPr>
              <a:t>Peter Au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afd00"/>
                </a:solidFill>
                <a:latin typeface="Arial"/>
              </a:rPr>
              <a:t>Source: http://www.dupont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50000">
              <a:srgbClr val="006ed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afd00"/>
                </a:solidFill>
                <a:latin typeface="Arial"/>
              </a:rPr>
              <a:t>How Thermolactyl Work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55" name="thermo1zoom" descr=""/>
          <p:cNvPicPr/>
          <p:nvPr/>
        </p:nvPicPr>
        <p:blipFill>
          <a:blip r:embed="rId1"/>
          <a:srcRect l="0" t="19917" r="0" b="0"/>
          <a:stretch/>
        </p:blipFill>
        <p:spPr>
          <a:xfrm>
            <a:off x="1905120" y="785880"/>
            <a:ext cx="6629400" cy="5310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570280" y="6324480"/>
            <a:ext cx="3577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afd00"/>
                </a:solidFill>
                <a:latin typeface="Arial"/>
              </a:rPr>
              <a:t>Peter Au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afd00"/>
                </a:solidFill>
                <a:latin typeface="Arial"/>
              </a:rPr>
              <a:t>Source: http://www.damart.com/DAMART/uk/tex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50000">
              <a:srgbClr val="006ed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triboelectricity" descr=""/>
          <p:cNvPicPr/>
          <p:nvPr/>
        </p:nvPicPr>
        <p:blipFill>
          <a:blip r:embed="rId1"/>
          <a:stretch/>
        </p:blipFill>
        <p:spPr>
          <a:xfrm>
            <a:off x="2133720" y="228600"/>
            <a:ext cx="5943600" cy="5943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493960" y="6354720"/>
            <a:ext cx="3577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afd00"/>
                </a:solidFill>
                <a:latin typeface="Arial"/>
              </a:rPr>
              <a:t>Peter Au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afd00"/>
                </a:solidFill>
                <a:latin typeface="Arial"/>
              </a:rPr>
              <a:t>Source: http://www.damart.com/DAMART/uk/tex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50000">
              <a:srgbClr val="006ed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odium" descr=""/>
          <p:cNvPicPr/>
          <p:nvPr/>
        </p:nvPicPr>
        <p:blipFill>
          <a:blip r:embed="rId1"/>
          <a:stretch/>
        </p:blipFill>
        <p:spPr>
          <a:xfrm>
            <a:off x="1905120" y="212760"/>
            <a:ext cx="6248160" cy="59594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417640" y="6324480"/>
            <a:ext cx="3577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afd00"/>
                </a:solidFill>
                <a:latin typeface="Arial"/>
              </a:rPr>
              <a:t>Peter Au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afd00"/>
                </a:solidFill>
                <a:latin typeface="Arial"/>
              </a:rPr>
              <a:t>Source: http://www.damart.com/DAMART/uk/tex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50000">
              <a:srgbClr val="006ed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resist" descr=""/>
          <p:cNvPicPr/>
          <p:nvPr/>
        </p:nvPicPr>
        <p:blipFill>
          <a:blip r:embed="rId1"/>
          <a:stretch/>
        </p:blipFill>
        <p:spPr>
          <a:xfrm>
            <a:off x="1905120" y="228600"/>
            <a:ext cx="6476760" cy="5896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493960" y="6324480"/>
            <a:ext cx="3577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afd00"/>
                </a:solidFill>
                <a:latin typeface="Arial"/>
              </a:rPr>
              <a:t>Peter Au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afd00"/>
                </a:solidFill>
                <a:latin typeface="Arial"/>
              </a:rPr>
              <a:t>Source: http://www.damart.com/DAMART/uk/tex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5T03:55:12Z</dcterms:created>
  <dc:creator>USER</dc:creator>
  <dc:description/>
  <dc:language>en-US</dc:language>
  <cp:lastModifiedBy>Hdaily</cp:lastModifiedBy>
  <cp:lastPrinted>2000-02-03T09:09:47Z</cp:lastPrinted>
  <dcterms:modified xsi:type="dcterms:W3CDTF">2000-05-12T04:16:32Z</dcterms:modified>
  <cp:revision>2</cp:revision>
  <dc:subject/>
  <dc:title>Competing Fibres on the Internet</dc:title>
</cp:coreProperties>
</file>