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676160" y="53352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39CA-2970-40BD-B7DB-227DDE53C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module presents examples of recent developments in synthetic fibre technology as applied to consumer apparel produ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roduced for the CRC for Premium Quality Wool undergraduate program by 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Okamoto, M. &amp; Kajiwara, K. (1995), Engineering Future Products: Prospects for Applications for the New Materials and Processing, Proc. 76th World Conference of the Textile Institute, The Textile Institute, p. 3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development of various fibre profiles has been driven by the need to develop fabrics with different handle characteristics.  Initially nylon and polyester fibres had a round X-section.  Altering this changed the bending properties of the fib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ritten by: Dr. Peter Auer, The University of New South W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Okamoto, M. &amp; Kajiwara, K. (1995), Engineering Future Products: Prospects for Applications for the New Materials and Processing, Proc. 76th World Conference of the Textile Institute, The Textile Institute, p. 3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production of the fibres in these examples has utilised various methods to achieve ultra-fine filaments.  Each method produces fibres with different X-sectional shape, different textures, and different linear dens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following slides contain </a:t>
            </a:r>
            <a:r>
              <a:rPr b="0" lang="en-AU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 scales which give a idea of the extent of the diameter reductions achieved with this technology.  Generally, the fibre profile and production method is evident from the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Okamoto, M. &amp; Kajiwara, K. (1995), Engineering Future Products: Prospects for Applications for the New Materials and Processing, Proc. 76th World Conference of the Textile Institute, The Textile Institute, p. 3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Okamoto, M. &amp; Kajiwara, K. (1995), Engineering Future Products: Prospects for Applications for the New Materials and Processing, Proc. 76th World Conference of the Textile Institute, The Textile Institute, p. 3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Okamoto, M. &amp; Kajiwara, K. (1995), Engineering Future Products: Prospects for Applications for the New Materials and Processing, Proc. 76th World Conference of the Textile Institute, The Textile Institute, p. 3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Okamoto, M. &amp; Kajiwara, K. (1995), Engineering Future Products: Prospects for Applications for the New Materials and Processing, Proc. 76th World Conference of the Textile Institute, The Textile Institute, p. 3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562040" y="5335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3505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ource: Okamoto, M. &amp; Kajiwara, K. (1995), Engineering Future Products: Prospects for Applications for the New Materials and Processing, Proc. 76th World Conference of the Textile Institute, The Textile Institute, p. 3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328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0920" y="83808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328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0920" y="3544560"/>
            <a:ext cx="250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9246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7960" y="354456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8080"/>
            <a:ext cx="3792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3544560"/>
            <a:ext cx="7772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20760" y="6583320"/>
            <a:ext cx="161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ww.woolwi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idebar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Competing Fibres</a:t>
            </a:r>
            <a:br>
              <a:rPr sz="3200"/>
            </a:b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“Shingosen”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Produced for the CRC for Premium Quality Wool undergraduate program 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Dr. Peter Auer, The University of New South W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Profiles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0" name="nonO_Xsection" descr=""/>
          <p:cNvPicPr/>
          <p:nvPr/>
        </p:nvPicPr>
        <p:blipFill>
          <a:blip r:embed="rId1"/>
          <a:stretch/>
        </p:blipFill>
        <p:spPr>
          <a:xfrm>
            <a:off x="1981080" y="958680"/>
            <a:ext cx="6324840" cy="511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83480" y="6494400"/>
            <a:ext cx="31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Okamoto, M. &amp; Kajiwara, K. (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Ultra-fine filament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3" name="uf_4types" descr=""/>
          <p:cNvPicPr/>
          <p:nvPr/>
        </p:nvPicPr>
        <p:blipFill>
          <a:blip r:embed="rId1"/>
          <a:stretch/>
        </p:blipFill>
        <p:spPr>
          <a:xfrm>
            <a:off x="1905120" y="911160"/>
            <a:ext cx="6553080" cy="541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83480" y="6494400"/>
            <a:ext cx="31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Okamoto, M. &amp; Kajiwara, K. (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1447920"/>
            <a:ext cx="28958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Suede-type artificial leather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6" name="uf_leather" descr=""/>
          <p:cNvPicPr/>
          <p:nvPr/>
        </p:nvPicPr>
        <p:blipFill>
          <a:blip r:embed="rId1"/>
          <a:stretch/>
        </p:blipFill>
        <p:spPr>
          <a:xfrm>
            <a:off x="4495680" y="304920"/>
            <a:ext cx="4357800" cy="6086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83480" y="6494400"/>
            <a:ext cx="31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Okamoto, M. &amp; Kajiwara, K. (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1676160"/>
            <a:ext cx="2971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Peach Skin Type Shingose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9" name="uts" descr=""/>
          <p:cNvPicPr/>
          <p:nvPr/>
        </p:nvPicPr>
        <p:blipFill>
          <a:blip r:embed="rId1"/>
          <a:srcRect l="0" t="0" r="0" b="2631"/>
          <a:stretch/>
        </p:blipFill>
        <p:spPr>
          <a:xfrm>
            <a:off x="4343400" y="228600"/>
            <a:ext cx="4676760" cy="6172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883480" y="6494400"/>
            <a:ext cx="31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Okamoto, M. &amp; Kajiwara, K. (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1523880"/>
            <a:ext cx="2743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New Silky Type Shingose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62" name="sillook" descr=""/>
          <p:cNvPicPr/>
          <p:nvPr/>
        </p:nvPicPr>
        <p:blipFill>
          <a:blip r:embed="rId1"/>
          <a:stretch/>
        </p:blipFill>
        <p:spPr>
          <a:xfrm>
            <a:off x="4495680" y="136440"/>
            <a:ext cx="4419720" cy="6188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959440" y="6570720"/>
            <a:ext cx="31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Okamoto, M. &amp; Kajiwara, K. (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malor" descr=""/>
          <p:cNvPicPr/>
          <p:nvPr/>
        </p:nvPicPr>
        <p:blipFill>
          <a:blip r:embed="rId1"/>
          <a:srcRect l="3126" t="0" r="0" b="2947"/>
          <a:stretch/>
        </p:blipFill>
        <p:spPr>
          <a:xfrm>
            <a:off x="4419720" y="0"/>
            <a:ext cx="4724280" cy="6172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676520"/>
            <a:ext cx="2743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New Spun Type Shingosen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83480" y="6494400"/>
            <a:ext cx="31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Okamoto, M. &amp; Kajiwara, K. (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eo" descr=""/>
          <p:cNvPicPr/>
          <p:nvPr/>
        </p:nvPicPr>
        <p:blipFill>
          <a:blip r:embed="rId1"/>
          <a:stretch/>
        </p:blipFill>
        <p:spPr>
          <a:xfrm>
            <a:off x="4781520" y="285840"/>
            <a:ext cx="4362480" cy="6191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00200" y="2057400"/>
            <a:ext cx="2743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afd00"/>
                </a:solidFill>
                <a:latin typeface="Arial"/>
              </a:rPr>
              <a:t>Dry Touch Type Shingo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83480" y="6494400"/>
            <a:ext cx="31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afd00"/>
                </a:solidFill>
                <a:latin typeface="Arial"/>
              </a:rPr>
              <a:t>Source: Okamoto, M. &amp; Kajiwara, K. (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74f"/>
            </a:gs>
            <a:gs pos="50000">
              <a:srgbClr val="006ed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afd00"/>
                </a:solidFill>
                <a:latin typeface="Arial"/>
              </a:rPr>
              <a:t>Major Reference</a:t>
            </a:r>
            <a:endParaRPr b="1" lang="en-US" sz="32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8380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Okamoto, M. &amp; Kajiwara, K. (1995), Engineering Future Products: Prospects for Applications for the New Materials and Processing, Proc. 76th World Conference of the Textile Institute, The Textile Institu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02:32:05Z</dcterms:created>
  <dc:creator>Peter Auer</dc:creator>
  <dc:description/>
  <dc:language>en-US</dc:language>
  <cp:lastModifiedBy>Hdaily</cp:lastModifiedBy>
  <cp:lastPrinted>2000-02-03T09:09:47Z</cp:lastPrinted>
  <dcterms:modified xsi:type="dcterms:W3CDTF">2000-03-21T03:53:05Z</dcterms:modified>
  <cp:revision>2</cp:revision>
  <dc:subject/>
  <dc:title>Competing Fibres “Shingosen”</dc:title>
</cp:coreProperties>
</file>