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C940-16F6-4D62-BBB6-F95ECC8F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5A3-EDD1-4BF7-B211-F68747D1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E098-4F76-426E-8646-F5DFEF6C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18B-CB2C-4333-98FD-BB6C6F39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4821-F5E4-49BD-B96C-E28EDCF1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7DC-E99B-4282-8EFE-EF892A37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B6B-63C8-475D-B527-495EABB6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BCC-21F1-49CC-83F4-771EA880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8358-4FDD-45AF-A848-61B80357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D66D-973F-495C-A4DD-279D132F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24D-A110-483F-8F50-74466BF3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92A-4718-4C61-A28A-1237405B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ABDF-7254-421A-AC40-99DB144BA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PR350/450 Managing the Commercial Sheep Enterpri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950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opic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422928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Use of Discounted Cash Flow Analysis in the Sheep Enterp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material prepared by Euan Fleming and David Co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1640" y="115920"/>
            <a:ext cx="6659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Criteria for DCF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ree popular criteria are used in DCF analysis, each with its own advantages and dis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et present value (NP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ternal rate of return (IR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enefit-cost ratio (BC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usually insufficient capital to invest in all profitable alternatives on the farm, so one or more must be selected from thos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ives ranked by the three main criteria might give differen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1640" y="115920"/>
            <a:ext cx="6659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Criteria for DCF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t-offs, in terms of whether a particular investment is accepted or rejected, are the same for all thre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he acceptable investment alternatives could be ranked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t is desirable to use all three measures, and most available software will generate all 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t is useful for an analyst to have in-house expertise on these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1159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Criteria for DCF analysis: NP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net present value (NPV) criterion is equal to the present value of benefits minus the present value of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ent value of a future outcom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V = Σ(X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* WT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ere PV is the present value, X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is a cash inflow received or cash outflow paid in time period t, and WT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is the weight for time period t (where t is normally taken to be a year for a long-term invest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te that WT is equivalent to 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920" y="1159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Criteria for DCF analysis: NP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NPV criterion is the preferred measure to use because it is mathematically the soundest measure and is easy to understand once cash inflows and outflows are expressed in present-da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ut there are circumstances when it is inferior to other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particular, it is less convenient when the farmer has a fixed budg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as to decide between alternative farm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Criteria for DCF analysis: IR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internal rate of return (IRR) is the discount rate at which the present value of benefits equals the present value of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at is, it is the rate that applies when the NPV equals zer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 can be calculated directly us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relationship between the NPV and IRR is shown 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gure on the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Criteria for DCF analysis: IR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0" y="914400"/>
          <a:ext cx="9144000" cy="6037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Criteria for DCF analysis: IR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point A, NP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considerably greater than zero, and so the IRR is clearly going to be greater than the discount rate 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point B, NP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lower but still greater than zero, and so the IRR will also be greater than the discount rate 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point D, NP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s declined to a negative value, which means that the IRR must be higher than 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PV is exactly equal to zero at point C and so the IRR has now been identified as 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Criteria for DCF analysis: IR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IRR is a useful and widely applied method that is readily understood by farmers as a rate of return on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ut there are problems with its calculation for particular streams of cash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irst, there might be more than one internal rate of return for an investment alternative, particularly with unconventional cash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, the IRR can be unstable at high rates of return, leading to incorrect investment deci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Criteria for DCF analysis: IR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lso, the IRR will not yield an estimate if there is no period with a negative net cash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ut it does allow comparison of projects of differen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Criteria for DCF analysis: B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benefit-cost ratio (BCR) is the ratio of the present value of benefits to the present value of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the earlier figure, it is greater than 1 f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P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P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 and less than one f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P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t exactly equals one when NPV is equal to zero and the IRR is i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BCR is a reliable criterion to maximise net returns with a fixed capital budget, but it can sometimes provide incorrect decisions in the comparison of mutually exclusive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at is discounted cash flow analy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eriod selected for a DCF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iscount rate and discount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iteria for DCF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dentifying inflows and out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corporating risk in DCF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ase study: valuing live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ase study: disease outbrea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study: research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Identifying inflows and outfl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outputs derived from an investment in a sheep enterprise are measured as the changes in total outputs on the farm brought about by the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se changes should be recorded for the length of the investmen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puts used in an investment in the enterprise are measured as the changes in total inputs on the farm brought about by the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se changes should also be recorded for the length of the investmen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Identifying inflows and outfl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measuring changes in both outputs and inputs, a common error is to confuse the ‘without’ situation with no change from the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re are usually influences causing changes in inputs and outputs exogenous to the investment being analysed that need to be incorporated in the ‘without’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‘without’ situation might be better than the present situation (e.g. genetic improvements are taking place in the industry) or worse (e.g. wool prices are expected to decre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Identifying inflows and outfl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private cost of a good or service used as an input in an investment in a sheep enterprise reflects the willingness to pay by the far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imilarly, the private benefit of an output produced in a sheep enterprise reflects the willingness of the buyer to pay for the farmer’s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se private costs and benefits are typically market prices for use in a DCF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unk costs have already been incurred, and should be excluded from th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Identifying inflows and outfl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t is often important to take into account any significant unpriced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y are outcomes that do not have a market price but which affect the farmer’s welf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y should be included in the analysis of an investment 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Various methods exist that could be used to make these valuations, but you are not required to know them in this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corporating risk in DCF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ot all farm investments have the same level of certainty of outcome, and many farmers are risk-a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o it is advisable for a farmer to take into account any risks associated with these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ong-term investments on the farm are particularly prone to uncertain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naging risk on sheep farms is quite a complex undertaking that is dealt with in detail in Topic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ase study 1: valuing live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comparative economic value of flock and stud rams can be calculated using selection index theory in combination with other algebraic techniques, including dis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are given in the Notes of how to use discounting when calculating ram values based on the expected future returns of the prog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n estimated breeding value (EBV) for an animal is the estimate of that animal's genetic worth for a particular trait or index of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t can be expressed in physical units or as deviations from a flock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ase study 2: disease outbrea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 second case study in the Notes is estimation of the expected value of losses from a disease out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 begin with, a probability distribution of disease outbreaks occurring over the relevant planning period has to be esti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n the estimated cost of the outbreak is multiplied by the probability of it occurring during 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ase study 3: evaluating R&amp;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1235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 third case study in the Notes is the evaluation of the returns from research and development (R&amp;D) in the sheep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ocedures can be decomposed into seven steps representing components for typical agricultural R&amp;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 typical set of seven steps follow on the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ase study 3: evaluating R&amp;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dentify and describe the best estimate or estimates of outcomes from the R&amp;D and the ‘without’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stimate net benefits per unit for each industry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lculate the potential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ccount for the probability of realising each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ccount for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ccount for R&amp;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nvert dollars of different years to pres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is discounted cash flow analy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time-value of money can be looked at from two points of vie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n investor, recognising that there is an opportunity cost of capital, or the best alternative use to which money could be 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 consumer, who has time preferences – he or she would prefer to consume now rather than have to wait until some time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is discounted cash flow analy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13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iscounted cash flow (DCF) analysis is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a set of alternative investments whose expected future cash flows have been discounted to their present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CF is widely used where the impacts of an investment, or series of investments, extend over a long period (typically many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need to express all cash flows in present value terms arises from the time-value of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Period selected for a DCF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nsider an investment on a sheep property that provides benefits decades into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wo rules of thumb are commonly used to define the term of the analys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hoose the length of time until the major fixed asset purchased in the investment requires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ny values extending beyond about 40 years will be trivial when discounted to present values, so choose this period as the maximum term for any analys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Selecting the discount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 discount rate is defined as 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ate of compound interest at which future cash flows are adjusted to their equivalent current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a perfectly operating financial market, the opportunity cost of capital should equal the individual time preferenc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ne problem is in deciding which of many interest rates or rates of returns on investments in Australian financial markets to cho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Selecting the discount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 second problem is that virtually all interest rates and rates of returns on investments in Australian financial markets contain a risk prem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 risk premium 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asure of the combined effects of risk and risk aversion (the willingness to forgo some expected return for a reduction in risk) on the return required by an inve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discount rate chosen for DCF analysis should be close to a risk-free long-term rate, such as a corporate bond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Selecting the discount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discount rate should be purged of any inflationary element and expressed in real values (where the purchasing power of money is held const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e can calculate a real interest rate (approximately)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 = r + f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ere i is the real interest rate, r is the market interest rate, and f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is the expected inflation rate over the term of the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Selecting the discount fa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discount factor (DF) 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umber used to convert future cash flows to their equivalent current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derived from the real discount rate (i), using the following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F = 1/(1+ i)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ere n is the number of years into the future over which the cash flow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discount factor must lie between zero and one, where one would be the discount factor used for cash flows in the curren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9:00:24Z</dcterms:created>
  <dc:creator>Euan Fleming</dc:creator>
  <dc:description/>
  <dc:language>en-US</dc:language>
  <cp:lastModifiedBy>Peter Sommerville</cp:lastModifiedBy>
  <dcterms:modified xsi:type="dcterms:W3CDTF">2013-01-19T05:36:17Z</dcterms:modified>
  <cp:revision>21</cp:revision>
  <dc:subject/>
  <dc:title>Slide 1</dc:title>
</cp:coreProperties>
</file>