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A65B1-75E7-450A-B5F4-B45894D87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5F01-7EC9-424E-8850-485DE6840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60595-0142-4108-9797-4C50D615A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8A39-D2BD-46A6-89B5-DF1BD27AF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DBC65-DF7F-4208-8358-44571282E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931B-FD4B-4463-AC9F-E4EE50F3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08A53-FA28-4CE0-B2C6-D628C857F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55740-E481-44E8-B00A-0D48B9AB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C783F-3BE4-4597-A8DC-2B658EAA2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1911-B21A-45BF-A1C3-22F2D571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1782-6C77-4DAC-B5A4-C5C0A524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387B-63B1-4C66-BEF4-156758A55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6273-CF69-49B4-9279-770189D43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6</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076640"/>
            <a:ext cx="9144000" cy="190512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urrent Economic Research Issues in the Sheep Industry</a:t>
            </a:r>
            <a:endParaRPr b="0" lang="en-US" sz="3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Bob Richard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61" name="PlaceHolder 2"/>
          <p:cNvSpPr>
            <a:spLocks noGrp="1"/>
          </p:cNvSpPr>
          <p:nvPr>
            <p:ph/>
          </p:nvPr>
        </p:nvSpPr>
        <p:spPr>
          <a:xfrm>
            <a:off x="539640" y="1628640"/>
            <a:ext cx="8136000" cy="4392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is probably the only Australian rural export facing a downward-sloping international demand function due to the large share we have of world production and international trade (see Topic 2)</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mb, in contrast, has historically been mainly consumed in the domestic market and we are a small player in world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63" name="PlaceHolder 2"/>
          <p:cNvSpPr>
            <a:spLocks noGrp="1"/>
          </p:cNvSpPr>
          <p:nvPr>
            <p:ph/>
          </p:nvPr>
        </p:nvSpPr>
        <p:spPr>
          <a:xfrm>
            <a:off x="539640" y="1557000"/>
            <a:ext cx="8136000" cy="4319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til the early 1990s, there were three major arms of the integrated marketing strategy that required economic analysis:</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tutory price intervention through the Reserve Price Scheme (RPS)</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ternational wool promotion based on the Woolmark through the International Wool Secretariat (IWS)</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R&amp;D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3">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63">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63">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65"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unravelling of integrated marketing strategies resulted from excessive political intervention in the wool industr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three strategies were funded by compulsory taxes on shorn wool sales and varying levels of government subsidy were provid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policies affected the whole sheep industry but there was little direct intervention in sheepmeat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67"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PS, begun in 1974, involved the purchase by the Australian Wool Corporation (AWC) of all wool not reaching a floor price when auction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loor price was set for the yea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was purchased at auction and subsequently sold back into the market, mostly directly to exporters and mill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itial aim, to stabilise prices, seemed to be achieved over the period until about 198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69"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schemes are risky: the pressure of politics to raise prices, general euphoria at what seemed to be ‘success’, and mistaking short-term rises in market prices for new long-term trends are all occupational hazard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fter the floor price was raised 70 per cent in two years, the RPS collapsed in 1991 leaving a stockpile of 4.75 million bales of wool and a debt of $2.8 bill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took over a decade for the liquidation of this stockpile to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71"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jor industry-level activity is R&amp;D, extended to include innovation, commercial adoption, international marketing and demand building for wool over the past deca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lso continues to be an R&amp;D strategy for sheepmeat within ML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R&amp;D strategies are funded by a 2 per cent compulsory levy on gross proceeds from the sale of shorn wool matched by a government subsidy up to 0.5 per c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73"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funds are controlled and allocated to fund R&amp;D and other strategies by AWI for woo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meat R&amp;D has a 0.5 percent compulsory levy, also matched by government and allocated by M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75"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om an economist’s perspective, compulsion in revenue raising is considered necessary because R&amp;D is said to have many of the characteristics of a ‘public good’ (see earlier topic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would be a ‘free rider’ problem if the levy was voluntar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ree rider problem arises when people have an incentive to understate their true preferences for a public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77" name="PlaceHolder 2"/>
          <p:cNvSpPr>
            <a:spLocks noGrp="1"/>
          </p:cNvSpPr>
          <p:nvPr>
            <p:ph/>
          </p:nvPr>
        </p:nvSpPr>
        <p:spPr>
          <a:xfrm>
            <a:off x="468000" y="1483920"/>
            <a:ext cx="828036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about 2000, there has been less focus on industry-level policies and increased reliance on market forces and incentives to drive profitability, innovation and change in the sheep industry (see Topics 7 and 13)</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versity of responses to market forces reflects a range of factors affecting farm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factors include the suitability of land and other inputs to alternative enterprises, assessments of expected returns and riskiness of returns to sheep and other enterp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79" name="PlaceHolder 2"/>
          <p:cNvSpPr>
            <a:spLocks noGrp="1"/>
          </p:cNvSpPr>
          <p:nvPr>
            <p:ph/>
          </p:nvPr>
        </p:nvSpPr>
        <p:spPr>
          <a:xfrm>
            <a:off x="468000" y="1125000"/>
            <a:ext cx="828036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amp;D is the major industry-level strategy of the sheep industry, implemented through two producer-owned companies, AWI and ML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oth companies are limited by guarantee, not listed on the stock exchange and have Boards elected by and accountable to produc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panies depend on government-backed compulsion for levy raising and receive a matching government subsidy for R&amp;D expenditure up to 0.5 per cent of gross industry reven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ckground to economic research issu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cro/industry economic researc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icro/company/farm-level economic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81" name="PlaceHolder 2"/>
          <p:cNvSpPr>
            <a:spLocks noGrp="1"/>
          </p:cNvSpPr>
          <p:nvPr>
            <p:ph/>
          </p:nvPr>
        </p:nvSpPr>
        <p:spPr>
          <a:xfrm>
            <a:off x="468000" y="1125000"/>
            <a:ext cx="828036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nditure of R&amp;D funds is allocated to defined priority areas by the companies through national competitive grants, and by other means, to research provid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jor research providers are the Commonwealth Scientific and Industrial Research Organisation (CSIRO), universities, state departments of agriculture/DPIs and other departments, and private sector provid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I and MLA often work together and seek to leverage funds from other sources to expand the overall R&amp;D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83"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eature of the research policy of government of recent times has been the additional funding of CRC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urrent CRC for sheep and wool is operated at many locations with headquarters at the University of New Englan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rly in 2007 it was announced that another seven years of funding had been approved for a new sheep CRC, which is now in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85"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ur areas of industry-level economic research are considered to be the main ones currently of interes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nefits and costs of R&amp;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ffectiveness of marketing and promotio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de liberalisatio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rket intelligence and forecast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re now briefly revie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85">
                                            <p:txEl>
                                              <p:pRg st="0" end="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85">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85">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85">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85">
                                            <p:txEl>
                                              <p:pRg st="4" end="4"/>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87"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rious efforts have been made to evaluate the benefits and costs of R&amp;D, and this will continue to be a major economic research issue into the futu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fer to the Notes for details of some evaluations undertake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most disaggregated level the benefits and costs of specific projects can be analysed as an integral part of the projec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would usually involve an economic analyst being part of a project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89"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nding agencies have moved away from funding large numbers of individual projects to funding programs of interrelated projects where industry priorities are agreed to justify invest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both programs of research and individual projects, economic research on the outcomes achievable from the programs is essential and economic input early in the priority setting process is desi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91"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econd major area of industry-level economic research is on the effectiveness of marketing and promotion effor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currently a stark contrast between the lamb and wool industries in this regar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recent years, strong red meat and lamb promotion programs, combined with changing the way lamb is cut and presented to consumers, appear to have been effective strategies for improving producer retu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93"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horough economic analysis of marketing strategies and their impact on consumer demand could be conducted using cross-sectional household data in international marke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mand model utilised would need to take into account prices for competitive products, changes in consumer incomes and other demand shifters, as well as promotion expenditure by producer bo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95"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contrast to the red meat industry body, MLA, the wool industry statutory/industry bodies largely abandoned marketing and promotion in the 1990s and only recently has AWI commenced small-scale trial marketing programs in US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virtual cessation of wool promotion following the collapse of the RPS in 1991 occurred despite strong evidence of the effectiveness of promotion in earlier times and the absence of any respectable analysis questioning its net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97"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in the wool industry there continue to be arguments put that more money should be spent on promotion of Australian merino woo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I is conducting a modest international trial marketing and promotion strategy with two US clothing retail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expenditure of under $10 million per annum, there would seem to be little scope for analysis within an appropriate demand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99" name="PlaceHolder 2"/>
          <p:cNvSpPr>
            <a:spLocks noGrp="1"/>
          </p:cNvSpPr>
          <p:nvPr>
            <p:ph/>
          </p:nvPr>
        </p:nvSpPr>
        <p:spPr>
          <a:xfrm>
            <a:off x="539280" y="1125000"/>
            <a:ext cx="81378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hird area subject to continued economic research in the sheep industry is the benefit-cost analysis of trade liberalis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or to Australia and China signing a free trade agreement (FTA), sheep industry R&amp;D bodies funded an analysis of the implications for the sheep industr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ver the decade to 2015, the estimates provided are that the removal of all barriers under a bilateral FTA would increase wool export value from Australia by up to $US594 million compared with no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468000" y="1052280"/>
            <a:ext cx="8280360" cy="5040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topic is designed to consider contemporary economic research issues in the sheep industr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issues occur at two main levels: the macro/industry level and micro/company/farm leve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cro/industry-level economic research has been in four main areas: assessment of the benefits and costs of R&amp;D; analysis of the effectiveness of marketing and promotion; analysis of trade liberalisation; and market intelligence and foreca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101" name="PlaceHolder 2"/>
          <p:cNvSpPr>
            <a:spLocks noGrp="1"/>
          </p:cNvSpPr>
          <p:nvPr>
            <p:ph/>
          </p:nvPr>
        </p:nvSpPr>
        <p:spPr>
          <a:xfrm>
            <a:off x="539640" y="1125360"/>
            <a:ext cx="8136000" cy="518328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rgest gains from trade liberalisation for lamb are assessed to be the EU, which is both the world’s largest lamb market and the one with possibly the most restricted acces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LA funded research to assess the benefits from trade liberalisation in the EU based on a global model of meat supply and demand </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as concluded that a 10 to 20 per cent expansion of EU quota would result in benefits similar to removing EU border protection, which currently has an estimated tariff equivalent of 38 per c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103" name="PlaceHolder 2"/>
          <p:cNvSpPr>
            <a:spLocks noGrp="1"/>
          </p:cNvSpPr>
          <p:nvPr>
            <p:ph/>
          </p:nvPr>
        </p:nvSpPr>
        <p:spPr>
          <a:xfrm>
            <a:off x="539640" y="1125360"/>
            <a:ext cx="8136000" cy="518328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nal area of aggregate industry-level economic research is the continued quest for more reliable forecasts of supply, demand and prices for wool and mea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issues partly revolve around compositional changes in the national sheep flock with growth in recent years of both the prime lamb industry and fine wool produc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I has funded Woolmark to undertake a supply modelling exercise, the purpose being to identify implications for the future level and quality of wool and sheepmeat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6000" y="115560"/>
            <a:ext cx="7956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cro/industry economic research </a:t>
            </a:r>
            <a:endParaRPr b="0" lang="en-US" sz="4000" spc="-1" strike="noStrike">
              <a:solidFill>
                <a:srgbClr val="000000"/>
              </a:solidFill>
              <a:latin typeface="Arial"/>
            </a:endParaRPr>
          </a:p>
        </p:txBody>
      </p:sp>
      <p:sp>
        <p:nvSpPr>
          <p:cNvPr id="105" name="PlaceHolder 2"/>
          <p:cNvSpPr>
            <a:spLocks noGrp="1"/>
          </p:cNvSpPr>
          <p:nvPr>
            <p:ph/>
          </p:nvPr>
        </p:nvSpPr>
        <p:spPr>
          <a:xfrm>
            <a:off x="539640" y="1125360"/>
            <a:ext cx="8136000" cy="51832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benefit of economic forecasting is to assist participants in markets to be better informed about factors affecting markets, and thus improve their own business decision making in an uncertain environ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I, Australian Wool Services (AWS) and MLA all devote substantial resources to market intelligence, and produce monthly or quarterly reports that are available on their websites or by sub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07" name="PlaceHolder 2"/>
          <p:cNvSpPr>
            <a:spLocks noGrp="1"/>
          </p:cNvSpPr>
          <p:nvPr>
            <p:ph/>
          </p:nvPr>
        </p:nvSpPr>
        <p:spPr>
          <a:xfrm>
            <a:off x="539640" y="1412640"/>
            <a:ext cx="8136000" cy="4895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amp;D companies in the sheep industry allocate substantial resources to programs designed to produce innovations to reduce costs or improve product qual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lso fund more fundamental long-term research on the science underlying the industry; for example, on sheep genomic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rgest program of production-oriented research in the industry has been the Sheep CR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09" name="PlaceHolder 2"/>
          <p:cNvSpPr>
            <a:spLocks noGrp="1"/>
          </p:cNvSpPr>
          <p:nvPr>
            <p:ph/>
          </p:nvPr>
        </p:nvSpPr>
        <p:spPr>
          <a:xfrm>
            <a:off x="539640" y="1412640"/>
            <a:ext cx="8136000" cy="4895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has been limited published economic research evaluating benefits and costs of innovations for sheep production systems in recent yea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recent review of R&amp;D performance gives an assessment of likely present values of returns to the industry from specific projec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cknowledged that little economic analysis has been done to quantify the benefits of off-farm research in areas of product development and mark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11" name="PlaceHolder 2"/>
          <p:cNvSpPr>
            <a:spLocks noGrp="1"/>
          </p:cNvSpPr>
          <p:nvPr>
            <p:ph/>
          </p:nvPr>
        </p:nvSpPr>
        <p:spPr>
          <a:xfrm>
            <a:off x="539640" y="1412640"/>
            <a:ext cx="8136000" cy="4895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novations derived from R&amp;D need to be considered in terms of adoption taking into account the kinds of company/farm structur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enterprises on farms vary widely in the capacity or business incentive for farmers to adopt new innov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ortant factors are the size of the enterprise pool and other enterprises on the farm</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many cases sheep are a ‘sideline’ while the other enterprises play a more significant r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13" name="PlaceHolder 2"/>
          <p:cNvSpPr>
            <a:spLocks noGrp="1"/>
          </p:cNvSpPr>
          <p:nvPr>
            <p:ph/>
          </p:nvPr>
        </p:nvSpPr>
        <p:spPr>
          <a:xfrm>
            <a:off x="539640" y="1412640"/>
            <a:ext cx="8136000" cy="4895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ilarly, wool marketing, processing and manufacturing companies vary in their adoption of new innovations depending on a range of factors between countries, companies and sectors of the marke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se reasons it is important to analyse likely adoption paths of innovations arising from R&am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15" name="PlaceHolder 2"/>
          <p:cNvSpPr>
            <a:spLocks noGrp="1"/>
          </p:cNvSpPr>
          <p:nvPr>
            <p:ph/>
          </p:nvPr>
        </p:nvSpPr>
        <p:spPr>
          <a:xfrm>
            <a:off x="539640" y="1412640"/>
            <a:ext cx="8136000" cy="489564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ARE regularly produces measures of productivity levels and improvement across rural industrie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heep industry has generally lagged behind other industries such as cropping and dairying in such measure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verages hide potentially variable cases of productivity growth between different kinds of sheep enterprises, and between farmers in the same enterprise</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farm productivity growth in the sheep industry is analysed in Topic 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17"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jor areas of production research where economic input would be beneficial include:</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razing pasture profitability</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aging natural resource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imal health and welfare (replacement for mulesing, pest and parasite control, footrot)</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etics evaluation</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mercial testing of upright shearing platform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17">
                                            <p:txEl>
                                              <p:pRg st="0" end="0"/>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499"/>
                                          </p:stCondLst>
                                        </p:cTn>
                                        <p:tgtEl>
                                          <p:spTgt spid="117">
                                            <p:txEl>
                                              <p:pRg st="1" end="1"/>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499"/>
                                          </p:stCondLst>
                                        </p:cTn>
                                        <p:tgtEl>
                                          <p:spTgt spid="117">
                                            <p:txEl>
                                              <p:pRg st="2" end="2"/>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499"/>
                                          </p:stCondLst>
                                        </p:cTn>
                                        <p:tgtEl>
                                          <p:spTgt spid="117">
                                            <p:txEl>
                                              <p:pRg st="3" end="3"/>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499"/>
                                          </p:stCondLst>
                                        </p:cTn>
                                        <p:tgtEl>
                                          <p:spTgt spid="117">
                                            <p:txEl>
                                              <p:pRg st="4" end="4"/>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19"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to these areas, significant effort is going into fundamental research on the sheep genom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I has also funded analyses of the profitability of specialist wool-producing and wool/sheep meat enterprises, mainly funded jointly with ML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 the issue of alternatives to mulesing, where there are strong animal welfare concerns, economic considerations will turn on what is the most cost-effective altern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9" name="PlaceHolder 2"/>
          <p:cNvSpPr>
            <a:spLocks noGrp="1"/>
          </p:cNvSpPr>
          <p:nvPr>
            <p:ph/>
          </p:nvPr>
        </p:nvSpPr>
        <p:spPr>
          <a:xfrm>
            <a:off x="468360" y="1196640"/>
            <a:ext cx="8207280" cy="5040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ic research at the micro/company/farm level has focused mainly on the economics of research and development, and the adoption of new technologies on the farm and in wool and sheepmeat marketing</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21"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ic research input is required across these programs and projec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often takes the form of gross margin analysis or whole-farm budgeting (see Topic 1) as a basis for evaluating benefits and cos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using a selection demonstration flock, in 2006 AWI estimated that improvements in cut and quality of wool could yield increased profitability of $8 to $10 per ewe per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6360" y="115560"/>
            <a:ext cx="8099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icro/company/farm-level economic research </a:t>
            </a:r>
            <a:endParaRPr b="0" lang="en-US" sz="4000" spc="-1" strike="noStrike">
              <a:solidFill>
                <a:srgbClr val="000000"/>
              </a:solidFill>
              <a:latin typeface="Arial"/>
            </a:endParaRPr>
          </a:p>
        </p:txBody>
      </p:sp>
      <p:sp>
        <p:nvSpPr>
          <p:cNvPr id="123" name="PlaceHolder 2"/>
          <p:cNvSpPr>
            <a:spLocks noGrp="1"/>
          </p:cNvSpPr>
          <p:nvPr>
            <p:ph/>
          </p:nvPr>
        </p:nvSpPr>
        <p:spPr>
          <a:xfrm>
            <a:off x="539640" y="1483920"/>
            <a:ext cx="8136000" cy="4537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work also needs to be complemented by studies of the adoption rate for innovations to take into account the diversity of sheep production environmen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ly then can realistic policy assessments be made about the industry-level returns on R&amp;D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1" name="PlaceHolder 2"/>
          <p:cNvSpPr>
            <a:spLocks noGrp="1"/>
          </p:cNvSpPr>
          <p:nvPr>
            <p:ph/>
          </p:nvPr>
        </p:nvSpPr>
        <p:spPr>
          <a:xfrm>
            <a:off x="539640" y="1196640"/>
            <a:ext cx="8136000" cy="4824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nowledge assumed in the discussion includes the following:</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icro-economic principles underlying supply and demand curves, elasticities and movements of and along supply and demand curve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chniques for calculation of net present value and internal rates of return of streams of benefits and cost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cepts such as opportunity cost and risk aversion</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1">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3" name="PlaceHolder 2"/>
          <p:cNvSpPr>
            <a:spLocks noGrp="1"/>
          </p:cNvSpPr>
          <p:nvPr>
            <p:ph/>
          </p:nvPr>
        </p:nvSpPr>
        <p:spPr>
          <a:xfrm>
            <a:off x="539640" y="1196640"/>
            <a:ext cx="8136000" cy="482436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istorically, the wool industry, and to an extent the sheepmeat industry, had separate and identifiable funded economic research projects and competitive processes for setting priorities in fund allocation</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nded projects were often analyses of policy issues facing the industry; for example, on the benefits and costs of new technology in wool harvesting or the effectiveness of international wool promotion</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projects were ‘stand alone’ and not integrated with science-based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5" name="PlaceHolder 2"/>
          <p:cNvSpPr>
            <a:spLocks noGrp="1"/>
          </p:cNvSpPr>
          <p:nvPr>
            <p:ph/>
          </p:nvPr>
        </p:nvSpPr>
        <p:spPr>
          <a:xfrm>
            <a:off x="539640" y="1196640"/>
            <a:ext cx="8136000" cy="4824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recent times, more integrated programs of research have evolved and there is often joint funding by Australian Wool Innovation (AWI) and Meat and Livestock Australia (ML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the two organisations jointly fund a sheep genome research program</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ilarly, in areas of pasture productivity and sustainable land use, both organisations partner with Land and Water Australia (LWA) to fund national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7" name="PlaceHolder 2"/>
          <p:cNvSpPr>
            <a:spLocks noGrp="1"/>
          </p:cNvSpPr>
          <p:nvPr>
            <p:ph/>
          </p:nvPr>
        </p:nvSpPr>
        <p:spPr>
          <a:xfrm>
            <a:off x="539640" y="1196640"/>
            <a:ext cx="8136000" cy="4824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operative Research Centres (CRCs) have also become a basis for broader national and multi-disciplinary approaches to research across providers and requiring stronger business involve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more integrated programs of R&amp;D challenge economists to be more inter-disciplinary in their invol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76000" y="115560"/>
            <a:ext cx="7956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ackground to economic research issues</a:t>
            </a:r>
            <a:endParaRPr b="0" lang="en-US" sz="4000" spc="-1" strike="noStrike">
              <a:solidFill>
                <a:srgbClr val="000000"/>
              </a:solidFill>
              <a:latin typeface="Arial"/>
            </a:endParaRPr>
          </a:p>
        </p:txBody>
      </p:sp>
      <p:sp>
        <p:nvSpPr>
          <p:cNvPr id="59" name="PlaceHolder 2"/>
          <p:cNvSpPr>
            <a:spLocks noGrp="1"/>
          </p:cNvSpPr>
          <p:nvPr>
            <p:ph/>
          </p:nvPr>
        </p:nvSpPr>
        <p:spPr>
          <a:xfrm>
            <a:off x="539640" y="1413000"/>
            <a:ext cx="8136000" cy="4752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ic research issues for any commodity are driven to a large extent by specific characteristics of that commodity, its marketing system structure and product marke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xtent and nature of government policies for the commodity and its products, both domestically and internationally, also influence economic research issu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and sheepmeat are very different in these resp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47:24Z</dcterms:modified>
  <cp:revision>31</cp:revision>
  <dc:subject/>
  <dc:title>Slide 1</dc:title>
</cp:coreProperties>
</file>