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D32-A703-4BC4-BEB1-C00D9A23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6C9-D7F2-4DC6-A6DB-65D41D7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8DC-8AA5-4E7D-9749-54AC7898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CF3-4E19-410C-BE38-B39F5AC9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64D-5A2C-4571-9896-A05EC09D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CFB-520C-4A06-B708-6A5CB52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1442-01AC-44F6-8C71-86A00A5A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2E33-0F7A-4306-989A-A8BD0D50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B5DD-4747-4AB7-ABC8-6678CE6D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5CDF-D322-4817-8FB6-C0BBF8D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711C-EDBA-4EF2-8A07-04C8381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163-116C-4658-8046-F8CA7349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370F-12F5-4902-851B-EBD5A86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696-1B04-40C1-B190-950F3AF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9B9-2911-445F-950A-456C9CEB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DBD0-79F0-4BB1-90B6-2023F8CC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7F04-36A3-4D60-84A3-C843255A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268-83D8-42AC-A91B-AE552BE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194-AB70-4271-8104-327BA0C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4EB-D224-43B3-A5AE-CA468DD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EE9-2B20-43ED-B505-E06D7360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5EE-925A-4FF2-B5D8-2295782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C03-48A9-45AE-AAF3-45F803CF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898-E156-4B09-99AD-8F048B0E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n 334/434 Finance and Risk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9B1C-3B3B-4D56-BBF6-F3827792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n 334/434 Finance and Risk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5F53-C0C8-4E94-B6A1-879BB8A2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PR350/450 Managing the Commercial Sheep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950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opic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42292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rm Management Methods and Farm Rec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material prepared by Terence Farr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Production and market risk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aging risk is an important aspect of managing a f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isk arises from variation in the levels of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duction risk is associated with factors such as weather that change the efficient level of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infall is a typical factor, in that a reduction in rainfall leads to reduced pastures and crops that in turn lead to additional expenses to provide supplementary feedstock to anim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Production and market risk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rket risk is associated with input and outpu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ool prices might rise or fall and this variation in prices could have a positive or negative impact on farm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rket risk may be managed by selling wool at different times of the year, pre-selling wool by fixed delivery contract, or by buying or selling forward contracts or futures contracts on the Sydney Futures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Production and market risk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formation is the key to managing both forms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y using budgets, we can identify activity levels where incomes might equ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level where income equals costs is called the breakeve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a gross margin budget, the gross margin is zero when the income equals cost and is termed a breakeven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n providing advice to farmers it is advisable to estimate a number of breakeven points for different inputs or outpu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Production and market risk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 through the examples of breakeven budgeting in th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breakeven and target levels of gross margin can be calculated by using a program called ‘Goal Seek’, which can be accessed from ‘Tools’ in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ou may wish to install the program supplied with your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program via the ‘Add-ins’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dvanced forms of risk management are covered in Topic 8 and the Decision Trees section in this topic (see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Whole-farm bud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ole-farm budgets are used to assess enterprises where capital investments are likely to be made when developing or changing an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main purpose of the whole-farm budget is to account properly for capital items and overhea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me people refer to overhead costs as fixed c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unavoidabl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able 1.5 in the Notes shows the structure of a whole-farm budget for a mixed-enterprise farm including sh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Whole-farm bud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980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first section includes gross margins for all activities operated on the f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mmediately below the income items are the whole-farm expenses that cannot be attributed to one of the four activity gross mar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 farm income is the return to the owners of the assets before their own labour and interest have been subtra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 construct a whole-farm budget, the analyst would also need to complete an asset register and a depreciation schedu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efer to the examples in the No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Whole-farm bud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052640"/>
            <a:ext cx="762156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mall changes to enterprises are sometimes calculated with partial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tial budgets only consider the items in a budget tha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ile they were very useful prior to the development of spreadsheets, their use is minimised due to the ease of using whole-farm budgets for project compari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5920"/>
            <a:ext cx="79948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Components of decision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ive key components in decision making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tions or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ts or ch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 or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itudes towards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1592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ecision tr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ices – squares representing decision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ts – circles representing event or chance nodes (state v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abilities – likelihood of specific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 – triangles representing outcome or return arising from the implementation of an investmen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11592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ecision tr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cision trees are solved in thre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lculate money payoffs for each terminal branch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ork back from terminal branches and replace event forks by expected money values (EMVs), and at decision forks select branches with highest expect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rk off the dominated decisions at each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gross mar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ng gross margin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on and market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le-farm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of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1592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ecision tr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 example is now shown for a decision between two lambing months in a sheep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MVs are calculated as the sum of payoffs times the probability of their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wo events are considered uncertain: sale weight and sal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probabilities of these events are presented in Table 1.7 in th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payoffs for each system are shown on the next slide in EM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8000" y="3809880"/>
            <a:ext cx="4572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539640" y="4191120"/>
            <a:ext cx="137160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1908000" y="5029200"/>
            <a:ext cx="38124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1908000" y="2060640"/>
            <a:ext cx="38124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539640" y="2349000"/>
            <a:ext cx="1368360" cy="146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77120" y="699120"/>
            <a:ext cx="165384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324000" y="1125360"/>
            <a:ext cx="576000" cy="2684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1047960" y="6315480"/>
            <a:ext cx="151236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c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1763640" y="5444640"/>
            <a:ext cx="28728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983160" y="3284640"/>
            <a:ext cx="11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 l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900000" y="40766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l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 flipV="1">
            <a:off x="2268360" y="1125000"/>
            <a:ext cx="151164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268360" y="2276640"/>
            <a:ext cx="1511640" cy="64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266920" y="24922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873040" y="1916280"/>
            <a:ext cx="11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8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5937120" y="468792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828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937120" y="641664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56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867280" y="79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2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2268360" y="5300640"/>
            <a:ext cx="151164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1"/>
          <p:cNvSpPr/>
          <p:nvPr/>
        </p:nvSpPr>
        <p:spPr>
          <a:xfrm flipV="1">
            <a:off x="2268360" y="4365360"/>
            <a:ext cx="1511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2209680" y="90792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7380360" y="3296160"/>
            <a:ext cx="16556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offs from lamb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 flipH="1">
            <a:off x="6877080" y="4149720"/>
            <a:ext cx="71928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 flipH="1">
            <a:off x="6877080" y="335772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6"/>
          <p:cNvSpPr/>
          <p:nvPr/>
        </p:nvSpPr>
        <p:spPr>
          <a:xfrm flipH="1" flipV="1">
            <a:off x="6804000" y="1700280"/>
            <a:ext cx="100800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7"/>
          <p:cNvSpPr/>
          <p:nvPr/>
        </p:nvSpPr>
        <p:spPr>
          <a:xfrm flipH="1" flipV="1">
            <a:off x="6443640" y="333360"/>
            <a:ext cx="1728720" cy="280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28"/>
          <p:cNvSpPr/>
          <p:nvPr/>
        </p:nvSpPr>
        <p:spPr>
          <a:xfrm>
            <a:off x="5711760" y="197172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5711760" y="44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30"/>
          <p:cNvSpPr/>
          <p:nvPr/>
        </p:nvSpPr>
        <p:spPr>
          <a:xfrm>
            <a:off x="5724360" y="362916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724360" y="64371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3780000" y="2708280"/>
            <a:ext cx="3808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3"/>
          <p:cNvSpPr/>
          <p:nvPr/>
        </p:nvSpPr>
        <p:spPr>
          <a:xfrm>
            <a:off x="3759120" y="816120"/>
            <a:ext cx="38124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3780000" y="5927760"/>
            <a:ext cx="3808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5"/>
          <p:cNvSpPr/>
          <p:nvPr/>
        </p:nvSpPr>
        <p:spPr>
          <a:xfrm flipV="1">
            <a:off x="4140360" y="188640"/>
            <a:ext cx="158400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5724360" y="13953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5867280" y="1376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4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8"/>
          <p:cNvSpPr/>
          <p:nvPr/>
        </p:nvSpPr>
        <p:spPr>
          <a:xfrm>
            <a:off x="4140360" y="1052640"/>
            <a:ext cx="158400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9"/>
          <p:cNvSpPr/>
          <p:nvPr/>
        </p:nvSpPr>
        <p:spPr>
          <a:xfrm flipV="1">
            <a:off x="4140360" y="2133360"/>
            <a:ext cx="158400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40"/>
          <p:cNvSpPr/>
          <p:nvPr/>
        </p:nvSpPr>
        <p:spPr>
          <a:xfrm>
            <a:off x="3759120" y="4127400"/>
            <a:ext cx="3812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1"/>
          <p:cNvSpPr/>
          <p:nvPr/>
        </p:nvSpPr>
        <p:spPr>
          <a:xfrm>
            <a:off x="4140360" y="2925720"/>
            <a:ext cx="1584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42"/>
          <p:cNvSpPr/>
          <p:nvPr/>
        </p:nvSpPr>
        <p:spPr>
          <a:xfrm>
            <a:off x="5724360" y="31957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3"/>
          <p:cNvSpPr/>
          <p:nvPr/>
        </p:nvSpPr>
        <p:spPr>
          <a:xfrm flipV="1">
            <a:off x="4140360" y="3789360"/>
            <a:ext cx="158400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4"/>
          <p:cNvSpPr/>
          <p:nvPr/>
        </p:nvSpPr>
        <p:spPr>
          <a:xfrm>
            <a:off x="4140360" y="4365720"/>
            <a:ext cx="158400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5"/>
          <p:cNvSpPr/>
          <p:nvPr/>
        </p:nvSpPr>
        <p:spPr>
          <a:xfrm>
            <a:off x="5724360" y="470844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46"/>
          <p:cNvSpPr/>
          <p:nvPr/>
        </p:nvSpPr>
        <p:spPr>
          <a:xfrm>
            <a:off x="5724360" y="514044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7"/>
          <p:cNvSpPr/>
          <p:nvPr/>
        </p:nvSpPr>
        <p:spPr>
          <a:xfrm flipV="1">
            <a:off x="4140360" y="5300280"/>
            <a:ext cx="158400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4140360" y="6165720"/>
            <a:ext cx="1584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9"/>
          <p:cNvSpPr/>
          <p:nvPr/>
        </p:nvSpPr>
        <p:spPr>
          <a:xfrm>
            <a:off x="5937120" y="314172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936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0"/>
          <p:cNvSpPr/>
          <p:nvPr/>
        </p:nvSpPr>
        <p:spPr>
          <a:xfrm>
            <a:off x="5937120" y="360828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938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1"/>
          <p:cNvSpPr/>
          <p:nvPr/>
        </p:nvSpPr>
        <p:spPr>
          <a:xfrm>
            <a:off x="5937120" y="511956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856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2"/>
          <p:cNvSpPr/>
          <p:nvPr/>
        </p:nvSpPr>
        <p:spPr>
          <a:xfrm flipH="1" flipV="1">
            <a:off x="6877080" y="2205000"/>
            <a:ext cx="71928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3"/>
          <p:cNvSpPr/>
          <p:nvPr/>
        </p:nvSpPr>
        <p:spPr>
          <a:xfrm flipH="1">
            <a:off x="6877080" y="38606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4"/>
          <p:cNvSpPr/>
          <p:nvPr/>
        </p:nvSpPr>
        <p:spPr>
          <a:xfrm flipH="1">
            <a:off x="6876720" y="4149720"/>
            <a:ext cx="93492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5"/>
          <p:cNvSpPr/>
          <p:nvPr/>
        </p:nvSpPr>
        <p:spPr>
          <a:xfrm flipH="1">
            <a:off x="6876720" y="4149720"/>
            <a:ext cx="1366920" cy="23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2268360" y="560700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7"/>
          <p:cNvSpPr/>
          <p:nvPr/>
        </p:nvSpPr>
        <p:spPr>
          <a:xfrm>
            <a:off x="2268360" y="40766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4081320" y="792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9"/>
          <p:cNvSpPr/>
          <p:nvPr/>
        </p:nvSpPr>
        <p:spPr>
          <a:xfrm>
            <a:off x="4140360" y="1989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0"/>
          <p:cNvSpPr/>
          <p:nvPr/>
        </p:nvSpPr>
        <p:spPr>
          <a:xfrm>
            <a:off x="4140360" y="3608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1"/>
          <p:cNvSpPr/>
          <p:nvPr/>
        </p:nvSpPr>
        <p:spPr>
          <a:xfrm>
            <a:off x="4140360" y="5192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2"/>
          <p:cNvSpPr/>
          <p:nvPr/>
        </p:nvSpPr>
        <p:spPr>
          <a:xfrm>
            <a:off x="4140360" y="634536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4140360" y="4616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4"/>
          <p:cNvSpPr/>
          <p:nvPr/>
        </p:nvSpPr>
        <p:spPr>
          <a:xfrm>
            <a:off x="4140360" y="310356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5"/>
          <p:cNvSpPr/>
          <p:nvPr/>
        </p:nvSpPr>
        <p:spPr>
          <a:xfrm>
            <a:off x="4140360" y="13032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4"/>
          <p:cNvSpPr/>
          <p:nvPr/>
        </p:nvSpPr>
        <p:spPr>
          <a:xfrm>
            <a:off x="2906640" y="14842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5"/>
          <p:cNvSpPr/>
          <p:nvPr/>
        </p:nvSpPr>
        <p:spPr>
          <a:xfrm>
            <a:off x="2916360" y="22399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6"/>
          <p:cNvSpPr/>
          <p:nvPr/>
        </p:nvSpPr>
        <p:spPr>
          <a:xfrm>
            <a:off x="2916360" y="46162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7"/>
          <p:cNvSpPr/>
          <p:nvPr/>
        </p:nvSpPr>
        <p:spPr>
          <a:xfrm>
            <a:off x="2916360" y="5337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8"/>
          <p:cNvSpPr/>
          <p:nvPr/>
        </p:nvSpPr>
        <p:spPr>
          <a:xfrm>
            <a:off x="4788000" y="404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9"/>
          <p:cNvSpPr/>
          <p:nvPr/>
        </p:nvSpPr>
        <p:spPr>
          <a:xfrm>
            <a:off x="4788000" y="23842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0"/>
          <p:cNvSpPr/>
          <p:nvPr/>
        </p:nvSpPr>
        <p:spPr>
          <a:xfrm>
            <a:off x="4788000" y="38955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1"/>
          <p:cNvSpPr/>
          <p:nvPr/>
        </p:nvSpPr>
        <p:spPr>
          <a:xfrm>
            <a:off x="4788000" y="5553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2"/>
          <p:cNvSpPr/>
          <p:nvPr/>
        </p:nvSpPr>
        <p:spPr>
          <a:xfrm>
            <a:off x="4788000" y="944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4788000" y="2781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4"/>
          <p:cNvSpPr/>
          <p:nvPr/>
        </p:nvSpPr>
        <p:spPr>
          <a:xfrm>
            <a:off x="4788000" y="42559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5"/>
          <p:cNvSpPr/>
          <p:nvPr/>
        </p:nvSpPr>
        <p:spPr>
          <a:xfrm>
            <a:off x="4788000" y="6021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08000" y="3809880"/>
            <a:ext cx="4572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9640" y="4191120"/>
            <a:ext cx="137160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1908000" y="5029200"/>
            <a:ext cx="38124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1908000" y="2060640"/>
            <a:ext cx="38124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 flipV="1">
            <a:off x="539640" y="2349000"/>
            <a:ext cx="1368360" cy="146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983160" y="3284640"/>
            <a:ext cx="11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 l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900000" y="40766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l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4"/>
          <p:cNvSpPr/>
          <p:nvPr/>
        </p:nvSpPr>
        <p:spPr>
          <a:xfrm flipV="1">
            <a:off x="2268360" y="1125000"/>
            <a:ext cx="151164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2268360" y="2276640"/>
            <a:ext cx="1511640" cy="64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2268360" y="251136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937120" y="191628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91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5937120" y="468792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3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5937120" y="641664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36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5867280" y="79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16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2"/>
          <p:cNvSpPr/>
          <p:nvPr/>
        </p:nvSpPr>
        <p:spPr>
          <a:xfrm>
            <a:off x="2268360" y="5300640"/>
            <a:ext cx="151164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2268360" y="4365360"/>
            <a:ext cx="1511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209680" y="90792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7380360" y="3143520"/>
            <a:ext cx="165564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money value of lamb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7"/>
          <p:cNvSpPr/>
          <p:nvPr/>
        </p:nvSpPr>
        <p:spPr>
          <a:xfrm flipH="1">
            <a:off x="6877080" y="4149720"/>
            <a:ext cx="71928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8"/>
          <p:cNvSpPr/>
          <p:nvPr/>
        </p:nvSpPr>
        <p:spPr>
          <a:xfrm flipH="1" flipV="1">
            <a:off x="6877080" y="335772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9"/>
          <p:cNvSpPr/>
          <p:nvPr/>
        </p:nvSpPr>
        <p:spPr>
          <a:xfrm flipH="1" flipV="1">
            <a:off x="6804000" y="1628280"/>
            <a:ext cx="1008000" cy="15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0"/>
          <p:cNvSpPr/>
          <p:nvPr/>
        </p:nvSpPr>
        <p:spPr>
          <a:xfrm flipH="1" flipV="1">
            <a:off x="6443640" y="333360"/>
            <a:ext cx="1728720" cy="280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31"/>
          <p:cNvSpPr/>
          <p:nvPr/>
        </p:nvSpPr>
        <p:spPr>
          <a:xfrm>
            <a:off x="5711760" y="197172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32"/>
          <p:cNvSpPr/>
          <p:nvPr/>
        </p:nvSpPr>
        <p:spPr>
          <a:xfrm>
            <a:off x="5711760" y="44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33"/>
          <p:cNvSpPr/>
          <p:nvPr/>
        </p:nvSpPr>
        <p:spPr>
          <a:xfrm>
            <a:off x="5724360" y="362916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724360" y="64371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38"/>
          <p:cNvSpPr/>
          <p:nvPr/>
        </p:nvSpPr>
        <p:spPr>
          <a:xfrm>
            <a:off x="3780000" y="2708280"/>
            <a:ext cx="3808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39"/>
          <p:cNvSpPr/>
          <p:nvPr/>
        </p:nvSpPr>
        <p:spPr>
          <a:xfrm>
            <a:off x="3759120" y="816120"/>
            <a:ext cx="38124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40"/>
          <p:cNvSpPr/>
          <p:nvPr/>
        </p:nvSpPr>
        <p:spPr>
          <a:xfrm>
            <a:off x="3780000" y="5927760"/>
            <a:ext cx="3808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42"/>
          <p:cNvSpPr/>
          <p:nvPr/>
        </p:nvSpPr>
        <p:spPr>
          <a:xfrm flipV="1">
            <a:off x="4140360" y="188640"/>
            <a:ext cx="158400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43"/>
          <p:cNvSpPr/>
          <p:nvPr/>
        </p:nvSpPr>
        <p:spPr>
          <a:xfrm>
            <a:off x="5724360" y="13953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867280" y="13762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8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5"/>
          <p:cNvSpPr/>
          <p:nvPr/>
        </p:nvSpPr>
        <p:spPr>
          <a:xfrm>
            <a:off x="4140360" y="1052640"/>
            <a:ext cx="158400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6"/>
          <p:cNvSpPr/>
          <p:nvPr/>
        </p:nvSpPr>
        <p:spPr>
          <a:xfrm flipV="1">
            <a:off x="4140360" y="2133360"/>
            <a:ext cx="158400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47"/>
          <p:cNvSpPr/>
          <p:nvPr/>
        </p:nvSpPr>
        <p:spPr>
          <a:xfrm>
            <a:off x="3759120" y="4127400"/>
            <a:ext cx="3812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8"/>
          <p:cNvSpPr/>
          <p:nvPr/>
        </p:nvSpPr>
        <p:spPr>
          <a:xfrm>
            <a:off x="4140360" y="2925720"/>
            <a:ext cx="1584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49"/>
          <p:cNvSpPr/>
          <p:nvPr/>
        </p:nvSpPr>
        <p:spPr>
          <a:xfrm>
            <a:off x="5724360" y="31957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50"/>
          <p:cNvSpPr/>
          <p:nvPr/>
        </p:nvSpPr>
        <p:spPr>
          <a:xfrm flipV="1">
            <a:off x="4140360" y="3789360"/>
            <a:ext cx="158400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1"/>
          <p:cNvSpPr/>
          <p:nvPr/>
        </p:nvSpPr>
        <p:spPr>
          <a:xfrm>
            <a:off x="4140360" y="4365720"/>
            <a:ext cx="158400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52"/>
          <p:cNvSpPr/>
          <p:nvPr/>
        </p:nvSpPr>
        <p:spPr>
          <a:xfrm>
            <a:off x="5724360" y="470844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53"/>
          <p:cNvSpPr/>
          <p:nvPr/>
        </p:nvSpPr>
        <p:spPr>
          <a:xfrm>
            <a:off x="5724360" y="514044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lnTo>
                  <a:pt x="144" y="0"/>
                </a:lnTo>
                <a:lnTo>
                  <a:pt x="144" y="192"/>
                </a:lnTo>
                <a:lnTo>
                  <a:pt x="0" y="96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4"/>
          <p:cNvSpPr/>
          <p:nvPr/>
        </p:nvSpPr>
        <p:spPr>
          <a:xfrm flipV="1">
            <a:off x="4140360" y="5300280"/>
            <a:ext cx="158400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5"/>
          <p:cNvSpPr/>
          <p:nvPr/>
        </p:nvSpPr>
        <p:spPr>
          <a:xfrm>
            <a:off x="4140360" y="6165720"/>
            <a:ext cx="1584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5937120" y="314172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8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5937120" y="357336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9.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5937120" y="511956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8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3"/>
          <p:cNvSpPr/>
          <p:nvPr/>
        </p:nvSpPr>
        <p:spPr>
          <a:xfrm flipH="1" flipV="1">
            <a:off x="6877080" y="2205000"/>
            <a:ext cx="71928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4"/>
          <p:cNvSpPr/>
          <p:nvPr/>
        </p:nvSpPr>
        <p:spPr>
          <a:xfrm flipH="1">
            <a:off x="6877080" y="38606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65"/>
          <p:cNvSpPr/>
          <p:nvPr/>
        </p:nvSpPr>
        <p:spPr>
          <a:xfrm flipH="1">
            <a:off x="6876720" y="4149720"/>
            <a:ext cx="93492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6"/>
          <p:cNvSpPr/>
          <p:nvPr/>
        </p:nvSpPr>
        <p:spPr>
          <a:xfrm flipH="1">
            <a:off x="6876720" y="4149720"/>
            <a:ext cx="1366920" cy="23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1"/>
          <p:cNvSpPr/>
          <p:nvPr/>
        </p:nvSpPr>
        <p:spPr>
          <a:xfrm>
            <a:off x="2268360" y="560700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72"/>
          <p:cNvSpPr/>
          <p:nvPr/>
        </p:nvSpPr>
        <p:spPr>
          <a:xfrm>
            <a:off x="2268360" y="40766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3"/>
          <p:cNvSpPr/>
          <p:nvPr/>
        </p:nvSpPr>
        <p:spPr>
          <a:xfrm>
            <a:off x="4081320" y="792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4"/>
          <p:cNvSpPr/>
          <p:nvPr/>
        </p:nvSpPr>
        <p:spPr>
          <a:xfrm>
            <a:off x="4140360" y="1989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5"/>
          <p:cNvSpPr/>
          <p:nvPr/>
        </p:nvSpPr>
        <p:spPr>
          <a:xfrm>
            <a:off x="4140360" y="3608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76"/>
          <p:cNvSpPr/>
          <p:nvPr/>
        </p:nvSpPr>
        <p:spPr>
          <a:xfrm>
            <a:off x="4140360" y="5192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7"/>
          <p:cNvSpPr/>
          <p:nvPr/>
        </p:nvSpPr>
        <p:spPr>
          <a:xfrm>
            <a:off x="4140360" y="634536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8"/>
          <p:cNvSpPr/>
          <p:nvPr/>
        </p:nvSpPr>
        <p:spPr>
          <a:xfrm>
            <a:off x="4140360" y="4616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9"/>
          <p:cNvSpPr/>
          <p:nvPr/>
        </p:nvSpPr>
        <p:spPr>
          <a:xfrm>
            <a:off x="4140360" y="310356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80"/>
          <p:cNvSpPr/>
          <p:nvPr/>
        </p:nvSpPr>
        <p:spPr>
          <a:xfrm>
            <a:off x="4140360" y="13032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1"/>
          <p:cNvSpPr/>
          <p:nvPr/>
        </p:nvSpPr>
        <p:spPr>
          <a:xfrm>
            <a:off x="2978280" y="4762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444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2"/>
          <p:cNvSpPr/>
          <p:nvPr/>
        </p:nvSpPr>
        <p:spPr>
          <a:xfrm>
            <a:off x="2987640" y="2997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0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83"/>
          <p:cNvSpPr/>
          <p:nvPr/>
        </p:nvSpPr>
        <p:spPr>
          <a:xfrm>
            <a:off x="2987640" y="38242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33.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4"/>
          <p:cNvSpPr/>
          <p:nvPr/>
        </p:nvSpPr>
        <p:spPr>
          <a:xfrm>
            <a:off x="2987640" y="6237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24.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5"/>
          <p:cNvSpPr/>
          <p:nvPr/>
        </p:nvSpPr>
        <p:spPr>
          <a:xfrm>
            <a:off x="34920" y="5373720"/>
            <a:ext cx="1081080" cy="106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857.81  + $323.00 - $480.00 = $700.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7"/>
          <p:cNvSpPr/>
          <p:nvPr/>
        </p:nvSpPr>
        <p:spPr>
          <a:xfrm flipH="1">
            <a:off x="684360" y="4149720"/>
            <a:ext cx="71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8"/>
          <p:cNvSpPr/>
          <p:nvPr/>
        </p:nvSpPr>
        <p:spPr>
          <a:xfrm flipH="1">
            <a:off x="755640" y="4221000"/>
            <a:ext cx="71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89"/>
          <p:cNvSpPr/>
          <p:nvPr/>
        </p:nvSpPr>
        <p:spPr>
          <a:xfrm>
            <a:off x="34920" y="1469880"/>
            <a:ext cx="1152360" cy="106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045.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$593.00 - $650.00 = $988.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90"/>
          <p:cNvSpPr/>
          <p:nvPr/>
        </p:nvSpPr>
        <p:spPr>
          <a:xfrm flipV="1">
            <a:off x="539640" y="42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91"/>
          <p:cNvSpPr/>
          <p:nvPr/>
        </p:nvSpPr>
        <p:spPr>
          <a:xfrm>
            <a:off x="468360" y="256536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2"/>
          <p:cNvSpPr/>
          <p:nvPr/>
        </p:nvSpPr>
        <p:spPr>
          <a:xfrm>
            <a:off x="118728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45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3"/>
          <p:cNvSpPr/>
          <p:nvPr/>
        </p:nvSpPr>
        <p:spPr>
          <a:xfrm>
            <a:off x="1403280" y="537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857.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onstructing gross margi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oss margins are budgets designed to examine the relative performance of sheep enterprise or activit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farm enterprise is a specific method of production within a farm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farm activity is specific method of production within a farm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important components include wool and lamb income as well as the variable costs associated with the enterprise/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onstructing gross margi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ariable costs are those that rise or fall with the level of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very cost should be measured as an opportunity cost, which is defined as the revenue forgone by not using an input in its best alternativ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gross margin is derived by subtracting the sum of the variable costs from the sum of th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is common to report the gross margin on a per head basis, dry sheep equivalent (DSE) or a per hectare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50-kilogram wether represents 1 D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onstructing gross margi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69464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 that the gross margin is not to be confused with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 need to subtract the overhead costs before we can estimate profit, which would be done with a whole-farm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is not always appropriate to use a gross margin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whole-farm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dget should be u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 the change in enterprise significantly affects an overhea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Constructing gross margin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gross margins budget needs to be used with the best data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best data are usually gained from the farm manager for their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situations where no data exist for the proposed change in the enterprise or the data are of poor quality, they must be estim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re data are to be estimated, it is best to seek professional ad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Analysing gross margin budget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n providing gross margins to farmers, we aim to present a gross margin for an average season or a specific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 can manipulate the budget to describe how the gross margin would change if items were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able 1.1 in the Notes, which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vides a typical layout for a gross margin incom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vestock income is calculated by completing a livestock reconciliation account: beginning stock + births + transfers in + purchases – transfers out –deaths – sales = closing stock for each sheep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Analysing gross margin budget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1360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ypical expenses for the sheep enterprise are shown in Table 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total cost of items changes with the number of animals in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pic notes describe how to calculate variable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placement 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heep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hearing, crutching, mulesing, marking and sc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lling and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dder c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Analysing gross margin budget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1360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gross margin budget for pasture is shown in Table 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 shows the Merino wethers, ewes and cattle enterprises using the pas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y attributing the feed cost to each enterprise that uses feed, the pasture gross margin should b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at is, the income from the feed exactly equals the cost of producing the feed and hence total income equals total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amples of applying gross margin budgeting are provided in the Appendix in th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19:15:44Z</dcterms:created>
  <dc:creator>Ruud Huirne</dc:creator>
  <dc:description/>
  <dc:language>en-US</dc:language>
  <cp:lastModifiedBy>Peter Sommerville</cp:lastModifiedBy>
  <cp:lastPrinted>1998-07-20T09:18:32Z</cp:lastPrinted>
  <dcterms:modified xsi:type="dcterms:W3CDTF">2013-01-19T05:34:19Z</dcterms:modified>
  <cp:revision>51</cp:revision>
  <dc:subject/>
  <dc:title>Chapter 1</dc:title>
</cp:coreProperties>
</file>