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F1DC-C1C2-444C-95F6-1A96384F5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A840-8959-4649-A670-4E0D1573F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CE9E-D413-4E9A-8E9F-3B451CBE2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FD44-0AE0-4D03-BDF6-EF634F365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2C9CE-B183-4099-B498-F6AFA56643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B74E6-D0AE-4FE8-9747-832105DFB6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9E68E-4333-4232-B710-48AFDC67B9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E22AC-19DF-45DB-B987-971A4B2716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674FE-05F2-4104-8997-7E3B6FAA6C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8614A-255F-4A61-9208-1B35319586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B9394-CFED-4F79-956F-71FA507C66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7FCB-4AC0-4DB6-A54B-E5438F41A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6D2A0-64F0-45C9-A741-73C73EA8A2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3DF65-45D0-4E1F-807E-0DDDE7F0C7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49E0-D10D-4749-9709-1C8F5DF141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B0BE6-98A5-465D-936D-A8C6C220DC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6CD54-FBFB-47CB-AB86-1D23E5865B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BB4C-4F22-418C-9359-18FFFB56D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DBBA-C9D9-4AE4-86C4-A18CB3362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812D-7422-45EC-BBC8-AEE9FE249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AE63-3F9C-4077-92E7-1941B89B4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B844-8C3C-485D-9EBD-D24AF2762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A28D-D149-4D53-9D61-CD7FB2FE9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719C-FB03-4CE5-8E51-275246B6D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6A86-AA9A-43DA-A5D0-BCEE74F32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F769-3D8A-45E5-A134-A06E94A1E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reedobject.com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reedplan.une.edu.au/" TargetMode="External"/><Relationship Id="rId2" Type="http://schemas.openxmlformats.org/officeDocument/2006/relationships/hyperlink" Target="http://www.breedobject.com/" TargetMode="External"/><Relationship Id="rId3" Type="http://schemas.openxmlformats.org/officeDocument/2006/relationships/hyperlink" Target="http://www.breedobject.com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xprime.com.au/products/tgrm/" TargetMode="External"/><Relationship Id="rId2" Type="http://schemas.openxmlformats.org/officeDocument/2006/relationships/hyperlink" Target="http://www.xprime.com.au/products/tgrm/" TargetMode="External"/><Relationship Id="rId3" Type="http://schemas.openxmlformats.org/officeDocument/2006/relationships/hyperlink" Target="http://www.xprime.com.au/products/tgrm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2280" y="619560"/>
            <a:ext cx="829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al Breeding Program Issues - Beef Indu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560" y="4229280"/>
            <a:ext cx="7774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422/522 – Topic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th Donogh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FAA80-A527-4675-98C5-8E68198DE8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4880-52A4-4F9B-9CA3-56C35500A8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28880" y="1522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cture of the Indu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692280"/>
            <a:ext cx="812664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ef industry consists of four general se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dstock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er/finisher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user (processor s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seedstock &amp; commercial sectors involved in genetic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8000" y="3716280"/>
            <a:ext cx="4543560" cy="1812960"/>
            <a:chOff x="1908000" y="3716280"/>
            <a:chExt cx="4543560" cy="1812960"/>
          </a:xfrm>
        </p:grpSpPr>
        <p:sp>
          <p:nvSpPr>
            <p:cNvPr id="89" name=""/>
            <p:cNvSpPr/>
            <p:nvPr/>
          </p:nvSpPr>
          <p:spPr>
            <a:xfrm>
              <a:off x="2422440" y="3716280"/>
              <a:ext cx="4029120" cy="181296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08000" y="39672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cleus Herds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5360" y="4341960"/>
              <a:ext cx="140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92360" y="4653000"/>
              <a:ext cx="18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ercial He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08360" y="4149720"/>
              <a:ext cx="5763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DB9D-0B7C-49C2-974F-9EB6DFF594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1280" y="152280"/>
            <a:ext cx="838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Components of breeding pro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1612800"/>
            <a:ext cx="71280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eeding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goal of breed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tic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genetic merit of selection candi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eeding program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election and mating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ll available tools (eg crossbreeding, AI, 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8965-5791-488D-A152-8766582DB4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95360" y="1522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ng Breeding 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981000"/>
            <a:ext cx="84517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ical component of genetic improv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s genetic merit of future generation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eeding objective considerations should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ion system of (commercial/grower/end-user) cli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ts of economic importance in client’s produc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eedObj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l to assist in formalising breeding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on the internet (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http://www.breedobject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eeding objectives should be revised on a regular bas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C014-41E0-4DED-A548-AE0892DA68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52600" y="152280"/>
            <a:ext cx="803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ilisation of Available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040" y="1098720"/>
            <a:ext cx="819216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riptors of genetic mer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BVs (BREEDPL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Indexes (BreedObj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 marker tests (GeneSTA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bling and Tendern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roductive to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ryo transfer (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insemination (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61AD-23B5-4841-A7F4-BB929E09D6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25480" y="152280"/>
            <a:ext cx="569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BVs and $Inde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981000"/>
            <a:ext cx="8051760" cy="46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EEDPLAN calculates EBVs for growth, fertility &amp; carcase tra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Indexes via BreedObj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Index is an EBV for profit for a particular market scenar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ve economic values are assigned to profit tra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are combined with EBVs into single value, $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ed specific $Indexes available (eg Hereford Pr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to develop own $Index via BreedObject web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BVs &amp; $Indexes only comparable within-br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ailable on the intern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EDPLAN: (</a:t>
            </a:r>
            <a:r>
              <a:rPr b="0" lang="en-US" sz="20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http://breedplan.une.edu.a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edObject: (</a:t>
            </a:r>
            <a:r>
              <a:rPr b="0" lang="en-US" sz="20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www.breedobject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FD05-E37F-4BDE-BF1C-30A25BAF73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00200" y="189000"/>
            <a:ext cx="41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 Mark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6480" y="969840"/>
            <a:ext cx="8399520" cy="44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ests currently avail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STA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rb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STA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nder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orted separately to other descriptions of genetic meri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BVs, $Index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ly used as marketing tool to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ly that more tests will become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erative that marker information is incorporated into EB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69B7-CB48-4B0F-8062-59735BED33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23760" y="152280"/>
            <a:ext cx="729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eeding Program 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979560"/>
            <a:ext cx="82692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cide upon best strategies to reach breeding objectiv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 who will become parents (selection decis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bull to join to which cow? (mating decis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tal Genetic Resource Management (TGR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l to aid in selection and mating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ed via the internet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AU" sz="2000" spc="-1" strike="noStrike" u="sng">
                <a:solidFill>
                  <a:srgbClr val="99ccff"/>
                </a:solidFill>
                <a:uFillTx/>
                <a:latin typeface="Times New Roman"/>
                <a:ea typeface="Times New Roman"/>
                <a:hlinkClick r:id="rId1"/>
              </a:rPr>
              <a:t>http://</a:t>
            </a:r>
            <a:r>
              <a:rPr b="0" lang="en-AU" sz="2000" spc="-1" strike="noStrike" u="sng">
                <a:solidFill>
                  <a:srgbClr val="99ccff"/>
                </a:solidFill>
                <a:uFillTx/>
                <a:latin typeface="Times New Roman"/>
                <a:ea typeface="Times New Roman"/>
                <a:hlinkClick r:id="rId2"/>
              </a:rPr>
              <a:t>www.xprime.com.au/products/tgrm</a:t>
            </a:r>
            <a:r>
              <a:rPr b="0" lang="en-AU" sz="2000" spc="-1" strike="noStrike" u="sng">
                <a:solidFill>
                  <a:srgbClr val="99cc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ses genetic gain while minimising inbree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s can be included (eg sire usage, trait levels, cos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 design consid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rossbreeding be us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CDD0-7AD4-459D-A80A-F81919C7BE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90760" y="152280"/>
            <a:ext cx="616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evelop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8640" y="1295280"/>
            <a:ext cx="82360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lusion of gene marker information in BREED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-breed EB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ational genetic eval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ailability of genetic benchmarking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6D93-A846-4E32-B70D-20B6BA9AA4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Briana Daly</cp:lastModifiedBy>
  <dcterms:modified xsi:type="dcterms:W3CDTF">2005-07-14T00:40:56Z</dcterms:modified>
  <cp:revision>157</cp:revision>
  <dc:subject/>
  <dc:title>PowerPoint Presentation</dc:title>
</cp:coreProperties>
</file>