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0D21-0269-4990-84F5-60FE0A5E1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3936-546F-4347-AD14-DCE771342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2386-B791-4E82-AC15-E1A0F3B80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8BA4-99D3-4E47-9A7B-C0776089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E2FA-6A59-4482-B8B9-E5E082B0D7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DCD7-6EBF-4F75-817C-AB9744074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36A4-6AB1-4B7C-A3B6-3852143DBD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3520-455E-496E-BE47-E827D17FB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D515-1BF4-4547-8E63-426F31000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9A16-AC80-455A-86B3-E2F2B02225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CA5D-62A6-47FC-A9D0-DDDA51BC3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E94A-CCDF-47DE-AECB-F7AA5A3F0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FB12-B9C1-4D58-BB6B-ADD407367E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9DA6-2817-423A-B333-3BBB7E8A2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006B-2F6A-4A10-A3ED-34385BF6B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C72C-C2EF-4FE6-B7C1-DCC9BBB0E3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A04B-E813-4BB1-9BF0-E751085C5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BA76-7580-4E3F-B0DB-9F5280E19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412C-EC8B-4DAF-97E4-76AAECC6E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DA80-E988-4DD6-B5C5-088665E71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801A-267D-4BA1-8688-295B1F26A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6611-5B0C-45CC-BBF1-7CC937C4E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20F4-83A5-4E1C-9E2F-2845B4EEC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4E27-B507-485A-B675-B741C1D46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BCC-E3A6-4C29-865E-844F75E29C2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DB53-CAF1-443F-B78E-C45DF16A25C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08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r Assisted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9964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en Do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9C94-9A4C-40B3-A06A-BF690258DF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TL Inheritance Using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39760" y="1534680"/>
            <a:ext cx="5536440" cy="3947400"/>
            <a:chOff x="2039760" y="1534680"/>
            <a:chExt cx="5536440" cy="3947400"/>
          </a:xfrm>
        </p:grpSpPr>
        <p:sp>
          <p:nvSpPr>
            <p:cNvPr id="88" name=""/>
            <p:cNvSpPr/>
            <p:nvPr/>
          </p:nvSpPr>
          <p:spPr>
            <a:xfrm>
              <a:off x="2494440" y="2256840"/>
              <a:ext cx="385200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4440" y="2979000"/>
              <a:ext cx="385200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4440" y="2076480"/>
              <a:ext cx="3852000" cy="0"/>
            </a:xfrm>
            <a:prstGeom prst="line">
              <a:avLst/>
            </a:prstGeom>
            <a:ln w="7632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94440" y="3099600"/>
              <a:ext cx="385200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3480" y="3273120"/>
              <a:ext cx="240480" cy="361080"/>
            </a:xfrm>
            <a:prstGeom prst="downArrow">
              <a:avLst>
                <a:gd name="adj1" fmla="val 32287"/>
                <a:gd name="adj2" fmla="val 45879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94440" y="4303800"/>
              <a:ext cx="1805400" cy="0"/>
            </a:xfrm>
            <a:prstGeom prst="line">
              <a:avLst/>
            </a:prstGeom>
            <a:ln w="7632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94440" y="4725000"/>
              <a:ext cx="180540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4440" y="3942360"/>
              <a:ext cx="3852000" cy="0"/>
            </a:xfrm>
            <a:prstGeom prst="line">
              <a:avLst/>
            </a:prstGeom>
            <a:ln w="7632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94440" y="5086080"/>
              <a:ext cx="385200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00200" y="4725000"/>
              <a:ext cx="2046240" cy="0"/>
            </a:xfrm>
            <a:prstGeom prst="line">
              <a:avLst/>
            </a:prstGeom>
            <a:ln w="7632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00200" y="4303800"/>
              <a:ext cx="204624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2640" y="1534680"/>
              <a:ext cx="3971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     B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5040" y="1896120"/>
              <a:ext cx="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25840" y="1896120"/>
              <a:ext cx="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2640" y="2331720"/>
              <a:ext cx="39718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760" y="3749400"/>
              <a:ext cx="325440" cy="15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cccc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4400" y="3749400"/>
              <a:ext cx="64872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cccc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cccc00"/>
                  </a:solidFill>
                  <a:latin typeface="Arial"/>
                </a:rPr>
                <a:t>1</a:t>
              </a:r>
              <a:r>
                <a:rPr b="0" i="1" lang="en-NZ" sz="1600" spc="-1" strike="noStrike">
                  <a:solidFill>
                    <a:srgbClr val="cccc00"/>
                  </a:solidFill>
                  <a:latin typeface="Arial"/>
                </a:rPr>
                <a:t>B</a:t>
              </a:r>
              <a:r>
                <a:rPr b="0" lang="en-NZ" sz="1600" spc="-1" strike="noStrike" baseline="-25000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69680" y="3816000"/>
              <a:ext cx="506520" cy="133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ge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54440" y="1933560"/>
              <a:ext cx="1085760" cy="3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54440" y="2838600"/>
              <a:ext cx="1085760" cy="3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789000" y="1955160"/>
              <a:ext cx="7236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63920" y="1774800"/>
              <a:ext cx="361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98360" y="1955160"/>
              <a:ext cx="57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45280" y="1774800"/>
              <a:ext cx="3618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NZ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666520" y="1954440"/>
              <a:ext cx="75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548960" y="1953720"/>
              <a:ext cx="759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66520" y="1953720"/>
              <a:ext cx="759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548960" y="1953360"/>
              <a:ext cx="759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3520" y="1990800"/>
              <a:ext cx="290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630520" y="2171160"/>
              <a:ext cx="1737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93680" y="2171160"/>
              <a:ext cx="1483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307B-6D1B-4540-9324-0C9CFD96F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g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638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QTL from one strai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2276640"/>
          <a:ext cx="7921440" cy="316836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  <a:gridCol w="315720"/>
                <a:gridCol w="1268640"/>
                <a:gridCol w="415800"/>
                <a:gridCol w="1339920"/>
                <a:gridCol w="2349360"/>
              </a:tblGrid>
              <a:tr h="80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ecip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pient %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prog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4d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4d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82"/>
                          </a:solidFill>
                          <a:latin typeface="Arial"/>
                          <a:ea typeface="Times New Roman"/>
                        </a:rPr>
                        <a:t>Qq  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82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a8"/>
                          </a:solidFill>
                          <a:latin typeface="Arial"/>
                          <a:ea typeface="Times New Roman"/>
                        </a:rPr>
                        <a:t>Qq  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a8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c8"/>
                          </a:solidFill>
                          <a:latin typeface="Arial"/>
                          <a:ea typeface="Times New Roman"/>
                        </a:rPr>
                        <a:t>Qq  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c8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c8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c8"/>
                          </a:solidFill>
                          <a:latin typeface="Arial"/>
                          <a:ea typeface="Times New Roman"/>
                        </a:rPr>
                        <a:t>QQ Qq q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5148360" y="5013360"/>
            <a:ext cx="431640" cy="358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5D4C-525D-4AC6-AB84-665E67172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S Within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known genotype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intro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-down: select among progeny of known Q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tom-up: test for segregation in high meri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4BE5-C374-4B06-BEBF-38EA5791B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S Within Pop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unknown genotype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xed mode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dditional gametic relationship (at QTL position)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2256-531A-43E1-9E34-08ABBC9D2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1360" y="47592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otype Assisted Selection (G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usative mutation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 haplotype is characteristic of Q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 family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B023-8E5F-476C-AA53-3C0579FDB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enetic Evaluation with QT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genotypes: mix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geno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for QTL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olygenic 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with QTL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CF09-51EB-4264-B872-D43071FFB9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638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higher in the short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urable sit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her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henotype on selection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dditive QT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QTL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vourable linkage with Q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0280-747B-424A-BAB5-AA5A881D6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6672-97AA-45C5-83A4-B2CD20BFA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4T00:22:33Z</dcterms:modified>
  <cp:revision>126</cp:revision>
  <dc:subject/>
  <dc:title>PowerPoint Presentation</dc:title>
</cp:coreProperties>
</file>