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92D4-7824-420E-8C6B-8509ACA28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3338-E019-42C9-B1A1-E8708636E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88CF-964D-469C-AE72-B7E536961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8536E-E094-4C35-9CE9-38B899761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6B36A-3C34-4F6E-87F3-A1F9D0C61B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C883C-FC7A-4945-AADD-8F45D31B22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79E34-F957-4A80-97F9-F6150B6309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8CC82-A14F-4E82-9D68-0BEA245959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A1B14-8A16-46F3-8C06-D7E48FE811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BB895-E355-435F-9CE4-2E210FDF83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57572-4764-4BCB-9638-B4FF49A018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BC7D-AFC3-4F1B-92BA-47B4FB462F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EB738-D1CE-486D-ADA2-E5ACDE914A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BB255-27D7-4E09-B359-1CB8587506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C76A4-2A95-4BA8-A4B9-68321B6CB2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78EF8-2F91-41E0-A6AE-3A5E980B63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7839C-6C5D-452B-A0F3-BC77901101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B07E-0BB1-4164-A9BE-D600A260F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3B71-48F0-46A6-ADC2-2115DDE4C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A9312-46D5-4C96-9790-B1E4837EE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DEE71-A84C-4AB9-9F1E-6AAD2BF07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5536-D52E-4B8A-A56F-03A6DBFA0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4FE2-BF3C-407F-AF89-76A1986F9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E53C-ED41-4A12-A986-D691E0B19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1D89-7568-41D3-A1DB-6733FB26DBF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168B-DA55-43EE-8EF4-828285CD0B5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102420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Arial"/>
              </a:rPr>
              <a:t>Detection of QT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55640" y="4229280"/>
            <a:ext cx="7773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ENE 422/522 - Topic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Ken Dod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87C6C-852D-4928-A81D-CB0ECC3A42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nterval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norm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when many phases to cons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ress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r to apply and ext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C844F-3697-452E-9E5C-B668BB9815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nterval Mapping -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49400" y="923760"/>
          <a:ext cx="762624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9400" y="923760"/>
                    <a:ext cx="762624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FDAC-4EC8-46A1-8F60-8447071612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QT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e interval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QTL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ce component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model + gametic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b-pai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D59D-2DDE-4555-8FE6-4783775098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stical Testing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c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utation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ce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6DC5-0219-4415-8B72-C8554790BD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stical Testing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daughter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te proge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ve genoty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6FAB7-BBB8-4C97-B344-DA6C3BE003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7B17-56F2-4830-8293-BCB94F0358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Quantitative Trait Lo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5840" y="18028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gions of the genome that cause variation in quantitative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im: map the QTL location and find its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or use in marker assisted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 find the cause and understand the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B8B4-D0D8-4144-9F22-4436ED5542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nbred Lines - Desig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158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arental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00480" y="1638360"/>
            <a:ext cx="129528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476440" y="1641600"/>
            <a:ext cx="1218960" cy="1197360"/>
            <a:chOff x="2476440" y="1641600"/>
            <a:chExt cx="1218960" cy="1197360"/>
          </a:xfrm>
        </p:grpSpPr>
        <p:sp>
          <p:nvSpPr>
            <p:cNvPr id="92" name=""/>
            <p:cNvSpPr/>
            <p:nvPr/>
          </p:nvSpPr>
          <p:spPr>
            <a:xfrm>
              <a:off x="2476440" y="1641600"/>
              <a:ext cx="1218960" cy="11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Q  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Q 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05040" y="23270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05040" y="24033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292720" y="1638360"/>
            <a:ext cx="1295280" cy="1234800"/>
            <a:chOff x="5292720" y="1638360"/>
            <a:chExt cx="1295280" cy="1234800"/>
          </a:xfrm>
        </p:grpSpPr>
        <p:grpSp>
          <p:nvGrpSpPr>
            <p:cNvPr id="96" name=""/>
            <p:cNvGrpSpPr/>
            <p:nvPr/>
          </p:nvGrpSpPr>
          <p:grpSpPr>
            <a:xfrm>
              <a:off x="5292720" y="1638360"/>
              <a:ext cx="1218960" cy="1234800"/>
              <a:chOff x="5292720" y="1638360"/>
              <a:chExt cx="1218960" cy="1234800"/>
            </a:xfrm>
          </p:grpSpPr>
          <p:sp>
            <p:nvSpPr>
              <p:cNvPr id="97" name=""/>
              <p:cNvSpPr/>
              <p:nvPr/>
            </p:nvSpPr>
            <p:spPr>
              <a:xfrm>
                <a:off x="5292720" y="1638360"/>
                <a:ext cx="1218960" cy="12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q  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q  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521320" y="232416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521320" y="240048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292720" y="1638360"/>
              <a:ext cx="129528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924360" y="2552760"/>
            <a:ext cx="1295280" cy="1181520"/>
            <a:chOff x="3924360" y="2552760"/>
            <a:chExt cx="1295280" cy="1181520"/>
          </a:xfrm>
        </p:grpSpPr>
        <p:grpSp>
          <p:nvGrpSpPr>
            <p:cNvPr id="102" name=""/>
            <p:cNvGrpSpPr/>
            <p:nvPr/>
          </p:nvGrpSpPr>
          <p:grpSpPr>
            <a:xfrm>
              <a:off x="3924360" y="2552760"/>
              <a:ext cx="1218960" cy="1181520"/>
              <a:chOff x="3924360" y="2552760"/>
              <a:chExt cx="1218960" cy="1181520"/>
            </a:xfrm>
          </p:grpSpPr>
          <p:sp>
            <p:nvSpPr>
              <p:cNvPr id="103" name=""/>
              <p:cNvSpPr/>
              <p:nvPr/>
            </p:nvSpPr>
            <p:spPr>
              <a:xfrm>
                <a:off x="3924360" y="2552760"/>
                <a:ext cx="1218960" cy="118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Q  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q  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52960" y="323856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52960" y="331488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3924360" y="2552760"/>
              <a:ext cx="129528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324160" y="4076640"/>
            <a:ext cx="1295280" cy="1155600"/>
            <a:chOff x="2324160" y="4076640"/>
            <a:chExt cx="1295280" cy="1155600"/>
          </a:xfrm>
        </p:grpSpPr>
        <p:grpSp>
          <p:nvGrpSpPr>
            <p:cNvPr id="108" name=""/>
            <p:cNvGrpSpPr/>
            <p:nvPr/>
          </p:nvGrpSpPr>
          <p:grpSpPr>
            <a:xfrm>
              <a:off x="2324160" y="4076640"/>
              <a:ext cx="1218960" cy="1155600"/>
              <a:chOff x="2324160" y="4076640"/>
              <a:chExt cx="1218960" cy="1155600"/>
            </a:xfrm>
          </p:grpSpPr>
          <p:sp>
            <p:nvSpPr>
              <p:cNvPr id="109" name=""/>
              <p:cNvSpPr/>
              <p:nvPr/>
            </p:nvSpPr>
            <p:spPr>
              <a:xfrm>
                <a:off x="2324160" y="4076640"/>
                <a:ext cx="1218960" cy="11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Q  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?      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52760" y="476244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52760" y="483876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324160" y="4076640"/>
              <a:ext cx="129528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924360" y="4076640"/>
            <a:ext cx="1295280" cy="1143000"/>
            <a:chOff x="3924360" y="4076640"/>
            <a:chExt cx="1295280" cy="1143000"/>
          </a:xfrm>
        </p:grpSpPr>
        <p:grpSp>
          <p:nvGrpSpPr>
            <p:cNvPr id="114" name=""/>
            <p:cNvGrpSpPr/>
            <p:nvPr/>
          </p:nvGrpSpPr>
          <p:grpSpPr>
            <a:xfrm>
              <a:off x="3924360" y="4076640"/>
              <a:ext cx="1218960" cy="1113840"/>
              <a:chOff x="3924360" y="4076640"/>
              <a:chExt cx="1218960" cy="1113840"/>
            </a:xfrm>
          </p:grpSpPr>
          <p:sp>
            <p:nvSpPr>
              <p:cNvPr id="115" name=""/>
              <p:cNvSpPr/>
              <p:nvPr/>
            </p:nvSpPr>
            <p:spPr>
              <a:xfrm>
                <a:off x="3924360" y="4076640"/>
                <a:ext cx="1218960" cy="111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?      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?      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52960" y="476244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152960" y="483876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3924360" y="4076640"/>
              <a:ext cx="129528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524560" y="4076640"/>
            <a:ext cx="1295280" cy="1197360"/>
            <a:chOff x="5524560" y="4076640"/>
            <a:chExt cx="1295280" cy="1197360"/>
          </a:xfrm>
        </p:grpSpPr>
        <p:grpSp>
          <p:nvGrpSpPr>
            <p:cNvPr id="120" name=""/>
            <p:cNvGrpSpPr/>
            <p:nvPr/>
          </p:nvGrpSpPr>
          <p:grpSpPr>
            <a:xfrm>
              <a:off x="5524560" y="4076640"/>
              <a:ext cx="1218960" cy="1197360"/>
              <a:chOff x="5524560" y="4076640"/>
              <a:chExt cx="1218960" cy="1197360"/>
            </a:xfrm>
          </p:grpSpPr>
          <p:sp>
            <p:nvSpPr>
              <p:cNvPr id="121" name=""/>
              <p:cNvSpPr/>
              <p:nvPr/>
            </p:nvSpPr>
            <p:spPr>
              <a:xfrm>
                <a:off x="5524560" y="4076640"/>
                <a:ext cx="1218960" cy="119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q  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?      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53160" y="476244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53160" y="483876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5524560" y="4076640"/>
              <a:ext cx="129528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695760" y="2400480"/>
            <a:ext cx="3808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990680" y="2400480"/>
            <a:ext cx="3049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29280" y="3619440"/>
            <a:ext cx="2286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33640" y="2857680"/>
            <a:ext cx="7632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161880" y="3467160"/>
            <a:ext cx="7621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43680" y="3467160"/>
            <a:ext cx="83808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58080" y="2857680"/>
            <a:ext cx="15228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762440" y="3619440"/>
            <a:ext cx="1526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4221000"/>
            <a:ext cx="158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QT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C976-0196-4AB7-909E-35F2294056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527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Single marker analysis</a:t>
            </a:r>
            <a:br>
              <a:rPr sz="3600"/>
            </a:b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Back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5480" y="1981080"/>
            <a:ext cx="8650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00000" y="1773360"/>
          <a:ext cx="7416720" cy="2735280"/>
        </p:xfrm>
        <a:graphic>
          <a:graphicData uri="http://schemas.openxmlformats.org/drawingml/2006/table">
            <a:tbl>
              <a:tblPr/>
              <a:tblGrid>
                <a:gridCol w="1136520"/>
                <a:gridCol w="2392560"/>
                <a:gridCol w="2447640"/>
                <a:gridCol w="1440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650880"/>
                          <a:tab algn="l" pos="2022480"/>
                          <a:tab algn="l" pos="3394080"/>
                          <a:tab algn="l" pos="5075280"/>
                          <a:tab algn="l" pos="5680080"/>
                          <a:tab algn="l" pos="6137280"/>
                          <a:tab algn="l" pos="6594480"/>
                          <a:tab algn="l" pos="7051680"/>
                          <a:tab algn="l" pos="7508880"/>
                          <a:tab algn="l" pos="7966080"/>
                          <a:tab algn="l" pos="8423280"/>
                          <a:tab algn="l" pos="8880480"/>
                          <a:tab algn="l" pos="9337680"/>
                          <a:tab algn="l" pos="9794880"/>
                          <a:tab algn="l" pos="10252080"/>
                          <a:tab algn="l" pos="10709280"/>
                          <a:tab algn="l" pos="11166480"/>
                          <a:tab algn="l" pos="11623680"/>
                          <a:tab algn="l" pos="12080880"/>
                          <a:tab algn="l" pos="10377504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n-GB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n-GB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650880"/>
                          <a:tab algn="l" pos="2022480"/>
                          <a:tab algn="l" pos="3394080"/>
                          <a:tab algn="l" pos="5075280"/>
                          <a:tab algn="l" pos="5680080"/>
                          <a:tab algn="l" pos="6137280"/>
                          <a:tab algn="l" pos="6594480"/>
                          <a:tab algn="l" pos="7051680"/>
                          <a:tab algn="l" pos="7508880"/>
                          <a:tab algn="l" pos="7966080"/>
                          <a:tab algn="l" pos="8423280"/>
                          <a:tab algn="l" pos="8880480"/>
                          <a:tab algn="l" pos="9337680"/>
                          <a:tab algn="l" pos="9794880"/>
                          <a:tab algn="l" pos="10252080"/>
                          <a:tab algn="l" pos="10709280"/>
                          <a:tab algn="l" pos="11166480"/>
                          <a:tab algn="l" pos="11623680"/>
                          <a:tab algn="l" pos="12080880"/>
                          <a:tab algn="l" pos="10377504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n-GB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n-GB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650880"/>
                          <a:tab algn="l" pos="2022480"/>
                          <a:tab algn="l" pos="3394080"/>
                          <a:tab algn="l" pos="5075280"/>
                          <a:tab algn="l" pos="5680080"/>
                          <a:tab algn="l" pos="6137280"/>
                          <a:tab algn="l" pos="6594480"/>
                          <a:tab algn="l" pos="7051680"/>
                          <a:tab algn="l" pos="7508880"/>
                          <a:tab algn="l" pos="7966080"/>
                          <a:tab algn="l" pos="8423280"/>
                          <a:tab algn="l" pos="8880480"/>
                          <a:tab algn="l" pos="9337680"/>
                          <a:tab algn="l" pos="9794880"/>
                          <a:tab algn="l" pos="10252080"/>
                          <a:tab algn="l" pos="10709280"/>
                          <a:tab algn="l" pos="11166480"/>
                          <a:tab algn="l" pos="11623680"/>
                          <a:tab algn="l" pos="12080880"/>
                          <a:tab algn="l" pos="10377504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650880"/>
                          <a:tab algn="l" pos="2022480"/>
                          <a:tab algn="l" pos="3394080"/>
                          <a:tab algn="l" pos="5075280"/>
                          <a:tab algn="l" pos="5680080"/>
                          <a:tab algn="l" pos="6137280"/>
                          <a:tab algn="l" pos="6594480"/>
                          <a:tab algn="l" pos="7051680"/>
                          <a:tab algn="l" pos="7508880"/>
                          <a:tab algn="l" pos="7966080"/>
                          <a:tab algn="l" pos="8423280"/>
                          <a:tab algn="l" pos="8880480"/>
                          <a:tab algn="l" pos="9337680"/>
                          <a:tab algn="l" pos="9794880"/>
                          <a:tab algn="l" pos="10252080"/>
                          <a:tab algn="l" pos="10709280"/>
                          <a:tab algn="l" pos="11166480"/>
                          <a:tab algn="l" pos="11623680"/>
                          <a:tab algn="l" pos="12080880"/>
                          <a:tab algn="l" pos="10377504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1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650880"/>
                          <a:tab algn="l" pos="2022480"/>
                          <a:tab algn="l" pos="3394080"/>
                          <a:tab algn="l" pos="5075280"/>
                          <a:tab algn="l" pos="5680080"/>
                          <a:tab algn="l" pos="6137280"/>
                          <a:tab algn="l" pos="6594480"/>
                          <a:tab algn="l" pos="7051680"/>
                          <a:tab algn="l" pos="7508880"/>
                          <a:tab algn="l" pos="7966080"/>
                          <a:tab algn="l" pos="8423280"/>
                          <a:tab algn="l" pos="8880480"/>
                          <a:tab algn="l" pos="9337680"/>
                          <a:tab algn="l" pos="9794880"/>
                          <a:tab algn="l" pos="10252080"/>
                          <a:tab algn="l" pos="10709280"/>
                          <a:tab algn="l" pos="11166480"/>
                          <a:tab algn="l" pos="11623680"/>
                          <a:tab algn="l" pos="12080880"/>
                          <a:tab algn="l" pos="10377504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½(1-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5490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650880"/>
                          <a:tab algn="l" pos="2022480"/>
                          <a:tab algn="l" pos="3394080"/>
                          <a:tab algn="l" pos="5075280"/>
                          <a:tab algn="l" pos="5680080"/>
                          <a:tab algn="l" pos="6137280"/>
                          <a:tab algn="l" pos="6594480"/>
                          <a:tab algn="l" pos="7051680"/>
                          <a:tab algn="l" pos="7508880"/>
                          <a:tab algn="l" pos="7966080"/>
                          <a:tab algn="l" pos="8423280"/>
                          <a:tab algn="l" pos="8880480"/>
                          <a:tab algn="l" pos="9337680"/>
                          <a:tab algn="l" pos="9794880"/>
                          <a:tab algn="l" pos="10252080"/>
                          <a:tab algn="l" pos="10709280"/>
                          <a:tab algn="l" pos="11166480"/>
                          <a:tab algn="l" pos="11623680"/>
                          <a:tab algn="l" pos="12080880"/>
                          <a:tab algn="l" pos="10377504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½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5490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650880"/>
                          <a:tab algn="l" pos="2022480"/>
                          <a:tab algn="l" pos="3394080"/>
                          <a:tab algn="l" pos="5075280"/>
                          <a:tab algn="l" pos="5680080"/>
                          <a:tab algn="l" pos="6137280"/>
                          <a:tab algn="l" pos="6594480"/>
                          <a:tab algn="l" pos="7051680"/>
                          <a:tab algn="l" pos="7508880"/>
                          <a:tab algn="l" pos="7966080"/>
                          <a:tab algn="l" pos="8423280"/>
                          <a:tab algn="l" pos="8880480"/>
                          <a:tab algn="l" pos="9337680"/>
                          <a:tab algn="l" pos="9794880"/>
                          <a:tab algn="l" pos="10252080"/>
                          <a:tab algn="l" pos="10709280"/>
                          <a:tab algn="l" pos="11166480"/>
                          <a:tab algn="l" pos="11623680"/>
                          <a:tab algn="l" pos="12080880"/>
                          <a:tab algn="l" pos="10377504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1b7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650880"/>
                          <a:tab algn="l" pos="2022480"/>
                          <a:tab algn="l" pos="3394080"/>
                          <a:tab algn="l" pos="5075280"/>
                          <a:tab algn="l" pos="5680080"/>
                          <a:tab algn="l" pos="6137280"/>
                          <a:tab algn="l" pos="6594480"/>
                          <a:tab algn="l" pos="7051680"/>
                          <a:tab algn="l" pos="7508880"/>
                          <a:tab algn="l" pos="7966080"/>
                          <a:tab algn="l" pos="8423280"/>
                          <a:tab algn="l" pos="8880480"/>
                          <a:tab algn="l" pos="9337680"/>
                          <a:tab algn="l" pos="9794880"/>
                          <a:tab algn="l" pos="10252080"/>
                          <a:tab algn="l" pos="10709280"/>
                          <a:tab algn="l" pos="11166480"/>
                          <a:tab algn="l" pos="11623680"/>
                          <a:tab algn="l" pos="12080880"/>
                          <a:tab algn="l" pos="10377504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1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650880"/>
                          <a:tab algn="l" pos="2022480"/>
                          <a:tab algn="l" pos="3394080"/>
                          <a:tab algn="l" pos="5075280"/>
                          <a:tab algn="l" pos="5680080"/>
                          <a:tab algn="l" pos="6137280"/>
                          <a:tab algn="l" pos="6594480"/>
                          <a:tab algn="l" pos="7051680"/>
                          <a:tab algn="l" pos="7508880"/>
                          <a:tab algn="l" pos="7966080"/>
                          <a:tab algn="l" pos="8423280"/>
                          <a:tab algn="l" pos="8880480"/>
                          <a:tab algn="l" pos="9337680"/>
                          <a:tab algn="l" pos="9794880"/>
                          <a:tab algn="l" pos="10252080"/>
                          <a:tab algn="l" pos="10709280"/>
                          <a:tab algn="l" pos="11166480"/>
                          <a:tab algn="l" pos="11623680"/>
                          <a:tab algn="l" pos="12080880"/>
                          <a:tab algn="l" pos="10377504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½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90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650880"/>
                          <a:tab algn="l" pos="2022480"/>
                          <a:tab algn="l" pos="3394080"/>
                          <a:tab algn="l" pos="5075280"/>
                          <a:tab algn="l" pos="5680080"/>
                          <a:tab algn="l" pos="6137280"/>
                          <a:tab algn="l" pos="6594480"/>
                          <a:tab algn="l" pos="7051680"/>
                          <a:tab algn="l" pos="7508880"/>
                          <a:tab algn="l" pos="7966080"/>
                          <a:tab algn="l" pos="8423280"/>
                          <a:tab algn="l" pos="8880480"/>
                          <a:tab algn="l" pos="9337680"/>
                          <a:tab algn="l" pos="9794880"/>
                          <a:tab algn="l" pos="10252080"/>
                          <a:tab algn="l" pos="10709280"/>
                          <a:tab algn="l" pos="11166480"/>
                          <a:tab algn="l" pos="11623680"/>
                          <a:tab algn="l" pos="12080880"/>
                          <a:tab algn="l" pos="10377504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½(1-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90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650880"/>
                          <a:tab algn="l" pos="2022480"/>
                          <a:tab algn="l" pos="3394080"/>
                          <a:tab algn="l" pos="5075280"/>
                          <a:tab algn="l" pos="5680080"/>
                          <a:tab algn="l" pos="6137280"/>
                          <a:tab algn="l" pos="6594480"/>
                          <a:tab algn="l" pos="7051680"/>
                          <a:tab algn="l" pos="7508880"/>
                          <a:tab algn="l" pos="7966080"/>
                          <a:tab algn="l" pos="8423280"/>
                          <a:tab algn="l" pos="8880480"/>
                          <a:tab algn="l" pos="9337680"/>
                          <a:tab algn="l" pos="9794880"/>
                          <a:tab algn="l" pos="10252080"/>
                          <a:tab algn="l" pos="10709280"/>
                          <a:tab algn="l" pos="11166480"/>
                          <a:tab algn="l" pos="11623680"/>
                          <a:tab algn="l" pos="12080880"/>
                          <a:tab algn="l" pos="10377504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1b7"/>
                    </a:solidFill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650880"/>
                          <a:tab algn="l" pos="2022480"/>
                          <a:tab algn="l" pos="3394080"/>
                          <a:tab algn="l" pos="5075280"/>
                          <a:tab algn="l" pos="5680080"/>
                          <a:tab algn="l" pos="6137280"/>
                          <a:tab algn="l" pos="6594480"/>
                          <a:tab algn="l" pos="7051680"/>
                          <a:tab algn="l" pos="7508880"/>
                          <a:tab algn="l" pos="7966080"/>
                          <a:tab algn="l" pos="8423280"/>
                          <a:tab algn="l" pos="8880480"/>
                          <a:tab algn="l" pos="9337680"/>
                          <a:tab algn="l" pos="9794880"/>
                          <a:tab algn="l" pos="10252080"/>
                          <a:tab algn="l" pos="10709280"/>
                          <a:tab algn="l" pos="11166480"/>
                          <a:tab algn="l" pos="11623680"/>
                          <a:tab algn="l" pos="12080880"/>
                          <a:tab algn="l" pos="10377504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650880"/>
                          <a:tab algn="l" pos="2022480"/>
                          <a:tab algn="l" pos="3394080"/>
                          <a:tab algn="l" pos="5075280"/>
                          <a:tab algn="l" pos="5680080"/>
                          <a:tab algn="l" pos="6137280"/>
                          <a:tab algn="l" pos="6594480"/>
                          <a:tab algn="l" pos="7051680"/>
                          <a:tab algn="l" pos="7508880"/>
                          <a:tab algn="l" pos="7966080"/>
                          <a:tab algn="l" pos="8423280"/>
                          <a:tab algn="l" pos="8880480"/>
                          <a:tab algn="l" pos="9337680"/>
                          <a:tab algn="l" pos="9794880"/>
                          <a:tab algn="l" pos="10252080"/>
                          <a:tab algn="l" pos="10709280"/>
                          <a:tab algn="l" pos="11166480"/>
                          <a:tab algn="l" pos="11623680"/>
                          <a:tab algn="l" pos="12080880"/>
                          <a:tab algn="l" pos="10377504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650880"/>
                          <a:tab algn="l" pos="2022480"/>
                          <a:tab algn="l" pos="3394080"/>
                          <a:tab algn="l" pos="5075280"/>
                          <a:tab algn="l" pos="5680080"/>
                          <a:tab algn="l" pos="6137280"/>
                          <a:tab algn="l" pos="6594480"/>
                          <a:tab algn="l" pos="7051680"/>
                          <a:tab algn="l" pos="7508880"/>
                          <a:tab algn="l" pos="7966080"/>
                          <a:tab algn="l" pos="8423280"/>
                          <a:tab algn="l" pos="8880480"/>
                          <a:tab algn="l" pos="9337680"/>
                          <a:tab algn="l" pos="9794880"/>
                          <a:tab algn="l" pos="10252080"/>
                          <a:tab algn="l" pos="10709280"/>
                          <a:tab algn="l" pos="11166480"/>
                          <a:tab algn="l" pos="11623680"/>
                          <a:tab algn="l" pos="12080880"/>
                          <a:tab algn="l" pos="10377504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(1-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650880"/>
                          <a:tab algn="l" pos="2022480"/>
                          <a:tab algn="l" pos="3394080"/>
                          <a:tab algn="l" pos="5075280"/>
                          <a:tab algn="l" pos="5680080"/>
                          <a:tab algn="l" pos="6137280"/>
                          <a:tab algn="l" pos="6594480"/>
                          <a:tab algn="l" pos="7051680"/>
                          <a:tab algn="l" pos="7508880"/>
                          <a:tab algn="l" pos="7966080"/>
                          <a:tab algn="l" pos="8423280"/>
                          <a:tab algn="l" pos="8880480"/>
                          <a:tab algn="l" pos="9337680"/>
                          <a:tab algn="l" pos="9794880"/>
                          <a:tab algn="l" pos="10252080"/>
                          <a:tab algn="l" pos="10709280"/>
                          <a:tab algn="l" pos="11166480"/>
                          <a:tab algn="l" pos="11623680"/>
                          <a:tab algn="l" pos="12080880"/>
                          <a:tab algn="l" pos="10377504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+d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40360" y="476280"/>
            <a:ext cx="129564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016680" y="479520"/>
            <a:ext cx="1218960" cy="1197360"/>
            <a:chOff x="6016680" y="479520"/>
            <a:chExt cx="1218960" cy="1197360"/>
          </a:xfrm>
        </p:grpSpPr>
        <p:sp>
          <p:nvSpPr>
            <p:cNvPr id="139" name=""/>
            <p:cNvSpPr/>
            <p:nvPr/>
          </p:nvSpPr>
          <p:spPr>
            <a:xfrm>
              <a:off x="6016680" y="479520"/>
              <a:ext cx="1218960" cy="11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Q  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Q 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45280" y="11649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45280" y="12412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667640" y="476280"/>
            <a:ext cx="1295280" cy="1181520"/>
            <a:chOff x="7667640" y="476280"/>
            <a:chExt cx="1295280" cy="1181520"/>
          </a:xfrm>
        </p:grpSpPr>
        <p:grpSp>
          <p:nvGrpSpPr>
            <p:cNvPr id="143" name=""/>
            <p:cNvGrpSpPr/>
            <p:nvPr/>
          </p:nvGrpSpPr>
          <p:grpSpPr>
            <a:xfrm>
              <a:off x="7667640" y="476280"/>
              <a:ext cx="1218960" cy="1181520"/>
              <a:chOff x="7667640" y="476280"/>
              <a:chExt cx="1218960" cy="1181520"/>
            </a:xfrm>
          </p:grpSpPr>
          <p:sp>
            <p:nvSpPr>
              <p:cNvPr id="144" name=""/>
              <p:cNvSpPr/>
              <p:nvPr/>
            </p:nvSpPr>
            <p:spPr>
              <a:xfrm>
                <a:off x="7667640" y="476280"/>
                <a:ext cx="1218960" cy="118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Q  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q  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896240" y="116208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96240" y="123840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7667640" y="476280"/>
              <a:ext cx="129528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979640" y="4653000"/>
            <a:ext cx="2376360" cy="8254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QTL types - unobser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4653000"/>
            <a:ext cx="237636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arker types - obser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36000" y="549360"/>
            <a:ext cx="50292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F3DDA-5C15-46A3-970E-C8663092AA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613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Single marker analysis</a:t>
            </a:r>
            <a:br>
              <a:rPr sz="3600"/>
            </a:b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Outcross – half sib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5480" y="1981080"/>
            <a:ext cx="8650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79640" y="4653000"/>
            <a:ext cx="2376360" cy="8254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QTL types - unobser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653000"/>
            <a:ext cx="237636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arker types - obser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9640" y="1628640"/>
          <a:ext cx="8350200" cy="2733840"/>
        </p:xfrm>
        <a:graphic>
          <a:graphicData uri="http://schemas.openxmlformats.org/drawingml/2006/table">
            <a:tbl>
              <a:tblPr/>
              <a:tblGrid>
                <a:gridCol w="1138320"/>
                <a:gridCol w="4175280"/>
                <a:gridCol w="2751120"/>
                <a:gridCol w="28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ele received from si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n-GB" sz="2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n-GB" sz="2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1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650880"/>
                          <a:tab algn="l" pos="2022480"/>
                          <a:tab algn="l" pos="3394080"/>
                          <a:tab algn="l" pos="5075280"/>
                          <a:tab algn="l" pos="5680080"/>
                          <a:tab algn="l" pos="6137280"/>
                          <a:tab algn="l" pos="6594480"/>
                          <a:tab algn="l" pos="7051680"/>
                          <a:tab algn="l" pos="7508880"/>
                          <a:tab algn="l" pos="7966080"/>
                          <a:tab algn="l" pos="8423280"/>
                          <a:tab algn="l" pos="8880480"/>
                          <a:tab algn="l" pos="9337680"/>
                          <a:tab algn="l" pos="9794880"/>
                          <a:tab algn="l" pos="10252080"/>
                          <a:tab algn="l" pos="10709280"/>
                          <a:tab algn="l" pos="11166480"/>
                          <a:tab algn="l" pos="11623680"/>
                          <a:tab algn="l" pos="12080880"/>
                          <a:tab algn="l" pos="10377504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½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</a:t>
                      </a:r>
                      <a:r>
                        <a:rPr b="0" i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5490a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650880"/>
                          <a:tab algn="l" pos="2022480"/>
                          <a:tab algn="l" pos="3394080"/>
                          <a:tab algn="l" pos="5075280"/>
                          <a:tab algn="l" pos="5680080"/>
                          <a:tab algn="l" pos="6137280"/>
                          <a:tab algn="l" pos="6594480"/>
                          <a:tab algn="l" pos="7051680"/>
                          <a:tab algn="l" pos="7508880"/>
                          <a:tab algn="l" pos="7966080"/>
                          <a:tab algn="l" pos="8423280"/>
                          <a:tab algn="l" pos="8880480"/>
                          <a:tab algn="l" pos="9337680"/>
                          <a:tab algn="l" pos="9794880"/>
                          <a:tab algn="l" pos="10252080"/>
                          <a:tab algn="l" pos="10709280"/>
                          <a:tab algn="l" pos="11166480"/>
                          <a:tab algn="l" pos="11623680"/>
                          <a:tab algn="l" pos="12080880"/>
                          <a:tab algn="l" pos="10377504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½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5490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650880"/>
                          <a:tab algn="l" pos="2022480"/>
                          <a:tab algn="l" pos="3394080"/>
                          <a:tab algn="l" pos="5075280"/>
                          <a:tab algn="l" pos="5680080"/>
                          <a:tab algn="l" pos="6137280"/>
                          <a:tab algn="l" pos="6594480"/>
                          <a:tab algn="l" pos="7051680"/>
                          <a:tab algn="l" pos="7508880"/>
                          <a:tab algn="l" pos="7966080"/>
                          <a:tab algn="l" pos="8423280"/>
                          <a:tab algn="l" pos="8880480"/>
                          <a:tab algn="l" pos="9337680"/>
                          <a:tab algn="l" pos="9794880"/>
                          <a:tab algn="l" pos="10252080"/>
                          <a:tab algn="l" pos="10709280"/>
                          <a:tab algn="l" pos="11166480"/>
                          <a:tab algn="l" pos="11623680"/>
                          <a:tab algn="l" pos="12080880"/>
                          <a:tab algn="l" pos="10377504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½[(1-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(1-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+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490a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650880"/>
                          <a:tab algn="l" pos="2022480"/>
                          <a:tab algn="l" pos="3394080"/>
                          <a:tab algn="l" pos="5075280"/>
                          <a:tab algn="l" pos="5680080"/>
                          <a:tab algn="l" pos="6137280"/>
                          <a:tab algn="l" pos="6594480"/>
                          <a:tab algn="l" pos="7051680"/>
                          <a:tab algn="l" pos="7508880"/>
                          <a:tab algn="l" pos="7966080"/>
                          <a:tab algn="l" pos="8423280"/>
                          <a:tab algn="l" pos="8880480"/>
                          <a:tab algn="l" pos="9337680"/>
                          <a:tab algn="l" pos="9794880"/>
                          <a:tab algn="l" pos="10252080"/>
                          <a:tab algn="l" pos="10709280"/>
                          <a:tab algn="l" pos="11166480"/>
                          <a:tab algn="l" pos="11623680"/>
                          <a:tab algn="l" pos="12080880"/>
                          <a:tab algn="l" pos="10377504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½[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-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+ (1-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490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1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650880"/>
                          <a:tab algn="l" pos="2022480"/>
                          <a:tab algn="l" pos="3394080"/>
                          <a:tab algn="l" pos="5075280"/>
                          <a:tab algn="l" pos="5680080"/>
                          <a:tab algn="l" pos="6137280"/>
                          <a:tab algn="l" pos="6594480"/>
                          <a:tab algn="l" pos="7051680"/>
                          <a:tab algn="l" pos="7508880"/>
                          <a:tab algn="l" pos="7966080"/>
                          <a:tab algn="l" pos="8423280"/>
                          <a:tab algn="l" pos="8880480"/>
                          <a:tab algn="l" pos="9337680"/>
                          <a:tab algn="l" pos="9794880"/>
                          <a:tab algn="l" pos="10252080"/>
                          <a:tab algn="l" pos="10709280"/>
                          <a:tab algn="l" pos="11166480"/>
                          <a:tab algn="l" pos="11623680"/>
                          <a:tab algn="l" pos="12080880"/>
                          <a:tab algn="l" pos="10377504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½(1-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90a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650880"/>
                          <a:tab algn="l" pos="2022480"/>
                          <a:tab algn="l" pos="3394080"/>
                          <a:tab algn="l" pos="5075280"/>
                          <a:tab algn="l" pos="5680080"/>
                          <a:tab algn="l" pos="6137280"/>
                          <a:tab algn="l" pos="6594480"/>
                          <a:tab algn="l" pos="7051680"/>
                          <a:tab algn="l" pos="7508880"/>
                          <a:tab algn="l" pos="7966080"/>
                          <a:tab algn="l" pos="8423280"/>
                          <a:tab algn="l" pos="8880480"/>
                          <a:tab algn="l" pos="9337680"/>
                          <a:tab algn="l" pos="9794880"/>
                          <a:tab algn="l" pos="10252080"/>
                          <a:tab algn="l" pos="10709280"/>
                          <a:tab algn="l" pos="11166480"/>
                          <a:tab algn="l" pos="11623680"/>
                          <a:tab algn="l" pos="12080880"/>
                          <a:tab algn="l" pos="10377504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½(1-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(1-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90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650880"/>
                          <a:tab algn="l" pos="2022480"/>
                          <a:tab algn="l" pos="3394080"/>
                          <a:tab algn="l" pos="5075280"/>
                          <a:tab algn="l" pos="5680080"/>
                          <a:tab algn="l" pos="6137280"/>
                          <a:tab algn="l" pos="6594480"/>
                          <a:tab algn="l" pos="7051680"/>
                          <a:tab algn="l" pos="7508880"/>
                          <a:tab algn="l" pos="7966080"/>
                          <a:tab algn="l" pos="8423280"/>
                          <a:tab algn="l" pos="8880480"/>
                          <a:tab algn="l" pos="9337680"/>
                          <a:tab algn="l" pos="9794880"/>
                          <a:tab algn="l" pos="10252080"/>
                          <a:tab algn="l" pos="10709280"/>
                          <a:tab algn="l" pos="11166480"/>
                          <a:tab algn="l" pos="11623680"/>
                          <a:tab algn="l" pos="12080880"/>
                          <a:tab algn="l" pos="10377504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(1-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650880"/>
                          <a:tab algn="l" pos="2022480"/>
                          <a:tab algn="l" pos="3394080"/>
                          <a:tab algn="l" pos="5075280"/>
                          <a:tab algn="l" pos="5680080"/>
                          <a:tab algn="l" pos="6137280"/>
                          <a:tab algn="l" pos="6594480"/>
                          <a:tab algn="l" pos="7051680"/>
                          <a:tab algn="l" pos="7508880"/>
                          <a:tab algn="l" pos="7966080"/>
                          <a:tab algn="l" pos="8423280"/>
                          <a:tab algn="l" pos="8880480"/>
                          <a:tab algn="l" pos="9337680"/>
                          <a:tab algn="l" pos="9794880"/>
                          <a:tab algn="l" pos="10252080"/>
                          <a:tab algn="l" pos="10709280"/>
                          <a:tab algn="l" pos="11166480"/>
                          <a:tab algn="l" pos="11623680"/>
                          <a:tab algn="l" pos="12080880"/>
                          <a:tab algn="l" pos="10377504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+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)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(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C376-EA2A-4238-83F8-FFE5D35931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nterval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a pair of markers to map the QT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ives estimated size and position, as well as significanc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creases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233F-8463-4B0C-8139-EAD1F00E21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nterval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alculate test statistic at each position (2 cM ste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the conditional probability that the individual has a particular QTL genotype given the mark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2F02-5C25-477A-95F0-67D20FE3DF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nterval Mapping - Backcr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ditional probability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P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)P(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/ P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½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(1-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 x (1-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/ [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1-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73AE-2353-4D92-BDE0-67E98DE6F5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nterval Mapping – Half si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consider possible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ies can include dam’s allele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r brackets differ between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6C356-B55B-48C4-A2D0-9A7F531084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Briana Daly</cp:lastModifiedBy>
  <dcterms:modified xsi:type="dcterms:W3CDTF">2005-07-14T00:22:59Z</dcterms:modified>
  <cp:revision>128</cp:revision>
  <dc:subject/>
  <dc:title>PowerPoint Presentation</dc:title>
</cp:coreProperties>
</file>