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5.png" ContentType="image/png"/>
  <Override PartName="/ppt/media/image9.wmf" ContentType="image/x-wmf"/>
  <Override PartName="/ppt/media/image10.wmf" ContentType="image/x-wmf"/>
  <Override PartName="/ppt/media/image30.wmf" ContentType="image/x-wmf"/>
  <Override PartName="/ppt/media/image31.wmf" ContentType="image/x-wmf"/>
  <Override PartName="/ppt/media/image29.wmf" ContentType="image/x-wmf"/>
  <Override PartName="/ppt/media/image11.wmf" ContentType="image/x-wmf"/>
  <Override PartName="/ppt/media/image35.wmf" ContentType="image/x-wmf"/>
  <Override PartName="/ppt/media/image6.wmf" ContentType="image/x-wmf"/>
  <Override PartName="/ppt/media/image36.wmf" ContentType="image/x-wmf"/>
  <Override PartName="/ppt/media/image16.png" ContentType="image/png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.bin" ContentType="application/vnd.openxmlformats-officedocument.oleObject"/>
  <Override PartName="/ppt/embeddings/oleObject11.docx" ContentType="application/vnd.openxmlformats-officedocument.wordprocessingml.document"/>
  <Override PartName="/ppt/embeddings/oleObject2.bin" ContentType="application/vnd.openxmlformats-officedocument.oleObjec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3.bin" ContentType="application/vnd.openxmlformats-officedocument.oleObject"/>
  <Override PartName="/ppt/embeddings/oleObject9.docx" ContentType="application/vnd.openxmlformats-officedocument.wordprocessingml.document"/>
  <Override PartName="/ppt/embeddings/oleObject10.docx" ContentType="application/vnd.openxmlformats-officedocument.wordprocessingml.documen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BD63-E464-4FF8-8558-514FD0D24B01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491C-A000-4FD8-8166-440AEADBA21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96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scale:  5 versus 15 years has more effect on crossbreeding policy than purebreeding policy at a ‘stud’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C00C-DAE0-4F76-8C3E-C1A26042162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96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more difference - more heter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but running costs are high, so rotations and composi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s use pure sires, as these are cheaper than pure (or F1) dams bought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9033-5009-4338-81CD-2CD89760644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96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aper - but losses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79FF-6C89-47FD-AA79-41A3A676BCA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96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aper - but losses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6A07-CE9E-42AA-BFDB-032402DEF00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96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Rotation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first compromise from a fully structured (short pedigree on both sides)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look at modifications which lead to composite de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1B01-784C-48A9-9638-9A19E615605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96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ared for effici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‘brred preference’ or periodic rotations, then:  similar effect is ‘rotation facto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F00A-6B80-49D6-A52C-855450B5542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96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scale:  5 versus 15 years has more effect on crossbreeding policy than purebreeding policy at a ‘stud’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DA9F-1361-4CD3-9A81-232AE371F84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 of composites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FF9A-F04B-4168-A1DA-7ECBCD991D6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 of composites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ing support with objectives, broad design and EBV’s only goes part of the way.  The breeder much juggle with many factors to come up with a tactical implem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Assortative mating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990000"/>
                </a:solidFill>
                <a:latin typeface="Times New Roman"/>
              </a:rPr>
              <a:t>Elite matings, giving longer term gai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Corrective mating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990000"/>
                </a:solidFill>
                <a:latin typeface="Times New Roman"/>
              </a:rPr>
              <a:t>Non-linear merit &amp; eg. birth wt. effect on surviv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Quantitative Trait Loci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990000"/>
                </a:solidFill>
                <a:latin typeface="Times New Roman"/>
              </a:rPr>
              <a:t>Detection and use of ‘major loci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Risk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990000"/>
                </a:solidFill>
                <a:latin typeface="Times New Roman"/>
              </a:rPr>
              <a:t>Staying in busin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990000"/>
                </a:solidFill>
                <a:latin typeface="Times New Roman"/>
              </a:rPr>
              <a:t>Particularly for longer term gai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Lifetime value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990000"/>
                </a:solidFill>
                <a:latin typeface="Times New Roman"/>
              </a:rPr>
              <a:t>For ongoing harvesting and reprodu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ing support with objectives, broad design and EBV’s only goes part of the way.  The breeder much juggle with many factors to come up with a tactical implem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Assortative mating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990000"/>
                </a:solidFill>
                <a:latin typeface="Times New Roman"/>
              </a:rPr>
              <a:t>Elite matings, giving longer term gai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Corrective mating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990000"/>
                </a:solidFill>
                <a:latin typeface="Times New Roman"/>
              </a:rPr>
              <a:t>Non-linear merit &amp; eg. birth wt. effect on surviv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Quantitative Trait Loci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990000"/>
                </a:solidFill>
                <a:latin typeface="Times New Roman"/>
              </a:rPr>
              <a:t>Detection and use of ‘major loci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Risk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990000"/>
                </a:solidFill>
                <a:latin typeface="Times New Roman"/>
              </a:rPr>
              <a:t>Staying in busin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990000"/>
                </a:solidFill>
                <a:latin typeface="Times New Roman"/>
              </a:rPr>
              <a:t>Particularly for longer term gai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Lifetime value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990000"/>
                </a:solidFill>
                <a:latin typeface="Times New Roman"/>
              </a:rPr>
              <a:t>For ongoing harvesting and reprodu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bjective function is predicted progeny merit corrected for costs.  Notional trait is yearling weight.  Inbreeding ignored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nsportation problem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P works well here because the value of each mating is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straints differ under variable MO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9ACF-F55F-4511-A026-013F477D509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‘opportunistic composite breeding strategy’.  Is is somewhat ideal as is depends to a fair extent on availability of crossbred EPD’s based on pedigreed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become a fixed composite breeding strategy by applying appropriate constra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5563-0DE0-4C39-9C0B-709EA429054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96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st between rows most important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electrion in purebreeds this would mean less response in crossbreds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4FC7-D8E1-43DD-A370-A5274769ECE5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96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1CCE-38CD-4E89-ABF1-B9D366846C4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96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found no evidence of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09F6-571D-46D0-BFED-E827B18DB38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scale:  5 versus 15 years has more effect on crossbreeding policy than purebreeding policy at a ‘stud’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9E61-D2D1-4ADA-92BA-A34A176550D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9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scale:  5 versus 15 years has more effect on crossbreeding policy than purebreeding policy at a ‘stud’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DA4E-4FCF-4942-AC94-B36F86EB5FD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9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scale:  5 versus 15 years has more effect on crossbreeding policy than purebreeding policy at a ‘stud’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3206-502C-4D75-8DDB-36AB2120B4D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9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scale:  5 versus 15 years has more effect on crossbreeding policy than purebreeding policy at a ‘stud’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E61F-61C3-4D71-B274-3ED1F73089C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scale:  5 versus 15 years has more effect on crossbreeding policy than purebreeding policy at a ‘stud’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6620-4550-4D16-AD69-38FD1CB98A2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96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scale:  5 versus 15 years has more effect on crossbreeding policy than purebreeding policy at a ‘stud’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585D5-4218-4B4B-8836-92282F5B6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38C4-83DB-4AC1-BEC3-EA2B5C1F6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97C97-71BE-41C7-ABE8-0B55D2334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0F85-ACB1-4A5A-AD5E-4882EC353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80635-AA66-4381-8011-77435E6542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437DC-8D37-4978-B24E-5F73ECDFC0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E4C8A-0D22-432C-BEEA-A2D9D30C37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52ECF-CB79-40AF-B449-F81B62565A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27960-2884-4AE2-AE38-C6C53E8A2A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1E5B1-D24A-4B80-8A1D-44BECFD7E9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2BDA8-99D6-41E9-AD40-86DCDA580E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39B0F-4FB3-4B83-80AB-50BE231E49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BDC30-0BED-4C28-B359-98B77DF112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0FC46-B410-4891-BE76-D0ED647F53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4D718-EA75-4159-81ED-B7DE80EC17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7BBED-A533-46DB-BA94-7EAA81FF7B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A4976-FEE4-4D18-A84B-42CAB38699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B9C95-3CB8-49F5-A922-90BCF11FF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02DE2-FC90-4B4D-A1E7-269725032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F4EFA-07E1-4F65-A137-05FAF816F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1E3E5-F21B-4CED-9242-DCF0AC4F8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2EA59-CFEC-41A9-B15D-FB46BB74E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C56C-2E8E-4FB3-8288-7CDACBDC7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E0BF-8A92-4496-B4AA-957E6C7AF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5D3A-3BEB-42EB-84A8-979D9C991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8638-0B71-4FDA-A317-F541A4EE7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package" Target="../embeddings/oleObject9.docx"/><Relationship Id="rId18" Type="http://schemas.openxmlformats.org/officeDocument/2006/relationships/image" Target="../media/image27.wmf"/><Relationship Id="rId19" Type="http://schemas.openxmlformats.org/officeDocument/2006/relationships/package" Target="../embeddings/oleObject10.docx"/><Relationship Id="rId20" Type="http://schemas.openxmlformats.org/officeDocument/2006/relationships/image" Target="../media/image28.wmf"/><Relationship Id="rId21" Type="http://schemas.openxmlformats.org/officeDocument/2006/relationships/package" Target="../embeddings/oleObject11.docx"/><Relationship Id="rId22" Type="http://schemas.openxmlformats.org/officeDocument/2006/relationships/image" Target="../media/image29.wmf"/><Relationship Id="rId23" Type="http://schemas.openxmlformats.org/officeDocument/2006/relationships/slideLayout" Target="../slideLayouts/slideLayout5.xml"/><Relationship Id="rId2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085040"/>
            <a:ext cx="808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ossbree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88560" y="4229280"/>
            <a:ext cx="7774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422/522 – Topic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an Kingh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36CA9-F671-4399-B41F-086690E5B9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stimating Crossbreeding Paramet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4360" y="765000"/>
          <a:ext cx="8028000" cy="473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65000"/>
                    <a:ext cx="8028000" cy="47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2600" y="151920"/>
            <a:ext cx="8488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ossbreeding:</a:t>
            </a:r>
            <a:br>
              <a:rPr sz="3600"/>
            </a:b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More ‘structure’ gives more merit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6280" y="1341360"/>
            <a:ext cx="5769000" cy="17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general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The shorter the breed pedigree back to purebred par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564240" y="1125360"/>
          <a:ext cx="2255760" cy="23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64240" y="1125360"/>
                    <a:ext cx="225576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035000" y="3110040"/>
            <a:ext cx="797400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33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re heterosis can be expres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33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re sire-dam complimentarity can be ex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BUT:  The more expensive the operation is to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93840" y="44280"/>
            <a:ext cx="864216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ss of Heterosis &amp; Complimentarity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258920" y="2266920"/>
          <a:ext cx="2376360" cy="25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66920"/>
                    <a:ext cx="2376360" cy="25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5435640" y="1773360"/>
          <a:ext cx="1584360" cy="36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1773360"/>
                    <a:ext cx="158436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1331280" y="1413000"/>
            <a:ext cx="222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Breed Cr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30200" y="1197000"/>
            <a:ext cx="2565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tational Cr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547640" y="1413000"/>
          <a:ext cx="1881360" cy="40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413000"/>
                    <a:ext cx="1881360" cy="40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056760" y="836640"/>
            <a:ext cx="2565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tational Cr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911840" y="1484280"/>
          <a:ext cx="2825640" cy="3963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11840" y="1484280"/>
                    <a:ext cx="282564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393840" y="44280"/>
            <a:ext cx="864216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ss of Heterosis &amp; Complimentarity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5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wo-Breed Ro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116000" y="1125360"/>
          <a:ext cx="7370640" cy="42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125360"/>
                    <a:ext cx="7370640" cy="42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189000"/>
            <a:ext cx="8139240" cy="82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tation with Generation Preference</a:t>
            </a:r>
            <a:br>
              <a:rPr sz="3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- following G. Nit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003320" y="1125360"/>
          <a:ext cx="7137360" cy="43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1125360"/>
                    <a:ext cx="713736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7640" y="240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sit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 related to corporate 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35040" y="1557360"/>
            <a:ext cx="8508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ed for PRODUCT or breed for SEEDSTO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quenc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 in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 in seedst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s and logistics of genetic evaluation in a complex crossbred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scale of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41080" y="2838600"/>
            <a:ext cx="276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Know the marke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60840" y="2913120"/>
            <a:ext cx="406440" cy="12708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560840" y="3218040"/>
            <a:ext cx="406440" cy="13968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ich Crossing System to Adop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42920" y="1150920"/>
          <a:ext cx="7058160" cy="45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50920"/>
                    <a:ext cx="705816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tterns of Use of Crossbree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43040" y="1413000"/>
          <a:ext cx="765648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413000"/>
                    <a:ext cx="765648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482760" y="5084640"/>
            <a:ext cx="8177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Wool sheep and dairy industries are exceptions due to availability of an outstanding pure breed in ea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8720" y="2424240"/>
            <a:ext cx="0" cy="1952640"/>
          </a:xfrm>
          <a:prstGeom prst="line">
            <a:avLst/>
          </a:prstGeom>
          <a:ln w="255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971640" y="566640"/>
          <a:ext cx="7899480" cy="487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566640"/>
                    <a:ext cx="789948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1327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ominance &amp; Epistasis Cause Heter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84080" y="1297080"/>
            <a:ext cx="4508640" cy="4147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789520" y="2141640"/>
            <a:ext cx="308952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OMIN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der genetic base leads to better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64320" y="3676680"/>
            <a:ext cx="311148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PISTAS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down of favourable interactions leads to loss of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41CBF-8CD0-435E-ABFB-50443CEE8A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971640" y="566640"/>
          <a:ext cx="7899480" cy="487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566640"/>
                    <a:ext cx="789948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743440" y="615960"/>
          <a:ext cx="2346480" cy="497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43440" y="615960"/>
                    <a:ext cx="234648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3480" y="122400"/>
            <a:ext cx="849924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Automatic Design’ Through Mate Selectio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08000" y="907920"/>
            <a:ext cx="10008720" cy="6692760"/>
            <a:chOff x="108000" y="907920"/>
            <a:chExt cx="10008720" cy="6692760"/>
          </a:xfrm>
        </p:grpSpPr>
        <p:grpSp>
          <p:nvGrpSpPr>
            <p:cNvPr id="162" name=""/>
            <p:cNvGrpSpPr/>
            <p:nvPr/>
          </p:nvGrpSpPr>
          <p:grpSpPr>
            <a:xfrm>
              <a:off x="108000" y="907920"/>
              <a:ext cx="10008720" cy="6427800"/>
              <a:chOff x="108000" y="907920"/>
              <a:chExt cx="10008720" cy="642780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108000" y="907920"/>
                <a:ext cx="10008720" cy="6146280"/>
                <a:chOff x="108000" y="907920"/>
                <a:chExt cx="10008720" cy="6146280"/>
              </a:xfrm>
            </p:grpSpPr>
            <p:graphicFrame>
              <p:nvGraphicFramePr>
                <p:cNvPr id="164" name=""/>
                <p:cNvGraphicFramePr/>
                <p:nvPr/>
              </p:nvGraphicFramePr>
              <p:xfrm>
                <a:off x="108000" y="907920"/>
                <a:ext cx="9092160" cy="4823640"/>
              </p:xfrm>
              <a:graphic>
                <a:graphicData uri="http://schemas.openxmlformats.org/presentationml/2006/ole">
                  <p:oleObj progId="Word.Document.12" r:id="rId1" spid="">
                    <p:embed/>
                    <p:pic>
                      <p:nvPicPr>
                        <p:cNvPr id="16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08000" y="907920"/>
                          <a:ext cx="9092160" cy="482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66" name=""/>
                <p:cNvGraphicFramePr/>
                <p:nvPr/>
              </p:nvGraphicFramePr>
              <p:xfrm>
                <a:off x="1433160" y="2176920"/>
                <a:ext cx="1266480" cy="88812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67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433160" y="2176920"/>
                          <a:ext cx="1266480" cy="888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68" name=""/>
                <p:cNvSpPr/>
                <p:nvPr/>
              </p:nvSpPr>
              <p:spPr>
                <a:xfrm>
                  <a:off x="1732680" y="2341080"/>
                  <a:ext cx="6634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+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69" name=""/>
                <p:cNvGraphicFramePr/>
                <p:nvPr/>
              </p:nvGraphicFramePr>
              <p:xfrm>
                <a:off x="3317400" y="1106280"/>
                <a:ext cx="1188720" cy="7585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70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3317400" y="1106280"/>
                          <a:ext cx="1188720" cy="758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71" name=""/>
                <p:cNvSpPr/>
                <p:nvPr/>
              </p:nvSpPr>
              <p:spPr>
                <a:xfrm>
                  <a:off x="3561120" y="1245960"/>
                  <a:ext cx="51120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+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72" name=""/>
                <p:cNvGraphicFramePr/>
                <p:nvPr/>
              </p:nvGraphicFramePr>
              <p:xfrm>
                <a:off x="1439280" y="3302640"/>
                <a:ext cx="1279800" cy="86040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73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1439280" y="3302640"/>
                          <a:ext cx="1279800" cy="860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74" name=""/>
                <p:cNvGraphicFramePr/>
                <p:nvPr/>
              </p:nvGraphicFramePr>
              <p:xfrm>
                <a:off x="6895800" y="1081800"/>
                <a:ext cx="1228680" cy="79164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175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6895800" y="1081800"/>
                          <a:ext cx="1228680" cy="791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76" name=""/>
                <p:cNvSpPr/>
                <p:nvPr/>
              </p:nvSpPr>
              <p:spPr>
                <a:xfrm>
                  <a:off x="6879240" y="1243080"/>
                  <a:ext cx="6634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+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77" name=""/>
                <p:cNvGraphicFramePr/>
                <p:nvPr/>
              </p:nvGraphicFramePr>
              <p:xfrm>
                <a:off x="1471680" y="1113120"/>
                <a:ext cx="1173960" cy="82332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178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1471680" y="1113120"/>
                          <a:ext cx="1173960" cy="823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79" name=""/>
                <p:cNvGraphicFramePr/>
                <p:nvPr/>
              </p:nvGraphicFramePr>
              <p:xfrm>
                <a:off x="1418400" y="4396320"/>
                <a:ext cx="1260720" cy="848160"/>
              </p:xfrm>
              <a:graphic>
                <a:graphicData uri="http://schemas.openxmlformats.org/presentationml/2006/ole">
                  <p:oleObj r:id="rId13" spid="">
                    <p:embed/>
                    <p:pic>
                      <p:nvPicPr>
                        <p:cNvPr id="180" name="" descr=""/>
                        <p:cNvPicPr/>
                        <p:nvPr/>
                      </p:nvPicPr>
                      <p:blipFill>
                        <a:blip r:embed="rId14"/>
                        <a:stretch/>
                      </p:blipFill>
                      <p:spPr>
                        <a:xfrm>
                          <a:off x="1418400" y="4396320"/>
                          <a:ext cx="1260720" cy="848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81" name=""/>
                <p:cNvSpPr/>
                <p:nvPr/>
              </p:nvSpPr>
              <p:spPr>
                <a:xfrm>
                  <a:off x="1590840" y="1215720"/>
                  <a:ext cx="893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2800" spc="-1" strike="noStrike">
                      <a:solidFill>
                        <a:srgbClr val="000000"/>
                      </a:solidFill>
                      <a:latin typeface="Times New Roman"/>
                    </a:rPr>
                    <a:t>EBV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414080" y="4531680"/>
                  <a:ext cx="61272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+4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83" name=""/>
                <p:cNvGraphicFramePr/>
                <p:nvPr/>
              </p:nvGraphicFramePr>
              <p:xfrm>
                <a:off x="5014800" y="1091520"/>
                <a:ext cx="1248840" cy="79560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184" name="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5014800" y="1091520"/>
                          <a:ext cx="1248840" cy="795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85" name=""/>
                <p:cNvSpPr/>
                <p:nvPr/>
              </p:nvSpPr>
              <p:spPr>
                <a:xfrm>
                  <a:off x="5563440" y="1161720"/>
                  <a:ext cx="51120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+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466280" y="3445920"/>
                  <a:ext cx="6634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+5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87" name=""/>
                <p:cNvGraphicFramePr/>
                <p:nvPr/>
              </p:nvGraphicFramePr>
              <p:xfrm>
                <a:off x="1036440" y="2230560"/>
                <a:ext cx="9080280" cy="4823640"/>
              </p:xfrm>
              <a:graphic>
                <a:graphicData uri="http://schemas.openxmlformats.org/presentationml/2006/ole">
                  <p:oleObj progId="Word.Document.12" r:id="rId17" spid="">
                    <p:embed/>
                    <p:pic>
                      <p:nvPicPr>
                        <p:cNvPr id="188" name="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1036440" y="2230560"/>
                          <a:ext cx="9080280" cy="482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89" name=""/>
              <p:cNvGraphicFramePr/>
              <p:nvPr/>
            </p:nvGraphicFramePr>
            <p:xfrm>
              <a:off x="1013040" y="2426400"/>
              <a:ext cx="9075960" cy="4909320"/>
            </p:xfrm>
            <a:graphic>
              <a:graphicData uri="http://schemas.openxmlformats.org/presentationml/2006/ole">
                <p:oleObj progId="Word.Document.12" r:id="rId19" spid="">
                  <p:embed/>
                  <p:pic>
                    <p:nvPicPr>
                      <p:cNvPr id="190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1013040" y="2426400"/>
                        <a:ext cx="9075960" cy="4909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91" name=""/>
            <p:cNvGraphicFramePr/>
            <p:nvPr/>
          </p:nvGraphicFramePr>
          <p:xfrm>
            <a:off x="1004400" y="2776680"/>
            <a:ext cx="9080280" cy="4824000"/>
          </p:xfrm>
          <a:graphic>
            <a:graphicData uri="http://schemas.openxmlformats.org/presentationml/2006/ole">
              <p:oleObj progId="Word.Document.12" r:id="rId21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004400" y="2776680"/>
                      <a:ext cx="9080280" cy="48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320760" y="1052640"/>
            <a:ext cx="8859600" cy="4636800"/>
            <a:chOff x="320760" y="1052640"/>
            <a:chExt cx="8859600" cy="4636800"/>
          </a:xfrm>
        </p:grpSpPr>
        <p:graphicFrame>
          <p:nvGraphicFramePr>
            <p:cNvPr id="194" name=""/>
            <p:cNvGraphicFramePr/>
            <p:nvPr/>
          </p:nvGraphicFramePr>
          <p:xfrm>
            <a:off x="320760" y="1052640"/>
            <a:ext cx="8859600" cy="46368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0760" y="1052640"/>
                      <a:ext cx="8859600" cy="463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6" name=""/>
            <p:cNvGraphicFramePr/>
            <p:nvPr/>
          </p:nvGraphicFramePr>
          <p:xfrm>
            <a:off x="1603800" y="2251800"/>
            <a:ext cx="1216800" cy="843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03800" y="2251800"/>
                      <a:ext cx="1216800" cy="84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"/>
            <p:cNvSpPr/>
            <p:nvPr/>
          </p:nvSpPr>
          <p:spPr>
            <a:xfrm>
              <a:off x="1891080" y="2407680"/>
              <a:ext cx="663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+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9" name=""/>
            <p:cNvGraphicFramePr/>
            <p:nvPr/>
          </p:nvGraphicFramePr>
          <p:xfrm>
            <a:off x="3413520" y="1234800"/>
            <a:ext cx="1141560" cy="720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13520" y="1234800"/>
                      <a:ext cx="1141560" cy="72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1" name=""/>
            <p:cNvSpPr/>
            <p:nvPr/>
          </p:nvSpPr>
          <p:spPr>
            <a:xfrm>
              <a:off x="3648600" y="1366920"/>
              <a:ext cx="511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2" name=""/>
            <p:cNvGraphicFramePr/>
            <p:nvPr/>
          </p:nvGraphicFramePr>
          <p:xfrm>
            <a:off x="1696680" y="3321000"/>
            <a:ext cx="1229400" cy="817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696680" y="3321000"/>
                      <a:ext cx="1229400" cy="81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4" name=""/>
            <p:cNvGraphicFramePr/>
            <p:nvPr/>
          </p:nvGraphicFramePr>
          <p:xfrm>
            <a:off x="6836760" y="1266120"/>
            <a:ext cx="1180080" cy="752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36760" y="1266120"/>
                      <a:ext cx="1180080" cy="75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6" name=""/>
            <p:cNvSpPr/>
            <p:nvPr/>
          </p:nvSpPr>
          <p:spPr>
            <a:xfrm>
              <a:off x="6834960" y="1362960"/>
              <a:ext cx="663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+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7" name=""/>
            <p:cNvGraphicFramePr/>
            <p:nvPr/>
          </p:nvGraphicFramePr>
          <p:xfrm>
            <a:off x="1640520" y="1241280"/>
            <a:ext cx="1127520" cy="782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640520" y="1241280"/>
                      <a:ext cx="1127520" cy="78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9" name=""/>
            <p:cNvGraphicFramePr/>
            <p:nvPr/>
          </p:nvGraphicFramePr>
          <p:xfrm>
            <a:off x="1720800" y="4332960"/>
            <a:ext cx="1211040" cy="805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720800" y="4332960"/>
                      <a:ext cx="1211040" cy="80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" name=""/>
            <p:cNvSpPr/>
            <p:nvPr/>
          </p:nvSpPr>
          <p:spPr>
            <a:xfrm>
              <a:off x="1754640" y="1338120"/>
              <a:ext cx="855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EP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30160" y="4491360"/>
              <a:ext cx="663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+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3" name=""/>
            <p:cNvGraphicFramePr/>
            <p:nvPr/>
          </p:nvGraphicFramePr>
          <p:xfrm>
            <a:off x="5252760" y="1239840"/>
            <a:ext cx="1199880" cy="763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1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252760" y="1239840"/>
                      <a:ext cx="1199880" cy="76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" name=""/>
            <p:cNvSpPr/>
            <p:nvPr/>
          </p:nvSpPr>
          <p:spPr>
            <a:xfrm>
              <a:off x="5764680" y="1313280"/>
              <a:ext cx="511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08920" y="3458520"/>
              <a:ext cx="663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+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57000" y="2483640"/>
              <a:ext cx="789120" cy="695880"/>
            </a:xfrm>
            <a:prstGeom prst="ellipse">
              <a:avLst/>
            </a:prstGeom>
            <a:noFill/>
            <a:ln w="76320">
              <a:solidFill>
                <a:srgbClr val="660033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44840" y="3519000"/>
              <a:ext cx="789120" cy="695880"/>
            </a:xfrm>
            <a:prstGeom prst="ellipse">
              <a:avLst/>
            </a:prstGeom>
            <a:noFill/>
            <a:ln w="76320">
              <a:solidFill>
                <a:srgbClr val="660033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06320" y="4559400"/>
              <a:ext cx="789120" cy="695880"/>
            </a:xfrm>
            <a:prstGeom prst="ellipse">
              <a:avLst/>
            </a:prstGeom>
            <a:noFill/>
            <a:ln w="76320">
              <a:solidFill>
                <a:srgbClr val="660033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98400" y="50760"/>
            <a:ext cx="7113600" cy="93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ate Allocations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78520" y="189000"/>
            <a:ext cx="169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”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98400" y="50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inear Programming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ansen and Wilton (198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-31680" y="1197000"/>
          <a:ext cx="5556240" cy="542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680" y="1197000"/>
                    <a:ext cx="5556240" cy="54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3354480" y="3836880"/>
            <a:ext cx="534960" cy="50796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46200" y="3070080"/>
            <a:ext cx="534960" cy="50832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57720" y="2301840"/>
            <a:ext cx="534960" cy="50796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51240" y="4633920"/>
            <a:ext cx="534960" cy="50796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48360" y="1628640"/>
            <a:ext cx="38210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Maximise sum of merit of chosen cells, with constraint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Max. one mating per c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Max. one mating per fem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Max. </a:t>
            </a: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matings per m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8318520" cy="104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 of a Mate Selection Algorith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crossbreeding, selection and running co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84360" y="1413000"/>
          <a:ext cx="802476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13000"/>
                    <a:ext cx="802476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9040" y="16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ypical Outcom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84360" y="1484280"/>
          <a:ext cx="8007120" cy="386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4280"/>
                    <a:ext cx="8007120" cy="38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D1D96-5669-4D70-9953-610C2BB063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6560" y="260280"/>
            <a:ext cx="8569440" cy="87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es Bull Ranking Depend on Mate Br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816120" y="1268280"/>
          <a:ext cx="7643520" cy="44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1268280"/>
                    <a:ext cx="7643520" cy="44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4920" y="228600"/>
            <a:ext cx="8785080" cy="75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“Pure-Cross correlation” were less than 100%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332000" y="884160"/>
            <a:ext cx="7129440" cy="48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2960" y="476280"/>
            <a:ext cx="7835760" cy="53229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30200" y="115560"/>
            <a:ext cx="8750160" cy="64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“Pure-Cross correlation” were less than 100%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03520" y="2085840"/>
            <a:ext cx="6602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77960" y="3317760"/>
            <a:ext cx="241200" cy="3304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690560" y="3685680"/>
            <a:ext cx="228600" cy="343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19160" y="3673440"/>
            <a:ext cx="3938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38560" y="2073240"/>
            <a:ext cx="0" cy="1587600"/>
          </a:xfrm>
          <a:prstGeom prst="line">
            <a:avLst/>
          </a:prstGeom>
          <a:ln w="507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16480" y="2938320"/>
            <a:ext cx="1294560" cy="276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4" y="0"/>
                </a:moveTo>
                <a:arcTo wR="10800" hR="10800" stAng="-5408426" swAng="5408426"/>
                <a:lnTo>
                  <a:pt x="10800" y="10800"/>
                </a:lnTo>
                <a:close/>
              </a:path>
              <a:path fill="none" w="21600" h="21600">
                <a:moveTo>
                  <a:pt x="10774" y="0"/>
                </a:moveTo>
                <a:arcTo wR="10800" hR="10800" stAng="-5408426" swAng="5408426"/>
              </a:path>
            </a:pathLst>
          </a:custGeom>
          <a:noFill/>
          <a:ln cap="rnd" w="25560">
            <a:solidFill>
              <a:srgbClr val="00cc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18480" y="4262400"/>
            <a:ext cx="19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terosis in 19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541560" y="1362240"/>
            <a:ext cx="4194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795720" y="1641600"/>
            <a:ext cx="165240" cy="29196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6808320" y="1920960"/>
            <a:ext cx="165240" cy="2030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6528960" y="1908000"/>
            <a:ext cx="266760" cy="1296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41920" y="1362240"/>
            <a:ext cx="0" cy="558720"/>
          </a:xfrm>
          <a:prstGeom prst="line">
            <a:avLst/>
          </a:prstGeom>
          <a:ln w="507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43000" y="1617840"/>
            <a:ext cx="1724760" cy="543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0315"/>
                </a:moveTo>
                <a:arcTo wR="10800" hR="10800" stAng="-10645486" swAng="5239167"/>
                <a:lnTo>
                  <a:pt x="10800" y="10800"/>
                </a:lnTo>
                <a:close/>
              </a:path>
              <a:path fill="none" w="21600" h="21600">
                <a:moveTo>
                  <a:pt x="11" y="10315"/>
                </a:moveTo>
                <a:arcTo wR="10800" hR="10800" stAng="-10645486" swAng="5239167"/>
              </a:path>
            </a:pathLst>
          </a:custGeom>
          <a:noFill/>
          <a:ln cap="rnd" w="25560">
            <a:solidFill>
              <a:srgbClr val="00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07520" y="4249800"/>
            <a:ext cx="19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terosis in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348000" y="169992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AA755-DAE7-49C6-8E19-9305FA57367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ominance Model of Heter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5308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 gene 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another gene 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rebreed  "A"      Genes from sire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 A  A  A  A  A  A  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s from dam 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 A  A  A  A  A  A  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terosis expression = 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ross "A x B"    Genes from sire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 A  A  A  A  A  A  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s from dam 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  B  B  B  B  B  B  B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terosis expression = 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B13B8-0E9E-4D9A-948C-DF150339DE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26920" y="1267920"/>
            <a:ext cx="784872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 breed cross       Genes from sire:    C  C  C  C  C  C  C  C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C x (AxB)"        Genes from dam :    A  B  A  B  A  B  A  B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terosis expression =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ackcross         Genes from sire:    A  A  A  A  A  A  A  A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A x (AxB)"        Genes from dam :    A  B  A  B  A  B  A  B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terosis expression = 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urier New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cross          Genes from sire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A  A  B  B  A  A  B  B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(AxB) x (AxB)”   Genes from dam 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A  B  A  B  A  B  A  B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terosis expression = 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6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ominance Model of Heter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Breed-of-origin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terozygosity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llelic Heterozygo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92360" y="1278000"/>
          <a:ext cx="6553080" cy="430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278000"/>
                    <a:ext cx="6553080" cy="43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7640" y="240840"/>
            <a:ext cx="7772400" cy="95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Breed-of-origin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terozygosity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llelic Heterozygo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835280" y="1273320"/>
          <a:ext cx="6318000" cy="431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273320"/>
                    <a:ext cx="6318000" cy="43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7640" y="240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Epist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32000" y="2060640"/>
            <a:ext cx="6048360" cy="18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Material in book is</a:t>
            </a:r>
            <a:br>
              <a:rPr sz="3200"/>
            </a:b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or reference only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296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dditive x Additive Model of Heter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463760" y="792000"/>
          <a:ext cx="6192720" cy="479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3760" y="792000"/>
                    <a:ext cx="6192720" cy="47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7640" y="240840"/>
            <a:ext cx="7772400" cy="102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Crossbreeding Paramet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255680"/>
            <a:ext cx="8337600" cy="434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lvl="2" marL="219240" indent="1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G 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G Time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G Times"/>
              </a:rPr>
              <a:t>Direct additive effects 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CG Times"/>
              </a:rPr>
              <a:t>d1</a:t>
            </a:r>
            <a:r>
              <a:rPr b="1" i="1" lang="en-US" sz="2000" spc="-1" strike="noStrike">
                <a:solidFill>
                  <a:srgbClr val="000000"/>
                </a:solidFill>
                <a:latin typeface="CG Times"/>
              </a:rPr>
              <a:t>,  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CG Times"/>
              </a:rPr>
              <a:t>d2</a:t>
            </a:r>
            <a:r>
              <a:rPr b="1" i="1" lang="en-US" sz="2000" spc="-1" strike="noStrike">
                <a:solidFill>
                  <a:srgbClr val="000000"/>
                </a:solidFill>
                <a:latin typeface="CG Times"/>
              </a:rPr>
              <a:t> and  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CG Times"/>
              </a:rPr>
              <a:t>d3</a:t>
            </a:r>
            <a:r>
              <a:rPr b="0" lang="en-US" sz="2000" spc="-1" strike="noStrike">
                <a:solidFill>
                  <a:srgbClr val="000000"/>
                </a:solidFill>
                <a:latin typeface="CG Time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ve effects of purebreeds.  For yearling weight, they relate to the ability to grow quick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1924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219240" indent="1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G 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G Time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G Times"/>
              </a:rPr>
              <a:t>Maternal additive effects 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CG Times"/>
              </a:rPr>
              <a:t>m1</a:t>
            </a:r>
            <a:r>
              <a:rPr b="1" i="1" lang="en-US" sz="2000" spc="-1" strike="noStrike">
                <a:solidFill>
                  <a:srgbClr val="000000"/>
                </a:solidFill>
                <a:latin typeface="CG Times"/>
              </a:rPr>
              <a:t>,  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CG Times"/>
              </a:rPr>
              <a:t>m2</a:t>
            </a:r>
            <a:r>
              <a:rPr b="1" i="1" lang="en-US" sz="2000" spc="-1" strike="noStrike">
                <a:solidFill>
                  <a:srgbClr val="000000"/>
                </a:solidFill>
                <a:latin typeface="CG Times"/>
              </a:rPr>
              <a:t> and  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CG Times"/>
              </a:rPr>
              <a:t>m3</a:t>
            </a:r>
            <a:r>
              <a:rPr b="1" i="1" lang="en-US" sz="2000" spc="-1" strike="noStrike">
                <a:solidFill>
                  <a:srgbClr val="000000"/>
                </a:solidFill>
                <a:latin typeface="CG Time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G Time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ve effects of purebreeds as expressed by the dams of the crossbred individuals under consideration.  They probably relate to milk production and rearing ability. </a:t>
            </a:r>
            <a:r>
              <a:rPr b="0" lang="en-US" sz="2000" spc="-1" strike="noStrike">
                <a:solidFill>
                  <a:srgbClr val="000000"/>
                </a:solidFill>
                <a:latin typeface="CG Times"/>
              </a:rPr>
              <a:t> Note that these effects add to zero - they describe the relative maternal performance of each pure br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219240" indent="1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G 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G Time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G Times"/>
              </a:rPr>
              <a:t>Direct dominance effect 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CG Times"/>
              </a:rPr>
              <a:t>d</a:t>
            </a:r>
            <a:r>
              <a:rPr b="1" i="1" lang="en-US" sz="2000" spc="-1" strike="noStrike">
                <a:solidFill>
                  <a:srgbClr val="000000"/>
                </a:solidFill>
                <a:latin typeface="CG Time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G Times"/>
              </a:rPr>
              <a:t>  The effect of heterosis in crossbred individuals, when fully expressed, as in an F1 cro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1924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219240" indent="1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G 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G Time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G Times"/>
              </a:rPr>
              <a:t>Maternal dominance effect 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CG Time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G Times"/>
              </a:rPr>
              <a:t>  The effect of heterosis due to crossbreeding in the dam, when fully expressed, as in an F1 d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Briana Daly</cp:lastModifiedBy>
  <dcterms:modified xsi:type="dcterms:W3CDTF">2005-07-13T05:29:26Z</dcterms:modified>
  <cp:revision>140</cp:revision>
  <dc:subject/>
  <dc:title>PowerPoint Presentation</dc:title>
</cp:coreProperties>
</file>