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245D-38A9-478A-BCDE-D924C416C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4DD3-D0D1-41E1-8930-69E612A04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606E-CE9D-4F0D-85AF-0F907A6ED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D73E-77C6-44FF-94E0-79E5E4246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67EC-9249-4FAB-9A74-6C44E7F284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8CCD-181B-4E99-8BDB-7251BB2923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9A18-732F-4FF3-9667-492808CAA6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9594-A845-4F75-A3CB-65FD6DB781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63B5-0745-4905-AAE4-129134708D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55BC-0A8B-4867-8650-863DC5BC46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AAA9-58E9-4046-9F41-3E440FF772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59EF-523D-430D-A3A9-E3920FC58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FE8B-DA7B-4AB1-BD96-5D7E09F773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2872-991E-4D5C-A18E-4092244D2E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BBC6-545F-477C-9F3B-F051E8B7A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95F4-D0EC-4765-BD2A-21304BD704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B855-3B4C-44AC-90EF-0406FBDA1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2B6D-BF6A-4CE4-8F02-51BF224DC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5C14-9A01-42FE-93D1-1D071FD3B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1DDF-A192-447B-AD6D-283C85E88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FB2E-6438-4D2C-A90E-6CE542309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92B0-04DA-476D-B794-2DBE532C1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09AF-0B5F-41A3-A12F-09100847F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1115-AF92-41AB-9B90-737036001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1A54-1BFD-424D-A967-6BBB7CDE464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7C16-BF15-49AE-B612-2B75BBB0E88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29268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Multiple Trait </a:t>
            </a:r>
            <a:br>
              <a:rPr sz="4800"/>
            </a:b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Genetic 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422928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lius van der W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D358-FE1F-4510-AD45-870E6A3D34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566640" y="692280"/>
          <a:ext cx="5013360" cy="44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692280"/>
                    <a:ext cx="501336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84360" y="26028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0760" y="5203800"/>
            <a:ext cx="45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W     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99160" y="2997360"/>
            <a:ext cx="7444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9160" y="3530520"/>
            <a:ext cx="6732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69000" y="4149360"/>
            <a:ext cx="603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840280" y="4365360"/>
            <a:ext cx="67644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3470400"/>
            <a:ext cx="24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 larger in M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9F0A-BE81-48FE-BE7C-61A58412D4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66640" y="692280"/>
          <a:ext cx="5013360" cy="44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692280"/>
                    <a:ext cx="501336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4360" y="26028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0760" y="5203800"/>
            <a:ext cx="45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W     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9160" y="1393920"/>
            <a:ext cx="49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699160" y="1774440"/>
            <a:ext cx="49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1012680"/>
            <a:ext cx="211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d effect on YW overestimated with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BADC-8427-4E6F-A187-09694B396F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3240" y="1317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to th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4800" y="1066320"/>
            <a:ext cx="82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EBV is zero within h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 1 has no observation for trait 2, EB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sed on trai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ngle trait EBV’s and (and fixed effect solutions) deviate from the multiple trait solu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 EBV’s for animals 1 and 4 are zero for Y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ifference in EBV for YW between animal 2 and 3 (5 and 6) is larger in the multiple trai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ce between herd effect for WW and YW is larger in 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s difference is overestimated / biased by 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 EBV’s of unculled animals have EBV’s 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 evaluation is able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rrect for sequential se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4D55-B3E5-410B-8321-65CA2CDA79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Multiple Trait BLUP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03440" y="1618920"/>
            <a:ext cx="7772400" cy="38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accuracy of EBV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 for selection on correlated tra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t only sequentia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enefit depend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‑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information available on each ani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‑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ameter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DFE6-142B-476C-B431-74B23B11BC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01880" y="549360"/>
            <a:ext cx="7315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creased Accuracy from Using Info from Correlated 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rive with selection index the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itability of the trai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ce between re and r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FBEA-058E-4CED-ABF7-95BA2360AE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466560" y="2508120"/>
          <a:ext cx="4176720" cy="25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508120"/>
                    <a:ext cx="4176720" cy="25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788000" y="2519280"/>
          <a:ext cx="4211640" cy="2543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519280"/>
                    <a:ext cx="421164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63480" y="399960"/>
            <a:ext cx="82296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ve accuracy of MT selection vs ST selection: Accuracy of Trait 1 (with h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using information from Trait 1 and correlated Trait 2 (with h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060640"/>
            <a:ext cx="380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lection on phenotype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207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ing relatives information for each tr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CE29-56FE-42BD-88D2-24AC9691D0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0A8E-65FF-4AC5-A80A-74CD60DFD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 for Multiple Trait Genetic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rom correlated traits (&gt;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void selec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mporary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31DC-7D3E-4ED2-965B-57AE870C70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ple Trait mixed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2960" y="1981080"/>
            <a:ext cx="768492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model and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n selection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n accuracy of EBV (depending on parameter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5388-CCDB-4A3E-9506-E3E33F8BF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489640" y="1028880"/>
          <a:ext cx="3403440" cy="527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9640" y="1028880"/>
                    <a:ext cx="3403440" cy="52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68360" y="189000"/>
            <a:ext cx="316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ngle Trait Model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Xb + Z u  +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(u) = G =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(e) = R =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62280" y="189000"/>
          <a:ext cx="5481720" cy="525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2280" y="189000"/>
                    <a:ext cx="5481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28920" y="2314440"/>
                <a:ext cx="487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84560" y="3789360"/>
                <a:ext cx="48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3348000" y="54936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B393-39D1-4870-94E4-6CCA8CE832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 the General Defini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149640" y="2133720"/>
                <a:ext cx="57610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G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=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839880" y="1295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 =    X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Zu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+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05740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u)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e) =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y) = ZGZ’ +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60920" y="4121280"/>
                <a:ext cx="49878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  <m:r>
                                <m:t xml:space="preserve">+</m:t>
                              </m:r>
                              <m:r>
                                <m:t xml:space="preserve">λ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=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12720" y="439740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u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e)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3860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mp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908000" y="4321080"/>
            <a:ext cx="600120" cy="1066680"/>
            <a:chOff x="1908000" y="4321080"/>
            <a:chExt cx="600120" cy="106668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2060280" y="4321080"/>
                  <a:ext cx="4478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908000" y="4854600"/>
                  <a:ext cx="4474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D243-579E-488F-986B-765A4EDA0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ed Mode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20560" y="2276640"/>
                <a:ext cx="8372520" cy="20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g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g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g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g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1</m:t>
                                  </m:r>
                                </m:sup>
                              </m:sSup>
                            </m:e>
                          </m:mr>
                        </m:m>
                        <m:r>
                          <m:t xml:space="preserve">−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=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EA2C-C80D-4FD5-A75D-81E6BFB746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Multiple Trai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28840" y="981000"/>
          <a:ext cx="5735880" cy="37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981000"/>
                    <a:ext cx="573588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-1092240" y="4508640"/>
            <a:ext cx="50148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1 = 2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.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.76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; 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2 = 4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.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0560" y="2421000"/>
                <a:ext cx="225108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9D6C-B72B-4029-B4BA-FCDBACFF79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66640" y="692280"/>
          <a:ext cx="5013360" cy="44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692280"/>
                    <a:ext cx="501336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910120" y="2079720"/>
            <a:ext cx="141480" cy="1295280"/>
          </a:xfrm>
          <a:custGeom>
            <a:avLst/>
            <a:gdLst>
              <a:gd name="textAreaLeft" fmla="*/ 0 w 141480"/>
              <a:gd name="textAreaRight" fmla="*/ 51120 w 1414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5440" y="3527280"/>
            <a:ext cx="141480" cy="1295640"/>
          </a:xfrm>
          <a:custGeom>
            <a:avLst/>
            <a:gdLst>
              <a:gd name="textAreaLeft" fmla="*/ 0 w 141480"/>
              <a:gd name="textAreaRight" fmla="*/ 51120 w 1414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84840" y="23083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EBV is zero within he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6028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0760" y="5203800"/>
            <a:ext cx="45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W     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17F8-8EC5-4F1E-8FCD-7F1DB7DC14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566640" y="692280"/>
          <a:ext cx="5013360" cy="44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692280"/>
                    <a:ext cx="501336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4360" y="26028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40280" y="2527200"/>
            <a:ext cx="84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96160" y="2133720"/>
            <a:ext cx="161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without records get an EBV for trait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40280" y="3898800"/>
            <a:ext cx="84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20760" y="5203800"/>
            <a:ext cx="45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W     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FADF-4A13-4FBD-9D95-7A516A7FB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26T13:31:21Z</dcterms:modified>
  <cp:revision>143</cp:revision>
  <dc:subject/>
  <dc:title>PowerPoint Presentation</dc:title>
</cp:coreProperties>
</file>