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5.png" ContentType="image/png"/>
  <Override PartName="/ppt/media/image15.wmf" ContentType="image/x-wmf"/>
  <Override PartName="/ppt/media/image7.png" ContentType="image/png"/>
  <Override PartName="/ppt/media/image1.jpeg" ContentType="image/jpeg"/>
  <Override PartName="/ppt/media/image11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29.png" ContentType="image/png"/>
  <Override PartName="/ppt/media/image6.png" ContentType="image/png"/>
  <Override PartName="/ppt/media/image14.wmf" ContentType="image/x-wmf"/>
  <Override PartName="/ppt/media/LASER.WAV" ContentType="audio/x-wav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wmf" ContentType="image/x-wmf"/>
  <Override PartName="/ppt/media/image28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CCFF-C6CD-4107-9AFA-380C42703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E22E-15A8-4D25-96FD-7D9643CC4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D276-2329-47D8-9989-E30B8876F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216F-9C9D-4D71-B23B-ED4E2DE1A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DA2E-5382-4F31-B11F-14E64CE62A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B492-177B-44DB-99B7-4B283E6C79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28C3-5786-4FCC-A48F-B72C7A31B0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C01B-174D-455D-B866-DD001AE40D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9B2D-D738-49AC-BACA-2400610FC9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8376-9797-4E67-B787-E3C033801C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847D-A359-4DA9-A451-29937F8A0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5F28-20C3-42A1-80FF-3346B4D6B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9E07-9FA4-4ADD-B988-0188D8DD52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055D-1A6C-4D39-B6AA-282F52B21F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4D6A-C92D-4BF0-BB91-97017028F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6553-9B4E-47A0-B6CE-C4C8822D82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7D6C-556D-4239-9E85-7B7F5F52D4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2B06A-D6BF-4491-AA41-97213949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D064B-FFDC-4513-8E6A-ECBDE31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8C993-988A-4986-95AA-4532737E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849D2-5485-4D99-81C1-4BB05D3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40AF8-AAA6-40C1-97BA-CF4B62B5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14B9-5F73-477F-AD15-685305A945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57160-BDFE-447B-93FB-DCB603C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C0FF0-F896-4F83-B53D-A4D67564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6D2E2-7852-4D9B-BD54-8BEC8B69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4451D-02FC-4D24-BD39-7B2E657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8D6CD-A836-4B0A-8B19-F326BB99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FC38-187E-4A30-BBC5-B07F9FFF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416CE-A6A7-4BF7-B277-9E23A1F3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CFED-2FC6-4F23-A5D3-3444BA37C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4EA8-F7A6-497D-86F3-718DA16BE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467F-F03A-4C94-B0E0-71E6771B6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D852-08E2-4E48-A1C7-E18B99D4D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F0B0-7B8D-4812-BE17-1C8850479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BF66-681E-4748-88B7-BEB560499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6C31-6F9E-423D-BA5F-790CB4F774F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1FBF-E0B9-4A4A-B001-07FC22F7D9F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D256-334A-46B1-A32B-23A8E65B9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085040"/>
            <a:ext cx="808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roductive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422/522 – Topic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King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3EA6-F3D7-48FE-A82B-E312F6DE74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ven More Juvenile Dairy MOE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3160" y="508464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a bad design - EBV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1413000"/>
          <a:ext cx="796284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628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134E-E8E6-4BD8-9909-5271E048A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uvenile Beef MO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92200" y="1406520"/>
          <a:ext cx="795816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406520"/>
                    <a:ext cx="795816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3464-C4FE-4B28-933C-F64FDDBB7D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ven More Juvenile Beef MO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49160" y="1380960"/>
          <a:ext cx="7645680" cy="40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80960"/>
                    <a:ext cx="764568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A6FF-33F2-4A4E-9B14-E3F250D9CE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uvenile Sheep MO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2040" y="1197000"/>
          <a:ext cx="781992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197000"/>
                    <a:ext cx="78199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5B4E-BBA8-4D60-99D1-73F409B7C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exing Semen or Embry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sex semen makes little difference to rates of genetic gain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296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 less than 5% extra genetic g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effect on commercial production efficiency can be drama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296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.  producing crossbred gilts in the pig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296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 in dairy is not high, due to ongoing harvesting – the producers of progeny are also the producers of mil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AE81-6C28-45B9-8D49-F1552E5ADC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e Value of Semen Sex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26920" y="981000"/>
          <a:ext cx="662472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81000"/>
                    <a:ext cx="662472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311240" y="4508640"/>
            <a:ext cx="162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S”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0209-40DA-45BD-89A1-5C6119C7DC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0"/>
            <a:ext cx="3006360" cy="4659480"/>
            <a:chOff x="0" y="0"/>
            <a:chExt cx="3006360" cy="4659480"/>
          </a:xfrm>
        </p:grpSpPr>
        <p:sp>
          <p:nvSpPr>
            <p:cNvPr id="177" name=""/>
            <p:cNvSpPr/>
            <p:nvPr/>
          </p:nvSpPr>
          <p:spPr>
            <a:xfrm rot="2546400">
              <a:off x="1125000" y="3962160"/>
              <a:ext cx="1476720" cy="228600"/>
            </a:xfrm>
            <a:prstGeom prst="rightArrow">
              <a:avLst>
                <a:gd name="adj1" fmla="val 50000"/>
                <a:gd name="adj2" fmla="val 161496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0" y="0"/>
            <a:ext cx="133632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33632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547280" y="1752480"/>
              <a:ext cx="703080" cy="762120"/>
            </a:xfrm>
            <a:prstGeom prst="donut">
              <a:avLst>
                <a:gd name="adj" fmla="val 375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8240" y="1981080"/>
              <a:ext cx="21096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440800">
              <a:off x="491760" y="1371600"/>
              <a:ext cx="1265760" cy="228600"/>
            </a:xfrm>
            <a:prstGeom prst="rightArrow">
              <a:avLst>
                <a:gd name="adj1" fmla="val 50000"/>
                <a:gd name="adj2" fmla="val 138425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0800" y="85320"/>
              <a:ext cx="1195560" cy="969480"/>
            </a:xfrm>
            <a:prstGeom prst="borderCallout2">
              <a:avLst>
                <a:gd name="adj1" fmla="val 18750"/>
                <a:gd name="adj2" fmla="val -8333"/>
                <a:gd name="adj3" fmla="val 11574"/>
                <a:gd name="adj4" fmla="val -29532"/>
                <a:gd name="adj5" fmla="val 130398"/>
                <a:gd name="adj6" fmla="val -78532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vage eggs from abattoir c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920" y="3124080"/>
              <a:ext cx="703080" cy="762120"/>
            </a:xfrm>
            <a:prstGeom prst="donut">
              <a:avLst>
                <a:gd name="adj" fmla="val 375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8302200">
              <a:off x="1124640" y="2742840"/>
              <a:ext cx="703080" cy="228600"/>
            </a:xfrm>
            <a:prstGeom prst="rightArrow">
              <a:avLst>
                <a:gd name="adj1" fmla="val 50000"/>
                <a:gd name="adj2" fmla="val 76890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0960" y="2216880"/>
              <a:ext cx="984240" cy="531720"/>
            </a:xfrm>
            <a:prstGeom prst="borderCallout2">
              <a:avLst>
                <a:gd name="adj1" fmla="val 18750"/>
                <a:gd name="adj2" fmla="val -8333"/>
                <a:gd name="adj3" fmla="val 20930"/>
                <a:gd name="adj4" fmla="val 112944"/>
                <a:gd name="adj5" fmla="val 85518"/>
                <a:gd name="adj6" fmla="val 131513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ve g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255920" y="3962520"/>
            <a:ext cx="4886280" cy="2860560"/>
            <a:chOff x="4255920" y="3962520"/>
            <a:chExt cx="4886280" cy="2860560"/>
          </a:xfrm>
        </p:grpSpPr>
        <p:graphicFrame>
          <p:nvGraphicFramePr>
            <p:cNvPr id="188" name=""/>
            <p:cNvGraphicFramePr/>
            <p:nvPr/>
          </p:nvGraphicFramePr>
          <p:xfrm>
            <a:off x="7735680" y="5562720"/>
            <a:ext cx="1406520" cy="126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35680" y="5562720"/>
                      <a:ext cx="1406520" cy="12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"/>
            <p:cNvSpPr/>
            <p:nvPr/>
          </p:nvSpPr>
          <p:spPr>
            <a:xfrm rot="1119600">
              <a:off x="5680440" y="4987800"/>
              <a:ext cx="2462040" cy="228600"/>
            </a:xfrm>
            <a:prstGeom prst="rightArrow">
              <a:avLst>
                <a:gd name="adj1" fmla="val 50000"/>
                <a:gd name="adj2" fmla="val 269252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70640" y="4179600"/>
              <a:ext cx="2462040" cy="312840"/>
            </a:xfrm>
            <a:prstGeom prst="borderCallout2">
              <a:avLst>
                <a:gd name="adj1" fmla="val 18750"/>
                <a:gd name="adj2" fmla="val -8333"/>
                <a:gd name="adj3" fmla="val 9462"/>
                <a:gd name="adj4" fmla="val -9879"/>
                <a:gd name="adj5" fmla="val 83217"/>
                <a:gd name="adj6" fmla="val -24574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fer to recip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5063760" y="3962520"/>
            <a:ext cx="843840" cy="84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63760" y="3962520"/>
                      <a:ext cx="843840" cy="84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6118920" y="5530320"/>
              <a:ext cx="1195560" cy="969480"/>
            </a:xfrm>
            <a:prstGeom prst="borderCallout2">
              <a:avLst>
                <a:gd name="adj1" fmla="val 18750"/>
                <a:gd name="adj2" fmla="val -8333"/>
                <a:gd name="adj3" fmla="val 9462"/>
                <a:gd name="adj4" fmla="val -22305"/>
                <a:gd name="adj5" fmla="val -70115"/>
                <a:gd name="adj6" fmla="val -38828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me embryos ready for free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9216600">
              <a:off x="4430520" y="4799880"/>
              <a:ext cx="1195560" cy="1066680"/>
            </a:xfrm>
            <a:custGeom>
              <a:avLst/>
              <a:gdLst>
                <a:gd name="textAreaLeft" fmla="*/ -360 w 1195560"/>
                <a:gd name="textAreaRight" fmla="*/ 1195560 w 11955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3" y="10800"/>
                  </a:moveTo>
                  <a:arcTo wR="-9157" hR="-9157" stAng="-10800000" swAng="-7239615"/>
                  <a:lnTo>
                    <a:pt x="5293" y="1510"/>
                  </a:lnTo>
                  <a:arcTo wR="10800" hR="10800" stAng="-7239615" swAng="7239615"/>
                  <a:lnTo>
                    <a:pt x="24300" y="10800"/>
                  </a:lnTo>
                  <a:lnTo>
                    <a:pt x="20779" y="14322"/>
                  </a:lnTo>
                  <a:lnTo>
                    <a:pt x="17257" y="10800"/>
                  </a:lnTo>
                  <a:close/>
                </a:path>
              </a:pathLst>
            </a:custGeom>
            <a:solidFill>
              <a:srgbClr val="c9e3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10960" y="4420800"/>
            <a:ext cx="4430520" cy="2198160"/>
            <a:chOff x="210960" y="4420800"/>
            <a:chExt cx="4430520" cy="2198160"/>
          </a:xfrm>
        </p:grpSpPr>
        <p:sp>
          <p:nvSpPr>
            <p:cNvPr id="197" name=""/>
            <p:cNvSpPr/>
            <p:nvPr/>
          </p:nvSpPr>
          <p:spPr>
            <a:xfrm>
              <a:off x="4219560" y="541008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38400" y="5334120"/>
              <a:ext cx="703080" cy="761760"/>
            </a:xfrm>
            <a:prstGeom prst="donut">
              <a:avLst>
                <a:gd name="adj" fmla="val 375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0960" y="5649480"/>
              <a:ext cx="1195200" cy="969480"/>
            </a:xfrm>
            <a:prstGeom prst="borderCallout2">
              <a:avLst>
                <a:gd name="adj1" fmla="val 18750"/>
                <a:gd name="adj2" fmla="val -8333"/>
                <a:gd name="adj3" fmla="val 11574"/>
                <a:gd name="adj4" fmla="val 169851"/>
                <a:gd name="adj5" fmla="val -7124"/>
                <a:gd name="adj6" fmla="val 234657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me embryos start to devel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14616600">
              <a:off x="2797920" y="4727160"/>
              <a:ext cx="1295280" cy="98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3" y="10800"/>
                  </a:moveTo>
                  <a:arcTo wR="-9157" hR="-9157" stAng="-10800000" swAng="-7239615"/>
                  <a:lnTo>
                    <a:pt x="5293" y="1510"/>
                  </a:lnTo>
                  <a:arcTo wR="10800" hR="10800" stAng="-7239615" swAng="7239615"/>
                  <a:lnTo>
                    <a:pt x="24300" y="10800"/>
                  </a:lnTo>
                  <a:lnTo>
                    <a:pt x="20779" y="14322"/>
                  </a:lnTo>
                  <a:lnTo>
                    <a:pt x="17257" y="10800"/>
                  </a:lnTo>
                  <a:close/>
                </a:path>
              </a:pathLst>
            </a:custGeom>
            <a:solidFill>
              <a:srgbClr val="c9e3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220400" y="6030360"/>
            <a:ext cx="3550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Alternative Monash / Gene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Australia EM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rom Sandy McClin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149720" y="2008440"/>
            <a:ext cx="4782960" cy="1340280"/>
            <a:chOff x="4149720" y="2008440"/>
            <a:chExt cx="4782960" cy="1340280"/>
          </a:xfrm>
        </p:grpSpPr>
        <p:sp>
          <p:nvSpPr>
            <p:cNvPr id="203" name=""/>
            <p:cNvSpPr/>
            <p:nvPr/>
          </p:nvSpPr>
          <p:spPr>
            <a:xfrm>
              <a:off x="4290480" y="2514600"/>
              <a:ext cx="6984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231200">
              <a:off x="4923360" y="2209320"/>
              <a:ext cx="2461680" cy="228600"/>
            </a:xfrm>
            <a:prstGeom prst="rightArrow">
              <a:avLst>
                <a:gd name="adj1" fmla="val 50000"/>
                <a:gd name="adj2" fmla="val 269213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48720" y="2817000"/>
              <a:ext cx="2883960" cy="531720"/>
            </a:xfrm>
            <a:prstGeom prst="borderCallout2">
              <a:avLst>
                <a:gd name="adj1" fmla="val 18750"/>
                <a:gd name="adj2" fmla="val -8333"/>
                <a:gd name="adj3" fmla="val 20930"/>
                <a:gd name="adj4" fmla="val -7064"/>
                <a:gd name="adj5" fmla="val -24287"/>
                <a:gd name="adj6" fmla="val -49023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ke a cell from a culture with a million identical ce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30880" y="2666880"/>
              <a:ext cx="7020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60680" y="2590920"/>
              <a:ext cx="70200" cy="759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90480" y="2590920"/>
              <a:ext cx="69840" cy="759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90480" y="2666880"/>
              <a:ext cx="6984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9920" y="2590920"/>
              <a:ext cx="70200" cy="759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1440" y="2590920"/>
              <a:ext cx="69840" cy="759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9720" y="2438280"/>
              <a:ext cx="7020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90480" y="2438280"/>
              <a:ext cx="6984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60680" y="2514600"/>
              <a:ext cx="70200" cy="763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0960" y="2838240"/>
            <a:ext cx="4079160" cy="2483640"/>
            <a:chOff x="210960" y="2838240"/>
            <a:chExt cx="4079160" cy="2483640"/>
          </a:xfrm>
        </p:grpSpPr>
        <p:sp>
          <p:nvSpPr>
            <p:cNvPr id="216" name=""/>
            <p:cNvSpPr/>
            <p:nvPr/>
          </p:nvSpPr>
          <p:spPr>
            <a:xfrm>
              <a:off x="210960" y="4352400"/>
              <a:ext cx="1195560" cy="969480"/>
            </a:xfrm>
            <a:prstGeom prst="borderCallout2">
              <a:avLst>
                <a:gd name="adj1" fmla="val 18750"/>
                <a:gd name="adj2" fmla="val -8333"/>
                <a:gd name="adj3" fmla="val 11574"/>
                <a:gd name="adj4" fmla="val 148773"/>
                <a:gd name="adj5" fmla="val 55712"/>
                <a:gd name="adj6" fmla="val 192018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ct Injection merges the two pa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03000" y="2838240"/>
              <a:ext cx="1887120" cy="2038680"/>
              <a:chOff x="2403000" y="2838240"/>
              <a:chExt cx="1887120" cy="2038680"/>
            </a:xfrm>
          </p:grpSpPr>
          <p:sp>
            <p:nvSpPr>
              <p:cNvPr id="218" name=""/>
              <p:cNvSpPr/>
              <p:nvPr/>
            </p:nvSpPr>
            <p:spPr>
              <a:xfrm flipH="1" rot="20016600">
                <a:off x="2813040" y="3048120"/>
                <a:ext cx="1195560" cy="1066680"/>
              </a:xfrm>
              <a:custGeom>
                <a:avLst/>
                <a:gdLst>
                  <a:gd name="textAreaLeft" fmla="*/ -360 w 1195560"/>
                  <a:gd name="textAreaRight" fmla="*/ 1195560 w 119556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43" y="10800"/>
                    </a:moveTo>
                    <a:arcTo wR="-9157" hR="-9157" stAng="-10800000" swAng="-7239615"/>
                    <a:lnTo>
                      <a:pt x="5293" y="1510"/>
                    </a:lnTo>
                    <a:arcTo wR="10800" hR="10800" stAng="-7239615" swAng="7239615"/>
                    <a:lnTo>
                      <a:pt x="24300" y="10800"/>
                    </a:lnTo>
                    <a:lnTo>
                      <a:pt x="20779" y="14322"/>
                    </a:lnTo>
                    <a:lnTo>
                      <a:pt x="17257" y="10800"/>
                    </a:lnTo>
                    <a:close/>
                  </a:path>
                </a:pathLst>
              </a:custGeom>
              <a:solidFill>
                <a:srgbClr val="c9e3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2280" y="4114800"/>
                <a:ext cx="703440" cy="762120"/>
              </a:xfrm>
              <a:prstGeom prst="donut">
                <a:avLst>
                  <a:gd name="adj" fmla="val 375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16480" y="4191120"/>
                <a:ext cx="70200" cy="7596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164760" y="3733560"/>
                <a:ext cx="11253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03000" y="3701880"/>
                <a:ext cx="167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55800" y="3645000"/>
                <a:ext cx="1670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3164760" y="3809520"/>
                <a:ext cx="11253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3305160" y="-2160"/>
            <a:ext cx="5802120" cy="2350800"/>
            <a:chOff x="3305160" y="-2160"/>
            <a:chExt cx="5802120" cy="2350800"/>
          </a:xfrm>
        </p:grpSpPr>
        <p:sp>
          <p:nvSpPr>
            <p:cNvPr id="226" name=""/>
            <p:cNvSpPr/>
            <p:nvPr/>
          </p:nvSpPr>
          <p:spPr>
            <a:xfrm>
              <a:off x="7596000" y="1600200"/>
              <a:ext cx="126612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271400">
              <a:off x="5696640" y="1447920"/>
              <a:ext cx="1858320" cy="209520"/>
            </a:xfrm>
            <a:prstGeom prst="rightArrow">
              <a:avLst>
                <a:gd name="adj1" fmla="val 50000"/>
                <a:gd name="adj2" fmla="val 221735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4480" y="235800"/>
              <a:ext cx="1195920" cy="531720"/>
            </a:xfrm>
            <a:prstGeom prst="borderCallout2">
              <a:avLst>
                <a:gd name="adj1" fmla="val 18750"/>
                <a:gd name="adj2" fmla="val -8333"/>
                <a:gd name="adj3" fmla="val 20930"/>
                <a:gd name="adj4" fmla="val 108087"/>
                <a:gd name="adj5" fmla="val 222527"/>
                <a:gd name="adj6" fmla="val 119226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w cells in the 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"/>
            <p:cNvGraphicFramePr/>
            <p:nvPr/>
          </p:nvGraphicFramePr>
          <p:xfrm>
            <a:off x="3305160" y="0"/>
            <a:ext cx="1266120" cy="1146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05160" y="0"/>
                      <a:ext cx="1266120" cy="11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 rot="1667400">
              <a:off x="4359600" y="704520"/>
              <a:ext cx="774000" cy="228600"/>
            </a:xfrm>
            <a:prstGeom prst="rightArrow">
              <a:avLst>
                <a:gd name="adj1" fmla="val 50000"/>
                <a:gd name="adj2" fmla="val 84646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6440" y="-2160"/>
              <a:ext cx="1477080" cy="1188360"/>
            </a:xfrm>
            <a:prstGeom prst="borderCallout2">
              <a:avLst>
                <a:gd name="adj1" fmla="val 18750"/>
                <a:gd name="adj2" fmla="val -8333"/>
                <a:gd name="adj3" fmla="val 11574"/>
                <a:gd name="adj4" fmla="val -5953"/>
                <a:gd name="adj5" fmla="val 60416"/>
                <a:gd name="adj6" fmla="val -36180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 tissue sample from an elite animal. Eg s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96000" y="1447920"/>
              <a:ext cx="12661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9600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62120" y="16765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6560" y="1600200"/>
              <a:ext cx="1134000" cy="214200"/>
            </a:xfrm>
            <a:custGeom>
              <a:avLst/>
              <a:gdLst/>
              <a:ahLst/>
              <a:rect l="l" t="t" r="r" b="b"/>
              <a:pathLst>
                <a:path w="774" h="135">
                  <a:moveTo>
                    <a:pt x="288" y="0"/>
                  </a:moveTo>
                  <a:lnTo>
                    <a:pt x="432" y="0"/>
                  </a:lnTo>
                  <a:lnTo>
                    <a:pt x="618" y="18"/>
                  </a:lnTo>
                  <a:lnTo>
                    <a:pt x="732" y="48"/>
                  </a:lnTo>
                  <a:lnTo>
                    <a:pt x="774" y="69"/>
                  </a:lnTo>
                  <a:lnTo>
                    <a:pt x="711" y="102"/>
                  </a:lnTo>
                  <a:lnTo>
                    <a:pt x="600" y="120"/>
                  </a:lnTo>
                  <a:lnTo>
                    <a:pt x="483" y="135"/>
                  </a:lnTo>
                  <a:lnTo>
                    <a:pt x="411" y="135"/>
                  </a:lnTo>
                  <a:lnTo>
                    <a:pt x="291" y="135"/>
                  </a:lnTo>
                  <a:lnTo>
                    <a:pt x="201" y="123"/>
                  </a:lnTo>
                  <a:lnTo>
                    <a:pt x="150" y="120"/>
                  </a:lnTo>
                  <a:lnTo>
                    <a:pt x="33" y="90"/>
                  </a:lnTo>
                  <a:lnTo>
                    <a:pt x="0" y="72"/>
                  </a:lnTo>
                  <a:lnTo>
                    <a:pt x="21" y="60"/>
                  </a:lnTo>
                  <a:lnTo>
                    <a:pt x="90" y="36"/>
                  </a:lnTo>
                  <a:lnTo>
                    <a:pt x="189" y="18"/>
                  </a:lnTo>
                  <a:lnTo>
                    <a:pt x="270" y="6"/>
                  </a:lnTo>
                  <a:lnTo>
                    <a:pt x="360" y="3"/>
                  </a:lnTo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06360" y="1980360"/>
              <a:ext cx="16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ssue cul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7605720" y="5521320"/>
          <a:ext cx="1600200" cy="13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05720" y="5521320"/>
                    <a:ext cx="160020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42DE9-37B8-48CF-AACF-316E7D9665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241640" y="2837880"/>
            <a:ext cx="2942280" cy="1821600"/>
            <a:chOff x="1241640" y="2837880"/>
            <a:chExt cx="2942280" cy="1821600"/>
          </a:xfrm>
        </p:grpSpPr>
        <p:sp>
          <p:nvSpPr>
            <p:cNvPr id="241" name=""/>
            <p:cNvSpPr/>
            <p:nvPr/>
          </p:nvSpPr>
          <p:spPr>
            <a:xfrm flipH="1" rot="20016600">
              <a:off x="2812680" y="3048120"/>
              <a:ext cx="1195920" cy="1066680"/>
            </a:xfrm>
            <a:custGeom>
              <a:avLst/>
              <a:gdLst>
                <a:gd name="textAreaLeft" fmla="*/ 360 w 1195920"/>
                <a:gd name="textAreaRight" fmla="*/ 1196640 w 119592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3" y="10800"/>
                  </a:moveTo>
                  <a:arcTo wR="-9157" hR="-9157" stAng="-10800000" swAng="-7239615"/>
                  <a:lnTo>
                    <a:pt x="5293" y="1510"/>
                  </a:lnTo>
                  <a:arcTo wR="10800" hR="10800" stAng="-7239615" swAng="7239615"/>
                  <a:lnTo>
                    <a:pt x="24300" y="10800"/>
                  </a:lnTo>
                  <a:lnTo>
                    <a:pt x="20779" y="14322"/>
                  </a:lnTo>
                  <a:lnTo>
                    <a:pt x="17257" y="10800"/>
                  </a:lnTo>
                  <a:close/>
                </a:path>
              </a:pathLst>
            </a:custGeom>
            <a:solidFill>
              <a:srgbClr val="c9e3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546400">
              <a:off x="1125360" y="3962160"/>
              <a:ext cx="1477440" cy="228600"/>
            </a:xfrm>
            <a:prstGeom prst="rightArrow">
              <a:avLst>
                <a:gd name="adj1" fmla="val 50000"/>
                <a:gd name="adj2" fmla="val 161575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22560" y="236520"/>
            <a:ext cx="3210120" cy="2201760"/>
            <a:chOff x="5722560" y="236520"/>
            <a:chExt cx="3210120" cy="2201760"/>
          </a:xfrm>
        </p:grpSpPr>
        <p:graphicFrame>
          <p:nvGraphicFramePr>
            <p:cNvPr id="244" name=""/>
            <p:cNvGraphicFramePr/>
            <p:nvPr/>
          </p:nvGraphicFramePr>
          <p:xfrm>
            <a:off x="7525800" y="1447920"/>
            <a:ext cx="7344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5800" y="1447920"/>
                      <a:ext cx="7344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 rot="1271400">
              <a:off x="5697360" y="1447920"/>
              <a:ext cx="1857960" cy="209520"/>
            </a:xfrm>
            <a:prstGeom prst="rightArrow">
              <a:avLst>
                <a:gd name="adj1" fmla="val 50000"/>
                <a:gd name="adj2" fmla="val 221692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36760" y="236520"/>
              <a:ext cx="1195920" cy="750600"/>
            </a:xfrm>
            <a:prstGeom prst="borderCallout2">
              <a:avLst>
                <a:gd name="adj1" fmla="val 18750"/>
                <a:gd name="adj2" fmla="val -8333"/>
                <a:gd name="adj3" fmla="val 14907"/>
                <a:gd name="adj4" fmla="val -15564"/>
                <a:gd name="adj5" fmla="val 201148"/>
                <a:gd name="adj6" fmla="val -57958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w embryo in the 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727440" y="2008440"/>
            <a:ext cx="5205240" cy="1572840"/>
            <a:chOff x="3727440" y="2008440"/>
            <a:chExt cx="5205240" cy="1572840"/>
          </a:xfrm>
        </p:grpSpPr>
        <p:sp>
          <p:nvSpPr>
            <p:cNvPr id="249" name=""/>
            <p:cNvSpPr/>
            <p:nvPr/>
          </p:nvSpPr>
          <p:spPr>
            <a:xfrm>
              <a:off x="4290120" y="251460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38400" y="25909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60320" y="30481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38400" y="335268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49360" y="30481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27440" y="28195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7640" y="312408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79160" y="289548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231200">
              <a:off x="4923360" y="2209320"/>
              <a:ext cx="2461680" cy="228600"/>
            </a:xfrm>
            <a:prstGeom prst="rightArrow">
              <a:avLst>
                <a:gd name="adj1" fmla="val 50000"/>
                <a:gd name="adj2" fmla="val 269213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01080" y="320040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8400" y="32767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68200" y="297180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79160" y="274320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01080" y="28195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60320" y="32767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79160" y="32767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48720" y="2867760"/>
              <a:ext cx="2883960" cy="531720"/>
            </a:xfrm>
            <a:prstGeom prst="borderCallout2">
              <a:avLst>
                <a:gd name="adj1" fmla="val 18750"/>
                <a:gd name="adj2" fmla="val -8333"/>
                <a:gd name="adj3" fmla="val 11574"/>
                <a:gd name="adj4" fmla="val -6861"/>
                <a:gd name="adj5" fmla="val 28685"/>
                <a:gd name="adj6" fmla="val -47189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eak embryo into 20-30 identical ce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0" y="0"/>
            <a:ext cx="3006360" cy="2514600"/>
            <a:chOff x="0" y="0"/>
            <a:chExt cx="3006360" cy="2514600"/>
          </a:xfrm>
        </p:grpSpPr>
        <p:graphicFrame>
          <p:nvGraphicFramePr>
            <p:cNvPr id="267" name=""/>
            <p:cNvGraphicFramePr/>
            <p:nvPr/>
          </p:nvGraphicFramePr>
          <p:xfrm>
            <a:off x="0" y="0"/>
            <a:ext cx="1336320" cy="12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133632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" name=""/>
            <p:cNvSpPr/>
            <p:nvPr/>
          </p:nvSpPr>
          <p:spPr>
            <a:xfrm>
              <a:off x="1547280" y="1752480"/>
              <a:ext cx="703080" cy="762120"/>
            </a:xfrm>
            <a:prstGeom prst="donut">
              <a:avLst>
                <a:gd name="adj" fmla="val 375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58240" y="1981080"/>
              <a:ext cx="21096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440800">
              <a:off x="491760" y="1371600"/>
              <a:ext cx="1265760" cy="228600"/>
            </a:xfrm>
            <a:prstGeom prst="rightArrow">
              <a:avLst>
                <a:gd name="adj1" fmla="val 50000"/>
                <a:gd name="adj2" fmla="val 138425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10800" y="85320"/>
              <a:ext cx="1195560" cy="969480"/>
            </a:xfrm>
            <a:prstGeom prst="borderCallout2">
              <a:avLst>
                <a:gd name="adj1" fmla="val 18750"/>
                <a:gd name="adj2" fmla="val -8333"/>
                <a:gd name="adj3" fmla="val 11574"/>
                <a:gd name="adj4" fmla="val -29532"/>
                <a:gd name="adj5" fmla="val 130398"/>
                <a:gd name="adj6" fmla="val -78532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vage eggs from abattoir c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10960" y="2216880"/>
            <a:ext cx="1604160" cy="1669320"/>
            <a:chOff x="210960" y="2216880"/>
            <a:chExt cx="1604160" cy="1669320"/>
          </a:xfrm>
        </p:grpSpPr>
        <p:sp>
          <p:nvSpPr>
            <p:cNvPr id="274" name=""/>
            <p:cNvSpPr/>
            <p:nvPr/>
          </p:nvSpPr>
          <p:spPr>
            <a:xfrm>
              <a:off x="421920" y="3124080"/>
              <a:ext cx="703440" cy="762120"/>
            </a:xfrm>
            <a:prstGeom prst="donut">
              <a:avLst>
                <a:gd name="adj" fmla="val 375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8302200">
              <a:off x="1124640" y="2742840"/>
              <a:ext cx="703080" cy="228600"/>
            </a:xfrm>
            <a:prstGeom prst="rightArrow">
              <a:avLst>
                <a:gd name="adj1" fmla="val 50000"/>
                <a:gd name="adj2" fmla="val 76890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0960" y="2216880"/>
              <a:ext cx="984600" cy="531720"/>
            </a:xfrm>
            <a:prstGeom prst="borderCallout2">
              <a:avLst>
                <a:gd name="adj1" fmla="val 18750"/>
                <a:gd name="adj2" fmla="val -8333"/>
                <a:gd name="adj3" fmla="val 20930"/>
                <a:gd name="adj4" fmla="val 112944"/>
                <a:gd name="adj5" fmla="val 85518"/>
                <a:gd name="adj6" fmla="val 131541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ve g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709600" y="3852360"/>
            <a:ext cx="3432600" cy="2970720"/>
            <a:chOff x="5709600" y="3852360"/>
            <a:chExt cx="3432600" cy="2970720"/>
          </a:xfrm>
        </p:grpSpPr>
        <p:graphicFrame>
          <p:nvGraphicFramePr>
            <p:cNvPr id="278" name=""/>
            <p:cNvGraphicFramePr/>
            <p:nvPr/>
          </p:nvGraphicFramePr>
          <p:xfrm>
            <a:off x="7735680" y="5562720"/>
            <a:ext cx="1406520" cy="126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5680" y="5562720"/>
                      <a:ext cx="1406520" cy="12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 rot="1119600">
              <a:off x="5681160" y="4987800"/>
              <a:ext cx="2461680" cy="228600"/>
            </a:xfrm>
            <a:prstGeom prst="rightArrow">
              <a:avLst>
                <a:gd name="adj1" fmla="val 50000"/>
                <a:gd name="adj2" fmla="val 269213"/>
              </a:avLst>
            </a:prstGeom>
            <a:solidFill>
              <a:srgbClr val="c9e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71000" y="3852360"/>
              <a:ext cx="2461680" cy="969480"/>
            </a:xfrm>
            <a:prstGeom prst="borderCallout2">
              <a:avLst>
                <a:gd name="adj1" fmla="val 18750"/>
                <a:gd name="adj2" fmla="val -8333"/>
                <a:gd name="adj3" fmla="val 9462"/>
                <a:gd name="adj4" fmla="val -9879"/>
                <a:gd name="adj5" fmla="val 82439"/>
                <a:gd name="adj6" fmla="val -24578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fer to recipients when enough have been made. Some can be frozen for later u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255920" y="2896920"/>
            <a:ext cx="3058920" cy="3821760"/>
            <a:chOff x="4255920" y="2896920"/>
            <a:chExt cx="3058920" cy="3821760"/>
          </a:xfrm>
        </p:grpSpPr>
        <p:graphicFrame>
          <p:nvGraphicFramePr>
            <p:cNvPr id="283" name=""/>
            <p:cNvGraphicFramePr/>
            <p:nvPr/>
          </p:nvGraphicFramePr>
          <p:xfrm>
            <a:off x="5063760" y="3962520"/>
            <a:ext cx="844200" cy="847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63760" y="3962520"/>
                      <a:ext cx="844200" cy="84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6119280" y="5311440"/>
              <a:ext cx="1195560" cy="1407240"/>
            </a:xfrm>
            <a:prstGeom prst="borderCallout2">
              <a:avLst>
                <a:gd name="adj1" fmla="val 18750"/>
                <a:gd name="adj2" fmla="val -8333"/>
                <a:gd name="adj3" fmla="val 9462"/>
                <a:gd name="adj4" fmla="val -22305"/>
                <a:gd name="adj5" fmla="val -69740"/>
                <a:gd name="adj6" fmla="val -38828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 to 10 times more embryos each 4 d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rot="3816600">
              <a:off x="4556160" y="3203280"/>
              <a:ext cx="1295280" cy="98460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984600"/>
                <a:gd name="textAreaBottom" fmla="*/ 984960 h 98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3" y="10800"/>
                  </a:moveTo>
                  <a:arcTo wR="-9157" hR="-9157" stAng="-10800000" swAng="-7239615"/>
                  <a:lnTo>
                    <a:pt x="5293" y="1510"/>
                  </a:lnTo>
                  <a:arcTo wR="10800" hR="10800" stAng="-7239615" swAng="7239615"/>
                  <a:lnTo>
                    <a:pt x="24300" y="10800"/>
                  </a:lnTo>
                  <a:lnTo>
                    <a:pt x="20779" y="14322"/>
                  </a:lnTo>
                  <a:lnTo>
                    <a:pt x="17257" y="10800"/>
                  </a:lnTo>
                  <a:close/>
                </a:path>
              </a:pathLst>
            </a:custGeom>
            <a:solidFill>
              <a:srgbClr val="c9e3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rot="9216600">
              <a:off x="4430520" y="4799880"/>
              <a:ext cx="1195560" cy="1066680"/>
            </a:xfrm>
            <a:custGeom>
              <a:avLst/>
              <a:gdLst>
                <a:gd name="textAreaLeft" fmla="*/ -360 w 1195560"/>
                <a:gd name="textAreaRight" fmla="*/ 1195560 w 11955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3" y="10800"/>
                  </a:moveTo>
                  <a:arcTo wR="-9157" hR="-9157" stAng="-10800000" swAng="-7239615"/>
                  <a:lnTo>
                    <a:pt x="5293" y="1510"/>
                  </a:lnTo>
                  <a:arcTo wR="10800" hR="10800" stAng="-7239615" swAng="7239615"/>
                  <a:lnTo>
                    <a:pt x="24300" y="10800"/>
                  </a:lnTo>
                  <a:lnTo>
                    <a:pt x="20779" y="14322"/>
                  </a:lnTo>
                  <a:lnTo>
                    <a:pt x="17257" y="10800"/>
                  </a:lnTo>
                  <a:close/>
                </a:path>
              </a:pathLst>
            </a:custGeom>
            <a:solidFill>
              <a:srgbClr val="c9e3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10960" y="4420800"/>
            <a:ext cx="4430520" cy="2198160"/>
            <a:chOff x="210960" y="4420800"/>
            <a:chExt cx="4430520" cy="2198160"/>
          </a:xfrm>
        </p:grpSpPr>
        <p:sp>
          <p:nvSpPr>
            <p:cNvPr id="289" name=""/>
            <p:cNvSpPr/>
            <p:nvPr/>
          </p:nvSpPr>
          <p:spPr>
            <a:xfrm>
              <a:off x="4219560" y="541008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38400" y="5334120"/>
              <a:ext cx="703080" cy="761760"/>
            </a:xfrm>
            <a:prstGeom prst="donut">
              <a:avLst>
                <a:gd name="adj" fmla="val 375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0960" y="5649480"/>
              <a:ext cx="1195200" cy="969480"/>
            </a:xfrm>
            <a:prstGeom prst="borderCallout2">
              <a:avLst>
                <a:gd name="adj1" fmla="val 18750"/>
                <a:gd name="adj2" fmla="val -8333"/>
                <a:gd name="adj3" fmla="val 11574"/>
                <a:gd name="adj4" fmla="val 169851"/>
                <a:gd name="adj5" fmla="val -7124"/>
                <a:gd name="adj6" fmla="val 234657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me embryos start to devel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rot="14616600">
              <a:off x="2797920" y="4727160"/>
              <a:ext cx="1295280" cy="98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3" y="10800"/>
                  </a:moveTo>
                  <a:arcTo wR="-9157" hR="-9157" stAng="-10800000" swAng="-7239615"/>
                  <a:lnTo>
                    <a:pt x="5293" y="1510"/>
                  </a:lnTo>
                  <a:arcTo wR="10800" hR="10800" stAng="-7239615" swAng="7239615"/>
                  <a:lnTo>
                    <a:pt x="24300" y="10800"/>
                  </a:lnTo>
                  <a:lnTo>
                    <a:pt x="20779" y="14322"/>
                  </a:lnTo>
                  <a:lnTo>
                    <a:pt x="17257" y="10800"/>
                  </a:lnTo>
                  <a:close/>
                </a:path>
              </a:pathLst>
            </a:custGeom>
            <a:solidFill>
              <a:srgbClr val="c9e3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305160" y="0"/>
            <a:ext cx="3798720" cy="2066760"/>
            <a:chOff x="3305160" y="0"/>
            <a:chExt cx="3798720" cy="2066760"/>
          </a:xfrm>
        </p:grpSpPr>
        <p:grpSp>
          <p:nvGrpSpPr>
            <p:cNvPr id="294" name=""/>
            <p:cNvGrpSpPr/>
            <p:nvPr/>
          </p:nvGrpSpPr>
          <p:grpSpPr>
            <a:xfrm>
              <a:off x="3305160" y="0"/>
              <a:ext cx="2462040" cy="2066760"/>
              <a:chOff x="3305160" y="0"/>
              <a:chExt cx="2462040" cy="2066760"/>
            </a:xfrm>
          </p:grpSpPr>
          <p:pic>
            <p:nvPicPr>
              <p:cNvPr id="29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5160" y="1085760"/>
                <a:ext cx="1181520" cy="981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296" name=""/>
              <p:cNvGraphicFramePr/>
              <p:nvPr/>
            </p:nvGraphicFramePr>
            <p:xfrm>
              <a:off x="3305160" y="0"/>
              <a:ext cx="1266120" cy="11462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97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305160" y="0"/>
                        <a:ext cx="1266120" cy="114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8" name=""/>
              <p:cNvSpPr/>
              <p:nvPr/>
            </p:nvSpPr>
            <p:spPr>
              <a:xfrm>
                <a:off x="5063760" y="685800"/>
                <a:ext cx="703440" cy="762120"/>
              </a:xfrm>
              <a:prstGeom prst="donut">
                <a:avLst>
                  <a:gd name="adj" fmla="val 375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74720" y="838080"/>
                <a:ext cx="210960" cy="22860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9000">
                <a:off x="4359960" y="1238400"/>
                <a:ext cx="774000" cy="228600"/>
              </a:xfrm>
              <a:prstGeom prst="rightArrow">
                <a:avLst>
                  <a:gd name="adj1" fmla="val 50000"/>
                  <a:gd name="adj2" fmla="val 84646"/>
                </a:avLst>
              </a:prstGeom>
              <a:solidFill>
                <a:srgbClr val="c9e3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67400">
                <a:off x="4359960" y="704520"/>
                <a:ext cx="774000" cy="228600"/>
              </a:xfrm>
              <a:prstGeom prst="rightArrow">
                <a:avLst>
                  <a:gd name="adj1" fmla="val 50000"/>
                  <a:gd name="adj2" fmla="val 84646"/>
                </a:avLst>
              </a:prstGeom>
              <a:solidFill>
                <a:srgbClr val="c9e3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08320" y="127440"/>
              <a:ext cx="1195560" cy="969480"/>
            </a:xfrm>
            <a:prstGeom prst="borderCallout2">
              <a:avLst>
                <a:gd name="adj1" fmla="val 18750"/>
                <a:gd name="adj2" fmla="val -8333"/>
                <a:gd name="adj3" fmla="val 14907"/>
                <a:gd name="adj4" fmla="val -6986"/>
                <a:gd name="adj5" fmla="val 58273"/>
                <a:gd name="adj6" fmla="val -35879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 embryo from elite pa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602080" y="3962520"/>
            <a:ext cx="1055520" cy="1143000"/>
            <a:chOff x="2602080" y="3962520"/>
            <a:chExt cx="1055520" cy="1143000"/>
          </a:xfrm>
        </p:grpSpPr>
        <p:sp>
          <p:nvSpPr>
            <p:cNvPr id="304" name=""/>
            <p:cNvSpPr/>
            <p:nvPr/>
          </p:nvSpPr>
          <p:spPr>
            <a:xfrm>
              <a:off x="2671920" y="4114800"/>
              <a:ext cx="703800" cy="762120"/>
            </a:xfrm>
            <a:prstGeom prst="donut">
              <a:avLst>
                <a:gd name="adj" fmla="val 375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02080" y="3962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57600" y="39625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75720" y="4419720"/>
              <a:ext cx="210960" cy="228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10960" y="3447000"/>
            <a:ext cx="3709080" cy="1874880"/>
            <a:chOff x="210960" y="3447000"/>
            <a:chExt cx="3709080" cy="1874880"/>
          </a:xfrm>
        </p:grpSpPr>
        <p:sp>
          <p:nvSpPr>
            <p:cNvPr id="309" name=""/>
            <p:cNvSpPr/>
            <p:nvPr/>
          </p:nvSpPr>
          <p:spPr>
            <a:xfrm>
              <a:off x="210960" y="4352400"/>
              <a:ext cx="1195560" cy="969480"/>
            </a:xfrm>
            <a:prstGeom prst="borderCallout2">
              <a:avLst>
                <a:gd name="adj1" fmla="val 18750"/>
                <a:gd name="adj2" fmla="val -8333"/>
                <a:gd name="adj3" fmla="val 11574"/>
                <a:gd name="adj4" fmla="val 148773"/>
                <a:gd name="adj5" fmla="val 55712"/>
                <a:gd name="adj6" fmla="val 192018"/>
              </a:avLst>
            </a:prstGeom>
            <a:solidFill>
              <a:srgbClr val="ffffff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ctric pulse merges the two pa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37040" y="3504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59320" y="3447000"/>
              <a:ext cx="36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Black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600920" y="6028560"/>
            <a:ext cx="278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Monash IRD / Gene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Australia EM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rom Sandy McClin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605720" y="5521320"/>
          <a:ext cx="1600200" cy="1336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05720" y="5521320"/>
                    <a:ext cx="160020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8C91B-3C4F-4453-98F6-2E21AD56C406}" type="slidenum">
              <a:t>17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oning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828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ing from embryos, adults and cell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 line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asy genetic mani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luate individuals via their clone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ions can be bi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wer genetic individuals as candi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 elite individuals for use i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beef bulls for natural m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AC84-7259-4139-8956-EF9CFB7D4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tic Evaluation Using Cl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0920" y="1371600"/>
            <a:ext cx="828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eding valu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  This is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the value of an animal’s genes to its progen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  For when we want to make judgements about breeding animals for generating proge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enetic valu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, or Genotypic value.  This is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the value of an animal’s genes to itself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   For when we want to select animals to make clones of themselves to generate product to be harve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F796-4784-4783-B61F-CD3701CF1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I and MO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43412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selection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generation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ccuracy of EBV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2787840" cy="2136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771640" cy="25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022D-19AE-489B-9EE3-BB78753276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89000"/>
            <a:ext cx="855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lones Versus Progeny for Direct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55640" y="1474920"/>
            <a:ext cx="8047080" cy="390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A571-EDBC-49EB-BD91-FB7ECA9307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45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tic Evaluation Using Cl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4360" y="1609560"/>
          <a:ext cx="8459640" cy="36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09560"/>
                    <a:ext cx="8459640" cy="36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594B-C5A3-443B-BB5F-8F5A961CA9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255680" y="981000"/>
          <a:ext cx="6632640" cy="46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81000"/>
                    <a:ext cx="663264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826920" y="260280"/>
            <a:ext cx="804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netic Evaluation Using Cl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2FF1-3BC9-46FA-AE93-A9BF42F9DE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45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oning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act on commercial product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1280" y="1492200"/>
            <a:ext cx="5491080" cy="3871800"/>
            <a:chOff x="611280" y="1492200"/>
            <a:chExt cx="5491080" cy="3871800"/>
          </a:xfrm>
        </p:grpSpPr>
        <p:sp>
          <p:nvSpPr>
            <p:cNvPr id="329" name=""/>
            <p:cNvSpPr/>
            <p:nvPr/>
          </p:nvSpPr>
          <p:spPr>
            <a:xfrm>
              <a:off x="611280" y="1492200"/>
              <a:ext cx="5491080" cy="38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09200" y="1564200"/>
            <a:ext cx="5318640" cy="371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9200" y="1564200"/>
                      <a:ext cx="5318640" cy="371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6227640" y="1484280"/>
            <a:ext cx="273708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breeding progr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² =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3.25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e sele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² = 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Today's elite clones are expected to be as good as normal animals born in just over 10 years'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01A1-8270-4244-B621-0618484F87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99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lones Can Give a More Uniform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30280" y="1413000"/>
          <a:ext cx="808344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413000"/>
                    <a:ext cx="8083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232C-65FB-4119-9017-6593438C6F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0CAC-5994-46FA-90CD-34EE856A1D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I and MO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43412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selection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generation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ccuracy of EBV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79560" cy="53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9687-664D-4008-B869-3634BE5DF4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26920" y="981000"/>
          <a:ext cx="3762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81000"/>
                    <a:ext cx="3762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0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creased Intensity and Accuracy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F608-99CA-47CD-9809-620C5BAAA4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0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creased Intensity and Accuracy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88000" y="1125360"/>
          <a:ext cx="35146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125360"/>
                    <a:ext cx="35146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84360" y="1531800"/>
          <a:ext cx="3690720" cy="379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31800"/>
                    <a:ext cx="3690720" cy="37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7293-F9CA-4283-903A-3974D68A9C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4572000" y="1193760"/>
          <a:ext cx="381780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3760"/>
                    <a:ext cx="381780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84360" y="1531800"/>
          <a:ext cx="3690720" cy="379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31800"/>
                    <a:ext cx="3690720" cy="37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0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creased Intensity and Accuracy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EB20-899E-48CE-BCC4-21F12E3B81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dult Dairy MOET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55560" y="1700280"/>
          <a:ext cx="78310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00280"/>
                    <a:ext cx="78310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3224-2D46-4800-8436-C20EB5511C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Juvenile Dairy MOET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1619280"/>
          <a:ext cx="8055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19280"/>
                    <a:ext cx="8055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FECD-0A21-4A40-968F-6C5F51A51A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0000"/>
                </a:solidFill>
                <a:latin typeface="Arial"/>
              </a:rPr>
              <a:t>Oocyte harvesting and IVF in Australi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63640" y="1413000"/>
            <a:ext cx="7416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6280" indent="-476280">
              <a:spcBef>
                <a:spcPts val="700"/>
              </a:spcBef>
              <a:buClr>
                <a:srgbClr val="33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Times New Roman"/>
              </a:rPr>
              <a:t>26 lambs born from one 13-week old lamb in 199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00"/>
              </a:spcBef>
              <a:buClr>
                <a:srgbClr val="33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Times New Roman"/>
              </a:rPr>
              <a:t>Over 400 JIVET lambs produced at SARDI (2½ yrs to Nov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601"/>
              </a:spcBef>
              <a:buClr>
                <a:srgbClr val="33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499"/>
              </a:spcBef>
              <a:buClr>
                <a:srgbClr val="33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Times New Roman"/>
              </a:rPr>
              <a:t>2000:  8 JIVET companies in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499"/>
              </a:spcBef>
              <a:buClr>
                <a:srgbClr val="330099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Times New Roman"/>
              </a:rPr>
              <a:t>450 Oocytes from one 6-week lamb (Oct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CE17-BB19-49F5-B81A-B01D49756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3T02:03:36Z</dcterms:modified>
  <cp:revision>133</cp:revision>
  <dc:subject/>
  <dc:title>PowerPoint Presentation</dc:title>
</cp:coreProperties>
</file>