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5BF1-A19A-4D90-BB37-EA3140D98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5C59-4795-43F2-A248-A9BA85780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1483-98BF-407D-B3E2-245185930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20DD-1053-4121-905B-5932C7083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00C3-45F2-4D4D-9674-76A04839A9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93E6-72A6-46A9-B027-AD5DC3D438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604B-D40C-4929-9F58-66C540D46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AB0B-296A-4D58-B957-DBF97A1858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AE0E-C430-446D-91BC-F9D2447B07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7030-8151-4EB5-A4D0-FC6E675994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40D0-32C9-4C6D-8D28-6C5766E40E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2DDD-370E-4D28-BB17-B1902A4F3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66B0-1AF8-43D7-ABE0-E0E8A83565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1E2A-FDC9-4A71-BB18-8A12CB2DB5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18B2-D193-48B8-BD9F-3B0C61A0D7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8E3F-DCEF-4FCD-B75F-5D03647EF7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FCC0-5AE1-434E-A714-4BF30AD44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347E-6A7C-438E-9A8F-32A5A52F9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FAC5-CB45-4318-A3E7-0C6A7C647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B4BD-EF16-484F-B264-C2654A28B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4C7A-2CEF-4809-AE75-15C1FD27D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39A3-7089-4944-81F9-EDD8A744D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F860-130D-4408-BB33-C8DF1443C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838E-73AA-4E7D-AD69-467483E03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E12C-A24A-431E-A0F5-49B6F6B61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5AE3-F60F-42A0-B6B0-3F230F3A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085040"/>
            <a:ext cx="808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of Breeding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422/522 – Topic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King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B4A9-18C8-44E7-ABB8-3F74BF897A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ules-Based Approach to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55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3805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8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30440" y="2082960"/>
            <a:ext cx="1923840" cy="1817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Suppor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0520" y="2492280"/>
            <a:ext cx="1285920" cy="1214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s of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92360" y="3441240"/>
            <a:ext cx="358560" cy="435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868480"/>
            <a:ext cx="636480" cy="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220840"/>
            <a:ext cx="520560" cy="35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97320" y="3076560"/>
            <a:ext cx="596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800680" y="1550880"/>
          <a:ext cx="1031760" cy="14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0680" y="1550880"/>
                    <a:ext cx="103176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180200" y="2838600"/>
            <a:ext cx="18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24320" y="2004840"/>
            <a:ext cx="2227320" cy="1981440"/>
          </a:xfrm>
          <a:custGeom>
            <a:avLst/>
            <a:gdLst/>
            <a:ahLst/>
            <a:rect l="l" t="t" r="r" b="b"/>
            <a:pathLst>
              <a:path w="1494" h="1248">
                <a:moveTo>
                  <a:pt x="12" y="671"/>
                </a:moveTo>
                <a:cubicBezTo>
                  <a:pt x="61" y="660"/>
                  <a:pt x="257" y="698"/>
                  <a:pt x="309" y="605"/>
                </a:cubicBezTo>
                <a:cubicBezTo>
                  <a:pt x="361" y="512"/>
                  <a:pt x="371" y="183"/>
                  <a:pt x="322" y="110"/>
                </a:cubicBezTo>
                <a:cubicBezTo>
                  <a:pt x="273" y="37"/>
                  <a:pt x="0" y="60"/>
                  <a:pt x="12" y="170"/>
                </a:cubicBezTo>
                <a:cubicBezTo>
                  <a:pt x="24" y="280"/>
                  <a:pt x="345" y="618"/>
                  <a:pt x="394" y="773"/>
                </a:cubicBezTo>
                <a:cubicBezTo>
                  <a:pt x="443" y="928"/>
                  <a:pt x="323" y="1091"/>
                  <a:pt x="309" y="1099"/>
                </a:cubicBezTo>
                <a:cubicBezTo>
                  <a:pt x="295" y="1107"/>
                  <a:pt x="252" y="799"/>
                  <a:pt x="309" y="822"/>
                </a:cubicBezTo>
                <a:cubicBezTo>
                  <a:pt x="366" y="845"/>
                  <a:pt x="577" y="1248"/>
                  <a:pt x="652" y="1238"/>
                </a:cubicBezTo>
                <a:cubicBezTo>
                  <a:pt x="727" y="1228"/>
                  <a:pt x="648" y="928"/>
                  <a:pt x="757" y="763"/>
                </a:cubicBezTo>
                <a:cubicBezTo>
                  <a:pt x="866" y="598"/>
                  <a:pt x="1183" y="372"/>
                  <a:pt x="1304" y="249"/>
                </a:cubicBezTo>
                <a:cubicBezTo>
                  <a:pt x="1425" y="126"/>
                  <a:pt x="1494" y="50"/>
                  <a:pt x="1482" y="25"/>
                </a:cubicBezTo>
                <a:cubicBezTo>
                  <a:pt x="1470" y="0"/>
                  <a:pt x="1297" y="13"/>
                  <a:pt x="1232" y="97"/>
                </a:cubicBezTo>
                <a:cubicBezTo>
                  <a:pt x="1167" y="181"/>
                  <a:pt x="1146" y="432"/>
                  <a:pt x="1093" y="532"/>
                </a:cubicBezTo>
                <a:cubicBezTo>
                  <a:pt x="1040" y="632"/>
                  <a:pt x="965" y="595"/>
                  <a:pt x="915" y="697"/>
                </a:cubicBezTo>
                <a:cubicBezTo>
                  <a:pt x="865" y="799"/>
                  <a:pt x="861" y="1126"/>
                  <a:pt x="790" y="1145"/>
                </a:cubicBezTo>
                <a:cubicBezTo>
                  <a:pt x="719" y="1164"/>
                  <a:pt x="521" y="829"/>
                  <a:pt x="487" y="809"/>
                </a:cubicBezTo>
                <a:cubicBezTo>
                  <a:pt x="453" y="789"/>
                  <a:pt x="491" y="1040"/>
                  <a:pt x="586" y="1027"/>
                </a:cubicBezTo>
                <a:cubicBezTo>
                  <a:pt x="681" y="1014"/>
                  <a:pt x="936" y="786"/>
                  <a:pt x="1060" y="730"/>
                </a:cubicBezTo>
                <a:cubicBezTo>
                  <a:pt x="1184" y="674"/>
                  <a:pt x="1275" y="701"/>
                  <a:pt x="1331" y="69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3440" y="216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7760" y="202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1720" y="294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3280" y="3789360"/>
            <a:ext cx="1657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is br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on EB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at cu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 he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BFA1-1798-4B7D-8E8D-C0B27463BF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ules-Based Approach to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26920" y="1700280"/>
                <a:ext cx="33307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50" name=""/>
          <p:cNvGraphicFramePr/>
          <p:nvPr/>
        </p:nvGraphicFramePr>
        <p:xfrm>
          <a:off x="4427640" y="1557360"/>
          <a:ext cx="421164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42116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16000" y="3716280"/>
                <a:ext cx="27338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4810-63C7-4EF8-A175-DD35A1C8E9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ules-Based Approach to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1484280"/>
            <a:ext cx="81532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66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Different methods have been developed for handling different animal breeding issues (eg. selection, inbreeding, cross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e try to mix different methods (or mix different rules) we are likely to miss the best overall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66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Following strict rules leads to missed opportunities.  We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-tune the rules as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the rules when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498E-20E1-4BDA-A56F-A83DFCCACB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reeding Pyramid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– opened and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9920" y="1700280"/>
            <a:ext cx="646272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668600" y="1960560"/>
            <a:ext cx="5943600" cy="3110040"/>
            <a:chOff x="1668600" y="1960560"/>
            <a:chExt cx="5943600" cy="3110040"/>
          </a:xfrm>
        </p:grpSpPr>
        <p:sp>
          <p:nvSpPr>
            <p:cNvPr id="158" name=""/>
            <p:cNvSpPr/>
            <p:nvPr/>
          </p:nvSpPr>
          <p:spPr>
            <a:xfrm>
              <a:off x="1668600" y="2052000"/>
              <a:ext cx="731520" cy="54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ucle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8840" y="2509200"/>
              <a:ext cx="731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ams and Ew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63160" y="3149640"/>
              <a:ext cx="731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lock ra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6360" y="2509200"/>
              <a:ext cx="731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ams and Ew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80680" y="3149640"/>
              <a:ext cx="731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lock ra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42920" y="4064400"/>
              <a:ext cx="1920240" cy="73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losed Nucleus Sche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pper tiers are closed to importation from lower tier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60440" y="4064400"/>
              <a:ext cx="1920240" cy="10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pen Nucleus Sche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pward migration of animals which  are sufficiently competi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1960560"/>
              <a:ext cx="2377440" cy="210384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00120" y="278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34360" y="3423960"/>
              <a:ext cx="16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8680" y="232632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4117800">
              <a:off x="3225600" y="2597040"/>
              <a:ext cx="634320" cy="274320"/>
            </a:xfrm>
            <a:custGeom>
              <a:avLst/>
              <a:gdLst>
                <a:gd name="textAreaLeft" fmla="*/ 110880 w 634320"/>
                <a:gd name="textAreaRight" fmla="*/ 460080 w 634320"/>
                <a:gd name="textAreaTop" fmla="*/ 36720 h 274320"/>
                <a:gd name="textAreaBottom" fmla="*/ 237600 h 27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4117800">
              <a:off x="3591360" y="3237480"/>
              <a:ext cx="634320" cy="274320"/>
            </a:xfrm>
            <a:custGeom>
              <a:avLst/>
              <a:gdLst>
                <a:gd name="textAreaLeft" fmla="*/ 110880 w 634320"/>
                <a:gd name="textAreaRight" fmla="*/ 460080 w 634320"/>
                <a:gd name="textAreaTop" fmla="*/ 36720 h 274320"/>
                <a:gd name="textAreaBottom" fmla="*/ 237600 h 27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4117800">
              <a:off x="6243120" y="2597040"/>
              <a:ext cx="634320" cy="274320"/>
            </a:xfrm>
            <a:custGeom>
              <a:avLst/>
              <a:gdLst>
                <a:gd name="textAreaLeft" fmla="*/ 110880 w 634320"/>
                <a:gd name="textAreaRight" fmla="*/ 460080 w 634320"/>
                <a:gd name="textAreaTop" fmla="*/ 36720 h 274320"/>
                <a:gd name="textAreaBottom" fmla="*/ 237600 h 27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4117800">
              <a:off x="6608880" y="3237480"/>
              <a:ext cx="634320" cy="274320"/>
            </a:xfrm>
            <a:custGeom>
              <a:avLst/>
              <a:gdLst>
                <a:gd name="textAreaLeft" fmla="*/ 110880 w 634320"/>
                <a:gd name="textAreaRight" fmla="*/ 460080 w 634320"/>
                <a:gd name="textAreaTop" fmla="*/ 36720 h 274320"/>
                <a:gd name="textAreaBottom" fmla="*/ 237600 h 27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34360" y="3551040"/>
              <a:ext cx="1645920" cy="457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se Flo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00120" y="2910600"/>
              <a:ext cx="914400" cy="36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ultiplier Flo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686120" y="1960560"/>
              <a:ext cx="2377440" cy="2103840"/>
              <a:chOff x="4686120" y="1960560"/>
              <a:chExt cx="2377440" cy="2103840"/>
            </a:xfrm>
          </p:grpSpPr>
          <p:sp>
            <p:nvSpPr>
              <p:cNvPr id="176" name=""/>
              <p:cNvSpPr/>
              <p:nvPr/>
            </p:nvSpPr>
            <p:spPr>
              <a:xfrm>
                <a:off x="4686120" y="1960560"/>
                <a:ext cx="2377440" cy="210384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417640" y="2600640"/>
                <a:ext cx="274320" cy="182880"/>
                <a:chOff x="5417640" y="2600640"/>
                <a:chExt cx="274320" cy="182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417640" y="278352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5600520" y="2600640"/>
                  <a:ext cx="91440" cy="18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057720" y="2600640"/>
                <a:ext cx="274320" cy="182880"/>
                <a:chOff x="6057720" y="2600640"/>
                <a:chExt cx="274320" cy="182880"/>
              </a:xfrm>
            </p:grpSpPr>
            <p:sp>
              <p:nvSpPr>
                <p:cNvPr id="181" name=""/>
                <p:cNvSpPr/>
                <p:nvPr/>
              </p:nvSpPr>
              <p:spPr>
                <a:xfrm flipH="1">
                  <a:off x="6149160" y="278352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6057720" y="2600640"/>
                  <a:ext cx="91440" cy="18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051880" y="3149640"/>
                <a:ext cx="548640" cy="274320"/>
                <a:chOff x="5051880" y="3149640"/>
                <a:chExt cx="548640" cy="2743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051880" y="34239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5509080" y="3149640"/>
                  <a:ext cx="9144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149160" y="3149640"/>
                <a:ext cx="548640" cy="274320"/>
                <a:chOff x="6149160" y="3149640"/>
                <a:chExt cx="548640" cy="274320"/>
              </a:xfrm>
            </p:grpSpPr>
            <p:sp>
              <p:nvSpPr>
                <p:cNvPr id="187" name=""/>
                <p:cNvSpPr/>
                <p:nvPr/>
              </p:nvSpPr>
              <p:spPr>
                <a:xfrm flipH="1">
                  <a:off x="6240600" y="34239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6149160" y="3149640"/>
                  <a:ext cx="9144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 flipV="1">
                <a:off x="5874840" y="250920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17640" y="2819160"/>
                <a:ext cx="914400" cy="3657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Best Ewes and ra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51880" y="3551040"/>
                <a:ext cx="1645920" cy="3657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Best Ewes and ra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874840" y="31496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760B-7F88-41FF-A390-CA2BC92E0E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osed Nucleus Breeding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5240" y="1700280"/>
            <a:ext cx="7551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84360" indent="-513000">
              <a:spcBef>
                <a:spcPts val="4000"/>
              </a:spcBef>
              <a:buClr>
                <a:srgbClr val="3366cc"/>
              </a:buClr>
              <a:buFont typeface="Times New Roman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Selection only permanently effective in nucl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513000">
              <a:spcBef>
                <a:spcPts val="4000"/>
              </a:spcBef>
              <a:buClr>
                <a:srgbClr val="3366cc"/>
              </a:buClr>
              <a:buFont typeface="Times New Roman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Nucleus objectives impact on whole sche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513000">
              <a:spcBef>
                <a:spcPts val="4000"/>
              </a:spcBef>
              <a:buClr>
                <a:srgbClr val="3366cc"/>
              </a:buClr>
              <a:buFont typeface="Times New Roman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La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E344-2CEA-45CD-9817-7C05A4BA84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6280" y="1197000"/>
            <a:ext cx="6580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474920" y="1360440"/>
          <a:ext cx="5930640" cy="39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1360440"/>
                    <a:ext cx="593064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900000" y="189000"/>
            <a:ext cx="804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osed Nucleus Breeding Sch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C5FC-76C0-49DD-9B08-B60F69E418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45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pen Nucleus Breeding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1592280"/>
            <a:ext cx="4752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spcBef>
                <a:spcPts val="2999"/>
              </a:spcBef>
              <a:buClr>
                <a:srgbClr val="3366cc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odule NUCLEUS in GENUP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2999"/>
              </a:spcBef>
              <a:buClr>
                <a:srgbClr val="3366cc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2999"/>
              </a:spcBef>
              <a:buClr>
                <a:srgbClr val="3366cc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Geographically diffused Nucle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7360" indent="-457200">
              <a:lnSpc>
                <a:spcPct val="100000"/>
              </a:lnSpc>
              <a:spcBef>
                <a:spcPts val="2999"/>
              </a:spcBef>
              <a:buClr>
                <a:srgbClr val="3366cc"/>
              </a:buClr>
              <a:buFont typeface="Times New Roman"/>
              <a:buChar char="–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airy cattl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58720" y="907920"/>
            <a:ext cx="377028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2950-B25B-42AA-AFAD-7C56ACCF8F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airy Breed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1628640"/>
            <a:ext cx="791064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te matings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re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reed    ... maybe 10,000 c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m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fm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matings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ree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reed    ... maybe 10,000,000 c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m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ff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59E0-6F23-4489-AEE4-9174E50970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airy Breed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582560" y="1773360"/>
            <a:ext cx="6013440" cy="3105000"/>
            <a:chOff x="1582560" y="1773360"/>
            <a:chExt cx="6013440" cy="3105000"/>
          </a:xfrm>
        </p:grpSpPr>
        <p:grpSp>
          <p:nvGrpSpPr>
            <p:cNvPr id="206" name=""/>
            <p:cNvGrpSpPr/>
            <p:nvPr/>
          </p:nvGrpSpPr>
          <p:grpSpPr>
            <a:xfrm>
              <a:off x="1582560" y="1773360"/>
              <a:ext cx="1825560" cy="1552680"/>
              <a:chOff x="1582560" y="1773360"/>
              <a:chExt cx="1825560" cy="1552680"/>
            </a:xfrm>
          </p:grpSpPr>
          <p:sp>
            <p:nvSpPr>
              <p:cNvPr id="207" name=""/>
              <p:cNvSpPr/>
              <p:nvPr/>
            </p:nvSpPr>
            <p:spPr>
              <a:xfrm>
                <a:off x="1650960" y="1773360"/>
                <a:ext cx="1689120" cy="15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LI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TING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82560" y="1773360"/>
                <a:ext cx="1825560" cy="155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408120" y="1773360"/>
              <a:ext cx="4187880" cy="1552680"/>
              <a:chOff x="3408120" y="1773360"/>
              <a:chExt cx="4187880" cy="1552680"/>
            </a:xfrm>
          </p:grpSpPr>
          <p:sp>
            <p:nvSpPr>
              <p:cNvPr id="210" name=""/>
              <p:cNvSpPr/>
              <p:nvPr/>
            </p:nvSpPr>
            <p:spPr>
              <a:xfrm>
                <a:off x="3476520" y="1773360"/>
                <a:ext cx="4051080" cy="15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m: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 to 5 top progeny tested sir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m: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est cows selected on index, contract mated with mm semen to produce young bulls for progeny testing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08120" y="1773360"/>
                <a:ext cx="4187880" cy="155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582560" y="3326040"/>
              <a:ext cx="1825560" cy="1552320"/>
              <a:chOff x="1582560" y="3326040"/>
              <a:chExt cx="1825560" cy="1552320"/>
            </a:xfrm>
          </p:grpSpPr>
          <p:sp>
            <p:nvSpPr>
              <p:cNvPr id="213" name=""/>
              <p:cNvSpPr/>
              <p:nvPr/>
            </p:nvSpPr>
            <p:spPr>
              <a:xfrm>
                <a:off x="1650960" y="3326040"/>
                <a:ext cx="1689120" cy="155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RM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TING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82560" y="3326040"/>
                <a:ext cx="1825560" cy="1552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408120" y="3326040"/>
              <a:ext cx="4187880" cy="1552320"/>
              <a:chOff x="3408120" y="3326040"/>
              <a:chExt cx="4187880" cy="1552320"/>
            </a:xfrm>
          </p:grpSpPr>
          <p:sp>
            <p:nvSpPr>
              <p:cNvPr id="216" name=""/>
              <p:cNvSpPr/>
              <p:nvPr/>
            </p:nvSpPr>
            <p:spPr>
              <a:xfrm>
                <a:off x="3476520" y="3326040"/>
                <a:ext cx="4051080" cy="155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f: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econd best (but acceptable) progeny tested sires, plus young bulls for progeny testing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f: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rdinary cows, used for ordinary matings plus progeny testing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entury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08120" y="3326040"/>
                <a:ext cx="4187880" cy="1552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8672-C9C3-43D5-AE99-DE98B2C4E8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49360" y="259920"/>
            <a:ext cx="804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airy breeding structure</a:t>
            </a:r>
            <a:br>
              <a:rPr sz="4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al purpose Sim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619280" y="1413000"/>
          <a:ext cx="5977080" cy="41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13000"/>
                    <a:ext cx="5977080" cy="41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E516-DBFA-4578-ACE6-8CA2D71446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imal Breeding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916280"/>
            <a:ext cx="64054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2286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990000"/>
                </a:solidFill>
                <a:uFillTx/>
                <a:latin typeface="Arial"/>
              </a:rPr>
              <a:t>Objectives to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AU" sz="2800" spc="-1" strike="noStrike" u="sng">
                <a:solidFill>
                  <a:srgbClr val="990000"/>
                </a:solidFill>
                <a:uFillTx/>
                <a:latin typeface="Arial"/>
              </a:rPr>
              <a:t>Tools to explo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990000"/>
                </a:solidFill>
                <a:uFillTx/>
                <a:latin typeface="Arial"/>
              </a:rPr>
              <a:t>Strategies to ado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4000" y="1989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o 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24000" y="386064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get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34040" y="1743120"/>
            <a:ext cx="257040" cy="965160"/>
          </a:xfrm>
          <a:custGeom>
            <a:avLst/>
            <a:gdLst>
              <a:gd name="textAreaLeft" fmla="*/ 0 w 257040"/>
              <a:gd name="textAreaRight" fmla="*/ 92880 w 25704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1200" y="3357720"/>
            <a:ext cx="369720" cy="1500120"/>
          </a:xfrm>
          <a:custGeom>
            <a:avLst/>
            <a:gdLst>
              <a:gd name="textAreaLeft" fmla="*/ 0 w 369720"/>
              <a:gd name="textAreaRight" fmla="*/ 133560 w 369720"/>
              <a:gd name="textAreaTop" fmla="*/ 38880 h 1500120"/>
              <a:gd name="textAreaBottom" fmla="*/ 146124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21B4-0574-476B-8A98-186E601E2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49000" y="189000"/>
            <a:ext cx="3662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iry Breeding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0" y="115920"/>
          <a:ext cx="4370400" cy="53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5920"/>
                    <a:ext cx="437040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826920" y="187632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ry structure is a geographically diffused open nucleus structur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3F7F-65CD-483F-B97E-36EA87DB14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B32D-E234-4CF5-890E-5716C85219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80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osed Nucleus Breeding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F256-C68A-442E-BB89-640F029F05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sign Issues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7000" y="1557360"/>
          <a:ext cx="884700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557360"/>
                    <a:ext cx="88470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0F6D-2917-4F74-BE8F-2EA5B6EDC9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sign Issues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1700280"/>
          <a:ext cx="8820000" cy="43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8200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32E9-CDF5-4A6F-B221-DB21C4CAA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sign Issues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96800" y="1116000"/>
          <a:ext cx="8539200" cy="46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116000"/>
                    <a:ext cx="8539200" cy="46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4678-00E2-4EA7-9B6B-DF5B37096F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mplementation of Programs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63200"/>
            <a:ext cx="74390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les-based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joining on 1st Febru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best 10 rams mated to best 400 ew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a rotational cro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ctica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ise impact of selection and mating, based o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evail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imals, markets, costs, constraints and opportun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4A3F-C084-4C74-B269-0FCECD0E8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ctical Approach to Design</a:t>
            </a:r>
            <a:br>
              <a:rPr sz="3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tion Decis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31840" y="3540240"/>
            <a:ext cx="1165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4581360"/>
            <a:ext cx="1752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6760" y="2408400"/>
            <a:ext cx="129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47800" y="2708280"/>
            <a:ext cx="1924200" cy="1817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65920" y="3716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68520" y="4149720"/>
            <a:ext cx="73512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70160" y="38656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6800" y="3071880"/>
            <a:ext cx="731520" cy="41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79760" y="3971880"/>
            <a:ext cx="233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4869000"/>
            <a:ext cx="2055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360" y="422100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3080" y="2025720"/>
            <a:ext cx="731880" cy="907920"/>
          </a:xfrm>
          <a:custGeom>
            <a:avLst/>
            <a:gdLst/>
            <a:ahLst/>
            <a:rect l="l" t="t" r="r" b="b"/>
            <a:pathLst>
              <a:path w="522" h="656">
                <a:moveTo>
                  <a:pt x="522" y="19"/>
                </a:moveTo>
                <a:cubicBezTo>
                  <a:pt x="351" y="0"/>
                  <a:pt x="180" y="23"/>
                  <a:pt x="93" y="65"/>
                </a:cubicBezTo>
                <a:cubicBezTo>
                  <a:pt x="6" y="107"/>
                  <a:pt x="2" y="171"/>
                  <a:pt x="1" y="269"/>
                </a:cubicBezTo>
                <a:cubicBezTo>
                  <a:pt x="0" y="367"/>
                  <a:pt x="68" y="576"/>
                  <a:pt x="86" y="6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1700280"/>
            <a:ext cx="1806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0160" y="2116080"/>
            <a:ext cx="1247760" cy="1112760"/>
          </a:xfrm>
          <a:custGeom>
            <a:avLst/>
            <a:gdLst/>
            <a:ahLst/>
            <a:rect l="l" t="t" r="r" b="b"/>
            <a:pathLst>
              <a:path w="890" h="804">
                <a:moveTo>
                  <a:pt x="0" y="804"/>
                </a:moveTo>
                <a:cubicBezTo>
                  <a:pt x="111" y="773"/>
                  <a:pt x="523" y="708"/>
                  <a:pt x="666" y="613"/>
                </a:cubicBezTo>
                <a:cubicBezTo>
                  <a:pt x="809" y="518"/>
                  <a:pt x="890" y="333"/>
                  <a:pt x="858" y="231"/>
                </a:cubicBezTo>
                <a:cubicBezTo>
                  <a:pt x="826" y="129"/>
                  <a:pt x="555" y="48"/>
                  <a:pt x="47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276640"/>
            <a:ext cx="1774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08320" y="1484280"/>
          <a:ext cx="9255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8320" y="1484280"/>
                    <a:ext cx="9255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649120" y="48690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RM will come later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A0BF-BFD3-40E4-9BA6-24A27E696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ctical Approach to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9280" y="1442880"/>
            <a:ext cx="8029440" cy="397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termine the consequences of your actions</a:t>
            </a:r>
            <a:br>
              <a:rPr sz="24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or … develop 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bjective funct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hich describes net utility as a function of selections and mate allocatio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94120" indent="-230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. Predicted merit one generation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94120" indent="-230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. Predicted merit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generations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94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d the actions which maximise the consequences</a:t>
            </a:r>
            <a:br>
              <a:rPr sz="24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or … develop and implement a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mate selection algorith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hich maximises this objective func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94120" indent="-230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. linear programming and genetic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C0D3-49C3-4B87-BC01-193C41E4A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ctical Approach to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736280"/>
            <a:ext cx="59770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 framework to predict progeny merit and costs at the level of individual ma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mate selection algorithm to find the best overall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ill come back to tactical approach in the TGRM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769080" y="1704960"/>
          <a:ext cx="193212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9080" y="1704960"/>
                    <a:ext cx="193212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548400" y="3860640"/>
          <a:ext cx="2271600" cy="12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8400" y="3860640"/>
                    <a:ext cx="2271600" cy="12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943E-9A8B-41B1-A83C-543CAE5A2C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13T00:40:58Z</dcterms:modified>
  <cp:revision>126</cp:revision>
  <dc:subject/>
  <dc:title>PowerPoint Presentation</dc:title>
</cp:coreProperties>
</file>