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6.jpeg" ContentType="image/jpe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24C40-BD5B-463D-B722-00900A660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24DB1-EA33-4118-B212-758D518B0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93A42-2BD0-443C-8B61-E3D1EBCEB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7AE60-784C-443C-8320-3350C6945C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5F6C9-622A-4000-BFD7-2DAEA86833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59004-425C-4814-B9D0-CDBA996327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DBA32-4E84-48DF-8E2A-96C3A06002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D903B-E9BE-42A7-88CD-B3C1D51A0F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51354-0711-44BA-9731-EC60338934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1F4D7-FDBE-440B-8C9E-373401DD59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E5E19-396E-4A16-8419-133CD72E2F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62FBD-DD2A-4AA7-8AAA-07B10C2D6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82137-32B1-415E-8C39-6D25387467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14692-8815-4928-986A-4ADE67BC4F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2C5F2-37F0-4E70-80C8-E60C2DFD7E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1A7BE-ADD3-4289-9D16-16A144833D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7FF9C-28BC-430F-A209-9234CAC5F9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EBE1-04F6-47F2-924E-A85D7DA13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B539-A79A-4444-8A83-1935111A3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599F8-ABB0-4511-985D-586FB65C9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2377C-80A6-4F8C-8331-E43947A95C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02A73-C7EA-450F-B617-163FA9A2D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2FD17-C5E3-47A0-9C3D-8461E35E7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E5D88-576E-4233-B5BE-F9E3FA6C8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67F1-3B10-4CB3-BE71-85691B6333E3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F42F-F09F-4665-B13D-934FDBF1A3F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2280" y="619560"/>
            <a:ext cx="8299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actical Breeding Program Issues – Lamb Indu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88560" y="4229280"/>
            <a:ext cx="7774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422/522 – Topic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 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A1886-1B91-4425-92E2-4DE581E69F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BV Options for Lamb Produc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272440" cy="3952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979640" y="50133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lambs born and wea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91EB-8500-43F0-AB9E-159163BB33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87487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Terminal Sires Indicative h</a:t>
            </a:r>
            <a:r>
              <a:rPr b="1" lang="en-AU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en-AU" sz="4000" spc="-1" strike="noStrike" baseline="-8000">
                <a:solidFill>
                  <a:srgbClr val="000000"/>
                </a:solidFill>
                <a:latin typeface="Arial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25520" y="1916280"/>
            <a:ext cx="8675640" cy="28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18294-5F32-474F-A91A-2B90DE1A48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rminal Si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79153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75,000 rams available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~ 1200 bree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6 - 8 key breeds</a:t>
            </a:r>
            <a:r>
              <a:rPr b="1" i="1" lang="en-US" sz="3200" spc="-1" strike="noStrike">
                <a:solidFill>
                  <a:srgbClr val="fece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335772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Which 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rom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which bre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rom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which</a:t>
            </a:r>
            <a:r>
              <a:rPr b="1" i="1" lang="en-US" sz="2800" spc="-1" strike="noStrike">
                <a:solidFill>
                  <a:srgbClr val="fece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bree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ll best suit your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ewe 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our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production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your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market target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C68A-FF83-4129-9455-6687D8C69F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Terminal Sire Tra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16000" y="157644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 dep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 muscle dep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th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mbing 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ecal egg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C480-AF34-414B-8B5F-ACC7D0A355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Terminal Sire ASB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6000" y="112500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WWT – Post weaning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at 7.5 months of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growth rate means more weight for age or earlier turn-off at target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growth rate lambs are more feed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eat less kilos of feed per kilo g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valuable feeder la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2276640"/>
            <a:ext cx="6172200" cy="14583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600"/>
              </a:spcBef>
              <a:spcAft>
                <a:spcPts val="7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e growth is better,              …..   but watch birth 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18AF8-47AE-4A3D-827A-76F641C782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64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Terminal Sire ASB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7280" y="157644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FAT – Post weaning fat dep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difference in fat depth in a 45kg live weight 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FAT ASBVs to tailor fat depth for your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are of extremes of fatness or lean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s fat is inefficient use of f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takes ~4 times more energy to produce 1kg of fat than it does to produce 1kg of mus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1658E-2BBB-4FF6-9E72-5EA91445A0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Terminal Sire ASB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00000" y="1125000"/>
            <a:ext cx="7988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EMD – Post weaning eye muscle dep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enetic difference in eye muscle depth in a 45kg live weight 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MD is positively related to weight and  proportion of muscle in the loin and hind-quarter of the carc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ositive muscle with negative fat is even better for feed efficiency in growing la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Variation in expression remains constant across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0F473-792C-423A-99CE-0F15556E79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564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ernal Si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7280" y="179244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oss s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Border Leic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 repla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Coopworth, Corriedale, compo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D5495-C1C4-49F5-900A-51ACBEA136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Traits for Maternal Si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ternal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row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ol tra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arcas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orm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1640" y="4508640"/>
            <a:ext cx="756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importance will vary across br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8A6CE-2B2B-463A-94FB-A3E37FBAD2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rder $Ind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12960" y="836640"/>
            <a:ext cx="7840440" cy="481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5F0E-4590-4992-A56C-D6F6EDF73C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198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me Lamb Breeding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6000" y="1647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oss la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cross – termina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cross – ma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al purpose ma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52B70-12A4-4FE8-8358-D229F07EFD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rder $Index – Predicted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7056360" cy="44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20A48-B4A4-413B-B1D7-98A7449BB1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opworth Ind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50760" y="836640"/>
            <a:ext cx="776952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AF8C4-DEE7-4F97-80DA-1DB2E71E79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oopworth Index – Predicted Respons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6624720" cy="41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5123D-55C8-4E77-A5D4-A72D6D2079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rino 8% MP + Dual Purpose Ind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8277120" cy="455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8473-9192-4D94-80E3-4810344BC4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%MP+DP Index – Predicted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0920" y="981000"/>
            <a:ext cx="5113440" cy="455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F9B5-1255-44E0-B79D-B72D21723E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5640" y="142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oung Sire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3A619-AF9C-4E05-8118-3D93670DAEF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600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Young Sire Programs (YS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42920" y="17002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YSPs are run by a group of breeders who are prepared to work together to test a group of young sires (&lt; 12m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SBV ranked ‘best bet’ ram lambs are selected and shared among the group to test a larger number while minimising the risk to each bree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3B3FC-577D-420F-8D34-8D6153F6A6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36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vantages of Young Si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9171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igh merit young males have high genetic merit - good g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oung sires reduce generation inter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Usually cheaper - less is known about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Use of AI improves genetic linkage across flocks contributing to higher quality, more reliable EBVs and Index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632BB-5291-456C-82C8-7CE59FAB35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advantages of Young Si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55280" y="1576440"/>
            <a:ext cx="8172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t having progeny means individual young males have lower ASBV accurac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young animals whose own information plus that of relatives suggest they are of high merit may therefore not breed that wa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FA1E-C8B1-47ED-9460-6DF1632F3E3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tablishing a Y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99640" y="1125000"/>
            <a:ext cx="78440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lite young sires (&lt;12 months) are s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aximum number of sire and maternal grand-sire lines represented - inbreedi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50-60 doses of semen per sire col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emen packages are desig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3 young sires per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ach sire is used in 3 separate stu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ll flocks use 3 young s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 two breeders get an identical pack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ach team has similar average genetic me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3214A-18BB-424D-A847-C9E6C15317F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eeding Structure – 1st Cross Lam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39640" y="1125360"/>
            <a:ext cx="8280360" cy="947160"/>
            <a:chOff x="539640" y="1125360"/>
            <a:chExt cx="8280360" cy="947160"/>
          </a:xfrm>
        </p:grpSpPr>
        <p:sp>
          <p:nvSpPr>
            <p:cNvPr id="90" name=""/>
            <p:cNvSpPr/>
            <p:nvPr/>
          </p:nvSpPr>
          <p:spPr>
            <a:xfrm>
              <a:off x="539640" y="1125360"/>
              <a:ext cx="18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Border Leices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0360" y="134136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r>
                <a:rPr b="1" lang="en-US" sz="2800" spc="-1" strike="noStrike" baseline="30000">
                  <a:solidFill>
                    <a:srgbClr val="0000cc"/>
                  </a:solidFill>
                  <a:latin typeface="Arial"/>
                </a:rPr>
                <a:t>st</a:t>
              </a: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 cross lamb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60720" y="134136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Merin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84360" y="1413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16360" y="1628640"/>
              <a:ext cx="100800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39640" y="4581360"/>
            <a:ext cx="8209080" cy="534960"/>
            <a:chOff x="539640" y="4581360"/>
            <a:chExt cx="8209080" cy="534960"/>
          </a:xfrm>
        </p:grpSpPr>
        <p:sp>
          <p:nvSpPr>
            <p:cNvPr id="96" name=""/>
            <p:cNvSpPr/>
            <p:nvPr/>
          </p:nvSpPr>
          <p:spPr>
            <a:xfrm>
              <a:off x="539640" y="459576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Termin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0360" y="4581360"/>
              <a:ext cx="28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r>
                <a:rPr b="1" lang="en-US" sz="2800" spc="-1" strike="noStrike" baseline="30000">
                  <a:solidFill>
                    <a:srgbClr val="0000cc"/>
                  </a:solidFill>
                  <a:latin typeface="Arial"/>
                </a:rPr>
                <a:t>st</a:t>
              </a: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 cross lamb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60720" y="458136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Merin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84360" y="4653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16360" y="4869000"/>
              <a:ext cx="100800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627280" y="24210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1st cross d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32000" y="3068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me lam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508720" y="2349000"/>
            <a:ext cx="1008000" cy="359280"/>
            <a:chOff x="5508720" y="2349000"/>
            <a:chExt cx="1008000" cy="359280"/>
          </a:xfrm>
        </p:grpSpPr>
        <p:sp>
          <p:nvSpPr>
            <p:cNvPr id="104" name=""/>
            <p:cNvSpPr/>
            <p:nvPr/>
          </p:nvSpPr>
          <p:spPr>
            <a:xfrm>
              <a:off x="5508720" y="2708280"/>
              <a:ext cx="10080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516720" y="2349000"/>
              <a:ext cx="0" cy="358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651640" y="3429000"/>
            <a:ext cx="865080" cy="144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524720" y="414936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580000" y="2491920"/>
            <a:ext cx="2246400" cy="720720"/>
            <a:chOff x="5580000" y="2491920"/>
            <a:chExt cx="2246400" cy="720720"/>
          </a:xfrm>
        </p:grpSpPr>
        <p:sp>
          <p:nvSpPr>
            <p:cNvPr id="109" name=""/>
            <p:cNvSpPr/>
            <p:nvPr/>
          </p:nvSpPr>
          <p:spPr>
            <a:xfrm flipV="1">
              <a:off x="5580000" y="2852280"/>
              <a:ext cx="216072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7740720" y="2491920"/>
              <a:ext cx="8568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516720" y="3284640"/>
            <a:ext cx="194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wes and we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0360" y="1844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ew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6000" y="184464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e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2349360"/>
            <a:ext cx="21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high ewe prices some producers reta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ross ew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84360" y="3645000"/>
            <a:ext cx="19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00ff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cross ew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572000" y="3716280"/>
            <a:ext cx="2016000" cy="50472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4BA9-F8C7-45C1-B5A8-D426BCDBA2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Benefits Delivered by YS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71640" y="141408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Quickly identify the best gen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duce generation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duce inbr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re accurate breeding values giving  more reliable identification of rams for the next Y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mmercial clients benefit from more accurate breeding values and better gen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BB3FF-2060-40AD-9537-A6FB5D30F5D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748720" cy="5641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700360" y="174600"/>
            <a:ext cx="5184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cc"/>
                </a:solidFill>
                <a:latin typeface="Arial"/>
              </a:rPr>
              <a:t>www.lambplan.com.a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786F-EE44-47FD-992E-38437E0B10F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187164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eb Breeder Search Engin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rcRect l="21942" t="14379" r="12356" b="15411"/>
          <a:stretch/>
        </p:blipFill>
        <p:spPr>
          <a:xfrm>
            <a:off x="2301840" y="0"/>
            <a:ext cx="6842160" cy="551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7F8B6-03D2-4C2E-BC0E-79B5FA13F4B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252108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Animal Search Eng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rcRect l="11606" t="5710" r="13817" b="3125"/>
          <a:stretch/>
        </p:blipFill>
        <p:spPr>
          <a:xfrm>
            <a:off x="2268360" y="0"/>
            <a:ext cx="6659640" cy="56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E987B-E36A-4EAE-81C9-02CE85EC901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2016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stom Search by ASBV or Ind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rcRect l="13086" t="15411" r="14567" b="5229"/>
          <a:stretch/>
        </p:blipFill>
        <p:spPr>
          <a:xfrm>
            <a:off x="2556000" y="0"/>
            <a:ext cx="6300720" cy="558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F1A4B-2107-4DFE-9E97-415F8205D84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348000" y="169992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DAEF4-17FD-4D82-84BB-AABF091F309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eeding Structure – 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ross Lam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88000" y="3933720"/>
            <a:ext cx="19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ross lam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95280" y="2235240"/>
            <a:ext cx="4897440" cy="520560"/>
            <a:chOff x="395280" y="2235240"/>
            <a:chExt cx="4897440" cy="520560"/>
          </a:xfrm>
        </p:grpSpPr>
        <p:sp>
          <p:nvSpPr>
            <p:cNvPr id="120" name=""/>
            <p:cNvSpPr/>
            <p:nvPr/>
          </p:nvSpPr>
          <p:spPr>
            <a:xfrm>
              <a:off x="3492360" y="22352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Termin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5280" y="2235240"/>
              <a:ext cx="24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1</a:t>
              </a:r>
              <a:r>
                <a:rPr b="1" lang="en-US" sz="2800" spc="-1" strike="noStrike" baseline="30000">
                  <a:solidFill>
                    <a:srgbClr val="00ff00"/>
                  </a:solidFill>
                  <a:latin typeface="Arial"/>
                </a:rPr>
                <a:t>st</a:t>
              </a:r>
              <a:r>
                <a:rPr b="1" lang="en-US" sz="2800" spc="-1" strike="noStrike">
                  <a:solidFill>
                    <a:srgbClr val="00ff00"/>
                  </a:solidFill>
                  <a:latin typeface="Arial"/>
                </a:rPr>
                <a:t> cross ew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87640" y="22845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292720" y="2494080"/>
            <a:ext cx="1008000" cy="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060640"/>
            <a:ext cx="194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wes and we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51640" y="3141720"/>
            <a:ext cx="0" cy="71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3213000"/>
            <a:ext cx="24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high ewe prices some producers reta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ross ew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3573360"/>
            <a:ext cx="194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ff00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cross ew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435280" y="2997360"/>
            <a:ext cx="1081080" cy="64764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0D08B-489F-4BB7-B4E0-58ADCC766D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9800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eeding Structure  - Dual Purp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57800" y="197316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lam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2260440"/>
            <a:ext cx="936720" cy="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24360" y="24782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ew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21440" y="247824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e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44720" y="391788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me lam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65440" y="3052800"/>
            <a:ext cx="37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Replacement ew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221440" y="2980800"/>
            <a:ext cx="1008000" cy="359280"/>
            <a:chOff x="5221440" y="2980800"/>
            <a:chExt cx="1008000" cy="359280"/>
          </a:xfrm>
        </p:grpSpPr>
        <p:sp>
          <p:nvSpPr>
            <p:cNvPr id="137" name=""/>
            <p:cNvSpPr/>
            <p:nvPr/>
          </p:nvSpPr>
          <p:spPr>
            <a:xfrm>
              <a:off x="5221440" y="3340080"/>
              <a:ext cx="10080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229440" y="2980800"/>
              <a:ext cx="0" cy="358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365800" y="2980800"/>
            <a:ext cx="1150920" cy="1152720"/>
            <a:chOff x="5365800" y="2980800"/>
            <a:chExt cx="1150920" cy="1152720"/>
          </a:xfrm>
        </p:grpSpPr>
        <p:sp>
          <p:nvSpPr>
            <p:cNvPr id="140" name=""/>
            <p:cNvSpPr/>
            <p:nvPr/>
          </p:nvSpPr>
          <p:spPr>
            <a:xfrm>
              <a:off x="5365800" y="4133520"/>
              <a:ext cx="1150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16720" y="2980800"/>
              <a:ext cx="0" cy="115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365800" y="2980800"/>
            <a:ext cx="2448000" cy="1368720"/>
            <a:chOff x="5365800" y="2980800"/>
            <a:chExt cx="2448000" cy="1368720"/>
          </a:xfrm>
        </p:grpSpPr>
        <p:sp>
          <p:nvSpPr>
            <p:cNvPr id="143" name=""/>
            <p:cNvSpPr/>
            <p:nvPr/>
          </p:nvSpPr>
          <p:spPr>
            <a:xfrm flipV="1">
              <a:off x="7813800" y="2980800"/>
              <a:ext cx="0" cy="136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65800" y="4349520"/>
              <a:ext cx="2448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84360" y="1741320"/>
            <a:ext cx="4465080" cy="520560"/>
            <a:chOff x="684360" y="1741320"/>
            <a:chExt cx="4465080" cy="520560"/>
          </a:xfrm>
        </p:grpSpPr>
        <p:sp>
          <p:nvSpPr>
            <p:cNvPr id="146" name=""/>
            <p:cNvSpPr/>
            <p:nvPr/>
          </p:nvSpPr>
          <p:spPr>
            <a:xfrm>
              <a:off x="684360" y="1741320"/>
              <a:ext cx="208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Coopwort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01800" y="178416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60360" y="1741320"/>
              <a:ext cx="208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Coopwort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757080" y="2189160"/>
            <a:ext cx="4465440" cy="520560"/>
            <a:chOff x="757080" y="2189160"/>
            <a:chExt cx="4465440" cy="520560"/>
          </a:xfrm>
        </p:grpSpPr>
        <p:sp>
          <p:nvSpPr>
            <p:cNvPr id="150" name=""/>
            <p:cNvSpPr/>
            <p:nvPr/>
          </p:nvSpPr>
          <p:spPr>
            <a:xfrm>
              <a:off x="757080" y="2189160"/>
              <a:ext cx="208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Corrieda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74880" y="2232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33440" y="2189160"/>
              <a:ext cx="208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Corrieda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0A30-5F5D-46A1-8154-350D6B57E7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eeding Structure - Mer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9080" y="162864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lam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971640" y="1628640"/>
            <a:ext cx="3816360" cy="531360"/>
            <a:chOff x="971640" y="1628640"/>
            <a:chExt cx="3816360" cy="531360"/>
          </a:xfrm>
        </p:grpSpPr>
        <p:sp>
          <p:nvSpPr>
            <p:cNvPr id="156" name=""/>
            <p:cNvSpPr/>
            <p:nvPr/>
          </p:nvSpPr>
          <p:spPr>
            <a:xfrm>
              <a:off x="971640" y="1628640"/>
              <a:ext cx="158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Merin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87640" y="16286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Merin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84360" y="1700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572000" y="1916280"/>
            <a:ext cx="1008000" cy="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35640" y="2133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ew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32720" y="213372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e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4221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me lam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76360" y="2708280"/>
            <a:ext cx="37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Replacement ew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68440" y="34146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725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a725"/>
                </a:solidFill>
                <a:latin typeface="Arial"/>
              </a:rPr>
              <a:t>wool cutter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932360" y="2637000"/>
            <a:ext cx="1008000" cy="358560"/>
            <a:chOff x="4932360" y="2637000"/>
            <a:chExt cx="1008000" cy="358560"/>
          </a:xfrm>
        </p:grpSpPr>
        <p:sp>
          <p:nvSpPr>
            <p:cNvPr id="166" name=""/>
            <p:cNvSpPr/>
            <p:nvPr/>
          </p:nvSpPr>
          <p:spPr>
            <a:xfrm>
              <a:off x="4932360" y="2995560"/>
              <a:ext cx="10080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5940360" y="2637000"/>
              <a:ext cx="0" cy="358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076720" y="2637000"/>
            <a:ext cx="1150920" cy="1728720"/>
            <a:chOff x="5076720" y="2637000"/>
            <a:chExt cx="1150920" cy="1728720"/>
          </a:xfrm>
        </p:grpSpPr>
        <p:sp>
          <p:nvSpPr>
            <p:cNvPr id="169" name=""/>
            <p:cNvSpPr/>
            <p:nvPr/>
          </p:nvSpPr>
          <p:spPr>
            <a:xfrm>
              <a:off x="5076720" y="4365720"/>
              <a:ext cx="1150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6227640" y="2637000"/>
              <a:ext cx="0" cy="172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106960" y="2636640"/>
            <a:ext cx="2417760" cy="1944720"/>
            <a:chOff x="5106960" y="2636640"/>
            <a:chExt cx="2417760" cy="1944720"/>
          </a:xfrm>
        </p:grpSpPr>
        <p:sp>
          <p:nvSpPr>
            <p:cNvPr id="172" name=""/>
            <p:cNvSpPr/>
            <p:nvPr/>
          </p:nvSpPr>
          <p:spPr>
            <a:xfrm flipV="1">
              <a:off x="7524720" y="2636640"/>
              <a:ext cx="0" cy="194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06960" y="4581360"/>
              <a:ext cx="2417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003640" y="2637000"/>
            <a:ext cx="2305080" cy="1079280"/>
            <a:chOff x="5003640" y="2637000"/>
            <a:chExt cx="2305080" cy="1079280"/>
          </a:xfrm>
        </p:grpSpPr>
        <p:sp>
          <p:nvSpPr>
            <p:cNvPr id="175" name=""/>
            <p:cNvSpPr/>
            <p:nvPr/>
          </p:nvSpPr>
          <p:spPr>
            <a:xfrm>
              <a:off x="5003640" y="3716280"/>
              <a:ext cx="2305080" cy="0"/>
            </a:xfrm>
            <a:prstGeom prst="line">
              <a:avLst/>
            </a:prstGeom>
            <a:ln w="38160">
              <a:solidFill>
                <a:srgbClr val="ffa725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7308720" y="2637000"/>
              <a:ext cx="0" cy="1079280"/>
            </a:xfrm>
            <a:prstGeom prst="line">
              <a:avLst/>
            </a:prstGeom>
            <a:ln w="38160">
              <a:solidFill>
                <a:srgbClr val="ffa7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DE173-3C23-417E-831F-AAB6D5B22C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124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me Lamb 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16000" y="16473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oss lambs  ( 5.1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cross – terminal  ( 6.8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cross – maternal ( 2.1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al purpose maternal ( 1.2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no ( 4.0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E55A-28A6-4904-8D79-B60EA6530E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425080" cy="566100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2273400" y="2263680"/>
            <a:ext cx="5903640" cy="2303640"/>
            <a:chOff x="2273400" y="2263680"/>
            <a:chExt cx="5903640" cy="2303640"/>
          </a:xfrm>
        </p:grpSpPr>
        <p:sp>
          <p:nvSpPr>
            <p:cNvPr id="181" name=""/>
            <p:cNvSpPr/>
            <p:nvPr/>
          </p:nvSpPr>
          <p:spPr>
            <a:xfrm>
              <a:off x="2273400" y="2263680"/>
              <a:ext cx="4822560" cy="2303640"/>
            </a:xfrm>
            <a:custGeom>
              <a:avLst/>
              <a:gdLst/>
              <a:ahLst/>
              <a:rect l="l" t="t" r="r" b="b"/>
              <a:pathLst>
                <a:path w="2940" h="1303">
                  <a:moveTo>
                    <a:pt x="0" y="1303"/>
                  </a:moveTo>
                  <a:cubicBezTo>
                    <a:pt x="114" y="1206"/>
                    <a:pt x="494" y="869"/>
                    <a:pt x="686" y="720"/>
                  </a:cubicBezTo>
                  <a:cubicBezTo>
                    <a:pt x="878" y="571"/>
                    <a:pt x="991" y="498"/>
                    <a:pt x="1149" y="412"/>
                  </a:cubicBezTo>
                  <a:cubicBezTo>
                    <a:pt x="1307" y="326"/>
                    <a:pt x="1480" y="256"/>
                    <a:pt x="1637" y="206"/>
                  </a:cubicBezTo>
                  <a:cubicBezTo>
                    <a:pt x="1794" y="156"/>
                    <a:pt x="1874" y="146"/>
                    <a:pt x="2091" y="112"/>
                  </a:cubicBezTo>
                  <a:cubicBezTo>
                    <a:pt x="2308" y="78"/>
                    <a:pt x="2763" y="23"/>
                    <a:pt x="2940" y="0"/>
                  </a:cubicBezTo>
                </a:path>
              </a:pathLst>
            </a:custGeom>
            <a:noFill/>
            <a:ln w="381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67320" y="3040200"/>
              <a:ext cx="1809720" cy="42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dit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6444720" y="2530080"/>
              <a:ext cx="708120" cy="4237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178000" y="1104840"/>
            <a:ext cx="6105600" cy="3309840"/>
            <a:chOff x="2178000" y="1104840"/>
            <a:chExt cx="6105600" cy="3309840"/>
          </a:xfrm>
        </p:grpSpPr>
        <p:sp>
          <p:nvSpPr>
            <p:cNvPr id="185" name=""/>
            <p:cNvSpPr/>
            <p:nvPr/>
          </p:nvSpPr>
          <p:spPr>
            <a:xfrm>
              <a:off x="2178000" y="1104840"/>
              <a:ext cx="4410000" cy="3309840"/>
            </a:xfrm>
            <a:custGeom>
              <a:avLst/>
              <a:gdLst/>
              <a:ahLst/>
              <a:rect l="l" t="t" r="r" b="b"/>
              <a:pathLst>
                <a:path w="2688" h="1872">
                  <a:moveTo>
                    <a:pt x="0" y="1872"/>
                  </a:moveTo>
                  <a:cubicBezTo>
                    <a:pt x="86" y="1782"/>
                    <a:pt x="378" y="1472"/>
                    <a:pt x="519" y="1334"/>
                  </a:cubicBezTo>
                  <a:cubicBezTo>
                    <a:pt x="660" y="1196"/>
                    <a:pt x="694" y="1159"/>
                    <a:pt x="845" y="1042"/>
                  </a:cubicBezTo>
                  <a:cubicBezTo>
                    <a:pt x="996" y="925"/>
                    <a:pt x="1282" y="732"/>
                    <a:pt x="1428" y="631"/>
                  </a:cubicBezTo>
                  <a:lnTo>
                    <a:pt x="1719" y="434"/>
                  </a:lnTo>
                  <a:cubicBezTo>
                    <a:pt x="1836" y="364"/>
                    <a:pt x="1970" y="283"/>
                    <a:pt x="2131" y="211"/>
                  </a:cubicBezTo>
                  <a:cubicBezTo>
                    <a:pt x="2292" y="139"/>
                    <a:pt x="2572" y="44"/>
                    <a:pt x="2688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92800" y="1344600"/>
              <a:ext cx="1990800" cy="42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alanced Moder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681160" y="1576440"/>
              <a:ext cx="5302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832040" y="1028880"/>
            <a:ext cx="2590560" cy="3282840"/>
            <a:chOff x="1832040" y="1028880"/>
            <a:chExt cx="2590560" cy="3282840"/>
          </a:xfrm>
        </p:grpSpPr>
        <p:sp>
          <p:nvSpPr>
            <p:cNvPr id="189" name=""/>
            <p:cNvSpPr/>
            <p:nvPr/>
          </p:nvSpPr>
          <p:spPr>
            <a:xfrm>
              <a:off x="2114640" y="1189080"/>
              <a:ext cx="2307960" cy="3122640"/>
            </a:xfrm>
            <a:custGeom>
              <a:avLst/>
              <a:gdLst/>
              <a:ahLst/>
              <a:rect l="l" t="t" r="r" b="b"/>
              <a:pathLst>
                <a:path w="1407" h="1767">
                  <a:moveTo>
                    <a:pt x="0" y="1767"/>
                  </a:moveTo>
                  <a:lnTo>
                    <a:pt x="113" y="1465"/>
                  </a:lnTo>
                  <a:cubicBezTo>
                    <a:pt x="159" y="1372"/>
                    <a:pt x="216" y="1296"/>
                    <a:pt x="276" y="1208"/>
                  </a:cubicBezTo>
                  <a:cubicBezTo>
                    <a:pt x="336" y="1120"/>
                    <a:pt x="407" y="1027"/>
                    <a:pt x="473" y="934"/>
                  </a:cubicBezTo>
                  <a:cubicBezTo>
                    <a:pt x="539" y="841"/>
                    <a:pt x="596" y="747"/>
                    <a:pt x="670" y="651"/>
                  </a:cubicBezTo>
                  <a:cubicBezTo>
                    <a:pt x="744" y="555"/>
                    <a:pt x="796" y="468"/>
                    <a:pt x="919" y="360"/>
                  </a:cubicBezTo>
                  <a:cubicBezTo>
                    <a:pt x="1042" y="252"/>
                    <a:pt x="1305" y="75"/>
                    <a:pt x="1407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32040" y="1028880"/>
              <a:ext cx="1193760" cy="61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trem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r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62280" y="1712880"/>
              <a:ext cx="465120" cy="343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42508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me Lamb Market Spec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CB7C4-360E-41D0-B2B4-6A6907EC5B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tic Selection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280" y="3262320"/>
            <a:ext cx="3809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MB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6360" y="3247920"/>
            <a:ext cx="3810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NO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5323" t="18037" r="5323" b="22087"/>
          <a:stretch/>
        </p:blipFill>
        <p:spPr>
          <a:xfrm>
            <a:off x="1619280" y="1606680"/>
            <a:ext cx="6048360" cy="1081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24000" y="3767040"/>
            <a:ext cx="1198800" cy="12463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227640" y="3738600"/>
            <a:ext cx="1198800" cy="1246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B4D06-BA21-474C-8AB1-3C05EEE693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Briana Daly</cp:lastModifiedBy>
  <dcterms:modified xsi:type="dcterms:W3CDTF">2005-07-27T00:59:57Z</dcterms:modified>
  <cp:revision>134</cp:revision>
  <dc:subject/>
  <dc:title>PowerPoint Presentation</dc:title>
</cp:coreProperties>
</file>