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5A49-7BFF-42C0-9B2F-40846FF45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4E44-42F6-4862-BA05-1A43BF95F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22B9-2E78-4E65-9DEF-9B40E2BB4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6252-4921-4564-84AD-F00961800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68BA-CBAE-46CE-BB68-B70ECBD796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F956-8F3F-41E2-8315-21ADFB30BB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F354-1483-4476-923A-081D92C230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21BD-2D34-4FAB-8B5E-35BB6F9587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AFD4-25E6-43AF-964B-62E098E78C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D4AD-CB04-48AB-8E74-8A417695B4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BFB1-D20A-455E-B5BD-8A16D19B2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C771-046D-4188-B649-120993DC0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64E4-F3A4-4FCE-8E6C-4E6D01B209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A1DC-054E-4AAD-AB76-FEACFA3074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1851-52CD-4BD1-A2E7-2DA3824F24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AC1B-CD7C-414F-B779-67E45B0538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4FCA-6479-475B-94B5-C03A94D1F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2478-8BED-47BA-8DC5-B018F5148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E550-8B25-40E9-AED1-BBC58BC8C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5BA6-DDE7-40E0-9008-26E9715C5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B162-B153-4BF7-B0AF-EB83DDC9F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1409-9F67-4198-91E8-021C309A0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28FA-2353-40C6-B07B-BC7C1BD30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0004-F19E-424F-BAC0-451D6C733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7890-38C2-42A2-BC2E-7ECB977B3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BE70-A4BA-4B78-8EF2-F9705EA69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10242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Multiple Trait Sel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422928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ENE 422/522 - Topic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lius van der W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00E0-D2DD-452C-AA1E-679F0C3BA7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election Index for </a:t>
            </a:r>
            <a:r>
              <a:rPr b="1" lang="en-US" sz="3200" spc="-1" strike="noStrike">
                <a:solidFill>
                  <a:srgbClr val="0000ff"/>
                </a:solidFill>
                <a:latin typeface="Arial Unicode MS"/>
              </a:rPr>
              <a:t>Single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 = matrix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= G = vector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24280" y="1447920"/>
                <a:ext cx="39276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181480" y="2819520"/>
                <a:ext cx="24116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858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ights: b = P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ives weight for all sources about one E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1B95-B67A-414B-BA53-228BE498D6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election Index for </a:t>
            </a:r>
            <a:r>
              <a:rPr b="1" lang="en-US" sz="3200" spc="-1" strike="noStrike">
                <a:solidFill>
                  <a:srgbClr val="0000ff"/>
                </a:solidFill>
                <a:latin typeface="Arial Unicode MS"/>
              </a:rPr>
              <a:t>Multiple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 = breeding objective =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ar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(p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= P = matrix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v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(p,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) = G = matrix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72000" y="1341360"/>
                <a:ext cx="3672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72000" y="2349360"/>
                <a:ext cx="3656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09480" y="3500280"/>
            <a:ext cx="609624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Unicode MS"/>
              </a:rPr>
              <a:t>weights: b = P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 Unicode MS"/>
              </a:rPr>
              <a:t>-1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</a:rPr>
              <a:t>G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=   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a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</a:rPr>
              <a:t>a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645000"/>
            <a:ext cx="457200" cy="9903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4797360"/>
            <a:ext cx="73152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b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 Unicode MS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 is a subset of weights for i</a:t>
            </a:r>
            <a:r>
              <a:rPr b="0" lang="en-US" sz="2000" spc="-1" strike="noStrike" baseline="30000">
                <a:solidFill>
                  <a:srgbClr val="ff3300"/>
                </a:solidFill>
                <a:latin typeface="Arial Unicode MS"/>
              </a:rPr>
              <a:t>th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 trait to give EBV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Unicode MS"/>
              </a:rPr>
              <a:t>Overall weights are weighting each subset with its economic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762F-434E-4940-AF4F-458B31CC06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Using EBV’s Rather Than Own Phenotypes as Select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1719360"/>
            <a:ext cx="8317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dex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B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B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 +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….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B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weights are equal to economic valu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s genetic parameters are already accounted for in MT-BLUP generation of EBV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Unicode MS"/>
              </a:rPr>
              <a:t>Index selection is more efficient than single trait se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92BE-404F-492B-A4E2-87CF8519F4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redicting Response to MT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5840" y="1484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sponse in dolla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R = i.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 Unicode MS"/>
              </a:rPr>
              <a:t>Index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 = i.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b’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sponse for each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[R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 Unicode MS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 R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 Unicode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  …R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 Unicode MS"/>
              </a:rPr>
              <a:t>m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] = i.b’G/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b’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9713-C027-47C0-ADD3-7FEACF06AD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re Selection Indices Always Lin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onlinear profi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ptimal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reshold values for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4774-8D75-4DD7-B209-A7EBB5EB7C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election Index with ‘Desired Gai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ath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termine econ. values     &gt;&gt;&gt;&gt;    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 desire a response     &gt;&gt;&gt;&gt;  economic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implic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en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4637-0CC1-4BB0-AC18-B415C5B701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Other Deb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584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o’s perspective for prof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a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 long term: per unit of product is s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nimizing scarce resource use for animal production (for a fixed 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voids that profit from increased output is counted as genetic improvemen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it avoids that benefits from changes of scale of operation are counted, which after all can also be achieved by just having more anim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2B78-A4A5-4206-8227-A0520F40E8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333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redicting Genetic Chang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to Multiple Trait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864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ngle trait selection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rrelated response to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sponse to index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w can multiple trait response be manipulated by varying index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n we go anywhere we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B454-289B-4E1B-8261-291E982CAD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544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Direct Response to Single Trait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 = i.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f mass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 = i.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I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re gener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I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s accuracy of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03C9-68F2-4BCD-AC96-170219FBBD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Direct and Correlated Response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ingle Trait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sponse = i.h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rrelated Response = i.h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r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ingle trait selec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325A-5690-4CD9-A69E-7D1CDC918D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9680"/>
            <a:ext cx="77724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eed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trait selection – how to imp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b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economic weigh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parameters (heritabilities, correl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the weights we put on the observed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x = b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b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D178-A5C1-45A5-8ED4-09611CFC2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1916280"/>
                <a:ext cx="8077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95640" y="3284640"/>
                <a:ext cx="53625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62240" y="4508640"/>
                <a:ext cx="53341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9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5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51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9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9040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Unicode MS"/>
              </a:rPr>
              <a:t>Combining Information on Two 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143000"/>
            <a:ext cx="754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lection index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I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+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43FC-59DC-4EA6-83D4-385619566E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Multiple Trait Breeding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6320" y="173160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reeding objectiv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 =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+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ction index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 =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+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4FC2-9B4C-47C8-B276-526A629846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Multiple Trait Breeding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6320" y="980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reeding objective: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lection index: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7240" y="2060640"/>
                <a:ext cx="77724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,</m:t>
                        </m:r>
                        <m:r>
                          <m:t xml:space="preserve">(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590920" y="3284640"/>
                <a:ext cx="54864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7200" y="4437000"/>
                <a:ext cx="84582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Ga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5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18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C31F-99ED-44C5-9DFF-46BA0295EC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38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Variance of inde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= b’Pb = 3.27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Variance of the breeding go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= a’Ca = 6.64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$$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 = var(A)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..of breeding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Accuracy of Inde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IH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 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(b’Pb /a’Ca)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50133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ckground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EA48-8F10-44EF-96EE-E11913F52D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4200" y="596880"/>
            <a:ext cx="78501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Unicode MS"/>
              </a:rPr>
              <a:t>Response to  selection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R = i.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</a:rPr>
              <a:t>IH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= i.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 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Unicode MS"/>
              </a:rPr>
              <a:t>Response in each trait:</a:t>
            </a:r>
            <a:r>
              <a:rPr b="0" lang="en-US" sz="3200" spc="-1" strike="noStrike">
                <a:solidFill>
                  <a:srgbClr val="003366"/>
                </a:solidFill>
                <a:latin typeface="Arial Unicode MS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Unicode MS"/>
              </a:rPr>
              <a:t>gi,I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R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= i.b’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Notice that sum of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.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Unicode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=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013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mtindex.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627A-84C8-42CA-8951-5898DD0730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election intensity=1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523880"/>
            <a:ext cx="73152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body weight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 Unicode MS"/>
                <a:ea typeface="Times New Roman"/>
              </a:rPr>
              <a:t>2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Arial Unicode MS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 = 0.40 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Arial Unicode MS"/>
                <a:ea typeface="Times New Roman"/>
              </a:rPr>
              <a:t>P 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= 17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feed intake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 Unicode MS"/>
                <a:ea typeface="Times New Roman"/>
              </a:rPr>
              <a:t>2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Arial Unicode MS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 = 0.25 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Arial Unicode MS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 = 2.0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r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Arial Unicode MS"/>
                <a:ea typeface="Times New Roman"/>
              </a:rPr>
              <a:t>g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=.50 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r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Arial Unicode MS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= 0.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0C99-7B76-4DEE-B0EB-148457BBED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105520" y="1455840"/>
            <a:ext cx="7617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6174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Breeding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1379520"/>
            <a:ext cx="7617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160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11509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617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eria for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4558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153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71628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x = EBV = 0.4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3792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sponse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6.8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g Weigh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630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rrel. Resp.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0.3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g Feed Int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7419-D3EC-4FDD-A00D-C50B1DF2AB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267080" y="685800"/>
            <a:ext cx="0" cy="469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15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1911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1C77-1F52-4AD4-B710-FBAE649D03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105520" y="1312920"/>
            <a:ext cx="7617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7484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Breeding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1998720"/>
            <a:ext cx="7617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1236600"/>
            <a:ext cx="7617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429000" y="154116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465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1008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15415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48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eria for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312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998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138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4240" y="388620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x = $EBV = 0.38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0.69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932040"/>
            <a:ext cx="685800" cy="175248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2684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Index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14840" y="3886200"/>
            <a:ext cx="316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6.9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14840" y="44197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0.4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g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954F-B5E4-4AA0-923F-5BF3C9B534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267080" y="685800"/>
            <a:ext cx="0" cy="469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15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1911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7F14-30C7-44DB-B8E3-DEE06E236B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with MT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spread our selection efforts over several traits, each of them weighted econo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for one trait gives also a correlated response for other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8195-631E-4E69-9257-1CD71B84B2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105520" y="1925640"/>
            <a:ext cx="7617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40176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Breeding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1925640"/>
            <a:ext cx="7617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1163520"/>
            <a:ext cx="7617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65640" y="2102760"/>
            <a:ext cx="18061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0800" y="1340280"/>
            <a:ext cx="1586880" cy="74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9349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154476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0176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eria for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12398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925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925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858960"/>
            <a:ext cx="685800" cy="175248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2611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Index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7760" y="3886200"/>
            <a:ext cx="32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-5.0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6320" y="4419720"/>
            <a:ext cx="205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-0.5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4880" y="350532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x = $EBV = -0.013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0.23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F890-F7B1-4481-BB73-A43A58D91E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267080" y="685800"/>
            <a:ext cx="0" cy="469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15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1911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E7CC-4211-4278-9A70-8F983083C6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060880" y="1300320"/>
            <a:ext cx="762120" cy="11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80000" y="4618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Breeding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6280" y="1986120"/>
            <a:ext cx="7621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46280" y="1224000"/>
            <a:ext cx="7621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384720" y="1833120"/>
            <a:ext cx="1676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08400" y="14526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89280" y="9954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5289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31880" y="4618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eria for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300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79600" y="1986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99320" y="1376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8800" y="388620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x = $EBV = 0.62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- 0.13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92920" y="39625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6.93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7400" y="1376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$/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37000" y="919080"/>
            <a:ext cx="685800" cy="175284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27520" y="2671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Index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99320" y="1833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37400" y="1833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0.5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$/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5120" y="1147680"/>
            <a:ext cx="1295280" cy="175284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75280" y="2900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Economic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92920" y="44197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0.39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8EF5-5E55-4328-9D09-834508C2A7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267080" y="685800"/>
            <a:ext cx="0" cy="469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33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15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1371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102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1911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E3B8-EF07-446E-AB12-9F81293919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060880" y="1227240"/>
            <a:ext cx="762120" cy="11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80000" y="388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Breeding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46280" y="1913040"/>
            <a:ext cx="7621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46280" y="1150920"/>
            <a:ext cx="7621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384720" y="1760040"/>
            <a:ext cx="1676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08400" y="137952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89280" y="9223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13320" y="14558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31880" y="388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eria for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227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79600" y="1913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99320" y="1303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7520" y="388620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x = $EBV = 0.33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- 0.22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21280" y="39625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6.68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7400" y="130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$/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37000" y="846000"/>
            <a:ext cx="685800" cy="175284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27520" y="25988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Index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99320" y="176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37400" y="1760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4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$/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85120" y="1074600"/>
            <a:ext cx="1295280" cy="175284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75280" y="2827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Economic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1280" y="441972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0.28 k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3C09-FCA5-48F9-ADF7-2B428A0FA6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267080" y="685800"/>
            <a:ext cx="0" cy="469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15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1028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553080" y="2362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812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102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1911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19B9-D69C-4874-A875-090B5FABA20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060880" y="1227240"/>
            <a:ext cx="762120" cy="11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80000" y="388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 Breeding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46280" y="1913040"/>
            <a:ext cx="7621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46280" y="1150920"/>
            <a:ext cx="7621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384720" y="1760040"/>
            <a:ext cx="1676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08400" y="137952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89280" y="9223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3320" y="14558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31880" y="388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eria for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03280" y="1227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79600" y="1913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99320" y="1303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4440" y="378936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x = $EBV = 0.25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- 1.58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48200" y="38656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4.29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k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37400" y="130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$/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37000" y="846000"/>
            <a:ext cx="685800" cy="175284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27520" y="25988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Index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99320" y="176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37400" y="1760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10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$/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85120" y="1074600"/>
            <a:ext cx="1295280" cy="175284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75280" y="2827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Economic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48200" y="4322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-0.05 k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D86B-E5EB-4B69-B4F2-4BCA842748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267080" y="685800"/>
            <a:ext cx="0" cy="469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57600" y="15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1028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53080" y="2362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436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434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670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1911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FF75-C959-49C4-95E0-F656B03F4E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4221000"/>
            <a:ext cx="807732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: Optimal selection pre-determined economic values, response follows from t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therwise: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desired gains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restricted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8250120" cy="3333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85800" y="228600"/>
            <a:ext cx="79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ome Possible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7518-771B-4769-98FA-26E8FC9BA6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267080" y="685800"/>
            <a:ext cx="0" cy="469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15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1028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2362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9766400">
            <a:off x="1143000" y="1523880"/>
            <a:ext cx="6477120" cy="26892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330720" y="1145880"/>
            <a:ext cx="5452920" cy="43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3600" y="4076640"/>
            <a:ext cx="304812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-economic line for a 1: -10 pric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e that units are not the same on the sc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812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02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911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952880" y="4343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5A00-DF15-4246-AF16-D708ADABDE2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Need Weights for Select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5840" y="226980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x =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…. +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7904-44B0-47A9-8BC1-7E02DD6D3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267080" y="685800"/>
            <a:ext cx="0" cy="469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15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028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2362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9766400">
            <a:off x="1143000" y="1523880"/>
            <a:ext cx="6477120" cy="26892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186520" y="189000"/>
            <a:ext cx="3024000" cy="528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4076640"/>
            <a:ext cx="304812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-economic line for a 1: -5 pric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e that units are not the same on the sc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434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95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1911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547A-6DD4-41EA-B3A2-30AB377330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267080" y="685800"/>
            <a:ext cx="0" cy="469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3048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57600" y="15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5248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1752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2362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9766400">
            <a:off x="1143000" y="1523880"/>
            <a:ext cx="6477120" cy="26892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2971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867280" y="304920"/>
            <a:ext cx="1981440" cy="506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76960" y="4149720"/>
            <a:ext cx="261612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o-economic line for a 1: -1 price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e that units are not the same on the sc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434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02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38880" y="2971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191120" y="685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911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3CC8-E84B-40F2-A55D-B8155367019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40880" y="54900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redicting Genetic Change to Multiple Trait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Response to index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w can multiple trait response be manipulated by varying index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an we go anywhere we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B0C6-AD25-4914-9056-79C8E19269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7653-26AF-4308-993B-5BD7567B93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98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election Index with More Information Sources (Multiple Regr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ector with phenotypes (cri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breeding objective (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ingle trai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 = matrix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= G = vector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691160" y="2852640"/>
                <a:ext cx="39272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62560" y="3933720"/>
                <a:ext cx="241128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371600" y="50133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ights: b = P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CC1D-4D86-4431-A327-8379004716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748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 Index with More Information Sources and More Objective Traits (Multiple Reg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ector with phenotypes (cri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breeding objective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ultiple trai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 = matrix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= G = matrix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00720" y="2924280"/>
                <a:ext cx="39272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00720" y="4005360"/>
                <a:ext cx="39589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71640" y="501336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ights: b = P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F878-70DC-4FF8-B28D-BF6CE9691D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19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ex Weight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-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590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343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1600200"/>
            <a:ext cx="22100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50864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itabilities same and no correl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are proportional to rel. economic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9ED5-3A78-41AB-9B81-3710B0360F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-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590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343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27400" y="4422600"/>
            <a:ext cx="192240" cy="662040"/>
          </a:xfrm>
          <a:prstGeom prst="upArrow">
            <a:avLst>
              <a:gd name="adj1" fmla="val 50000"/>
              <a:gd name="adj2" fmla="val 8609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1600200"/>
            <a:ext cx="22100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508464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weight for traits with higher her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19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ex Weight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9E56-8E20-4A32-B756-6600696084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0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-0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590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343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7200" y="4365720"/>
            <a:ext cx="190440" cy="431640"/>
          </a:xfrm>
          <a:prstGeom prst="upArrow">
            <a:avLst>
              <a:gd name="adj1" fmla="val 50000"/>
              <a:gd name="adj2" fmla="val 5666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1600200"/>
            <a:ext cx="22100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8120" y="4724280"/>
            <a:ext cx="83818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also depend on cor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eneral, weights on phenotypic information sources are not easy to ‘recogniz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8319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ex Weight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BAF3-C688-45AF-AD85-95F039A8CB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27T00:40:48Z</dcterms:modified>
  <cp:revision>154</cp:revision>
  <dc:subject/>
  <dc:title>PowerPoint Presentation</dc:title>
</cp:coreProperties>
</file>