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AA35-49AF-4BA3-853D-8EDA635D187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ives an idea of allele frequency for two microsatellites each found at equivalent position in the sheep and cattle geno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eep usually very heterogene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264200"/>
            <a:ext cx="52322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markers - markers are usually non-coding DNA sequences spread throughout the chromosome, and the most common type of marker is the microsatell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otonous tandem repeats of 1-5 bp (often CA).  Bound on each side by a unique sequence (that can be used as a primer binding s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gth of repeats varies and is usually 100-200 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fferent alleles of a particular microsatellite vary in length - as sh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ousands of these spread across the genome, at a density of 2-3 per 10^6 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eep genome - 3063 cM or ~ 3063 x 10^6 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efore total number of microsatellites is 6000-9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satellites have co-dominant inheritance.  For heterozygous animals both alleles can be ident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do we detect these markers - use standard molecular biology techniques of PCR and gel electrophor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cause microsatellites have a unique sequence each side of the repeat these can be used to develop pri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CR will amplify specific regions of DNA as defined by a primer sequ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ize of the amplified product is then analysed by gel electrophor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GE can detect a single bp difference in 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labs will try to reduce the number of gels by labelling the PCRs with fluorescent dyes and running 10-20 different PCRs down the one lane, and the size of the product is determined by a sca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C508-7AE7-4E74-9D31-7ADD143E8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636F-46A2-4795-88B9-BAEA10D55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F822-F3A4-490D-858E-CE6D72594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7E44-BBC6-4261-81CE-BD3BBCB17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11C3B-1420-4A5A-80BE-3870E362E0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B316-9B91-4C39-8D15-544AA4A3C7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89A02-23C8-438E-AFF5-A5E428303A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15BB2-FF74-40D1-A61C-D8CD46D2A2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3E60D-8550-43C5-A391-BA57AD85BC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5E9F6-4E40-4313-8348-A07F8853AA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07049-B21F-44D0-81AC-854E8A7B8C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3E1D-EDD6-41FC-BE90-A6B9EDE8D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EC868-18D4-4FC1-9156-C6B7387C54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23B13-3048-442C-8594-6AF15212F0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CB939-1201-4498-8CF7-621E4D60E6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5DBBE-00F0-4515-931B-37DB2ACC1D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D4CEC-1324-4EB4-8688-2006B8B6A8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4E0F0-0925-4992-8399-2EF241281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B208-0C19-48AE-8E78-6DAD4E938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56D7-76B7-40D6-97CF-B771A2DF7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2272-A581-424D-80F7-F6D59AD7D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E17F-6CB1-45E0-9257-B11B711AD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A966-CDBE-4212-B993-7209D9BE7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19A3-622B-4993-91E6-B7BBE6A63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5A15-A936-45AE-8BFA-E457AAA97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C372-0859-4095-A190-86329A77A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10242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Arial"/>
              </a:rPr>
              <a:t>Molecular Mark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55640" y="4229280"/>
            <a:ext cx="7773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ENE 422/522 - Topic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Karen Marsh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F6C74-FD6D-4ECC-BE6B-5951A9D280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5800" y="260280"/>
            <a:ext cx="4678200" cy="4156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96880" y="4641120"/>
            <a:ext cx="807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vine Microsatellite Multiplexing for Herd Evaluation and Paren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. Kovar, J. Walker, D. Steffens, J. Harford, and J. Qiu, LI-COR Inc., 4308 Progressive Avenue, Lincoln, NE 68504, USA, http://www.licor.com/bio/Posters/PAG_520/F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2000" y="892080"/>
            <a:ext cx="2743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atellite genotyping via autoradiograph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s at different positions represent different a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9AC4-AB13-45D0-BCFA-2DCCF6F792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46280" y="189000"/>
            <a:ext cx="5805360" cy="4354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619280" y="4653000"/>
            <a:ext cx="640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ding an ABI377 for genotyp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urce: http://cgil.uoguelph.ca/QTL/ABI377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28DA-C632-4C60-9F2B-DCEB9E56B9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76520" y="333360"/>
            <a:ext cx="6251400" cy="4503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14400" y="49417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crosatellite genotyping where a trace is produced.  Peaks at different positions represent different alle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3317-CEEC-460C-B5A1-40237CDC99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3841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NP Mar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7848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base change in DNA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two alternative nucleotides at a single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st frequent allele present at 1% or gr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y not 4 alternative nucleoti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rob. of 2 independent base change occuring at any single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-5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nucleotide / generation at neutral 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as for transitional mutations (A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, 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) over trans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9606E-17E2-452B-9D68-702D69F168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rcRect l="0" t="0" r="0" b="59168"/>
          <a:stretch/>
        </p:blipFill>
        <p:spPr>
          <a:xfrm>
            <a:off x="914400" y="2387520"/>
            <a:ext cx="7543800" cy="18334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84360" y="620640"/>
            <a:ext cx="81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SNPs as Found from Sequence Al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858E-0839-4336-A36B-A5175E4C09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ing SN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sequenc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chips (potential for very high through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.g. SSCP (single stranded confirmation polymorphism), primer extension, pyrosequencing etc. (see Vignal et al. GSE 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484F-8DDB-4705-8E22-FD82E69D85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84720" y="4797360"/>
            <a:ext cx="230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genelink.com/ images/Seqfull.j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4953240" cy="5256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372360" y="1125360"/>
            <a:ext cx="190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DNA sequenc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0061-767C-426A-9932-043B582DFE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826920" y="1447920"/>
          <a:ext cx="7777080" cy="3493800"/>
        </p:xfrm>
        <a:graphic>
          <a:graphicData uri="http://schemas.openxmlformats.org/drawingml/2006/table">
            <a:tbl>
              <a:tblPr/>
              <a:tblGrid>
                <a:gridCol w="4968720"/>
                <a:gridCol w="935280"/>
                <a:gridCol w="936720"/>
                <a:gridCol w="93636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tion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N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L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atell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D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random amplification of polymorphic DN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LP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amplified fragment length polymorphism)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CP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single stranded confirmation polymorphis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5508720" y="508464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rom: Vignal et al. GSE 200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6312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iations Detected by Mar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D5C5-3826-474F-9F42-AAFC2106DD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75836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erties of Markers:                  Statistical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06400" y="1936440"/>
            <a:ext cx="822960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zygo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Ps: two co-domina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atellites: numerous co-domina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lower heterozygosity of single locus SNPS compared to microsatell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, however, that marker heterozygosity is always population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4AB8-1DE8-4BA9-BF6B-2AFC7F1A1F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68360" y="260280"/>
            <a:ext cx="82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Microsatellite Allele Frequ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4680" y="3556080"/>
            <a:ext cx="428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1911240"/>
            <a:ext cx="216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03280" y="432576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Mer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76680" y="4325760"/>
            <a:ext cx="175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Bos taurus x Bos indicus, N’Dama, Boran, Brang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38280" y="1079640"/>
            <a:ext cx="148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ME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97440" y="1424160"/>
            <a:ext cx="355896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87520" y="1671480"/>
            <a:ext cx="2786040" cy="1874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36560" y="2046240"/>
            <a:ext cx="42840" cy="1482840"/>
          </a:xfrm>
          <a:prstGeom prst="rect">
            <a:avLst/>
          </a:prstGeom>
          <a:solidFill>
            <a:srgbClr val="993366"/>
          </a:solidFill>
          <a:ln w="33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63640" y="3459240"/>
            <a:ext cx="42840" cy="69840"/>
          </a:xfrm>
          <a:prstGeom prst="rect">
            <a:avLst/>
          </a:prstGeom>
          <a:solidFill>
            <a:srgbClr val="993366"/>
          </a:solidFill>
          <a:ln w="33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1880" y="3306600"/>
            <a:ext cx="42840" cy="222480"/>
          </a:xfrm>
          <a:prstGeom prst="rect">
            <a:avLst/>
          </a:prstGeom>
          <a:solidFill>
            <a:srgbClr val="993366"/>
          </a:solidFill>
          <a:ln w="33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28960" y="3459240"/>
            <a:ext cx="42840" cy="69840"/>
          </a:xfrm>
          <a:prstGeom prst="rect">
            <a:avLst/>
          </a:prstGeom>
          <a:solidFill>
            <a:srgbClr val="993366"/>
          </a:solidFill>
          <a:ln w="33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00280" y="3267000"/>
            <a:ext cx="42840" cy="262080"/>
          </a:xfrm>
          <a:prstGeom prst="rect">
            <a:avLst/>
          </a:prstGeom>
          <a:solidFill>
            <a:srgbClr val="9999ff"/>
          </a:solidFill>
          <a:ln w="334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30560" y="3398760"/>
            <a:ext cx="42840" cy="130320"/>
          </a:xfrm>
          <a:prstGeom prst="rect">
            <a:avLst/>
          </a:prstGeom>
          <a:solidFill>
            <a:srgbClr val="9999ff"/>
          </a:solidFill>
          <a:ln w="334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68800" y="3125880"/>
            <a:ext cx="31680" cy="403200"/>
          </a:xfrm>
          <a:prstGeom prst="rect">
            <a:avLst/>
          </a:prstGeom>
          <a:solidFill>
            <a:srgbClr val="9999ff"/>
          </a:solidFill>
          <a:ln w="334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95520" y="3105000"/>
            <a:ext cx="42840" cy="424080"/>
          </a:xfrm>
          <a:prstGeom prst="rect">
            <a:avLst/>
          </a:prstGeom>
          <a:solidFill>
            <a:srgbClr val="9999ff"/>
          </a:solidFill>
          <a:ln w="334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60840" y="3357720"/>
            <a:ext cx="42840" cy="171360"/>
          </a:xfrm>
          <a:prstGeom prst="rect">
            <a:avLst/>
          </a:prstGeom>
          <a:solidFill>
            <a:srgbClr val="9999ff"/>
          </a:solidFill>
          <a:ln w="334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97280" y="3327480"/>
            <a:ext cx="31680" cy="201600"/>
          </a:xfrm>
          <a:prstGeom prst="rect">
            <a:avLst/>
          </a:prstGeom>
          <a:solidFill>
            <a:srgbClr val="9999ff"/>
          </a:solidFill>
          <a:ln w="334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24360" y="3398760"/>
            <a:ext cx="42840" cy="130320"/>
          </a:xfrm>
          <a:prstGeom prst="rect">
            <a:avLst/>
          </a:prstGeom>
          <a:solidFill>
            <a:srgbClr val="9999ff"/>
          </a:solidFill>
          <a:ln w="334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62240" y="3459240"/>
            <a:ext cx="32040" cy="69840"/>
          </a:xfrm>
          <a:prstGeom prst="rect">
            <a:avLst/>
          </a:prstGeom>
          <a:solidFill>
            <a:srgbClr val="9999ff"/>
          </a:solidFill>
          <a:ln w="334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89320" y="3468600"/>
            <a:ext cx="42840" cy="60480"/>
          </a:xfrm>
          <a:prstGeom prst="rect">
            <a:avLst/>
          </a:prstGeom>
          <a:solidFill>
            <a:srgbClr val="9999ff"/>
          </a:solidFill>
          <a:ln w="334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434960" y="3157200"/>
            <a:ext cx="42840" cy="3240"/>
          </a:xfrm>
          <a:prstGeom prst="line">
            <a:avLst/>
          </a:prstGeom>
          <a:ln w="0">
            <a:solidFill>
              <a:srgbClr val="00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34960" y="2781360"/>
            <a:ext cx="42840" cy="1440"/>
          </a:xfrm>
          <a:prstGeom prst="line">
            <a:avLst/>
          </a:prstGeom>
          <a:ln w="0">
            <a:solidFill>
              <a:srgbClr val="00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34960" y="2419200"/>
            <a:ext cx="42840" cy="1800"/>
          </a:xfrm>
          <a:prstGeom prst="line">
            <a:avLst/>
          </a:prstGeom>
          <a:ln w="0">
            <a:solidFill>
              <a:srgbClr val="00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30280" y="2046240"/>
            <a:ext cx="47520" cy="1800"/>
          </a:xfrm>
          <a:prstGeom prst="line">
            <a:avLst/>
          </a:prstGeom>
          <a:ln w="0">
            <a:solidFill>
              <a:srgbClr val="00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444680" y="1672920"/>
            <a:ext cx="33120" cy="3240"/>
          </a:xfrm>
          <a:prstGeom prst="line">
            <a:avLst/>
          </a:prstGeom>
          <a:ln w="0">
            <a:solidFill>
              <a:srgbClr val="00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33080" y="3449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63240" y="30751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63240" y="27018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63240" y="23385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63240" y="1965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91960" y="1590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1425960" y="36046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1686240" y="36057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1955880" y="36046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219400" y="36014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486160" y="36014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2759400" y="36014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024360" y="36014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3289680" y="36014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3554640" y="36014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816720" y="36014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4081680" y="36014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22880" y="2670120"/>
            <a:ext cx="5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24080" y="384012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(b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-12240" y="223920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75040" y="1434960"/>
            <a:ext cx="357372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1654200"/>
            <a:ext cx="279720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04040" y="1658880"/>
            <a:ext cx="2779560" cy="1841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59520" y="3424320"/>
            <a:ext cx="74520" cy="586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05400" y="2743200"/>
            <a:ext cx="74880" cy="739800"/>
          </a:xfrm>
          <a:prstGeom prst="rect">
            <a:avLst/>
          </a:prstGeom>
          <a:solidFill>
            <a:srgbClr val="993366"/>
          </a:solidFill>
          <a:ln w="33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61000" y="3094200"/>
            <a:ext cx="73080" cy="388800"/>
          </a:xfrm>
          <a:prstGeom prst="rect">
            <a:avLst/>
          </a:prstGeom>
          <a:solidFill>
            <a:srgbClr val="993366"/>
          </a:solidFill>
          <a:ln w="33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19840" y="3314880"/>
            <a:ext cx="76320" cy="168120"/>
          </a:xfrm>
          <a:prstGeom prst="rect">
            <a:avLst/>
          </a:prstGeom>
          <a:solidFill>
            <a:srgbClr val="993366"/>
          </a:solidFill>
          <a:ln w="33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78680" y="3174840"/>
            <a:ext cx="74520" cy="308160"/>
          </a:xfrm>
          <a:prstGeom prst="rect">
            <a:avLst/>
          </a:prstGeom>
          <a:solidFill>
            <a:srgbClr val="993366"/>
          </a:solidFill>
          <a:ln w="33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3354480"/>
            <a:ext cx="74520" cy="128520"/>
          </a:xfrm>
          <a:prstGeom prst="rect">
            <a:avLst/>
          </a:prstGeom>
          <a:solidFill>
            <a:srgbClr val="993366"/>
          </a:solidFill>
          <a:ln w="33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66120" y="3424320"/>
            <a:ext cx="74520" cy="586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13480" y="1679400"/>
            <a:ext cx="71280" cy="1812960"/>
          </a:xfrm>
          <a:prstGeom prst="rect">
            <a:avLst/>
          </a:prstGeom>
          <a:solidFill>
            <a:srgbClr val="9999ff"/>
          </a:solidFill>
          <a:ln w="334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43560" y="3497400"/>
            <a:ext cx="42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43560" y="3127320"/>
            <a:ext cx="42840" cy="1800"/>
          </a:xfrm>
          <a:prstGeom prst="line">
            <a:avLst/>
          </a:prstGeom>
          <a:ln w="0">
            <a:solidFill>
              <a:srgbClr val="00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43560" y="2755800"/>
            <a:ext cx="42840" cy="1800"/>
          </a:xfrm>
          <a:prstGeom prst="line">
            <a:avLst/>
          </a:prstGeom>
          <a:ln w="0">
            <a:solidFill>
              <a:srgbClr val="00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43560" y="2395440"/>
            <a:ext cx="42840" cy="1800"/>
          </a:xfrm>
          <a:prstGeom prst="line">
            <a:avLst/>
          </a:prstGeom>
          <a:ln w="0">
            <a:solidFill>
              <a:srgbClr val="00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43560" y="2025720"/>
            <a:ext cx="42840" cy="1440"/>
          </a:xfrm>
          <a:prstGeom prst="line">
            <a:avLst/>
          </a:prstGeom>
          <a:ln w="0">
            <a:solidFill>
              <a:srgbClr val="00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43560" y="1654200"/>
            <a:ext cx="42840" cy="1440"/>
          </a:xfrm>
          <a:prstGeom prst="line">
            <a:avLst/>
          </a:prstGeom>
          <a:ln w="0">
            <a:solidFill>
              <a:srgbClr val="00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9880" y="34178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265360" y="30463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65360" y="26748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65360" y="2316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65360" y="19447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95520" y="1574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5496120" y="3570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5751720" y="3570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6004080" y="3570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6262920" y="3570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6517080" y="35744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6770880" y="3576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7017120" y="3576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7270920" y="3576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7528320" y="3576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6200000">
            <a:off x="7782120" y="3576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8036280" y="3576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45240" y="2695680"/>
            <a:ext cx="856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6200000">
            <a:off x="4021200" y="223920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30960" y="384012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(b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540040" y="108108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SDR2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19640" y="432576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Brahman, Hereford, Africa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24800" y="4325760"/>
            <a:ext cx="227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Merino, Suffolk, Border Liester, Romney, Poll Dor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&amp;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7A1E-CB9F-45DD-B8DB-D1ED1907D9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45720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lecular Mar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58760" y="1483920"/>
            <a:ext cx="73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ites where differences in DNA sequences occur among members of the sam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al polymorphisms at the DNA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in either coding or non-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EF6BF-39F7-48CA-9BF5-1CB0855FDB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71280" y="152280"/>
            <a:ext cx="778356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erties of Marker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istical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81080" y="1341000"/>
            <a:ext cx="75232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Ps (~1 every 1000 bp)&gt;&gt; microsatel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. assumption of pop’n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atellites usually in non-coding regions, whereas neutrality of SNPs is cas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atellites (1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SNPs (1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and type of genotypin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54A6-958A-4B3E-A1B6-EBEEE2186E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45684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Mar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7720" y="1557000"/>
            <a:ext cx="77662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0’s :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jor effort to produce a human genetic maps, mainly used RFL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0’s : Shift to microsatell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formative and easier to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’s : Movement to SN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v. high density of ma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is very rapidly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7BCA-FA00-4E87-823C-E3BD356274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096E-CE5D-474C-AF05-C834C277C7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4572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iations at the DNA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nucleotide polymorphisms (SN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ions or deletions (Ind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number of tandem repeats (VNT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Markers detect one or more of these var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9A60-9721-491A-942B-D5B74E25DB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FLP Mar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6440" y="1197000"/>
            <a:ext cx="4506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 fragment length polymorph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 enzymes recognise and cut DNA at specifi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ized fragments are produced depending on whether the restriction site exists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05520" y="1143000"/>
            <a:ext cx="3709800" cy="43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FDF7-D676-4320-BC3B-AABEB78D6D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16629" r="0" b="0"/>
          <a:stretch/>
        </p:blipFill>
        <p:spPr>
          <a:xfrm>
            <a:off x="533520" y="533520"/>
            <a:ext cx="8466120" cy="470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031A-22EC-4D4A-9791-EBBA6E52F8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crosatellite Mar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VNTR, which are multiple copies of a sequence of base pairs arranged end to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of repeating unit v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&lt;4 base pairs: microsatel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&gt;4 base pairs: minisatel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6240" y="3657600"/>
            <a:ext cx="3048120" cy="785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’  CACACACACACA 3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’  GTGTGTGTGTGT 5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A7D8-5CD2-48B5-8906-9638E1A8D9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crosatellite mar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027160"/>
            <a:ext cx="8534520" cy="86256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GGCAATGGAAGTGG </a:t>
            </a:r>
            <a:r>
              <a:rPr b="1" lang="en-US" sz="2000" spc="-1" strike="noStrike">
                <a:solidFill>
                  <a:srgbClr val="993366"/>
                </a:solidFill>
                <a:latin typeface="Courier New"/>
              </a:rPr>
              <a:t>CACACA...CACACA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CACTCACCCACTAGA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CCGTTACCTTCACC </a:t>
            </a:r>
            <a:r>
              <a:rPr b="1" lang="en-US" sz="2000" spc="-1" strike="noStrike">
                <a:solidFill>
                  <a:srgbClr val="993366"/>
                </a:solidFill>
                <a:latin typeface="Courier New"/>
              </a:rPr>
              <a:t>GTGTGT...GTGTGT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GTGAGTGGGTGATC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2286000"/>
            <a:ext cx="350640" cy="338040"/>
          </a:xfrm>
          <a:prstGeom prst="leftArrow">
            <a:avLst>
              <a:gd name="adj1" fmla="val 50000"/>
              <a:gd name="adj2" fmla="val 25932"/>
            </a:avLst>
          </a:prstGeom>
          <a:solidFill>
            <a:srgbClr val="99cc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8597880" y="2257200"/>
            <a:ext cx="349200" cy="338040"/>
          </a:xfrm>
          <a:prstGeom prst="leftArrow">
            <a:avLst>
              <a:gd name="adj1" fmla="val 50000"/>
              <a:gd name="adj2" fmla="val 25825"/>
            </a:avLst>
          </a:prstGeom>
          <a:solidFill>
            <a:srgbClr val="99cc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9480" y="1676520"/>
            <a:ext cx="6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5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8800" y="2803680"/>
            <a:ext cx="4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5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0880" y="1676520"/>
            <a:ext cx="5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3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00160" y="280368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3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2193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197080" y="3654360"/>
            <a:ext cx="5118120" cy="1092240"/>
            <a:chOff x="2197080" y="3654360"/>
            <a:chExt cx="5118120" cy="1092240"/>
          </a:xfrm>
        </p:grpSpPr>
        <p:sp>
          <p:nvSpPr>
            <p:cNvPr id="114" name=""/>
            <p:cNvSpPr/>
            <p:nvPr/>
          </p:nvSpPr>
          <p:spPr>
            <a:xfrm>
              <a:off x="4342680" y="4121280"/>
              <a:ext cx="825480" cy="158760"/>
            </a:xfrm>
            <a:prstGeom prst="rect">
              <a:avLst/>
            </a:prstGeom>
            <a:gradFill rotWithShape="0">
              <a:gsLst>
                <a:gs pos="0">
                  <a:srgbClr val="fe9cbd"/>
                </a:gs>
                <a:gs pos="100000">
                  <a:srgbClr val="ff6699"/>
                </a:gs>
              </a:gsLst>
              <a:lin ang="5400000"/>
            </a:gra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35240" y="3654360"/>
              <a:ext cx="565920" cy="15876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214365"/>
                </a:gs>
              </a:gsLst>
              <a:lin ang="5400000"/>
            </a:gra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09680" y="3654360"/>
              <a:ext cx="565920" cy="15876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214365"/>
                </a:gs>
              </a:gsLst>
              <a:lin ang="5400000"/>
            </a:gra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75600" y="3654360"/>
              <a:ext cx="2159640" cy="158760"/>
            </a:xfrm>
            <a:prstGeom prst="rect">
              <a:avLst/>
            </a:prstGeom>
            <a:gradFill rotWithShape="0">
              <a:gsLst>
                <a:gs pos="0">
                  <a:srgbClr val="fe9cbd"/>
                </a:gs>
                <a:gs pos="100000">
                  <a:srgbClr val="ff6699"/>
                </a:gs>
              </a:gsLst>
              <a:lin ang="5400000"/>
            </a:gra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76840" y="4587840"/>
              <a:ext cx="3557160" cy="158760"/>
            </a:xfrm>
            <a:prstGeom prst="rect">
              <a:avLst/>
            </a:prstGeom>
            <a:gradFill rotWithShape="0">
              <a:gsLst>
                <a:gs pos="0">
                  <a:srgbClr val="fe9cbd"/>
                </a:gs>
                <a:gs pos="100000">
                  <a:srgbClr val="ff6699"/>
                </a:gs>
              </a:gsLst>
              <a:lin ang="5400000"/>
            </a:gra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97080" y="4587840"/>
              <a:ext cx="21384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97080" y="4746600"/>
              <a:ext cx="21384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97080" y="4121280"/>
              <a:ext cx="167328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97080" y="4280040"/>
              <a:ext cx="167328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97080" y="3654360"/>
              <a:ext cx="126828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97080" y="3813120"/>
              <a:ext cx="109692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255720" y="3654360"/>
              <a:ext cx="105912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255720" y="3813120"/>
              <a:ext cx="105912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677560" y="4121280"/>
              <a:ext cx="163692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383080" y="4280040"/>
              <a:ext cx="193176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647040" y="4587840"/>
              <a:ext cx="66816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6665400" y="4730760"/>
              <a:ext cx="649440" cy="158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88280" y="4121280"/>
              <a:ext cx="565920" cy="15876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214365"/>
                </a:gs>
              </a:gsLst>
              <a:lin ang="5400000"/>
            </a:gra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68160" y="4121280"/>
              <a:ext cx="565920" cy="15876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214365"/>
                </a:gs>
              </a:gsLst>
              <a:lin ang="5400000"/>
            </a:gra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10920" y="4587840"/>
              <a:ext cx="565920" cy="15876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214365"/>
                </a:gs>
              </a:gsLst>
              <a:lin ang="5400000"/>
            </a:gra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34000" y="4587840"/>
              <a:ext cx="565920" cy="15876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214365"/>
                </a:gs>
              </a:gsLst>
              <a:lin ang="5400000"/>
            </a:gra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114720" y="4957200"/>
            <a:ext cx="34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les differ in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7F25-7E4D-479C-A382-168902254B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ing Microsatell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447920"/>
            <a:ext cx="8231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ly use PCR based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ify region by PC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mers labelled via radioactivity or fluor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PCR products according to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lyacrylamide gel, capillary bas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ize of amplified produ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utoradiography, fluorescent tr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3B36-B0A5-4CDD-A7F9-BDB125BA69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21800" y="332640"/>
            <a:ext cx="125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39680" y="1279080"/>
            <a:ext cx="1773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e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016080" y="1461240"/>
            <a:ext cx="865440" cy="1467000"/>
          </a:xfrm>
          <a:custGeom>
            <a:avLst/>
            <a:gdLst>
              <a:gd name="textAreaLeft" fmla="*/ 115920 w 865440"/>
              <a:gd name="textAreaRight" fmla="*/ 749520 w 865440"/>
              <a:gd name="textAreaTop" fmla="*/ 293040 h 1467000"/>
              <a:gd name="textAreaBottom" fmla="*/ 1026720 h 14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38" stAng="-5400000" swAng="5400000"/>
                <a:lnTo>
                  <a:pt x="21600" y="10802"/>
                </a:lnTo>
                <a:arcTo wR="21600" hR="8638" stAng="0" swAng="3349786"/>
                <a:lnTo>
                  <a:pt x="5659" y="21298"/>
                </a:lnTo>
                <a:lnTo>
                  <a:pt x="0" y="18358"/>
                </a:lnTo>
                <a:lnTo>
                  <a:pt x="5659" y="14814"/>
                </a:lnTo>
                <a:lnTo>
                  <a:pt x="5659" y="16974"/>
                </a:lnTo>
                <a:arcTo wR="21600" hR="8638" stAng="3349786" swAng="-3176360"/>
                <a:lnTo>
                  <a:pt x="21430" y="9720"/>
                </a:lnTo>
                <a:arcTo wR="21600" hR="8638" stAng="-173425" swAng="-5226575"/>
                <a:close/>
              </a:path>
              <a:path fill="darkenLess" w="21600" h="21600">
                <a:moveTo>
                  <a:pt x="0" y="0"/>
                </a:moveTo>
                <a:arcTo wR="21600" hR="8638" stAng="-5400000" swAng="5400000"/>
                <a:lnTo>
                  <a:pt x="21600" y="10802"/>
                </a:lnTo>
                <a:arcTo wR="21600" hR="8638" stAng="0" swAng="-173425"/>
                <a:lnTo>
                  <a:pt x="21430" y="9720"/>
                </a:lnTo>
                <a:arcTo wR="21600" hR="8638" stAng="-173425" swAng="-522657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79640" y="1910160"/>
            <a:ext cx="94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25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7480" y="3429000"/>
            <a:ext cx="3432960" cy="1881000"/>
            <a:chOff x="717480" y="3429000"/>
            <a:chExt cx="3432960" cy="1881000"/>
          </a:xfrm>
        </p:grpSpPr>
        <p:grpSp>
          <p:nvGrpSpPr>
            <p:cNvPr id="143" name=""/>
            <p:cNvGrpSpPr/>
            <p:nvPr/>
          </p:nvGrpSpPr>
          <p:grpSpPr>
            <a:xfrm>
              <a:off x="717480" y="3429000"/>
              <a:ext cx="2674800" cy="338760"/>
              <a:chOff x="717480" y="3429000"/>
              <a:chExt cx="2674800" cy="338760"/>
            </a:xfrm>
          </p:grpSpPr>
          <p:sp>
            <p:nvSpPr>
              <p:cNvPr id="144" name=""/>
              <p:cNvSpPr/>
              <p:nvPr/>
            </p:nvSpPr>
            <p:spPr>
              <a:xfrm>
                <a:off x="1141200" y="3649680"/>
                <a:ext cx="383760" cy="6768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579760" y="3470400"/>
                <a:ext cx="351360" cy="6768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7480" y="3429000"/>
                <a:ext cx="264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49880" y="3767760"/>
                <a:ext cx="264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1140120" y="4577760"/>
              <a:ext cx="1805400" cy="194040"/>
              <a:chOff x="1140120" y="4577760"/>
              <a:chExt cx="1805400" cy="194040"/>
            </a:xfrm>
          </p:grpSpPr>
          <p:sp>
            <p:nvSpPr>
              <p:cNvPr id="149" name=""/>
              <p:cNvSpPr/>
              <p:nvPr/>
            </p:nvSpPr>
            <p:spPr>
              <a:xfrm>
                <a:off x="1140120" y="4582800"/>
                <a:ext cx="370080" cy="6228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550600" y="4577760"/>
                <a:ext cx="385560" cy="6192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15960" y="4617360"/>
                <a:ext cx="10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149840" y="4709880"/>
                <a:ext cx="370080" cy="619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60320" y="4704480"/>
                <a:ext cx="385200" cy="6192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525680" y="4744080"/>
                <a:ext cx="10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rot="5400000">
              <a:off x="1584000" y="4049640"/>
              <a:ext cx="675000" cy="299880"/>
            </a:xfrm>
            <a:custGeom>
              <a:avLst/>
              <a:gdLst>
                <a:gd name="textAreaLeft" fmla="*/ 105480 w 675000"/>
                <a:gd name="textAreaRight" fmla="*/ 590760 w 675000"/>
                <a:gd name="textAreaTop" fmla="*/ 74880 h 299880"/>
                <a:gd name="textAreaBottom" fmla="*/ 225000 h 29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11320" y="380520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q polymer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7320" y="40644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NT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39720" y="4854960"/>
              <a:ext cx="370080" cy="62640"/>
            </a:xfrm>
            <a:prstGeom prst="rect">
              <a:avLst/>
            </a:prstGeom>
            <a:solidFill>
              <a:srgbClr val="91b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50200" y="4849920"/>
              <a:ext cx="385560" cy="61560"/>
            </a:xfrm>
            <a:prstGeom prst="rect">
              <a:avLst/>
            </a:prstGeom>
            <a:solidFill>
              <a:srgbClr val="d37b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15560" y="4889520"/>
              <a:ext cx="1031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49800" y="4982400"/>
              <a:ext cx="369720" cy="61560"/>
            </a:xfrm>
            <a:prstGeom prst="rect">
              <a:avLst/>
            </a:prstGeom>
            <a:solidFill>
              <a:srgbClr val="91b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59920" y="4976280"/>
              <a:ext cx="385560" cy="62640"/>
            </a:xfrm>
            <a:prstGeom prst="rect">
              <a:avLst/>
            </a:prstGeom>
            <a:solidFill>
              <a:srgbClr val="d37b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25640" y="5016960"/>
              <a:ext cx="1031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14120" y="5121000"/>
              <a:ext cx="369720" cy="62640"/>
            </a:xfrm>
            <a:prstGeom prst="rect">
              <a:avLst/>
            </a:prstGeom>
            <a:solidFill>
              <a:srgbClr val="d9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24600" y="5115960"/>
              <a:ext cx="385560" cy="61560"/>
            </a:xfrm>
            <a:prstGeom prst="rect">
              <a:avLst/>
            </a:prstGeom>
            <a:solidFill>
              <a:srgbClr val="ebc3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89960" y="5155560"/>
              <a:ext cx="1031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24200" y="5248440"/>
              <a:ext cx="369720" cy="61560"/>
            </a:xfrm>
            <a:prstGeom prst="rect">
              <a:avLst/>
            </a:prstGeom>
            <a:solidFill>
              <a:srgbClr val="d9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34320" y="5242680"/>
              <a:ext cx="385560" cy="62640"/>
            </a:xfrm>
            <a:prstGeom prst="rect">
              <a:avLst/>
            </a:prstGeom>
            <a:solidFill>
              <a:srgbClr val="ebc3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99680" y="5283000"/>
              <a:ext cx="10314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648320" y="441972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uni-koeln.de/math-nat-fak/botanik/bot2/agflue/HOME/equipment/pcr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00600" y="7621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724280" y="3733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7DA9-76B5-47BF-B92A-C26A2E5923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Briana Daly</cp:lastModifiedBy>
  <dcterms:modified xsi:type="dcterms:W3CDTF">2005-07-14T01:53:56Z</dcterms:modified>
  <cp:revision>133</cp:revision>
  <dc:subject/>
  <dc:title>PowerPoint Presentation</dc:title>
</cp:coreProperties>
</file>