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632D8-51D1-45C0-9D47-DADAB5186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4681-5C82-42D4-BB1F-20BC7378D2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3D7D6-DE97-4E5C-8906-8BBD377F4C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9FC5-29EE-4CB7-BE15-8CE27FCCD3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A7EDA-8FD2-4D18-9A65-6FB20B7D09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524AB-7D8B-4CBD-8B68-05EE156D1B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23542-E014-422A-BF18-9B8975A8F0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B6624-75C3-4665-85BA-BC0A5B9D37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A8142-C5A4-479E-B821-0A5EBF16E5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C69DE-523F-4803-B132-6FDFBFB37B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8308D-ED8F-4357-AEA4-B7CF211059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E3221-3FAA-434D-BEBC-3785C6408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B67AB-A5D1-47FF-BCBC-27BEA0FCB0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DDFB1-2127-4D44-A3E6-B2DCCB615E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9F040-EAA1-4520-ACCD-7C4BF006FF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1A987-73A5-47E2-A7CE-0B29DF495C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88FE8-88B9-4822-9E9D-FBEFB6D927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AE4D2-A589-4F4D-8C63-F3E55318A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91958-F1C6-4027-B4E6-872875542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E38FC-1F95-4EC8-B05C-4BA8E5339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C13A7-2E57-478F-99ED-C14E53059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0ACEF-215D-4838-B379-6F2709CEBF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F0C25-27C1-4B27-8892-F7818CD09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4AA8F-4D71-4CE4-80AE-767B47FA9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E82C-A072-4002-8E57-FB1D0D57FCA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E744-F35B-4292-8B7A-15744025583D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920" y="102420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Arial"/>
              </a:rPr>
              <a:t>Selection Index The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55640" y="4229280"/>
            <a:ext cx="7773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GENE 422/522 - Topic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Julius van der We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4A80F-7C11-4B8D-851B-E7A9DFD2EB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uracy of Selection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844200"/>
            <a:ext cx="8458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rrelation between Index an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v(I,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=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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’Pb/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cov(I,A) = cov(bX,A) = b’cov(X,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b’G    = b’Pb     =  b’var(X)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var(b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var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I = EBV = sel. criter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BV = 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sqrt(var(EBV) /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= accuracy = 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8A566-9A41-4A04-B89E-248902E020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 of this Top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26840" y="1295280"/>
            <a:ext cx="838188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 Index Theory can be used to work out weights and accuracy for a given set of information about an particular E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ative Genetic Theory and matrices (P, G)  are used to work out such index weights  (b) and accura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tic Evaluation we use BLUP where this all occurs ‘automatically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 Index Theory still useful to predict what happ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cy for a given amount of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ce of own vs family information for given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41FAB-D21E-479D-A623-1E3C7BBE82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48000" y="169992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DF66E-4BEE-4842-AB9E-0AFF4973A3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456840"/>
            <a:ext cx="811872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nciples of Breeding Value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5840" y="1557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ies of EBV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elative’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ing for fixed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0BA86-1EAE-417E-85D8-FC94F4000E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3200400" y="2519280"/>
          <a:ext cx="28116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519280"/>
                    <a:ext cx="28116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187280" y="4869000"/>
            <a:ext cx="68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lope = cov(A,P)/var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69040" y="453960"/>
            <a:ext cx="566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nciple of BV esti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8120" y="45396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2120" y="1413000"/>
            <a:ext cx="4522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gression of BV on phenotyp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9240" y="1790640"/>
            <a:ext cx="442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bservations (selection criteri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7169-0E44-4C85-BDC4-42DAE7FC18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685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685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eding Obj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685800"/>
            <a:ext cx="1067040" cy="533520"/>
          </a:xfrm>
          <a:custGeom>
            <a:avLst/>
            <a:gdLst>
              <a:gd name="textAreaLeft" fmla="*/ 166680 w 1067040"/>
              <a:gd name="textAreaRight" fmla="*/ 933840 w 106704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344600"/>
            <a:ext cx="3810240" cy="26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 performance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on relatives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ed Traits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1954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eding Value 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26828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13446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386064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076640"/>
            <a:ext cx="739116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election Index (multiple regres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BV = Index = b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+ b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+ b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+…..+ b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1573200"/>
            <a:ext cx="1524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343400" y="233496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86200" y="2487240"/>
            <a:ext cx="1371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3C3AF-E6A0-433F-A7EC-0AB63B01F2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562720" y="1752480"/>
                <a:ext cx="16318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003640" y="3716280"/>
                <a:ext cx="2295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838080" y="380880"/>
            <a:ext cx="697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nding the Optimal Index We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1125360"/>
            <a:ext cx="4969080" cy="13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ression of A on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Regression coefficient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2637000"/>
            <a:ext cx="511200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Own Performanc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Dam Performanc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5157720"/>
            <a:ext cx="68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e also GEST325 - Note, algebra is to illustrate not to lea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D9F6D-279C-431E-AF87-4D3DAA8502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me Basic Q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7880" y="907920"/>
            <a:ext cx="785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A +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(P) = var(A) + var(E)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 cov. Between A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(A,P) = cov(A,A) + cov(A,E)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(P1, P2) 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.if rel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(mean) = common variance + specific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2760" y="4149720"/>
            <a:ext cx="373392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Mean of n Full Si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= “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413240" y="3987720"/>
                <a:ext cx="390384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187280" y="5229360"/>
            <a:ext cx="74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e also GEST325 - Note, algebra is to illustrate not to lea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71C94-6D0E-4E2C-B123-4576D42C19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38080" y="230040"/>
            <a:ext cx="762012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geny 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ean of n proge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Index Weig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 “heritability of progeny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pends on the number of proge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on the heri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467000" y="1052640"/>
                <a:ext cx="296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84360" y="3691080"/>
                <a:ext cx="6029280" cy="11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4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877080" y="3772080"/>
                <a:ext cx="1730520" cy="13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835280" y="5229360"/>
            <a:ext cx="53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e also GEST325- Note, algebra is to illustrate not to lea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A7B60-F390-434F-8DEF-8082ECADCA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on index with more information sources (multiple regres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56920" y="148428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vector with phenotypes (“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s” = sel. crite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True breeding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(X) = P = matrix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(X,A) = G = vector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356000" y="2421000"/>
                <a:ext cx="416556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ar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ar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076720" y="3597120"/>
                <a:ext cx="247032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  <m:e/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412920" y="50133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Opt. weights: b = P</a:t>
            </a:r>
            <a:r>
              <a:rPr b="0" lang="en-US" sz="2800" spc="-1" strike="noStrike" baseline="30000">
                <a:solidFill>
                  <a:srgbClr val="3366cc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G = </a:t>
            </a: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“cov/var_X”      </a:t>
            </a: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(single trait Sel Index eqn: Pb = 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AE870-0C1A-40C7-9060-48BC4103A7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=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weight for own phenotype 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mean of n full si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295280"/>
            <a:ext cx="88804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entury"/>
                <a:ea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=3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n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1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1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1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10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09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12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08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3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26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26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22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50</a:t>
            </a:r>
            <a:r>
              <a:rPr b="0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43</a:t>
            </a:r>
            <a:r>
              <a:rPr b="0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29</a:t>
            </a:r>
            <a:r>
              <a:rPr b="0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38</a:t>
            </a:r>
            <a:r>
              <a:rPr b="0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7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62</a:t>
            </a:r>
            <a:r>
              <a:rPr b="0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24</a:t>
            </a:r>
            <a:r>
              <a:rPr b="0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57</a:t>
            </a:r>
            <a:r>
              <a:rPr b="0" lang="en-GB" sz="2400" spc="-1" strike="noStrike">
                <a:solidFill>
                  <a:srgbClr val="000000"/>
                </a:solidFill>
                <a:latin typeface="Century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Arial"/>
                <a:ea typeface="Times New Roman"/>
              </a:rPr>
              <a:t>Own performance more important with high her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  <a:ea typeface="Times New Roman"/>
              </a:rPr>
              <a:t>……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  <a:ea typeface="Times New Roman"/>
              </a:rPr>
              <a:t>..and smaller amount of family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Arial"/>
                <a:ea typeface="Times New Roman"/>
              </a:rPr>
              <a:t>Otherwise, family information more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243828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129528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41497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8A450-A25C-41EC-B9AC-4FAF411BA2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Briana Daly</cp:lastModifiedBy>
  <dcterms:modified xsi:type="dcterms:W3CDTF">2005-07-26T03:46:34Z</dcterms:modified>
  <cp:revision>137</cp:revision>
  <dc:subject/>
  <dc:title>PowerPoint Presentation</dc:title>
</cp:coreProperties>
</file>