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E6D1-28A1-4C9C-915A-7706A1B78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8CF1-6ABB-42AF-85DB-2B760336C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E7E6-A458-4B41-BE13-76C4497E9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229A-E371-4B36-93C4-D3E2978EF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C4E7-4E81-469A-A75F-5C02268976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6399-9AAC-48CC-A2C6-0D4563BDA3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09E5-309D-42DD-8D04-F1512AD36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3443-E290-4411-BC9A-F1EBFF00D8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CA01-44B0-4600-82C2-F67B454507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7879-0FFA-4838-A263-1B86026B5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36E1-23E2-4126-BDCC-AF2237236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BAF0-B330-4478-A83F-C33741E8F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5BCC-C641-42F5-85A9-AAC9FAF4BE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0AF7-68E3-417A-8917-9F7C5D5C1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E0C1-F9A2-4273-AF26-7773BF80E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5CA7-16DC-4E27-A088-58954D40D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CB75-FD72-445D-84B6-72EF37BA71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CCA-4891-456F-91F8-BFAF3019A4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0EE-5F7F-4795-86EA-7358820740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CE1-21B9-4A26-9628-C4B3354ED0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54F-FFEA-4A53-A646-70B77750E8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F56-C36C-4370-A287-A23282C3D4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460E-77D8-42AC-ADCA-E809A32FDC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405-29F2-4DF9-9A9F-DF29320213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824-52D0-4998-BACC-5FBB44A15C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C11-0EBE-4062-A015-1CD764D73F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CC8-6111-4FC2-8B57-1FEEE7BA9B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95C-8432-4430-9CAD-9A18C320A9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552-1A1A-4C54-B1BD-9949478954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741-6B73-42A6-AE37-423264B4F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4B9C-C030-4FA7-B4BE-052A108D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15F6-1276-4E5A-A241-ED78F53D4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978C-9E38-4A83-AEEE-140F063CF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4117-D2B8-47C5-8806-888AC0496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55EA-96CC-4C71-865C-066252AA0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A867-136D-4E67-911C-9F693B5BA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EC2B-E5AD-4C97-9308-A64C95301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E9E-9307-4EE7-B0A4-2538E27B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A672-C44A-4C06-9195-92289EA63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085040"/>
            <a:ext cx="8083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eed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422/522 – Topic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9CB-E788-47D4-B334-883CC1943B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ome Common Breeding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1716120"/>
            <a:ext cx="8064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Maximise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Maximise economic (monetary) effici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Maximise resource efficiency (eg feed effici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In monetary based economies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ximisation of profit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is generally accepted as the most logical breed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2330-C68C-4720-AD82-4D1B5CE299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aximisation of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509840"/>
            <a:ext cx="8064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Easily said…but whose profit is to be maximi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Profit of the producer (farmer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Profit of the breeding compa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Profit of the process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Profit of the reta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Profit of the consum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798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**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F83D-9C44-41A3-8B71-74758E939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aximisation of Producer Pro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293840"/>
            <a:ext cx="80647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ho gains the prof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If one producer makes genetic gain, they keep the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If all producers make genetic gain, efficiency is increased and market competition leads to reduced prices. A portion of the profit flows to the processor, retailer and consu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Constantly running to keep standing st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9C95-F395-4880-84EC-3AD458327E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1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fining and Aggregate Gen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981000"/>
            <a:ext cx="806436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hich traits are inclu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All </a:t>
            </a:r>
            <a:r>
              <a:rPr b="1" i="1" lang="en-US" sz="2800" spc="-1" strike="noStrike">
                <a:solidFill>
                  <a:srgbClr val="3366cc"/>
                </a:solidFill>
                <a:latin typeface="Arial"/>
              </a:rPr>
              <a:t>genetically controlled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traits that contribute to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Exclude traits that only indirectly associated with profi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eg conformation tra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Can exclude traits with very little genetic variatio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not that same as low herita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8CCF-6568-4A36-AFC9-58BF142796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115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an be Advantages to Simplification to Aggregate Gen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415880"/>
            <a:ext cx="8064360" cy="40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Eg dairy catt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) yield, mastitis, laminitis, calving interval, ketosis, displaced aboma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2) yield and herd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Disadvantage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is a loss in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Advantage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is gain in simplicity and ease of explanation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85B8-D239-4BA5-B161-C32659F060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3398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fining an Aggregate Gen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197000"/>
            <a:ext cx="806436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 = 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……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An </a:t>
            </a:r>
            <a:r>
              <a:rPr b="1" lang="en-AU" sz="2400" spc="-1" strike="noStrike">
                <a:solidFill>
                  <a:srgbClr val="3366cc"/>
                </a:solidFill>
                <a:latin typeface="Arial"/>
              </a:rPr>
              <a:t>economic weight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, v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i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, is a partial weight; it is the value of increasing trait i by one unit when all other traits remain un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n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economic weight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is the rate of change in profit as the genetic mean of the trait changes, when all other traits remain un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i.e. it is the tangent to the profit curve at the current mean of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A369-1403-445B-AB44-31EB2058A4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tion of an Economic 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47640" y="981000"/>
          <a:ext cx="6264360" cy="448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981000"/>
                    <a:ext cx="62643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4815-B5D5-4538-B8B6-0B820BF69C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33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ethods of Estimating Economic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773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cc"/>
                </a:solidFill>
                <a:latin typeface="Arial"/>
              </a:rPr>
              <a:t>Accounting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AU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i="1" lang="en-A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i="1" lang="en-AU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marginal rate of return and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marginal increase in costs for trait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st be careful to avoid double coun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 milk, fat and protein yield of dairy c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A95B-976E-43A7-AB5B-3D2BCF2200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ethods of Estimating Economic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1413000"/>
            <a:ext cx="806436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cc"/>
                </a:solidFill>
                <a:latin typeface="Arial"/>
              </a:rPr>
              <a:t>Profit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Arial"/>
              </a:rPr>
              <a:t>A single equation that describes change in profit (P) as a function of physical (z), biological (x) and economic parameters (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 = f(z,x,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conomic weights derived as partial derivatives of the profit function with respect to genetic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utomatically avoids double coun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9084-87CB-4915-BB25-886402C388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9640" y="33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ethods of Estimating Economic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639800"/>
            <a:ext cx="8064360" cy="38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cc"/>
                </a:solidFill>
                <a:latin typeface="Arial"/>
              </a:rPr>
              <a:t>Bioeconomic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 system of equations that describes the behaviour of a production system in response to changes in physical, biological and economic paramete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odel and obtain a base value of P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e trait i by one unit and rerun model to obtain new profit, P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conomic value is, v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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8F2F-FDFE-4F86-AF38-8B8C87EB99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ntroduction to Breeding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557360"/>
            <a:ext cx="7848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66cc"/>
                </a:solidFill>
                <a:latin typeface="Arial"/>
              </a:rPr>
              <a:t>To optimise genetic improvement we need to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3366cc"/>
                </a:solidFill>
                <a:latin typeface="Arial"/>
              </a:rPr>
              <a:t>Where do we want to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66cc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3366cc"/>
                </a:solidFill>
                <a:latin typeface="Arial"/>
              </a:rPr>
              <a:t>How are we going to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3068640"/>
            <a:ext cx="180000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******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62AC-C8D2-4353-9E8A-35F58EF2FB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404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 Simple Sheep Produc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341360"/>
            <a:ext cx="554508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cc"/>
                </a:solidFill>
                <a:latin typeface="Arial"/>
              </a:rPr>
              <a:t>3 traits in aggregate geno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eaning rate (nl); lambs weaned per ewe per an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ays (post weaning) to reach slaughter weight (d) for la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Greasy fleece weight (w) per ewe per an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2349360"/>
            <a:ext cx="28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verage 1.2 la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verage 100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verage 3.5 k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3986-DB9C-4032-96D7-83897CBCB6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476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ther Required Para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1413000"/>
            <a:ext cx="44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roductio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or sale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Costs and sale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 price per kg live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wool price per kg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per lamb pe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per ewe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1773360"/>
            <a:ext cx="28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Arial"/>
              </a:rPr>
              <a:t>sw = 4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Arial"/>
              </a:rPr>
              <a:t>pl = $1.00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Arial"/>
              </a:rPr>
              <a:t>pw = $3.00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Arial"/>
              </a:rPr>
              <a:t>cl = $0.25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Arial"/>
              </a:rPr>
              <a:t>ce = $10.00/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4724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* Net wool price here accounts for costs of shearing and getting wool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0C33-C33D-450D-AD17-4837AA67CC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tion Model Spread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2489040"/>
            <a:ext cx="35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See Activities Spread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CC6F-77FD-4C65-8056-327574A73A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Profit Equatio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1125360"/>
            <a:ext cx="82090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Expressed at the farm level, profit can be describ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 = n</a:t>
            </a:r>
            <a:r>
              <a:rPr b="0" lang="en-US" sz="2400" spc="-1" strike="noStrike" baseline="-25000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* ((w*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p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w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- 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c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)  + (sw*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p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l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– d*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c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)*n</a:t>
            </a:r>
            <a:r>
              <a:rPr b="0" lang="en-US" sz="2400" spc="-1" strike="noStrike" baseline="-25000">
                <a:solidFill>
                  <a:srgbClr val="3366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Economic weights are derived as 1</a:t>
            </a:r>
            <a:r>
              <a:rPr b="0" lang="en-AU" sz="2400" spc="-1" strike="noStrike" baseline="30000">
                <a:solidFill>
                  <a:srgbClr val="3366cc"/>
                </a:solidFill>
                <a:latin typeface="Arial"/>
              </a:rPr>
              <a:t>st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partial derivative of the profit function with respect to the trait of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v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w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=  </a:t>
            </a:r>
            <a:r>
              <a:rPr b="0" lang="en-AU" sz="2400" spc="-1" strike="noStrike">
                <a:solidFill>
                  <a:srgbClr val="3366cc"/>
                </a:solidFill>
                <a:latin typeface="Symbol"/>
                <a:ea typeface="Symbol"/>
              </a:rPr>
              <a:t>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P/</a:t>
            </a:r>
            <a:r>
              <a:rPr b="0" lang="en-AU" sz="2400" spc="-1" strike="noStrike">
                <a:solidFill>
                  <a:srgbClr val="3366cc"/>
                </a:solidFill>
                <a:latin typeface="Symbol"/>
                <a:ea typeface="Symbol"/>
              </a:rPr>
              <a:t>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w = n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e 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* p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w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* w</a:t>
            </a:r>
            <a:r>
              <a:rPr b="0" lang="en-AU" sz="2400" spc="-1" strike="noStrike" baseline="30000">
                <a:solidFill>
                  <a:srgbClr val="3366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3366cc"/>
                </a:solidFill>
                <a:latin typeface="Arial"/>
              </a:rPr>
              <a:t>          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= n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e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* p</a:t>
            </a:r>
            <a:r>
              <a:rPr b="0" lang="en-AU" sz="2400" spc="-1" strike="noStrike" baseline="-25000">
                <a:solidFill>
                  <a:srgbClr val="3366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         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= 10,000 * $3.00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         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= $30,000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0000"/>
                </a:solidFill>
                <a:latin typeface="Arial"/>
              </a:rPr>
              <a:t>Go to Activities 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2095-6016-4214-BAAC-D1E5B668DA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elative Economic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1125360"/>
            <a:ext cx="777744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bsolute economic weights can be misl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Lambs weaned, v</a:t>
            </a:r>
            <a:r>
              <a:rPr b="0" lang="en-US" sz="2000" spc="-1" strike="noStrike" baseline="-25000">
                <a:solidFill>
                  <a:srgbClr val="3366cc"/>
                </a:solidFill>
                <a:latin typeface="Arial"/>
              </a:rPr>
              <a:t>nl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= $15.00 per l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Days to market, v</a:t>
            </a:r>
            <a:r>
              <a:rPr b="0" lang="en-US" sz="2000" spc="-1" strike="noStrike" baseline="-25000">
                <a:solidFill>
                  <a:srgbClr val="3366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= $0.30 per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Weight of wool, v</a:t>
            </a:r>
            <a:r>
              <a:rPr b="0" lang="en-US" sz="2000" spc="-1" strike="noStrike" baseline="-25000">
                <a:solidFill>
                  <a:srgbClr val="3366cc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= $3.00 per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The selection index will sort out the contributions to genetic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UT, useful to have an idea in advance about relative value of the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80DD-AA8F-47B5-9BD2-A0C7BE0468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elative Economic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200" y="1197000"/>
            <a:ext cx="806580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Response to single trait phenotypic selection is given b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R = i h</a:t>
            </a:r>
            <a:r>
              <a:rPr b="0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66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Response to one unit of selection , i.e. 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response unit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, is  h</a:t>
            </a:r>
            <a:r>
              <a:rPr b="0" lang="en-US" sz="2400" spc="-1" strike="noStrike" baseline="30000">
                <a:solidFill>
                  <a:srgbClr val="3366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66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Can multiply the absolute economic weights by the response units for each trait to obtain relative economic weigh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i.e. the value of one response unit of change in each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o to Activities 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B577-45F6-4E6A-93FE-C083563964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Sheep Example Realist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225440"/>
            <a:ext cx="8210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 reality check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Where does feed come from to feed extra lambs wea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How much extra feed do ewes need to conceive and rear extra lamb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 other costs to maintain higher lambing and weaning rates? (e.g. labour, drugs, vet, lambing interval, ewe survival;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tifying lower lamb weights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Will the market buy the extra lamb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If so, at what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2FB3-7E58-4F39-83B7-EA0ECDE9B0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Sheep Example Realist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1192320"/>
            <a:ext cx="8137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 reality check list </a:t>
            </a:r>
            <a:r>
              <a:rPr b="1" i="1" lang="en-US" sz="2400" spc="-1" strike="noStrike">
                <a:solidFill>
                  <a:srgbClr val="3366cc"/>
                </a:solidFill>
                <a:latin typeface="Arial"/>
              </a:rPr>
              <a:t>(continu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Does change in nl, d and w involve correlated change in other traits affecting profit, such as wool quality, meat quality, disease resistance, survival et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 there currently available management changes that might be better than genetic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Are there future management or technology applications that will affect the value of genetic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Have future markets been anticip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6C04-AACA-4B5F-A575-83E0363BC7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Linearity: Litter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76480" y="1890720"/>
            <a:ext cx="4896000" cy="2881080"/>
            <a:chOff x="2076480" y="1890720"/>
            <a:chExt cx="4896000" cy="2881080"/>
          </a:xfrm>
        </p:grpSpPr>
        <p:sp>
          <p:nvSpPr>
            <p:cNvPr id="198" name=""/>
            <p:cNvSpPr/>
            <p:nvPr/>
          </p:nvSpPr>
          <p:spPr>
            <a:xfrm>
              <a:off x="2076480" y="1890720"/>
              <a:ext cx="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76480" y="4771800"/>
              <a:ext cx="489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63760" y="2587680"/>
            <a:ext cx="3529080" cy="2111400"/>
          </a:xfrm>
          <a:custGeom>
            <a:avLst/>
            <a:gdLst/>
            <a:ahLst/>
            <a:rect l="l" t="t" r="r" b="b"/>
            <a:pathLst>
              <a:path w="2223" h="1330">
                <a:moveTo>
                  <a:pt x="0" y="1149"/>
                </a:moveTo>
                <a:cubicBezTo>
                  <a:pt x="125" y="895"/>
                  <a:pt x="250" y="642"/>
                  <a:pt x="409" y="468"/>
                </a:cubicBezTo>
                <a:cubicBezTo>
                  <a:pt x="568" y="294"/>
                  <a:pt x="794" y="182"/>
                  <a:pt x="953" y="106"/>
                </a:cubicBezTo>
                <a:cubicBezTo>
                  <a:pt x="1112" y="30"/>
                  <a:pt x="1248" y="30"/>
                  <a:pt x="1361" y="15"/>
                </a:cubicBezTo>
                <a:cubicBezTo>
                  <a:pt x="1474" y="0"/>
                  <a:pt x="1550" y="0"/>
                  <a:pt x="1633" y="15"/>
                </a:cubicBezTo>
                <a:cubicBezTo>
                  <a:pt x="1716" y="30"/>
                  <a:pt x="1792" y="45"/>
                  <a:pt x="1860" y="106"/>
                </a:cubicBezTo>
                <a:cubicBezTo>
                  <a:pt x="1928" y="167"/>
                  <a:pt x="1997" y="272"/>
                  <a:pt x="2042" y="378"/>
                </a:cubicBezTo>
                <a:cubicBezTo>
                  <a:pt x="2087" y="484"/>
                  <a:pt x="2102" y="582"/>
                  <a:pt x="2132" y="741"/>
                </a:cubicBezTo>
                <a:cubicBezTo>
                  <a:pt x="2162" y="900"/>
                  <a:pt x="2208" y="1232"/>
                  <a:pt x="2223" y="133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76480" y="50594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lambs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4840" y="527544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1021320" y="37854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500120" y="2322000"/>
            <a:ext cx="0" cy="122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3760" y="11714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Increasing output and efficiency dom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228120" y="1603800"/>
            <a:ext cx="217440" cy="180036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10"/>
                </a:lnTo>
                <a:cubicBezTo>
                  <a:pt x="10800" y="9710"/>
                  <a:pt x="16200" y="10610"/>
                  <a:pt x="21600" y="10610"/>
                </a:cubicBezTo>
                <a:cubicBezTo>
                  <a:pt x="16200" y="10610"/>
                  <a:pt x="10800" y="11510"/>
                  <a:pt x="10800" y="124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5675760" y="1530720"/>
            <a:ext cx="217800" cy="1800000"/>
          </a:xfrm>
          <a:custGeom>
            <a:avLst/>
            <a:gdLst>
              <a:gd name="textAreaLeft" fmla="*/ 0 w 217800"/>
              <a:gd name="textAreaRight" fmla="*/ 78480 w 2178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10"/>
                </a:lnTo>
                <a:cubicBezTo>
                  <a:pt x="10800" y="9710"/>
                  <a:pt x="16200" y="10610"/>
                  <a:pt x="21600" y="10610"/>
                </a:cubicBezTo>
                <a:cubicBezTo>
                  <a:pt x="16200" y="10610"/>
                  <a:pt x="10800" y="11510"/>
                  <a:pt x="10800" y="124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11350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Decreasing lamb and ewe survival dom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4230-3429-4927-9C1F-A4BCB77ABC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971640" y="907920"/>
          <a:ext cx="7345440" cy="4667400"/>
        </p:xfrm>
        <a:graphic>
          <a:graphicData uri="http://schemas.openxmlformats.org/drawingml/2006/table">
            <a:tbl>
              <a:tblPr/>
              <a:tblGrid>
                <a:gridCol w="4032000"/>
                <a:gridCol w="1944720"/>
                <a:gridCol w="136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Time from previous event (y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Cumulate time (y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Mating to produce young bu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Young bull 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Young bull 1</a:t>
                      </a:r>
                      <a:r>
                        <a:rPr b="0" lang="en-US" sz="1600" spc="-1" strike="noStrike" baseline="30000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 service to produce daughters for progeny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Progeny test daughters 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Progeny test daughters complete 1</a:t>
                      </a:r>
                      <a:r>
                        <a:rPr b="0" lang="en-US" sz="1600" spc="-1" strike="noStrike" baseline="30000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 lactation; 1</a:t>
                      </a:r>
                      <a:r>
                        <a:rPr b="0" lang="en-US" sz="1600" spc="-1" strike="noStrike" baseline="30000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 proof on bull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Average time for widespread use of proven sire; 2 years of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6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Main crop daughters 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Main crop daughters start 1</a:t>
                      </a:r>
                      <a:r>
                        <a:rPr b="0" lang="en-US" sz="1600" spc="-1" strike="noStrike" baseline="30000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 lac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9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Main crop daughters complete average lactation (herd life 3 yr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24000" y="189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scale of Genetic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88C9-C25A-4C55-A226-323C3EA4C2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54936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ntroduction to Breeding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ere do we want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336760"/>
            <a:ext cx="7848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Many possible traits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Many possible traits to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What is the value of improving different tra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How do we combine information on different traits to get to where we want to 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276640"/>
            <a:ext cx="36003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****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***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113D-6345-4C97-BE42-20D6E3268C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964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Non-Linea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6360" y="10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76360" y="981000"/>
          <a:ext cx="6875280" cy="4538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981000"/>
                    <a:ext cx="6875280" cy="45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373800" y="2270160"/>
            <a:ext cx="25909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Deals 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urren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ptimise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Futur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3160" y="3882960"/>
            <a:ext cx="5745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32000" y="3068640"/>
            <a:ext cx="0" cy="1224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340000" y="2708280"/>
            <a:ext cx="1440000" cy="93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9CBE-2178-4041-BBEF-DC6DBFF54D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9640" y="333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Valid is a Linear Approxim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68360" y="1052640"/>
          <a:ext cx="6805440" cy="449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680544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4859280" y="2492280"/>
            <a:ext cx="410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 to b and c to d are the expected 95% range of 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Very close to the non-linea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E344-DF58-4C1F-93B5-FCB4FAD3AD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Marke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8560" y="1052640"/>
            <a:ext cx="7705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Dairy industry:  1980s, P = f(milk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ow,   P = f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, fat, prot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igs: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1980s, P = f(slaughter w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ow,   P = f(kg lean me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stralia shee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1990’s, P = f(wool) of f(lamb prod</a:t>
            </a:r>
            <a:r>
              <a:rPr b="1" lang="en-US" sz="2400" spc="-1" strike="noStrike" baseline="30000">
                <a:solidFill>
                  <a:srgbClr val="3366cc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ow, P = f(wool + lamb prod</a:t>
            </a:r>
            <a:r>
              <a:rPr b="1" lang="en-US" sz="2400" spc="-1" strike="noStrike" baseline="30000">
                <a:solidFill>
                  <a:srgbClr val="3366cc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F900-A3B8-49CE-8C9B-619C1D3C3E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Technolog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1052640"/>
            <a:ext cx="7705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Disease resistance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hypothetical disease costs $4.00 per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alue of resistance = $4.00 per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ime to achieve resistance 2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accine developed in 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accine costs $0.2 per pig to del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alue of resistance = $0.2 per 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171F-0ABF-44B6-8924-820AFFE3BA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Technolog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71640" y="933480"/>
            <a:ext cx="7921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Disease resistance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helminthosis in sheep controlled by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nthelmintics costs $0.50 per sh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alue of resistance = $0.50 per sh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ime to achieve resistance 3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nthelmintics fail due to parasite resis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cost of disease = $2 to $10 per sh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alue of resistance = $2 to $10 per sh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759B-2573-4D30-B4D3-3C6F568927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caling of Genetic Improv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125360"/>
            <a:ext cx="784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Output constrained by milk production qu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Milk price = 0.48 $/kg; marginal cost = 0.09 $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Quota, Q = 300,000 k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roduction level is y kg per c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Profit function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(0.479 - 0.093)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Q -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1457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where </a:t>
            </a:r>
            <a:r>
              <a:rPr b="0" i="1" lang="en-AU" sz="2400" spc="-1" strike="noStrike">
                <a:solidFill>
                  <a:srgbClr val="3366cc"/>
                </a:solidFill>
                <a:latin typeface="Arial"/>
              </a:rPr>
              <a:t>n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is the number of cows, and </a:t>
            </a:r>
            <a:r>
              <a:rPr b="0" i="1" lang="en-AU" sz="2400" spc="-1" strike="noStrike">
                <a:solidFill>
                  <a:srgbClr val="3366cc"/>
                </a:solidFill>
                <a:latin typeface="Arial"/>
              </a:rPr>
              <a:t>n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= Q/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so that </a:t>
            </a:r>
            <a:r>
              <a:rPr b="0" i="1" lang="en-AU" sz="2400" spc="-1" strike="noStrike">
                <a:solidFill>
                  <a:srgbClr val="3366cc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 = 115,800 – (4.371*108)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709B-223F-401B-B459-0C955FEB5B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964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Non-Linea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95280" y="1052640"/>
          <a:ext cx="6840720" cy="451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52640"/>
                    <a:ext cx="6840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 flipV="1">
            <a:off x="3419640" y="1774800"/>
            <a:ext cx="3205080" cy="17985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48000" y="2997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Not rescaled profit function for 300,000 kg h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CE23-7EF5-4B5B-9EC4-A8742562A8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caling to Fixed Inpu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1052640"/>
            <a:ext cx="7993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Many pasture systems are not economic if feed has to be routinely purch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So production system is optimised to utilise feed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Genetic increases in production that require extra feed will therefore require reduced stocking density so that total feed consumption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Economic weights need to be </a:t>
            </a:r>
            <a:r>
              <a:rPr b="1" i="1" lang="en-US" sz="2400" spc="-1" strike="noStrike">
                <a:solidFill>
                  <a:srgbClr val="3366cc"/>
                </a:solidFill>
                <a:latin typeface="Arial"/>
              </a:rPr>
              <a:t>rescaled to constant feed in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0EF1-DEC7-44C4-BBA0-D58E71A5E0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4000" y="333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caling to Alternative Management Chan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1378080"/>
            <a:ext cx="8137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Current production system does not utilise all feed re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So genetic change can utilise these fee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BUT, can usually use these feed resources </a:t>
            </a:r>
            <a:r>
              <a:rPr b="1" i="1" lang="en-US" sz="2400" spc="-1" strike="noStrike">
                <a:solidFill>
                  <a:srgbClr val="3366cc"/>
                </a:solidFill>
                <a:latin typeface="Arial"/>
              </a:rPr>
              <a:t>immediately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by changing management (eg increasing stocking dens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So real value of genetic change is the extra value of genetic change after allowing for optimisation of the current managemen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7C6E-43BC-428D-961A-A803B87190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357F-2D36-4470-B6B9-BDD446084C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at is a Breeding Object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093680"/>
            <a:ext cx="439272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Overall statement about what we want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Maximise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Minimis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Maximise bad temper and ug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92720" y="239076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46944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Maximise gross national happiness (Kingdom of Bhuta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027D-C82F-4D8A-8B3E-92A2390A94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9640" y="54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How Much is Each Animal Worth in Terms of the Breeding Objective?</a:t>
            </a:r>
            <a:r>
              <a:rPr b="1" lang="en-A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216160"/>
            <a:ext cx="7848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Each individual has many traits that might have some value in relation to the breeding obj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e therefore need some way of determining the value of each trait and then combining those values into an overall value of the individual in relation to the breed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F93B-C085-4981-8BE9-4D66CD41C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at is an Aggregate Genoty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415880"/>
            <a:ext cx="784872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66cc"/>
                </a:solidFill>
                <a:latin typeface="Arial"/>
              </a:rPr>
              <a:t>A function of genetically controlled traits that contribute value to the breeding objective, that, if maximised (or minimised) will achieve the breeding obj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 = 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……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ere v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economic weight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nd g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re additive genetic values of an individual animal </a:t>
            </a:r>
            <a:r>
              <a:rPr b="0" lang="en-AU" sz="2400" spc="-1" strike="noStrike">
                <a:solidFill>
                  <a:srgbClr val="3366cc"/>
                </a:solidFill>
                <a:latin typeface="Arial"/>
              </a:rPr>
              <a:t>(or tree, or fish, or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7748-6348-411F-9C30-AB19AADC6C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at is a Selection Inde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487520"/>
            <a:ext cx="78483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A function of genetically controlled phenotypes (or EBV) that if maximised will maximise the aggregate genotype which will achieve the breeding object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ion index we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phenotypes (or EBV) of an individual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D704-D8FD-4FEE-A988-F75EF48F2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e Logical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17575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Define breed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30384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Develop the aggregate 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44798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Develop selection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233352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370188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5280" y="1757520"/>
            <a:ext cx="36003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****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AU" sz="4000" spc="-1" strike="noStrike">
                <a:solidFill>
                  <a:srgbClr val="ff3300"/>
                </a:solidFill>
                <a:latin typeface="Arial"/>
              </a:rPr>
              <a:t>****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4942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Julius van der We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089B-1B24-44C4-BB52-67835375A6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5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fining the Breeding Object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341360"/>
            <a:ext cx="78487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ill usually be an economic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But what is economic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OED, </a:t>
            </a:r>
            <a:r>
              <a:rPr b="0" i="1" lang="en-US" sz="2800" spc="-1" strike="noStrike">
                <a:solidFill>
                  <a:srgbClr val="3366cc"/>
                </a:solidFill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is “relating to the regulation and development of the material resources of a community or n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The definition of  “economic” in terms of monetary flows is a relatively recent derived mean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94B8-520C-42D2-83CA-EE5739B712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mwatson2</cp:lastModifiedBy>
  <dcterms:modified xsi:type="dcterms:W3CDTF">2005-08-04T01:39:15Z</dcterms:modified>
  <cp:revision>153</cp:revision>
  <dc:subject/>
  <dc:title>PowerPoint Presentation</dc:title>
</cp:coreProperties>
</file>