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8095-5A69-417B-9D57-421B7A4D158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gress since the paper written - plus industry takeup.  So graphs the other way roun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D78C-129F-4CC4-A77F-AB4FC8FE4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AF22-0D83-4AEB-ADA3-43A6BCF18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BBC1-82F2-4BD1-90A2-51BBEDA09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C2D8-D849-4329-98E5-5F3742DB6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488C-CA14-4A56-9673-D04DBC3269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EC18E-D9AC-463F-A173-788572722C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5E8A-116E-46D0-973F-9767F2A09B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5EB1-6D32-456D-ACA9-0F338B58CB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E9146-15CB-40C5-AA91-92681F3D9E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D56B-0842-490F-8CA2-BCE2EC9E3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24454-B2C8-409E-84B9-E36B3C74F9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E437-36AF-4622-8764-137F6216B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5D4D-2E79-4BA1-8DA9-C3E3BD56C2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BA93-1C51-4978-8347-2BFDA8AFCF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FCC6-8F12-4C99-98CB-F178E7DE58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A4CD-3D31-4096-9265-6CE2F241FC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3DF1-0F37-4BD3-8BD2-91E5AAF390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50D11-AEBF-45EE-A066-418E112A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126B4-F776-4A48-B018-00C003CA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6AAB2-1374-41CC-8804-193A2F78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7E9B7-8569-49C6-9B56-9A03A9BC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0E922-A900-471A-8824-0CF4484D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A3FA-3010-4887-BBE0-95DC75862D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F34AA-888C-4AB2-8DE3-68DB680F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19BE9-B11E-40AD-AFCA-7C4E72F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CC164-93F1-40A1-B0F6-3B305793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A4520-9C8F-42C8-B83F-171E8877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D23FE-94EA-4500-B128-C6D946F7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69304-AE57-4BC8-8856-183F892D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2B1B7-AA59-4965-B0CE-F9EBE8CA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5FFF-2627-46F6-ACFB-509E8CCB4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5CD8-B15B-4ABE-BDF3-80AFB3B55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894C-D37F-4903-85E1-2AEF45AF4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F4FB-53C6-4B61-BEB3-8384718A9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379C-9A8D-49BF-87AE-7A063BD7D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9E87-FD72-4AE2-8EB4-5AB2C3476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97A1-9908-47F0-B9A5-0E05A3B685F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9529-E307-4BFD-868F-ECA1E13A14E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1494-0D3C-4A18-9077-93D2A89F7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414360"/>
            <a:ext cx="8083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lancing Inbreeding and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422/522 – Topic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King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6CA0-3FF4-461B-8B53-0B9ED9F3BB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Inbreeding Problem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19440" y="358308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57360" y="1641600"/>
            <a:ext cx="2103480" cy="8254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selection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92480" y="1643040"/>
            <a:ext cx="1330560" cy="8254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er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32000" y="2637000"/>
            <a:ext cx="7382880" cy="2693880"/>
            <a:chOff x="1332000" y="2637000"/>
            <a:chExt cx="7382880" cy="2693880"/>
          </a:xfrm>
        </p:grpSpPr>
        <p:sp>
          <p:nvSpPr>
            <p:cNvPr id="139" name=""/>
            <p:cNvSpPr/>
            <p:nvPr/>
          </p:nvSpPr>
          <p:spPr>
            <a:xfrm>
              <a:off x="1332000" y="4505400"/>
              <a:ext cx="2449080" cy="8254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lower long-term selection gai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49640" y="2637000"/>
              <a:ext cx="3663360" cy="2303280"/>
            </a:xfrm>
            <a:custGeom>
              <a:avLst/>
              <a:gdLst/>
              <a:ahLst/>
              <a:rect l="l" t="t" r="r" b="b"/>
              <a:pathLst>
                <a:path w="2308" h="1451">
                  <a:moveTo>
                    <a:pt x="2308" y="0"/>
                  </a:moveTo>
                  <a:cubicBezTo>
                    <a:pt x="2238" y="207"/>
                    <a:pt x="2205" y="400"/>
                    <a:pt x="2024" y="619"/>
                  </a:cubicBezTo>
                  <a:cubicBezTo>
                    <a:pt x="1843" y="838"/>
                    <a:pt x="1557" y="1173"/>
                    <a:pt x="1220" y="1312"/>
                  </a:cubicBezTo>
                  <a:cubicBezTo>
                    <a:pt x="883" y="1451"/>
                    <a:pt x="254" y="1421"/>
                    <a:pt x="0" y="145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3760" y="3578040"/>
              <a:ext cx="3651120" cy="8254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ss of genetic variance, inbreeding de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H="1">
            <a:off x="2877840" y="2070000"/>
            <a:ext cx="111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94320" y="1638360"/>
            <a:ext cx="3198600" cy="825480"/>
            <a:chOff x="5494320" y="1638360"/>
            <a:chExt cx="3198600" cy="825480"/>
          </a:xfrm>
        </p:grpSpPr>
        <p:sp>
          <p:nvSpPr>
            <p:cNvPr id="144" name=""/>
            <p:cNvSpPr/>
            <p:nvPr/>
          </p:nvSpPr>
          <p:spPr>
            <a:xfrm>
              <a:off x="6661080" y="1638360"/>
              <a:ext cx="2031840" cy="8254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re inbree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94320" y="206064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19D8-7E10-4FE4-9A7A-EDEE8610EB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mise: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x’G +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x’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684360" y="2133720"/>
          <a:ext cx="8172360" cy="16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133720"/>
                    <a:ext cx="817236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83A2-DDC5-4220-B395-6F63FDDF1C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Vector x:  Number of Ma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65400" y="3147840"/>
            <a:ext cx="9720" cy="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900000" y="870120"/>
          <a:ext cx="5273640" cy="467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870120"/>
                    <a:ext cx="527364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537160" y="1700280"/>
            <a:ext cx="301680" cy="1728720"/>
          </a:xfrm>
          <a:custGeom>
            <a:avLst/>
            <a:gdLst>
              <a:gd name="textAreaLeft" fmla="*/ 0 w 301680"/>
              <a:gd name="textAreaRight" fmla="*/ 108720 w 3016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891040" y="2330280"/>
                <a:ext cx="675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377040" y="2205000"/>
            <a:ext cx="22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number of ma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43640" y="3625920"/>
            <a:ext cx="317520" cy="1819080"/>
          </a:xfrm>
          <a:custGeom>
            <a:avLst/>
            <a:gdLst>
              <a:gd name="textAreaLeft" fmla="*/ 0 w 317520"/>
              <a:gd name="textAreaRight" fmla="*/ 114480 w 317520"/>
              <a:gd name="textAreaTop" fmla="*/ 47160 h 1819080"/>
              <a:gd name="textAreaBottom" fmla="*/ 1771920 h 181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878440" y="4359240"/>
                <a:ext cx="709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450120" y="4191120"/>
            <a:ext cx="22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number of ma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15DF-EAB5-4F81-BD82-D40FEB3617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:   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mal Con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84120" y="981000"/>
          <a:ext cx="5499360" cy="457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4120" y="981000"/>
                    <a:ext cx="549936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5964120" y="4626000"/>
            <a:ext cx="216000" cy="79200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384960" y="1806480"/>
                <a:ext cx="1008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396120" y="2814480"/>
                <a:ext cx="10494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424560" y="3711600"/>
                <a:ext cx="13161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418440" y="4691160"/>
                <a:ext cx="1296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5964120" y="1628640"/>
            <a:ext cx="216000" cy="79236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62680" y="2637000"/>
            <a:ext cx="216000" cy="79200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64120" y="3645000"/>
            <a:ext cx="216000" cy="79200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1FCA-4558-4290-A09C-4561D5E4F8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0960" y="0"/>
            <a:ext cx="7812000" cy="68454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3219480" y="2219400"/>
            <a:ext cx="3056040" cy="1489680"/>
            <a:chOff x="3219480" y="2219400"/>
            <a:chExt cx="3056040" cy="1489680"/>
          </a:xfrm>
        </p:grpSpPr>
        <p:sp>
          <p:nvSpPr>
            <p:cNvPr id="173" name=""/>
            <p:cNvSpPr/>
            <p:nvPr/>
          </p:nvSpPr>
          <p:spPr>
            <a:xfrm>
              <a:off x="3219480" y="2219400"/>
              <a:ext cx="209520" cy="20952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41760" y="2517840"/>
              <a:ext cx="263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ccff"/>
                  </a:solidFill>
                  <a:latin typeface="Times New Roman"/>
                </a:rPr>
                <a:t>Consequences of one particular mating l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920" y="2362320"/>
              <a:ext cx="463680" cy="266760"/>
            </a:xfrm>
            <a:custGeom>
              <a:avLst/>
              <a:gdLst/>
              <a:ahLst/>
              <a:rect l="l" t="t" r="r" b="b"/>
              <a:pathLst>
                <a:path w="292" h="168">
                  <a:moveTo>
                    <a:pt x="292" y="168"/>
                  </a:moveTo>
                  <a:cubicBezTo>
                    <a:pt x="275" y="153"/>
                    <a:pt x="223" y="98"/>
                    <a:pt x="192" y="72"/>
                  </a:cubicBezTo>
                  <a:cubicBezTo>
                    <a:pt x="161" y="46"/>
                    <a:pt x="140" y="24"/>
                    <a:pt x="108" y="12"/>
                  </a:cubicBezTo>
                  <a:cubicBezTo>
                    <a:pt x="76" y="0"/>
                    <a:pt x="38" y="0"/>
                    <a:pt x="0" y="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499280" y="5452920"/>
            <a:ext cx="21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ancestry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0920" y="2109960"/>
            <a:ext cx="871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1840" y="3933720"/>
            <a:ext cx="32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'G + </a:t>
            </a: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x'Ax -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Vary </a:t>
            </a: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to get the cur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D4526-D293-4F7A-9ECE-480069E09B54}" type="slidenum">
              <a:t>6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B1D9-C8BD-4544-BAB6-8F57FA152E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13T04:26:50Z</dcterms:modified>
  <cp:revision>134</cp:revision>
  <dc:subject/>
  <dc:title>PowerPoint Presentation</dc:title>
</cp:coreProperties>
</file>