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0146C-B301-4514-BC47-0FB84D53E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DFEF4-7F31-4170-939F-F203DA7BC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8B2CB-3D0A-43B1-ABC3-E71F5FB1A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6810-962F-4269-A044-8663E7915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564AE-3FDA-442A-9328-F4C1A187B9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D65BE-EDD5-4407-B075-4C288596EB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E30C8-8DAA-4539-9160-B1017C8CD8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73729-1626-4466-B0A0-453A8ECBF1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22DA8-BF56-4343-9406-D21CBBC876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201A3-B24C-4BC1-A463-76BB9562CF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FA3D5-A6B4-4152-A01F-C4DDED2BBA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A4C40-0573-4B72-B9CA-AD356A1D9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67AA4-6B10-48B2-A649-99F9655A6C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F67EF-D21A-4848-8BF0-3A6EBE18D9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6C973-8BE4-4FC2-85EB-BB6094EB96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5A6EA-819C-4E7A-99D4-536145C7C9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37B5E-4831-4575-9781-613AF86AB2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BAF8-1CC1-4D7B-987E-2B5A38C43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D895-F773-4075-886B-99897C8D1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C78A9-8EA9-401B-A53E-4080AA0C7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A956-8B59-4583-8DAF-B3B422D0E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6DCB-47C9-443F-A56C-9E9CCC2BF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55AB-65E0-4122-A0D7-748448FE9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C2E95-6EE5-4A44-9C23-38D9C9CA2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2376-7AFC-498B-99CD-3DEC89784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0A04-2E91-4647-8342-531E1E297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102420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Arial"/>
              </a:rPr>
              <a:t>Linear Mode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55640" y="4229280"/>
            <a:ext cx="7773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GENE 422/522 - Topic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Julius van der We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817AE-1DB0-4634-A7E0-FE8CECDC74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90680" y="404640"/>
                <a:ext cx="94932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21" name=""/>
          <p:cNvGraphicFramePr/>
          <p:nvPr/>
        </p:nvGraphicFramePr>
        <p:xfrm>
          <a:off x="3924360" y="838080"/>
          <a:ext cx="4608360" cy="159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838080"/>
                    <a:ext cx="460836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2895480" y="2286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put effect of 1992 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2781360"/>
            <a:ext cx="85694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l mean zero     First year zero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Last year zer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Sum of years to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302.5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33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    31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90 = 302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1990 =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1990 = -27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1990 =    -1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91 = 306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1991 = +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1991 = -23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1991 =    -6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92 = 33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1992 = +27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1992 =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1992 =   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421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more solution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11360" y="4437000"/>
            <a:ext cx="591984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estimable functions are unchanged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-  expected value of an ob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-  difference between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450864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6539-02BE-4732-B507-0B55F89911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55640" y="2637000"/>
          <a:ext cx="8172360" cy="309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37000"/>
                    <a:ext cx="817236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84360" y="333360"/>
          <a:ext cx="7921440" cy="2774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333360"/>
                    <a:ext cx="792144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708360" y="927000"/>
            <a:ext cx="51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n of 19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ffect of year 1990 (relative to 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ffect of year 1991 (relative to 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2520" y="189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fitting mean and year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2520" y="2205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fitting mean, year effect and s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195640" y="4148280"/>
            <a:ext cx="1980720" cy="720720"/>
            <a:chOff x="2195640" y="4148280"/>
            <a:chExt cx="1980720" cy="720720"/>
          </a:xfrm>
        </p:grpSpPr>
        <p:sp>
          <p:nvSpPr>
            <p:cNvPr id="136" name=""/>
            <p:cNvSpPr/>
            <p:nvPr/>
          </p:nvSpPr>
          <p:spPr>
            <a:xfrm>
              <a:off x="3262320" y="45684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90920" y="4388040"/>
              <a:ext cx="68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4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95640" y="4148280"/>
              <a:ext cx="990360" cy="720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488960" y="1193760"/>
            <a:ext cx="1981440" cy="914400"/>
            <a:chOff x="1488960" y="1193760"/>
            <a:chExt cx="1981440" cy="914400"/>
          </a:xfrm>
        </p:grpSpPr>
        <p:sp>
          <p:nvSpPr>
            <p:cNvPr id="140" name=""/>
            <p:cNvSpPr/>
            <p:nvPr/>
          </p:nvSpPr>
          <p:spPr>
            <a:xfrm>
              <a:off x="2556000" y="1726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84600" y="14983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4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88960" y="1193760"/>
              <a:ext cx="990720" cy="9144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971800" y="52293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: year 1992 appears not so good after al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6DA0-B410-40AE-B851-F41D64ACBD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456840"/>
            <a:ext cx="73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models are a powerful, and relatively simple way to correct for different fixed effects in unbalanced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use same principle to correct breeding values for different fixed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0F88-15C6-4214-97D7-6E5F21CF99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2E8D-8557-4154-A3FC-AE2E3505B2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Best Linear Unbiased Prediction - BLUP</a:t>
            </a:r>
            <a:br>
              <a:rPr sz="3200"/>
            </a:b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 - A TOOL FOR GENETIC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93464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maximize selection efficiency we want to rank animals based on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lection criterion/index/EB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should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nbi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A3A1-6DA8-4EFB-B87E-5DA8D3DF41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ximize Accuracy b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532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ing as much information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possible rel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lated tra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proper index we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what selection index does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=BL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411156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2D10-4F61-4C61-AA75-CC777BBE57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t What About </a:t>
            </a: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Unbiasedness?</a:t>
            </a:r>
            <a:br>
              <a:rPr sz="32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biased EBV’s is a matter of fair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ossible problems with fairn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animals produce on better herds (better pastures) than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imals are measured at different 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mporaries of different animals may have different genetic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sires have better 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culling and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7738-4A06-4117-AE12-8744CE0B0E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0320" y="14076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rrection for Fixed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blem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me animals produce on better herds (better pastures) than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43657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Solution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henotypic observations are corrected for the mean of the appropriate a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blem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me animals are measured at an older a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205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Solutio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henotypic observations are taken as deviations of a mean (e.g. herd mea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AFB4-26EB-4BB1-B003-373B057E92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0796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rogeny means from 4 sires in 2 he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ir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    1       2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+100     0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0      -100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erd 1   -25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325   275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erd 2   +25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-       325    27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54200" y="42829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4840" y="4282920"/>
            <a:ext cx="497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2200" y="3130560"/>
            <a:ext cx="2286000" cy="24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: link s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7960" y="3681360"/>
            <a:ext cx="48006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77960" y="4062240"/>
            <a:ext cx="685800" cy="13716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15920"/>
            <a:ext cx="7772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Genetic Level Confounded With He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lem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contemporaries of some animals m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ve higher genetic mean than of others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1989000"/>
            <a:ext cx="304920" cy="1295640"/>
          </a:xfrm>
          <a:prstGeom prst="downArrow">
            <a:avLst>
              <a:gd name="adj1" fmla="val 50000"/>
              <a:gd name="adj2" fmla="val 106228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F36D-0483-40BD-A763-BA8197A1F4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ink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tween herd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reference si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imultaneous evalu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all herd and sir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B5A4-0C5D-4B90-A2F6-E70B6D79FE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78356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ower of Linear Models</a:t>
            </a: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689200" y="1230480"/>
          <a:ext cx="5627880" cy="450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1230480"/>
                    <a:ext cx="56278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724C-E280-4FE0-9498-AAA1A09921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295280" y="762120"/>
          <a:ext cx="3637080" cy="256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762120"/>
                    <a:ext cx="3637080" cy="25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84360" y="3716280"/>
          <a:ext cx="4968720" cy="1774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3716280"/>
                    <a:ext cx="496872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57200" y="2286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    =     X            b    +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048120" y="3413160"/>
                <a:ext cx="19810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'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490680" y="3429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2727360"/>
            <a:ext cx="335268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X is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X’X can not be inv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an only estimate 3 parameters from 3 m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ed restriction to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5ECC-FA11-412B-A5E1-B628321999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Briana Daly</cp:lastModifiedBy>
  <dcterms:modified xsi:type="dcterms:W3CDTF">2005-07-26T04:37:33Z</dcterms:modified>
  <cp:revision>138</cp:revision>
  <dc:subject/>
  <dc:title>PowerPoint Presentation</dc:title>
</cp:coreProperties>
</file>