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4085-E6C7-4BD0-9664-D1D374E2F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1E63-8EDA-4145-B044-6D688AFE1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932C-08C2-4E15-85F0-648E7BB99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BA9E-3454-4C19-BD91-ABEE2133E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30D0-FBE8-4C3D-8E66-D658DCF30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59A7-DB17-4796-A03A-180C96875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8FBF-E32B-4581-9965-6881257C11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8E77-D3D4-458E-86B9-8C8570F8B2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A092-2ED7-4881-A5F5-66790ADED7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D7F2-E22F-4BD6-84A1-C9F2B755A4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E05D-D933-4474-80EA-AA33B4CB7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65DE-821F-40DF-8477-F5CC3FB41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86DA-0EA2-4110-B5C6-D5C261E3B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B96F-1037-4B63-8E6F-1B7BF45601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DB0E-530E-4467-8678-EBD522AC52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904C-471E-4515-96DF-CAD7BB6C9F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1878-4E4B-4993-9962-E73B1FCF5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AE61-1026-4BE6-BBF2-B353948A9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2240-AC79-4B12-8C4F-07EACBA18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C01B-30A8-4529-A9DE-B0CD05320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8EF7-AD07-4E22-B08B-E303360FB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3073-9AF7-4A9B-919A-13C11D8D5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9632-ED06-4DB6-88FD-4C89BC236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C755-6215-4CEC-B31A-3591F64A1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6F44-9DC5-4011-B348-B5B348427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B74A-37CF-4B81-BE0D-1EAAC81BB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29268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Estimation of Genetic Parame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liu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FB15-E4D5-48BC-9254-5D73E1D4C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es of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[8, 9, 11, 1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: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s of squar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: 4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SS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= (-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DD46-4322-4D2D-B735-BD70241AF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es of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[8, 9, 11, 1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 = 1  1  2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: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: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+1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m of squ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       9        11      12              4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   10       10     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400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effe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5    -1.5    +1.5   +1.5             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.5    +0.5    -0.5   +0.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7826-9E2C-458E-AED0-A9C3B759D4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524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OVA-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752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00536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“A-effect” is a classification of data: e.g. according to s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lf sib groups). It relates to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ariance 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” relates to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ariance with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9040" y="2209680"/>
            <a:ext cx="2286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596360" y="2852640"/>
            <a:ext cx="404640" cy="4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3048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r. p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806000">
            <a:off x="6705720" y="609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pected Mean Squ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AC75-0400-47DF-8575-5F69AA647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(e.g. sire) differences relate to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variance 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residual” differences relates to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variance with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647360"/>
            <a:ext cx="705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0200" y="4529160"/>
            <a:ext cx="3886200" cy="8380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81640" y="2776680"/>
            <a:ext cx="0" cy="761760"/>
          </a:xfrm>
          <a:prstGeom prst="line">
            <a:avLst/>
          </a:prstGeom>
          <a:ln w="93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9520" y="3538440"/>
            <a:ext cx="1752480" cy="0"/>
          </a:xfrm>
          <a:prstGeom prst="line">
            <a:avLst/>
          </a:prstGeom>
          <a:ln w="9360">
            <a:solidFill>
              <a:srgbClr val="ff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0200" y="1938240"/>
            <a:ext cx="3886200" cy="838440"/>
          </a:xfrm>
          <a:prstGeom prst="ellipse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33720" y="407196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407196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185640" y="4071960"/>
            <a:ext cx="121932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81640" y="4071960"/>
            <a:ext cx="175248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AE4D-166D-4E0A-84AF-96C663F829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ising the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7025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ing (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= fixed effects + random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y) = fixed effects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(y) = variance due to random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l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suffici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think about dat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conditions need to be fulfilled (random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the components into meaningfu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sire variance = ¼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EC12-C9BE-4152-BE1D-AF81C5F2CD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 of heritability est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rue her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r. of rec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0.1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6576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EA42-1CDD-491F-B6BE-F749A15C58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for Variance Componen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- balanc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VA – unbalanc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derson’s methods (SAS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maximum Likelihood (RE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61AE-6D9A-47BF-AD02-242D249E0F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OVA-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752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00536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“A-effect” relates to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ariance 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ual” relates to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ariance with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9040" y="2209680"/>
            <a:ext cx="2286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7596360" y="2852640"/>
            <a:ext cx="404640" cy="4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3048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Nr. p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806000">
            <a:off x="6705720" y="609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pected Mean Squ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67240" y="47628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: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5B71-D4BA-4B0A-A6AE-87C4720DE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OVA in Unbalance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idea as balanced (previous) but use a weighted number for “n” in: EM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atrix notation to work out SS and 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in linear 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thod  in computer programs such as SAS, Harvey, SPS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general of those is called the “Henderson III metho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7D24-61F9-449C-A5BC-8D06602269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kelihoo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servation has a probability density, determined by 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value (e.g. mea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location paramet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dispersion paramet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y with normal distribution, mea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vari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59280" y="2781360"/>
                <a:ext cx="33415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98480" y="4221000"/>
            <a:ext cx="8381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robability Density Function (PDF) for the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gives the probability of the observation, given the parameter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e turn this around and get the likelihood of the parameters give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BFC7-453E-4B9E-B30F-107F461E94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ion of Varianc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understanding of genetic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for prediction of breed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Index / BL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for optimization of breeding programs and prediction of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E97A-6146-478E-9A8F-AFDC06040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kelihoo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ultiply these probability values over the whole data, and include the fact that some of the observations may be related, i.e. we hav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in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ata vector y with  exp. means  E(y) = Xb and var(y) =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 of the likelihoo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8172360" cy="497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5181480"/>
            <a:ext cx="8381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1320" y="3933720"/>
            <a:ext cx="8035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ression gives the likelihood of the parameter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given data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ight-hand sid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two terms are expect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st term is a sum of squ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6D55-AEA7-4F47-8D79-6F0E4B9545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tricted Maximum Likeli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627200"/>
            <a:ext cx="831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all data first for all fix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maximum likelihood (solution for variance components) after these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n iterative procedure is used to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values (for the parameters) are needed to get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452C-12DA-486D-B3B0-F9D0A6D982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32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Example of a REML Algorith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M-algorithm,for illustration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mixed model equations using a prior value for the variance components (rat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variance components from the MME-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new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iterate between 1 an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194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11280" y="2073240"/>
            <a:ext cx="4343400" cy="995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5764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84360" y="3429000"/>
            <a:ext cx="4648320" cy="487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0528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452680" y="3860640"/>
            <a:ext cx="5504040" cy="603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67280" y="2637000"/>
            <a:ext cx="3045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38240" y="1195200"/>
            <a:ext cx="4114440" cy="374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4" y="1"/>
                </a:moveTo>
                <a:arcTo wR="10800" hR="10800" stAng="-5350865" swAng="5350865"/>
                <a:lnTo>
                  <a:pt x="10800" y="10800"/>
                </a:lnTo>
                <a:close/>
              </a:path>
              <a:path fill="none" w="21600" h="21600">
                <a:moveTo>
                  <a:pt x="10954" y="1"/>
                </a:moveTo>
                <a:arcTo wR="10800" hR="10800" stAng="-5350865" swAng="5350865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9120" y="4711680"/>
            <a:ext cx="3045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415B-CB4D-4404-BA21-9D395C5CE8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Why is REML Better Than ANOVA from S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76220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t is by definition mor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s full mixed model equations, so can utilize all animal relationships (animal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fore, it has many properties as BLUP, e.g. it accounts f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t allows more complicated mixed models (maternal effects, multiple traits etc) as with BL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A2CA-11B8-4F9E-8AEA-F9146513A0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7960" y="115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rther Notes on REM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14857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sing an animal model, heritability is estimated from naturally comb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between families (HS/F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from parent-offspring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and  model are very flexible, but it can be hard to evaluate the estimates based on the data and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e.g. Is there a good family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FFDA-AF59-4D99-8780-0F592B1EF1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32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Quality of the Parameter Est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E of estimates (although these are approxim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effect of number of records, and structure (nr. of groups vs nr. per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ias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data, and the possible effects, evaluate whether there was no bias from selection, or from confounding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36BC-8E30-4B99-9396-00BBC1CF0A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weaning weight for White Suffolk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on 9700 animals, 15,000 in pedi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280" y="1341360"/>
            <a:ext cx="837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son of including or not including the correlation between direct genetic and maternal effects and the effect of ignoring maternal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rrelation A-M        No corre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 ma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clud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enVar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23.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3.2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3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0.25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44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ernal Heritab.          0.28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8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l. direct-matern.   -0.44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0D6E-E189-4551-83B7-FEF9FAFADF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weaning weight for White Suffolk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on 9700 animals, 15,000 in pedi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ffect of ignoring or including a permanent environmental effect (PE) of dam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with P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without 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enotypic Var.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3.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3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 (direct)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.25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.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ernal heritability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.13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.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r Mat-Direct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0.5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0.4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anent Env. Ewe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.1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D6B5-0830-4614-8193-B6DB997612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183E-4424-432A-83E1-E63D842044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75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iance Component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8720" y="1267920"/>
            <a:ext cx="8315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. Gene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Her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Maternal Heri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epea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Common full-sib comp’t (“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typic/ Gen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960" y="225576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1960" y="429264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7B0C-70FF-4657-B4F6-EE8074BB57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o (Re) Estimate Variance Compon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840" y="1844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)variances change over time due to environmental and/or genetic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g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25D1-AA9A-455F-B09E-076528852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iance and Covar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: measure of differences (extent 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nce: measure of ‘differences in commo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individuals/ between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2514600"/>
          <a:ext cx="8037360" cy="2959200"/>
        </p:xfrm>
        <a:graphic>
          <a:graphicData uri="http://schemas.openxmlformats.org/drawingml/2006/table">
            <a:tbl>
              <a:tblPr/>
              <a:tblGrid>
                <a:gridCol w="2025720"/>
                <a:gridCol w="547560"/>
                <a:gridCol w="547920"/>
                <a:gridCol w="544320"/>
                <a:gridCol w="547560"/>
                <a:gridCol w="547920"/>
                <a:gridCol w="546120"/>
                <a:gridCol w="542880"/>
                <a:gridCol w="547560"/>
                <a:gridCol w="546120"/>
                <a:gridCol w="546120"/>
                <a:gridCol w="547560"/>
              </a:tblGrid>
              <a:tr h="36828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s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between Fami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within F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family resemb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1A78-A254-4CD1-8383-BBED029E7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5036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ng variance components to underlying effec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give it a mea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5840" y="1719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between groups = covariance within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variance among half sibs          = ¼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hare 25% of their gen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S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Residual Variance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¼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¾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2F6C-B3AA-4CF5-81B3-596165861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8422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between groups = covariance within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variance among full sibs    ½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¼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hare 50% of their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S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sidual Varianc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½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¼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¾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5036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ng variance components to underlying effec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give it a mea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6202-BB7A-4E82-A270-A45367290F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es of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the importance of different sources of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is determined by its contribution to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if derived from sums of squares and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1E60-A4E7-4B75-B3C2-4A2319BBD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es of Var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96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an (f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idual is rand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uses var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(y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am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sum of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SS to its expectation   E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(n-1)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62640" y="4005360"/>
                <a:ext cx="2484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43200" y="2781360"/>
                <a:ext cx="2820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1D27-C4F4-4B7E-9CA7-8C1B0D8E5A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6T14:26:32Z</dcterms:modified>
  <cp:revision>150</cp:revision>
  <dc:subject/>
  <dc:title>PowerPoint Presentation</dc:title>
</cp:coreProperties>
</file>