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wmf" ContentType="image/x-wmf"/>
  <Override PartName="/ppt/media/image2.wmf" ContentType="image/x-wmf"/>
  <Override PartName="/ppt/media/image25.png" ContentType="image/png"/>
  <Override PartName="/ppt/media/image23.png" ContentType="image/png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C4C0-9093-4A78-B43E-408E3A681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1C64-9B2A-4044-816E-6C223F85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11F4-7ED2-44B4-AD87-105F138A8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E479-1BAB-4B85-8090-0E1ED11D8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F844-AA66-4664-8E93-809805F4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EC72-ACE2-495B-9D5C-57CD126E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B066-91D1-48AE-BB64-23C0140E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C219-BC3B-4372-8F0C-9DBF7F13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E2CB-D9C1-406E-9BFC-94B2D1D8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36A0-7418-4E99-A84B-05EE2C26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2B4A-D0A7-4215-8A65-DBEF0FDE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6FDC-9456-43BA-9C7E-F311F601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B52D-4502-4069-AE4E-7B5F7B1C7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44756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Growth and development of body t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728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omposition at maturity:</a:t>
            </a:r>
            <a:br>
              <a:rPr sz="4400"/>
            </a:b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h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7580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omposition at maturity:</a:t>
            </a:r>
            <a:br>
              <a:rPr sz="4400"/>
            </a:b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at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836460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and low yearling weight selection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38098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3863880" cy="2743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28600" y="4952880"/>
            <a:ext cx="4495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Yearling Ste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62720" y="4952880"/>
            <a:ext cx="312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2 yo bu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 model to compare composition in large and small mature size br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ompare at the same weig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ompare at the same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ompare at the same stage of mat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Growth functions for large and small br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743200" y="1828800"/>
            <a:ext cx="3595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omparison at the same we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18001" t="0" r="0" b="48871"/>
          <a:stretch/>
        </p:blipFill>
        <p:spPr>
          <a:xfrm>
            <a:off x="1066680" y="2057400"/>
            <a:ext cx="695808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omparison at the same we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0" t="45481" r="0" b="0"/>
          <a:stretch/>
        </p:blipFill>
        <p:spPr>
          <a:xfrm>
            <a:off x="152280" y="2068560"/>
            <a:ext cx="7743960" cy="4122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28600" y="2133720"/>
            <a:ext cx="144792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omparison at the same 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0" t="0" r="0" b="48859"/>
          <a:stretch/>
        </p:blipFill>
        <p:spPr>
          <a:xfrm>
            <a:off x="0" y="1862280"/>
            <a:ext cx="7896240" cy="39812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09480" y="1905120"/>
            <a:ext cx="1676520" cy="19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omparison at the same 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0" t="51146" r="0" b="0"/>
          <a:stretch/>
        </p:blipFill>
        <p:spPr>
          <a:xfrm>
            <a:off x="228600" y="1892160"/>
            <a:ext cx="8201160" cy="3951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28600" y="1600200"/>
            <a:ext cx="152388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omparison at the same stage of mat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0" t="0" r="0" b="47739"/>
          <a:stretch/>
        </p:blipFill>
        <p:spPr>
          <a:xfrm>
            <a:off x="1219320" y="2438280"/>
            <a:ext cx="7019640" cy="3519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33520" y="1752480"/>
            <a:ext cx="1828800" cy="19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08120" y="14479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cu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ur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ed effect on com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ure 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uring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x effects on com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ure 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uring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tritional effects on com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in/energy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path effects on compos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omparison at the same stage of mat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45477" r="0" b="0"/>
          <a:stretch/>
        </p:blipFill>
        <p:spPr>
          <a:xfrm>
            <a:off x="0" y="2068560"/>
            <a:ext cx="8163000" cy="4270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1752480"/>
            <a:ext cx="152388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14400" y="31680"/>
            <a:ext cx="723888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ex effects on com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ex effects;</a:t>
            </a:r>
            <a:br>
              <a:rPr sz="4400"/>
            </a:b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mature composi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8013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ex effects:</a:t>
            </a:r>
            <a:br>
              <a:rPr sz="4400"/>
            </a:b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Relative rates of tissue de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824868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rcRect l="0" t="0" r="48357" b="48247"/>
          <a:stretch/>
        </p:blipFill>
        <p:spPr>
          <a:xfrm>
            <a:off x="1523880" y="1438200"/>
            <a:ext cx="5562720" cy="52196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ex effects:</a:t>
            </a:r>
            <a:br>
              <a:rPr sz="4400"/>
            </a:b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omposition at the same we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123720" y="2743200"/>
            <a:ext cx="1676520" cy="26668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048120" y="3429000"/>
            <a:ext cx="2514600" cy="175248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astration</a:t>
            </a:r>
            <a:br>
              <a:rPr sz="4400"/>
            </a:b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(mature compositi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647064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difference in mature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rge difference in composition at mat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ssues mature at the same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 the same weight (and stage of maturity) there is a large difference in composition and it gets proportionally larger at heavier we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Growth Path effects on </a:t>
            </a:r>
            <a:br>
              <a:rPr sz="4400"/>
            </a:b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body com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117160" y="303120"/>
            <a:ext cx="4095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owth Path eff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78280" y="1569960"/>
            <a:ext cx="4376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 and low growth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1720" y="2378160"/>
            <a:ext cx="808056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Growth cur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3880" y="2286000"/>
            <a:ext cx="595476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117160" y="303120"/>
            <a:ext cx="4095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owth Path eff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78640" y="1569960"/>
            <a:ext cx="4680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ture versus grain 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22280" y="2057400"/>
            <a:ext cx="8298000" cy="38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525040" y="379440"/>
            <a:ext cx="4095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owth Path eff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53160" y="1569960"/>
            <a:ext cx="3038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tern of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87240" y="2211480"/>
            <a:ext cx="7769520" cy="34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525040" y="455760"/>
            <a:ext cx="4095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owth Path eff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54960" y="1646280"/>
            <a:ext cx="2018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98560" y="2563920"/>
            <a:ext cx="734544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Normal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70536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Early restr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19760" cy="49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Late restr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066680" y="1766880"/>
            <a:ext cx="670572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ture 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defined as the weight an animal reaches when it is in equilibrium with its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-27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int of inflex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the growth rate changes from accelerating to decelerating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563400"/>
            <a:ext cx="630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eatures of a Growth Cu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888840" y="1538280"/>
          <a:ext cx="7367760" cy="484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8840" y="1538280"/>
                    <a:ext cx="7367760" cy="48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766440" y="274680"/>
            <a:ext cx="7619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owth pattern of large and small ma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ze br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50840" y="898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14440" y="1600200"/>
          <a:ext cx="7486560" cy="486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1600200"/>
                    <a:ext cx="7486560" cy="48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747360" y="318960"/>
            <a:ext cx="63345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aled growth curve for large and sm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ture size br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Relative growth rates for body t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556272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A model for change in body com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994040"/>
            <a:ext cx="82296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Breed effects on com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1T06:37:06Z</dcterms:created>
  <dc:creator>Diane Perry</dc:creator>
  <dc:description/>
  <dc:language>en-US</dc:language>
  <cp:lastModifiedBy>Diane Perry</cp:lastModifiedBy>
  <dcterms:modified xsi:type="dcterms:W3CDTF">2006-05-11T06:37:32Z</dcterms:modified>
  <cp:revision>1</cp:revision>
  <dc:subject/>
  <dc:title>Growth and development of body tissues</dc:title>
</cp:coreProperties>
</file>