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D31-D7AB-4797-92FC-E5C5CD6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F04-316A-4464-9FD2-048C098D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BAD-3C9D-4091-9208-7F6BD39E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BDA-1D67-4D65-BA49-021AC8B6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A8D-04CB-4DAA-A341-0801129D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1E0-EBAF-4ABA-8507-B5EDB31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012-976B-49A7-A84F-58CFDE72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7C4-EB20-428D-993E-D6701CA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9BC-0A44-48AA-B9A9-6684ACAF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DDF-4163-467E-B9B4-46C88F0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FD2-1180-47D9-9720-0AE792E9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A04-A292-4CF8-8F59-ED67A40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00E8-8816-4EB0-89D7-6263C40078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VALUATION OF EATING QUALIT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asurement can be made either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jectively, by machines/in lab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jectively, by huma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advantages and disadvantages with both op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hear forc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6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7600" y="625320"/>
            <a:ext cx="3849480" cy="274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78440" y="3301920"/>
            <a:ext cx="3911400" cy="26924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4148280"/>
            <a:ext cx="3583080" cy="1887480"/>
          </a:xfrm>
          <a:custGeom>
            <a:avLst/>
            <a:gdLst/>
            <a:ahLst/>
            <a:rect l="l" t="t" r="r" b="b"/>
            <a:pathLst>
              <a:path w="2257" h="1189">
                <a:moveTo>
                  <a:pt x="0" y="1179"/>
                </a:moveTo>
                <a:lnTo>
                  <a:pt x="46" y="1177"/>
                </a:lnTo>
                <a:lnTo>
                  <a:pt x="58" y="1143"/>
                </a:lnTo>
                <a:lnTo>
                  <a:pt x="92" y="1132"/>
                </a:lnTo>
                <a:lnTo>
                  <a:pt x="114" y="1098"/>
                </a:lnTo>
                <a:lnTo>
                  <a:pt x="148" y="1075"/>
                </a:lnTo>
                <a:lnTo>
                  <a:pt x="171" y="1041"/>
                </a:lnTo>
                <a:lnTo>
                  <a:pt x="205" y="1041"/>
                </a:lnTo>
                <a:lnTo>
                  <a:pt x="239" y="1007"/>
                </a:lnTo>
                <a:lnTo>
                  <a:pt x="273" y="996"/>
                </a:lnTo>
                <a:lnTo>
                  <a:pt x="284" y="962"/>
                </a:lnTo>
                <a:lnTo>
                  <a:pt x="318" y="951"/>
                </a:lnTo>
                <a:lnTo>
                  <a:pt x="329" y="917"/>
                </a:lnTo>
                <a:lnTo>
                  <a:pt x="363" y="871"/>
                </a:lnTo>
                <a:lnTo>
                  <a:pt x="375" y="837"/>
                </a:lnTo>
                <a:lnTo>
                  <a:pt x="386" y="803"/>
                </a:lnTo>
                <a:lnTo>
                  <a:pt x="397" y="769"/>
                </a:lnTo>
                <a:lnTo>
                  <a:pt x="431" y="735"/>
                </a:lnTo>
                <a:lnTo>
                  <a:pt x="465" y="724"/>
                </a:lnTo>
                <a:lnTo>
                  <a:pt x="488" y="690"/>
                </a:lnTo>
                <a:lnTo>
                  <a:pt x="522" y="668"/>
                </a:lnTo>
                <a:lnTo>
                  <a:pt x="545" y="634"/>
                </a:lnTo>
                <a:lnTo>
                  <a:pt x="567" y="600"/>
                </a:lnTo>
                <a:lnTo>
                  <a:pt x="601" y="588"/>
                </a:lnTo>
                <a:lnTo>
                  <a:pt x="624" y="554"/>
                </a:lnTo>
                <a:lnTo>
                  <a:pt x="658" y="554"/>
                </a:lnTo>
                <a:lnTo>
                  <a:pt x="692" y="554"/>
                </a:lnTo>
                <a:lnTo>
                  <a:pt x="726" y="554"/>
                </a:lnTo>
                <a:lnTo>
                  <a:pt x="760" y="554"/>
                </a:lnTo>
                <a:lnTo>
                  <a:pt x="794" y="532"/>
                </a:lnTo>
                <a:lnTo>
                  <a:pt x="794" y="498"/>
                </a:lnTo>
                <a:lnTo>
                  <a:pt x="816" y="464"/>
                </a:lnTo>
                <a:lnTo>
                  <a:pt x="850" y="453"/>
                </a:lnTo>
                <a:lnTo>
                  <a:pt x="873" y="419"/>
                </a:lnTo>
                <a:lnTo>
                  <a:pt x="907" y="407"/>
                </a:lnTo>
                <a:lnTo>
                  <a:pt x="930" y="373"/>
                </a:lnTo>
                <a:lnTo>
                  <a:pt x="964" y="351"/>
                </a:lnTo>
                <a:lnTo>
                  <a:pt x="964" y="317"/>
                </a:lnTo>
                <a:lnTo>
                  <a:pt x="975" y="283"/>
                </a:lnTo>
                <a:lnTo>
                  <a:pt x="997" y="237"/>
                </a:lnTo>
                <a:lnTo>
                  <a:pt x="1031" y="215"/>
                </a:lnTo>
                <a:lnTo>
                  <a:pt x="1031" y="181"/>
                </a:lnTo>
                <a:lnTo>
                  <a:pt x="1054" y="136"/>
                </a:lnTo>
                <a:lnTo>
                  <a:pt x="1065" y="102"/>
                </a:lnTo>
                <a:lnTo>
                  <a:pt x="1088" y="68"/>
                </a:lnTo>
                <a:lnTo>
                  <a:pt x="1122" y="45"/>
                </a:lnTo>
                <a:lnTo>
                  <a:pt x="1145" y="11"/>
                </a:lnTo>
                <a:lnTo>
                  <a:pt x="1179" y="0"/>
                </a:lnTo>
                <a:lnTo>
                  <a:pt x="1213" y="0"/>
                </a:lnTo>
                <a:lnTo>
                  <a:pt x="1224" y="34"/>
                </a:lnTo>
                <a:lnTo>
                  <a:pt x="1235" y="68"/>
                </a:lnTo>
                <a:lnTo>
                  <a:pt x="1247" y="102"/>
                </a:lnTo>
                <a:lnTo>
                  <a:pt x="1269" y="147"/>
                </a:lnTo>
                <a:lnTo>
                  <a:pt x="1292" y="181"/>
                </a:lnTo>
                <a:lnTo>
                  <a:pt x="1315" y="215"/>
                </a:lnTo>
                <a:lnTo>
                  <a:pt x="1326" y="249"/>
                </a:lnTo>
                <a:lnTo>
                  <a:pt x="1360" y="260"/>
                </a:lnTo>
                <a:lnTo>
                  <a:pt x="1371" y="294"/>
                </a:lnTo>
                <a:lnTo>
                  <a:pt x="1394" y="328"/>
                </a:lnTo>
                <a:lnTo>
                  <a:pt x="1416" y="362"/>
                </a:lnTo>
                <a:lnTo>
                  <a:pt x="1450" y="385"/>
                </a:lnTo>
                <a:lnTo>
                  <a:pt x="1462" y="419"/>
                </a:lnTo>
                <a:lnTo>
                  <a:pt x="1496" y="430"/>
                </a:lnTo>
                <a:lnTo>
                  <a:pt x="1518" y="464"/>
                </a:lnTo>
                <a:lnTo>
                  <a:pt x="1552" y="475"/>
                </a:lnTo>
                <a:lnTo>
                  <a:pt x="1586" y="509"/>
                </a:lnTo>
                <a:lnTo>
                  <a:pt x="1620" y="532"/>
                </a:lnTo>
                <a:lnTo>
                  <a:pt x="1643" y="566"/>
                </a:lnTo>
                <a:lnTo>
                  <a:pt x="1677" y="577"/>
                </a:lnTo>
                <a:lnTo>
                  <a:pt x="1688" y="611"/>
                </a:lnTo>
                <a:lnTo>
                  <a:pt x="1722" y="622"/>
                </a:lnTo>
                <a:lnTo>
                  <a:pt x="1734" y="656"/>
                </a:lnTo>
                <a:lnTo>
                  <a:pt x="1768" y="668"/>
                </a:lnTo>
                <a:lnTo>
                  <a:pt x="1790" y="702"/>
                </a:lnTo>
                <a:lnTo>
                  <a:pt x="1824" y="735"/>
                </a:lnTo>
                <a:lnTo>
                  <a:pt x="1858" y="758"/>
                </a:lnTo>
                <a:lnTo>
                  <a:pt x="1869" y="792"/>
                </a:lnTo>
                <a:lnTo>
                  <a:pt x="1903" y="792"/>
                </a:lnTo>
                <a:lnTo>
                  <a:pt x="1915" y="826"/>
                </a:lnTo>
                <a:lnTo>
                  <a:pt x="1949" y="837"/>
                </a:lnTo>
                <a:lnTo>
                  <a:pt x="1960" y="871"/>
                </a:lnTo>
                <a:lnTo>
                  <a:pt x="1994" y="883"/>
                </a:lnTo>
                <a:lnTo>
                  <a:pt x="2017" y="917"/>
                </a:lnTo>
                <a:lnTo>
                  <a:pt x="2051" y="939"/>
                </a:lnTo>
                <a:lnTo>
                  <a:pt x="2051" y="973"/>
                </a:lnTo>
                <a:lnTo>
                  <a:pt x="2073" y="1007"/>
                </a:lnTo>
                <a:lnTo>
                  <a:pt x="2107" y="1041"/>
                </a:lnTo>
                <a:lnTo>
                  <a:pt x="2130" y="1075"/>
                </a:lnTo>
                <a:lnTo>
                  <a:pt x="2141" y="1109"/>
                </a:lnTo>
                <a:lnTo>
                  <a:pt x="2175" y="1120"/>
                </a:lnTo>
                <a:lnTo>
                  <a:pt x="2186" y="1154"/>
                </a:lnTo>
                <a:lnTo>
                  <a:pt x="2220" y="1154"/>
                </a:lnTo>
                <a:lnTo>
                  <a:pt x="2232" y="1188"/>
                </a:lnTo>
                <a:lnTo>
                  <a:pt x="2256" y="1179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80760" y="6033960"/>
            <a:ext cx="156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60000">
            <a:off x="4050720" y="4462560"/>
            <a:ext cx="109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9200" y="4906800"/>
            <a:ext cx="888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41148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83040" y="3206880"/>
            <a:ext cx="4025880" cy="1396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45560" y="2101680"/>
            <a:ext cx="177840" cy="4026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6040" y="1217520"/>
            <a:ext cx="38908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hear Force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odified Warner-Bratz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lated to myofibril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tough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esses  the elasticity of the connective tiss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981080"/>
          <a:ext cx="76197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47508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304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5181480"/>
            <a:ext cx="76212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5320" y="798480"/>
            <a:ext cx="2256120" cy="3164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52680" y="3276720"/>
            <a:ext cx="0" cy="2884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52320" y="6161040"/>
            <a:ext cx="4876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2840" y="4165560"/>
            <a:ext cx="2090880" cy="1997280"/>
          </a:xfrm>
          <a:custGeom>
            <a:avLst/>
            <a:gdLst/>
            <a:ahLst/>
            <a:rect l="l" t="t" r="r" b="b"/>
            <a:pathLst>
              <a:path w="1317" h="1258">
                <a:moveTo>
                  <a:pt x="0" y="1257"/>
                </a:moveTo>
                <a:lnTo>
                  <a:pt x="20" y="1224"/>
                </a:lnTo>
                <a:lnTo>
                  <a:pt x="51" y="1216"/>
                </a:lnTo>
                <a:lnTo>
                  <a:pt x="71" y="1192"/>
                </a:lnTo>
                <a:lnTo>
                  <a:pt x="102" y="1175"/>
                </a:lnTo>
                <a:lnTo>
                  <a:pt x="133" y="1159"/>
                </a:lnTo>
                <a:lnTo>
                  <a:pt x="164" y="1151"/>
                </a:lnTo>
                <a:lnTo>
                  <a:pt x="195" y="1143"/>
                </a:lnTo>
                <a:lnTo>
                  <a:pt x="226" y="1119"/>
                </a:lnTo>
                <a:lnTo>
                  <a:pt x="257" y="1111"/>
                </a:lnTo>
                <a:lnTo>
                  <a:pt x="287" y="1094"/>
                </a:lnTo>
                <a:lnTo>
                  <a:pt x="318" y="1086"/>
                </a:lnTo>
                <a:lnTo>
                  <a:pt x="339" y="1062"/>
                </a:lnTo>
                <a:lnTo>
                  <a:pt x="370" y="1054"/>
                </a:lnTo>
                <a:lnTo>
                  <a:pt x="400" y="1046"/>
                </a:lnTo>
                <a:lnTo>
                  <a:pt x="431" y="1029"/>
                </a:lnTo>
                <a:lnTo>
                  <a:pt x="462" y="1021"/>
                </a:lnTo>
                <a:lnTo>
                  <a:pt x="493" y="997"/>
                </a:lnTo>
                <a:lnTo>
                  <a:pt x="524" y="981"/>
                </a:lnTo>
                <a:lnTo>
                  <a:pt x="555" y="956"/>
                </a:lnTo>
                <a:lnTo>
                  <a:pt x="586" y="932"/>
                </a:lnTo>
                <a:lnTo>
                  <a:pt x="616" y="908"/>
                </a:lnTo>
                <a:lnTo>
                  <a:pt x="627" y="883"/>
                </a:lnTo>
                <a:lnTo>
                  <a:pt x="647" y="859"/>
                </a:lnTo>
                <a:lnTo>
                  <a:pt x="668" y="835"/>
                </a:lnTo>
                <a:lnTo>
                  <a:pt x="699" y="819"/>
                </a:lnTo>
                <a:lnTo>
                  <a:pt x="709" y="794"/>
                </a:lnTo>
                <a:lnTo>
                  <a:pt x="740" y="786"/>
                </a:lnTo>
                <a:lnTo>
                  <a:pt x="771" y="762"/>
                </a:lnTo>
                <a:lnTo>
                  <a:pt x="801" y="754"/>
                </a:lnTo>
                <a:lnTo>
                  <a:pt x="812" y="729"/>
                </a:lnTo>
                <a:lnTo>
                  <a:pt x="832" y="705"/>
                </a:lnTo>
                <a:lnTo>
                  <a:pt x="853" y="673"/>
                </a:lnTo>
                <a:lnTo>
                  <a:pt x="884" y="656"/>
                </a:lnTo>
                <a:lnTo>
                  <a:pt x="894" y="632"/>
                </a:lnTo>
                <a:lnTo>
                  <a:pt x="915" y="608"/>
                </a:lnTo>
                <a:lnTo>
                  <a:pt x="925" y="583"/>
                </a:lnTo>
                <a:lnTo>
                  <a:pt x="945" y="559"/>
                </a:lnTo>
                <a:lnTo>
                  <a:pt x="956" y="535"/>
                </a:lnTo>
                <a:lnTo>
                  <a:pt x="987" y="502"/>
                </a:lnTo>
                <a:lnTo>
                  <a:pt x="1007" y="478"/>
                </a:lnTo>
                <a:lnTo>
                  <a:pt x="1028" y="454"/>
                </a:lnTo>
                <a:lnTo>
                  <a:pt x="1048" y="429"/>
                </a:lnTo>
                <a:lnTo>
                  <a:pt x="1058" y="405"/>
                </a:lnTo>
                <a:lnTo>
                  <a:pt x="1079" y="381"/>
                </a:lnTo>
                <a:lnTo>
                  <a:pt x="1089" y="356"/>
                </a:lnTo>
                <a:lnTo>
                  <a:pt x="1110" y="332"/>
                </a:lnTo>
                <a:lnTo>
                  <a:pt x="1120" y="308"/>
                </a:lnTo>
                <a:lnTo>
                  <a:pt x="1130" y="283"/>
                </a:lnTo>
                <a:lnTo>
                  <a:pt x="1151" y="251"/>
                </a:lnTo>
                <a:lnTo>
                  <a:pt x="1161" y="218"/>
                </a:lnTo>
                <a:lnTo>
                  <a:pt x="1172" y="194"/>
                </a:lnTo>
                <a:lnTo>
                  <a:pt x="1192" y="170"/>
                </a:lnTo>
                <a:lnTo>
                  <a:pt x="1202" y="145"/>
                </a:lnTo>
                <a:lnTo>
                  <a:pt x="1213" y="121"/>
                </a:lnTo>
                <a:lnTo>
                  <a:pt x="1213" y="97"/>
                </a:lnTo>
                <a:lnTo>
                  <a:pt x="1223" y="72"/>
                </a:lnTo>
                <a:lnTo>
                  <a:pt x="1233" y="24"/>
                </a:lnTo>
                <a:lnTo>
                  <a:pt x="1244" y="0"/>
                </a:lnTo>
                <a:lnTo>
                  <a:pt x="1254" y="24"/>
                </a:lnTo>
                <a:lnTo>
                  <a:pt x="1254" y="48"/>
                </a:lnTo>
                <a:lnTo>
                  <a:pt x="1254" y="72"/>
                </a:lnTo>
                <a:lnTo>
                  <a:pt x="1254" y="97"/>
                </a:lnTo>
                <a:lnTo>
                  <a:pt x="1254" y="129"/>
                </a:lnTo>
                <a:lnTo>
                  <a:pt x="1254" y="154"/>
                </a:lnTo>
                <a:lnTo>
                  <a:pt x="1254" y="178"/>
                </a:lnTo>
                <a:lnTo>
                  <a:pt x="1254" y="202"/>
                </a:lnTo>
                <a:lnTo>
                  <a:pt x="1254" y="227"/>
                </a:lnTo>
                <a:lnTo>
                  <a:pt x="1254" y="251"/>
                </a:lnTo>
                <a:lnTo>
                  <a:pt x="1254" y="275"/>
                </a:lnTo>
                <a:lnTo>
                  <a:pt x="1254" y="300"/>
                </a:lnTo>
                <a:lnTo>
                  <a:pt x="1254" y="324"/>
                </a:lnTo>
                <a:lnTo>
                  <a:pt x="1254" y="356"/>
                </a:lnTo>
                <a:lnTo>
                  <a:pt x="1254" y="381"/>
                </a:lnTo>
                <a:lnTo>
                  <a:pt x="1254" y="405"/>
                </a:lnTo>
                <a:lnTo>
                  <a:pt x="1254" y="429"/>
                </a:lnTo>
                <a:lnTo>
                  <a:pt x="1254" y="454"/>
                </a:lnTo>
                <a:lnTo>
                  <a:pt x="1254" y="478"/>
                </a:lnTo>
                <a:lnTo>
                  <a:pt x="1254" y="502"/>
                </a:lnTo>
                <a:lnTo>
                  <a:pt x="1254" y="527"/>
                </a:lnTo>
                <a:lnTo>
                  <a:pt x="1264" y="559"/>
                </a:lnTo>
                <a:lnTo>
                  <a:pt x="1264" y="583"/>
                </a:lnTo>
                <a:lnTo>
                  <a:pt x="1274" y="608"/>
                </a:lnTo>
                <a:lnTo>
                  <a:pt x="1274" y="632"/>
                </a:lnTo>
                <a:lnTo>
                  <a:pt x="1274" y="656"/>
                </a:lnTo>
                <a:lnTo>
                  <a:pt x="1274" y="681"/>
                </a:lnTo>
                <a:lnTo>
                  <a:pt x="1274" y="705"/>
                </a:lnTo>
                <a:lnTo>
                  <a:pt x="1285" y="729"/>
                </a:lnTo>
                <a:lnTo>
                  <a:pt x="1285" y="754"/>
                </a:lnTo>
                <a:lnTo>
                  <a:pt x="1285" y="778"/>
                </a:lnTo>
                <a:lnTo>
                  <a:pt x="1295" y="851"/>
                </a:lnTo>
                <a:lnTo>
                  <a:pt x="1295" y="875"/>
                </a:lnTo>
                <a:lnTo>
                  <a:pt x="1295" y="932"/>
                </a:lnTo>
                <a:lnTo>
                  <a:pt x="1295" y="956"/>
                </a:lnTo>
                <a:lnTo>
                  <a:pt x="1295" y="1021"/>
                </a:lnTo>
                <a:lnTo>
                  <a:pt x="1305" y="1046"/>
                </a:lnTo>
                <a:lnTo>
                  <a:pt x="1305" y="1070"/>
                </a:lnTo>
                <a:lnTo>
                  <a:pt x="1305" y="1094"/>
                </a:lnTo>
                <a:lnTo>
                  <a:pt x="1305" y="1119"/>
                </a:lnTo>
                <a:lnTo>
                  <a:pt x="1305" y="1143"/>
                </a:lnTo>
                <a:lnTo>
                  <a:pt x="1305" y="1167"/>
                </a:lnTo>
                <a:lnTo>
                  <a:pt x="1316" y="1192"/>
                </a:lnTo>
                <a:lnTo>
                  <a:pt x="1316" y="1216"/>
                </a:lnTo>
                <a:lnTo>
                  <a:pt x="1316" y="1240"/>
                </a:lnTo>
                <a:lnTo>
                  <a:pt x="1316" y="1257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40440" y="4100400"/>
            <a:ext cx="39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75480" y="492300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Hard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38800" y="4100400"/>
            <a:ext cx="0" cy="824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238800" y="5336640"/>
            <a:ext cx="0" cy="824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79640" y="5618160"/>
            <a:ext cx="82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Wor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43280" y="5746680"/>
            <a:ext cx="82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Work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37240" y="4989600"/>
            <a:ext cx="1594080" cy="1173240"/>
          </a:xfrm>
          <a:custGeom>
            <a:avLst/>
            <a:gdLst/>
            <a:ahLst/>
            <a:rect l="l" t="t" r="r" b="b"/>
            <a:pathLst>
              <a:path w="1004" h="739">
                <a:moveTo>
                  <a:pt x="0" y="738"/>
                </a:moveTo>
                <a:lnTo>
                  <a:pt x="15" y="718"/>
                </a:lnTo>
                <a:lnTo>
                  <a:pt x="39" y="714"/>
                </a:lnTo>
                <a:lnTo>
                  <a:pt x="54" y="699"/>
                </a:lnTo>
                <a:lnTo>
                  <a:pt x="78" y="690"/>
                </a:lnTo>
                <a:lnTo>
                  <a:pt x="101" y="680"/>
                </a:lnTo>
                <a:lnTo>
                  <a:pt x="125" y="676"/>
                </a:lnTo>
                <a:lnTo>
                  <a:pt x="148" y="671"/>
                </a:lnTo>
                <a:lnTo>
                  <a:pt x="172" y="657"/>
                </a:lnTo>
                <a:lnTo>
                  <a:pt x="195" y="652"/>
                </a:lnTo>
                <a:lnTo>
                  <a:pt x="219" y="642"/>
                </a:lnTo>
                <a:lnTo>
                  <a:pt x="242" y="638"/>
                </a:lnTo>
                <a:lnTo>
                  <a:pt x="258" y="623"/>
                </a:lnTo>
                <a:lnTo>
                  <a:pt x="282" y="618"/>
                </a:lnTo>
                <a:lnTo>
                  <a:pt x="305" y="614"/>
                </a:lnTo>
                <a:lnTo>
                  <a:pt x="329" y="604"/>
                </a:lnTo>
                <a:lnTo>
                  <a:pt x="352" y="599"/>
                </a:lnTo>
                <a:lnTo>
                  <a:pt x="376" y="585"/>
                </a:lnTo>
                <a:lnTo>
                  <a:pt x="399" y="576"/>
                </a:lnTo>
                <a:lnTo>
                  <a:pt x="423" y="561"/>
                </a:lnTo>
                <a:lnTo>
                  <a:pt x="446" y="547"/>
                </a:lnTo>
                <a:lnTo>
                  <a:pt x="470" y="533"/>
                </a:lnTo>
                <a:lnTo>
                  <a:pt x="477" y="518"/>
                </a:lnTo>
                <a:lnTo>
                  <a:pt x="493" y="504"/>
                </a:lnTo>
                <a:lnTo>
                  <a:pt x="509" y="490"/>
                </a:lnTo>
                <a:lnTo>
                  <a:pt x="532" y="480"/>
                </a:lnTo>
                <a:lnTo>
                  <a:pt x="540" y="466"/>
                </a:lnTo>
                <a:lnTo>
                  <a:pt x="564" y="461"/>
                </a:lnTo>
                <a:lnTo>
                  <a:pt x="587" y="447"/>
                </a:lnTo>
                <a:lnTo>
                  <a:pt x="611" y="442"/>
                </a:lnTo>
                <a:lnTo>
                  <a:pt x="619" y="428"/>
                </a:lnTo>
                <a:lnTo>
                  <a:pt x="634" y="414"/>
                </a:lnTo>
                <a:lnTo>
                  <a:pt x="650" y="395"/>
                </a:lnTo>
                <a:lnTo>
                  <a:pt x="673" y="385"/>
                </a:lnTo>
                <a:lnTo>
                  <a:pt x="681" y="371"/>
                </a:lnTo>
                <a:lnTo>
                  <a:pt x="697" y="357"/>
                </a:lnTo>
                <a:lnTo>
                  <a:pt x="705" y="342"/>
                </a:lnTo>
                <a:lnTo>
                  <a:pt x="720" y="328"/>
                </a:lnTo>
                <a:lnTo>
                  <a:pt x="728" y="314"/>
                </a:lnTo>
                <a:lnTo>
                  <a:pt x="752" y="295"/>
                </a:lnTo>
                <a:lnTo>
                  <a:pt x="767" y="280"/>
                </a:lnTo>
                <a:lnTo>
                  <a:pt x="783" y="266"/>
                </a:lnTo>
                <a:lnTo>
                  <a:pt x="799" y="252"/>
                </a:lnTo>
                <a:lnTo>
                  <a:pt x="807" y="238"/>
                </a:lnTo>
                <a:lnTo>
                  <a:pt x="822" y="223"/>
                </a:lnTo>
                <a:lnTo>
                  <a:pt x="830" y="209"/>
                </a:lnTo>
                <a:lnTo>
                  <a:pt x="846" y="195"/>
                </a:lnTo>
                <a:lnTo>
                  <a:pt x="854" y="180"/>
                </a:lnTo>
                <a:lnTo>
                  <a:pt x="861" y="166"/>
                </a:lnTo>
                <a:lnTo>
                  <a:pt x="877" y="147"/>
                </a:lnTo>
                <a:lnTo>
                  <a:pt x="885" y="128"/>
                </a:lnTo>
                <a:lnTo>
                  <a:pt x="893" y="114"/>
                </a:lnTo>
                <a:lnTo>
                  <a:pt x="908" y="99"/>
                </a:lnTo>
                <a:lnTo>
                  <a:pt x="916" y="85"/>
                </a:lnTo>
                <a:lnTo>
                  <a:pt x="924" y="71"/>
                </a:lnTo>
                <a:lnTo>
                  <a:pt x="924" y="57"/>
                </a:lnTo>
                <a:lnTo>
                  <a:pt x="932" y="42"/>
                </a:lnTo>
                <a:lnTo>
                  <a:pt x="940" y="14"/>
                </a:lnTo>
                <a:lnTo>
                  <a:pt x="948" y="0"/>
                </a:lnTo>
                <a:lnTo>
                  <a:pt x="955" y="14"/>
                </a:lnTo>
                <a:lnTo>
                  <a:pt x="955" y="28"/>
                </a:lnTo>
                <a:lnTo>
                  <a:pt x="955" y="42"/>
                </a:lnTo>
                <a:lnTo>
                  <a:pt x="955" y="57"/>
                </a:lnTo>
                <a:lnTo>
                  <a:pt x="955" y="76"/>
                </a:lnTo>
                <a:lnTo>
                  <a:pt x="955" y="90"/>
                </a:lnTo>
                <a:lnTo>
                  <a:pt x="955" y="104"/>
                </a:lnTo>
                <a:lnTo>
                  <a:pt x="955" y="119"/>
                </a:lnTo>
                <a:lnTo>
                  <a:pt x="955" y="133"/>
                </a:lnTo>
                <a:lnTo>
                  <a:pt x="955" y="147"/>
                </a:lnTo>
                <a:lnTo>
                  <a:pt x="955" y="161"/>
                </a:lnTo>
                <a:lnTo>
                  <a:pt x="955" y="176"/>
                </a:lnTo>
                <a:lnTo>
                  <a:pt x="955" y="190"/>
                </a:lnTo>
                <a:lnTo>
                  <a:pt x="955" y="209"/>
                </a:lnTo>
                <a:lnTo>
                  <a:pt x="955" y="223"/>
                </a:lnTo>
                <a:lnTo>
                  <a:pt x="955" y="238"/>
                </a:lnTo>
                <a:lnTo>
                  <a:pt x="955" y="252"/>
                </a:lnTo>
                <a:lnTo>
                  <a:pt x="955" y="266"/>
                </a:lnTo>
                <a:lnTo>
                  <a:pt x="955" y="280"/>
                </a:lnTo>
                <a:lnTo>
                  <a:pt x="955" y="295"/>
                </a:lnTo>
                <a:lnTo>
                  <a:pt x="955" y="309"/>
                </a:lnTo>
                <a:lnTo>
                  <a:pt x="963" y="328"/>
                </a:lnTo>
                <a:lnTo>
                  <a:pt x="963" y="342"/>
                </a:lnTo>
                <a:lnTo>
                  <a:pt x="971" y="357"/>
                </a:lnTo>
                <a:lnTo>
                  <a:pt x="971" y="371"/>
                </a:lnTo>
                <a:lnTo>
                  <a:pt x="971" y="385"/>
                </a:lnTo>
                <a:lnTo>
                  <a:pt x="971" y="399"/>
                </a:lnTo>
                <a:lnTo>
                  <a:pt x="971" y="414"/>
                </a:lnTo>
                <a:lnTo>
                  <a:pt x="979" y="428"/>
                </a:lnTo>
                <a:lnTo>
                  <a:pt x="979" y="442"/>
                </a:lnTo>
                <a:lnTo>
                  <a:pt x="979" y="457"/>
                </a:lnTo>
                <a:lnTo>
                  <a:pt x="987" y="499"/>
                </a:lnTo>
                <a:lnTo>
                  <a:pt x="987" y="514"/>
                </a:lnTo>
                <a:lnTo>
                  <a:pt x="987" y="547"/>
                </a:lnTo>
                <a:lnTo>
                  <a:pt x="987" y="561"/>
                </a:lnTo>
                <a:lnTo>
                  <a:pt x="987" y="599"/>
                </a:lnTo>
                <a:lnTo>
                  <a:pt x="995" y="614"/>
                </a:lnTo>
                <a:lnTo>
                  <a:pt x="995" y="628"/>
                </a:lnTo>
                <a:lnTo>
                  <a:pt x="995" y="642"/>
                </a:lnTo>
                <a:lnTo>
                  <a:pt x="995" y="657"/>
                </a:lnTo>
                <a:lnTo>
                  <a:pt x="995" y="671"/>
                </a:lnTo>
                <a:lnTo>
                  <a:pt x="995" y="685"/>
                </a:lnTo>
                <a:lnTo>
                  <a:pt x="1003" y="699"/>
                </a:lnTo>
                <a:lnTo>
                  <a:pt x="1003" y="714"/>
                </a:lnTo>
                <a:lnTo>
                  <a:pt x="1003" y="728"/>
                </a:lnTo>
                <a:lnTo>
                  <a:pt x="1003" y="73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9560" y="3382920"/>
            <a:ext cx="422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ression = Hardness x  Work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Work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733920"/>
            <a:ext cx="914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7600" y="1141560"/>
            <a:ext cx="438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ression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ated to connective tiss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ugh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2360" y="6188040"/>
            <a:ext cx="101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310480" y="4507920"/>
            <a:ext cx="114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57520" cy="538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4495320" y="43434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ther aspects of eating quality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icin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avo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Juiciness and Flavour are best assessed by humans.  We have no reliable objective measure for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Flavour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at flavour”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per se resides in the water-soluble fraction of meat.  Essentially the same for all spe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pecies-specific”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avours are localised in the fat fraction.  Little information on their chemical basi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Juicines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ributes 10-40% of texture variabil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icult to measure objective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y reliable and consistent measure is sensory (taste panel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BJECTIVE MEASUREM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sistent, cheap, repeatable, reliable, not influenced by human prefer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an provide only an estimate of physical or chemical properties of meat - not able to incorporate sensory component of eating qual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Juicines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compon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impression of wetness during the first few chews - rapid release of fluids from the me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stained juiciness, apparently caused by the stimulating effect of fat on the production of saliva, coating of fat on various regions of the mou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ther meat quality trai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ter holding capac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oking l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ip l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at colo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ltimate 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ramuscular f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ater Holding Capacity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C contributes to drip loss, cooking loss and juiciness, raw meat colour, cooking ti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fresh meat WHC is affected by pH, time, temperature and expo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lour and pH measuremen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68128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40360" y="2362320"/>
            <a:ext cx="286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ramuscular f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omic Sans MS"/>
              </a:rPr>
              <a:t>Marbling f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Chips (Ausmeat, US, Japanes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omic Sans MS"/>
              </a:rPr>
              <a:t>Chemical fat within the muscle tiss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Solvent ext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NI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omic Sans MS"/>
              </a:rPr>
              <a:t>Contributes to flavour, juiciness and mouth feel, cooking time, maybe tenderness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5532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2286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Comic Sans MS"/>
              </a:rPr>
              <a:t>Soxhlet  -  solvent fat extr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43257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303960" cy="4340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52280"/>
            <a:ext cx="83059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I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ar infra red spectrophotome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UBJECTIVE EVALU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et a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ensor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valuation, consumer preferenc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me consuming, expensive, huge variation (b/w &amp; w/in individuals), influence of irrelevant facto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consumers eat meat they perform several 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biting, shearing 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queezing compression 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tretching tearing 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number of methods have been developed to objectively measure these 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two main methods used a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hear for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require that the meat to be assessed is prepared in a standard wa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251400" cy="352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3808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ndardisation of s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ple block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omic Sans MS"/>
              </a:rPr>
              <a:t>(Warner Bratzler) shear for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measures kg force needed to shear across the fibres with a blunt bla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omic Sans MS"/>
              </a:rPr>
              <a:t>Initial yield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 -a measure of the connective component of toughn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omic Sans MS"/>
              </a:rPr>
              <a:t>Peak force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 -measures mainly the myofibrillar component of toughn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199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00:34:42Z</dcterms:created>
  <dc:creator>Perry</dc:creator>
  <dc:description/>
  <dc:language>en-US</dc:language>
  <cp:lastModifiedBy>Peter Sommerville</cp:lastModifiedBy>
  <dcterms:modified xsi:type="dcterms:W3CDTF">2010-06-01T06:35:17Z</dcterms:modified>
  <cp:revision>13</cp:revision>
  <dc:subject/>
  <dc:title>EVALUATION OF BEEF </dc:title>
</cp:coreProperties>
</file>