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E0C-513B-407C-94B5-4D467217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7C7-DED4-484B-86CC-ECB52B09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E03-2F34-4094-B7DB-95B533E3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B08-C836-4D94-BA9F-1D2DEB5C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B2B-11A5-4846-B361-8D2A64F2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B85-1C57-4B2A-89A7-5261E3F1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CFC-E954-4876-895E-D1037435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84F-EB35-47C2-995B-0842EBD4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1CE-085C-40E1-9CCD-F50DD3F8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697-3FAC-4314-8AC2-5050E66D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A97-50AD-40C6-B4F0-3501028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A7F-3D63-4B26-9CD1-414D2B6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D39E-54E9-4479-BDE7-69A37F9BC48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roduction (on farm) effects on palatability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d meat quality</a:t>
            </a:r>
            <a:br>
              <a:rPr sz="4400"/>
            </a:b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086600" cy="3360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eritabilities CRC</a:t>
            </a:r>
            <a:br>
              <a:rPr sz="44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(Tropical and temperate)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Variation in h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estim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Unless pH/temp decline is controlled variation in quality could reflect variation in related trait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ean carcasses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(no stimulation) - chill faster, cold-shortening, tougher me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ithin breed vari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Appears to be limited genetic variation for palatability in pure temperate breed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ay be some opportunities for improvement in tropical/composite population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Between breed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BICE – Bos indicus crossbreeding experimen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Range of Bos indicus conten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Brahman sires, Hereford dam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Control Hereford and Brahma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Pure Hereford, to pure Brahman plus various inbetween %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1080" y="473040"/>
            <a:ext cx="8778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5320"/>
                <a:tab algn="l" pos="2330280"/>
                <a:tab algn="l" pos="3495600"/>
                <a:tab algn="l" pos="4660920"/>
                <a:tab algn="l" pos="5826240"/>
                <a:tab algn="l" pos="6991200"/>
                <a:tab algn="l" pos="8156520"/>
                <a:tab algn="l" pos="9321840"/>
                <a:tab algn="l" pos="1048716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Arial"/>
              </a:rPr>
              <a:t>BI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3800" y="1676520"/>
            <a:ext cx="80802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Breed X Processing Interac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770880" y="65214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Hearnshaw et al (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951200"/>
            <a:ext cx="744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Between Breed MS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(only normally hung carcasses, aged 14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093760"/>
            <a:ext cx="88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MSA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 Consumer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Consu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riteria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 Failure %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Pass%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&gt;75% BI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 63%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37%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25-75% BI  31%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69%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&lt;25% BI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 11%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89%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8510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8094960" y="64310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/12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Breed ef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reed is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agnitude of breed effects varies between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ossibly due to an interaction between breed and processing 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lectical 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anging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Breed effect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Tenderstretching may alleviate some of the Bos indicus effec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The difference in palatability is not the same for all muscles/cut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Bos indicus effect for cut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ut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b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ign P&lt;0.05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enderloin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9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0001  ***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ube roll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8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0001  ***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triploin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8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0001  ***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Brisket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5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15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pinalis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5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13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ye Round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4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09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Knuckle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3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08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ump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3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13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Blade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2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37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opside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1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48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yster Blade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-0.01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79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utside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0.01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0.73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5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Comic Sans MS"/>
              </a:rPr>
              <a:t>Meat Standards </a:t>
            </a:r>
            <a:br>
              <a:rPr sz="4400"/>
            </a:br>
            <a:r>
              <a:rPr b="0" i="1" lang="en-US" sz="4400" spc="-1" strike="noStrike">
                <a:solidFill>
                  <a:srgbClr val="ff9933"/>
                </a:solidFill>
                <a:latin typeface="Comic Sans MS"/>
              </a:rPr>
              <a:t>-Australia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3640" y="1708200"/>
            <a:ext cx="21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n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83400" y="5634000"/>
            <a:ext cx="2561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1080" y="2265480"/>
            <a:ext cx="5333760" cy="3200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3800" y="2173320"/>
            <a:ext cx="171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53400" y="2554200"/>
            <a:ext cx="430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utrition/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50320" y="3011400"/>
            <a:ext cx="325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Pre-slaughter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28200" y="3468600"/>
            <a:ext cx="340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Post-slaughter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81960" y="3925800"/>
            <a:ext cx="12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Ch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08560" y="4307040"/>
            <a:ext cx="392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ocessing/value 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9440" y="4800600"/>
            <a:ext cx="135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36120" y="2300400"/>
            <a:ext cx="5334120" cy="3200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860000">
            <a:off x="1207800" y="4116240"/>
            <a:ext cx="405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Consumer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817400">
            <a:off x="5672520" y="1981080"/>
            <a:ext cx="324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ritical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075520" y="6222960"/>
            <a:ext cx="1067040" cy="63036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5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3757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40" y="1905120"/>
            <a:ext cx="420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s of br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sses which sh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ximum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Bos indi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aracteristics which w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ualify for the &lt;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s indicus path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38498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5440" y="1905120"/>
            <a:ext cx="420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s of br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sses which sh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ximum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Bos indi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aracteristics which w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ualify for the &lt;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s indicus path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Cause of Breed effects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Likely a number of mechanism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Proteolytic enzymes (BI higher levels of calpastatin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Heat stability of connective tissu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Phospholipid content of cell membranes – affects “shortening’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HGP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mic Sans MS"/>
              </a:rPr>
              <a:t>Increase Feed efficiency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mic Sans MS"/>
              </a:rPr>
              <a:t>Increase Daily Gain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mic Sans MS"/>
              </a:rPr>
              <a:t>Increase Dark cutting 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mic Sans MS"/>
              </a:rPr>
              <a:t>Decrease Marbling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3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mic Sans MS"/>
              </a:rPr>
              <a:t>Oestrogenic implant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mic Sans MS"/>
              </a:rPr>
              <a:t>Androgenic implant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mic Sans MS"/>
              </a:rPr>
              <a:t>Combination of oestrogenic and adrogenic implants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066680" y="2057040"/>
            <a:ext cx="38124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6680" y="2361960"/>
            <a:ext cx="38124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143000" y="3047760"/>
            <a:ext cx="380880" cy="228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304920" cy="228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HGP’s:</a:t>
            </a:r>
            <a:br>
              <a:rPr sz="4400"/>
            </a:b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 Effect on palatabil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omestic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Korean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Jap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mp     Cont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Imp   Cont  Imp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Q4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9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3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8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 46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50   44 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8108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20040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41972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59092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259092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259092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GP effect (Revalor)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ut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5 days aged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21 days aged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GP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GP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triploin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1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53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58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3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Rump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56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3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2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5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Oys Bl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8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9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9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9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ade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55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54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0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61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63868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90512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20040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590920"/>
            <a:ext cx="2438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259092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A HGP Experiment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triploin Shear Force (kg)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AU" sz="3200" spc="-1" strike="noStrike">
                <a:solidFill>
                  <a:srgbClr val="008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ys aged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ifer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5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21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rol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.3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.2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GP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.6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teer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rol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.6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.0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GP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.0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.3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rowth path effect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CRC data shows faster growing cattle have more palatable mea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Individual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Group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rowth Path Analys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66688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5715000"/>
            <a:ext cx="6095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14600" y="3809880"/>
            <a:ext cx="228600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00600" y="3505320"/>
            <a:ext cx="236232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514600" y="5028840"/>
            <a:ext cx="2362320" cy="228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876920" y="3504960"/>
            <a:ext cx="3200400" cy="1523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46360" y="591336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65760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e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4800" y="2209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ckg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43400" y="22096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69600" y="14526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twee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rowth Path Analys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66688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5715000"/>
            <a:ext cx="6095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14600" y="3809880"/>
            <a:ext cx="2286000" cy="1447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800600" y="3505320"/>
            <a:ext cx="236232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14600" y="5028840"/>
            <a:ext cx="2362320" cy="228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46360" y="591336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65760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e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4800" y="2209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ckg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43400" y="22096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438280" y="3657600"/>
            <a:ext cx="2286000" cy="1447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4038480"/>
            <a:ext cx="228600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590920" y="3352680"/>
            <a:ext cx="2133360" cy="1905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24280" y="3048120"/>
            <a:ext cx="243864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657600"/>
            <a:ext cx="251460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952880" y="3276720"/>
            <a:ext cx="2286000" cy="761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90920" y="3657600"/>
            <a:ext cx="2286000" cy="1447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3962520"/>
            <a:ext cx="2362320" cy="1218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876920" y="3352320"/>
            <a:ext cx="243828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876920" y="2895480"/>
            <a:ext cx="2361960" cy="1067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76920" y="3504960"/>
            <a:ext cx="3200400" cy="1523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13880" y="14526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ithi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duction factor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ata has shown a significant production effect</a:t>
            </a: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 on quality and yield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, although the magnitude of the response vari</a:t>
            </a: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e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 processing variation high/production factors appear smal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relationship between growth rate during finishing and palatability in temperature and tropical breeds (CRC data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87328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triploin - MQ4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Individual GR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A small curvilinear effect (+ve) for ADG f in temperate and tropica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Effect was independent of age adjustment 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Mean GR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A small +ve effect for ADG b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Effect was removed when adjusted for 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438280"/>
            <a:ext cx="2971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438280"/>
            <a:ext cx="2971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Growth rate and objective measur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Striploin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Small improvement in SF and compression in temperate breeds as ADGf increased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No effect in tropical breed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Eyeround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ADGf effect stronger than for striploin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ADGb also affected compress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effect of growth path on shear force and protease activity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rowth rate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low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Fast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hear (kg)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6.9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5.9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*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alpastatin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1.6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2.3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**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u-calpain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0.38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0.69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***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m-calpain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0.73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0.66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n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U-cal/Calpas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0.24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0.30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Bass et al (1996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2514600"/>
            <a:ext cx="29718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981080"/>
            <a:ext cx="73915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5715000"/>
            <a:ext cx="73911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2971800"/>
            <a:ext cx="73915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ight adjusted for maturity (WA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20760" y="3549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17040" y="30751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rcass we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37480" y="37339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.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51040" y="3659040"/>
            <a:ext cx="2149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3124080"/>
            <a:ext cx="2985840" cy="91440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659040"/>
            <a:ext cx="6858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06640" y="336708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irth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419720"/>
            <a:ext cx="60958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52840" y="4749840"/>
            <a:ext cx="382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Age estim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o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Comic Sans MS"/>
              </a:rPr>
              <a:t>Est Growth rate</a:t>
            </a:r>
            <a:br>
              <a:rPr sz="4400"/>
            </a:br>
            <a:r>
              <a:rPr b="0" lang="en-AU" sz="2400" spc="-1" strike="noStrike">
                <a:solidFill>
                  <a:srgbClr val="ff0000"/>
                </a:solidFill>
                <a:latin typeface="Comic Sans MS"/>
              </a:rPr>
              <a:t>(only normally hung carcasses, aged 14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209680"/>
            <a:ext cx="8458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2000"/>
          </a:bodyPr>
          <a:p>
            <a:pPr lvl="1" marL="311760" indent="-119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SA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 Consumer  Consumer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riteria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   Fail%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ass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&lt;0.6 kg/day    33%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67%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&gt;0.6 kg/day    18%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82%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0"/>
          <a:ext cx="8510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8231400" y="64008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/12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00200" y="2133720"/>
            <a:ext cx="0" cy="304776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5181480"/>
            <a:ext cx="73915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360" y="29415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M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15160" y="53802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arcass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2666880"/>
            <a:ext cx="518184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05120" y="3428640"/>
            <a:ext cx="5638680" cy="6858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876920" y="4267080"/>
            <a:ext cx="3809880" cy="5335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2720" y="1676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5960" y="36576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1080" y="482760"/>
            <a:ext cx="823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owth path calculated by carc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eight nested within ossification sc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352680"/>
            <a:ext cx="518184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96760" y="2819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20440" y="43434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2895480"/>
            <a:ext cx="518184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3124080"/>
            <a:ext cx="518184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20047200">
            <a:off x="6476760" y="2209680"/>
            <a:ext cx="1404720" cy="273240"/>
          </a:xfrm>
          <a:prstGeom prst="leftArrow">
            <a:avLst>
              <a:gd name="adj1" fmla="val 50000"/>
              <a:gd name="adj2" fmla="val 128524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0805000">
            <a:off x="7000920" y="3165480"/>
            <a:ext cx="1100160" cy="228600"/>
          </a:xfrm>
          <a:prstGeom prst="leftArrow">
            <a:avLst>
              <a:gd name="adj1" fmla="val 50000"/>
              <a:gd name="adj2" fmla="val 120315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057400" y="3580920"/>
            <a:ext cx="5638680" cy="6858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09680" y="3733560"/>
            <a:ext cx="5639040" cy="6858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362320" y="3885840"/>
            <a:ext cx="5638680" cy="6858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14600" y="4038120"/>
            <a:ext cx="5638680" cy="6858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666880" y="4190760"/>
            <a:ext cx="5639040" cy="6858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Growth path effect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Connective tissue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Weight loss – more muscle lost than connective tissu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Fast growing animals may have less of the highly stable cross links in collage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Compensatory gain – newly synthesised collagen has less heat stable crosslink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Growth path effect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Proteolytic system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Both u-calpain and calpastatin greater in faster growing anim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But relatively more u-calpai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Could mean faster turnover of protein in faster growing anim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Also more ageing potential post slaughter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Environmental effect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Nutrition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Seasona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Managemen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Genetic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Within breed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Heritability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mic Sans MS"/>
              </a:rPr>
              <a:t>Palatability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mic Sans MS"/>
              </a:rPr>
              <a:t>Marbling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mic Sans MS"/>
              </a:rPr>
              <a:t>Yield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Between breed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mic Sans MS"/>
              </a:rPr>
              <a:t>Bos indicus effec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asture Vs Grain Finishing</a:t>
            </a:r>
            <a:br>
              <a:rPr sz="4400"/>
            </a:b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MQ4 scor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Location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asture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Grain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Northern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47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52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outhern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60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59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895480"/>
            <a:ext cx="784836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828800"/>
            <a:ext cx="784836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562720"/>
            <a:ext cx="784836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Fatty acid composi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Visual marbling dependent on amount of high melting point stearic (C18:0) acid 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Can have different marble scores even if fat content % is same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Saturated imf results in higher chiller marbling scores than does unsaturated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Fatty acid composi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Many studies indicate that grain fed cattle will have more saturated fat than grass fed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BU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This varies with grains used, stage of development of pasture etc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Fatty acid composi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No seasonal variation in visible marbling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Seasonal variation in temperature affects only subcutaneous fa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Comic Sans MS"/>
              </a:rPr>
              <a:t>Seasonal variation in pasture grasses may affect – but slight 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ange of heritabilities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(Dikeman 1994)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rait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ritability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exture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28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endernes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09 - 0.70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lavour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06 - 0.43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Juicines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06 - 0.24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971800"/>
            <a:ext cx="7086600" cy="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867280"/>
            <a:ext cx="7086600" cy="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086600" cy="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ay Centre Data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Animal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- 1594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ire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- 306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9 pure bred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ed Poll, Braunvieh, Hereford, Angus, Simmental, Limousin, Charolais, Gelbvieh, Pinzgauer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 composite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eedlot finished, 550 kg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eritabilitie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(pure and composites)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rait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ur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mposit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M fat%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36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75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hear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05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31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ens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enderness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12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51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Juiciness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06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70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Flavour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08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0.04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600200"/>
            <a:ext cx="7086600" cy="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590920"/>
            <a:ext cx="7086600" cy="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553080"/>
            <a:ext cx="7086600" cy="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CRC data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ropically adapted breed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Brahmans, Santas, Belmont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number of animals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- 949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number of sires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- 74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erate breed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ereford, Angus, Shorthorn, Murray Grey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number of animals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- 1322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number of sires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- 109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eritabilities CRC</a:t>
            </a:r>
            <a:br>
              <a:rPr sz="44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(Tropical and tempe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rait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ropical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em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M fat%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30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D Shear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30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D comp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16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T shear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44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T comp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17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600200"/>
            <a:ext cx="7086600" cy="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514600"/>
            <a:ext cx="7086600" cy="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6019920"/>
            <a:ext cx="7086600" cy="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05:45:04Z</dcterms:created>
  <dc:creator>Thompson</dc:creator>
  <dc:description/>
  <dc:language>en-US</dc:language>
  <cp:lastModifiedBy>Peter Sommerville</cp:lastModifiedBy>
  <dcterms:modified xsi:type="dcterms:W3CDTF">2010-06-01T06:58:13Z</dcterms:modified>
  <cp:revision>25</cp:revision>
  <dc:subject/>
  <dc:title>Production effects on palatability</dc:title>
</cp:coreProperties>
</file>