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1F0-B026-4F0B-97B4-6775369E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4E0-1E16-4B85-B7FC-3864BAE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026-7C8A-4069-BF08-DD2D09BD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44C-2DAC-4173-ADF2-3D85B64E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4D1-2080-4D24-BAE4-DD4C0681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1D2-F464-4A80-94FA-DBB3E1B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60A-72B3-44C4-B2E8-D1BC39C4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4A5-D1F5-411C-BB21-E415FB83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BF4-F2C8-4CD4-A884-F44E5BC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051-5D30-468C-8D65-78D7A697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768-79A9-448B-809E-BC35A79D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3F8-C09C-4EDB-B0C6-33CBF184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480A-44C1-4BD5-B185-750102369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y biochemist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y acid 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har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onogas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pase hydrolyses triglyce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forms two free fatty acids and a monoglyceride (soluble in bile salts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fatty acids and monoglyceride +  bile salts form a mic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celle which passes across the intestinal wall into bloodstream. The triglyceride is then resynthes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pase hydrolyses dietary 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saturated fatty acids hydrogenated (saturated) by rumen microflo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g.  C18:1, C18:2, C18:3 to C18:0, C18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drogenation never complete, so left with some unsaturated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 novo synthesis by rumen micro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ongation of dietary fatty acids is the main mode of sy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y build more odd chain length fatty acids than that formed by plants an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Con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sorbed fatty acids don’t resemble those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igestion of lipids in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13868" t="10005" r="9321" b="2504"/>
          <a:stretch/>
        </p:blipFill>
        <p:spPr>
          <a:xfrm>
            <a:off x="838080" y="1295280"/>
            <a:ext cx="2133720" cy="1463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048120" y="1295280"/>
            <a:ext cx="1371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Pasture high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C18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C18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C18: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3886200"/>
            <a:ext cx="2057400" cy="236232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4635360"/>
            <a:ext cx="1905120" cy="330480"/>
          </a:xfrm>
          <a:custGeom>
            <a:avLst/>
            <a:gdLst/>
            <a:ahLst/>
            <a:rect l="l" t="t" r="r" b="b"/>
            <a:pathLst>
              <a:path w="1200" h="208">
                <a:moveTo>
                  <a:pt x="0" y="152"/>
                </a:moveTo>
                <a:cubicBezTo>
                  <a:pt x="92" y="76"/>
                  <a:pt x="184" y="0"/>
                  <a:pt x="240" y="8"/>
                </a:cubicBezTo>
                <a:cubicBezTo>
                  <a:pt x="296" y="16"/>
                  <a:pt x="288" y="192"/>
                  <a:pt x="336" y="200"/>
                </a:cubicBezTo>
                <a:cubicBezTo>
                  <a:pt x="384" y="208"/>
                  <a:pt x="464" y="56"/>
                  <a:pt x="528" y="56"/>
                </a:cubicBezTo>
                <a:cubicBezTo>
                  <a:pt x="592" y="56"/>
                  <a:pt x="656" y="200"/>
                  <a:pt x="720" y="200"/>
                </a:cubicBezTo>
                <a:cubicBezTo>
                  <a:pt x="784" y="200"/>
                  <a:pt x="864" y="56"/>
                  <a:pt x="912" y="56"/>
                </a:cubicBezTo>
                <a:cubicBezTo>
                  <a:pt x="960" y="56"/>
                  <a:pt x="960" y="200"/>
                  <a:pt x="1008" y="200"/>
                </a:cubicBezTo>
                <a:cubicBezTo>
                  <a:pt x="1056" y="200"/>
                  <a:pt x="1168" y="80"/>
                  <a:pt x="1200" y="56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590920" y="3733920"/>
            <a:ext cx="304560" cy="4572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742840" y="3886200"/>
            <a:ext cx="304920" cy="4572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6019920"/>
            <a:ext cx="380880" cy="2286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6172200"/>
            <a:ext cx="380880" cy="2286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49528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43000" y="5181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54100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19320" y="56386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586728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5029200"/>
            <a:ext cx="1218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Rumen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76520" y="60958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266688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43434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Bacteria cause hydrogenation of unsaturated f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583884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Digesta high in C16:0, C18:0 and C18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8054600">
            <a:off x="2742840" y="58669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486400" y="3962520"/>
            <a:ext cx="1219320" cy="2514600"/>
            <a:chOff x="5486400" y="3962520"/>
            <a:chExt cx="1219320" cy="2514600"/>
          </a:xfrm>
        </p:grpSpPr>
        <p:sp>
          <p:nvSpPr>
            <p:cNvPr id="481" name=""/>
            <p:cNvSpPr/>
            <p:nvPr/>
          </p:nvSpPr>
          <p:spPr>
            <a:xfrm>
              <a:off x="5486400" y="3962520"/>
              <a:ext cx="876600" cy="2514600"/>
            </a:xfrm>
            <a:custGeom>
              <a:avLst/>
              <a:gdLst/>
              <a:ahLst/>
              <a:rect l="l" t="t" r="r" b="b"/>
              <a:pathLst>
                <a:path w="552" h="1584">
                  <a:moveTo>
                    <a:pt x="240" y="0"/>
                  </a:moveTo>
                  <a:cubicBezTo>
                    <a:pt x="336" y="56"/>
                    <a:pt x="432" y="112"/>
                    <a:pt x="480" y="192"/>
                  </a:cubicBezTo>
                  <a:cubicBezTo>
                    <a:pt x="528" y="272"/>
                    <a:pt x="552" y="384"/>
                    <a:pt x="528" y="480"/>
                  </a:cubicBezTo>
                  <a:cubicBezTo>
                    <a:pt x="504" y="576"/>
                    <a:pt x="416" y="672"/>
                    <a:pt x="336" y="768"/>
                  </a:cubicBezTo>
                  <a:cubicBezTo>
                    <a:pt x="256" y="864"/>
                    <a:pt x="96" y="952"/>
                    <a:pt x="48" y="1056"/>
                  </a:cubicBezTo>
                  <a:cubicBezTo>
                    <a:pt x="0" y="1160"/>
                    <a:pt x="16" y="1304"/>
                    <a:pt x="48" y="1392"/>
                  </a:cubicBezTo>
                  <a:cubicBezTo>
                    <a:pt x="80" y="1480"/>
                    <a:pt x="160" y="1532"/>
                    <a:pt x="240" y="1584"/>
                  </a:cubicBezTo>
                </a:path>
              </a:pathLst>
            </a:custGeom>
            <a:noFill/>
            <a:ln w="7632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29480" y="3962520"/>
              <a:ext cx="876240" cy="2514600"/>
            </a:xfrm>
            <a:custGeom>
              <a:avLst/>
              <a:gdLst/>
              <a:ahLst/>
              <a:rect l="l" t="t" r="r" b="b"/>
              <a:pathLst>
                <a:path w="552" h="1584">
                  <a:moveTo>
                    <a:pt x="240" y="0"/>
                  </a:moveTo>
                  <a:cubicBezTo>
                    <a:pt x="336" y="56"/>
                    <a:pt x="432" y="112"/>
                    <a:pt x="480" y="192"/>
                  </a:cubicBezTo>
                  <a:cubicBezTo>
                    <a:pt x="528" y="272"/>
                    <a:pt x="552" y="384"/>
                    <a:pt x="528" y="480"/>
                  </a:cubicBezTo>
                  <a:cubicBezTo>
                    <a:pt x="504" y="576"/>
                    <a:pt x="416" y="672"/>
                    <a:pt x="336" y="768"/>
                  </a:cubicBezTo>
                  <a:cubicBezTo>
                    <a:pt x="256" y="864"/>
                    <a:pt x="96" y="952"/>
                    <a:pt x="48" y="1056"/>
                  </a:cubicBezTo>
                  <a:cubicBezTo>
                    <a:pt x="0" y="1160"/>
                    <a:pt x="16" y="1304"/>
                    <a:pt x="48" y="1392"/>
                  </a:cubicBezTo>
                  <a:cubicBezTo>
                    <a:pt x="80" y="1480"/>
                    <a:pt x="160" y="1532"/>
                    <a:pt x="240" y="1584"/>
                  </a:cubicBezTo>
                </a:path>
              </a:pathLst>
            </a:custGeom>
            <a:noFill/>
            <a:ln w="7632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976720" y="54100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Comic Sans MS"/>
              </a:rPr>
              <a:t>Pla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9388400">
            <a:off x="3886200" y="4189320"/>
            <a:ext cx="3124080" cy="68580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34320" y="4343400"/>
            <a:ext cx="198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Comic Sans MS"/>
              </a:rPr>
              <a:t>Absorption from the small intestine into the plasma.  The largest proportion is C18:0 (40%), followed by C16:0 and C18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64832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0"/>
                </a:moveTo>
                <a:cubicBezTo>
                  <a:pt x="132" y="72"/>
                  <a:pt x="120" y="144"/>
                  <a:pt x="96" y="192"/>
                </a:cubicBezTo>
                <a:cubicBezTo>
                  <a:pt x="72" y="240"/>
                  <a:pt x="36" y="264"/>
                  <a:pt x="0" y="288"/>
                </a:cubicBez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1900080" cy="129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029200" y="1447920"/>
            <a:ext cx="1676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Times New Roman"/>
              </a:rPr>
              <a:t>In the adipocyte, desaturation, synthesis and elongation leads to C18:0, C16:0 and C18:3 being depos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4876920"/>
            <a:ext cx="2782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2480" y="4419720"/>
            <a:ext cx="2782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0440" y="4267080"/>
            <a:ext cx="144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0840" y="44496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4120" y="4724280"/>
            <a:ext cx="180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12360" y="45720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0720" y="5259240"/>
            <a:ext cx="115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6400" y="4724280"/>
            <a:ext cx="180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55160" y="502776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640" y="5181480"/>
            <a:ext cx="180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71280" y="49068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480" y="6324480"/>
            <a:ext cx="2782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12480" y="5867280"/>
            <a:ext cx="2782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0440" y="5714280"/>
            <a:ext cx="144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0840" y="58975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5760" y="6171480"/>
            <a:ext cx="144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12360" y="60199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55160" y="6474600"/>
            <a:ext cx="152280" cy="1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8640" y="6628680"/>
            <a:ext cx="180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52280" y="6019920"/>
            <a:ext cx="15264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74520" y="58672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74520" y="63244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0840" y="63244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09480" y="6474600"/>
            <a:ext cx="152640" cy="1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0800000">
            <a:off x="7848720" y="2514600"/>
            <a:ext cx="380880" cy="1752480"/>
          </a:xfrm>
          <a:custGeom>
            <a:avLst/>
            <a:gdLst>
              <a:gd name="textAreaLeft" fmla="*/ 50760 w 380880"/>
              <a:gd name="textAreaRight" fmla="*/ 330120 w 3808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3824600">
            <a:off x="6134040" y="560016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0"/>
                </a:moveTo>
                <a:cubicBezTo>
                  <a:pt x="132" y="72"/>
                  <a:pt x="120" y="144"/>
                  <a:pt x="96" y="192"/>
                </a:cubicBezTo>
                <a:cubicBezTo>
                  <a:pt x="72" y="240"/>
                  <a:pt x="36" y="264"/>
                  <a:pt x="0" y="288"/>
                </a:cubicBez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21320" y="3854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mic Sans MS"/>
              </a:rPr>
              <a:t>Hydrog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2022600">
            <a:off x="2437920" y="40384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 novo synthesis in adipos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acetate in ruminants, glucose i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ynthase – forms C16:0 (palmi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5-50% of de novo C16:0 is elong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longase – adds 2 carbon atoms to from C18:0 (stea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0-75% C:18:0 is desatu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saturase – desaturates C18:0 at 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C atom to form C18:1c9 (ole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18:0 desaturated in preference to C16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urther elongation an desaturation not possible because don’t have necessary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actors affecting melting point of 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Un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ha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Odd vs even cha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osition on the glycol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elting points of fatty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1600" y="1922400"/>
            <a:ext cx="7631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mon Name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ercentage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Mel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n beef fat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Myrist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4:0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2-4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53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lmit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6:0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23-27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63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lmitole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6:1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-18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0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ear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8:0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4-30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70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Ole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8:1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38-45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6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inole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8:2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-2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-9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inolen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18:3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-11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rachid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20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rachidonic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C20:4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656800" y="380880"/>
            <a:ext cx="31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Factors Effecting Fatty acid Com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600200" y="609480"/>
            <a:ext cx="5409360" cy="6114600"/>
            <a:chOff x="1600200" y="609480"/>
            <a:chExt cx="5409360" cy="6114600"/>
          </a:xfrm>
        </p:grpSpPr>
        <p:grpSp>
          <p:nvGrpSpPr>
            <p:cNvPr id="525" name=""/>
            <p:cNvGrpSpPr/>
            <p:nvPr/>
          </p:nvGrpSpPr>
          <p:grpSpPr>
            <a:xfrm>
              <a:off x="4317480" y="1700640"/>
              <a:ext cx="1918080" cy="1989720"/>
              <a:chOff x="4317480" y="1700640"/>
              <a:chExt cx="1918080" cy="1989720"/>
            </a:xfrm>
          </p:grpSpPr>
          <p:sp>
            <p:nvSpPr>
              <p:cNvPr id="526" name=""/>
              <p:cNvSpPr/>
              <p:nvPr/>
            </p:nvSpPr>
            <p:spPr>
              <a:xfrm flipH="1">
                <a:off x="4381920" y="1700640"/>
                <a:ext cx="1853640" cy="19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17480" y="3585240"/>
                <a:ext cx="101160" cy="10512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44" y="0"/>
                    </a:moveTo>
                    <a:lnTo>
                      <a:pt x="0" y="132"/>
                    </a:lnTo>
                    <a:lnTo>
                      <a:pt x="133" y="8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491360" y="2284920"/>
              <a:ext cx="1744560" cy="1446480"/>
              <a:chOff x="4491360" y="2284920"/>
              <a:chExt cx="1744560" cy="144648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4563360" y="2284920"/>
                <a:ext cx="167256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91360" y="3630960"/>
                <a:ext cx="104400" cy="100440"/>
              </a:xfrm>
              <a:custGeom>
                <a:avLst/>
                <a:gdLst/>
                <a:ahLst/>
                <a:rect l="l" t="t" r="r" b="b"/>
                <a:pathLst>
                  <a:path w="136" h="127">
                    <a:moveTo>
                      <a:pt x="57" y="0"/>
                    </a:moveTo>
                    <a:lnTo>
                      <a:pt x="0" y="127"/>
                    </a:lnTo>
                    <a:lnTo>
                      <a:pt x="136" y="9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2241720" y="609480"/>
              <a:ext cx="33512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00200" y="1499400"/>
              <a:ext cx="531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27920" y="15699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Br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76880" y="904680"/>
              <a:ext cx="1800" cy="15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4000" y="1004400"/>
              <a:ext cx="885600" cy="27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70600" y="108504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Gene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5880" y="1497960"/>
              <a:ext cx="885600" cy="27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25040" y="1568160"/>
              <a:ext cx="73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Within Br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76920" y="1006200"/>
              <a:ext cx="13284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78000" y="1078560"/>
              <a:ext cx="81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Environmen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19080" y="1399680"/>
              <a:ext cx="53316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53280" y="146520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Days 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2120" y="1630080"/>
              <a:ext cx="29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gr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89480" y="1399680"/>
              <a:ext cx="53136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10000" y="146520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D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22960" y="16300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Den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64920" y="1399680"/>
              <a:ext cx="621360" cy="36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01640" y="1465200"/>
              <a:ext cx="52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Prot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75000" y="1623600"/>
              <a:ext cx="19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fa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9480" y="1308960"/>
              <a:ext cx="62136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30080" y="1374120"/>
              <a:ext cx="47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Seas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3320" y="1532160"/>
              <a:ext cx="52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Vari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66520" y="1894680"/>
              <a:ext cx="355680" cy="2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02160" y="1965240"/>
              <a:ext cx="21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3901320" y="1879560"/>
              <a:ext cx="627840" cy="1100880"/>
              <a:chOff x="3901320" y="1879560"/>
              <a:chExt cx="627840" cy="1100880"/>
            </a:xfrm>
          </p:grpSpPr>
          <p:sp>
            <p:nvSpPr>
              <p:cNvPr id="556" name=""/>
              <p:cNvSpPr/>
              <p:nvPr/>
            </p:nvSpPr>
            <p:spPr>
              <a:xfrm>
                <a:off x="3901320" y="1879560"/>
                <a:ext cx="27360" cy="28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11"/>
                    </a:moveTo>
                    <a:lnTo>
                      <a:pt x="30" y="3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9" y="34"/>
                    </a:lnTo>
                    <a:lnTo>
                      <a:pt x="17" y="34"/>
                    </a:lnTo>
                    <a:lnTo>
                      <a:pt x="25" y="34"/>
                    </a:lnTo>
                    <a:lnTo>
                      <a:pt x="30" y="30"/>
                    </a:lnTo>
                    <a:lnTo>
                      <a:pt x="34" y="24"/>
                    </a:lnTo>
                    <a:lnTo>
                      <a:pt x="34" y="17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30480" y="192852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5" y="11"/>
                    </a:moveTo>
                    <a:lnTo>
                      <a:pt x="31" y="6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6" y="31"/>
                    </a:lnTo>
                    <a:lnTo>
                      <a:pt x="12" y="36"/>
                    </a:lnTo>
                    <a:lnTo>
                      <a:pt x="17" y="36"/>
                    </a:lnTo>
                    <a:lnTo>
                      <a:pt x="25" y="36"/>
                    </a:lnTo>
                    <a:lnTo>
                      <a:pt x="31" y="31"/>
                    </a:lnTo>
                    <a:lnTo>
                      <a:pt x="35" y="25"/>
                    </a:lnTo>
                    <a:lnTo>
                      <a:pt x="37" y="19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957840" y="1980000"/>
                <a:ext cx="27360" cy="2844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6" y="12"/>
                    </a:moveTo>
                    <a:lnTo>
                      <a:pt x="30" y="6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31"/>
                    </a:lnTo>
                    <a:lnTo>
                      <a:pt x="11" y="35"/>
                    </a:lnTo>
                    <a:lnTo>
                      <a:pt x="19" y="37"/>
                    </a:lnTo>
                    <a:lnTo>
                      <a:pt x="25" y="35"/>
                    </a:lnTo>
                    <a:lnTo>
                      <a:pt x="30" y="31"/>
                    </a:lnTo>
                    <a:lnTo>
                      <a:pt x="34" y="25"/>
                    </a:lnTo>
                    <a:lnTo>
                      <a:pt x="36" y="19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85560" y="2029320"/>
                <a:ext cx="27720" cy="2880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12"/>
                    </a:moveTo>
                    <a:lnTo>
                      <a:pt x="33" y="6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1"/>
                    </a:lnTo>
                    <a:lnTo>
                      <a:pt x="12" y="35"/>
                    </a:lnTo>
                    <a:lnTo>
                      <a:pt x="19" y="37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7" y="25"/>
                    </a:lnTo>
                    <a:lnTo>
                      <a:pt x="37" y="18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14720" y="2080440"/>
                <a:ext cx="27720" cy="288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5" y="11"/>
                    </a:moveTo>
                    <a:lnTo>
                      <a:pt x="31" y="4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30"/>
                    </a:lnTo>
                    <a:lnTo>
                      <a:pt x="10" y="34"/>
                    </a:lnTo>
                    <a:lnTo>
                      <a:pt x="18" y="36"/>
                    </a:lnTo>
                    <a:lnTo>
                      <a:pt x="25" y="34"/>
                    </a:lnTo>
                    <a:lnTo>
                      <a:pt x="31" y="30"/>
                    </a:lnTo>
                    <a:lnTo>
                      <a:pt x="35" y="25"/>
                    </a:lnTo>
                    <a:lnTo>
                      <a:pt x="37" y="17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42440" y="21297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4" y="12"/>
                    </a:moveTo>
                    <a:lnTo>
                      <a:pt x="31" y="6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6" y="31"/>
                    </a:lnTo>
                    <a:lnTo>
                      <a:pt x="11" y="37"/>
                    </a:lnTo>
                    <a:lnTo>
                      <a:pt x="17" y="37"/>
                    </a:lnTo>
                    <a:lnTo>
                      <a:pt x="25" y="37"/>
                    </a:lnTo>
                    <a:lnTo>
                      <a:pt x="31" y="31"/>
                    </a:lnTo>
                    <a:lnTo>
                      <a:pt x="34" y="25"/>
                    </a:lnTo>
                    <a:lnTo>
                      <a:pt x="36" y="19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71600" y="2179440"/>
                <a:ext cx="27720" cy="284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12"/>
                    </a:moveTo>
                    <a:lnTo>
                      <a:pt x="31" y="6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1"/>
                    </a:lnTo>
                    <a:lnTo>
                      <a:pt x="12" y="35"/>
                    </a:lnTo>
                    <a:lnTo>
                      <a:pt x="19" y="37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5" y="25"/>
                    </a:lnTo>
                    <a:lnTo>
                      <a:pt x="37" y="20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99320" y="2230560"/>
                <a:ext cx="27360" cy="284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11"/>
                    </a:moveTo>
                    <a:lnTo>
                      <a:pt x="32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0"/>
                    </a:lnTo>
                    <a:lnTo>
                      <a:pt x="11" y="34"/>
                    </a:lnTo>
                    <a:lnTo>
                      <a:pt x="19" y="36"/>
                    </a:lnTo>
                    <a:lnTo>
                      <a:pt x="27" y="34"/>
                    </a:lnTo>
                    <a:lnTo>
                      <a:pt x="32" y="30"/>
                    </a:lnTo>
                    <a:lnTo>
                      <a:pt x="36" y="25"/>
                    </a:lnTo>
                    <a:lnTo>
                      <a:pt x="36" y="17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128480" y="2281680"/>
                <a:ext cx="27720" cy="284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5" y="12"/>
                    </a:moveTo>
                    <a:lnTo>
                      <a:pt x="31" y="4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31"/>
                    </a:lnTo>
                    <a:lnTo>
                      <a:pt x="10" y="35"/>
                    </a:lnTo>
                    <a:lnTo>
                      <a:pt x="17" y="36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5" y="25"/>
                    </a:lnTo>
                    <a:lnTo>
                      <a:pt x="37" y="17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56200" y="2329200"/>
                <a:ext cx="29160" cy="2880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4" y="12"/>
                    </a:moveTo>
                    <a:lnTo>
                      <a:pt x="30" y="6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31"/>
                    </a:lnTo>
                    <a:lnTo>
                      <a:pt x="11" y="37"/>
                    </a:lnTo>
                    <a:lnTo>
                      <a:pt x="17" y="37"/>
                    </a:lnTo>
                    <a:lnTo>
                      <a:pt x="25" y="37"/>
                    </a:lnTo>
                    <a:lnTo>
                      <a:pt x="30" y="31"/>
                    </a:lnTo>
                    <a:lnTo>
                      <a:pt x="34" y="25"/>
                    </a:lnTo>
                    <a:lnTo>
                      <a:pt x="36" y="20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85360" y="238032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11"/>
                    </a:moveTo>
                    <a:lnTo>
                      <a:pt x="31" y="5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0"/>
                    </a:lnTo>
                    <a:lnTo>
                      <a:pt x="12" y="34"/>
                    </a:lnTo>
                    <a:lnTo>
                      <a:pt x="19" y="36"/>
                    </a:lnTo>
                    <a:lnTo>
                      <a:pt x="25" y="34"/>
                    </a:lnTo>
                    <a:lnTo>
                      <a:pt x="31" y="30"/>
                    </a:lnTo>
                    <a:lnTo>
                      <a:pt x="35" y="25"/>
                    </a:lnTo>
                    <a:lnTo>
                      <a:pt x="36" y="19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13080" y="243144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12"/>
                    </a:moveTo>
                    <a:lnTo>
                      <a:pt x="33" y="6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1"/>
                    </a:lnTo>
                    <a:lnTo>
                      <a:pt x="12" y="35"/>
                    </a:lnTo>
                    <a:lnTo>
                      <a:pt x="20" y="36"/>
                    </a:lnTo>
                    <a:lnTo>
                      <a:pt x="27" y="35"/>
                    </a:lnTo>
                    <a:lnTo>
                      <a:pt x="33" y="31"/>
                    </a:lnTo>
                    <a:lnTo>
                      <a:pt x="37" y="25"/>
                    </a:lnTo>
                    <a:lnTo>
                      <a:pt x="37" y="17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42240" y="248112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4" y="12"/>
                    </a:moveTo>
                    <a:lnTo>
                      <a:pt x="31" y="4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31"/>
                    </a:lnTo>
                    <a:lnTo>
                      <a:pt x="11" y="35"/>
                    </a:lnTo>
                    <a:lnTo>
                      <a:pt x="17" y="37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4" y="25"/>
                    </a:lnTo>
                    <a:lnTo>
                      <a:pt x="36" y="18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269600" y="2530800"/>
                <a:ext cx="27720" cy="284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5" y="11"/>
                    </a:moveTo>
                    <a:lnTo>
                      <a:pt x="31" y="5"/>
                    </a:lnTo>
                    <a:lnTo>
                      <a:pt x="25" y="2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6" y="30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31" y="30"/>
                    </a:lnTo>
                    <a:lnTo>
                      <a:pt x="35" y="25"/>
                    </a:lnTo>
                    <a:lnTo>
                      <a:pt x="37" y="19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97680" y="258012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12"/>
                    </a:moveTo>
                    <a:lnTo>
                      <a:pt x="30" y="6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31"/>
                    </a:lnTo>
                    <a:lnTo>
                      <a:pt x="11" y="35"/>
                    </a:lnTo>
                    <a:lnTo>
                      <a:pt x="19" y="36"/>
                    </a:lnTo>
                    <a:lnTo>
                      <a:pt x="25" y="35"/>
                    </a:lnTo>
                    <a:lnTo>
                      <a:pt x="30" y="31"/>
                    </a:lnTo>
                    <a:lnTo>
                      <a:pt x="34" y="25"/>
                    </a:lnTo>
                    <a:lnTo>
                      <a:pt x="36" y="19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328280" y="2631240"/>
                <a:ext cx="27360" cy="284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5" y="12"/>
                    </a:moveTo>
                    <a:lnTo>
                      <a:pt x="31" y="6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31"/>
                    </a:lnTo>
                    <a:lnTo>
                      <a:pt x="10" y="35"/>
                    </a:lnTo>
                    <a:lnTo>
                      <a:pt x="17" y="37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5" y="25"/>
                    </a:lnTo>
                    <a:lnTo>
                      <a:pt x="37" y="18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356000" y="2682360"/>
                <a:ext cx="27360" cy="284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4" y="11"/>
                    </a:moveTo>
                    <a:lnTo>
                      <a:pt x="30" y="3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5" y="3"/>
                    </a:lnTo>
                    <a:lnTo>
                      <a:pt x="1" y="9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30"/>
                    </a:lnTo>
                    <a:lnTo>
                      <a:pt x="11" y="34"/>
                    </a:lnTo>
                    <a:lnTo>
                      <a:pt x="17" y="36"/>
                    </a:lnTo>
                    <a:lnTo>
                      <a:pt x="24" y="34"/>
                    </a:lnTo>
                    <a:lnTo>
                      <a:pt x="30" y="30"/>
                    </a:lnTo>
                    <a:lnTo>
                      <a:pt x="34" y="25"/>
                    </a:lnTo>
                    <a:lnTo>
                      <a:pt x="36" y="17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383360" y="2730240"/>
                <a:ext cx="27720" cy="3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11"/>
                    </a:moveTo>
                    <a:lnTo>
                      <a:pt x="31" y="6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1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3"/>
                    </a:lnTo>
                    <a:lnTo>
                      <a:pt x="11" y="36"/>
                    </a:lnTo>
                    <a:lnTo>
                      <a:pt x="19" y="36"/>
                    </a:lnTo>
                    <a:lnTo>
                      <a:pt x="25" y="36"/>
                    </a:lnTo>
                    <a:lnTo>
                      <a:pt x="31" y="33"/>
                    </a:lnTo>
                    <a:lnTo>
                      <a:pt x="34" y="27"/>
                    </a:lnTo>
                    <a:lnTo>
                      <a:pt x="36" y="19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1080" y="278100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12"/>
                    </a:moveTo>
                    <a:lnTo>
                      <a:pt x="33" y="6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6" y="31"/>
                    </a:lnTo>
                    <a:lnTo>
                      <a:pt x="12" y="35"/>
                    </a:lnTo>
                    <a:lnTo>
                      <a:pt x="20" y="37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7" y="25"/>
                    </a:lnTo>
                    <a:lnTo>
                      <a:pt x="37" y="19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440600" y="28321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4" y="11"/>
                    </a:moveTo>
                    <a:lnTo>
                      <a:pt x="30" y="5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4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5" y="34"/>
                    </a:lnTo>
                    <a:lnTo>
                      <a:pt x="30" y="30"/>
                    </a:lnTo>
                    <a:lnTo>
                      <a:pt x="34" y="24"/>
                    </a:lnTo>
                    <a:lnTo>
                      <a:pt x="36" y="17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95960" y="2816280"/>
                <a:ext cx="133200" cy="164160"/>
              </a:xfrm>
              <a:custGeom>
                <a:avLst/>
                <a:gdLst/>
                <a:ahLst/>
                <a:rect l="l" t="t" r="r" b="b"/>
                <a:pathLst>
                  <a:path w="175" h="206">
                    <a:moveTo>
                      <a:pt x="0" y="94"/>
                    </a:moveTo>
                    <a:lnTo>
                      <a:pt x="175" y="206"/>
                    </a:lnTo>
                    <a:lnTo>
                      <a:pt x="161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577840" y="1879560"/>
              <a:ext cx="335520" cy="1100880"/>
              <a:chOff x="5577840" y="1879560"/>
              <a:chExt cx="335520" cy="1100880"/>
            </a:xfrm>
          </p:grpSpPr>
          <p:sp>
            <p:nvSpPr>
              <p:cNvPr id="578" name=""/>
              <p:cNvSpPr/>
              <p:nvPr/>
            </p:nvSpPr>
            <p:spPr>
              <a:xfrm>
                <a:off x="5577840" y="1879560"/>
                <a:ext cx="32400" cy="331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0" y="13"/>
                    </a:moveTo>
                    <a:lnTo>
                      <a:pt x="36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6" y="5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3" y="40"/>
                    </a:lnTo>
                    <a:lnTo>
                      <a:pt x="21" y="42"/>
                    </a:lnTo>
                    <a:lnTo>
                      <a:pt x="29" y="40"/>
                    </a:lnTo>
                    <a:lnTo>
                      <a:pt x="36" y="36"/>
                    </a:lnTo>
                    <a:lnTo>
                      <a:pt x="40" y="28"/>
                    </a:lnTo>
                    <a:lnTo>
                      <a:pt x="42" y="21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592960" y="194472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0" y="11"/>
                    </a:moveTo>
                    <a:lnTo>
                      <a:pt x="36" y="6"/>
                    </a:lnTo>
                    <a:lnTo>
                      <a:pt x="31" y="2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8" y="6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8" y="36"/>
                    </a:lnTo>
                    <a:lnTo>
                      <a:pt x="13" y="40"/>
                    </a:lnTo>
                    <a:lnTo>
                      <a:pt x="21" y="42"/>
                    </a:lnTo>
                    <a:lnTo>
                      <a:pt x="31" y="40"/>
                    </a:lnTo>
                    <a:lnTo>
                      <a:pt x="36" y="36"/>
                    </a:lnTo>
                    <a:lnTo>
                      <a:pt x="42" y="29"/>
                    </a:lnTo>
                    <a:lnTo>
                      <a:pt x="42" y="21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608800" y="2012040"/>
                <a:ext cx="32040" cy="331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0" y="12"/>
                    </a:moveTo>
                    <a:lnTo>
                      <a:pt x="3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6" y="35"/>
                    </a:lnTo>
                    <a:lnTo>
                      <a:pt x="12" y="41"/>
                    </a:lnTo>
                    <a:lnTo>
                      <a:pt x="21" y="43"/>
                    </a:lnTo>
                    <a:lnTo>
                      <a:pt x="29" y="41"/>
                    </a:lnTo>
                    <a:lnTo>
                      <a:pt x="37" y="35"/>
                    </a:lnTo>
                    <a:lnTo>
                      <a:pt x="40" y="29"/>
                    </a:lnTo>
                    <a:lnTo>
                      <a:pt x="42" y="22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623920" y="207576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1" y="13"/>
                    </a:moveTo>
                    <a:lnTo>
                      <a:pt x="37" y="8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6" y="36"/>
                    </a:lnTo>
                    <a:lnTo>
                      <a:pt x="14" y="40"/>
                    </a:lnTo>
                    <a:lnTo>
                      <a:pt x="21" y="42"/>
                    </a:lnTo>
                    <a:lnTo>
                      <a:pt x="29" y="40"/>
                    </a:lnTo>
                    <a:lnTo>
                      <a:pt x="37" y="36"/>
                    </a:lnTo>
                    <a:lnTo>
                      <a:pt x="41" y="31"/>
                    </a:lnTo>
                    <a:lnTo>
                      <a:pt x="42" y="21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37600" y="2141280"/>
                <a:ext cx="32400" cy="3312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1" y="13"/>
                    </a:moveTo>
                    <a:lnTo>
                      <a:pt x="37" y="5"/>
                    </a:lnTo>
                    <a:lnTo>
                      <a:pt x="31" y="1"/>
                    </a:lnTo>
                    <a:lnTo>
                      <a:pt x="22" y="0"/>
                    </a:lnTo>
                    <a:lnTo>
                      <a:pt x="14" y="1"/>
                    </a:lnTo>
                    <a:lnTo>
                      <a:pt x="8" y="5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8" y="36"/>
                    </a:lnTo>
                    <a:lnTo>
                      <a:pt x="14" y="40"/>
                    </a:lnTo>
                    <a:lnTo>
                      <a:pt x="22" y="42"/>
                    </a:lnTo>
                    <a:lnTo>
                      <a:pt x="31" y="40"/>
                    </a:lnTo>
                    <a:lnTo>
                      <a:pt x="37" y="36"/>
                    </a:lnTo>
                    <a:lnTo>
                      <a:pt x="43" y="28"/>
                    </a:lnTo>
                    <a:lnTo>
                      <a:pt x="43" y="21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54880" y="220680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0" y="11"/>
                    </a:moveTo>
                    <a:lnTo>
                      <a:pt x="36" y="6"/>
                    </a:lnTo>
                    <a:lnTo>
                      <a:pt x="28" y="2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5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5" y="36"/>
                    </a:lnTo>
                    <a:lnTo>
                      <a:pt x="13" y="40"/>
                    </a:lnTo>
                    <a:lnTo>
                      <a:pt x="21" y="42"/>
                    </a:lnTo>
                    <a:lnTo>
                      <a:pt x="28" y="40"/>
                    </a:lnTo>
                    <a:lnTo>
                      <a:pt x="36" y="36"/>
                    </a:lnTo>
                    <a:lnTo>
                      <a:pt x="40" y="29"/>
                    </a:lnTo>
                    <a:lnTo>
                      <a:pt x="42" y="21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68560" y="2273760"/>
                <a:ext cx="32400" cy="331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0" y="12"/>
                    </a:moveTo>
                    <a:lnTo>
                      <a:pt x="36" y="6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6" y="35"/>
                    </a:lnTo>
                    <a:lnTo>
                      <a:pt x="13" y="41"/>
                    </a:lnTo>
                    <a:lnTo>
                      <a:pt x="21" y="43"/>
                    </a:lnTo>
                    <a:lnTo>
                      <a:pt x="30" y="41"/>
                    </a:lnTo>
                    <a:lnTo>
                      <a:pt x="36" y="35"/>
                    </a:lnTo>
                    <a:lnTo>
                      <a:pt x="40" y="29"/>
                    </a:lnTo>
                    <a:lnTo>
                      <a:pt x="42" y="22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685480" y="233748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0" y="13"/>
                    </a:moveTo>
                    <a:lnTo>
                      <a:pt x="34" y="8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6" y="36"/>
                    </a:lnTo>
                    <a:lnTo>
                      <a:pt x="11" y="40"/>
                    </a:lnTo>
                    <a:lnTo>
                      <a:pt x="21" y="42"/>
                    </a:lnTo>
                    <a:lnTo>
                      <a:pt x="29" y="40"/>
                    </a:lnTo>
                    <a:lnTo>
                      <a:pt x="34" y="36"/>
                    </a:lnTo>
                    <a:lnTo>
                      <a:pt x="40" y="31"/>
                    </a:lnTo>
                    <a:lnTo>
                      <a:pt x="42" y="21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00960" y="240300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0" y="14"/>
                    </a:moveTo>
                    <a:lnTo>
                      <a:pt x="36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2" y="14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6" y="37"/>
                    </a:lnTo>
                    <a:lnTo>
                      <a:pt x="13" y="41"/>
                    </a:lnTo>
                    <a:lnTo>
                      <a:pt x="21" y="43"/>
                    </a:lnTo>
                    <a:lnTo>
                      <a:pt x="29" y="41"/>
                    </a:lnTo>
                    <a:lnTo>
                      <a:pt x="36" y="37"/>
                    </a:lnTo>
                    <a:lnTo>
                      <a:pt x="40" y="29"/>
                    </a:lnTo>
                    <a:lnTo>
                      <a:pt x="42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15000" y="246852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0" y="11"/>
                    </a:moveTo>
                    <a:lnTo>
                      <a:pt x="37" y="6"/>
                    </a:lnTo>
                    <a:lnTo>
                      <a:pt x="31" y="2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8" y="36"/>
                    </a:lnTo>
                    <a:lnTo>
                      <a:pt x="14" y="40"/>
                    </a:lnTo>
                    <a:lnTo>
                      <a:pt x="21" y="42"/>
                    </a:lnTo>
                    <a:lnTo>
                      <a:pt x="31" y="40"/>
                    </a:lnTo>
                    <a:lnTo>
                      <a:pt x="37" y="36"/>
                    </a:lnTo>
                    <a:lnTo>
                      <a:pt x="40" y="29"/>
                    </a:lnTo>
                    <a:lnTo>
                      <a:pt x="42" y="21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31560" y="253548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1" y="12"/>
                    </a:moveTo>
                    <a:lnTo>
                      <a:pt x="3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6" y="35"/>
                    </a:lnTo>
                    <a:lnTo>
                      <a:pt x="12" y="41"/>
                    </a:lnTo>
                    <a:lnTo>
                      <a:pt x="21" y="43"/>
                    </a:lnTo>
                    <a:lnTo>
                      <a:pt x="29" y="41"/>
                    </a:lnTo>
                    <a:lnTo>
                      <a:pt x="37" y="35"/>
                    </a:lnTo>
                    <a:lnTo>
                      <a:pt x="41" y="29"/>
                    </a:lnTo>
                    <a:lnTo>
                      <a:pt x="43" y="22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45600" y="259920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1" y="13"/>
                    </a:moveTo>
                    <a:lnTo>
                      <a:pt x="37" y="8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6" y="36"/>
                    </a:lnTo>
                    <a:lnTo>
                      <a:pt x="14" y="42"/>
                    </a:lnTo>
                    <a:lnTo>
                      <a:pt x="22" y="42"/>
                    </a:lnTo>
                    <a:lnTo>
                      <a:pt x="29" y="42"/>
                    </a:lnTo>
                    <a:lnTo>
                      <a:pt x="37" y="36"/>
                    </a:lnTo>
                    <a:lnTo>
                      <a:pt x="41" y="31"/>
                    </a:lnTo>
                    <a:lnTo>
                      <a:pt x="43" y="21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61080" y="26647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0" y="14"/>
                    </a:moveTo>
                    <a:lnTo>
                      <a:pt x="36" y="6"/>
                    </a:lnTo>
                    <a:lnTo>
                      <a:pt x="30" y="2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7" y="6"/>
                    </a:lnTo>
                    <a:lnTo>
                      <a:pt x="2" y="14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7" y="37"/>
                    </a:lnTo>
                    <a:lnTo>
                      <a:pt x="13" y="41"/>
                    </a:lnTo>
                    <a:lnTo>
                      <a:pt x="21" y="43"/>
                    </a:lnTo>
                    <a:lnTo>
                      <a:pt x="30" y="41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2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76200" y="2730240"/>
                <a:ext cx="32400" cy="349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0" y="11"/>
                    </a:moveTo>
                    <a:lnTo>
                      <a:pt x="36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6" y="36"/>
                    </a:lnTo>
                    <a:lnTo>
                      <a:pt x="13" y="40"/>
                    </a:lnTo>
                    <a:lnTo>
                      <a:pt x="21" y="42"/>
                    </a:lnTo>
                    <a:lnTo>
                      <a:pt x="29" y="40"/>
                    </a:lnTo>
                    <a:lnTo>
                      <a:pt x="36" y="36"/>
                    </a:lnTo>
                    <a:lnTo>
                      <a:pt x="40" y="29"/>
                    </a:lnTo>
                    <a:lnTo>
                      <a:pt x="42" y="21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07080" y="2741400"/>
                <a:ext cx="206280" cy="239040"/>
              </a:xfrm>
              <a:custGeom>
                <a:avLst/>
                <a:gdLst/>
                <a:ahLst/>
                <a:rect l="l" t="t" r="r" b="b"/>
                <a:pathLst>
                  <a:path w="266" h="300">
                    <a:moveTo>
                      <a:pt x="0" y="66"/>
                    </a:moveTo>
                    <a:lnTo>
                      <a:pt x="199" y="300"/>
                    </a:lnTo>
                    <a:lnTo>
                      <a:pt x="266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21040" y="18828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626800" y="19080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8" y="15"/>
                    </a:lnTo>
                    <a:lnTo>
                      <a:pt x="14" y="12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31840" y="193032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1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7" y="15"/>
                    </a:lnTo>
                    <a:lnTo>
                      <a:pt x="11" y="13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36160" y="19544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7" y="16"/>
                    </a:lnTo>
                    <a:lnTo>
                      <a:pt x="13" y="12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42640" y="197820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648400" y="20019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3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54880" y="20246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7" y="15"/>
                    </a:lnTo>
                    <a:lnTo>
                      <a:pt x="11" y="13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659200" y="20502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663880" y="20721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4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3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670360" y="209628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7" y="15"/>
                    </a:lnTo>
                    <a:lnTo>
                      <a:pt x="13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676480" y="21204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7"/>
                    </a:moveTo>
                    <a:lnTo>
                      <a:pt x="14" y="3"/>
                    </a:lnTo>
                    <a:lnTo>
                      <a:pt x="8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1160" y="214452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86920" y="21697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7" y="15"/>
                    </a:lnTo>
                    <a:lnTo>
                      <a:pt x="13" y="12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93400" y="21920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7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99520" y="22161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704200" y="223992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1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7" y="16"/>
                    </a:lnTo>
                    <a:lnTo>
                      <a:pt x="11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708520" y="226368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7" y="15"/>
                    </a:lnTo>
                    <a:lnTo>
                      <a:pt x="13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715000" y="228636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7"/>
                    </a:moveTo>
                    <a:lnTo>
                      <a:pt x="14" y="4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720760" y="2311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3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27240" y="23342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4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14"/>
                    </a:lnTo>
                    <a:lnTo>
                      <a:pt x="7" y="16"/>
                    </a:lnTo>
                    <a:lnTo>
                      <a:pt x="11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731560" y="23583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3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736600" y="238356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3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8" y="15"/>
                    </a:lnTo>
                    <a:lnTo>
                      <a:pt x="13" y="11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742360" y="24062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7" y="16"/>
                    </a:lnTo>
                    <a:lnTo>
                      <a:pt x="13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748840" y="243144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8" y="15"/>
                    </a:lnTo>
                    <a:lnTo>
                      <a:pt x="14" y="12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54600" y="245376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2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2" y="13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59640" y="247788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7" y="16"/>
                    </a:lnTo>
                    <a:lnTo>
                      <a:pt x="13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65400" y="25016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71880" y="25257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76200" y="254808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1" y="4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7" y="15"/>
                    </a:lnTo>
                    <a:lnTo>
                      <a:pt x="11" y="13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0880" y="25736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7" y="16"/>
                    </a:lnTo>
                    <a:lnTo>
                      <a:pt x="13" y="14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87000" y="259632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4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93480" y="262008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13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99240" y="2645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7" y="15"/>
                    </a:lnTo>
                    <a:lnTo>
                      <a:pt x="13" y="11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04280" y="266796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08960" y="269352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8" y="15"/>
                    </a:lnTo>
                    <a:lnTo>
                      <a:pt x="13" y="12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14720" y="27154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7"/>
                    </a:moveTo>
                    <a:lnTo>
                      <a:pt x="13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7" y="15"/>
                    </a:lnTo>
                    <a:lnTo>
                      <a:pt x="13" y="13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21200" y="273996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934280" y="1879560"/>
              <a:ext cx="5075280" cy="4844520"/>
              <a:chOff x="1934280" y="1879560"/>
              <a:chExt cx="5075280" cy="4844520"/>
            </a:xfrm>
          </p:grpSpPr>
          <p:sp>
            <p:nvSpPr>
              <p:cNvPr id="631" name=""/>
              <p:cNvSpPr/>
              <p:nvPr/>
            </p:nvSpPr>
            <p:spPr>
              <a:xfrm>
                <a:off x="2907360" y="4610880"/>
                <a:ext cx="1860480" cy="37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41200" y="4685760"/>
                <a:ext cx="1826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Fatty Acid Compos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39440" y="5070600"/>
                <a:ext cx="353160" cy="459360"/>
                <a:chOff x="3439440" y="5070600"/>
                <a:chExt cx="353160" cy="459360"/>
              </a:xfrm>
            </p:grpSpPr>
            <p:sp>
              <p:nvSpPr>
                <p:cNvPr id="634" name=""/>
                <p:cNvSpPr/>
                <p:nvPr/>
              </p:nvSpPr>
              <p:spPr>
                <a:xfrm flipH="1">
                  <a:off x="3495960" y="5070600"/>
                  <a:ext cx="29664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439440" y="5421600"/>
                  <a:ext cx="96840" cy="108360"/>
                </a:xfrm>
                <a:custGeom>
                  <a:avLst/>
                  <a:gdLst/>
                  <a:ahLst/>
                  <a:rect l="l" t="t" r="r" b="b"/>
                  <a:pathLst>
                    <a:path w="127" h="136">
                      <a:moveTo>
                        <a:pt x="29" y="0"/>
                      </a:moveTo>
                      <a:lnTo>
                        <a:pt x="0" y="136"/>
                      </a:lnTo>
                      <a:lnTo>
                        <a:pt x="127" y="7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4488120" y="5051520"/>
                <a:ext cx="808560" cy="478440"/>
                <a:chOff x="4488120" y="5051520"/>
                <a:chExt cx="808560" cy="4784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4488120" y="5067360"/>
                  <a:ext cx="630360" cy="385920"/>
                </a:xfrm>
                <a:custGeom>
                  <a:avLst/>
                  <a:gdLst/>
                  <a:ahLst/>
                  <a:rect l="l" t="t" r="r" b="b"/>
                  <a:pathLst>
                    <a:path w="821" h="483">
                      <a:moveTo>
                        <a:pt x="21" y="0"/>
                      </a:moveTo>
                      <a:lnTo>
                        <a:pt x="0" y="36"/>
                      </a:lnTo>
                      <a:lnTo>
                        <a:pt x="800" y="483"/>
                      </a:lnTo>
                      <a:lnTo>
                        <a:pt x="821" y="44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061600" y="5329080"/>
                  <a:ext cx="235080" cy="200880"/>
                </a:xfrm>
                <a:custGeom>
                  <a:avLst/>
                  <a:gdLst/>
                  <a:ahLst/>
                  <a:rect l="l" t="t" r="r" b="b"/>
                  <a:pathLst>
                    <a:path w="307" h="251">
                      <a:moveTo>
                        <a:pt x="0" y="240"/>
                      </a:moveTo>
                      <a:lnTo>
                        <a:pt x="307" y="251"/>
                      </a:lnTo>
                      <a:lnTo>
                        <a:pt x="133" y="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511160" y="5051520"/>
                  <a:ext cx="614880" cy="35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819880" y="5062680"/>
                <a:ext cx="623520" cy="289800"/>
                <a:chOff x="2819880" y="5062680"/>
                <a:chExt cx="623520" cy="2898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2922480" y="5062680"/>
                  <a:ext cx="520920" cy="243720"/>
                </a:xfrm>
                <a:custGeom>
                  <a:avLst/>
                  <a:gdLst/>
                  <a:ahLst/>
                  <a:rect l="l" t="t" r="r" b="b"/>
                  <a:pathLst>
                    <a:path w="677" h="305">
                      <a:moveTo>
                        <a:pt x="677" y="21"/>
                      </a:moveTo>
                      <a:lnTo>
                        <a:pt x="668" y="0"/>
                      </a:lnTo>
                      <a:lnTo>
                        <a:pt x="0" y="284"/>
                      </a:lnTo>
                      <a:lnTo>
                        <a:pt x="10" y="305"/>
                      </a:lnTo>
                      <a:lnTo>
                        <a:pt x="67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819880" y="5238000"/>
                  <a:ext cx="131760" cy="114480"/>
                </a:xfrm>
                <a:custGeom>
                  <a:avLst/>
                  <a:gdLst/>
                  <a:ahLst/>
                  <a:rect l="l" t="t" r="r" b="b"/>
                  <a:pathLst>
                    <a:path w="172" h="144">
                      <a:moveTo>
                        <a:pt x="111" y="0"/>
                      </a:moveTo>
                      <a:lnTo>
                        <a:pt x="0" y="134"/>
                      </a:lnTo>
                      <a:lnTo>
                        <a:pt x="172" y="14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1934280" y="5530320"/>
                <a:ext cx="88704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74960" y="5589360"/>
                <a:ext cx="430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Sensor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74600" y="574416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Attribu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96640" y="5713920"/>
                <a:ext cx="70884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36600" y="5779440"/>
                <a:ext cx="58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Shelf Lif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69720" y="5713920"/>
                <a:ext cx="8856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010040" y="5779440"/>
                <a:ext cx="843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Nutritive Valu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3880800" y="5070600"/>
                <a:ext cx="442440" cy="459360"/>
                <a:chOff x="3880800" y="5070600"/>
                <a:chExt cx="442440" cy="4593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3880800" y="5070600"/>
                  <a:ext cx="377640" cy="39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222080" y="5423040"/>
                  <a:ext cx="101160" cy="106920"/>
                </a:xfrm>
                <a:custGeom>
                  <a:avLst/>
                  <a:gdLst/>
                  <a:ahLst/>
                  <a:rect l="l" t="t" r="r" b="b"/>
                  <a:pathLst>
                    <a:path w="132" h="132">
                      <a:moveTo>
                        <a:pt x="0" y="88"/>
                      </a:moveTo>
                      <a:lnTo>
                        <a:pt x="132" y="132"/>
                      </a:lnTo>
                      <a:lnTo>
                        <a:pt x="88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5120280" y="5713920"/>
                <a:ext cx="8856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159880" y="5779440"/>
                <a:ext cx="73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Fat Hardn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023200" y="6171840"/>
                <a:ext cx="2212200" cy="55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023560" y="619092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Ke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025360" y="6339600"/>
                <a:ext cx="19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Increasing importance, heavier lin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025720" y="6491160"/>
                <a:ext cx="22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Dotted lines increased variation in resul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028400" y="3705480"/>
                <a:ext cx="88704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68720" y="3771000"/>
                <a:ext cx="706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Desatu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81160" y="3705480"/>
                <a:ext cx="88704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22200" y="3771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Synthe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34280" y="3705480"/>
                <a:ext cx="88704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72440" y="3771000"/>
                <a:ext cx="59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Elong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52920" y="2980800"/>
                <a:ext cx="874800" cy="36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93240" y="3039840"/>
                <a:ext cx="430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Bal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92160" y="3186720"/>
                <a:ext cx="35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Synth/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914360" y="31867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Ab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99800" y="2980800"/>
                <a:ext cx="1409760" cy="36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38320" y="3046320"/>
                <a:ext cx="111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Fatty acids availab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" name=""/>
              <p:cNvGrpSpPr/>
              <p:nvPr/>
            </p:nvGrpSpPr>
            <p:grpSpPr>
              <a:xfrm>
                <a:off x="5075640" y="2074320"/>
                <a:ext cx="1221480" cy="906120"/>
                <a:chOff x="5075640" y="2074320"/>
                <a:chExt cx="1221480" cy="906120"/>
              </a:xfrm>
            </p:grpSpPr>
            <p:sp>
              <p:nvSpPr>
                <p:cNvPr id="672" name=""/>
                <p:cNvSpPr/>
                <p:nvPr/>
              </p:nvSpPr>
              <p:spPr>
                <a:xfrm flipH="1">
                  <a:off x="5150520" y="2074320"/>
                  <a:ext cx="1146600" cy="85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075640" y="2880360"/>
                  <a:ext cx="104400" cy="100080"/>
                </a:xfrm>
                <a:custGeom>
                  <a:avLst/>
                  <a:gdLst/>
                  <a:ahLst/>
                  <a:rect l="l" t="t" r="r" b="b"/>
                  <a:pathLst>
                    <a:path w="136" h="125">
                      <a:moveTo>
                        <a:pt x="65" y="0"/>
                      </a:moveTo>
                      <a:lnTo>
                        <a:pt x="0" y="125"/>
                      </a:lnTo>
                      <a:lnTo>
                        <a:pt x="136" y="102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4714200" y="1879560"/>
                <a:ext cx="232920" cy="1100880"/>
                <a:chOff x="4714200" y="1879560"/>
                <a:chExt cx="232920" cy="11008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4714200" y="1879560"/>
                  <a:ext cx="28800" cy="2844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17"/>
                      </a:moveTo>
                      <a:lnTo>
                        <a:pt x="34" y="9"/>
                      </a:lnTo>
                      <a:lnTo>
                        <a:pt x="30" y="3"/>
                      </a:lnTo>
                      <a:lnTo>
                        <a:pt x="25" y="0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3" y="30"/>
                      </a:lnTo>
                      <a:lnTo>
                        <a:pt x="9" y="34"/>
                      </a:lnTo>
                      <a:lnTo>
                        <a:pt x="17" y="34"/>
                      </a:lnTo>
                      <a:lnTo>
                        <a:pt x="25" y="34"/>
                      </a:lnTo>
                      <a:lnTo>
                        <a:pt x="30" y="30"/>
                      </a:lnTo>
                      <a:lnTo>
                        <a:pt x="34" y="24"/>
                      </a:lnTo>
                      <a:lnTo>
                        <a:pt x="3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723200" y="193644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37" y="18"/>
                      </a:moveTo>
                      <a:lnTo>
                        <a:pt x="35" y="12"/>
                      </a:lnTo>
                      <a:lnTo>
                        <a:pt x="31" y="6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12" y="2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31"/>
                      </a:lnTo>
                      <a:lnTo>
                        <a:pt x="12" y="35"/>
                      </a:lnTo>
                      <a:lnTo>
                        <a:pt x="17" y="37"/>
                      </a:lnTo>
                      <a:lnTo>
                        <a:pt x="25" y="35"/>
                      </a:lnTo>
                      <a:lnTo>
                        <a:pt x="31" y="31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3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732560" y="1992600"/>
                  <a:ext cx="27360" cy="30240"/>
                </a:xfrm>
                <a:custGeom>
                  <a:avLst/>
                  <a:gdLst/>
                  <a:ahLst/>
                  <a:rect l="l" t="t" r="r" b="b"/>
                  <a:pathLst>
                    <a:path w="36" h="39">
                      <a:moveTo>
                        <a:pt x="36" y="20"/>
                      </a:moveTo>
                      <a:lnTo>
                        <a:pt x="34" y="12"/>
                      </a:lnTo>
                      <a:lnTo>
                        <a:pt x="30" y="6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11" y="2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2" y="27"/>
                      </a:lnTo>
                      <a:lnTo>
                        <a:pt x="5" y="33"/>
                      </a:lnTo>
                      <a:lnTo>
                        <a:pt x="11" y="37"/>
                      </a:lnTo>
                      <a:lnTo>
                        <a:pt x="17" y="39"/>
                      </a:lnTo>
                      <a:lnTo>
                        <a:pt x="25" y="37"/>
                      </a:lnTo>
                      <a:lnTo>
                        <a:pt x="30" y="33"/>
                      </a:lnTo>
                      <a:lnTo>
                        <a:pt x="34" y="27"/>
                      </a:lnTo>
                      <a:lnTo>
                        <a:pt x="3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741560" y="2051640"/>
                  <a:ext cx="27360" cy="2844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37" y="18"/>
                      </a:moveTo>
                      <a:lnTo>
                        <a:pt x="35" y="12"/>
                      </a:lnTo>
                      <a:lnTo>
                        <a:pt x="31" y="6"/>
                      </a:lnTo>
                      <a:lnTo>
                        <a:pt x="25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lnTo>
                        <a:pt x="6" y="6"/>
                      </a:lnTo>
                      <a:lnTo>
                        <a:pt x="2" y="12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5"/>
                      </a:lnTo>
                      <a:lnTo>
                        <a:pt x="6" y="31"/>
                      </a:lnTo>
                      <a:lnTo>
                        <a:pt x="12" y="35"/>
                      </a:lnTo>
                      <a:lnTo>
                        <a:pt x="19" y="37"/>
                      </a:lnTo>
                      <a:lnTo>
                        <a:pt x="25" y="35"/>
                      </a:lnTo>
                      <a:lnTo>
                        <a:pt x="31" y="31"/>
                      </a:lnTo>
                      <a:lnTo>
                        <a:pt x="35" y="25"/>
                      </a:lnTo>
                      <a:lnTo>
                        <a:pt x="3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749120" y="2107440"/>
                  <a:ext cx="29160" cy="288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36" y="19"/>
                      </a:moveTo>
                      <a:lnTo>
                        <a:pt x="36" y="12"/>
                      </a:lnTo>
                      <a:lnTo>
                        <a:pt x="32" y="6"/>
                      </a:lnTo>
                      <a:lnTo>
                        <a:pt x="25" y="2"/>
                      </a:lnTo>
                      <a:lnTo>
                        <a:pt x="19" y="0"/>
                      </a:lnTo>
                      <a:lnTo>
                        <a:pt x="11" y="2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5" y="33"/>
                      </a:lnTo>
                      <a:lnTo>
                        <a:pt x="11" y="37"/>
                      </a:lnTo>
                      <a:lnTo>
                        <a:pt x="19" y="37"/>
                      </a:lnTo>
                      <a:lnTo>
                        <a:pt x="25" y="37"/>
                      </a:lnTo>
                      <a:lnTo>
                        <a:pt x="30" y="33"/>
                      </a:lnTo>
                      <a:lnTo>
                        <a:pt x="36" y="27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758480" y="2166480"/>
                  <a:ext cx="27360" cy="288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37" y="17"/>
                      </a:moveTo>
                      <a:lnTo>
                        <a:pt x="37" y="12"/>
                      </a:lnTo>
                      <a:lnTo>
                        <a:pt x="33" y="6"/>
                      </a:lnTo>
                      <a:lnTo>
                        <a:pt x="27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lnTo>
                        <a:pt x="6" y="6"/>
                      </a:lnTo>
                      <a:lnTo>
                        <a:pt x="2" y="12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6" y="31"/>
                      </a:lnTo>
                      <a:lnTo>
                        <a:pt x="12" y="35"/>
                      </a:lnTo>
                      <a:lnTo>
                        <a:pt x="19" y="37"/>
                      </a:lnTo>
                      <a:lnTo>
                        <a:pt x="27" y="35"/>
                      </a:lnTo>
                      <a:lnTo>
                        <a:pt x="33" y="31"/>
                      </a:lnTo>
                      <a:lnTo>
                        <a:pt x="37" y="25"/>
                      </a:lnTo>
                      <a:lnTo>
                        <a:pt x="3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68920" y="2222640"/>
                  <a:ext cx="27720" cy="2844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36" y="19"/>
                      </a:moveTo>
                      <a:lnTo>
                        <a:pt x="34" y="12"/>
                      </a:lnTo>
                      <a:lnTo>
                        <a:pt x="30" y="6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3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3" y="33"/>
                      </a:lnTo>
                      <a:lnTo>
                        <a:pt x="11" y="37"/>
                      </a:lnTo>
                      <a:lnTo>
                        <a:pt x="17" y="37"/>
                      </a:lnTo>
                      <a:lnTo>
                        <a:pt x="25" y="37"/>
                      </a:lnTo>
                      <a:lnTo>
                        <a:pt x="30" y="33"/>
                      </a:lnTo>
                      <a:lnTo>
                        <a:pt x="34" y="27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778280" y="2281680"/>
                  <a:ext cx="27360" cy="2844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37" y="17"/>
                      </a:moveTo>
                      <a:lnTo>
                        <a:pt x="35" y="12"/>
                      </a:lnTo>
                      <a:lnTo>
                        <a:pt x="31" y="6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12" y="2"/>
                      </a:lnTo>
                      <a:lnTo>
                        <a:pt x="6" y="6"/>
                      </a:lnTo>
                      <a:lnTo>
                        <a:pt x="2" y="12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6" y="31"/>
                      </a:lnTo>
                      <a:lnTo>
                        <a:pt x="12" y="35"/>
                      </a:lnTo>
                      <a:lnTo>
                        <a:pt x="17" y="36"/>
                      </a:lnTo>
                      <a:lnTo>
                        <a:pt x="25" y="35"/>
                      </a:lnTo>
                      <a:lnTo>
                        <a:pt x="31" y="31"/>
                      </a:lnTo>
                      <a:lnTo>
                        <a:pt x="35" y="25"/>
                      </a:lnTo>
                      <a:lnTo>
                        <a:pt x="3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786200" y="2337480"/>
                  <a:ext cx="29160" cy="288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36" y="19"/>
                      </a:moveTo>
                      <a:lnTo>
                        <a:pt x="34" y="12"/>
                      </a:lnTo>
                      <a:lnTo>
                        <a:pt x="30" y="6"/>
                      </a:lnTo>
                      <a:lnTo>
                        <a:pt x="25" y="2"/>
                      </a:lnTo>
                      <a:lnTo>
                        <a:pt x="19" y="0"/>
                      </a:lnTo>
                      <a:lnTo>
                        <a:pt x="11" y="2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5" y="33"/>
                      </a:lnTo>
                      <a:lnTo>
                        <a:pt x="11" y="36"/>
                      </a:lnTo>
                      <a:lnTo>
                        <a:pt x="19" y="36"/>
                      </a:lnTo>
                      <a:lnTo>
                        <a:pt x="25" y="36"/>
                      </a:lnTo>
                      <a:lnTo>
                        <a:pt x="30" y="33"/>
                      </a:lnTo>
                      <a:lnTo>
                        <a:pt x="34" y="27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795200" y="2394720"/>
                  <a:ext cx="27720" cy="3024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37" y="17"/>
                      </a:moveTo>
                      <a:lnTo>
                        <a:pt x="37" y="11"/>
                      </a:lnTo>
                      <a:lnTo>
                        <a:pt x="33" y="6"/>
                      </a:lnTo>
                      <a:lnTo>
                        <a:pt x="25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lnTo>
                        <a:pt x="6" y="6"/>
                      </a:lnTo>
                      <a:lnTo>
                        <a:pt x="2" y="11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6" y="31"/>
                      </a:lnTo>
                      <a:lnTo>
                        <a:pt x="12" y="34"/>
                      </a:lnTo>
                      <a:lnTo>
                        <a:pt x="19" y="36"/>
                      </a:lnTo>
                      <a:lnTo>
                        <a:pt x="25" y="34"/>
                      </a:lnTo>
                      <a:lnTo>
                        <a:pt x="31" y="31"/>
                      </a:lnTo>
                      <a:lnTo>
                        <a:pt x="37" y="25"/>
                      </a:lnTo>
                      <a:lnTo>
                        <a:pt x="3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04560" y="2452320"/>
                  <a:ext cx="27360" cy="284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36" y="19"/>
                      </a:moveTo>
                      <a:lnTo>
                        <a:pt x="36" y="11"/>
                      </a:lnTo>
                      <a:lnTo>
                        <a:pt x="32" y="6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1" y="2"/>
                      </a:lnTo>
                      <a:lnTo>
                        <a:pt x="5" y="6"/>
                      </a:lnTo>
                      <a:lnTo>
                        <a:pt x="2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27"/>
                      </a:lnTo>
                      <a:lnTo>
                        <a:pt x="5" y="32"/>
                      </a:lnTo>
                      <a:lnTo>
                        <a:pt x="11" y="36"/>
                      </a:lnTo>
                      <a:lnTo>
                        <a:pt x="19" y="36"/>
                      </a:lnTo>
                      <a:lnTo>
                        <a:pt x="26" y="36"/>
                      </a:lnTo>
                      <a:lnTo>
                        <a:pt x="32" y="32"/>
                      </a:lnTo>
                      <a:lnTo>
                        <a:pt x="36" y="27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815360" y="2509920"/>
                  <a:ext cx="27360" cy="2988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36" y="17"/>
                      </a:moveTo>
                      <a:lnTo>
                        <a:pt x="35" y="11"/>
                      </a:lnTo>
                      <a:lnTo>
                        <a:pt x="31" y="6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10" y="2"/>
                      </a:ln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4" y="30"/>
                      </a:lnTo>
                      <a:lnTo>
                        <a:pt x="10" y="34"/>
                      </a:lnTo>
                      <a:lnTo>
                        <a:pt x="17" y="36"/>
                      </a:lnTo>
                      <a:lnTo>
                        <a:pt x="25" y="34"/>
                      </a:lnTo>
                      <a:lnTo>
                        <a:pt x="31" y="30"/>
                      </a:lnTo>
                      <a:lnTo>
                        <a:pt x="35" y="25"/>
                      </a:lnTo>
                      <a:lnTo>
                        <a:pt x="3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822920" y="2567160"/>
                  <a:ext cx="27360" cy="288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36" y="19"/>
                      </a:moveTo>
                      <a:lnTo>
                        <a:pt x="34" y="11"/>
                      </a:lnTo>
                      <a:lnTo>
                        <a:pt x="30" y="5"/>
                      </a:lnTo>
                      <a:lnTo>
                        <a:pt x="24" y="2"/>
                      </a:lnTo>
                      <a:lnTo>
                        <a:pt x="17" y="0"/>
                      </a:lnTo>
                      <a:lnTo>
                        <a:pt x="11" y="2"/>
                      </a:lnTo>
                      <a:lnTo>
                        <a:pt x="5" y="5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" y="27"/>
                      </a:lnTo>
                      <a:lnTo>
                        <a:pt x="5" y="32"/>
                      </a:lnTo>
                      <a:lnTo>
                        <a:pt x="11" y="36"/>
                      </a:lnTo>
                      <a:lnTo>
                        <a:pt x="17" y="36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4" y="27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831920" y="2624760"/>
                  <a:ext cx="27720" cy="302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36" y="17"/>
                      </a:moveTo>
                      <a:lnTo>
                        <a:pt x="35" y="11"/>
                      </a:lnTo>
                      <a:lnTo>
                        <a:pt x="31" y="5"/>
                      </a:lnTo>
                      <a:lnTo>
                        <a:pt x="25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lnTo>
                        <a:pt x="6" y="5"/>
                      </a:lnTo>
                      <a:lnTo>
                        <a:pt x="2" y="11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6" y="30"/>
                      </a:lnTo>
                      <a:lnTo>
                        <a:pt x="12" y="34"/>
                      </a:lnTo>
                      <a:lnTo>
                        <a:pt x="19" y="36"/>
                      </a:lnTo>
                      <a:lnTo>
                        <a:pt x="25" y="34"/>
                      </a:lnTo>
                      <a:lnTo>
                        <a:pt x="31" y="30"/>
                      </a:lnTo>
                      <a:lnTo>
                        <a:pt x="35" y="25"/>
                      </a:lnTo>
                      <a:lnTo>
                        <a:pt x="3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841640" y="2682360"/>
                  <a:ext cx="27360" cy="284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36" y="19"/>
                      </a:moveTo>
                      <a:lnTo>
                        <a:pt x="36" y="11"/>
                      </a:lnTo>
                      <a:lnTo>
                        <a:pt x="32" y="5"/>
                      </a:lnTo>
                      <a:lnTo>
                        <a:pt x="24" y="2"/>
                      </a:lnTo>
                      <a:lnTo>
                        <a:pt x="19" y="0"/>
                      </a:lnTo>
                      <a:lnTo>
                        <a:pt x="11" y="2"/>
                      </a:lnTo>
                      <a:lnTo>
                        <a:pt x="5" y="5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11" y="36"/>
                      </a:lnTo>
                      <a:lnTo>
                        <a:pt x="19" y="36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6" y="26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850640" y="2739960"/>
                  <a:ext cx="27720" cy="2844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37" y="18"/>
                      </a:moveTo>
                      <a:lnTo>
                        <a:pt x="37" y="12"/>
                      </a:lnTo>
                      <a:lnTo>
                        <a:pt x="33" y="6"/>
                      </a:lnTo>
                      <a:lnTo>
                        <a:pt x="27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lnTo>
                        <a:pt x="6" y="6"/>
                      </a:lnTo>
                      <a:lnTo>
                        <a:pt x="2" y="12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5"/>
                      </a:lnTo>
                      <a:lnTo>
                        <a:pt x="6" y="31"/>
                      </a:lnTo>
                      <a:lnTo>
                        <a:pt x="12" y="35"/>
                      </a:lnTo>
                      <a:lnTo>
                        <a:pt x="19" y="37"/>
                      </a:lnTo>
                      <a:lnTo>
                        <a:pt x="27" y="35"/>
                      </a:lnTo>
                      <a:lnTo>
                        <a:pt x="33" y="31"/>
                      </a:lnTo>
                      <a:lnTo>
                        <a:pt x="37" y="25"/>
                      </a:lnTo>
                      <a:lnTo>
                        <a:pt x="3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860000" y="2797200"/>
                  <a:ext cx="27360" cy="2880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37" y="20"/>
                      </a:moveTo>
                      <a:lnTo>
                        <a:pt x="35" y="12"/>
                      </a:lnTo>
                      <a:lnTo>
                        <a:pt x="31" y="6"/>
                      </a:lnTo>
                      <a:lnTo>
                        <a:pt x="25" y="2"/>
                      </a:lnTo>
                      <a:lnTo>
                        <a:pt x="18" y="0"/>
                      </a:lnTo>
                      <a:lnTo>
                        <a:pt x="10" y="2"/>
                      </a:lnTo>
                      <a:lnTo>
                        <a:pt x="4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4" y="33"/>
                      </a:lnTo>
                      <a:lnTo>
                        <a:pt x="10" y="37"/>
                      </a:lnTo>
                      <a:lnTo>
                        <a:pt x="18" y="37"/>
                      </a:lnTo>
                      <a:lnTo>
                        <a:pt x="25" y="37"/>
                      </a:lnTo>
                      <a:lnTo>
                        <a:pt x="31" y="33"/>
                      </a:lnTo>
                      <a:lnTo>
                        <a:pt x="35" y="27"/>
                      </a:lnTo>
                      <a:lnTo>
                        <a:pt x="37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807800" y="2822760"/>
                  <a:ext cx="139320" cy="157680"/>
                </a:xfrm>
                <a:custGeom>
                  <a:avLst/>
                  <a:gdLst/>
                  <a:ahLst/>
                  <a:rect l="l" t="t" r="r" b="b"/>
                  <a:pathLst>
                    <a:path w="183" h="198">
                      <a:moveTo>
                        <a:pt x="0" y="31"/>
                      </a:moveTo>
                      <a:lnTo>
                        <a:pt x="123" y="198"/>
                      </a:lnTo>
                      <a:lnTo>
                        <a:pt x="183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2284560" y="1893600"/>
                <a:ext cx="34884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633760" y="1893600"/>
                <a:ext cx="52416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"/>
              <p:cNvGrpSpPr/>
              <p:nvPr/>
            </p:nvGrpSpPr>
            <p:grpSpPr>
              <a:xfrm>
                <a:off x="2633760" y="2255760"/>
                <a:ext cx="1918800" cy="737280"/>
                <a:chOff x="2633760" y="2255760"/>
                <a:chExt cx="1918800" cy="737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633760" y="2255760"/>
                  <a:ext cx="1830960" cy="69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446360" y="2900520"/>
                  <a:ext cx="106200" cy="92520"/>
                </a:xfrm>
                <a:custGeom>
                  <a:avLst/>
                  <a:gdLst/>
                  <a:ahLst/>
                  <a:rect l="l" t="t" r="r" b="b"/>
                  <a:pathLst>
                    <a:path w="139" h="117">
                      <a:moveTo>
                        <a:pt x="0" y="117"/>
                      </a:moveTo>
                      <a:lnTo>
                        <a:pt x="139" y="100"/>
                      </a:lnTo>
                      <a:lnTo>
                        <a:pt x="43" y="0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633760" y="2255760"/>
                <a:ext cx="1744560" cy="1447560"/>
                <a:chOff x="2633760" y="2255760"/>
                <a:chExt cx="1744560" cy="14475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633760" y="2255760"/>
                  <a:ext cx="1672560" cy="138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274280" y="3602880"/>
                  <a:ext cx="104040" cy="100440"/>
                </a:xfrm>
                <a:custGeom>
                  <a:avLst/>
                  <a:gdLst/>
                  <a:ahLst/>
                  <a:rect l="l" t="t" r="r" b="b"/>
                  <a:pathLst>
                    <a:path w="136" h="127">
                      <a:moveTo>
                        <a:pt x="0" y="98"/>
                      </a:moveTo>
                      <a:lnTo>
                        <a:pt x="136" y="127"/>
                      </a:lnTo>
                      <a:lnTo>
                        <a:pt x="77" y="0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633760" y="2255760"/>
                <a:ext cx="697680" cy="1447560"/>
                <a:chOff x="2633760" y="2255760"/>
                <a:chExt cx="697680" cy="14475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633760" y="2255760"/>
                  <a:ext cx="654840" cy="136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243960" y="3593520"/>
                  <a:ext cx="87480" cy="109800"/>
                </a:xfrm>
                <a:custGeom>
                  <a:avLst/>
                  <a:gdLst/>
                  <a:ahLst/>
                  <a:rect l="l" t="t" r="r" b="b"/>
                  <a:pathLst>
                    <a:path w="113" h="138">
                      <a:moveTo>
                        <a:pt x="0" y="55"/>
                      </a:moveTo>
                      <a:lnTo>
                        <a:pt x="113" y="138"/>
                      </a:lnTo>
                      <a:lnTo>
                        <a:pt x="113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2421720" y="2255760"/>
                <a:ext cx="210960" cy="1447560"/>
                <a:chOff x="2421720" y="2255760"/>
                <a:chExt cx="210960" cy="1447560"/>
              </a:xfrm>
            </p:grpSpPr>
            <p:sp>
              <p:nvSpPr>
                <p:cNvPr id="705" name=""/>
                <p:cNvSpPr/>
                <p:nvPr/>
              </p:nvSpPr>
              <p:spPr>
                <a:xfrm flipH="1">
                  <a:off x="2470320" y="2255760"/>
                  <a:ext cx="162360" cy="135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421720" y="3598200"/>
                  <a:ext cx="95040" cy="105120"/>
                </a:xfrm>
                <a:custGeom>
                  <a:avLst/>
                  <a:gdLst/>
                  <a:ahLst/>
                  <a:rect l="l" t="t" r="r" b="b"/>
                  <a:pathLst>
                    <a:path w="125" h="132">
                      <a:moveTo>
                        <a:pt x="0" y="0"/>
                      </a:moveTo>
                      <a:lnTo>
                        <a:pt x="48" y="132"/>
                      </a:lnTo>
                      <a:lnTo>
                        <a:pt x="125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>
                <a:off x="2458440" y="2800440"/>
                <a:ext cx="17496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457360" y="2833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981160" y="2980800"/>
                <a:ext cx="17676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82960" y="3014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854880" y="3162600"/>
                <a:ext cx="173520" cy="27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55240" y="3196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028400" y="2618280"/>
                <a:ext cx="17532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27680" y="2651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49000" y="1893600"/>
                <a:ext cx="17352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949000" y="19270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4727880" y="3333600"/>
                <a:ext cx="1229400" cy="1276560"/>
                <a:chOff x="4727880" y="3333600"/>
                <a:chExt cx="1229400" cy="1276560"/>
              </a:xfrm>
            </p:grpSpPr>
            <p:sp>
              <p:nvSpPr>
                <p:cNvPr id="718" name=""/>
                <p:cNvSpPr/>
                <p:nvPr/>
              </p:nvSpPr>
              <p:spPr>
                <a:xfrm flipH="1">
                  <a:off x="4850280" y="3352680"/>
                  <a:ext cx="1107000" cy="11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>
                  <a:off x="4831920" y="3333600"/>
                  <a:ext cx="1107000" cy="11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727880" y="4426920"/>
                  <a:ext cx="175320" cy="183240"/>
                </a:xfrm>
                <a:custGeom>
                  <a:avLst/>
                  <a:gdLst/>
                  <a:ahLst/>
                  <a:rect l="l" t="t" r="r" b="b"/>
                  <a:pathLst>
                    <a:path w="228" h="230">
                      <a:moveTo>
                        <a:pt x="75" y="0"/>
                      </a:moveTo>
                      <a:lnTo>
                        <a:pt x="0" y="230"/>
                      </a:lnTo>
                      <a:lnTo>
                        <a:pt x="228" y="154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4726440" y="3336840"/>
                <a:ext cx="534600" cy="1092600"/>
                <a:chOff x="4726440" y="3336840"/>
                <a:chExt cx="534600" cy="109260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4812480" y="3349440"/>
                  <a:ext cx="448560" cy="9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4790880" y="3336840"/>
                  <a:ext cx="450000" cy="9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726440" y="4236840"/>
                  <a:ext cx="149040" cy="192600"/>
                </a:xfrm>
                <a:custGeom>
                  <a:avLst/>
                  <a:gdLst/>
                  <a:ahLst/>
                  <a:rect l="l" t="t" r="r" b="b"/>
                  <a:pathLst>
                    <a:path w="194" h="242">
                      <a:moveTo>
                        <a:pt x="0" y="0"/>
                      </a:moveTo>
                      <a:lnTo>
                        <a:pt x="2" y="242"/>
                      </a:lnTo>
                      <a:lnTo>
                        <a:pt x="194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294440" y="4067640"/>
                <a:ext cx="165960" cy="542520"/>
                <a:chOff x="4294440" y="4067640"/>
                <a:chExt cx="165960" cy="5425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389480" y="4067640"/>
                  <a:ext cx="1440" cy="37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366440" y="4067640"/>
                  <a:ext cx="1440" cy="37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294440" y="4439520"/>
                  <a:ext cx="16596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0" y="0"/>
                      </a:moveTo>
                      <a:lnTo>
                        <a:pt x="109" y="214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421080" y="4067640"/>
                <a:ext cx="167400" cy="542520"/>
                <a:chOff x="3421080" y="4067640"/>
                <a:chExt cx="167400" cy="5425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517560" y="4067640"/>
                  <a:ext cx="1080" cy="37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493080" y="4067640"/>
                  <a:ext cx="1440" cy="37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421080" y="4439520"/>
                  <a:ext cx="16740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0" y="0"/>
                      </a:moveTo>
                      <a:lnTo>
                        <a:pt x="110" y="214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278440" y="4056840"/>
                <a:ext cx="878760" cy="553320"/>
                <a:chOff x="2278440" y="4056840"/>
                <a:chExt cx="878760" cy="5533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278440" y="4077360"/>
                  <a:ext cx="734760" cy="45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290320" y="4056840"/>
                  <a:ext cx="732960" cy="45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972880" y="4448880"/>
                  <a:ext cx="184320" cy="161280"/>
                </a:xfrm>
                <a:custGeom>
                  <a:avLst/>
                  <a:gdLst/>
                  <a:ahLst/>
                  <a:rect l="l" t="t" r="r" b="b"/>
                  <a:pathLst>
                    <a:path w="240" h="203">
                      <a:moveTo>
                        <a:pt x="0" y="186"/>
                      </a:moveTo>
                      <a:lnTo>
                        <a:pt x="240" y="203"/>
                      </a:lnTo>
                      <a:lnTo>
                        <a:pt x="111" y="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Fatty </a:t>
            </a: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    Braham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Acid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7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7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6:0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8:0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8:2c9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1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1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1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F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3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MUF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49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UF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0.9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0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11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1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22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SR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05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19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2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23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14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.16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actors affecting the fatty acid composition of fat in Ruminants - B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243828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38080" y="1981080"/>
            <a:ext cx="7086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8080" y="6705720"/>
            <a:ext cx="7086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38080" y="2895480"/>
            <a:ext cx="7086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ctors affecting the fatty acid composition of fat  -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In sheep, barley or wheat based diets will produce softer fat due to the formation of odd-numbered and branched chain fatty acids This effect does not occur in c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In Australia cattle fed on grain tends to produce harder fat.  Contrasts to the 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In milk fed ruminants the oesophageal groove protects the fat from hydroge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Factors affecting the fatty acid composition of fat - Nutr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umentek technology is basically protecting monounsatutrates using a formaldehyde /casein coat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his can manipulate fatty acid composition so that they resemble monogas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mportance of f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stops dehydration in the carc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reduces the likelihood of cold-shortening in the carc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fat hardness affects processing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prone to oxidation and therefore rancid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fat quality (colour, hardness and texture) is important in some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tty acid composition - Japanese and Australian carc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rcRect l="0" t="0" r="0" b="14498"/>
          <a:stretch/>
        </p:blipFill>
        <p:spPr>
          <a:xfrm>
            <a:off x="826920" y="1773360"/>
            <a:ext cx="3024360" cy="460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9" name=""/>
          <p:cNvGraphicFramePr/>
          <p:nvPr/>
        </p:nvGraphicFramePr>
        <p:xfrm>
          <a:off x="4032360" y="2662200"/>
          <a:ext cx="4806720" cy="152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360" y="2662200"/>
                    <a:ext cx="48067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47320"/>
            <a:ext cx="8367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actors affecting the fatty acid composition of fat  Ruminants -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34640" y="21337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Subcutaneous fat is softer in cattle raised in cooler environments. Therefore fat hardness is likely to be a greater problem in tropical enviro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Exposure to low temperatures results in more unsaturated fa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ctors affecting the fatty acid composition of fat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uminants - De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actors affecting the fatty acid composition of fat -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34640" y="18288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 sheep and cattle, the male has more unsaturated fat than the fema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ams have less stearic (C18:0) and more C18:2 and C18:3 than w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re is no difference in saturation between bulls and s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 pigs unsaturation of the backfat  decreases from boars to gilts to barro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84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actors affecting the fatty acid composition of fat in Ruminants -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381640" cy="41050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1245600" y="6093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73160" y="6021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24360" y="422100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18:0 desaturation increases with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2" name=""/>
          <p:cNvGraphicFramePr/>
          <p:nvPr/>
        </p:nvGraphicFramePr>
        <p:xfrm>
          <a:off x="0" y="0"/>
          <a:ext cx="887724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7724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ducer was told the fat from his cattle was too hard during processing.  To ‘soften’ the fat what can h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producer ran his cattle in a feedlot at Rockhampton and Tasmania would fat hardness vary?  If so why? What are the advantages or disadvantages of a change in fat hard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Composition of fat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ca. 85% of fat tissue is made up of 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remainder comprises moisture (ca 12%) and connective tissue (ca. 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the collagen component affects the tex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hardness is largely a function of fatty acid and triglyceride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position of the fatty acids on the triglyceride affects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Storage Lipi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Tri-glyce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590920"/>
            <a:ext cx="0" cy="22096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419720" y="2133720"/>
            <a:ext cx="18288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438280" y="3657600"/>
            <a:ext cx="198144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4800600"/>
            <a:ext cx="167616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Comic Sans MS"/>
              </a:rPr>
              <a:t>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Storage Lipi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Triacylglycerol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(triglyce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Hydrocarbon chain, usually 12 to 20 carbon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07880" y="2430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5080" y="2430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6280" y="1927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7040" y="2290680"/>
            <a:ext cx="0" cy="1526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1800" y="2290680"/>
            <a:ext cx="0" cy="1526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233680" y="2595600"/>
            <a:ext cx="152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676840" y="25956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79440" y="24289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36640" y="24289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05240" y="25938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548040" y="25938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60360" y="2430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17560" y="2430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86520" y="25956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429320" y="25956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31920" y="2443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89120" y="2443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857720" y="25938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300880" y="25938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85560" y="19321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64120" y="22964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85560" y="2916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64120" y="27774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13960" y="1922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92880" y="22874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13960" y="29066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92880" y="27680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2080" y="19256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31000" y="22906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29098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31000" y="27716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17560" y="243540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1936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73800" y="23011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5240" y="29210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73800" y="278280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4240" y="24321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31560" y="1933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10480" y="229860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31560" y="2917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10480" y="27795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74720" y="1933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229860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74720" y="2917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27795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12840" y="1933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91400" y="229860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12840" y="2917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91400" y="27795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0280" y="250668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25080" y="35337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34040" y="3505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49880" y="30304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2000" y="339336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7240" y="339336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61640" y="3699000"/>
            <a:ext cx="152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18840" y="36990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153520" y="3532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95960" y="3532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0080" y="36972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47280" y="36972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271880" y="35337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715400" y="35337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09160" y="36990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66720" y="36990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00320" y="3546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3840" y="3546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7600" y="36972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5160" y="36972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06720" y="3035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84560" y="33998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006720" y="4019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4560" y="38808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77960" y="3025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55800" y="33908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77960" y="40100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5800" y="387180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139840" y="30290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7680" y="33933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139840" y="40132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17680" y="38743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715400" y="35384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97040" y="3040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74880" y="34045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97040" y="40244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4880" y="38854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278720" y="353520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260360" y="30369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38200" y="34012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260360" y="4021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38200" y="38829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7560" y="30369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34012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17560" y="4021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5400" y="38829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79440" y="30369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7280" y="34012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9440" y="4021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7280" y="38829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23120" y="361008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07880" y="46292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5080" y="46292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6280" y="4125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77040" y="448884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1800" y="448884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233680" y="4794120"/>
            <a:ext cx="152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676840" y="479412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79440" y="46274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6640" y="46274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105240" y="479268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48040" y="479268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60360" y="46292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17560" y="46292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986520" y="479412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429320" y="479412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31920" y="46418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89120" y="46418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857720" y="479268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00880" y="479268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85560" y="41306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64120" y="44956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85560" y="51148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64120" y="49766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13960" y="41212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92880" y="44856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13960" y="51055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92880" y="49665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2080" y="4124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31000" y="44888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2080" y="5108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1000" y="49698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17560" y="46339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95240" y="41353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3800" y="45000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5240" y="5119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73800" y="49809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4240" y="463068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31560" y="41324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10480" y="44967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31560" y="5116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10480" y="49777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74720" y="41324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4967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74720" y="5116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49777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12840" y="41324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591400" y="44967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12840" y="5116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91400" y="49777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20280" y="470520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9280" y="2430360"/>
            <a:ext cx="32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9080" y="2438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33640" y="25956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93080" y="19270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229176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67080" y="259704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16800" y="2430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3680" y="3533760"/>
            <a:ext cx="32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6520" y="3533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1680" y="36990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8600" y="370044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78360" y="35337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27964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09280" y="4629240"/>
            <a:ext cx="32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63240" y="46292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733640" y="4794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3080" y="5110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497448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67080" y="479592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16800" y="46292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89664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12-20 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2-18 most common in ruminant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even numb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to designate them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eg C18:0, C16:1c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 (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C atom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: (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umber of double bon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ype of double bond and postio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aturated/Unsaturate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4360" y="27939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86880" y="27939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62760" y="22906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03520" y="265356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08280" y="265356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460160" y="2959200"/>
            <a:ext cx="152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903320" y="29592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05920" y="27925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63120" y="27925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331720" y="29574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774880" y="29574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6840" y="27939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44040" y="27939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213000" y="29592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655800" y="29592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58400" y="28065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5600" y="28065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84560" y="29574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527360" y="29574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12040" y="2295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0600" y="26600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12040" y="32796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90600" y="31410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40440" y="22860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19360" y="26510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40440" y="32702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19360" y="313200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78560" y="22892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7480" y="26535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78560" y="32734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57480" y="31352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4040" y="27986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21720" y="2300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0280" y="26647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21720" y="32846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0280" y="31456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58040" y="2297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36960" y="26614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58040" y="3281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36960" y="31431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01200" y="2297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79760" y="26614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01200" y="3281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79760" y="31431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39320" y="2297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8240" y="26614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39320" y="3281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18240" y="31431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5760" y="2793960"/>
            <a:ext cx="32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89720" y="2793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60120" y="2959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9560" y="2290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8480" y="265572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3560" y="296064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3280" y="27939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8480" y="315540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25320" y="280188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993920" y="296712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96880" y="28004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53720" y="28004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22680" y="296532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865480" y="296532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77800" y="280188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35000" y="280188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303600" y="296712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746760" y="296712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749360" y="281448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06560" y="281448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175160" y="296532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618320" y="296532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2640" y="23036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81560" y="26679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02640" y="32878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81560" y="31489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31400" y="22939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0320" y="26589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31400" y="3278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10320" y="313992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69520" y="22971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48440" y="26614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9520" y="32814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48440" y="31431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35000" y="28065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12320" y="23083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91240" y="26726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12320" y="3292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91240" y="31536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9000" y="23050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27920" y="26694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9000" y="32893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27920" y="31510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91800" y="23050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70720" y="26694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91800" y="32893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70720" y="31510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30280" y="23050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08840" y="26694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30280" y="32893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908840" y="31510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79560" y="28177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048520" y="296856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491320" y="296856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65160" y="23083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44080" y="26726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65160" y="3292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44080" y="31536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33520" y="28144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43720" y="55357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00920" y="55357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72120" y="5032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539532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17640" y="5395320"/>
            <a:ext cx="0" cy="152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469880" y="57006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912680" y="57006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15280" y="55339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72480" y="55339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96560" y="55357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3760" y="55357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22360" y="57006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665160" y="57006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68120" y="5548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24960" y="554832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21400" y="50371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00320" y="540216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21400" y="6021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588312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50160" y="50277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29080" y="53920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50160" y="60120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29080" y="58730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88280" y="50306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67200" y="53953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88280" y="60148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67200" y="58762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3760" y="554040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31080" y="5041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10000" y="540648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31080" y="60260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10000" y="58874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67760" y="5038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46680" y="54032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7760" y="6022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46680" y="58842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10560" y="5038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89480" y="54032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560" y="6022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89480" y="58842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48680" y="50385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27600" y="54032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48680" y="60228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27600" y="588420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5480" y="5535720"/>
            <a:ext cx="32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99080" y="5535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969840" y="57006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9280" y="50324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541008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920" y="57024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00" y="55357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8200" y="589680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52320" y="55166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003640" y="570852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50800" y="51609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000" y="51609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819400" y="53262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31720" y="516240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88920" y="516240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257520" y="532764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700680" y="532764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03280" y="5175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60480" y="517536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129080" y="53262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572240" y="53262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05800" y="5013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06040" y="46926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23440" y="4657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23440" y="56419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02360" y="550332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88920" y="516744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66600" y="46688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45160" y="50338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66600" y="56530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45160" y="55148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02920" y="46656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81840" y="50306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02920" y="56498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81840" y="55112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46080" y="46656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24640" y="50306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46080" y="56498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24640" y="55112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84200" y="46656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62760" y="50306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84200" y="56498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62760" y="551124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133480" y="5178600"/>
            <a:ext cx="32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002440" y="532908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8445240" y="532908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19080" y="466884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98000" y="503388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19080" y="56530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298000" y="5514840"/>
            <a:ext cx="0" cy="152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557200" y="5175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27840" y="144792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3399"/>
                </a:solidFill>
                <a:latin typeface="Comic Sans MS"/>
              </a:rPr>
              <a:t>Satu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87280" y="394668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3399"/>
                </a:solidFill>
                <a:latin typeface="Comic Sans MS"/>
              </a:rPr>
              <a:t>Unsatu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344320" y="57024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05400" y="5457960"/>
            <a:ext cx="178920" cy="166320"/>
            <a:chOff x="5405400" y="5457960"/>
            <a:chExt cx="178920" cy="166320"/>
          </a:xfrm>
        </p:grpSpPr>
        <p:sp>
          <p:nvSpPr>
            <p:cNvPr id="438" name=""/>
            <p:cNvSpPr/>
            <p:nvPr/>
          </p:nvSpPr>
          <p:spPr>
            <a:xfrm flipH="1">
              <a:off x="5463360" y="5531760"/>
              <a:ext cx="120960" cy="92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405400" y="5457960"/>
              <a:ext cx="121320" cy="92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4090680" y="57024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541760" y="5702400"/>
            <a:ext cx="152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776320" y="5702400"/>
            <a:ext cx="152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9120" y="5034960"/>
            <a:ext cx="0" cy="152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56960" y="5046120"/>
            <a:ext cx="51120" cy="144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94800" y="5378040"/>
            <a:ext cx="51480" cy="143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523880" y="3733920"/>
            <a:ext cx="6858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523520" y="6095520"/>
            <a:ext cx="6858000" cy="381600"/>
            <a:chOff x="1523520" y="6095520"/>
            <a:chExt cx="6858000" cy="381600"/>
          </a:xfrm>
        </p:grpSpPr>
        <p:sp>
          <p:nvSpPr>
            <p:cNvPr id="448" name=""/>
            <p:cNvSpPr/>
            <p:nvPr/>
          </p:nvSpPr>
          <p:spPr>
            <a:xfrm flipH="1">
              <a:off x="1523520" y="6477120"/>
              <a:ext cx="40086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532480" y="6095520"/>
              <a:ext cx="457200" cy="381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989320" y="6095880"/>
              <a:ext cx="23922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H="1">
            <a:off x="5562720" y="6095880"/>
            <a:ext cx="457200" cy="38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A percentage in subcutaneous 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57200" y="1600200"/>
          <a:ext cx="8229240" cy="38779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ty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etary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dipocytes can also acquire fatty acids from the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sture is high in C18:1, C18:2. C18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gh density diets (grain etc) will vary in FA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7:06:58Z</dcterms:created>
  <dc:creator>Diane Perry</dc:creator>
  <dc:description/>
  <dc:language>en-US</dc:language>
  <cp:lastModifiedBy>Peter Sommerville</cp:lastModifiedBy>
  <dcterms:modified xsi:type="dcterms:W3CDTF">2010-06-01T07:04:15Z</dcterms:modified>
  <cp:revision>2</cp:revision>
  <dc:subject/>
  <dc:title>Fatty biochemistry Fatty acid composition Fat hardness</dc:title>
</cp:coreProperties>
</file>