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E6-95C5-4E46-A086-149F45BC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6F3-7E73-4CB8-B97F-A2DB270C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D8C-48F1-4F99-992C-C535928D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181-B3A1-4D19-8F42-AEC918E1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430-3A09-4D60-A38D-F402371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5AD-86E1-422A-9E36-9F580AD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069-C0EB-496D-A6FA-0BD49AE5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5E0-B5F6-47C5-A509-4273E323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E27-4B06-465B-A12C-D18E57D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664-7A86-45E3-9FA3-AD2D1F0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B86-9C59-4E02-9C47-0D6DB8B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D2C-8EE6-4705-BC72-9A81040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8FE-18B9-4BD2-9080-6B44EE0F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uscl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1992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new breed was to be introduced to Australia.  In a preliminary study, 10 carcasses from each the new breed and 10 from the Angus breed were dissected.  W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usted to the same carcass weigh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dissection results we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Bre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cle gp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g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ximal le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ck/thora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al Colum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would this say about the mature size/carcass/muscle characteristics of this new breed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411480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42900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518148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8098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roducer/processor has decided to try ram lamb carcasses for his supermarket tra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ill this do to his yield of cuts and returns from these carcass both from a production and processing point of 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tomical Muscl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0237" t="10116" r="13178" b="0"/>
          <a:stretch/>
        </p:blipFill>
        <p:spPr>
          <a:xfrm>
            <a:off x="4267080" y="2863800"/>
            <a:ext cx="4351320" cy="254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2057400"/>
            <a:ext cx="439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roximal muscl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hind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Distal muscle of the hind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3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uscles of the spinal colum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bdomenal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roximal muscles of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Distal muscles of 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uscles attaching thorax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uscles attaching the ne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9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ntrinsic muscle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h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ffect of sex on mature % muscle distribution in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0560" y="2666880"/>
            <a:ext cx="85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roximal hind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.3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30.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Distal hind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4.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5.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very 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3  Spinal column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6.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7.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bdomenal muscles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9.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9.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 late, R very 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roximal fore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1.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1.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arly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Distal fore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2.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2.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horax/fore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6.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6.3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Neck/forelim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8.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7.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Gp 9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ntrinsic thorax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3.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9.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 early, R late               Total muscle weight (kg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8.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160" y="1720800"/>
            <a:ext cx="8414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cle Group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Ewes  Ma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0"/>
            <a:ext cx="85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ximal hind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2.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3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istal hind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5.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4.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3  Spinal column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1.9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1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bdomenal muscles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9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5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ximal 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1.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1.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1.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al 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2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2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orax/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eck/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7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7.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9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ntrinsic thorax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xpensive muscles (Gp 1, 3, 5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5.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6.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" y="1371600"/>
            <a:ext cx="9329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cle Group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Hereford  Brahman     Unimpro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horthor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effect of breed on mature % muscle distribution in c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8440" y="2306520"/>
            <a:ext cx="85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ximal hind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5.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7.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istal hind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4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4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ery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3  Spinal column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.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bdomenal muscles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3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4.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ery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5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ximal 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.4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arly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6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al 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2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2.5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orax/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9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8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eck/forelimb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7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6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p 9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ntrinsic thorax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9.7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8.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tal muscle weight (kg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2.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160" y="1371600"/>
            <a:ext cx="8414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cle Group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Castrates  Ma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effect of castration on mature % muscle distribution in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085" r="0" b="0"/>
          <a:stretch/>
        </p:blipFill>
        <p:spPr>
          <a:xfrm>
            <a:off x="770040" y="1558800"/>
            <a:ext cx="7603920" cy="504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29920" y="214200"/>
            <a:ext cx="628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effect of weight loss on mus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tribu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6:33:57Z</dcterms:created>
  <dc:creator>Diane Perry</dc:creator>
  <dc:description/>
  <dc:language>en-US</dc:language>
  <cp:lastModifiedBy>Diane Perry</cp:lastModifiedBy>
  <dcterms:modified xsi:type="dcterms:W3CDTF">2006-05-11T06:34:28Z</dcterms:modified>
  <cp:revision>1</cp:revision>
  <dc:subject/>
  <dc:title>Muscle distribution</dc:title>
</cp:coreProperties>
</file>