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ABE6-FE3A-41A4-B4F7-869E88E01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AEC9-3CE2-40C3-9394-A4F96E0F7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B725-905B-4FE2-9CAD-7E9B9B9C6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172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8892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172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AD54-D387-49AA-A8FE-7987692E2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E02C2-7A2E-4D28-AEBB-3B1B2B65E7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E535F-FD36-4870-9079-48F1C48FED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14E7D-C9BB-4B8C-B24E-A312194F6C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46AC1-445C-494E-9A5A-8375F7104A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C9F2-2AF0-43C8-ADA9-DDE366405F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5400" y="312840"/>
            <a:ext cx="7772400" cy="80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7AB7D-ACCE-4D62-8C07-04E0149134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F9D4F-A93E-43A4-852C-1B8EDBCFA7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1408F-962C-46F5-B814-64BD97B4A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E1D3B-09EF-4ACB-829F-6EC3A33F1D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5BF3D-F705-44CC-8F19-1A91EEE4F6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E440E-6892-482E-8070-F195EBA90C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CA9D5-931C-44F7-85DE-0AA42A746A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172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8892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172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FD33A-5A35-4681-BA38-B402599292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7C4C6-6C9F-4074-84DF-7ED807E2A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E76B-B721-4F4D-8B92-04475CDE6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7FE0-5D93-4C87-8F2B-F34BB7577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5400" y="312840"/>
            <a:ext cx="7772400" cy="80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7085-F126-439C-A4FE-4646730FD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0319-5537-4F24-9152-6CC4EC4E7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AFF7-CA09-4986-9EAC-CAC03D2ED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1A5E8-0C62-4B27-ABCD-C0E7BE48B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88E0-972E-4926-8B6D-C349A34273C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E5BA-85B8-45D1-9549-D290A815488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400" y="1145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ing Technology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560" y="4229280"/>
            <a:ext cx="7774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al inputs – electrical currents applied to the animal/carcase during meat processing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8B405-9ACF-44E5-9746-C9FDF44D66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5400" y="113580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lectrical inpu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99640" y="3962160"/>
            <a:ext cx="6489720" cy="22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vidually, they increase processing 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worker safety (immobilis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blood for sale as co-product (bleed rail stimul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d waste water contamination (bleed rail stimul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vent carcase and muscle damage (hide-pull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d meat quality (prevent cold-shortening toughnes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ined additive effect of all inpu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be disadvantageous if total combines input is excess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t slightly tougher, dri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53917-D80C-4B4C-A6FA-D30B525A55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ep meat proces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5840" y="1802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al stu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case immob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bleed rail st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al stimulation (ES) (meat qu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B2FD-A56E-4C10-89A0-4742C6F68B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ef proces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5840" y="1802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case immob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bleed rail stimulation/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e puller stiff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al stimulation (ES) (meat qu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767B-8496-42A8-A7FB-9BD45C7FCC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ef Immobilisation Electrod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7135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3E2B-080C-425C-8738-8FF19E4CC9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34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ef Mid-Voltage Electrical Stimul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/ Electronic Bl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610240" cy="42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3B44-AD1B-4EE1-B687-81296D11AD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ep Mid-Voltage Electrical St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754600" cy="43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9785-B47B-4B33-BA85-3EF9B89090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ical safe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5840" y="1802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ly, electrical stimulation used very high (1000 V) dangerous vol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 electrical inputs now use  ‘safe’ mid-vol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  Electricity must always be treated with 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10DFA-BF3E-4857-9454-D7606D7181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27160" y="1266840"/>
            <a:ext cx="0" cy="394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27160" y="3213000"/>
            <a:ext cx="506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28880" y="1428840"/>
            <a:ext cx="9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28880" y="5051520"/>
            <a:ext cx="9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552840" y="1428120"/>
            <a:ext cx="393120" cy="3568680"/>
            <a:chOff x="3552840" y="1428120"/>
            <a:chExt cx="393120" cy="3568680"/>
          </a:xfrm>
        </p:grpSpPr>
        <p:sp>
          <p:nvSpPr>
            <p:cNvPr id="103" name=""/>
            <p:cNvSpPr/>
            <p:nvPr/>
          </p:nvSpPr>
          <p:spPr>
            <a:xfrm flipV="1">
              <a:off x="3552840" y="1427760"/>
              <a:ext cx="393120" cy="356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3552840" y="1427760"/>
              <a:ext cx="392400" cy="356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125800" y="1429560"/>
            <a:ext cx="393120" cy="3567960"/>
            <a:chOff x="2125800" y="1429560"/>
            <a:chExt cx="393120" cy="3567960"/>
          </a:xfrm>
        </p:grpSpPr>
        <p:sp>
          <p:nvSpPr>
            <p:cNvPr id="106" name=""/>
            <p:cNvSpPr/>
            <p:nvPr/>
          </p:nvSpPr>
          <p:spPr>
            <a:xfrm>
              <a:off x="2125800" y="1429560"/>
              <a:ext cx="393120" cy="356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125800" y="1429560"/>
              <a:ext cx="392400" cy="356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027760" y="1429560"/>
            <a:ext cx="393120" cy="3567960"/>
            <a:chOff x="5027760" y="1429560"/>
            <a:chExt cx="393120" cy="3567960"/>
          </a:xfrm>
        </p:grpSpPr>
        <p:sp>
          <p:nvSpPr>
            <p:cNvPr id="109" name=""/>
            <p:cNvSpPr/>
            <p:nvPr/>
          </p:nvSpPr>
          <p:spPr>
            <a:xfrm>
              <a:off x="5027760" y="1429560"/>
              <a:ext cx="393120" cy="356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5027760" y="1429560"/>
              <a:ext cx="392400" cy="356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553080" y="1428120"/>
            <a:ext cx="393120" cy="3568680"/>
            <a:chOff x="6553080" y="1428120"/>
            <a:chExt cx="393120" cy="3568680"/>
          </a:xfrm>
        </p:grpSpPr>
        <p:sp>
          <p:nvSpPr>
            <p:cNvPr id="112" name=""/>
            <p:cNvSpPr/>
            <p:nvPr/>
          </p:nvSpPr>
          <p:spPr>
            <a:xfrm flipV="1">
              <a:off x="6553080" y="1427760"/>
              <a:ext cx="393120" cy="356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6553080" y="1427760"/>
              <a:ext cx="392400" cy="356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100160" y="1290600"/>
            <a:ext cx="8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110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9800" y="489096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10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19080" y="3112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8880" y="2781360"/>
            <a:ext cx="9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71440" y="265896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30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68600" y="2781360"/>
            <a:ext cx="493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95640" y="2781360"/>
            <a:ext cx="493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70560" y="2781360"/>
            <a:ext cx="493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96240" y="2781360"/>
            <a:ext cx="489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09520" y="404640"/>
            <a:ext cx="728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OLTAGE COMPARISON BETWEEN OLD HIGH VOLTAGE STIMUL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D NEW MID VOLTAGE STIMUL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0000" y="134136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V ST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55800" y="208296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V ST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1628640"/>
            <a:ext cx="6001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00440" y="2347920"/>
            <a:ext cx="24624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519280" y="1644480"/>
            <a:ext cx="689040" cy="2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666520" y="2401920"/>
            <a:ext cx="29556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CAFE-5EDF-466F-8D26-34F45E78D2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25.1   Summary of waveform parameters for mid-voltage electrical input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26920" y="1341360"/>
          <a:ext cx="8131320" cy="4121280"/>
        </p:xfrm>
        <a:graphic>
          <a:graphicData uri="http://schemas.openxmlformats.org/drawingml/2006/table">
            <a:tbl>
              <a:tblPr/>
              <a:tblGrid>
                <a:gridCol w="2033640"/>
                <a:gridCol w="2032200"/>
                <a:gridCol w="2033640"/>
                <a:gridCol w="2031840"/>
              </a:tblGrid>
              <a:tr h="75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wid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between pulses (m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(H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c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obilis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eed rail/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e pu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stimulation (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-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A6B8-1EEC-4324-8026-A9B7A642D2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Peter Sommerville</cp:lastModifiedBy>
  <dcterms:modified xsi:type="dcterms:W3CDTF">2010-06-01T06:58:38Z</dcterms:modified>
  <cp:revision>130</cp:revision>
  <dc:subject/>
  <dc:title>PowerPoint Presentation</dc:title>
</cp:coreProperties>
</file>