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584A-0AF8-4C18-BE61-8546E9F7B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EFDE-49B2-463A-9207-B6BB48FE1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4562-6ADD-422F-A867-5735FA1B9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2FD0-52E5-4BEE-834F-EDF68289E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D842-0BC8-4F95-8531-96E064D031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F77F-4CBF-4292-92F0-54C7C3235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F8C9-828A-4325-B412-0F32BD391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4D68-4AD6-4903-9F86-66C23664DF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C42D-85EE-4650-BD68-BEF83A8E44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7CD8-195D-478A-B868-A2F6879DA2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2124-185B-4191-9973-AD33C08BE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1487-9A96-4368-BA4D-452AA2A6A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FFE2-88B7-4F99-9CDE-7F632414A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01E0-B3BB-4E61-BB5F-E127A152F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01C2-5C74-4E97-9BCB-D27404907C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3B07-ABD4-4C38-88E5-F654D85E0E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5F81-A1E6-4C14-ABFE-B47721C85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78BB-89AB-4FB9-AFD4-462D66D4B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8A83-F1CE-499A-96E8-424DE1FE5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D4F0-D94E-43A2-BFF9-94E779053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98E0-9B69-430C-877A-6BEA8B3CD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4C1E-ED89-4C94-BE7F-7897B9E06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CECD-C82E-4EB9-8A4B-77F89846E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2159-C490-4E95-A437-A4D852D09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D2F-DB91-41C5-AF67-B339F99B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E097-20D9-4EC2-A48B-A2AFCC64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834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he pre-slaughter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79640" y="4221000"/>
            <a:ext cx="6400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Prepared by Dr. Robin J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5516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87640" y="4941720"/>
            <a:ext cx="5616720" cy="11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193B-74DF-4F7D-85E5-1405EB007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Gu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87280" y="1341360"/>
          <a:ext cx="4032360" cy="38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40323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0" y="1700280"/>
            <a:ext cx="4356000" cy="244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asting increases rumen pH &amp; coliform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for Preferential growth of Specific pathogens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Salmonella, E. coli, Giar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479736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(Gregory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et al.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1889-E97C-4F72-B768-B5DAD0AE05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e1e1b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e1e1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Key issue 2: Animal welf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ngth of f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ngth of water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vironmental extremes (tempera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lectric pro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88E4-41FB-4670-B80C-885E8FB62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65320" y="304920"/>
            <a:ext cx="7521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152388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90200" y="1341360"/>
            <a:ext cx="28656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1400" y="0"/>
            <a:ext cx="46926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pH drops to ultimate pH (pH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260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1413000"/>
            <a:ext cx="6624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e1e1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Codes of practice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1e1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Codes of practice saley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1e1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Codes of practice abatt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publish.csiro.au/nid/22/pid/367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A241-7DD5-4C99-8E6E-76F6372F33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Implementation of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5840" y="1981080"/>
            <a:ext cx="67708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t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ve to one nation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tional codes still subject to state interpre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3CA9-A6C2-4A52-B92A-2B5CC558F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e1e1b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e1e1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Key issue 3 Meat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810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1628640"/>
            <a:ext cx="28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47640" y="2205000"/>
          <a:ext cx="6624360" cy="2084400"/>
        </p:xfrm>
        <a:graphic>
          <a:graphicData uri="http://schemas.openxmlformats.org/drawingml/2006/table">
            <a:tbl>
              <a:tblPr/>
              <a:tblGrid>
                <a:gridCol w="3217320"/>
                <a:gridCol w="340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scle weight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imming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1e1b7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1e1b7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1e1b7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d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1e1b7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 bi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E7C5-5C4A-4496-AB21-7C4E7930F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ve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astrointestinal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gan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cass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7CF3-3CC9-4EDD-ADFC-1C253E8C7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831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arcass weight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lairage</a:t>
            </a: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981000"/>
          <a:ext cx="589608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81000"/>
                    <a:ext cx="58960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042920" y="4508640"/>
            <a:ext cx="1873440" cy="825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Wat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27640" y="4581360"/>
            <a:ext cx="23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Effect difficult to detect within con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4653000"/>
            <a:ext cx="208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onsignments v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860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Jacob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2974-39CE-4AB8-92D7-810BECF2D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81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 score changes in lairag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519300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11280" y="220500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GR tissue depth tends to decrease with lairag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4581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Jacob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B9A3-D3E7-443E-A23A-9DD28BCE72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Weight loss due to fa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805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700360" y="1268280"/>
          <a:ext cx="5437080" cy="44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543708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11280" y="3284640"/>
            <a:ext cx="1873080" cy="1557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Water available in this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16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916280"/>
            <a:ext cx="180000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rebuchet MS"/>
              </a:rPr>
              <a:t>Literature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rebuchet MS"/>
              </a:rPr>
              <a:t>0.08-0.14%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Trebuchet MS"/>
              </a:rPr>
              <a:t>Δ</a:t>
            </a:r>
            <a:r>
              <a:rPr b="0" lang="en-AU" sz="1600" spc="-1" strike="noStrike">
                <a:solidFill>
                  <a:srgbClr val="000000"/>
                </a:solidFill>
                <a:latin typeface="Trebuchet MS"/>
              </a:rPr>
              <a:t> is curvi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5084640"/>
            <a:ext cx="27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Thompson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et al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(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65D2-514F-4BA4-AE7F-DAFEB54677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Fasting mobilises fat reser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5840" y="2892600"/>
          <a:ext cx="3809880" cy="17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892600"/>
                    <a:ext cx="3809880" cy="17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692360" y="1341360"/>
            <a:ext cx="4384440" cy="4011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372360" y="1989000"/>
            <a:ext cx="2160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um β Hydroxy-butyrate (BHB)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645000"/>
            <a:ext cx="1871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Serum glucos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4B84-9C85-45FD-8EA0-256C2B75D9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1798560" cy="170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1792440" cy="120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87640" y="3500280"/>
            <a:ext cx="1649520" cy="172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48360" y="861840"/>
            <a:ext cx="1995480" cy="13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24360" y="1413000"/>
            <a:ext cx="1008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1052640"/>
            <a:ext cx="1440000" cy="1557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 curfew 6-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3645000"/>
            <a:ext cx="1728720" cy="2090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ort 0.5-18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349360"/>
            <a:ext cx="2014560" cy="1015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i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48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6280"/>
            <a:ext cx="187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rebuchet MS"/>
              </a:rPr>
              <a:t>Farm to abattoir time 8.5-90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42100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6000" y="2781360"/>
            <a:ext cx="1584000" cy="459720"/>
          </a:xfrm>
          <a:prstGeom prst="rect">
            <a:avLst/>
          </a:pr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Sale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0"/>
            <a:endCxn id="95" idx="3"/>
          </p:cNvCxnSpPr>
          <p:nvPr/>
        </p:nvCxnSpPr>
        <p:spPr>
          <a:xfrm flipV="1" rot="16200000">
            <a:off x="4002840" y="1604880"/>
            <a:ext cx="735120" cy="328680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6948000" y="3357360"/>
            <a:ext cx="1151640" cy="1057680"/>
          </a:xfrm>
          <a:prstGeom prst="bentConnector2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H="1">
            <a:off x="6877080" y="3213000"/>
            <a:ext cx="1953000" cy="1502640"/>
          </a:xfrm>
          <a:prstGeom prst="bentConnector3">
            <a:avLst>
              <a:gd name="adj1" fmla="val -9752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3"/>
          </p:cNvCxnSpPr>
          <p:nvPr/>
        </p:nvCxnSpPr>
        <p:spPr>
          <a:xfrm flipH="1">
            <a:off x="6300360" y="1856880"/>
            <a:ext cx="244800" cy="1747080"/>
          </a:xfrm>
          <a:prstGeom prst="bentConnector4">
            <a:avLst>
              <a:gd name="adj1" fmla="val -81885"/>
              <a:gd name="adj2" fmla="val 7298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11280" y="4797360"/>
            <a:ext cx="1944720" cy="459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Sl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5" idx="2"/>
            <a:endCxn id="103" idx="0"/>
          </p:cNvCxnSpPr>
          <p:nvPr/>
        </p:nvCxnSpPr>
        <p:spPr>
          <a:xfrm rot="5400000">
            <a:off x="978120" y="4045680"/>
            <a:ext cx="1319760" cy="108720"/>
          </a:xfrm>
          <a:prstGeom prst="bentConnector3">
            <a:avLst>
              <a:gd name="adj1" fmla="val 50286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4103640" y="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Farm to slaugh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B702-7683-4B22-BE56-A455A9DDE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fficult to detec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carcass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Muscle changes sugges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C41B-C10F-4D5E-9FC1-AA83ECF201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ydratio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2133720"/>
          <a:ext cx="3960720" cy="1877760"/>
        </p:xfrm>
        <a:graphic>
          <a:graphicData uri="http://schemas.openxmlformats.org/drawingml/2006/table">
            <a:tbl>
              <a:tblPr/>
              <a:tblGrid>
                <a:gridCol w="1319040"/>
                <a:gridCol w="1322640"/>
                <a:gridCol w="1319040"/>
              </a:tblGrid>
              <a:tr h="64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en-A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A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+ Heat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+ Heat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- Heat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- Heat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292720" y="2349360"/>
            <a:ext cx="36720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rossbred la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laughtered after 48 hour treatment period (curf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5C9D-CD40-4ACD-BD1C-BC89AE66B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579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 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40072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90B8-D131-44D4-B0A0-C71F5B56A5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scle w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47640" y="1628640"/>
          <a:ext cx="551988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55198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EC78-4C59-4BB3-9012-9926716793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scle dry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762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5313-DDDE-41B4-B3D8-8F6801BBF8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372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uscle fibr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8327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3A11-F687-4E76-93A3-3FF2E9E85B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rine shows hyd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3080" y="981000"/>
            <a:ext cx="4418280" cy="446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9640" y="1628640"/>
            <a:ext cx="3600720" cy="193788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hange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addock to slaughter- 42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to wa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A9D4-9F77-4C1E-B036-E0E6512AFA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WA abattoir find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1844640"/>
          <a:ext cx="3600360" cy="25146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 age- </a:t>
                      </a:r>
                      <a:r>
                        <a:rPr b="1" lang="en-A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uckers&gt;carry o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- </a:t>
                      </a:r>
                      <a:r>
                        <a:rPr b="1" lang="en-A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ol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 curfew time- </a:t>
                      </a:r>
                      <a:r>
                        <a:rPr b="1" lang="en-A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of year- </a:t>
                      </a:r>
                      <a:r>
                        <a:rPr b="1" lang="en-A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winter/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527120" y="5105520"/>
            <a:ext cx="15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653000"/>
            <a:ext cx="273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G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1.025-1.0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“hydrat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11600" y="1812960"/>
            <a:ext cx="4016520" cy="3484800"/>
            <a:chOff x="4611600" y="1812960"/>
            <a:chExt cx="4016520" cy="3484800"/>
          </a:xfrm>
        </p:grpSpPr>
        <p:sp>
          <p:nvSpPr>
            <p:cNvPr id="193" name=""/>
            <p:cNvSpPr/>
            <p:nvPr/>
          </p:nvSpPr>
          <p:spPr>
            <a:xfrm>
              <a:off x="5367240" y="1901880"/>
              <a:ext cx="1800" cy="28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9720" y="47293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19720" y="44481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19720" y="41673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9720" y="3878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9720" y="35971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19720" y="33163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19720" y="3035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19720" y="27525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19720" y="24638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9720" y="21826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9720" y="19018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7240" y="4729320"/>
              <a:ext cx="321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367240" y="47293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65632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952960" y="47293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24204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53904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82956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126200" y="47293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41528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11920" y="47293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00100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298000" y="47293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586720" y="47293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67240" y="2206800"/>
              <a:ext cx="289080" cy="434880"/>
            </a:xfrm>
            <a:custGeom>
              <a:avLst/>
              <a:gdLst/>
              <a:ahLst/>
              <a:rect l="l" t="t" r="r" b="b"/>
              <a:pathLst>
                <a:path w="182" h="274">
                  <a:moveTo>
                    <a:pt x="0" y="274"/>
                  </a:moveTo>
                  <a:lnTo>
                    <a:pt x="20" y="238"/>
                  </a:lnTo>
                  <a:lnTo>
                    <a:pt x="45" y="198"/>
                  </a:lnTo>
                  <a:lnTo>
                    <a:pt x="91" y="112"/>
                  </a:lnTo>
                  <a:lnTo>
                    <a:pt x="111" y="76"/>
                  </a:lnTo>
                  <a:lnTo>
                    <a:pt x="136" y="41"/>
                  </a:lnTo>
                  <a:lnTo>
                    <a:pt x="157" y="16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6320" y="2198520"/>
              <a:ext cx="296640" cy="185760"/>
            </a:xfrm>
            <a:custGeom>
              <a:avLst/>
              <a:gdLst/>
              <a:ahLst/>
              <a:rect l="l" t="t" r="r" b="b"/>
              <a:pathLst>
                <a:path w="187" h="117">
                  <a:moveTo>
                    <a:pt x="0" y="5"/>
                  </a:moveTo>
                  <a:lnTo>
                    <a:pt x="25" y="0"/>
                  </a:lnTo>
                  <a:lnTo>
                    <a:pt x="46" y="10"/>
                  </a:lnTo>
                  <a:lnTo>
                    <a:pt x="71" y="26"/>
                  </a:lnTo>
                  <a:lnTo>
                    <a:pt x="91" y="51"/>
                  </a:lnTo>
                  <a:lnTo>
                    <a:pt x="116" y="71"/>
                  </a:lnTo>
                  <a:lnTo>
                    <a:pt x="142" y="91"/>
                  </a:lnTo>
                  <a:lnTo>
                    <a:pt x="162" y="107"/>
                  </a:lnTo>
                  <a:lnTo>
                    <a:pt x="187" y="117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52960" y="2239920"/>
              <a:ext cx="289080" cy="14436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lnTo>
                    <a:pt x="25" y="86"/>
                  </a:lnTo>
                  <a:lnTo>
                    <a:pt x="46" y="70"/>
                  </a:lnTo>
                  <a:lnTo>
                    <a:pt x="71" y="55"/>
                  </a:lnTo>
                  <a:lnTo>
                    <a:pt x="91" y="30"/>
                  </a:lnTo>
                  <a:lnTo>
                    <a:pt x="111" y="15"/>
                  </a:lnTo>
                  <a:lnTo>
                    <a:pt x="137" y="5"/>
                  </a:lnTo>
                  <a:lnTo>
                    <a:pt x="147" y="0"/>
                  </a:lnTo>
                  <a:lnTo>
                    <a:pt x="157" y="5"/>
                  </a:lnTo>
                  <a:lnTo>
                    <a:pt x="172" y="10"/>
                  </a:lnTo>
                  <a:lnTo>
                    <a:pt x="182" y="2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2040" y="2271600"/>
              <a:ext cx="297000" cy="77940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0" y="0"/>
                  </a:moveTo>
                  <a:lnTo>
                    <a:pt x="10" y="15"/>
                  </a:lnTo>
                  <a:lnTo>
                    <a:pt x="26" y="40"/>
                  </a:lnTo>
                  <a:lnTo>
                    <a:pt x="36" y="66"/>
                  </a:lnTo>
                  <a:lnTo>
                    <a:pt x="46" y="101"/>
                  </a:lnTo>
                  <a:lnTo>
                    <a:pt x="71" y="172"/>
                  </a:lnTo>
                  <a:lnTo>
                    <a:pt x="91" y="253"/>
                  </a:lnTo>
                  <a:lnTo>
                    <a:pt x="117" y="334"/>
                  </a:lnTo>
                  <a:lnTo>
                    <a:pt x="127" y="369"/>
                  </a:lnTo>
                  <a:lnTo>
                    <a:pt x="142" y="405"/>
                  </a:lnTo>
                  <a:lnTo>
                    <a:pt x="152" y="435"/>
                  </a:lnTo>
                  <a:lnTo>
                    <a:pt x="162" y="460"/>
                  </a:lnTo>
                  <a:lnTo>
                    <a:pt x="177" y="481"/>
                  </a:lnTo>
                  <a:lnTo>
                    <a:pt x="187" y="49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39040" y="2705040"/>
              <a:ext cx="290520" cy="354240"/>
            </a:xfrm>
            <a:custGeom>
              <a:avLst/>
              <a:gdLst/>
              <a:ahLst/>
              <a:rect l="l" t="t" r="r" b="b"/>
              <a:pathLst>
                <a:path w="183" h="223">
                  <a:moveTo>
                    <a:pt x="0" y="218"/>
                  </a:moveTo>
                  <a:lnTo>
                    <a:pt x="11" y="223"/>
                  </a:lnTo>
                  <a:lnTo>
                    <a:pt x="26" y="223"/>
                  </a:lnTo>
                  <a:lnTo>
                    <a:pt x="36" y="213"/>
                  </a:lnTo>
                  <a:lnTo>
                    <a:pt x="46" y="203"/>
                  </a:lnTo>
                  <a:lnTo>
                    <a:pt x="56" y="187"/>
                  </a:lnTo>
                  <a:lnTo>
                    <a:pt x="71" y="167"/>
                  </a:lnTo>
                  <a:lnTo>
                    <a:pt x="91" y="122"/>
                  </a:lnTo>
                  <a:lnTo>
                    <a:pt x="112" y="76"/>
                  </a:lnTo>
                  <a:lnTo>
                    <a:pt x="137" y="36"/>
                  </a:lnTo>
                  <a:lnTo>
                    <a:pt x="147" y="20"/>
                  </a:lnTo>
                  <a:lnTo>
                    <a:pt x="157" y="10"/>
                  </a:lnTo>
                  <a:lnTo>
                    <a:pt x="172" y="0"/>
                  </a:lnTo>
                  <a:lnTo>
                    <a:pt x="18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29560" y="2705040"/>
              <a:ext cx="296640" cy="459000"/>
            </a:xfrm>
            <a:custGeom>
              <a:avLst/>
              <a:gdLst/>
              <a:ahLst/>
              <a:rect l="l" t="t" r="r" b="b"/>
              <a:pathLst>
                <a:path w="187" h="289">
                  <a:moveTo>
                    <a:pt x="0" y="0"/>
                  </a:moveTo>
                  <a:lnTo>
                    <a:pt x="10" y="5"/>
                  </a:lnTo>
                  <a:lnTo>
                    <a:pt x="25" y="15"/>
                  </a:lnTo>
                  <a:lnTo>
                    <a:pt x="35" y="30"/>
                  </a:lnTo>
                  <a:lnTo>
                    <a:pt x="45" y="51"/>
                  </a:lnTo>
                  <a:lnTo>
                    <a:pt x="70" y="96"/>
                  </a:lnTo>
                  <a:lnTo>
                    <a:pt x="91" y="147"/>
                  </a:lnTo>
                  <a:lnTo>
                    <a:pt x="116" y="197"/>
                  </a:lnTo>
                  <a:lnTo>
                    <a:pt x="141" y="243"/>
                  </a:lnTo>
                  <a:lnTo>
                    <a:pt x="151" y="258"/>
                  </a:lnTo>
                  <a:lnTo>
                    <a:pt x="161" y="273"/>
                  </a:lnTo>
                  <a:lnTo>
                    <a:pt x="177" y="284"/>
                  </a:lnTo>
                  <a:lnTo>
                    <a:pt x="187" y="289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26200" y="2793960"/>
              <a:ext cx="289080" cy="370080"/>
            </a:xfrm>
            <a:custGeom>
              <a:avLst/>
              <a:gdLst/>
              <a:ahLst/>
              <a:rect l="l" t="t" r="r" b="b"/>
              <a:pathLst>
                <a:path w="182" h="233">
                  <a:moveTo>
                    <a:pt x="0" y="233"/>
                  </a:moveTo>
                  <a:lnTo>
                    <a:pt x="25" y="228"/>
                  </a:lnTo>
                  <a:lnTo>
                    <a:pt x="45" y="212"/>
                  </a:lnTo>
                  <a:lnTo>
                    <a:pt x="71" y="187"/>
                  </a:lnTo>
                  <a:lnTo>
                    <a:pt x="91" y="157"/>
                  </a:lnTo>
                  <a:lnTo>
                    <a:pt x="111" y="116"/>
                  </a:lnTo>
                  <a:lnTo>
                    <a:pt x="136" y="76"/>
                  </a:lnTo>
                  <a:lnTo>
                    <a:pt x="157" y="35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15280" y="2255760"/>
              <a:ext cx="296640" cy="538200"/>
            </a:xfrm>
            <a:custGeom>
              <a:avLst/>
              <a:gdLst/>
              <a:ahLst/>
              <a:rect l="l" t="t" r="r" b="b"/>
              <a:pathLst>
                <a:path w="187" h="339">
                  <a:moveTo>
                    <a:pt x="0" y="339"/>
                  </a:moveTo>
                  <a:lnTo>
                    <a:pt x="25" y="298"/>
                  </a:lnTo>
                  <a:lnTo>
                    <a:pt x="45" y="253"/>
                  </a:lnTo>
                  <a:lnTo>
                    <a:pt x="71" y="197"/>
                  </a:lnTo>
                  <a:lnTo>
                    <a:pt x="91" y="146"/>
                  </a:lnTo>
                  <a:lnTo>
                    <a:pt x="116" y="96"/>
                  </a:lnTo>
                  <a:lnTo>
                    <a:pt x="141" y="55"/>
                  </a:lnTo>
                  <a:lnTo>
                    <a:pt x="162" y="20"/>
                  </a:lnTo>
                  <a:lnTo>
                    <a:pt x="177" y="10"/>
                  </a:lnTo>
                  <a:lnTo>
                    <a:pt x="18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11920" y="2247840"/>
              <a:ext cx="28908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0" y="5"/>
                  </a:moveTo>
                  <a:lnTo>
                    <a:pt x="25" y="0"/>
                  </a:lnTo>
                  <a:lnTo>
                    <a:pt x="46" y="5"/>
                  </a:lnTo>
                  <a:lnTo>
                    <a:pt x="71" y="15"/>
                  </a:lnTo>
                  <a:lnTo>
                    <a:pt x="91" y="35"/>
                  </a:lnTo>
                  <a:lnTo>
                    <a:pt x="137" y="86"/>
                  </a:lnTo>
                  <a:lnTo>
                    <a:pt x="157" y="106"/>
                  </a:lnTo>
                  <a:lnTo>
                    <a:pt x="182" y="126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1000" y="2448000"/>
              <a:ext cx="297000" cy="177840"/>
            </a:xfrm>
            <a:custGeom>
              <a:avLst/>
              <a:gdLst/>
              <a:ahLst/>
              <a:rect l="l" t="t" r="r" b="b"/>
              <a:pathLst>
                <a:path w="187" h="112">
                  <a:moveTo>
                    <a:pt x="0" y="0"/>
                  </a:moveTo>
                  <a:lnTo>
                    <a:pt x="91" y="56"/>
                  </a:lnTo>
                  <a:lnTo>
                    <a:pt x="187" y="112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8000" y="2625840"/>
              <a:ext cx="288720" cy="1364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0" y="0"/>
                  </a:moveTo>
                  <a:lnTo>
                    <a:pt x="91" y="45"/>
                  </a:lnTo>
                  <a:lnTo>
                    <a:pt x="182" y="86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367240" y="2479680"/>
              <a:ext cx="1800" cy="162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5560" y="2479680"/>
              <a:ext cx="716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656320" y="2062080"/>
              <a:ext cx="1440" cy="144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4640" y="2062080"/>
              <a:ext cx="71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952960" y="2231640"/>
              <a:ext cx="1800" cy="152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21280" y="2232000"/>
              <a:ext cx="716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242040" y="2095200"/>
              <a:ext cx="1440" cy="176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0360" y="209556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39040" y="2881080"/>
              <a:ext cx="1440" cy="1695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07000" y="288144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829560" y="2448000"/>
              <a:ext cx="1440" cy="257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6080" y="244800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126200" y="2937960"/>
              <a:ext cx="1800" cy="22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3080" y="2938320"/>
              <a:ext cx="727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415280" y="2649240"/>
              <a:ext cx="1440" cy="1443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83600" y="2649600"/>
              <a:ext cx="712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711920" y="2126880"/>
              <a:ext cx="1800" cy="128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80240" y="2127240"/>
              <a:ext cx="716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001000" y="2255760"/>
              <a:ext cx="1440" cy="192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69320" y="2255760"/>
              <a:ext cx="71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298000" y="2504880"/>
              <a:ext cx="1440" cy="120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65960" y="250524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586720" y="2616120"/>
              <a:ext cx="1800" cy="1461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55040" y="2616120"/>
              <a:ext cx="730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67240" y="2641680"/>
              <a:ext cx="1800" cy="152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5560" y="2793960"/>
              <a:ext cx="7164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56320" y="2206800"/>
              <a:ext cx="1440" cy="1443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24640" y="2351160"/>
              <a:ext cx="712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52960" y="2384280"/>
              <a:ext cx="1800" cy="1605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21280" y="2544840"/>
              <a:ext cx="716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2040" y="2271600"/>
              <a:ext cx="1440" cy="176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10360" y="244800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9040" y="3051000"/>
              <a:ext cx="1440" cy="176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07000" y="3227400"/>
              <a:ext cx="730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29560" y="2705040"/>
              <a:ext cx="1440" cy="249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96080" y="2954160"/>
              <a:ext cx="730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26200" y="3164040"/>
              <a:ext cx="1800" cy="231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3395520"/>
              <a:ext cx="727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5280" y="2793960"/>
              <a:ext cx="1440" cy="1443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83600" y="2938320"/>
              <a:ext cx="71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920" y="2255760"/>
              <a:ext cx="1800" cy="136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80240" y="2392200"/>
              <a:ext cx="7164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01000" y="2448000"/>
              <a:ext cx="1440" cy="201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69320" y="2649600"/>
              <a:ext cx="712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98000" y="2625840"/>
              <a:ext cx="1440" cy="126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65960" y="2752560"/>
              <a:ext cx="730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86720" y="2762280"/>
              <a:ext cx="1800" cy="136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55040" y="2898720"/>
              <a:ext cx="730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560" y="2608200"/>
              <a:ext cx="5544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24640" y="2174760"/>
              <a:ext cx="5544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21280" y="2351160"/>
              <a:ext cx="5580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10360" y="2239920"/>
              <a:ext cx="55440" cy="554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7000" y="3017880"/>
              <a:ext cx="5724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96080" y="2673360"/>
              <a:ext cx="57240" cy="554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3130560"/>
              <a:ext cx="5688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83600" y="2762280"/>
              <a:ext cx="55440" cy="554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80240" y="2222640"/>
              <a:ext cx="55800" cy="5688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69320" y="2416320"/>
              <a:ext cx="55440" cy="554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65960" y="2592360"/>
              <a:ext cx="5580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55040" y="2728800"/>
              <a:ext cx="57240" cy="57240"/>
            </a:xfrm>
            <a:prstGeom prst="ellipse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8688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81240" y="43610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73040" y="40784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81240" y="37893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73040" y="35082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81240" y="3227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73040" y="29462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81240" y="26654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73040" y="2376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81240" y="2095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3040" y="18129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66800" y="485784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3720" y="485784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38240" y="485784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4040" y="485784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0920" y="4857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90000" y="48578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7360" y="511488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3977280" y="3173400"/>
              <a:ext cx="1436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rine Specific grav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012000" y="12682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Consignment mean U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51577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Jacob et a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C2BB-027B-417E-995C-31A250429E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battoir compa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92360" y="1773360"/>
          <a:ext cx="6548400" cy="2009520"/>
        </p:xfrm>
        <a:graphic>
          <a:graphicData uri="http://schemas.openxmlformats.org/drawingml/2006/table">
            <a:tbl>
              <a:tblPr/>
              <a:tblGrid>
                <a:gridCol w="2182680"/>
                <a:gridCol w="2183040"/>
                <a:gridCol w="218268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an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± s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G &gt;1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1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8 ± 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 ± 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Vic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042 ± 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.2 ± 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3419640" y="4221000"/>
            <a:ext cx="3816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ore prevalent in cooler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idespread in Austra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1360" y="4653000"/>
            <a:ext cx="26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Jacob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et al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5010-8FE8-46AA-9A9B-9AA213D7F3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Preventative strategies tes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11280" y="1557360"/>
          <a:ext cx="8348400" cy="3863880"/>
        </p:xfrm>
        <a:graphic>
          <a:graphicData uri="http://schemas.openxmlformats.org/drawingml/2006/table">
            <a:tbl>
              <a:tblPr/>
              <a:tblGrid>
                <a:gridCol w="2782800"/>
                <a:gridCol w="3770280"/>
                <a:gridCol w="179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t feed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water intake on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water in 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ly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water in 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59E9-CB23-419D-9B72-AB9F877F75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Farm curf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mpty out”- urine and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cesso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nger when feed is green and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verage time for sheep about 14 hours (WA stu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sh by industry to reduce s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8AB7-CF8D-40CF-94FF-01B81138B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472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gh salt di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55640" y="1125360"/>
          <a:ext cx="4913280" cy="37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491328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11280" y="5013360"/>
            <a:ext cx="835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Trebuchet MS"/>
              </a:rPr>
              <a:t>FER Na =(Urine [Na] / Serum [Na])/ (Urine [creatinine] / serum [creatinine])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205000"/>
            <a:ext cx="2952720" cy="14724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mp 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2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incides with trucking- may increase so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08720" y="443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(Jacob and Pearce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574A-800F-4EAF-97A5-9123FE6408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lectroly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970080" cy="3390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867280" y="2492280"/>
            <a:ext cx="2808360" cy="138168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water in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HCW, 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4797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Jacob and Davidson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B027-B8E6-4B15-AD3C-DF200B1FF3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e1e1b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e1e1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Key issue 4 Meat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scle glycogen concentration- dark cu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umer evaluation- tenderness, juiciness, colour, flavour, overall li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SA SMEQ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68AE-06E2-4977-BB12-FE4B7CC718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Impact of stres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verse environment causes hormonal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rmonal responses cause biochemic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ochemical changes in live animal change mea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41E8-61A4-4770-BDCC-6D0802115A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uscle glycogen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ercise (anaerobic)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renaline, noradrenaline &amp; corti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ycogen phosphorylase activ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scle glycogen concentration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sting mobilises fat not glyc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t mobilisation conserves rather than depletes muscle glyc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F847-A282-4DEE-96CF-6ACBBB38A0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Response to stress is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826920" y="1844640"/>
          <a:ext cx="7993080" cy="2860560"/>
        </p:xfrm>
        <a:graphic>
          <a:graphicData uri="http://schemas.openxmlformats.org/drawingml/2006/table">
            <a:tbl>
              <a:tblPr/>
              <a:tblGrid>
                <a:gridCol w="995400"/>
                <a:gridCol w="1274760"/>
                <a:gridCol w="1320840"/>
                <a:gridCol w="1146240"/>
                <a:gridCol w="1147680"/>
                <a:gridCol w="966960"/>
                <a:gridCol w="1141200"/>
              </a:tblGrid>
              <a:tr h="444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mple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 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9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8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6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0</a:t>
                      </a:r>
                      <a:r>
                        <a:rPr b="1" lang="en-A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r>
                        <a:rPr b="1" lang="en-A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8</a:t>
                      </a:r>
                      <a:r>
                        <a:rPr b="1" lang="en-A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</a:t>
                      </a:r>
                      <a:r>
                        <a:rPr b="1" lang="en-A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sig : NS not significant, * P &lt; 0.05, ** P &lt; 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050920" y="126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Lamb commercial con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DC57-982F-4B6C-910C-3847C32F86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Risk factors for glycogen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xing bulls and boars in lai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ifers on heat in lai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eed (merino &gt; crossbr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ng farm curfew time (lam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gh glycogen concentration on farm (lam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7B81-BFC3-48D5-9A01-A2D82702C3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Genotype &amp; stress suscep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58920" y="1028880"/>
          <a:ext cx="604980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28880"/>
                    <a:ext cx="60498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5651640" y="3429000"/>
            <a:ext cx="331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Merino more susceptible to glycogen loss due to stress than crossbr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95640" y="515772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 Gardner et al (1999).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JAR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, 175-18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D8F9-C84D-420E-A6AE-AE5EF0DA6F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tarting glyc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54600" cy="4897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084720" y="2492280"/>
            <a:ext cx="288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igh [glycogen] easier to 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8000" y="357336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Jacob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A828-0676-4DBC-9B32-05205B1718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agnesium supp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056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gnesium blocks adrenaline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esn’t replace goo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ponse to treatment &gt; in glycolytic muscles  than oxidative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2D4-68AE-4A4F-B5B2-AB40F9792C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lk ru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tance from abatt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airage closing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rries (Bass strait, Kangaroo Is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DED1-A0DE-474C-8FDB-4527944AC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agnesium use for pi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16000" y="1916280"/>
          <a:ext cx="5184720" cy="28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5184720" cy="28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796000" y="2060640"/>
            <a:ext cx="3024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vention of PSE in p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Mg Aspartate 20g/pig/day for 2 days prior to slaugh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141300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ycogen concentration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longisimuss do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4437000"/>
            <a:ext cx="280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 D'Souza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et al.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AC6-761C-42BF-8D08-CFCD656E6F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agnesium use for lam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71640" y="1844640"/>
          <a:ext cx="504036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04036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156360" y="2133720"/>
            <a:ext cx="287964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vention of DFD in lamb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  <a:ea typeface="Arial"/>
              </a:rPr>
              <a:t>MgO 1% of ration 4 days prior to slaugh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7640" y="414972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Gardner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et al.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0A61-4EF7-4C3E-AB8B-7D4768765E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826920" y="1052640"/>
          <a:ext cx="7705800" cy="2860560"/>
        </p:xfrm>
        <a:graphic>
          <a:graphicData uri="http://schemas.openxmlformats.org/drawingml/2006/table">
            <a:tbl>
              <a:tblPr/>
              <a:tblGrid>
                <a:gridCol w="1371600"/>
                <a:gridCol w="754200"/>
                <a:gridCol w="754200"/>
                <a:gridCol w="753840"/>
                <a:gridCol w="755640"/>
                <a:gridCol w="730440"/>
                <a:gridCol w="807840"/>
                <a:gridCol w="555840"/>
                <a:gridCol w="1222200"/>
              </a:tblGrid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-H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-H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+H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+H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 x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p loss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 loss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8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6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3a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9b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1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4360" y="4076640"/>
            <a:ext cx="813564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Reduces drip and cooking losses and causes meat to be darker in col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No effect on p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hydrated meat more “stick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May increase tenderness-Consumer evaluation 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11592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Dehydration &amp; meat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704A-D978-42C6-977A-D2CF97C5432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Other effects on meat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y be an effect of fasting on ten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ress immediately prior to sl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 day lairage recommended for mea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27CC-717C-492C-A674-61437CD341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at yield, quality, food safety, and consumer acceptance of lamb meat are all potentially affected by curfe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rfew should be as short but not too shor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re direct consignment is possible, this should be considered preferable to indirect consig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22DE-8D00-4789-8C40-8A06309D96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ai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gh stocking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te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D4C7-E14D-4A21-81F7-97C2C48DC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1125360"/>
          <a:ext cx="7772400" cy="3684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1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4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arm curf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reparation for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ransport farm to abatto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ai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est and prepare for sl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8938-F7E1-4F46-AB1D-51F80458EA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77280" cy="1143000"/>
          </a:xfrm>
          <a:prstGeom prst="rect">
            <a:avLst/>
          </a:prstGeom>
          <a:gradFill rotWithShape="0">
            <a:gsLst>
              <a:gs pos="0">
                <a:srgbClr val="e1e1b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e1e1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Key issues pre-slaug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oo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imal wel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eat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eat ea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2888-C050-4B09-BE0F-8838911F29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gradFill rotWithShape="0">
            <a:gsLst>
              <a:gs pos="0">
                <a:srgbClr val="e1e1b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e1e1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Key issue 1: Food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4696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iling- faeces and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ru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ustry favours long feed and water curfew (36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CC11-2B56-47AC-8ECB-EE015FC02F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Rumen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341360"/>
          <a:ext cx="381024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381024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26920" y="4149720"/>
            <a:ext cx="756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Dry matter content and weight of rumen contents decrease with f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869000"/>
            <a:ext cx="1944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Petersen 19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76720" y="1341360"/>
          <a:ext cx="381024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341360"/>
                    <a:ext cx="381024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53B2-7C9D-4728-9E8E-C7BBDC4C49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Peter Sommerville</cp:lastModifiedBy>
  <dcterms:modified xsi:type="dcterms:W3CDTF">2010-06-01T06:24:46Z</dcterms:modified>
  <cp:revision>2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7454501</vt:r8>
  </property>
  <property fmtid="{D5CDD505-2E9C-101B-9397-08002B2CF9AE}" pid="3" name="_AuthorEmail">
    <vt:lpwstr>RJacob@agric.wa.gov.au</vt:lpwstr>
  </property>
  <property fmtid="{D5CDD505-2E9C-101B-9397-08002B2CF9AE}" pid="4" name="_AuthorEmailDisplayName">
    <vt:lpwstr>Jacob, Robin</vt:lpwstr>
  </property>
  <property fmtid="{D5CDD505-2E9C-101B-9397-08002B2CF9AE}" pid="5" name="_EmailSubject">
    <vt:lpwstr>Meat Technology Topics</vt:lpwstr>
  </property>
  <property fmtid="{D5CDD505-2E9C-101B-9397-08002B2CF9AE}" pid="6" name="_ReviewingToolsShownOnce">
    <vt:lpwstr/>
  </property>
</Properties>
</file>