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931B-8BB1-4554-906C-51E27D9D4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4E5A-310D-4352-9C67-37443DF19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1D29-4434-46EC-A2CC-94FD511E6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2C60-BA72-4466-930A-4A13CD91A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51F1-9AA5-413C-B884-B46E28FA44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AEA73-8FEC-41B7-8E05-A5A207FD13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7E5B0-A23F-4E3B-9DD9-A4411FFCB7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27F7F-D88B-471F-B4D6-B6B3DB3F3A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B99C-1928-4762-84F2-59BBED6250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04155-9271-49EB-8962-9094CCD3D4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5D783-B47C-496E-9092-1830B722D6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9E87-11CF-46AF-A156-076AA8744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C4B0-F692-4392-BCF5-721D71D8CD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CDA93-E71C-4B73-A6A1-B9C0C0F005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232C2-4671-41D5-953F-6E172A2DBC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088D-F42E-496F-8C75-31D790F277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F6F0-E6FA-4143-B7BA-197FC443CC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82CD-0E89-4FC7-86E2-E3FF9BF43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FF34-E270-4673-AB70-B9003F605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7483-B058-4650-B654-569A68A3E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4811-3196-46F5-87E9-A020E363B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4352-C8ED-4A1D-8835-17DB9FF94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AAA4-E966-4F3A-B882-942F2F475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BE90-DF1C-498F-B3B8-3F0233061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F4E4-86F3-4EE6-A6AF-3DE920915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BA10-7E0E-45D1-BAAC-AED4A83E4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536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ing Vacuum-packing and 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C160D-C69C-4339-8D75-530A69E8F3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naerobic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5840" y="1844640"/>
            <a:ext cx="77724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erobic conditions in vacuum pa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growth of lactic aci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 the growth of aerobic spoilage bacteria such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seudomonas s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aerobic conditions are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using low oxygen permeability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ption of oxygen by meat tissue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3AED-EC0C-42E9-AA95-81DFFF4F81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age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uum-packed meat can be store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days for beef at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 days for lamb at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 days for pork at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753E-D0B5-4E80-A4DC-52B78E2E98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 of conditions on 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5840" y="1699920"/>
            <a:ext cx="777240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 to maximize storage lif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Temperature 0 to 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permeability of the packaging film &lt; 35 ml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4 hours at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total microbial count &lt; 1000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of lean meat &lt;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E1CD-704E-4ADA-A835-91A6AB8268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ptable vacuum-packed me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ark in 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n odour when the pack is o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weep in the p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small gas bubbles in the p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short display life after opening the p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431D-7F8D-4BFC-B259-DE964C47B1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cceptable vacuum-packed me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brown green or bright red while in the p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persistent odour after the pack is op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&gt; 4% weep in the p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142F-83B9-43BD-8329-0BF2590B86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t tenderises when held at temperatures above freezing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rising is a result of the breakdown of proteins in the post-mortem muscle by naturally occurring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3464-46DA-40F2-AD3D-4C5B6B60AA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ing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e of tenderization is temperature 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f is fully aged in about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mb is fully aged in about 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ok is fully aged in about 7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97BD-B90D-4078-ADC9-1B622D5BB5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cuum-packing and age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ing in vacuum p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reliable storage without spoilage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evaporative weigh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0D5E-ECE2-4E26-ABE4-B59784F8E1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Peter Sommerville</cp:lastModifiedBy>
  <dcterms:modified xsi:type="dcterms:W3CDTF">2010-06-01T06:54:56Z</dcterms:modified>
  <cp:revision>124</cp:revision>
  <dc:subject/>
  <dc:title>PowerPoint Presentation</dc:title>
</cp:coreProperties>
</file>