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292C-0967-4A36-A71F-DDBC21FE8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concept of genetic benchmarking and the two best practice benchmarks: bloodline performance and sire performance.  It also looks at the various tools required by woolgrowers and stud breeders for genetic benchmarking: a formally-defined breeding objective, performance records, wether trials, bloodline performance, on-farm trials, comparative analysis groups, central test sire evaluation and across-stud eval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Allan Casey,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3840" y="534960"/>
            <a:ext cx="3652560" cy="273996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e wool industry to expand and for growers to remain viable they must have an effective means to breed genetically superior animals that meet consumer needs.  Genetic benchmarking can be used effectively to assist woolgrowers obtain a very significant improvement in their flock’s performance and economic returns.  Benchmarking can establish the relative performance of Merino bloodlines, flocks and rams, to assist the large number of breeders who feel they need to change to achieve their breeding objecti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3840" y="534960"/>
            <a:ext cx="3652560" cy="273996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wo “best practice” genetic benchmarks are bloodline performance, using combined wether trial data, and sire performance, based on central test sire evaluation (CT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3840" y="534960"/>
            <a:ext cx="3652560" cy="2739960"/>
          </a:xfrm>
          <a:prstGeom prst="rect">
            <a:avLst/>
          </a:prstGeom>
          <a:ln w="0">
            <a:noFill/>
          </a:ln>
        </p:spPr>
      </p:sp>
      <p:sp>
        <p:nvSpPr>
          <p:cNvPr id="78" name="PlaceHolder 2"/>
          <p:cNvSpPr>
            <a:spLocks noGrp="1"/>
          </p:cNvSpPr>
          <p:nvPr>
            <p:ph type="body"/>
          </p:nvPr>
        </p:nvSpPr>
        <p:spPr>
          <a:xfrm>
            <a:off x="309600" y="3505320"/>
            <a:ext cx="6253200" cy="4876560"/>
          </a:xfrm>
          <a:prstGeom prst="rect">
            <a:avLst/>
          </a:prstGeom>
          <a:noFill/>
          <a:ln w="0">
            <a:noFill/>
          </a:ln>
        </p:spPr>
        <p:txBody>
          <a:bodyPr lIns="92160" rIns="92160" tIns="46080" bIns="4608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a:t>
            </a:r>
            <a:r>
              <a:rPr b="0" lang="en-US" sz="1100" spc="-1" strike="noStrike">
                <a:solidFill>
                  <a:srgbClr val="000000"/>
                </a:solidFill>
                <a:latin typeface="Times New Roman"/>
              </a:rPr>
              <a:t>Allan Casey, NSW Agriculture.</a:t>
            </a: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Genetic benchmarking in the Merino industry can be carried out using a range of readily available tools.  If used effectively, these tools make benchmarking a practical and achievable process for most commercial woolgrowe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enchmarking enables the breeder to establish the standard of the bloodline, flock or animal.  However, benchmarking will be of little value unless the breeder involved has a clearly defined and effective breeding objective.  Without a breeding objective, the breeder does not know how to assess the value of alternatives identified by way of benchmarking to achieve the maximum improvement.  A long-term well-defined and measurable breeding objective is essential to the benchmarking process.  Emphasis should be on traits that contribute to commercial profitability, taking into account the large percentage of commercial value attributable to fleece weight and fibre diameter - about 90% under a range of market periods during the past 10 yea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eliable measurements are essential to the benchmarking process.  They allow relative performance to be clearly defined and demonstrated.  The traits that dictate the majority of a commercial woolgrower’s performance can be accurately assessed; fibre diameter, fleece weight and body weight as well as wool yield, tensile strength, style, length and colour.  Routine objective wool sale measurements enable the quality, quantity and economic value of wool to be established.  These same measures can be used to describe bloodline, flock and ram performance when benchmark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ether trials are an effective way to evaluate the performance of a flock relative to several others. Trials compare a sample of wethers from several different flocks.   During the evaluation period - commonly between two and four years - they are grown and managed as one group.  A single</a:t>
            </a:r>
            <a:r>
              <a:rPr b="0" i="1" lang="en-AU" sz="1100" spc="-1" strike="noStrike">
                <a:solidFill>
                  <a:srgbClr val="000000"/>
                </a:solidFill>
                <a:latin typeface="Times New Roman"/>
              </a:rPr>
              <a:t> </a:t>
            </a:r>
            <a:r>
              <a:rPr b="0" lang="en-AU" sz="1100" spc="-1" strike="noStrike">
                <a:solidFill>
                  <a:srgbClr val="000000"/>
                </a:solidFill>
                <a:latin typeface="Times New Roman"/>
              </a:rPr>
              <a:t>wether trial result should </a:t>
            </a:r>
            <a:r>
              <a:rPr b="0" lang="en-AU" sz="1100" spc="-1" strike="noStrike" u="sng">
                <a:solidFill>
                  <a:srgbClr val="000000"/>
                </a:solidFill>
                <a:uFillTx/>
                <a:latin typeface="Times New Roman"/>
              </a:rPr>
              <a:t>not</a:t>
            </a:r>
            <a:r>
              <a:rPr b="0" lang="en-AU" sz="1100" spc="-1" strike="noStrike">
                <a:solidFill>
                  <a:srgbClr val="000000"/>
                </a:solidFill>
                <a:latin typeface="Times New Roman"/>
              </a:rPr>
              <a:t> be used as a measure of the performance of the bloodlines that were used to breed the wethers.  Superiority of bloodlines can only be estimated from wether trial results when individual trials are effectively combined to reduce the effects of low numbers and flock variation within a bloodlin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esults from 76 wether trials conducted in NSW and Victoria have been collated by NSW Agriculture since 1992.  Bloodline performance is recorded for 11 key traits including gross margin per dry sheep equivalent, clean fleece weight, fibre diameter, yield, fibre diameter blow-out, body weight, style, length and strength.  The </a:t>
            </a:r>
            <a:r>
              <a:rPr b="0" i="1" lang="en-AU" sz="1100" spc="-1" strike="noStrike">
                <a:solidFill>
                  <a:srgbClr val="000000"/>
                </a:solidFill>
                <a:latin typeface="Times New Roman"/>
              </a:rPr>
              <a:t>Bloodline Performance</a:t>
            </a:r>
            <a:r>
              <a:rPr b="0" lang="en-AU" sz="1100" spc="-1" strike="noStrike">
                <a:solidFill>
                  <a:srgbClr val="000000"/>
                </a:solidFill>
                <a:latin typeface="Times New Roman"/>
              </a:rPr>
              <a:t> package allows a breeder to benchmark his or her bloodline to a large range of widely used bloodlines.</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3840" y="534960"/>
            <a:ext cx="3652560" cy="273996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ll-run on-farm comparisons can provide an accurate evaluation of bloodline and flock performance.  While the number of bloodlines that can be accurately evaluated is limited, they do however,</a:t>
            </a:r>
            <a:r>
              <a:rPr b="0" i="1" lang="en-AU" sz="1200" spc="-1" strike="noStrike">
                <a:solidFill>
                  <a:srgbClr val="000000"/>
                </a:solidFill>
                <a:latin typeface="Times New Roman"/>
              </a:rPr>
              <a:t> </a:t>
            </a:r>
            <a:r>
              <a:rPr b="0" lang="en-AU" sz="1200" spc="-1" strike="noStrike">
                <a:solidFill>
                  <a:srgbClr val="000000"/>
                </a:solidFill>
                <a:latin typeface="Times New Roman"/>
              </a:rPr>
              <a:t>establish the performance in the farm environment they are being considered for and where the breeder can routinely evaluate the sheep involved.  The important requirements for on-farm </a:t>
            </a:r>
            <a:r>
              <a:rPr b="0" lang="en-AU" sz="1200" spc="-1" strike="noStrike" u="sng">
                <a:solidFill>
                  <a:srgbClr val="000000"/>
                </a:solidFill>
                <a:uFillTx/>
                <a:latin typeface="Times New Roman"/>
              </a:rPr>
              <a:t>bloodline</a:t>
            </a:r>
            <a:r>
              <a:rPr b="0" lang="en-AU" sz="1200" spc="-1" strike="noStrike">
                <a:solidFill>
                  <a:srgbClr val="000000"/>
                </a:solidFill>
                <a:latin typeface="Times New Roman"/>
              </a:rPr>
              <a:t> comparisons are: a minimum of five rams from each source; rams must be mated to a drafted random selection of ewes; 250 ewes per group should be regarded as a minimum; the same standard of rams should be selected from each source in the comparison; all evaluations are carried out before a selected group of the progeny is rem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arison of the progeny from each bloodline should include the traits that are of significant importance in the breeding objective.  The following evaluations are the minimum recommended for the majority of breeding objectives: lambs marked to ewes joined; two tooth classing percentage; measuring production - average fleece weight and fibre diameter for each bloodline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eeders in a similar environment can use their on-farm performance records to compare their flocks even though there is some differences in management.  Breeders in this situation regularly collaborate and form ‘on-farm comparative analysis groups’ that routinely compare their production and economic performance.  Many on-farm comparative analysis groups produce high quality results that extend to gross margin per hectare and costs of production, which to some extent allows the differences in feed and management between farms to be accounted for.  If both fibre diameter and fleece weight are accurately assessed and presented, the increase in diameter that results when fleece weight is increased by better nutrition provides a corrective mechanism.  Flock ewe comparisons - which are a common feature in NSW - do not normally provide measured performance information.  This results in high input flocks obtaining a distinct advantage that is not recognised by those observing the competing flocks, and thus misinterpreted as being genetic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3840" y="534960"/>
            <a:ext cx="3652560" cy="273996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ntral Test Sire Evaluation (CTSE) is the highest standard of across-flock evaluation in the Australian Merino industry and is the ultimate assessment of the industry’s elite stud sires. The very high quality of evaluation obtained by CTSE is not normally obtained by on-stud evaluation and CTSE has the added advantage of public scrutiny.  CTSE allows the relative genetic performance of elite Merino stud sires to be established.  A sire’s performance is based on his progeny’s performance - that is, the sire’s genetic value.  CTSE does not aim to identify an overall best sire for the industry.  Rather it collects the performance information and presents it in such a way as to allow sires to be selected as the best for any one of the great range of breeding objectives being pursued by individuals in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TSE provides an evaluation of sires.  It does not provide a comparison of the studs that bred the sires.  This limits the direct value of CTSE as a tool for commercial woolgrowers as very few flocks are able to use semen from sires of the standard of those evaluated in CTSE. CTSE does however establish an elite industry standard that is of great value to other benchmarking systems.  Stud breeders can actively use CTSE to benchmark their stud sires performance relative to the industry.  The extension of the sire benchmarking analysis so that all the animals in the stud are benchmarked to the elite industry standard enlarges the value of CTSE.  Commercial breeders can benefit as the flock rams they purchase can have their breeding values for measured traits benchmarked to CTSE, thus providing an </a:t>
            </a:r>
            <a:r>
              <a:rPr b="0" lang="en-AU" sz="1200" spc="-1" strike="noStrike" u="sng">
                <a:solidFill>
                  <a:srgbClr val="000000"/>
                </a:solidFill>
                <a:uFillTx/>
                <a:latin typeface="Times New Roman"/>
              </a:rPr>
              <a:t>industry</a:t>
            </a:r>
            <a:r>
              <a:rPr b="0" lang="en-AU" sz="1200" spc="-1" strike="noStrike">
                <a:solidFill>
                  <a:srgbClr val="000000"/>
                </a:solidFill>
                <a:latin typeface="Times New Roman"/>
              </a:rPr>
              <a:t> standard rather than a standard within the stu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ck of recorded genetic linkage between Merino studs restricts the widespread adoption of across-stud performance recording - even though it has been used effectively by a small number of breeders for several years.  CTSE has assisted the process by increasing linkage and providing a stud industry benchma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3840" y="534960"/>
            <a:ext cx="3652560" cy="273996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BENCHMARK is an industry initiative to develop across-stud performance recording. MERINO BENCHMARK started in 1996 with eight studs from all mainland states of Australia working cooperatively to develop a reputable and practical system that can be used by a large range of pedigree recording studs.  MERINO BENCHMARK records describe the genetic worth of stud sheep relative to the elite CTSE benchmarks, rather than the average of participating stu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BENCHMARK performance values, EPV’s as used by CTSE, are generated by best practice technology.  The evaluation of genetic worth uses a combination of modern across-flock software and a process developed by NSW Agriculture to accommodate the wide diversity of Merino types.  This process is essential for accurate comparison of animals when studs ranging from medium to fine wool are involved in the ana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studs with the required standard of evaluation and recording can be included in the analysis.  This will provide a sound platform for an industry across-flock recording system that will give a second level of evaluation below CTSE, which provides the ultimate sire evalu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363600" y="1752480"/>
            <a:ext cx="891216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46040" y="3352680"/>
            <a:ext cx="536436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tic Benchmarking for Commercial Merino Breeder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Allan Casey, NSW Agricultur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tic Benchmark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What is i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ablish the relative performance of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cks &amp; bloodlin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ms, ewes &amp; sires</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Why is of valu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ablishes change is requir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a means to make chan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tart of genetic improve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ing - industry comparison</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roduction</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2160" rIns="92160" tIns="46080" bIns="46080" anchor="t">
            <a:normAutofit/>
          </a:bodyPr>
          <a:p>
            <a:pPr marL="343080" indent="0">
              <a:spcBef>
                <a:spcPts val="300"/>
              </a:spcBef>
              <a:buNone/>
              <a:tabLst>
                <a:tab algn="l" pos="0"/>
                <a:tab algn="l" pos="3048120"/>
                <a:tab algn="l" pos="34290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304812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 ‘Best Practice’ benchmarks</a:t>
            </a:r>
            <a:endParaRPr b="1" lang="en-US" sz="2800" spc="-1" strike="noStrike">
              <a:solidFill>
                <a:srgbClr val="ffffff"/>
              </a:solidFill>
              <a:latin typeface="Arial"/>
            </a:endParaRPr>
          </a:p>
          <a:p>
            <a:pPr marL="343080" indent="0">
              <a:spcBef>
                <a:spcPts val="249"/>
              </a:spcBef>
              <a:buNone/>
              <a:tabLst>
                <a:tab algn="l" pos="0"/>
                <a:tab algn="l" pos="3048120"/>
                <a:tab algn="l" pos="34290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loodline Performa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combined wether tria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chmark </a:t>
            </a:r>
            <a:r>
              <a:rPr b="1" lang="en-US"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bloodlines,  </a:t>
            </a:r>
            <a:r>
              <a:rPr b="1" i="1" lang="en-US" sz="2400" spc="-1" strike="noStrike">
                <a:solidFill>
                  <a:srgbClr val="ffff99"/>
                </a:solidFill>
                <a:latin typeface="Arial"/>
              </a:rPr>
              <a:t>plus</a:t>
            </a:r>
            <a:r>
              <a:rPr b="1" lang="en-US" sz="2400" spc="-1" strike="noStrike">
                <a:solidFill>
                  <a:srgbClr val="ffffff"/>
                </a:solidFill>
                <a:latin typeface="Arial"/>
              </a:rPr>
              <a:t> </a:t>
            </a:r>
            <a:endParaRPr b="1" lang="en-US" sz="2400" spc="-1" strike="noStrike">
              <a:solidFill>
                <a:srgbClr val="ffffff"/>
              </a:solidFill>
              <a:latin typeface="Arial"/>
            </a:endParaRPr>
          </a:p>
          <a:p>
            <a:pPr lvl="1" marL="743040" indent="0">
              <a:spcBef>
                <a:spcPts val="601"/>
              </a:spcBef>
              <a:buNone/>
              <a:tabLst>
                <a:tab algn="l" pos="0"/>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flocks</a:t>
            </a:r>
            <a:endParaRPr b="1" lang="en-US" sz="2400" spc="-1" strike="noStrike">
              <a:solidFill>
                <a:srgbClr val="ffffff"/>
              </a:solidFill>
              <a:latin typeface="Arial"/>
            </a:endParaRPr>
          </a:p>
          <a:p>
            <a:pPr marL="343080" indent="0">
              <a:spcBef>
                <a:spcPts val="125"/>
              </a:spcBef>
              <a:buNone/>
              <a:tabLst>
                <a:tab algn="l" pos="0"/>
                <a:tab algn="l" pos="3048120"/>
                <a:tab algn="l" pos="3429000"/>
                <a:tab algn="l" pos="3657600"/>
                <a:tab algn="l" pos="4572000"/>
                <a:tab algn="l" pos="5486400"/>
                <a:tab algn="l" pos="6400800"/>
                <a:tab algn="l" pos="7315200"/>
                <a:tab algn="l" pos="8229600"/>
                <a:tab algn="l" pos="9144000"/>
                <a:tab algn="l" pos="10058400"/>
              </a:tabLst>
            </a:pPr>
            <a:endParaRPr b="1" lang="en-US" sz="500" spc="-1" strike="noStrike">
              <a:solidFill>
                <a:srgbClr val="ffffff"/>
              </a:solidFill>
              <a:latin typeface="Arial"/>
            </a:endParaRPr>
          </a:p>
          <a:p>
            <a:pPr marL="343080" indent="-343080">
              <a:spcBef>
                <a:spcPts val="700"/>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re Performa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Fine- &amp; Medium-Wool CT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chmark </a:t>
            </a:r>
            <a:r>
              <a:rPr b="1" lang="en-US"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sires,   </a:t>
            </a:r>
            <a:r>
              <a:rPr b="1" i="1" lang="en-US" sz="2400" spc="-1" strike="noStrike">
                <a:solidFill>
                  <a:srgbClr val="ffff99"/>
                </a:solidFill>
                <a:latin typeface="Arial"/>
              </a:rPr>
              <a:t>plus</a:t>
            </a:r>
            <a:r>
              <a:rPr b="1" lang="en-US" sz="2400" spc="-1" strike="noStrike">
                <a:solidFill>
                  <a:srgbClr val="ffffff"/>
                </a:solidFill>
                <a:latin typeface="Arial"/>
              </a:rPr>
              <a:t> </a:t>
            </a:r>
            <a:endParaRPr b="1" lang="en-US" sz="2400" spc="-1" strike="noStrike">
              <a:solidFill>
                <a:srgbClr val="ffffff"/>
              </a:solidFill>
              <a:latin typeface="Arial"/>
            </a:endParaRPr>
          </a:p>
          <a:p>
            <a:pPr lvl="1" marL="743040" indent="0">
              <a:spcBef>
                <a:spcPts val="601"/>
              </a:spcBef>
              <a:buNone/>
              <a:tabLst>
                <a:tab algn="l" pos="0"/>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 flock rams &amp; ewes</a:t>
            </a:r>
            <a:endParaRPr b="1" lang="en-US" sz="2400" spc="-1" strike="noStrike">
              <a:solidFill>
                <a:srgbClr val="ffffff"/>
              </a:solidFill>
              <a:latin typeface="Arial"/>
            </a:endParaRPr>
          </a:p>
        </p:txBody>
      </p:sp>
      <p:sp>
        <p:nvSpPr>
          <p:cNvPr id="56"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ool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reeding Objectiv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uture, long-term, well-defined, measurabl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Performance records e.g. objective measuremen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performance to be clearly defined</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Wether trial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of several flock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loodline Performanc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of many widely used bloodlines</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ools</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On-Farm Tria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ablish performance in the farm environ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cks, bloodlines, rams and si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limited number compared</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mparative Analysis Group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inely compare their production and $ valu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vironment difference between flocks</a:t>
            </a:r>
            <a:endParaRPr b="1" lang="en-US" sz="2400" spc="-1" strike="noStrike">
              <a:solidFill>
                <a:srgbClr val="ffffff"/>
              </a:solidFill>
              <a:latin typeface="Arial"/>
            </a:endParaRPr>
          </a:p>
        </p:txBody>
      </p:sp>
      <p:sp>
        <p:nvSpPr>
          <p:cNvPr id="62"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ools</a:t>
            </a:r>
            <a:endParaRPr b="1" lang="en-US" sz="3200" spc="-1" strike="noStrike">
              <a:solidFill>
                <a:srgbClr val="fafd00"/>
              </a:solidFill>
              <a:latin typeface="Arial"/>
            </a:endParaRPr>
          </a:p>
        </p:txBody>
      </p:sp>
      <p:sp>
        <p:nvSpPr>
          <p:cNvPr id="64" name="PlaceHolder 2"/>
          <p:cNvSpPr>
            <a:spLocks noGrp="1"/>
          </p:cNvSpPr>
          <p:nvPr>
            <p:ph/>
          </p:nvPr>
        </p:nvSpPr>
        <p:spPr>
          <a:xfrm>
            <a:off x="1295280" y="838080"/>
            <a:ext cx="7772400" cy="518184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entral Test Sire Evaluation (CT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performance of elite stud sires</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cross-stud evalu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chmark to industry - CT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number of studs for several yea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 breeders: stud sires &amp; ew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breeders: flock ram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efficiency - limited comparis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accuracy - limited links</a:t>
            </a:r>
            <a:endParaRPr b="1" lang="en-US" sz="2400" spc="-1" strike="noStrike">
              <a:solidFill>
                <a:srgbClr val="ffffff"/>
              </a:solidFill>
              <a:latin typeface="Arial"/>
            </a:endParaRPr>
          </a:p>
        </p:txBody>
      </p:sp>
      <p:sp>
        <p:nvSpPr>
          <p:cNvPr id="65"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ools</a:t>
            </a:r>
            <a:endParaRPr b="1" lang="en-US" sz="3200" spc="-1" strike="noStrike">
              <a:solidFill>
                <a:srgbClr val="fafd00"/>
              </a:solidFill>
              <a:latin typeface="Arial"/>
            </a:endParaRPr>
          </a:p>
        </p:txBody>
      </p:sp>
      <p:sp>
        <p:nvSpPr>
          <p:cNvPr id="67" name="PlaceHolder 2"/>
          <p:cNvSpPr>
            <a:spLocks noGrp="1"/>
          </p:cNvSpPr>
          <p:nvPr>
            <p:ph/>
          </p:nvPr>
        </p:nvSpPr>
        <p:spPr>
          <a:xfrm>
            <a:off x="1219320" y="761760"/>
            <a:ext cx="761976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99"/>
                </a:solidFill>
                <a:latin typeface="Times New Roman"/>
              </a:rPr>
              <a:t>M</a:t>
            </a:r>
            <a:r>
              <a:rPr b="1" lang="en-US" sz="2800" spc="-1" strike="noStrike">
                <a:solidFill>
                  <a:srgbClr val="ffff99"/>
                </a:solidFill>
                <a:latin typeface="Times New Roman"/>
              </a:rPr>
              <a:t>ERINO </a:t>
            </a:r>
            <a:r>
              <a:rPr b="1" lang="en-US" sz="3600" spc="-1" strike="noStrike">
                <a:solidFill>
                  <a:srgbClr val="ffff99"/>
                </a:solidFill>
                <a:latin typeface="Times New Roman"/>
              </a:rPr>
              <a:t>B</a:t>
            </a:r>
            <a:r>
              <a:rPr b="1" lang="en-US" sz="2800" spc="-1" strike="noStrike">
                <a:solidFill>
                  <a:srgbClr val="ffff99"/>
                </a:solidFill>
                <a:latin typeface="Times New Roman"/>
              </a:rPr>
              <a:t>ENCHMARK</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developed in ‘96 - 8 members</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phase - now open - 18</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y on output &amp; QA procedures</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tic groups analysis plus BLUP = accurate analysis = across-stud relative value of ewes, rams and sires</a:t>
            </a:r>
            <a:endParaRPr b="1" lang="en-US" sz="2800" spc="-1" strike="noStrike">
              <a:solidFill>
                <a:srgbClr val="ffffff"/>
              </a:solidFill>
              <a:latin typeface="Arial"/>
            </a:endParaRPr>
          </a:p>
        </p:txBody>
      </p:sp>
      <p:graphicFrame>
        <p:nvGraphicFramePr>
          <p:cNvPr id="68" name=""/>
          <p:cNvGraphicFramePr/>
          <p:nvPr/>
        </p:nvGraphicFramePr>
        <p:xfrm>
          <a:off x="1676520" y="685800"/>
          <a:ext cx="1092240" cy="1092240"/>
        </p:xfrm>
        <a:graphic>
          <a:graphicData uri="http://schemas.openxmlformats.org/presentationml/2006/ole">
            <p:oleObj progId="Word.Document.12" r:id="rId1" spid="">
              <p:embed/>
              <p:pic>
                <p:nvPicPr>
                  <p:cNvPr id="69" name="" descr=""/>
                  <p:cNvPicPr/>
                  <p:nvPr/>
                </p:nvPicPr>
                <p:blipFill>
                  <a:blip r:embed="rId2"/>
                  <a:stretch/>
                </p:blipFill>
                <p:spPr>
                  <a:xfrm>
                    <a:off x="1676520" y="685800"/>
                    <a:ext cx="1092240" cy="1092240"/>
                  </a:xfrm>
                  <a:prstGeom prst="rect">
                    <a:avLst/>
                  </a:prstGeom>
                  <a:ln w="0">
                    <a:noFill/>
                  </a:ln>
                </p:spPr>
              </p:pic>
            </p:oleObj>
          </a:graphicData>
        </a:graphic>
      </p:graphicFrame>
      <p:sp>
        <p:nvSpPr>
          <p:cNvPr id="70"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23:51:28Z</dcterms:created>
  <dc:creator>USER</dc:creator>
  <dc:description/>
  <dc:language>en-US</dc:language>
  <cp:lastModifiedBy>Hdaily</cp:lastModifiedBy>
  <cp:lastPrinted>2000-03-23T00:03:30Z</cp:lastPrinted>
  <dcterms:modified xsi:type="dcterms:W3CDTF">2000-06-15T07:29:38Z</dcterms:modified>
  <cp:revision>5</cp:revision>
  <dc:subject/>
  <dc:title>No Slide Title</dc:title>
</cp:coreProperties>
</file>