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2E2C-09CB-4BFF-A78F-67CFF60B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34FC-75A7-4064-82F3-D385DDA08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9B1A-EA86-4E90-B8BD-28723BFE0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F8A6-135D-45BF-9420-BC93A1DE5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FEE6-73E6-4023-A53F-58F8EC03A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6522-AEA5-4D9F-A5DC-83C1655514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C792-5739-41B5-AE15-F6ECC57082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B439-F39C-405A-8F58-DF3E276864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855A-5233-4467-B7AA-CCEDBDB539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84F9-EE57-4480-A32D-8F0EC5D32B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ECEA-77ED-4380-888D-037643A732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315B-715F-47D3-9D92-39FD8B31B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F590-C1DD-45E7-9F35-3F06486D5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BE09-55BE-43DA-894F-47D6C0E811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DDDA-4DA8-4CCD-BF96-228D8BDAD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260A-9EBE-416D-8DA5-BCDD18258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5C1E-78C0-4838-9407-C51692F93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98F4-3AFA-4E3B-8251-17BD9F5DB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8514-F87F-424D-8361-41D6E5604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AD70-ADD7-48F8-9FEE-38F50CF3B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204D-5C6C-4BCF-A8BB-CB208B86E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4147-8873-4115-AD1A-0768CBF03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7690-CBBB-4651-AF46-44EBB6F9C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793F-8C60-4534-8FA6-2AC19C613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968E-4ED5-4213-A390-EA741A755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9B6-E328-4773-9265-AAB1AE41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1BA0-A160-4F0D-A00D-FBD1BD42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le Biophys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ith Hutch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AB22-127E-4802-9ABE-75F6A4E9A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Key External and Internal ‘Drivers’ of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9840" y="51804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Hutchinson (199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ig 1" descr=""/>
          <p:cNvPicPr/>
          <p:nvPr/>
        </p:nvPicPr>
        <p:blipFill>
          <a:blip r:embed="rId1"/>
          <a:srcRect l="4232" t="0" r="2463" b="0"/>
          <a:stretch/>
        </p:blipFill>
        <p:spPr>
          <a:xfrm>
            <a:off x="1676520" y="1581120"/>
            <a:ext cx="5967360" cy="33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0A2F-8F1D-446C-89BC-E96C2D129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152280"/>
            <a:ext cx="825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ourteen Inter-Connecting Factors Which Draw Together SBS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fig 2" descr=""/>
          <p:cNvPicPr/>
          <p:nvPr/>
        </p:nvPicPr>
        <p:blipFill>
          <a:blip r:embed="rId1"/>
          <a:stretch/>
        </p:blipFill>
        <p:spPr>
          <a:xfrm>
            <a:off x="2209680" y="1281240"/>
            <a:ext cx="4838760" cy="39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77120" y="4725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tchinson and King (Unpublish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60C6-2573-4584-80A3-9602C3C21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Carbon (C) Cycle of a Sown and Fertilised Temperate Pas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45727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tchinson and King (Unpublish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ig 3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892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D64E-04D7-412E-A69A-2B53945CD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tability and Resilience of Biolog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8320" y="51051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Hutchinson (199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ig" descr=""/>
          <p:cNvPicPr/>
          <p:nvPr/>
        </p:nvPicPr>
        <p:blipFill>
          <a:blip r:embed="rId1"/>
          <a:stretch/>
        </p:blipFill>
        <p:spPr>
          <a:xfrm>
            <a:off x="1676520" y="1332000"/>
            <a:ext cx="6405480" cy="36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C469-B6DB-4AA4-9D1A-C0F0A502D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ig 6" descr=""/>
          <p:cNvPicPr/>
          <p:nvPr/>
        </p:nvPicPr>
        <p:blipFill>
          <a:blip r:embed="rId1"/>
          <a:stretch/>
        </p:blipFill>
        <p:spPr>
          <a:xfrm>
            <a:off x="1676520" y="1695600"/>
            <a:ext cx="5790960" cy="3722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ange of states for the C-S-R model, with examples comparing distributions between (a) grassland and (b) trees and shr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35520" y="518112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Grime (197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0785-6E07-458A-90C1-2C87DC991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3818-B568-4BF2-BFFB-3EFFFC705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5-12-19T23:28:47Z</dcterms:modified>
  <cp:revision>44</cp:revision>
  <dc:subject/>
  <dc:title>   Early stage processing</dc:title>
</cp:coreProperties>
</file>