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C8C4-2C11-40CC-BAB2-176E006E2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21D7-9298-40E2-B6DC-BDF21BD9A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F39A-DFB7-4D25-AE38-2582AFC56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3B64-F4A5-4BDC-BAC4-AF95A6B94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96CD-443A-42BA-B560-9C22D5F78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2CAD-4246-47FA-AC6C-9E3642E48B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8F16-2915-4913-8369-25F779A59B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472E-B78A-4B72-AFB2-D118DB15FD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DE5A-6C08-40E7-830F-26C4472819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453F-54FD-44DC-887A-159A780D3A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606F-E59F-4BA8-8350-D4656DAC65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9D51-77E0-4540-B60F-C2D93EF7D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8AB3-127D-4584-B42E-F6C61C388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A36E-1816-4E71-B85F-60C34DC64F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83E2-37AC-4E7B-A9F4-88C4F60E2C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B64B-23E2-4D39-A55C-04B872F62F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A4C2-67ED-44A1-8989-605DB19C59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F64D-273F-446A-97EF-8F417F08DA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ED45-0968-450C-A8B3-9DD27121F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046A-6553-4CAE-9D19-E9A3A7EC4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6038-F55F-4E43-8370-80BD6F822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9935-CBB2-4705-B9C7-6D9C7E16A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9D32-3971-45FB-836C-92F386B18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5F6F-B61B-47E6-A472-C7C7D9F42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548A-4589-4CE1-8B1E-D1F43FC33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1134-17B2-4552-94DC-C5E686599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57D4-E8B3-4157-8933-81D669021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808560"/>
            <a:ext cx="861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- Topic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ce Gard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5D77-1E7D-4FA3-BA38-1B99AB04FC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3556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atural Resou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270080"/>
            <a:ext cx="75438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ddock rainfall use efficiency assessment identifies strengths and weaknesses of production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RM covers how to recognise and understand the management of soils, land capability, vegetation, problem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pping links optimal production and rainfall use to physical landscape characteristics and design of infra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5919-6437-4712-87E5-313E62349E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78120" y="10152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Property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07880" y="958680"/>
            <a:ext cx="8406000" cy="582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62360" y="1531800"/>
            <a:ext cx="2492280" cy="1963800"/>
          </a:xfrm>
          <a:custGeom>
            <a:avLst/>
            <a:gdLst/>
            <a:ahLst/>
            <a:rect l="l" t="t" r="r" b="b"/>
            <a:pathLst>
              <a:path w="1570" h="1237">
                <a:moveTo>
                  <a:pt x="0" y="0"/>
                </a:moveTo>
                <a:lnTo>
                  <a:pt x="193" y="659"/>
                </a:lnTo>
                <a:lnTo>
                  <a:pt x="400" y="622"/>
                </a:lnTo>
                <a:lnTo>
                  <a:pt x="667" y="844"/>
                </a:lnTo>
                <a:lnTo>
                  <a:pt x="904" y="1237"/>
                </a:lnTo>
                <a:lnTo>
                  <a:pt x="1556" y="1207"/>
                </a:lnTo>
                <a:lnTo>
                  <a:pt x="1570" y="1104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8720" y="2719440"/>
            <a:ext cx="916200" cy="1363680"/>
          </a:xfrm>
          <a:custGeom>
            <a:avLst/>
            <a:gdLst/>
            <a:ahLst/>
            <a:rect l="l" t="t" r="r" b="b"/>
            <a:pathLst>
              <a:path w="577" h="859">
                <a:moveTo>
                  <a:pt x="0" y="52"/>
                </a:moveTo>
                <a:lnTo>
                  <a:pt x="237" y="830"/>
                </a:lnTo>
                <a:lnTo>
                  <a:pt x="540" y="859"/>
                </a:lnTo>
                <a:lnTo>
                  <a:pt x="577" y="615"/>
                </a:lnTo>
                <a:lnTo>
                  <a:pt x="415" y="222"/>
                </a:lnTo>
                <a:lnTo>
                  <a:pt x="333" y="171"/>
                </a:lnTo>
                <a:lnTo>
                  <a:pt x="163" y="0"/>
                </a:lnTo>
                <a:lnTo>
                  <a:pt x="0" y="52"/>
                </a:ln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08280" y="1473120"/>
            <a:ext cx="306360" cy="19987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315040" y="1449360"/>
            <a:ext cx="317520" cy="20462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7720" y="1297080"/>
            <a:ext cx="222120" cy="1315800"/>
          </a:xfrm>
          <a:custGeom>
            <a:avLst/>
            <a:gdLst/>
            <a:ahLst/>
            <a:rect l="l" t="t" r="r" b="b"/>
            <a:pathLst>
              <a:path w="140" h="829">
                <a:moveTo>
                  <a:pt x="29" y="0"/>
                </a:moveTo>
                <a:lnTo>
                  <a:pt x="140" y="652"/>
                </a:lnTo>
                <a:lnTo>
                  <a:pt x="0" y="829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86400" y="1297080"/>
            <a:ext cx="258480" cy="1374840"/>
          </a:xfrm>
          <a:custGeom>
            <a:avLst/>
            <a:gdLst/>
            <a:ahLst/>
            <a:rect l="l" t="t" r="r" b="b"/>
            <a:pathLst>
              <a:path w="163" h="866">
                <a:moveTo>
                  <a:pt x="29" y="0"/>
                </a:moveTo>
                <a:lnTo>
                  <a:pt x="163" y="674"/>
                </a:lnTo>
                <a:lnTo>
                  <a:pt x="0" y="866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08680" y="3695760"/>
            <a:ext cx="669960" cy="423720"/>
          </a:xfrm>
          <a:custGeom>
            <a:avLst/>
            <a:gdLst/>
            <a:ahLst/>
            <a:rect l="l" t="t" r="r" b="b"/>
            <a:pathLst>
              <a:path w="422" h="267">
                <a:moveTo>
                  <a:pt x="0" y="252"/>
                </a:moveTo>
                <a:lnTo>
                  <a:pt x="363" y="267"/>
                </a:lnTo>
                <a:lnTo>
                  <a:pt x="422" y="0"/>
                </a:lnTo>
                <a:lnTo>
                  <a:pt x="141" y="22"/>
                </a:lnTo>
                <a:lnTo>
                  <a:pt x="30" y="7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43720" y="3660840"/>
            <a:ext cx="552240" cy="658800"/>
          </a:xfrm>
          <a:custGeom>
            <a:avLst/>
            <a:gdLst/>
            <a:ahLst/>
            <a:rect l="l" t="t" r="r" b="b"/>
            <a:pathLst>
              <a:path w="348" h="415">
                <a:moveTo>
                  <a:pt x="74" y="22"/>
                </a:moveTo>
                <a:lnTo>
                  <a:pt x="0" y="385"/>
                </a:lnTo>
                <a:lnTo>
                  <a:pt x="297" y="415"/>
                </a:lnTo>
                <a:lnTo>
                  <a:pt x="348" y="0"/>
                </a:lnTo>
                <a:lnTo>
                  <a:pt x="74" y="22"/>
                </a:ln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61040" y="3367080"/>
            <a:ext cx="835200" cy="1092240"/>
          </a:xfrm>
          <a:custGeom>
            <a:avLst/>
            <a:gdLst/>
            <a:ahLst/>
            <a:rect l="l" t="t" r="r" b="b"/>
            <a:pathLst>
              <a:path w="526" h="688">
                <a:moveTo>
                  <a:pt x="59" y="185"/>
                </a:moveTo>
                <a:lnTo>
                  <a:pt x="200" y="170"/>
                </a:lnTo>
                <a:lnTo>
                  <a:pt x="304" y="0"/>
                </a:lnTo>
                <a:lnTo>
                  <a:pt x="526" y="37"/>
                </a:lnTo>
                <a:lnTo>
                  <a:pt x="437" y="125"/>
                </a:lnTo>
                <a:lnTo>
                  <a:pt x="445" y="229"/>
                </a:lnTo>
                <a:lnTo>
                  <a:pt x="519" y="340"/>
                </a:lnTo>
                <a:lnTo>
                  <a:pt x="437" y="563"/>
                </a:lnTo>
                <a:lnTo>
                  <a:pt x="148" y="688"/>
                </a:lnTo>
                <a:lnTo>
                  <a:pt x="0" y="674"/>
                </a:lnTo>
                <a:lnTo>
                  <a:pt x="59" y="185"/>
                </a:ln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26400" y="3436920"/>
            <a:ext cx="752400" cy="824040"/>
          </a:xfrm>
          <a:custGeom>
            <a:avLst/>
            <a:gdLst/>
            <a:ahLst/>
            <a:rect l="l" t="t" r="r" b="b"/>
            <a:pathLst>
              <a:path w="474" h="519">
                <a:moveTo>
                  <a:pt x="96" y="0"/>
                </a:moveTo>
                <a:lnTo>
                  <a:pt x="0" y="96"/>
                </a:lnTo>
                <a:lnTo>
                  <a:pt x="7" y="178"/>
                </a:lnTo>
                <a:lnTo>
                  <a:pt x="66" y="267"/>
                </a:lnTo>
                <a:lnTo>
                  <a:pt x="88" y="333"/>
                </a:lnTo>
                <a:lnTo>
                  <a:pt x="22" y="519"/>
                </a:lnTo>
                <a:lnTo>
                  <a:pt x="177" y="474"/>
                </a:lnTo>
                <a:lnTo>
                  <a:pt x="340" y="430"/>
                </a:lnTo>
                <a:lnTo>
                  <a:pt x="474" y="44"/>
                </a:lnTo>
                <a:lnTo>
                  <a:pt x="96" y="0"/>
                </a:ln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89680" y="3543480"/>
            <a:ext cx="1106640" cy="2786040"/>
          </a:xfrm>
          <a:custGeom>
            <a:avLst/>
            <a:gdLst/>
            <a:ahLst/>
            <a:rect l="l" t="t" r="r" b="b"/>
            <a:pathLst>
              <a:path w="697" h="1755">
                <a:moveTo>
                  <a:pt x="586" y="0"/>
                </a:moveTo>
                <a:lnTo>
                  <a:pt x="556" y="385"/>
                </a:lnTo>
                <a:lnTo>
                  <a:pt x="371" y="503"/>
                </a:lnTo>
                <a:lnTo>
                  <a:pt x="274" y="1044"/>
                </a:lnTo>
                <a:lnTo>
                  <a:pt x="215" y="1407"/>
                </a:lnTo>
                <a:lnTo>
                  <a:pt x="0" y="1592"/>
                </a:lnTo>
                <a:lnTo>
                  <a:pt x="8" y="1718"/>
                </a:lnTo>
                <a:lnTo>
                  <a:pt x="200" y="1755"/>
                </a:lnTo>
                <a:lnTo>
                  <a:pt x="630" y="474"/>
                </a:lnTo>
                <a:lnTo>
                  <a:pt x="697" y="7"/>
                </a:lnTo>
                <a:lnTo>
                  <a:pt x="586" y="0"/>
                </a:ln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61000" y="4448160"/>
            <a:ext cx="704880" cy="1811520"/>
          </a:xfrm>
          <a:custGeom>
            <a:avLst/>
            <a:gdLst/>
            <a:ahLst/>
            <a:rect l="l" t="t" r="r" b="b"/>
            <a:pathLst>
              <a:path w="444" h="1141">
                <a:moveTo>
                  <a:pt x="67" y="52"/>
                </a:moveTo>
                <a:lnTo>
                  <a:pt x="148" y="30"/>
                </a:lnTo>
                <a:lnTo>
                  <a:pt x="444" y="0"/>
                </a:lnTo>
                <a:lnTo>
                  <a:pt x="393" y="319"/>
                </a:lnTo>
                <a:lnTo>
                  <a:pt x="393" y="526"/>
                </a:lnTo>
                <a:lnTo>
                  <a:pt x="363" y="733"/>
                </a:lnTo>
                <a:lnTo>
                  <a:pt x="156" y="919"/>
                </a:lnTo>
                <a:lnTo>
                  <a:pt x="118" y="1141"/>
                </a:lnTo>
                <a:lnTo>
                  <a:pt x="37" y="1119"/>
                </a:lnTo>
                <a:lnTo>
                  <a:pt x="81" y="763"/>
                </a:lnTo>
                <a:lnTo>
                  <a:pt x="0" y="748"/>
                </a:lnTo>
                <a:lnTo>
                  <a:pt x="22" y="630"/>
                </a:lnTo>
                <a:lnTo>
                  <a:pt x="67" y="608"/>
                </a:lnTo>
                <a:lnTo>
                  <a:pt x="185" y="96"/>
                </a:lnTo>
                <a:lnTo>
                  <a:pt x="67" y="52"/>
                </a:ln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62360" y="1190520"/>
            <a:ext cx="2868480" cy="2187720"/>
          </a:xfrm>
          <a:custGeom>
            <a:avLst/>
            <a:gdLst/>
            <a:ahLst/>
            <a:rect l="l" t="t" r="r" b="b"/>
            <a:pathLst>
              <a:path w="1807" h="1378">
                <a:moveTo>
                  <a:pt x="0" y="215"/>
                </a:moveTo>
                <a:lnTo>
                  <a:pt x="126" y="0"/>
                </a:lnTo>
                <a:lnTo>
                  <a:pt x="1741" y="245"/>
                </a:lnTo>
                <a:lnTo>
                  <a:pt x="1563" y="1326"/>
                </a:lnTo>
                <a:lnTo>
                  <a:pt x="1807" y="1378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3600" y="1932120"/>
            <a:ext cx="128880" cy="7452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97360" y="2143080"/>
            <a:ext cx="128520" cy="7452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42080" y="4422600"/>
            <a:ext cx="128880" cy="7488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4760" y="4494240"/>
            <a:ext cx="128520" cy="7452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5840" y="3894120"/>
            <a:ext cx="128520" cy="7452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6080" y="3435480"/>
            <a:ext cx="128520" cy="7452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5400" y="3564000"/>
            <a:ext cx="128880" cy="7452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3480" y="2612880"/>
            <a:ext cx="128880" cy="7488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4920" y="3754440"/>
            <a:ext cx="128520" cy="7452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02240" y="3836880"/>
            <a:ext cx="128520" cy="7488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2C7C-0C6E-4F84-BAE5-0F5FFB654F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65040" y="609480"/>
          <a:ext cx="862668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609480"/>
                    <a:ext cx="862668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5440" y="1447920"/>
          <a:ext cx="8513640" cy="1720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440" y="1447920"/>
                    <a:ext cx="851364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8760" y="2462040"/>
          <a:ext cx="8908920" cy="20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760" y="2462040"/>
                    <a:ext cx="89089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49120" y="3581280"/>
          <a:ext cx="8610840" cy="2046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120" y="3581280"/>
                    <a:ext cx="861084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538440" y="679320"/>
            <a:ext cx="156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s Wo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83000" y="3657600"/>
            <a:ext cx="282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rm Rainfall Use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08120" y="2590920"/>
            <a:ext cx="2978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terprise Cost of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4400" y="1523880"/>
            <a:ext cx="3249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ginal Farm Financial Retur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90840" y="106200"/>
            <a:ext cx="406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tor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DB07-D40A-4DD2-9866-ECE375C13C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CF72-1DBB-43B8-B5AA-F6EB6EC871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896760"/>
          <a:ext cx="8537400" cy="45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96760"/>
                    <a:ext cx="8537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40920" y="152280"/>
            <a:ext cx="88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ustralian Agriculture - Performance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F768-03EA-4CAC-891B-3A87CBBF2C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6094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dustry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479760"/>
            <a:ext cx="746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58640" y="34434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asing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720" y="2093760"/>
            <a:ext cx="198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stainability maxim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10816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fit maxim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0760" y="2082960"/>
            <a:ext cx="16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ome maxim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057400"/>
            <a:ext cx="16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duction maxim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648320"/>
            <a:ext cx="83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aximum production  =  maximum prof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257800" y="478260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67C2-C50D-43A5-8B3C-A3133D7EFA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Positives for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verage, NSW sheep specialist producers use 45mm of available rainfall in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arms have areas that have negative gross margins under existing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armers do not have management or marketing strategies that maximise retu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armers do not understand the link between financial performance and optimal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D353-650F-4A28-821A-707450B114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4572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752480"/>
            <a:ext cx="75438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most important part of any business is the top three in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rriers and filters prevent information uptake and can lead to irrational decision ma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5765-02B4-4E55-9399-538BCE7BC3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52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ole Farm Fina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39880" y="1143000"/>
            <a:ext cx="7084440" cy="4209840"/>
            <a:chOff x="839880" y="1143000"/>
            <a:chExt cx="7084440" cy="4209840"/>
          </a:xfrm>
        </p:grpSpPr>
        <p:sp>
          <p:nvSpPr>
            <p:cNvPr id="111" name=""/>
            <p:cNvSpPr/>
            <p:nvPr/>
          </p:nvSpPr>
          <p:spPr>
            <a:xfrm>
              <a:off x="2783520" y="2415600"/>
              <a:ext cx="2925000" cy="905040"/>
            </a:xfrm>
            <a:custGeom>
              <a:avLst/>
              <a:gdLst/>
              <a:ahLst/>
              <a:rect l="l" t="t" r="r" b="b"/>
              <a:pathLst>
                <a:path w="764" h="426">
                  <a:moveTo>
                    <a:pt x="1" y="425"/>
                  </a:moveTo>
                  <a:cubicBezTo>
                    <a:pt x="97" y="395"/>
                    <a:pt x="189" y="363"/>
                    <a:pt x="289" y="351"/>
                  </a:cubicBezTo>
                  <a:cubicBezTo>
                    <a:pt x="339" y="336"/>
                    <a:pt x="399" y="323"/>
                    <a:pt x="445" y="299"/>
                  </a:cubicBezTo>
                  <a:cubicBezTo>
                    <a:pt x="495" y="273"/>
                    <a:pt x="439" y="293"/>
                    <a:pt x="489" y="277"/>
                  </a:cubicBezTo>
                  <a:cubicBezTo>
                    <a:pt x="531" y="250"/>
                    <a:pt x="579" y="234"/>
                    <a:pt x="623" y="210"/>
                  </a:cubicBezTo>
                  <a:cubicBezTo>
                    <a:pt x="638" y="201"/>
                    <a:pt x="652" y="191"/>
                    <a:pt x="667" y="181"/>
                  </a:cubicBezTo>
                  <a:cubicBezTo>
                    <a:pt x="674" y="176"/>
                    <a:pt x="689" y="166"/>
                    <a:pt x="689" y="166"/>
                  </a:cubicBezTo>
                  <a:cubicBezTo>
                    <a:pt x="732" y="103"/>
                    <a:pt x="675" y="177"/>
                    <a:pt x="726" y="136"/>
                  </a:cubicBezTo>
                  <a:cubicBezTo>
                    <a:pt x="741" y="124"/>
                    <a:pt x="750" y="105"/>
                    <a:pt x="764" y="92"/>
                  </a:cubicBezTo>
                  <a:cubicBezTo>
                    <a:pt x="732" y="0"/>
                    <a:pt x="479" y="69"/>
                    <a:pt x="475" y="69"/>
                  </a:cubicBezTo>
                  <a:cubicBezTo>
                    <a:pt x="439" y="77"/>
                    <a:pt x="406" y="87"/>
                    <a:pt x="371" y="99"/>
                  </a:cubicBezTo>
                  <a:cubicBezTo>
                    <a:pt x="349" y="107"/>
                    <a:pt x="304" y="121"/>
                    <a:pt x="304" y="121"/>
                  </a:cubicBezTo>
                  <a:cubicBezTo>
                    <a:pt x="254" y="155"/>
                    <a:pt x="277" y="146"/>
                    <a:pt x="238" y="158"/>
                  </a:cubicBezTo>
                  <a:cubicBezTo>
                    <a:pt x="187" y="192"/>
                    <a:pt x="210" y="183"/>
                    <a:pt x="171" y="195"/>
                  </a:cubicBezTo>
                  <a:cubicBezTo>
                    <a:pt x="166" y="203"/>
                    <a:pt x="162" y="212"/>
                    <a:pt x="156" y="218"/>
                  </a:cubicBezTo>
                  <a:cubicBezTo>
                    <a:pt x="150" y="224"/>
                    <a:pt x="140" y="225"/>
                    <a:pt x="134" y="232"/>
                  </a:cubicBezTo>
                  <a:cubicBezTo>
                    <a:pt x="105" y="265"/>
                    <a:pt x="101" y="291"/>
                    <a:pt x="67" y="314"/>
                  </a:cubicBezTo>
                  <a:cubicBezTo>
                    <a:pt x="62" y="321"/>
                    <a:pt x="58" y="330"/>
                    <a:pt x="52" y="336"/>
                  </a:cubicBezTo>
                  <a:cubicBezTo>
                    <a:pt x="46" y="342"/>
                    <a:pt x="35" y="344"/>
                    <a:pt x="30" y="351"/>
                  </a:cubicBezTo>
                  <a:cubicBezTo>
                    <a:pt x="20" y="363"/>
                    <a:pt x="22" y="381"/>
                    <a:pt x="15" y="395"/>
                  </a:cubicBezTo>
                  <a:cubicBezTo>
                    <a:pt x="0" y="426"/>
                    <a:pt x="1" y="407"/>
                    <a:pt x="1" y="42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0640" y="1306800"/>
              <a:ext cx="6370200" cy="3485520"/>
            </a:xfrm>
            <a:custGeom>
              <a:avLst/>
              <a:gdLst/>
              <a:ahLst/>
              <a:rect l="l" t="t" r="r" b="b"/>
              <a:pathLst>
                <a:path w="3734" h="2691">
                  <a:moveTo>
                    <a:pt x="0" y="0"/>
                  </a:moveTo>
                  <a:lnTo>
                    <a:pt x="0" y="2691"/>
                  </a:lnTo>
                  <a:lnTo>
                    <a:pt x="3734" y="2691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504440" y="3549240"/>
              <a:ext cx="6419880" cy="1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9880" y="155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78400" y="489312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90560" y="114300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0640" y="1306800"/>
              <a:ext cx="5512680" cy="2141640"/>
            </a:xfrm>
            <a:custGeom>
              <a:avLst/>
              <a:gdLst/>
              <a:ahLst/>
              <a:rect l="l" t="t" r="r" b="b"/>
              <a:pathLst>
                <a:path w="1440" h="1008">
                  <a:moveTo>
                    <a:pt x="0" y="1008"/>
                  </a:moveTo>
                  <a:cubicBezTo>
                    <a:pt x="360" y="948"/>
                    <a:pt x="720" y="888"/>
                    <a:pt x="960" y="720"/>
                  </a:cubicBezTo>
                  <a:cubicBezTo>
                    <a:pt x="1200" y="552"/>
                    <a:pt x="1320" y="276"/>
                    <a:pt x="144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0640" y="2394720"/>
              <a:ext cx="5696280" cy="2379240"/>
            </a:xfrm>
            <a:custGeom>
              <a:avLst/>
              <a:gdLst/>
              <a:ahLst/>
              <a:rect l="l" t="t" r="r" b="b"/>
              <a:pathLst>
                <a:path w="1488" h="1120">
                  <a:moveTo>
                    <a:pt x="0" y="1120"/>
                  </a:moveTo>
                  <a:cubicBezTo>
                    <a:pt x="164" y="720"/>
                    <a:pt x="328" y="320"/>
                    <a:pt x="576" y="160"/>
                  </a:cubicBezTo>
                  <a:cubicBezTo>
                    <a:pt x="824" y="0"/>
                    <a:pt x="1156" y="80"/>
                    <a:pt x="1488" y="1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924440" y="1468080"/>
              <a:ext cx="648720" cy="9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67960" y="364140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Fixed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7440" y="2210760"/>
              <a:ext cx="11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otal Inc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07120" y="3105000"/>
              <a:ext cx="105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Total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1453-6581-40ED-8B02-F6C6BE71DE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and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44760" y="2000160"/>
            <a:ext cx="17280" cy="292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44760" y="494496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7382600">
            <a:off x="1318320" y="3197160"/>
            <a:ext cx="7050960" cy="49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883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8832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461680" y="1946160"/>
            <a:ext cx="2359080" cy="21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1120" y="3025800"/>
            <a:ext cx="0" cy="19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444760" y="3025800"/>
            <a:ext cx="122400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89520" y="5043600"/>
            <a:ext cx="9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63520" y="22636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6920" y="2374920"/>
            <a:ext cx="157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94200" y="129528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/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45040" y="3308400"/>
            <a:ext cx="17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Maxim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751200" y="3090960"/>
            <a:ext cx="401760" cy="56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D530-C1DA-48F1-B6D0-2E74A2B1D6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55800" y="3556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nterprise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6800" y="138744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ancial performance determines optimal enterprise size and m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tural resource management that determines the best way to achieve optimal 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ap Analysis” and “Rainfall Use Efficiency” assess quality and quantity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nterprise Pi/Po assesses enterprise contribution to financia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825C-952E-4D14-9422-CE87A09FE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04920" y="380880"/>
          <a:ext cx="8839080" cy="52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83908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88C4-E158-4ED3-BD60-91BDA2F8ED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3:43:36Z</dcterms:created>
  <dc:creator>Cottle</dc:creator>
  <dc:description/>
  <dc:language>en-US</dc:language>
  <cp:lastModifiedBy>Briana Daly</cp:lastModifiedBy>
  <dcterms:modified xsi:type="dcterms:W3CDTF">2006-01-13T05:38:12Z</dcterms:modified>
  <cp:revision>52</cp:revision>
  <dc:subject/>
  <dc:title>   Early stage processing</dc:title>
</cp:coreProperties>
</file>