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486400" cy="427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5486400" cy="428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30080" y="2036520"/>
            <a:ext cx="4026240" cy="160308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5920" bIns="25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677600" y="322200"/>
            <a:ext cx="2135160" cy="16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673280" y="320760"/>
            <a:ext cx="2139840" cy="160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2033280"/>
            <a:ext cx="4022640" cy="19256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5920" bIns="25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57BB-DB58-4EF2-8B1E-CF5835013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7C2D-AEAC-4D7D-9F82-AF710E8C4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9CEC-7134-4183-8364-4083FBB14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6777-9833-46E5-A41B-A00E8407B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22CF-6CE5-42BE-A274-318C9AB869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C8C4-C8A9-441C-8B1E-4C550B8D8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F21D-4C27-47CC-880A-729F5C1D99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7158-492A-4ADA-B411-00057A3B6E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AF40-0473-4AF1-B079-913571C2B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2C34-DCD2-436E-917B-3E5633E641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9791-AD1E-4665-B9AC-685AE7335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3172-26CC-4A76-96A1-020CBE445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6F2D-A0A2-461E-8C36-41807137C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B676-EBB4-43A1-86F5-73BFC973A1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CEC-5EBF-4819-A156-8C09A970F8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0DFD-BE5E-4535-B1C2-A83A8E8CE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56AB-84C0-4426-90DB-64B374D00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F6AC-975F-411D-A397-BAEB63A1A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5405-A620-4FC8-A596-E4E563021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3F34-7977-47CA-BA8D-3195E5CFF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C1B7-9E24-4F73-B169-98C1A6B41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CB68-6F3D-47DE-88B6-2495E4AB6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2FA-C0F4-4A90-8221-1D947AC3A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6011-53A9-4F2E-9128-C7B3299FE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70F5-31C3-4413-AA1C-E5F55E70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42E-0430-4D41-82D0-F6853E5E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808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mnant Veg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n Williams &amp; Warren M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1ACD-02C4-4493-AA6A-7AAA6E3D6E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3840" y="1125360"/>
            <a:ext cx="77756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clearing and land-use intensificatio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ltered fire regimes (season, frequency, intensity)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ltered grazing regimes (season, frequency, intensity)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ryland salinit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Environmental weed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P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irewoo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ltered biophysical facto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31360" y="40176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ts to Remnant Vege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E567-4794-481E-B1A5-5E272BE373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26760" y="1557360"/>
            <a:ext cx="8269920" cy="39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-planning as the firs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R’s: Retain, Restore, Revege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landsc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vegetatio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management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" y="260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for Managing Remnant Vegetation On-F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C8FA-AAB9-4F8F-870B-840106CB4B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76360" y="1108080"/>
            <a:ext cx="6335640" cy="4524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69960" y="44280"/>
            <a:ext cx="771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rmBook: A Computer-Based Tool for Property-Plan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F7FA-C43E-4065-B123-7DFEC44419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485440" y="1052640"/>
            <a:ext cx="431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T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VEGE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E88A-327F-4F1F-8A54-84A37A6130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93800" y="1052640"/>
            <a:ext cx="80992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TCH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Quality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Protect the best native vegetation 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Size and number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The bigger the be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ore types of habitat, the be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Shapes and edges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ore compact, the be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Consider ‘edge effects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Position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Include all land cla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Include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I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Include watercour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Provide for threatened spe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INKAG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Connectivity and corridors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ore connected the be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Include corrid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Provide stepping s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ATR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* Mosaic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e nature conservation areas with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surrounding land-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5880" y="115920"/>
            <a:ext cx="837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inciples for Creating Habitat for Native Fa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90FD-FF6B-42CF-8A7E-AB715FB72F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11895" r="0" b="15935"/>
          <a:stretch/>
        </p:blipFill>
        <p:spPr>
          <a:xfrm>
            <a:off x="1042920" y="692280"/>
            <a:ext cx="7416720" cy="4014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7720" y="4724280"/>
            <a:ext cx="833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&amp; KAREN WRIGHT: CASE STUDY on integr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ve vegetation and biodiversity with wool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61760" y="1159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Remnant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7AE7-BEFE-4AEF-B006-B64CBB186D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219320" y="1052640"/>
            <a:ext cx="6689520" cy="4373280"/>
            <a:chOff x="1219320" y="1052640"/>
            <a:chExt cx="6689520" cy="4373280"/>
          </a:xfrm>
        </p:grpSpPr>
        <p:sp>
          <p:nvSpPr>
            <p:cNvPr id="229" name=""/>
            <p:cNvSpPr/>
            <p:nvPr/>
          </p:nvSpPr>
          <p:spPr>
            <a:xfrm>
              <a:off x="2184480" y="1544760"/>
              <a:ext cx="4552920" cy="3449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40280" y="1914480"/>
              <a:ext cx="2068560" cy="1170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0280" y="3454560"/>
              <a:ext cx="2068560" cy="1171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33840" y="4255920"/>
              <a:ext cx="2068560" cy="1170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87360" y="3454560"/>
              <a:ext cx="2070360" cy="1171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9320" y="1852560"/>
              <a:ext cx="2068560" cy="11718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95600" y="1052640"/>
              <a:ext cx="2068560" cy="1170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3978000">
              <a:off x="3293280" y="1600920"/>
              <a:ext cx="260280" cy="271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5200" y="1236600"/>
              <a:ext cx="170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55360" y="23241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83480" y="383220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66040" y="465300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29560" y="382428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4960" y="2208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71520" y="307800"/>
            <a:ext cx="86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ing as Part of Adaptiv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E512-2721-4031-9AA4-BEB52F3CCD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1246320"/>
            <a:ext cx="808344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armers in southern and eastern Australia have remnant vegetation or would like to revegetate some of their prope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nant vegetation provides many ecosystem services and has strong links to human well-be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umber of solutions have been developed to address the multiple threats and pressures on remnant vege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ting remnant vegetation into whole property planning, within an adaptive management framework, is a critical first step (some graziers are already doing 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and monitoring principles are available that help address a number of management objec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000" y="4730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5254-2BC5-4D4B-88D9-91D31A86BA6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F0E0-FD8B-4D48-9CAD-DB5809EA1B61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79680" y="1890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nant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4920" y="833400"/>
            <a:ext cx="6192720" cy="45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5932-EE3A-4F38-9DF2-13D733ABE1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93720" y="1216080"/>
            <a:ext cx="805500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t the end of this topic, you should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e, classify and determine the condition of remnant vege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ppreciate the ecosystem services provided by remnant vegetation and their links to human well-be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monstrate a thorough understanding of the sustainability issues facing remnant vege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iscuss the principles for managing and monitoring remnant vegetation and revegetation in a production 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ccess and utilise recent resources on the ecology and management of remnant vegetation.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9240" y="40176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89E3-41B2-4476-A33B-B3FC021874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2133720"/>
            <a:ext cx="8135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ell-Being Val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n contribute to health through less use of pesticides, and to stress release through providing relaxing places to vis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lationship Val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tributes to the options and experiences available to future gen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ustainability Val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s a fundamental pillar of sustain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ealth Value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by reducing input costs (such as for pest control) and through new opportunities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29052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s Farmers Associate with Biodiversity, and by Association, Native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C95A-5C89-48FE-B81E-02BCBEB2D0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cosystemservices2001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5073480" cy="379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78960" y="26028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syste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413000"/>
            <a:ext cx="352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s that turn natural assets into goods and other produc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s that assimilate by-products back into the natural asset ba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s that maintain the natural asset ba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37D5-0E4B-4ACC-AA1C-549A720AEA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832720" cy="431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592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inks Between Ecosystem Services and Human Well-Be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2FB4-F296-4CC5-8E8E-85565D6FE8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igure_3landscapehealth" descr=""/>
          <p:cNvPicPr/>
          <p:nvPr/>
        </p:nvPicPr>
        <p:blipFill>
          <a:blip r:embed="rId1"/>
          <a:stretch/>
        </p:blipFill>
        <p:spPr>
          <a:xfrm>
            <a:off x="2116080" y="1341360"/>
            <a:ext cx="5048280" cy="41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2760" y="2602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of Native Vegetation Remai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Sub-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69D4-FDA6-4E72-B3A1-397257AF3B7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5360" y="1844640"/>
            <a:ext cx="6489720" cy="3327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92080" y="476280"/>
            <a:ext cx="764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Landscape Alteration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to Describe Native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D3E4-4650-43E6-AC9B-C267CD6AD0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6360" y="44280"/>
            <a:ext cx="82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onents and Weightings of the Habitat Score Used in the Habitat Hectares 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1440" y="1654200"/>
            <a:ext cx="8351640" cy="3862440"/>
            <a:chOff x="541440" y="1654200"/>
            <a:chExt cx="8351640" cy="3862440"/>
          </a:xfrm>
        </p:grpSpPr>
        <p:grpSp>
          <p:nvGrpSpPr>
            <p:cNvPr id="106" name=""/>
            <p:cNvGrpSpPr/>
            <p:nvPr/>
          </p:nvGrpSpPr>
          <p:grpSpPr>
            <a:xfrm>
              <a:off x="549360" y="1656360"/>
              <a:ext cx="8335440" cy="3857760"/>
              <a:chOff x="549360" y="1656360"/>
              <a:chExt cx="8335440" cy="38577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49360" y="1656360"/>
                <a:ext cx="2904840" cy="394200"/>
                <a:chOff x="549360" y="1656360"/>
                <a:chExt cx="2904840" cy="3942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52680" y="1656360"/>
                  <a:ext cx="269820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49360" y="1656360"/>
                  <a:ext cx="29048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454560" y="1656360"/>
                <a:ext cx="3147480" cy="394200"/>
                <a:chOff x="3454560" y="1656360"/>
                <a:chExt cx="3147480" cy="394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57880" y="1656360"/>
                  <a:ext cx="294048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on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54560" y="1656360"/>
                  <a:ext cx="31474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602400" y="1656360"/>
                <a:ext cx="2282400" cy="394200"/>
                <a:chOff x="6602400" y="1656360"/>
                <a:chExt cx="2282400" cy="3942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705720" y="1656360"/>
                  <a:ext cx="20757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ximum value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02400" y="1656360"/>
                  <a:ext cx="22824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49360" y="2050560"/>
                <a:ext cx="2904840" cy="306360"/>
                <a:chOff x="549360" y="2050560"/>
                <a:chExt cx="2904840" cy="306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52680" y="2050560"/>
                  <a:ext cx="269820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te condi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49360" y="2050560"/>
                  <a:ext cx="29048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454560" y="2050560"/>
                <a:ext cx="3147480" cy="306360"/>
                <a:chOff x="3454560" y="2050560"/>
                <a:chExt cx="3147480" cy="306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57880" y="2050560"/>
                  <a:ext cx="294048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arge tre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54560" y="2050560"/>
                  <a:ext cx="314748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602400" y="2050560"/>
                <a:ext cx="2282400" cy="306360"/>
                <a:chOff x="6602400" y="2050560"/>
                <a:chExt cx="2282400" cy="306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705720" y="2050560"/>
                  <a:ext cx="207576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02400" y="2050560"/>
                  <a:ext cx="22824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49360" y="2356920"/>
                <a:ext cx="2904840" cy="307800"/>
                <a:chOff x="549360" y="2356920"/>
                <a:chExt cx="2904840" cy="30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2680" y="2356920"/>
                  <a:ext cx="269820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49360" y="2356920"/>
                  <a:ext cx="290484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454560" y="2356920"/>
                <a:ext cx="3147480" cy="307800"/>
                <a:chOff x="3454560" y="2356920"/>
                <a:chExt cx="3147480" cy="307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57880" y="2356920"/>
                  <a:ext cx="294048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ee (canopy) co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54560" y="2356920"/>
                  <a:ext cx="314748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602400" y="2356920"/>
                <a:ext cx="2282400" cy="307800"/>
                <a:chOff x="6602400" y="2356920"/>
                <a:chExt cx="2282400" cy="307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705720" y="2356920"/>
                  <a:ext cx="20757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602400" y="2356920"/>
                  <a:ext cx="228240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49360" y="2665080"/>
                <a:ext cx="2904840" cy="393840"/>
                <a:chOff x="549360" y="2665080"/>
                <a:chExt cx="2904840" cy="3938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52680" y="2665080"/>
                  <a:ext cx="26982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49360" y="2665080"/>
                  <a:ext cx="29048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454560" y="2665080"/>
                <a:ext cx="3147480" cy="393840"/>
                <a:chOff x="3454560" y="2665080"/>
                <a:chExt cx="3147480" cy="393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57880" y="2665080"/>
                  <a:ext cx="29404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derstorey (non-tree) str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454560" y="2665080"/>
                  <a:ext cx="31474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602400" y="2665080"/>
                <a:ext cx="2282400" cy="393840"/>
                <a:chOff x="6602400" y="2665080"/>
                <a:chExt cx="2282400" cy="3938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05720" y="2665080"/>
                  <a:ext cx="20757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02400" y="2665080"/>
                  <a:ext cx="22824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49360" y="3059280"/>
                <a:ext cx="2904840" cy="306720"/>
                <a:chOff x="549360" y="3059280"/>
                <a:chExt cx="2904840" cy="306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52680" y="3059280"/>
                  <a:ext cx="26982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9360" y="3059280"/>
                  <a:ext cx="290484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454560" y="3059280"/>
                <a:ext cx="3147480" cy="306720"/>
                <a:chOff x="3454560" y="3059280"/>
                <a:chExt cx="3147480" cy="306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557880" y="3059280"/>
                  <a:ext cx="29404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ack of weed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54560" y="3059280"/>
                  <a:ext cx="314748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602400" y="3059280"/>
                <a:ext cx="2282400" cy="306720"/>
                <a:chOff x="6602400" y="3059280"/>
                <a:chExt cx="2282400" cy="306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705720" y="3059280"/>
                  <a:ext cx="207576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602400" y="3059280"/>
                  <a:ext cx="228240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49360" y="3366000"/>
                <a:ext cx="2904840" cy="306720"/>
                <a:chOff x="549360" y="3366000"/>
                <a:chExt cx="2904840" cy="306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52680" y="3366000"/>
                  <a:ext cx="26982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9360" y="3366000"/>
                  <a:ext cx="290484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454560" y="3366000"/>
                <a:ext cx="3147480" cy="306720"/>
                <a:chOff x="3454560" y="3366000"/>
                <a:chExt cx="3147480" cy="306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557880" y="3366000"/>
                  <a:ext cx="29404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ruit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454560" y="3366000"/>
                  <a:ext cx="314748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6602400" y="3366000"/>
                <a:ext cx="2282400" cy="306720"/>
                <a:chOff x="6602400" y="3366000"/>
                <a:chExt cx="2282400" cy="3067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705720" y="3366000"/>
                  <a:ext cx="207576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02400" y="3366000"/>
                  <a:ext cx="228240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49360" y="3672720"/>
                <a:ext cx="2904840" cy="306360"/>
                <a:chOff x="549360" y="3672720"/>
                <a:chExt cx="2904840" cy="3063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52680" y="3672720"/>
                  <a:ext cx="269820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49360" y="3672720"/>
                  <a:ext cx="29048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454560" y="3672720"/>
                <a:ext cx="3147480" cy="306360"/>
                <a:chOff x="3454560" y="3672720"/>
                <a:chExt cx="3147480" cy="306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557880" y="3672720"/>
                  <a:ext cx="294048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c li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454560" y="3672720"/>
                  <a:ext cx="314748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602400" y="3672720"/>
                <a:ext cx="2282400" cy="306360"/>
                <a:chOff x="6602400" y="3672720"/>
                <a:chExt cx="2282400" cy="306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705720" y="3672720"/>
                  <a:ext cx="207576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602400" y="3672720"/>
                  <a:ext cx="22824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49360" y="3979080"/>
                <a:ext cx="2904840" cy="306720"/>
                <a:chOff x="549360" y="3979080"/>
                <a:chExt cx="2904840" cy="306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52680" y="3979080"/>
                  <a:ext cx="26982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9360" y="3979080"/>
                  <a:ext cx="290484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454560" y="3979080"/>
                <a:ext cx="3147480" cy="306720"/>
                <a:chOff x="3454560" y="3979080"/>
                <a:chExt cx="3147480" cy="306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557880" y="3979080"/>
                  <a:ext cx="29404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454560" y="3979080"/>
                  <a:ext cx="314748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602400" y="3979080"/>
                <a:ext cx="2282400" cy="306720"/>
                <a:chOff x="6602400" y="3979080"/>
                <a:chExt cx="2282400" cy="3067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705720" y="3979080"/>
                  <a:ext cx="207576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602400" y="3979080"/>
                  <a:ext cx="228240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49360" y="4285800"/>
                <a:ext cx="2904840" cy="307800"/>
                <a:chOff x="549360" y="4285800"/>
                <a:chExt cx="2904840" cy="307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52680" y="4285800"/>
                  <a:ext cx="269820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andscape con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49360" y="4285800"/>
                  <a:ext cx="290484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454560" y="4285800"/>
                <a:ext cx="3147480" cy="307800"/>
                <a:chOff x="3454560" y="4285800"/>
                <a:chExt cx="3147480" cy="3078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557880" y="4285800"/>
                  <a:ext cx="294048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tch siz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454560" y="4285800"/>
                  <a:ext cx="314748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602400" y="4285800"/>
                <a:ext cx="2282400" cy="307800"/>
                <a:chOff x="6602400" y="4285800"/>
                <a:chExt cx="2282400" cy="3078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705720" y="4285800"/>
                  <a:ext cx="20757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02400" y="4285800"/>
                  <a:ext cx="2282400" cy="30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49360" y="4593600"/>
                <a:ext cx="2904840" cy="306720"/>
                <a:chOff x="549360" y="4593600"/>
                <a:chExt cx="2904840" cy="306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2680" y="4593600"/>
                  <a:ext cx="26982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9360" y="4593600"/>
                  <a:ext cx="290484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454560" y="4593600"/>
                <a:ext cx="3147480" cy="306720"/>
                <a:chOff x="3454560" y="4593600"/>
                <a:chExt cx="3147480" cy="3067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57880" y="4593600"/>
                  <a:ext cx="29404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ighbourhoo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454560" y="4593600"/>
                  <a:ext cx="314748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602400" y="4593600"/>
                <a:ext cx="2282400" cy="306720"/>
                <a:chOff x="6602400" y="4593600"/>
                <a:chExt cx="2282400" cy="3067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705720" y="4593600"/>
                  <a:ext cx="207576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602400" y="4593600"/>
                  <a:ext cx="228240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49360" y="4900680"/>
                <a:ext cx="2904840" cy="306720"/>
                <a:chOff x="549360" y="4900680"/>
                <a:chExt cx="2904840" cy="306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680" y="4900680"/>
                  <a:ext cx="26982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9360" y="4900680"/>
                  <a:ext cx="290484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454560" y="4900680"/>
                <a:ext cx="3147480" cy="306720"/>
                <a:chOff x="3454560" y="4900680"/>
                <a:chExt cx="3147480" cy="306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557880" y="4900680"/>
                  <a:ext cx="29404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stance to core ar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454560" y="4900680"/>
                  <a:ext cx="314748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602400" y="4900680"/>
                <a:ext cx="2282400" cy="306720"/>
                <a:chOff x="6602400" y="4900680"/>
                <a:chExt cx="2282400" cy="306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705720" y="4900680"/>
                  <a:ext cx="207576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02400" y="4900680"/>
                  <a:ext cx="228240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49360" y="5207400"/>
                <a:ext cx="2904840" cy="306720"/>
                <a:chOff x="549360" y="5207400"/>
                <a:chExt cx="2904840" cy="3067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52680" y="5207400"/>
                  <a:ext cx="26982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9360" y="5207400"/>
                  <a:ext cx="290484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454560" y="5207400"/>
                <a:ext cx="3147480" cy="306720"/>
                <a:chOff x="3454560" y="5207400"/>
                <a:chExt cx="3147480" cy="3067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557880" y="5207400"/>
                  <a:ext cx="29404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54560" y="5207400"/>
                  <a:ext cx="314748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6602400" y="5207400"/>
                <a:ext cx="2282400" cy="306720"/>
                <a:chOff x="6602400" y="5207400"/>
                <a:chExt cx="2282400" cy="3067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705720" y="5207400"/>
                  <a:ext cx="207576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602400" y="5207400"/>
                  <a:ext cx="2282400" cy="30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541440" y="1654200"/>
              <a:ext cx="8351640" cy="3862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C5A5-1DA2-488D-BCA4-2FF87A0C2F6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1T21:06:12Z</dcterms:created>
  <dc:creator>J and M Scott.</dc:creator>
  <dc:description/>
  <cp:keywords/>
  <dc:language>en-US</dc:language>
  <cp:lastModifiedBy>Briana Daly</cp:lastModifiedBy>
  <cp:lastPrinted>2000-08-14T14:35:53Z</cp:lastPrinted>
  <dcterms:modified xsi:type="dcterms:W3CDTF">2005-12-19T04:06:24Z</dcterms:modified>
  <cp:revision>328</cp:revision>
  <dc:subject/>
  <dc:title>Managing pastures for persistence  in the high rainfall zone</dc:title>
</cp:coreProperties>
</file>