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B5C0-1AE0-4FF3-AF4D-7D7627956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0FA5-E3F8-49B5-99BC-8B31FCE99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79D2-239B-4DE3-A293-0A77A9851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447D-9B3F-4257-AEC0-4268FD02A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E861-06DD-43C9-8C06-3064132B7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DBAAC-9366-445A-BC73-DDFDA6BDD7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6EE03-4138-4440-9A58-3192F61D94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6DA86-DB9F-47D8-BE90-049379E431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20F12-E398-403C-AD34-F54CF1B135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6E592-3E36-44CD-A480-2AB56B6FBE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D99D2-B77E-47E7-B66B-61D36927A6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26A34-069C-41FB-AD04-A5F05C8B1E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A679-21D4-402B-A847-021E5C256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E0052-56C7-4A37-86EB-585D19651C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2A76E-92E4-436A-91D6-C52527F082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A762-AE11-409D-AAB0-3A4DFF82E7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348A4-9D94-4C59-BC4B-85E031F5F6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F89AC-7E10-4382-9DC6-0F791554D9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66CD7-7A10-4122-B4AA-001EFE089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ED1E-B161-4723-B7CC-A652B7C5A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A90C-2A32-404D-826D-8FF833290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948D-CA50-49AA-973C-6B19FCB6C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98C5-0881-4FBB-AC88-0DAD2A1DF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4660-4723-406F-8E92-0BE301A5A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BC76-0718-4DC4-B3C6-F94834318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B389-DB3A-4D80-97BA-24918C4A3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055A-2DB1-4AC2-9A76-8C70C98A6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503640"/>
            <a:ext cx="8610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se Study C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rthern Wheat/Sheep Be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160" y="426708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NR 421/521 - Topic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ne Maron &amp; Charlie Za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30E47-BD86-409B-8FB9-D04774B72E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31800" y="1142640"/>
            <a:ext cx="8283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ain sustainability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il moisture conservation (no-till practices are now used which have improved th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asture weed invasion (Harrisia cactus, Mother of mill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rop weeds and herbicid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il fertility and water erosion are min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e future: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duction on Manus is heading toward a focus on beef production, and cropping will be scaled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 Property: ‘Manus’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840C-2747-4EFB-86E3-7DF11645C6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C8FBF-FFAB-4E38-81B5-95C68C8AA6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15257" t="0" r="4598" b="0"/>
          <a:stretch/>
        </p:blipFill>
        <p:spPr>
          <a:xfrm>
            <a:off x="4427640" y="990720"/>
            <a:ext cx="4716360" cy="4514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160" y="1257480"/>
            <a:ext cx="38862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tains Australia’s most productive agricultural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ccurs within the Murray-Darling Ba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rthern’ Wheat/Sheep Belt = north of  Coonabarab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Northern Wheat/Sheep B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DDD5-75E8-4150-A62C-084CFF6BE5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495680" y="1142640"/>
            <a:ext cx="4267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jor soil groups include Vertosols, Kandosols and Sodosols (Vertosols most fert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st rain falls Nov-April (associated with monsoon a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jor IBRA regions are Brigalow Belt South, Nandewar and Darling Riverine Pl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4790" t="5185" r="25373" b="4445"/>
          <a:stretch/>
        </p:blipFill>
        <p:spPr>
          <a:xfrm>
            <a:off x="685800" y="1295280"/>
            <a:ext cx="3138480" cy="4267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ils &amp;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587D-42BA-4208-87C2-055829CA58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218960"/>
            <a:ext cx="8447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jor land uses include livestock grazing, cropping, forestry, horticulture and con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9227" t="20071" r="0" b="6106"/>
          <a:stretch/>
        </p:blipFill>
        <p:spPr>
          <a:xfrm>
            <a:off x="5867280" y="3200400"/>
            <a:ext cx="3097440" cy="2124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2120" y="2590920"/>
            <a:ext cx="5472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azing most commonly of beef cattle (British/European breeds in south, more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os indicu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in nor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me Merino wool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otational grazing systems gaining fav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an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52D8-57C8-4143-9230-B2477C56C5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42600" y="1066320"/>
            <a:ext cx="8280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oth summer and winter cropping, mainly of deeper Vertos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rrigated and dryland 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r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6752" r="0" b="0"/>
          <a:stretch/>
        </p:blipFill>
        <p:spPr>
          <a:xfrm>
            <a:off x="838080" y="2743200"/>
            <a:ext cx="3961080" cy="277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952880" y="2895480"/>
            <a:ext cx="3886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mmer crops include cotton (mostly irrigated), maize, and sorgh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nter crops mostly wheat and bar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D0C10-9C03-4462-AEA7-C109BD0CC6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73120" y="1295280"/>
            <a:ext cx="5904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ind and water soil ero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iodiversity and habitat lo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troduced w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oody w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ali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emical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clining soil fer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00600" y="2416320"/>
            <a:ext cx="4092480" cy="307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jor Sustainabil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3B1B-1F83-4858-96D9-BB05722F5A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82280" y="1066320"/>
            <a:ext cx="820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ro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inimum- and no-till fa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otational grazing and careful pastu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tour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ntroduced wee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iological control, co-ordinated removal/spr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iodiversity and habitat lo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- and off-farm habitat con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tection of remnants and water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nagemen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84CA-48BD-4C9C-B5C3-C0C6C73F16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30360" y="990360"/>
            <a:ext cx="820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alin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nitoring of water tables and irrig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intaining deep-rooted perennial vegetation and native pas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hemical resis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void sub-lethal doses, careful timing of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ansgenic plant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eclining soil fert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-till fa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rop rotations including 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600" y="763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nagement Option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1E93-026D-46A9-92F4-F38D8B7AA8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23880" y="1218960"/>
            <a:ext cx="8367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Property size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2525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pprox. annual rainfall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600 mm, 2/3 of which falls between November and 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ain production types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ereal and legume cropping (no till); beef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oil types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d soils, some sodic; deep black vertosols; grey cracking clay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Native vegetation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riginally Brigalow/Belah, some Wilga and Ti-tree; 10% of property is remnant veg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 Property: ‘Manu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D31E-6DD7-45D6-9BC0-4391ADD942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03:43:36Z</dcterms:created>
  <dc:creator>Cottle</dc:creator>
  <dc:description/>
  <dc:language>en-US</dc:language>
  <cp:lastModifiedBy>Briana Daly</cp:lastModifiedBy>
  <dcterms:modified xsi:type="dcterms:W3CDTF">2005-09-29T04:54:24Z</dcterms:modified>
  <cp:revision>43</cp:revision>
  <dc:subject/>
  <dc:title>   Early stage processing</dc:title>
</cp:coreProperties>
</file>