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CFBD-B98A-4759-834B-9FB88540E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FF5F-F024-4557-B2EF-FAE126DB4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166A-8E77-4520-8B50-FA286B068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45D7-A058-4B8F-A4FE-A99C61436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A826C-93B7-41B6-A202-E087CD9AC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1D77F-40CE-4DB3-B752-4EECFC7A58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4080-07DE-4C7A-A590-98D0D9B90A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0474-0A73-4AEA-B7A8-0B60DD6C5A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6D8C8-6BAC-4E81-93CF-89B9E9ADAE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825EC-F3AE-47CF-93BA-7BDF2AE48E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B5FF-6DD9-4689-9F1F-1E2648CBC0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47E2B-4CB4-4ECB-93F1-415A3A6907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CDDF-9FE0-4D8B-BA9D-DE0BD7116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BAE7-99F9-4F23-94A2-5D767A8A7D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2DD9-7E9D-4D90-966D-E39378955B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92FD-8752-44E4-82C1-877DF0AB51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9356-AFE1-4AA6-A247-9F640975EE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FFE6-2A76-4AA9-B27E-4DE1233F8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D00F-4828-4EC3-8F5B-0CE1BE8A9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EA8E-652A-40BF-99C6-76A21A96E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FC5E-9D08-4CB3-B31C-D2F12147B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9A84-E82D-434F-9784-B0AFE2959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71CB-1897-437E-8606-D161B9654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9A1B-521E-4767-B370-D8D45ABF0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0D7A-25EB-4A74-8670-C9F910384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084A-24F0-449E-BA0F-372693406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C98B-2E81-4C18-9AF9-1B7421EA4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808560"/>
            <a:ext cx="8610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cy &amp; Legis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426708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NR 421/521 - Topic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ian P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A3646-9278-42D6-A8AD-9194FDEBCA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41768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nderstand what public policy 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e able to identify policy mechanisms available to Gover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e able to identify roles of the States and Federal Gover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nderstand the roles of different stakeholders in the policy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Know where to find information on evolving policy framework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E5D2-4B97-4F35-BEE9-DAAD8F68DB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Natural Resource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165320"/>
            <a:ext cx="777240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has policy change occur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powers and the Aust. Constit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ederal policy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key principles in NRM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3997-9365-4B79-85E1-11B6BB6E11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onceptual Framework of Policy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2120" y="1662120"/>
          <a:ext cx="8076960" cy="3290760"/>
        </p:xfrm>
        <a:graphic>
          <a:graphicData uri="http://schemas.openxmlformats.org/drawingml/2006/table">
            <a:tbl>
              <a:tblPr/>
              <a:tblGrid>
                <a:gridCol w="1295280"/>
                <a:gridCol w="990360"/>
                <a:gridCol w="1295640"/>
                <a:gridCol w="1447560"/>
                <a:gridCol w="1600200"/>
                <a:gridCol w="144792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cy Termi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ge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cy Age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g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ge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cy Ad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g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cy Imple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ge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blems which receive serious attention from Gov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ment of proposed courses of action (‘tools’) which are acceptable and eff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ment of support for a specific proposal so that a policy can be author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ying the govt’s policy to the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orts by the govt to determine if the policy was effective and why or why no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E5C9-1BC0-480E-850C-B2DB9AC42E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olicy Mechanisms o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295280"/>
            <a:ext cx="777240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ory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Related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Related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&amp;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1066-2586-4DF8-B417-8CC2E793CF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wo Key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546200"/>
            <a:ext cx="777240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Principle of Ecologically Sustainable Develop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Precautionary Princ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12FC-0680-44D3-B152-1D5B7BF7BC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814B-B3D9-41DF-AEC5-7B901E31E9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3:43:36Z</dcterms:created>
  <dc:creator>Cottle</dc:creator>
  <dc:description/>
  <dc:language>en-US</dc:language>
  <cp:lastModifiedBy>Briana Daly</cp:lastModifiedBy>
  <dcterms:modified xsi:type="dcterms:W3CDTF">2005-12-20T04:55:21Z</dcterms:modified>
  <cp:revision>47</cp:revision>
  <dc:subject/>
  <dc:title>   Early stage processing</dc:title>
</cp:coreProperties>
</file>