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637F-2DDF-404C-A0B7-190462796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26707-77D3-43B5-B69F-3CCA0D375B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6816F-857E-4B53-8FF4-1C1E4544FD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83376-E023-49A5-9B0A-7381197D5D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E713C-B506-412D-BD97-CD823C23EE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36AFE-4C60-455D-8669-8EB03653E2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1F5D7-20C5-4602-9678-7E253D6937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1F49F-D48C-4F9E-93EE-A0E6735DF7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A85EB-8AF9-403B-935C-6DB28515B8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B3801-803D-462D-83F3-9A1A5746B2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91BE2-9F23-4848-A2BA-AE3D5531E6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C4A65-4A19-4B39-9677-34BA9915AA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9EC32-7F01-4DE9-9D46-EEF62B7D86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02A2C-7098-4B1B-87DA-813F8E1FC6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243FC-8D0F-445F-A031-6E3180B302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7B651-C6D7-450B-A0B5-33C660B1B7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78C6F-546A-4268-9F5D-C576585015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01F8B-2F3F-4233-A07A-BE26E2760C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460FF-F6FF-4152-B20C-415B834D14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1163E-64C5-44C3-8F5E-9AA5C609B2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81E2E-EA7C-412D-802C-60625531A3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314CA-C3A1-445C-A89E-E154B7EED4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965DF-6A87-4BB4-853E-8AD28E7752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75744-45A2-479B-A41F-8B25AA5003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5AE24-3D06-49CF-AC79-1168E1667E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FFFF-4EFB-45EF-8FA9-E705DE3D3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AA5A-A152-4948-BCCB-2E2C2ED99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6760" y="808560"/>
            <a:ext cx="8610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oduction to Ec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160" y="4267080"/>
            <a:ext cx="83055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SNR 421/521 - Topic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k R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CCDAD-3AD2-4360-8F20-907B3EDEB29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Primary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674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PP = GPP –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easuring NPP by harv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2 –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0" t="0" r="0" b="5573"/>
          <a:stretch/>
        </p:blipFill>
        <p:spPr>
          <a:xfrm>
            <a:off x="1600200" y="2438280"/>
            <a:ext cx="7315200" cy="3097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48320" y="1143000"/>
            <a:ext cx="4495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PP = Δ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osses due to plant death (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) and to consumers (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D3433-1877-4A47-A651-142F0C8C7D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Biod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9581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Variety of lif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nimals, plants, fungi, micro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t all scales of biological organ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genes, species, ecosystems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mportant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cosystem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t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uman culture and aesth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CBE6E-14E7-488D-960E-A928E21073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Ecosystem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80438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nvironmental benefits for hum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cological processes and conditions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ustain 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roduce goods and benef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cycle was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5AA27-9711-466A-972F-053CADC14F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Examples of Ecosystem Services in Agricultural Catch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9621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atural pest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aintenance of soi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ater fil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revention of soil ero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aste absorption and break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aintenance of river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aintenance of groundwater levels and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1752480"/>
            <a:ext cx="41148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SzPct val="8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aintenance and regeneration of habit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SzPct val="8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aintenance and provision of genetic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SzPct val="8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egulation of regional and global clim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SzPct val="8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rovision of shade, shelter and barrier eff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SzPct val="8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oll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SzPct val="8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Life fulfil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A7BEF-BDA4-4AF2-BBDE-5FF9925797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Ecosystem 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Jenny Equation: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v,z,s =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cl,o,r,p,t …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eco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v = veg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z = an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 = s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l = cl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o =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 = rel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 = parent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 =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other natural and management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cosystems vary in time and space in response to wide variety of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23579-6D6F-417C-B1DC-0E17DE2FFC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18252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State and Transition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3375" t="3043" r="1028" b="0"/>
          <a:stretch/>
        </p:blipFill>
        <p:spPr>
          <a:xfrm>
            <a:off x="914400" y="782640"/>
            <a:ext cx="8077320" cy="485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F8202-11E5-4271-85E4-09035C92B5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Life History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0" r="3396" b="0"/>
          <a:stretch/>
        </p:blipFill>
        <p:spPr>
          <a:xfrm>
            <a:off x="4581360" y="1447920"/>
            <a:ext cx="4334040" cy="34480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3962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Life histo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lifetime pattern of growth, development and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atural selection favoured co-occurrence of particular traits in particular habi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trateg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et of adaptive traits evolved in response to given environmental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7080" y="5029200"/>
            <a:ext cx="168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Grime (197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A4F02-F0A6-45DB-BB8C-527071719C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Biodiversity and Sustain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Diversity-Productivity Deb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ilman (1997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3581640" cy="2867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876920" y="2286000"/>
            <a:ext cx="3657600" cy="294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AA8F6-65C3-464F-9195-3D14513D989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The Diversity-Stability Deb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 rot="21540000">
            <a:off x="1907640" y="1066680"/>
            <a:ext cx="5104080" cy="440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AC212-FC12-4C95-B420-85A3AB2EDB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Diversity and Sustain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o large-scale field experimental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ilman (1997): biodiversity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creases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creases st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reater diversity me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greater morphological and physiological var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greater resource explo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less leaky eco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9955E-2D0A-4927-AFAD-FA48F2D937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vision of ecological concepts for those who need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t the end of this topic you should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xplain what ecology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elevance to sustainability and farm and catchment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understand concept of stocks and flows of energy and matter through eco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cosystem change in response to external fa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tate and transition summaries of ecosystem dyna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ppreciate importance of biodiversity for life on earth and agricul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5FB4D-A3E3-4377-BCB2-F777AF8193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But Back on the F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ilman’s observations and experi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andom selections of agricultural or naturally occurring plants,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pecies assemblages growing natural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RZ – select most productive species in given environment (crops and pastu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iswick experi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halaris-white clover pasture more productive and less leaky than volunteer degraded pasture of many different 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7AC9C-FEF1-4328-B9C5-A6C4420307F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348000" y="1699920"/>
            <a:ext cx="244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4E654-E5E4-4B6C-B33F-0AFCC25AB2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ustainability = Production + Con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ost ‘sustainability’ definitions emphasi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ffects of present day activities on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mportance of maintaining ecological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benefits of improving quality of life now without denying future generations similar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cology 1 of 3 pillars of sustain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043BB-8DB9-41C6-9331-8DDEFD8FC5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What is Ecolog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tudy of organisms (including humans) where they live (habitat or environment) and relationships between organisms and environ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cludes aspects of applied disciplines of agronomy, forestry, range management, animal science et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tudied at variety of different levels of organ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rganism, population, community, ecosystem, ecoregion, bi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D4E8A-EEDD-44D9-B1E5-2B5F5CB74F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Definition of Populations, Species and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85800" y="1752480"/>
          <a:ext cx="8229600" cy="3581640"/>
        </p:xfrm>
        <a:graphic>
          <a:graphicData uri="http://schemas.openxmlformats.org/drawingml/2006/table">
            <a:tbl>
              <a:tblPr/>
              <a:tblGrid>
                <a:gridCol w="2057400"/>
                <a:gridCol w="2144520"/>
                <a:gridCol w="2071800"/>
                <a:gridCol w="195588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urisdiction and Relevant Statu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pul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ec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unities and Ecosyst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onwealth: </a:t>
                      </a:r>
                      <a:r>
                        <a:rPr b="0" i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vironment Protection and Biodiversity Conservation Act 1999 </a:t>
                      </a: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EPBC Ac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ent honeyeater - endangered species lis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rrow-leafed peppermint – endangered community lis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SW: </a:t>
                      </a:r>
                      <a:r>
                        <a:rPr b="0" i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reatened Species Conservation Act 19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sked frog population, Nandewar and New England Tablelands - endangered population lis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lack-necked stork - endangered species listing</a:t>
                      </a:r>
                      <a:br>
                        <a:rPr sz="1400"/>
                      </a:b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36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hite box - yellow box - Blakely's red gum wood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D2AAB-D56D-4276-A044-81E17445D7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and Bio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257800" cy="40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9AC21-81E0-4775-B899-B8129AEDD8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Why is Ecology Relevant to Sustainabi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1536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ustainable development requires the present generation to ensure environmental health, diversity and productivity is maintained or enhanced for future gener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cology is concerned with environmental health and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ssumes central role in human management of bi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2940A-F2F7-44C2-A2E8-53B8A295AD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48708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Key Ecological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iod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cosystem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cosystem 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Life history strateg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C9FBB-E321-4851-B89C-463F3BC89D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Ecosystem Produ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3657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rimary produ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onsu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erbiv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arniv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ecompo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roduction = fixation of solar energy by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038480" y="1830240"/>
            <a:ext cx="4905360" cy="335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37543-4AAF-4159-A97D-3A00C8845D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1T03:43:36Z</dcterms:created>
  <dc:creator>Cottle</dc:creator>
  <dc:description/>
  <dc:language>en-US</dc:language>
  <cp:lastModifiedBy>Briana Daly</cp:lastModifiedBy>
  <dcterms:modified xsi:type="dcterms:W3CDTF">2006-02-08T04:30:47Z</dcterms:modified>
  <cp:revision>81</cp:revision>
  <dc:subject/>
  <dc:title>   Early stage processing</dc:title>
</cp:coreProperties>
</file>