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4AF1-74C0-47AB-BAC0-526F2AB0B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4962-90C3-4C50-86B2-D5E182521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1D95-B5BB-46E4-BE07-261C929F4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F317-6D5A-4A8C-9F26-80C11A139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CBA9-13B3-4126-AA71-C1E37777D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AEE30-83E8-42DC-8C6B-918CEC78C5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12833-CF7F-4E35-8229-A2937DF5D0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0750-C7AC-4C36-9AAB-AAD086456E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C2D25-2639-4B33-B2A0-A86ACEB692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756AC-A4F8-45BC-81F1-F36388C862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32DC5-4456-46F5-8B6A-34A0BEBFF5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93790-0809-48C4-9C92-B2BC960E97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4CE5-E5BE-4E05-8DD0-E1EBC81EE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1661-E58F-49F1-9186-8BC23F106A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30BF-77CE-4E0C-800B-3BC9BAE885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B952-0586-4E8E-AB54-2D8CF6A255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5649-9AF3-4EB5-ACEC-0F96D1B2B3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D995A-81AE-4E43-B85E-B575BA1CEE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6903-EE9C-4E7E-8A42-0508B7772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A02F-86EE-430C-814F-CDA99432B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840B-5567-486C-8418-F446DBA54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B57C-BB02-4A1E-A9F1-0B74FB29D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6097-AB50-45FB-A5DB-A2A824343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9D67-2977-4D52-BC4C-284540D9B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7452-A7EC-461B-8AB2-DA5400B50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AE1F-6C50-48B5-AE0C-9D77A6615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391F-4BC0-492B-BAAD-6F99009F3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397080"/>
            <a:ext cx="861048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Case Study – Northern Tablelands of New South Wales</a:t>
            </a:r>
            <a:r>
              <a:rPr b="0" lang="en-A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426708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NR 421/521 - Topic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 R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D9A4-D8AD-4AAC-8D07-2C2F297F85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327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uture Opportunities and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xpanding markets for meat and fashion products generated by burgeoning middle class in India and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s in role of government and agricultural industries in policy and management of natural resources and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662C-09CC-46A8-83FB-342A542E52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D0D3-3BA4-47CE-9D99-17D8B04A0C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68594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BARE’s High Rainfall Zone (HR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aracteris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igh 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ep top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tter surface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igh hum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ertile erodible so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ss suitable than Wheat-Sheep Zone for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re suitable for grazing and other cro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38480" y="2895480"/>
            <a:ext cx="4876920" cy="2390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62520" y="1295280"/>
            <a:ext cx="5029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ypical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road-acre industries: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ai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eep me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6406-8E3B-4AD9-AEA0-029B135081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76520" y="457200"/>
            <a:ext cx="4129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Northern Table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ver 3.3 million ha of H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hires of Tenterfield, Glen Innes, Guyra, Armidale-Dumaresq, Uralla, Walcha and Inverell (e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mmer-dominant rainfall, grassy woodlands and open-fo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ttled by squatters in 1830s for pas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bout 69% region is farm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incipally livestock grazing enterp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51F7-CAF4-4CA1-A343-49105E04F2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6406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Northern Tablelands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76520"/>
          <a:ext cx="8534520" cy="3603600"/>
        </p:xfrm>
        <a:graphic>
          <a:graphicData uri="http://schemas.openxmlformats.org/drawingml/2006/table">
            <a:tbl>
              <a:tblPr/>
              <a:tblGrid>
                <a:gridCol w="1298520"/>
                <a:gridCol w="717480"/>
                <a:gridCol w="698760"/>
                <a:gridCol w="466560"/>
                <a:gridCol w="781200"/>
                <a:gridCol w="761760"/>
                <a:gridCol w="609840"/>
                <a:gridCol w="685800"/>
                <a:gridCol w="639720"/>
                <a:gridCol w="579240"/>
                <a:gridCol w="542880"/>
                <a:gridCol w="752760"/>
              </a:tblGrid>
              <a:tr h="36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 Hold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Agricultural Establish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m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m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rs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rtic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e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e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i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midale -Dumares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y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erell (ea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en Innes-Seve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ter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al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lc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 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 4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9C60-FA9F-4265-A045-2E3CBF520A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30320" y="457200"/>
            <a:ext cx="5461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Northern Tablelands F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001: 2300 fa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veraging 800-1100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75% run beef, 57% 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w returns to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arm profit sensitive to small price fluc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e in six farms in south are smaller ‘lifestyle’ farms with most income generated off-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4EE8-2460-40E3-9DA9-909BFD2C99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2880" y="457200"/>
            <a:ext cx="7310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outhern New England Woolgr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600200"/>
          <a:ext cx="8152920" cy="3760920"/>
        </p:xfrm>
        <a:graphic>
          <a:graphicData uri="http://schemas.openxmlformats.org/drawingml/2006/table">
            <a:tbl>
              <a:tblPr/>
              <a:tblGrid>
                <a:gridCol w="2460960"/>
                <a:gridCol w="1535400"/>
                <a:gridCol w="1519200"/>
                <a:gridCol w="1483560"/>
                <a:gridCol w="11538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ribu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ol Grower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 Ma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t Produc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-Input Wool Produc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e Styl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ple siz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ol income* (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ef income*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f-farm income*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ed pasture**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ve pasture**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shland**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. property size (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sheep shorn annua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AD67-E26E-4B92-9DA6-B8B9E392A9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63760" y="304560"/>
            <a:ext cx="27561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astur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riginally all rangeland and cro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ince 1950, 23% of region sown to pastures and additional 6% top-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tive pastures dominate rema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sown country reverted to ‘natural’ pasture dominated by volunteer native perenn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ower capability country, lower carrying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ry seasons and low returns since 198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ncouraged interest in low-input native pastures and grazing management alternatives to high-input sown pas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891A-BFBD-43EC-8C7A-F31B1D941C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258480"/>
            <a:ext cx="748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ocio-Economic Sustainabil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w commodity prices and declining terms of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reasing demand for certified products to meet quality and environmentally and ethically responsible production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ural adjustment and farm aggregation by younger, more successful 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windling rural populations, small communities in de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drawal of rural and regional services such as banking, schooling and extens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reasing interest in farming as a lifestyle for urban dwell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8DE5-AD2D-410A-ACC3-3A54B7859B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81240" y="457200"/>
            <a:ext cx="6743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Bio-Physical Sustainabil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gricultural impacts on catchment wate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ck of sown pasture pers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il acidification, alkali scalds, er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vestock 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ld d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angaro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verclearing and die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ss of regional biodiver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eenhouse gas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5CB2-612C-404A-8157-7F1F7809EF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3:43:36Z</dcterms:created>
  <dc:creator>Cottle</dc:creator>
  <dc:description/>
  <dc:language>en-US</dc:language>
  <cp:lastModifiedBy>Briana Daly</cp:lastModifiedBy>
  <dcterms:modified xsi:type="dcterms:W3CDTF">2006-02-08T04:51:26Z</dcterms:modified>
  <cp:revision>56</cp:revision>
  <dc:subject/>
  <dc:title>   Early stage processing</dc:title>
</cp:coreProperties>
</file>