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054-A253-475F-841D-094AB35B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7669-CFF2-4613-87F0-74E6AEECE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FA25-4AD7-43EA-9B72-33B65968F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2D84-78DE-4B8E-A7BD-627F1C486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C1EA-4B4E-4902-BA26-E97F02AC1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F6F1-40E8-46E5-AA32-ACFFD74BA2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3242-E4BB-48CD-B996-F6DFC7AF9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9F2C-38AC-4568-9EA5-0DF97FFCA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3965-ACB6-48C2-AA3B-3D714501C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71A7-879E-4EDF-8DC6-5B17113544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AB6B-6B75-4D58-90BB-A6C08E98C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63E6-C903-4F4C-9DB6-4C24D937F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E784-6CF6-4C83-891B-9A98FD49B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0BB4-54ED-4196-B63B-B00D9BD36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686C-54BD-4D9A-8C2A-BB4E3F233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9B4F-B6D9-4A2B-B964-C8542077F5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2FC5-3BD6-4779-BA7B-E4D39B301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9EA0-C884-4434-9125-F24EDDEE5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2888-2254-47BA-85F0-49DD76514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65E5-37EE-489E-A060-4F289E411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444D-FF50-432D-AE53-3D4B48D4F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247E-E818-469C-A5F7-5C2C4D2F5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50CD-333A-443C-A23E-B5FBA79B0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4B07-A4E7-43A6-8367-FD7FEB882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E440-6BCD-4F40-9BB5-F19973639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77E-4CB0-4CA9-B2F2-6DA1330A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877-EBD5-4DC5-BE59-6E1596C9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50364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Issues and Future Directions for Agri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ith Hutch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DDF1-69B2-4118-B0D9-5EFC964A5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A125-1A8C-4DF6-A546-2AF4C0ED0D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0400" y="304560"/>
            <a:ext cx="7310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house gases constrain energy escape from the earth’s surface and temperature r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emissions have risen steeply since the industrial revolution, driven by population growth and 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framework convention on climate change - United Nations 1992 - Kyoto Protoc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D746-CCC1-43A4-A5FF-9B55B0380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91920" y="304560"/>
            <a:ext cx="4310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yoto Protoco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binding emission targets -Implementing mechanisms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, reporting &amp; review - Impacts are minimised for developing n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assessed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1417-547D-4E2B-86D2-CB1ECEBE5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50680" y="304560"/>
            <a:ext cx="3994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yoto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issions 1990 - Star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70 nations signed. US and Australia hav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 rankings – US (1), Australia (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policy is focused on low emission technology and reduced land cl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BE9F-F0EF-4BC6-BD1C-9D926821C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77760" y="304560"/>
            <a:ext cx="550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ssions from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120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alance between photosynthesis, respiration and soil carbon 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produces largest emissions of methane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nitrous ox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clude eructation of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ruminants, inefficient nitrogen (N) use and burning agricultural resid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BBFF-66D4-4C74-B732-BD4476DB6B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0280" y="411120"/>
            <a:ext cx="8461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Warming - Agriculture is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and distribution of annual rainfall affecting yield, enterprise type and irrigation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weather events more frequ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temperature forcing enterprise change – e.g. heat stress in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6049-CAF0-4B17-A1EA-F79F75309E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ability – Glob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dtland (1987) – Defines sustainability as development, which meets the needs of the present without compromising the ability of future generations to meet their own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– With use of fertiliser and irrigation, the global production of cereal grains doubled between 1960-66. Can this be sustained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- by 2050 human population will increase by 50%. Addressing poverty would reduce family size (negative  feed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D7EC-449C-4920-A5E5-FA0D34661E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Australian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 in farm numbers will be balanced by bigger farm size.  Trend to commercial enterprises and leased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to remain largely under owner control but with legislation governing off-farm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ccessful enterprise must conserve soil, be non-polluting, efficient in water use and financi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will continue to provide substantially enhanced machinery and genetic prog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EC4A-3262-4EB6-A868-0BFAC20F7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isation &amp; Free-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348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Trade Organisation (WTO) to sponsor small national groupings to increase bargaining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-to-nation trade agreements will conti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ch towards free-trade will conti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Australian agriculture to balance production with responsible environmental and ethical outcom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DB8D-AE59-4923-A350-B49C720DE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6-02-14T04:33:55Z</dcterms:modified>
  <cp:revision>46</cp:revision>
  <dc:subject/>
  <dc:title>   Early stage processing</dc:title>
</cp:coreProperties>
</file>