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51D-6DC7-4533-BF3A-C8D6AF21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153E-AC14-4440-A4C6-37102A381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3F78-65DE-4280-8B86-911F189FE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DEE6-56D9-4FD0-90EB-44214905D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E7AB-F7FF-45EA-B8EE-7282B0D4B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2D64-8FAE-4E2F-AF44-7B07C7CAA9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2C83-7CFE-43F9-BB9D-57A6F6A350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4A2A-F264-4D46-A4B3-62F7302F3C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5191-CD97-4D7B-BE0E-06DEB6FA37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6411-CDD4-485C-AFA7-8DAEFA291A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395A-0AB2-4137-A927-20EB3273E9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544F-F076-43FE-A853-6B79DAF42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BF86-B027-45C5-B73B-C55EA67B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A0E9-D4A9-4365-A4AD-EF3F21F392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AE28-7731-41D2-8FC8-B10BA71001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ADA9-FA6D-455E-9D6A-237958144C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B908-C05A-48BC-885A-1FB5FE3E1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164B-679A-444F-9D4E-455FB42E7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94C3-614B-4C80-B9EF-9A42E9012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FC92-2C42-4D36-8059-8A510CB3E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11D7-4219-4179-88E5-6B7345A13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CA07-E7A2-4ACA-8F5E-D1EF48F39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171F-C1E7-425C-B15F-28A606A5A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03B0-FE2C-491C-9CBE-558BFA9DB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280A-CF82-48EF-AB04-CE05F06FA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01A5-F7E3-4C6A-8D83-57505079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369B-D61F-490D-A5E2-5F95F810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808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il 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383C-CCEE-4B9E-A44D-C04D3CB005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3240" y="182520"/>
            <a:ext cx="805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Sustainability in Sheep 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970440"/>
            <a:ext cx="83818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, physical and biological fertility of soil sus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biota sustain chemical fertility by recycling nutrients from organic residue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biota sustain physical fertility through enhancement of soil structur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297080"/>
            <a:ext cx="4343400" cy="251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1AAE-BBB2-4CC1-B9A1-BAE8B50311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12085" r="4982" b="0"/>
          <a:stretch/>
        </p:blipFill>
        <p:spPr>
          <a:xfrm>
            <a:off x="609480" y="4191120"/>
            <a:ext cx="2667240" cy="110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84440" y="30492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oil Bi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328760"/>
            <a:ext cx="80010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microbes (bacteria &amp; fung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l invertebrate anim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auna (protozo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esofauna (nematodes, springtails, m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crofauna (earthworms, dung beetles, ants, millepede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dlic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0526" t="11601" r="7894" b="7173"/>
          <a:stretch/>
        </p:blipFill>
        <p:spPr>
          <a:xfrm>
            <a:off x="5791320" y="1139760"/>
            <a:ext cx="2590560" cy="1755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6061" t="28737" r="9091" b="0"/>
          <a:stretch/>
        </p:blipFill>
        <p:spPr>
          <a:xfrm>
            <a:off x="7010280" y="4191120"/>
            <a:ext cx="19814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7774" t="0" r="6719" b="9769"/>
          <a:stretch/>
        </p:blipFill>
        <p:spPr>
          <a:xfrm>
            <a:off x="3454560" y="4191120"/>
            <a:ext cx="167616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14508" t="5947" r="16580" b="4588"/>
          <a:stretch/>
        </p:blipFill>
        <p:spPr>
          <a:xfrm>
            <a:off x="5346720" y="419112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0C50-9670-45D0-A003-C891DF4A8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644480" y="1219320"/>
            <a:ext cx="6248160" cy="4038120"/>
            <a:chOff x="1644480" y="1219320"/>
            <a:chExt cx="6248160" cy="4038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3152520" y="1219320"/>
              <a:ext cx="4740120" cy="39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644480" y="3755160"/>
              <a:ext cx="1498680" cy="15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1644480" y="2535120"/>
              <a:ext cx="1514520" cy="121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1644480" y="1260360"/>
              <a:ext cx="1508040" cy="12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 flipV="1">
            <a:off x="1720800" y="49528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1040" y="5200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35000" y="30481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" y="3448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78200" y="5029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09840" y="52578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l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02080" y="48765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302080" y="4419360"/>
            <a:ext cx="4572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10400" y="5257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epe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835600" y="3200040"/>
            <a:ext cx="14796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7283520" y="3733560"/>
            <a:ext cx="3168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7720" y="5181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w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97320" y="1066680"/>
            <a:ext cx="38088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6920" y="990720"/>
            <a:ext cx="18608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98600" y="762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92040" y="781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k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8120" y="106200"/>
            <a:ext cx="58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er Soil Macrofa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15880" y="1143000"/>
            <a:ext cx="8384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5000" y="2057400"/>
            <a:ext cx="12952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9720" y="1695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zo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4360" y="7812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mat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7A47-6347-41B9-A02C-715996D12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11800" y="15228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 of Soil Bi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400" y="762120"/>
            <a:ext cx="79041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ition of organic matter + recycling of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hemical Fer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of soil structur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hysical Fer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ater-stable soil aggre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ixing organic matter into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vention of soil 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433600"/>
            <a:ext cx="3276720" cy="285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88200" y="525132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-stable soil 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72096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1526-18D0-4C97-8F2D-B3E75F3AA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96160" y="228600"/>
            <a:ext cx="81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s of Management on Abundanc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ure Soil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1584360"/>
            <a:ext cx="8142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clearing - increase earthworm numbers in temperate grass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zing - decrease meso- and macrofaun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ure improvement - increase microbe and soil animal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ivation - large animals decline, small animals recover in 6 m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-  herbicides - newer ones less toxic, fungi 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tiparasitic drugs can be harmful to dung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ure leys in cropping rotation - generally beneficial to soil bi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F691-C06F-44CB-A45E-4C28E2CAA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3120" y="304920"/>
            <a:ext cx="819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of Sustainable Soil Management in Sheep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584360"/>
            <a:ext cx="83865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pastures - year-round plant cover and root pres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rganic matter in soil, undisturb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ivation, fungal networks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graz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ground cover &lt; 75%, potential for soil erosion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ganic matter, high in nutrients, vulnerable to 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ure improv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ed to replace nutrients exported or ero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-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nt and animal productivity and soil biologi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increases 3-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ng-term effects may lead to soil ac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wer ones better than older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2F10-AB73-4021-A9E9-7694482B2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30D9-1321-4629-87CB-D0623B320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5-12-19T03:32:13Z</dcterms:modified>
  <cp:revision>43</cp:revision>
  <dc:subject/>
  <dc:title>   Early stage processing</dc:title>
</cp:coreProperties>
</file>