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2E2-A8EF-4BEE-80C7-353C4A74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7EDC-3DD8-4F79-B633-F544A0C70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70BA-95B1-4806-828E-F64E82169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C934-82F0-437D-85BC-34E0C97D2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F136-34AC-480C-B935-9888F6584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907E-CC7D-494D-AEF8-182DE11AFF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EB6C-0BC0-437C-B9B0-CA0A4F1EC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7365-6AAC-404F-8692-5648659B9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0462-7A4B-4853-9533-CD3883956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2B2D-6A10-4A5E-B852-FD2D1F7AE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4FE7-09BC-4D16-855F-C9BBD32EDF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830B-A0DC-4740-A755-040AFCF40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79B-BE19-4DAD-A29E-4EFD6E633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6314-7ACE-447E-BD61-355F8BB2E6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46A4-1097-465E-BE77-157E047AB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AD62-AD52-4084-B2E1-C213D788D3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DBA4-9FE4-4D70-A3AF-AF046324B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A24E-ADAF-478D-9DED-7AC000C90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396C-A1F6-485E-9C0A-4C88D421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BB35-A7BA-462F-B496-88D05BE9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1D4C-40CC-4900-B5F1-144DF6D21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9570-2F02-4CA9-B569-90F833CAE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2A66-426A-4619-B093-C9E3532BC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074F-3C88-4188-9A36-F234ADA0A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D84E-0AE9-4EF7-805B-72EF45129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DC5-9770-4F73-984C-4AC2B4E4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808-0064-46A1-A680-FC9B004D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50364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ing, Monitoring and Benchmarking 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ren M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ABCF-604F-454D-ADCF-703E0CAA6A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08BE-EAFF-4803-91C4-3A1B773B6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Explain the differences between measuring, monitoring and benchma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Discuss the reasons why farmers might measure, monitor or benchmark to improve their sustain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Nominate key indicators of financial, social and environmental sustain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ccess examples of benchmarking in the wool 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Reconcile the differences between what experts think farmers should measure, monitor and benchmark, and what actually happens on most fa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Utilise a simple planning process that can combine formal and informal information to assist key farm deci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3120" y="30492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CE61-193D-40DC-B6B9-628E9C60C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asurement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ormal determination of ‘size’ using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agreed unit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length, mass, volume, time, valu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be interchangeable with ‘measure’ but can be much less ‘formal’ and operate without agreed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standard against which something can be measured or judged – i.e. it implies using measurement and monitoring for comparison with other busi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3120" y="30492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Term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5B8A-99C2-41FF-A4A4-65F5D382B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y Measure, Monitor and Benchmark For Sustain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 Legally Enforceabl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 Marke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 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 Farm Planning/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 Comparative Analysis/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i   Community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ii  QA and 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x    Catchment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D7C6-5ED8-46EF-8037-10C0E002F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he Farm Monitor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rincipal aims of the Farm Monitor Project ar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benchmarks for grazing farms in south west Vi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nitor trends in farm productivity and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data to evaluate differences between top performers and other f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feedback to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6980-EA66-455A-9B40-25054FA2D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820" t="7019" r="2726" b="4590"/>
          <a:stretch/>
        </p:blipFill>
        <p:spPr>
          <a:xfrm>
            <a:off x="762120" y="76212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rm Location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7BC4-EC09-4CFB-B1A5-D93E9434B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he Reality for Farm Measurement</a:t>
            </a:r>
            <a:br>
              <a:rPr sz="32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% of farmers who rec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436760"/>
          <a:ext cx="7772400" cy="4049640"/>
        </p:xfrm>
        <a:graphic>
          <a:graphicData uri="http://schemas.openxmlformats.org/drawingml/2006/table">
            <a:tbl>
              <a:tblPr/>
              <a:tblGrid>
                <a:gridCol w="2783160"/>
                <a:gridCol w="1312560"/>
                <a:gridCol w="2625840"/>
                <a:gridCol w="1050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rm S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dock S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inf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il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tiliser (amou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cking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ays (dates o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il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Work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in (gr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ck M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dock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258A-C9E6-4DF5-9C9C-C6DE359F79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n Inclusive Planning T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306440"/>
            <a:ext cx="8381880" cy="40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1F78-3A33-44CF-B6EC-B43672A041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 it possible to suggest a minimum set of measurements that should be taken on farm for sustain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es for production and financial information (see Farm Monitor Project inform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for Environmental and Social sustainability because farm priorities are strongly dependent on the context within the particular farm, its position in the landscape/ catchment, and the aspirations of the farmer/far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Arial"/>
              </a:rPr>
              <a:t>In summary, farmers will measure or monitor when they need the information for making critical decisions, and they’ll stop when they no longer see that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A42F-2A69-4957-B508-E2E52F39C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6-01-13T05:45:46Z</dcterms:modified>
  <cp:revision>45</cp:revision>
  <dc:subject/>
  <dc:title>   Early stage processing</dc:title>
</cp:coreProperties>
</file>