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9FAC8-BA24-475C-9D6B-B667D34090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88920" y="4878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3F228-D037-4696-862A-CD96A33C80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6888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8892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26888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D171E-86DE-482E-9AD2-11B2AB980E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52880" y="3962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17200" y="3962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88920" y="4878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52880" y="4878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17200" y="4878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A4CEB-8E1F-4C79-9BFD-179C34F4A3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AAFA1-66DA-475E-83E2-C29A51AB143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8892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FD56D-4F97-4D5C-AB69-B8260D435B3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D6BC9-5BAA-4732-83FC-06BA1561D48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26888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CB9BF-E61C-4826-9BB3-F3D58930C7E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DCBFA-E05F-413F-A619-53C56D61982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5400" y="312840"/>
            <a:ext cx="7772400" cy="806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C5FC2-5DD9-48FA-9DF5-AA7265B0A82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26888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8892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8966C-0FFF-42F7-8F67-8987D57BFE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8892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FA38C-CCF9-4847-AB0B-98B47BAFED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6888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26888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FC2F1-232E-4165-911A-3E0798FAB1B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6888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88920" y="4878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CD4CD-05FE-4FAD-865C-F316AFA723A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988920" y="4878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BD4C9-E592-4154-B3FA-2B6F3019EB6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6888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8892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26888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C9F37-70E8-4B62-9869-9C1C3D711D0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52880" y="3962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17200" y="3962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988920" y="4878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52880" y="4878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17200" y="4878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F8B19-7A75-4792-81FC-8915BE94E1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C0F6A-9777-47F6-8ADF-1DD13D04E1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26888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10DCF-4931-4C54-8133-E8A86ED4C6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E4015-647D-4E90-BC24-42E13C451A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5400" y="312840"/>
            <a:ext cx="7772400" cy="806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2099C-5B5E-4560-9B4E-925200AF45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6888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8892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ED6C8-4C77-477E-AB81-7013A31C36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6888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26888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1FA50-BECD-431B-9A24-D400EF213E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6888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88920" y="4878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D2BC1-E837-4221-8C36-882D8F9256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565164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350040" y="5270400"/>
            <a:ext cx="1127160" cy="1600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C9E8A-F29C-4E97-BC94-25333CAE56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86594-6025-47A3-AB33-C5A091337C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380880" cy="213372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1749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479760"/>
            <a:ext cx="380880" cy="337824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5400" y="261720"/>
            <a:ext cx="7772400" cy="15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ase Study D: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uthern Wheat/Sheep Belt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88560" y="4229280"/>
            <a:ext cx="7774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David Sacket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Holmes Sackett &amp; Associ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7BE2A-8A24-4324-A557-A1FF80EF38D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recharge ar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1699" t="17840" r="1835" b="10681"/>
          <a:stretch/>
        </p:blipFill>
        <p:spPr>
          <a:xfrm>
            <a:off x="2146320" y="1846440"/>
            <a:ext cx="5418000" cy="28857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050920" y="5229360"/>
            <a:ext cx="561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hoto by Murrumbidgee Catchment Management Author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21E62-9EF9-48FF-955A-4DC4CB2B03D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sts involved and target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55640" y="1576440"/>
          <a:ext cx="8204040" cy="3581280"/>
        </p:xfrm>
        <a:graphic>
          <a:graphicData uri="http://schemas.openxmlformats.org/drawingml/2006/table">
            <a:tbl>
              <a:tblPr/>
              <a:tblGrid>
                <a:gridCol w="2050920"/>
                <a:gridCol w="2051280"/>
                <a:gridCol w="2050920"/>
                <a:gridCol w="2050920"/>
              </a:tblGrid>
              <a:tr h="1141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orks/Ope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0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st/h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04 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arget Work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r Proje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ater Qual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$14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3 h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1 h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4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alinity Rechar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$9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5 h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46 h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alinity Dischar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$12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8 h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1 h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4CDEC-A14D-4D15-B054-37A869C4396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87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6000" y="1341000"/>
            <a:ext cx="7772400" cy="38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een properties were targeted with the following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3ha of recharge site fencing and revege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ha of discharge site fencing and revege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3ha of creek fencing and gully stabil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,000 trees and shrubs pla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 off-stream watering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ve creek/gully erosion stabilisation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F0BED-EC2B-420B-9740-D437A0755FB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sediment control si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92360" y="1052640"/>
            <a:ext cx="6257880" cy="43275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835280" y="5373720"/>
            <a:ext cx="604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63640" y="5373720"/>
            <a:ext cx="612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oto by Murrumbidgee Catchment Management 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29DE4-CE58-4B72-8B77-2892CDCA2C4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ree planting for reveget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908000" y="1197000"/>
            <a:ext cx="5891400" cy="39765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074920" y="5300640"/>
            <a:ext cx="290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oto by Holmes Sackett &amp; Associ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58B9B-52DE-4C10-868C-CBEA9705326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16000" y="155736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spcAft>
                <a:spcPts val="1500"/>
              </a:spcAft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ed works aim to get people involved who may not normally participate in Landcare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1500"/>
              </a:spcAft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bilisation of creeks and gullies connected to the Kyeamba Creek and regeneration of the riparian areas aims to increase biodiversity and promote cleaner and healthier water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D4812-B5EB-41EB-9575-0E232FEFF9E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se Study 2: Managing Sheep in Droughtlot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Sheep Lot Feed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ning sheep in small areas at high stocking rates to minimise the degradation of soil and pasture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ep are fed a controlled ration on a regular ba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ant water supply i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C08DC-A9C1-463C-9E15-CBDE4B4E04B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arm Pro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16000" y="1647360"/>
            <a:ext cx="7772400" cy="38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1733760" indent="0">
              <a:lnSpc>
                <a:spcPct val="90000"/>
              </a:lnSpc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a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00ha (1000ha cropp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3760" indent="0">
              <a:lnSpc>
                <a:spcPct val="90000"/>
              </a:lnSpc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cation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tern Rive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3760" indent="0">
              <a:lnSpc>
                <a:spcPct val="90000"/>
              </a:lnSpc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infall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50mm a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3760" indent="0">
              <a:lnSpc>
                <a:spcPct val="90000"/>
              </a:lnSpc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stures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arily lucerne-based pas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3760" indent="0">
              <a:lnSpc>
                <a:spcPct val="90000"/>
              </a:lnSpc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erprise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ino st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3760" indent="0">
              <a:lnSpc>
                <a:spcPct val="90000"/>
              </a:lnSpc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e lambing, September shearin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3760" indent="0">
              <a:lnSpc>
                <a:spcPct val="90000"/>
              </a:lnSpc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ring/summer ram 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FCCAF-6B42-4D9F-AE95-ED46526A822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perty backgrou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16000" y="148428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2 rainfall - 220mm (75mm in Februa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ck consisted of 1300 ewes - lambed in June and July, giving 1530 lambs and 550 2001 drop ewe hog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 the previous 10 years, 1700 wet tonnes of silage had been stored in p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29AC6-C5D7-403F-B1C5-6E09DACB5EB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16000" y="1773360"/>
            <a:ext cx="7772400" cy="40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99"/>
              </a:spcBef>
              <a:spcAft>
                <a:spcPts val="1199"/>
              </a:spcAft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rve the established lucerne-based pastu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spcAft>
                <a:spcPts val="1199"/>
              </a:spcAft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lambs growing slowly over summer so ewe portion would be a reasonable weight at joining (18 month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spcAft>
                <a:spcPts val="1199"/>
              </a:spcAft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ewes were at least condition score 3 at joining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64402-61D1-4072-8FA0-5848DB856BB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5840" y="1557360"/>
            <a:ext cx="777240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completion of this topic you should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techniques used in the case studies to apply sustainable practices at catchment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techniques used in the case studies to apply sustainable practices during drou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relevant literature relating to sustainability issues in the Southern Wheat/Sheep Bel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35E6C-A097-44BA-B4F4-F69A0B6E273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900000" y="1557360"/>
          <a:ext cx="7772400" cy="358128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895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cking rate (sheep/hectar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itional feed cost ($/H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5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5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5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364E2-99A0-4C52-B6F7-4F4E9472149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ite Sel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7280" y="1197000"/>
            <a:ext cx="77724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tes were selected on the basis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er su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tion -  close to silage p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nient for feeding 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quality pasture which could be sacrificed without substantially affecting production in the years after the drou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es could be fenced for protection from ringba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B8C7F-9D3F-46E5-927F-4202AD5A6D1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sheep droughtlo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124000" y="1341360"/>
            <a:ext cx="5945400" cy="39830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290920" y="5300640"/>
            <a:ext cx="290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oto by Holmes Sackett &amp; Associ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2851F-3A3F-484E-9B9A-378021FCA8E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mb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spcAft>
                <a:spcPts val="1500"/>
              </a:spcAft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mbs weaned straight into feedlot in Sept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1500"/>
              </a:spcAft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d three times per week (directly on the grou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1500"/>
              </a:spcAft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ners were kept in sacrifice paddock until December when stubbles became avail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1500"/>
              </a:spcAft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er troughs needed to be cleaned daily, particularly in dusty condi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5C34E-0043-489E-9828-2E09AE88DB6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we Managemen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5840" y="1484280"/>
            <a:ext cx="77724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fter weaning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wes had the remnants of pasture for several we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n end of Sept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in swamp paddock until stubbles became avail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wes run on stubbles for six weeks from mid December and then put back into swamp paddock late Janua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wes were joined late January without incid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B1B5E-BB7E-4CBD-82BF-F1591BD06FF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roughtlots allow maintenance feeding in confined area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780000" y="1628640"/>
            <a:ext cx="2406600" cy="35816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708360" y="5229360"/>
            <a:ext cx="2757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oto by Holmes Sackett &amp; Associ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15544-0865-40AD-BC4B-8F79BD3AC3C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mmary – case study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5840" y="1557360"/>
            <a:ext cx="777240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ment made in lucerne pastures was able to be preser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opportunity to undertake soil improvement on acid or poorer so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ing a droughtlot meant perennial pastures were not overgrazed and some ground cover was maintain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ep appeared to do better when let out occasionally (even for short periods of a day or two and then confined again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35A0F-5ADA-43FF-AAB9-BE23BDA2B5F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178600" y="189000"/>
            <a:ext cx="3965400" cy="532764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yeamba Vide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1773360"/>
            <a:ext cx="4897440" cy="32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ase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lse colour base satellite im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right yellow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- areas of salin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Geological over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rown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 Cainozoic Alluv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aram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 Cainozoic residual and aeolian san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Gre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 Early Palaeozoic metasedimentary ro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Purple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 Granito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Pink-Siluro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 Devonian acid volcan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Pinky Red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 Siluro-Devonian Sedimentary Ro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E93E7-C518-4543-A8D7-67E3E97357D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3B516-7391-4290-9392-B407D8F60EE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Overview – case study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7280" y="1699920"/>
            <a:ext cx="7772400" cy="40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rrumbidgee River stretches 1,600k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chment area covers approximately 84,000km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stries within the catchment include sheep and wool production, timber, cropping, beef and dairy cattle, as well as the production of rice, grapes, fruit and vegetables in the irrigation are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ximately 15% of catchment is managed public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F488C-9D84-46D0-8B50-A8A0D9DB644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187280" y="115920"/>
            <a:ext cx="7388280" cy="53704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8F6D2-6263-4324-9EDD-038DC0A050D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are the main issues in the are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42920" y="1484280"/>
            <a:ext cx="77724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751"/>
              </a:spcBef>
              <a:spcAft>
                <a:spcPts val="751"/>
              </a:spcAft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l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751"/>
              </a:spcBef>
              <a:spcAft>
                <a:spcPts val="751"/>
              </a:spcAft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s of biod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751"/>
              </a:spcBef>
              <a:spcAft>
                <a:spcPts val="751"/>
              </a:spcAft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il aci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751"/>
              </a:spcBef>
              <a:spcAft>
                <a:spcPts val="751"/>
              </a:spcAft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er quality and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751"/>
              </a:spcBef>
              <a:spcAft>
                <a:spcPts val="751"/>
              </a:spcAft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oil ero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6F8BD-74D8-41C4-A6E9-E637C83E7F2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ow are the issues being addressed – at catchment level?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199"/>
              </a:spcBef>
              <a:spcAft>
                <a:spcPts val="1199"/>
              </a:spcAft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rrumbidgee Catchment Blueprint - 10 year advisory plan of integrated catchment manag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spcAft>
                <a:spcPts val="1199"/>
              </a:spcAft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 and measurable targets aimed to achieve in a set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spcAft>
                <a:spcPts val="1500"/>
              </a:spcAft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ding is directed towards projects in the Blueprin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D5F15-0C82-489F-964E-6B9BE3C914D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ow are the issues being addressed – at farm level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85840" y="1844640"/>
            <a:ext cx="7772400" cy="37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spcAft>
                <a:spcPts val="1500"/>
              </a:spcAft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individual property ow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1500"/>
              </a:spcAft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are involved in their local Landcar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spcAft>
                <a:spcPts val="1874"/>
              </a:spcAft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s not interested and making little or no attempt to include environmental sustainability on their agend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71A3F-7464-44BA-8B0C-B343F3BD5BF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Kyeamba Valley National 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ction Pla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16000" y="177336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salt loads entering the Murrumbidgee River from the Kyeamba Creek by 2600t/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sediment and nutrient load entering the Murrumbidgee River from Kyeamba Cr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08A5F-F42A-4318-9BA9-F7AAE737579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8728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Kyeamba Valley National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ction Plan  - </a:t>
            </a:r>
            <a:r>
              <a:rPr b="1" lang="en-AU" sz="3800" spc="-1" strike="noStrike">
                <a:solidFill>
                  <a:srgbClr val="000000"/>
                </a:solidFill>
                <a:latin typeface="Arial"/>
              </a:rPr>
              <a:t>Structure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spcAft>
                <a:spcPts val="1500"/>
              </a:spcAft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ding - $511,900 over two years (National Action Plan for Salinity and Water Qual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1500"/>
              </a:spcAft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novative incentive package to encourage targeted landholders to undertake works on proper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AC4D5-2B3F-4329-8C78-DD8FCE62862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2T01:53:08Z</dcterms:created>
  <dc:creator>mcleisw</dc:creator>
  <dc:description/>
  <dc:language>en-US</dc:language>
  <cp:lastModifiedBy>Kate</cp:lastModifiedBy>
  <dcterms:modified xsi:type="dcterms:W3CDTF">2006-02-16T05:48:26Z</dcterms:modified>
  <cp:revision>155</cp:revision>
  <dc:subject/>
  <dc:title>PowerPoint Presentation</dc:title>
</cp:coreProperties>
</file>