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5C36-BB16-43F1-8CE2-5D08B8001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598B-7743-4996-873B-BC5040D07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4F1C-CE1C-4EE7-886D-F82692D8E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3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5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3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7B61-1D23-48AB-B7C2-8C1428342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6735-8904-43A4-BC82-5FAFD9A448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B43E-810C-4542-B647-B78B80AF4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3500-1DD2-448A-9DB0-A2524849EA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2B65-264E-4E64-AFC2-48C6E1D581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0B9E-D227-4B4A-B725-B0D0B4AE07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6768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15BE-EBC1-41C4-9198-02F2A2C18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51D2-6664-478F-B6C5-DADC1BFF6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7AE1-CFA2-4FFF-997E-C7BB0D36E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C989-F8C2-45D0-9861-A8A490F5D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DE90-F0C6-41AD-B8BA-A10ECAC322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9527-90BD-41AF-AFAD-FD75269BE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6351-C171-4A05-A514-327F541593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3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1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5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3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1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A0BC-EB0B-4C38-A606-7523637F7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CB8E-C6A0-4E7F-AADA-D5E56C46F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5103-250E-4F5E-A5D7-024118B97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F135-AAF4-4F3B-B527-BE868E6F4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73240" y="6768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85D5-3281-4AA1-A4B6-A9256D9C9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4E66-0474-4C32-B7A5-80F67B6AE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8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99D3-8267-4FB1-8CDE-BA47CD976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8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5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3579-4C7B-4F68-9CBA-94047B39A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8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58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848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176-4ACD-440E-8334-46FDB9A6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720" y="65246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Kemp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CBFC-44AD-487D-ADB9-C3382227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iple Bottom Line Analyses of Graz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88560" y="4228920"/>
            <a:ext cx="777420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– Topic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K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677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physic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to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ose that are changing significantly and are near excess or minimum limits for the produc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ffects at an enterprise &amp;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941C-F730-4FA7-BBCA-2697F54BC9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32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 of livestock, crops and other activities need to be done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include fixed costs as this does not allow a proper sustainabi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combine them to evaluate the farm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D7D6-5CBD-4389-8B21-891AF2EDE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196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le Graz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ational program done by MLA, LWA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BL analys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concept of ‘continuous improvement’ to evaluat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widespread 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242B-8CA4-4DC0-A181-DA4779D47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748720" cy="5433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169040" y="43657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son et al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AD6A-FD01-495C-B72B-9505C6C7B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le Grazing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59680" cy="35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apply a complete TBL analysis to individual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evaluation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 mar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ative rating of on- &amp; off-farm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all qualitative rating of trea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ranking of 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053A-9D48-44C8-8B51-106C2120A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Resourc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9440" y="1515600"/>
            <a:ext cx="8315280" cy="37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nnot measure changes in som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drainage / salt into aqui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a qualitative judgement e.g. ± 5 scale as to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ystems can then be 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mpacts are best rated qualit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producers feel bette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4EEF-DC56-4F5C-AFC9-A69CE3591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amworth: Rotational Grazing vs District Practice -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087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st, easy &amp; profitable way of increasing stocking rate with existing far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litter, ground cover &amp;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tinuity of forag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 mos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requires more management &amp; may increase re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D856-9B19-4A40-9453-FA5ECCFEA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677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 decisions are made using variabl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have perfe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L is developing a more formal approach to ensure that more relevant factors ar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1BC2-FAA1-46EE-8F60-7C8D3F7F7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2A52-892C-4082-840F-1C4A673F95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202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pts of the triple bottom line (TB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of TBL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L &amp;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L reporting of sustainable graz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35A9-1043-4EAC-B12E-30C84C4CA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able Graz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755720"/>
            <a:ext cx="79930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to achieve production goals while sustaining the resources upon which those systems de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sustain biophysical, social &amp; economic resources leads over time to reduced productivity, environmental &amp; soc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14F6-AC35-4E2E-83B2-520F23684F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77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z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706040"/>
            <a:ext cx="8347320" cy="27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lex &amp; involve many components of which only a few are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s do consider biophysical/ecological/ environmental, social &amp; financial components when making decisions – normally not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002F-D567-4B76-A0C1-C6C9F41C5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77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 Bottom Line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903320"/>
            <a:ext cx="7772400" cy="27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L analyses are being developed as a means of assessing the many components that interact within a produc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more robust decisions that enhance the sus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6061-7B82-4A63-B6CB-D70CE4E6D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1960" y="1484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means managing so that the system is there nex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griculture we ‘harvest from ecosystems’, rather than run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both current profits &amp; capital appreciation – of resources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B9C3-B9EA-4645-B81E-9E68B322E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 Bottom Lin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355400"/>
            <a:ext cx="7772400" cy="40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- $ value of inputs &amp;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hysical - changes in ecosystems &amp; environm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- human, including cultural issues used to susta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present separate balance sheets are drawn up for these thre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9623-74B0-4B84-8C73-B22A43F240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the Triple Bottom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comprehensive analysis of main 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to directly relate each component need to b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social capital relate to economic re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qualitative &amp; quantitative analyses are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AE4F-9EAF-4E5B-9D13-DDA930C056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77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fit vs Capital Ap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27080"/>
            <a:ext cx="7772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’s aim to make current profits and build capital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ame goal applies to biophysical and soci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9E5E-8397-481C-B8A6-01FA1744F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6-02-02T03:28:24Z</dcterms:modified>
  <cp:revision>139</cp:revision>
  <dc:subject/>
  <dc:title>PowerPoint Presentation</dc:title>
</cp:coreProperties>
</file>