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293B-2C0E-432B-B529-4EA85205A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2D1B-8AE8-42DC-88CA-1412314DF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3F11-5918-4680-A53F-A7DD72594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ED4E-31C9-4E64-B1A9-7BA32F51C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6FEC-2E6B-4995-BD9A-1DA3F0FDF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34D0-B45C-4AA1-8F5E-7FF6F3AD4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24F5-51E8-4C33-B3B8-2B099329B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86F8-93D1-4EF4-A903-23F970B42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6426-C450-413C-B0A9-320591D07B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4F0A-E75B-4741-AA62-F4AD5D7498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4AD3-0748-4297-B232-CB35FD20F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3680-11C8-44BA-96C5-703913D31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9F75-37CA-4127-AC2D-6B5662E41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7A09-A511-4CEA-A756-92740BCF1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CC0B-0E37-4730-8978-F99B74E1DE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973F-F227-4FF5-A8F9-C6CE1C1E97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4625-95F4-4AE4-8745-204821D3DE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FFCA-CE5C-4AF9-A041-15FBFCACC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F1A9-FE85-4C13-BB05-464213647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7491-83A5-4431-B9EE-8B5214EF2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1B38-A517-40FA-8C0A-E49B1AF7C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FE94-4154-4887-AD0F-EF790F2EA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B97F-F305-4367-BAC8-FF4D0194A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4D68-9BE2-4B76-B0D3-0C588BF42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0279-7B32-4E02-9B13-E4F00717E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3B2-37A1-4A04-842D-73588B79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7E5-500A-4015-980C-4ED62E90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5036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se Study – Southern Western 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25FC-B9FB-4891-B75B-348AE1BCAA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1840" y="457200"/>
            <a:ext cx="239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s originally 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 (before agricul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pastures and cropping inevitably have reduced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 not used until recently (no respon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ypically pH 4.5 to 5.5. Cases of pH levels to 4.0 (isolated, uncommon; more common elsewhe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“lime debt” of 100 to 150 kg/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D063-04E2-4CAB-B68F-A81A900A15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00160" y="457200"/>
            <a:ext cx="5189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Acidity - Re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ures: response where pH below 4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ola: response where pH below 4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application: lime 2.5 tonnes/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 neutralising 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8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before cropping (usually Canola, first in rotation out of pas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ion by cultivation expedites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increase typically 0.5 – 0.8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47C2-7FB7-4260-A172-EA8150763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59160" y="457200"/>
            <a:ext cx="435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Erosion -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degradation of senesced annual pastures, combined with stock graz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grazing stubbles on fragile soil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paddock affected equally – encourages stock to remain on paddock, further degrading pasture/stubble and loosening top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isk from wind and water erosion. More likely as autumn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728F-7D27-4E78-B701-BE5C394CA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960" y="45720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osion -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pastures &amp; stubbles. Remove stock before exposure of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bles – 50% cover recommended, one third anch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ultivate firebreaks down slopes – s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, retain vegetation in watercou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FFCC-8246-4DA7-BF8B-0CCC04814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9000" y="457200"/>
            <a:ext cx="239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boundary fe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laneways – avoid using public ro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e stock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antine newly introduced stock – first season (animal diseases, wee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FCEA-94BD-4294-B11A-2B89EE273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3560" y="457200"/>
            <a:ext cx="5980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ep Biosecurity Risks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r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J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elmintic-resistant internal para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FC33-AC1A-423F-AC82-8C49C51119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457200"/>
            <a:ext cx="336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pp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e cultivation (minimum/zero ti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ping rotation, not cultivation, for diseas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ping activities on cont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 stubbles through autumn. Avoid burning, especially on fragile so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40E4-F852-4476-B1DA-BAC6313F09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3320" y="457200"/>
            <a:ext cx="4737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584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consid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on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 enterprise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over time, net wealth accu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in husbandry and busines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D9EB-41DF-4878-9D81-86714F99C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12480" y="457200"/>
            <a:ext cx="500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Going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R, F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&amp; plant nutrient status –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&amp; deep b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 management – FECRT, W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 – physical &amp; fina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D75C-B2AD-44B3-BB05-C2A49304F2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F5CC-D096-49DE-A9F8-ADF4A6CD2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880" y="457200"/>
            <a:ext cx="3973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icultur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0 onwards – initial settlements and native forest cle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omestic areas, low in catchment, river and creekline fl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0’s onwards – increase in land availability. More settlements, areas increase in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WW2 – dramatic increase in forest clearing, government incen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0 – general clearing 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gree and extent of soil and river salinity considered unaccepta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E168-101E-4501-9F12-212BDE69B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8440" y="487080"/>
            <a:ext cx="626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Affecting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waterlo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lly erosion (w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oil loss (wind and w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accumulation in topsoil – excessive fo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acidification – pH incompatible with desirable pasture and crop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nity of water catchments and water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09CF-79C3-45DB-8175-C30F85C2BC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320" y="457200"/>
            <a:ext cx="4287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Salinity -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deposition of salt in rainfall from Indian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stored deep in soil pro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water table maintained deep, below vegetation root zone, by equal balance of rain and use by perennial vege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 remov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groundwater recharge, rise in levels – per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t → plant death, bare soil – lower, flatter area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ve – central and eastern wheatb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ned – undulating areas (Great Souther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3C78-28B3-4662-83B0-27F9F60F6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3440" y="457200"/>
            <a:ext cx="6634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ment Water &amp; Nutrien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053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F22C-2E2A-4552-AEF7-FAD3FA350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84600" y="457200"/>
            <a:ext cx="3633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Water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cursor to s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perched water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ly reduces plant growth, modifies pasture composition, reduces pala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6E42-DE3F-498B-A81D-DCFEF6FD6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1200" y="45720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diation of Waterlogging &amp; S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planning – fencing to contour and L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age –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optimum plant growth (water usa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w perennials – lucerne, tall wheat gr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w salt-tolerant species e.g. tall wheat grass, balansa cl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 planting in recharge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F473-5B15-4E58-B916-C2042CB86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86040" y="457200"/>
            <a:ext cx="3565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inag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23920" y="1066680"/>
            <a:ext cx="4076640" cy="4238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1600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interceptor dr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6320" y="297180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bank interceptor dr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5320" y="411480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ALTS interceptor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ores water, not for drain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commen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98DA-BE5C-46F3-9401-F07257D75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97200" y="457200"/>
            <a:ext cx="3703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inag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78040" y="1447920"/>
            <a:ext cx="285588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24360" y="1447920"/>
            <a:ext cx="4968720" cy="3547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002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2F4D-C16B-4659-8BDC-2ED29BC1D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2-08T05:15:36Z</dcterms:modified>
  <cp:revision>45</cp:revision>
  <dc:subject/>
  <dc:title>   Early stage processing</dc:title>
</cp:coreProperties>
</file>