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A6DA-8848-413A-9175-5906385DD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C98E-8D4A-488A-AEE2-087994FD8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9F5F-563F-4F4B-B786-C74655B30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3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1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5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3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1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5E34-0A9B-479B-8D7D-7930D7E8E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F399-0767-42B8-AA2A-086AF556A3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C608-B7E9-49FA-9122-749EBB92D2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55C9-6245-40DA-BE34-06A0706A11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6CA6-824A-464A-A3A0-DDF5750C23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084F-255D-4122-81D2-0F5B7A2F7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3240" y="6768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8AFA-4662-4AB7-8384-BCB53BC39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50B6-CC3C-44AC-9B59-7DAD94424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315E-3728-4FB2-9E00-4A2E3396B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C7F4-D0C7-4EF3-858B-DF27E3A39B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E0DF-83CD-409E-8CF3-4EE13D3C74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8E57-98F9-4CF2-A543-7A8021EEEC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CBFE-9777-4AA8-8442-D0B7C843C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3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1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5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3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1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15D1-9406-4500-9AB1-DD4FE4B99A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3065-0708-44C5-BB75-BFFBB4692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74E0-DD35-46B7-AEAD-33B28FCA7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1CB8-FADF-487C-B6C6-DE32C1166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73240" y="6768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C367-EB7C-4F3D-B5B8-4D0770F38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B347-B0EE-4224-A2D9-28F298092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B9CE-42C0-4F4F-AC07-11B222DE9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E2F4-15EB-4DEC-8599-8DB541719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73600"/>
            <a:ext cx="9144000" cy="854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30064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372000" y="6477120"/>
            <a:ext cx="2771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5DB3-741C-49F0-BB1C-F84FD6103BC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720" y="652464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Kemp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3A72-B88F-4E6C-9419-A86234429A3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5400" y="5382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aging Grazing Systems Sustaina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88560" y="4228920"/>
            <a:ext cx="777420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– Topic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K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507200" cy="5102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219640" y="958680"/>
            <a:ext cx="3673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work suggested that 10 plant species maximised grassland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pends though 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type of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size of the padd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diversity of the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emp et al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4438-ADC1-4FED-843B-86C9A8041F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96880" y="475920"/>
            <a:ext cx="4622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 Functional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986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ity of sustainable grasslands depends u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latable, persistent, perenn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sses (3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ly around 60% of the s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fillers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alatable annua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3CE2-C4D8-4582-A53D-D8F2C6758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6840" y="475920"/>
            <a:ext cx="451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ing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23160" y="1798560"/>
            <a:ext cx="4944960" cy="3641400"/>
            <a:chOff x="623160" y="1798560"/>
            <a:chExt cx="4944960" cy="3641400"/>
          </a:xfrm>
        </p:grpSpPr>
        <p:sp>
          <p:nvSpPr>
            <p:cNvPr id="178" name=""/>
            <p:cNvSpPr/>
            <p:nvPr/>
          </p:nvSpPr>
          <p:spPr>
            <a:xfrm>
              <a:off x="2140560" y="4804920"/>
              <a:ext cx="2710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Herbage 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23160" y="1798560"/>
              <a:ext cx="4944960" cy="2962080"/>
              <a:chOff x="623160" y="1798560"/>
              <a:chExt cx="4944960" cy="2962080"/>
            </a:xfrm>
          </p:grpSpPr>
          <p:sp>
            <p:nvSpPr>
              <p:cNvPr id="180" name=""/>
              <p:cNvSpPr/>
              <p:nvPr/>
            </p:nvSpPr>
            <p:spPr>
              <a:xfrm>
                <a:off x="1503000" y="1798560"/>
                <a:ext cx="4056840" cy="296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-381240" y="2996640"/>
                <a:ext cx="240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sture growth r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903800">
                <a:off x="2787480" y="2885760"/>
                <a:ext cx="356040" cy="116712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27840" y="2203560"/>
                <a:ext cx="4040280" cy="2507400"/>
              </a:xfrm>
              <a:custGeom>
                <a:avLst/>
                <a:gdLst/>
                <a:ahLst/>
                <a:rect l="l" t="t" r="r" b="b"/>
                <a:pathLst>
                  <a:path w="2710" h="1822">
                    <a:moveTo>
                      <a:pt x="0" y="1822"/>
                    </a:moveTo>
                    <a:cubicBezTo>
                      <a:pt x="144" y="1798"/>
                      <a:pt x="298" y="1773"/>
                      <a:pt x="548" y="1511"/>
                    </a:cubicBezTo>
                    <a:cubicBezTo>
                      <a:pt x="798" y="1249"/>
                      <a:pt x="1139" y="500"/>
                      <a:pt x="1499" y="250"/>
                    </a:cubicBezTo>
                    <a:cubicBezTo>
                      <a:pt x="1859" y="0"/>
                      <a:pt x="2458" y="62"/>
                      <a:pt x="2710" y="12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6280200" y="1433520"/>
            <a:ext cx="261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1844640"/>
            <a:ext cx="280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lands need to maintain a green herbage mas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-3 t DM /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stain high growth rates and adequate animal in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1B33-BC13-4033-9165-C3ED27FD9B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566640"/>
            <a:ext cx="31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1971360"/>
            <a:ext cx="805968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grazing can reduce energy fixed, reduce production &amp; result in poor capture of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azing can result in energy being ‘locked up’ in plant material, reduced productivity &amp; cycl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7C3A-FDBB-44C8-AB2C-984AE05053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4360" y="475920"/>
            <a:ext cx="3905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88400" cy="36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alance water use to maximise plant growth and minimise adverse impact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l erosion &amp; nutrient loss in run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herbage mass &gt; 1.5 t DM / 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ire more water to increase capacity of soil to store water &gt; 1.5 t DM / 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07D4-FC63-4DC6-A762-E101653567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187280" y="2494080"/>
          <a:ext cx="7129800" cy="2879640"/>
        </p:xfrm>
        <a:graphic>
          <a:graphicData uri="http://schemas.openxmlformats.org/drawingml/2006/table">
            <a:tbl>
              <a:tblPr/>
              <a:tblGrid>
                <a:gridCol w="2232360"/>
                <a:gridCol w="1944360"/>
                <a:gridCol w="1224000"/>
                <a:gridCol w="1729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ssland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Soil Water Deficit 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 Content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Herbage Mass (t DM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graded natur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inuously gra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d natur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actically gra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wn phalaris pa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cory forag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–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684360" y="40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 of different grassland management systems on the content of 3P grasses, herbage mass and ability to utilise soil water. Data from SGS experiment at Carcoar N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ichalk and Kemp, unpublish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8FDA-3664-4630-BD46-DC35B66C9A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44840" y="423720"/>
            <a:ext cx="4332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77708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grazed plants cannot capture and retain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needs to be adequate for organisms to cycl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herbage mass helps retain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B2DE-FF5C-4942-AF60-A110BEA3D0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71360" y="333360"/>
            <a:ext cx="386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et vs Gross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40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production rarely equates with maximum profit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are over-uti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s to longer-term productivity dec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lands often need to be res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then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cus on net profit provides a better base for managing sustain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BC01-103B-4EC6-B449-BBD1797278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2520" y="475920"/>
            <a:ext cx="4354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8680" y="1700280"/>
            <a:ext cx="820404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sity of grassland use and level of inputs needs to be in proportion to the productivity of a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parts of Australia resowing grasslands is no longer a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management of what you have got is more profitable (see earlier Carcoar da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ining terms of trade will reinforce these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7C2A-2CDC-44E1-9E0C-FED268ED94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76440" y="475920"/>
            <a:ext cx="4400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3P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71640" y="1731600"/>
            <a:ext cx="7632720" cy="30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zing practices can be used to increase &amp; maintain the proportion of 3P gr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cal rests &amp; a 10% reduction in stocking rates increased 3P grasses from 4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orthern Australia 20% utilisation is required to sustain gras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1426-0F83-46BB-9D64-C8B67EDDC9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71280" y="1981080"/>
            <a:ext cx="79866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ncepts for sustainable gra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n ecosystem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ing management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sustainability &amp; producti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598840" y="404640"/>
            <a:ext cx="406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B60A-6313-4B46-96DA-439F7F30CE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97000" y="475920"/>
            <a:ext cx="3230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zing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29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ameters to us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utilisation of gras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re productive a ‘site’ the higher the level of utilisation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 higher level of herbage mass to maintain ecosyste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2928-8FCC-47FD-BC4D-195A0AAEE6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47640" y="1341360"/>
            <a:ext cx="5004000" cy="4037040"/>
            <a:chOff x="647640" y="1341360"/>
            <a:chExt cx="5004000" cy="4037040"/>
          </a:xfrm>
        </p:grpSpPr>
        <p:graphicFrame>
          <p:nvGraphicFramePr>
            <p:cNvPr id="203" name=""/>
            <p:cNvGraphicFramePr/>
            <p:nvPr/>
          </p:nvGraphicFramePr>
          <p:xfrm>
            <a:off x="647640" y="1341360"/>
            <a:ext cx="5004000" cy="403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7640" y="1341360"/>
                      <a:ext cx="5004000" cy="40370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>
              <a:off x="1495080" y="3045600"/>
              <a:ext cx="3487680" cy="295200"/>
            </a:xfrm>
            <a:prstGeom prst="rect">
              <a:avLst/>
            </a:prstGeom>
            <a:blipFill rotWithShape="0">
              <a:blip r:embed="rId3">
                <a:alphaModFix amt="25000"/>
              </a:blip>
              <a:srcRect/>
              <a:tile tx="0" ty="0" sx="100000" sy="100000" algn="ctr"/>
            </a:blipFill>
            <a:ln w="1260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21960" y="1849680"/>
              <a:ext cx="1165320" cy="738720"/>
            </a:xfrm>
            <a:prstGeom prst="rect">
              <a:avLst/>
            </a:prstGeom>
            <a:noFill/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160" rIns="291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00"/>
                  </a:solidFill>
                  <a:latin typeface="Times New Roman"/>
                </a:rPr>
                <a:t>Practical range for 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01200" y="2665440"/>
              <a:ext cx="0" cy="5302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72240" y="3357360"/>
              <a:ext cx="6480" cy="330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88320" y="2403720"/>
              <a:ext cx="6480" cy="9039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1531440" y="2410200"/>
              <a:ext cx="911520" cy="64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524240" y="3716640"/>
              <a:ext cx="23742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96160" y="3385440"/>
              <a:ext cx="1983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160" rIns="291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4400" y="3057120"/>
              <a:ext cx="186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160" rIns="291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84360" y="260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managing to achieve 80% of the optimum animal production per hectare, below (point A) or above (point B) the optimum, on productivity per hectare and per head. (Kemp &amp; Michalk,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4200" y="1916280"/>
            <a:ext cx="317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dratic nature of animal production / ha means that a conservative stocking rate can achieve the same animal product as above optimum stock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37C6-BB42-4D3C-9B57-E02F4230E8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75080" y="404640"/>
            <a:ext cx="4084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able Gra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2360" y="1413000"/>
            <a:ext cx="8280360" cy="38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optimal stocking rates can be as productive as supra-optimal stocking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then result in a wide range of benefits for the sustainability of grassland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net profits as same output with less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higher herbage mass &amp; 3P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wer w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drought imp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AB1D-26FA-4E89-8489-57172E5FA7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59160" y="475920"/>
            <a:ext cx="4489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iv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772400" cy="32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practices can result in major transition costs if not well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strategies that contain al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adaptiv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, measure &amp; manage in 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knowledge while improv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DA74-7015-4537-A90C-4A821D4F14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74440" y="404640"/>
            <a:ext cx="5821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able Win-Win Gra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are being found to attain profitable, sustainable graz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 needs 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lie within systems analysis rather than seeking a single magic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58B2-6556-4E46-9433-FBC7945D70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2C33-2894-45DD-861D-3F06524D8B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75960" y="549000"/>
            <a:ext cx="557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n Graz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26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the continent is used by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zing systems are major sources of income &amp; environmental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in the forefront of learning how to manage our continent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E4A8-37E0-4C85-A383-EA699FED06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0680" y="475920"/>
            <a:ext cx="584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zing System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77240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, soil,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nutrients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s, animals,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, people,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40E0-407D-4F04-B9E7-5C0F175366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3040" y="620640"/>
            <a:ext cx="3703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es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7418520" cy="24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grazing systems species can be grouped in trophic layers based on numbers and relative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l organisms could be 5-50 times the biomass of sheep (King &amp; Hutchinson, 19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F575-DEA2-4683-A89D-AF8C859C80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4884840"/>
            <a:ext cx="77043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system levels &amp; diversity within grassland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200" y="803160"/>
            <a:ext cx="5473800" cy="4003920"/>
            <a:chOff x="2014200" y="803160"/>
            <a:chExt cx="5473800" cy="4003920"/>
          </a:xfrm>
        </p:grpSpPr>
        <p:grpSp>
          <p:nvGrpSpPr>
            <p:cNvPr id="97" name=""/>
            <p:cNvGrpSpPr/>
            <p:nvPr/>
          </p:nvGrpSpPr>
          <p:grpSpPr>
            <a:xfrm>
              <a:off x="2014200" y="803160"/>
              <a:ext cx="276480" cy="3465360"/>
              <a:chOff x="2014200" y="803160"/>
              <a:chExt cx="276480" cy="34653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038680" y="803160"/>
                <a:ext cx="252000" cy="477360"/>
                <a:chOff x="2038680" y="803160"/>
                <a:chExt cx="252000" cy="47736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158560" y="992160"/>
                  <a:ext cx="1800" cy="28836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038680" y="803160"/>
                  <a:ext cx="252000" cy="306360"/>
                </a:xfrm>
                <a:custGeom>
                  <a:avLst/>
                  <a:gdLst/>
                  <a:ahLst/>
                  <a:rect l="l" t="t" r="r" b="b"/>
                  <a:pathLst>
                    <a:path w="126" h="204">
                      <a:moveTo>
                        <a:pt x="126" y="204"/>
                      </a:moveTo>
                      <a:lnTo>
                        <a:pt x="60" y="0"/>
                      </a:lnTo>
                      <a:lnTo>
                        <a:pt x="0" y="204"/>
                      </a:lnTo>
                      <a:lnTo>
                        <a:pt x="60" y="138"/>
                      </a:lnTo>
                      <a:lnTo>
                        <a:pt x="126" y="2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038680" y="3790800"/>
                <a:ext cx="252000" cy="477720"/>
                <a:chOff x="2038680" y="3790800"/>
                <a:chExt cx="252000" cy="477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170440" y="3790800"/>
                  <a:ext cx="1800" cy="28872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038680" y="3962160"/>
                  <a:ext cx="252000" cy="306360"/>
                </a:xfrm>
                <a:custGeom>
                  <a:avLst/>
                  <a:gdLst/>
                  <a:ahLst/>
                  <a:rect l="l" t="t" r="r" b="b"/>
                  <a:pathLst>
                    <a:path w="126" h="204">
                      <a:moveTo>
                        <a:pt x="0" y="0"/>
                      </a:moveTo>
                      <a:lnTo>
                        <a:pt x="66" y="204"/>
                      </a:lnTo>
                      <a:lnTo>
                        <a:pt x="126" y="0"/>
                      </a:lnTo>
                      <a:lnTo>
                        <a:pt x="66" y="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rot="10800000">
                <a:off x="2014200" y="1633320"/>
                <a:ext cx="274680" cy="17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cosystem lev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427480" y="836640"/>
              <a:ext cx="4649040" cy="3970440"/>
              <a:chOff x="2427480" y="836640"/>
              <a:chExt cx="4649040" cy="39704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427480" y="4370400"/>
                <a:ext cx="4649040" cy="436680"/>
                <a:chOff x="2427480" y="4370400"/>
                <a:chExt cx="4649040" cy="43668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6437520" y="4395960"/>
                  <a:ext cx="639000" cy="187200"/>
                  <a:chOff x="6437520" y="4395960"/>
                  <a:chExt cx="639000" cy="1872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6437520" y="4484880"/>
                    <a:ext cx="38592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666480" y="4395960"/>
                    <a:ext cx="4100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26">
                        <a:moveTo>
                          <a:pt x="0" y="126"/>
                        </a:moveTo>
                        <a:lnTo>
                          <a:pt x="204" y="60"/>
                        </a:lnTo>
                        <a:lnTo>
                          <a:pt x="0" y="0"/>
                        </a:lnTo>
                        <a:lnTo>
                          <a:pt x="66" y="60"/>
                        </a:lnTo>
                        <a:lnTo>
                          <a:pt x="0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2427480" y="4392720"/>
                  <a:ext cx="639360" cy="190440"/>
                  <a:chOff x="2427480" y="4392720"/>
                  <a:chExt cx="639360" cy="1904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>
                    <a:off x="2680920" y="4492080"/>
                    <a:ext cx="38592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427480" y="4392720"/>
                    <a:ext cx="4100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26">
                        <a:moveTo>
                          <a:pt x="204" y="0"/>
                        </a:moveTo>
                        <a:lnTo>
                          <a:pt x="0" y="66"/>
                        </a:lnTo>
                        <a:lnTo>
                          <a:pt x="204" y="126"/>
                        </a:lnTo>
                        <a:lnTo>
                          <a:pt x="138" y="66"/>
                        </a:lnTo>
                        <a:lnTo>
                          <a:pt x="2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3378240" y="4370400"/>
                  <a:ext cx="274644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umber of spec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475000" y="836640"/>
                <a:ext cx="4554360" cy="3405240"/>
                <a:chOff x="2475000" y="836640"/>
                <a:chExt cx="4554360" cy="340524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2475000" y="836640"/>
                  <a:ext cx="4554360" cy="3405240"/>
                  <a:chOff x="2475000" y="836640"/>
                  <a:chExt cx="4554360" cy="34052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2475000" y="836640"/>
                    <a:ext cx="4554360" cy="340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9" h="2269">
                        <a:moveTo>
                          <a:pt x="1135" y="0"/>
                        </a:moveTo>
                        <a:lnTo>
                          <a:pt x="0" y="2269"/>
                        </a:lnTo>
                        <a:lnTo>
                          <a:pt x="2269" y="2269"/>
                        </a:lnTo>
                        <a:lnTo>
                          <a:pt x="11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298760" y="1557360"/>
                    <a:ext cx="906120" cy="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836880" y="2241720"/>
                    <a:ext cx="1829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384360" y="2917800"/>
                    <a:ext cx="27349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930400" y="3602160"/>
                    <a:ext cx="36414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3563640" y="2475000"/>
                  <a:ext cx="235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icroherbivor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412800" y="3146400"/>
                  <a:ext cx="2660400" cy="37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oil Invertebra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214440" y="3795840"/>
                  <a:ext cx="305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oil Microorganism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017600" y="1197000"/>
                  <a:ext cx="14490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hee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24160" y="1792440"/>
                  <a:ext cx="1237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la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7213320" y="803160"/>
              <a:ext cx="274680" cy="2913120"/>
              <a:chOff x="7213320" y="803160"/>
              <a:chExt cx="274680" cy="29131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7236000" y="803160"/>
                <a:ext cx="252000" cy="477360"/>
                <a:chOff x="7236000" y="803160"/>
                <a:chExt cx="252000" cy="47736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7355880" y="992160"/>
                  <a:ext cx="1800" cy="28836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236000" y="803160"/>
                  <a:ext cx="252000" cy="306360"/>
                </a:xfrm>
                <a:custGeom>
                  <a:avLst/>
                  <a:gdLst/>
                  <a:ahLst/>
                  <a:rect l="l" t="t" r="r" b="b"/>
                  <a:pathLst>
                    <a:path w="126" h="204">
                      <a:moveTo>
                        <a:pt x="126" y="204"/>
                      </a:moveTo>
                      <a:lnTo>
                        <a:pt x="60" y="0"/>
                      </a:lnTo>
                      <a:lnTo>
                        <a:pt x="0" y="204"/>
                      </a:lnTo>
                      <a:lnTo>
                        <a:pt x="60" y="138"/>
                      </a:lnTo>
                      <a:lnTo>
                        <a:pt x="126" y="2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 rot="10800000">
                <a:off x="7213320" y="1268280"/>
                <a:ext cx="274680" cy="24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nagement emphas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6788520" y="52736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Kemp, unpublish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13B1-CA9D-4E75-AC6A-7F52B029F1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600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ramework f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0360" cy="39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hic pyramids illustrate the diversity, but don’t help with the concepts fo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 can be portrayed as energy, nutrient &amp; water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ependent upon 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ich we harves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rganisms collaborate in cycling energy &amp;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D371-5E5D-40FD-9172-218672DAD4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29640" y="465120"/>
            <a:ext cx="7023600" cy="4764600"/>
            <a:chOff x="629640" y="465120"/>
            <a:chExt cx="7023600" cy="4764600"/>
          </a:xfrm>
        </p:grpSpPr>
        <p:sp>
          <p:nvSpPr>
            <p:cNvPr id="135" name=""/>
            <p:cNvSpPr/>
            <p:nvPr/>
          </p:nvSpPr>
          <p:spPr>
            <a:xfrm>
              <a:off x="3632040" y="473760"/>
              <a:ext cx="37922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ssland Agro-eco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3383400">
              <a:off x="2474640" y="1877040"/>
              <a:ext cx="561960" cy="55368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553680"/>
                <a:gd name="textAreaBottom" fmla="*/ 553680 h 5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6868841"/>
                  <a:lnTo>
                    <a:pt x="4629" y="1936"/>
                  </a:lnTo>
                  <a:arcTo wR="10800" hR="10800" stAng="-7490715" swAng="6868841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912600">
              <a:off x="5812920" y="2502720"/>
              <a:ext cx="624960" cy="50004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-360 h 500040"/>
                <a:gd name="textAreaBottom" fmla="*/ 50004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6880974"/>
                  <a:lnTo>
                    <a:pt x="4598" y="1958"/>
                  </a:lnTo>
                  <a:arcTo wR="10800" hR="10800" stAng="-7502847" swAng="6880974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00240" y="1592280"/>
              <a:ext cx="2773080" cy="25066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3920" y="1766880"/>
              <a:ext cx="2387160" cy="215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4120" y="2283840"/>
              <a:ext cx="867240" cy="44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61160" y="2283840"/>
              <a:ext cx="1124280" cy="44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7520" y="3686040"/>
              <a:ext cx="565920" cy="44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4266200">
              <a:off x="3105360" y="3213720"/>
              <a:ext cx="249120" cy="415440"/>
            </a:xfrm>
            <a:prstGeom prst="rightArrow">
              <a:avLst>
                <a:gd name="adj1" fmla="val 0"/>
                <a:gd name="adj2" fmla="val 56389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468600">
              <a:off x="4406760" y="1483920"/>
              <a:ext cx="274320" cy="378000"/>
            </a:xfrm>
            <a:prstGeom prst="rightArrow">
              <a:avLst>
                <a:gd name="adj1" fmla="val 0"/>
                <a:gd name="adj2" fmla="val 56389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550400">
              <a:off x="5152680" y="3494160"/>
              <a:ext cx="247320" cy="415440"/>
            </a:xfrm>
            <a:prstGeom prst="rightArrow">
              <a:avLst>
                <a:gd name="adj1" fmla="val 0"/>
                <a:gd name="adj2" fmla="val 56389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0080" y="1758600"/>
              <a:ext cx="927720" cy="360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09080" y="2408760"/>
              <a:ext cx="927720" cy="360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27680" y="4507920"/>
              <a:ext cx="703800" cy="360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99400" y="2626200"/>
              <a:ext cx="703800" cy="360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40520" y="1694880"/>
              <a:ext cx="703800" cy="360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868000">
              <a:off x="3339360" y="3466800"/>
              <a:ext cx="247680" cy="412560"/>
            </a:xfrm>
            <a:prstGeom prst="rightArrow">
              <a:avLst>
                <a:gd name="adj1" fmla="val 0"/>
                <a:gd name="adj2" fmla="val 56389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276800">
              <a:off x="4023720" y="1483920"/>
              <a:ext cx="274320" cy="378000"/>
            </a:xfrm>
            <a:prstGeom prst="rightArrow">
              <a:avLst>
                <a:gd name="adj1" fmla="val 0"/>
                <a:gd name="adj2" fmla="val 56389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8294000">
              <a:off x="5416200" y="3227040"/>
              <a:ext cx="250920" cy="415800"/>
            </a:xfrm>
            <a:prstGeom prst="rightArrow">
              <a:avLst>
                <a:gd name="adj1" fmla="val 0"/>
                <a:gd name="adj2" fmla="val 56389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2516000">
              <a:off x="2212920" y="2520720"/>
              <a:ext cx="625320" cy="496800"/>
            </a:xfrm>
            <a:custGeom>
              <a:avLst/>
              <a:gdLst>
                <a:gd name="textAreaLeft" fmla="*/ -360 w 625320"/>
                <a:gd name="textAreaRight" fmla="*/ 625320 w 62532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5636245"/>
                  <a:lnTo>
                    <a:pt x="8132" y="335"/>
                  </a:lnTo>
                  <a:arcTo wR="10800" hR="10800" stAng="-6258119" swAng="5636245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7532400">
              <a:off x="4295880" y="4108320"/>
              <a:ext cx="563760" cy="553680"/>
            </a:xfrm>
            <a:custGeom>
              <a:avLst/>
              <a:gdLst>
                <a:gd name="textAreaLeft" fmla="*/ 360 w 563760"/>
                <a:gd name="textAreaRight" fmla="*/ 564480 w 563760"/>
                <a:gd name="textAreaTop" fmla="*/ 0 h 553680"/>
                <a:gd name="textAreaBottom" fmla="*/ 553680 h 5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5636245"/>
                  <a:lnTo>
                    <a:pt x="8132" y="335"/>
                  </a:lnTo>
                  <a:arcTo wR="10800" hR="10800" stAng="-6258119" swAng="5636245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627600">
              <a:off x="5523840" y="1795320"/>
              <a:ext cx="625320" cy="497160"/>
            </a:xfrm>
            <a:custGeom>
              <a:avLst/>
              <a:gdLst>
                <a:gd name="textAreaLeft" fmla="*/ -360 w 625320"/>
                <a:gd name="textAreaRight" fmla="*/ 625320 w 6253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5636245"/>
                  <a:lnTo>
                    <a:pt x="8132" y="335"/>
                  </a:lnTo>
                  <a:arcTo wR="10800" hR="10800" stAng="-6258119" swAng="5636245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440" y="465120"/>
              <a:ext cx="924480" cy="903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Energy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Nutr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y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3562200"/>
              <a:ext cx="1549440" cy="149220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y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driven by spe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l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temperature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9120" y="1073160"/>
              <a:ext cx="1829880" cy="6494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276280" y="3665520"/>
              <a:ext cx="914040" cy="5875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640" y="2103480"/>
              <a:ext cx="229680" cy="4035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$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35200" y="4826160"/>
              <a:ext cx="229680" cy="4035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$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1680" y="1673280"/>
              <a:ext cx="229680" cy="4035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$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553200">
              <a:off x="867240" y="1785960"/>
              <a:ext cx="680400" cy="533520"/>
            </a:xfrm>
            <a:custGeom>
              <a:avLst/>
              <a:gdLst>
                <a:gd name="textAreaLeft" fmla="*/ 360 w 680400"/>
                <a:gd name="textAreaRight" fmla="*/ 681120 w 680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6868841"/>
                  <a:lnTo>
                    <a:pt x="4629" y="1936"/>
                  </a:lnTo>
                  <a:arcTo wR="10800" hR="10800" stAng="-7490715" swAng="6868841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4359800">
              <a:off x="837360" y="2386800"/>
              <a:ext cx="561960" cy="54468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6868841"/>
                  <a:lnTo>
                    <a:pt x="4629" y="1936"/>
                  </a:lnTo>
                  <a:arcTo wR="10800" hR="10800" stAng="-7490715" swAng="6868841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2479800">
              <a:off x="6700320" y="1525320"/>
              <a:ext cx="549000" cy="500040"/>
            </a:xfrm>
            <a:custGeom>
              <a:avLst/>
              <a:gdLst>
                <a:gd name="textAreaLeft" fmla="*/ -360 w 549000"/>
                <a:gd name="textAreaRight" fmla="*/ 549000 w 5490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6868841"/>
                  <a:lnTo>
                    <a:pt x="4629" y="1936"/>
                  </a:lnTo>
                  <a:arcTo wR="10800" hR="10800" stAng="-7490715" swAng="6868841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8722800">
              <a:off x="7204680" y="1956960"/>
              <a:ext cx="318960" cy="55404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6868841"/>
                  <a:lnTo>
                    <a:pt x="4629" y="1936"/>
                  </a:lnTo>
                  <a:arcTo wR="10800" hR="10800" stAng="-7490715" swAng="6868841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1076600">
              <a:off x="3718800" y="4718880"/>
              <a:ext cx="623520" cy="460440"/>
            </a:xfrm>
            <a:custGeom>
              <a:avLst/>
              <a:gdLst>
                <a:gd name="textAreaLeft" fmla="*/ 360 w 623520"/>
                <a:gd name="textAreaRight" fmla="*/ 624240 w 6235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79" y="12267"/>
                  </a:moveTo>
                  <a:arcTo wR="-8154" hR="-8154" stAng="10178126" swAng="-6868841"/>
                  <a:lnTo>
                    <a:pt x="4629" y="1936"/>
                  </a:lnTo>
                  <a:arcTo wR="10800" hR="10800" stAng="-7490715" swAng="6868841"/>
                  <a:lnTo>
                    <a:pt x="24080" y="8371"/>
                  </a:lnTo>
                  <a:lnTo>
                    <a:pt x="20846" y="13052"/>
                  </a:lnTo>
                  <a:lnTo>
                    <a:pt x="16165" y="9819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588000" y="2924280"/>
            <a:ext cx="225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griculture we harvest products from systems that need to be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emp, unpublish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74BC-12D8-4204-8B30-BB323267E2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33320" y="549000"/>
            <a:ext cx="2506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891800"/>
            <a:ext cx="7772400" cy="27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verse range of organisms is needed to cycle energy and nutrients so that agricultural plants can grow and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over recent years has sought to define the number of species &amp; functional types needed to sustain gras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A4B9-DD8B-426B-AB1F-F5E6FA08CE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6-02-08T04:43:08Z</dcterms:modified>
  <cp:revision>149</cp:revision>
  <dc:subject/>
  <dc:title>PowerPoint Presentation</dc:title>
</cp:coreProperties>
</file>