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B50-7A88-441D-8695-317D5AA9A99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6250-ABDD-4975-BEDA-2FA7F470C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131E-13BA-4927-BAF5-C764DD334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C6DB-1442-4095-8F63-BF28EF5C4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C412-7F02-4FA1-AEDB-1D15E45F0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4FDC-720B-4CDF-AF65-04AC3F260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21D4-7144-4931-91D9-A2D632A387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DF85-AC4D-45C1-BD8D-0CB609A182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CAFF-C817-4352-B633-658235C34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89ED-F0F0-4AFE-8223-B09F401FAB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3F59-9CDD-4D3A-9E83-17C3949528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57CC-D67F-47EC-9FD9-FE3CCD203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8495-2A64-4EB7-B8B8-7C6A3571B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89D9-A827-404D-B8C7-731E4D4C62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6163-A077-4ED5-9660-29F14C0DFE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B4EA-09A3-43D3-B18A-41ABCA74F5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4863-A860-4CC5-B218-003978CFF2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79E0-678C-4BF5-9B32-CFC33DEAF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CCE6-17B3-4402-A537-7CA50BD34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B332-A755-4B47-9631-DEC5CCA19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FA41-7975-407E-8CB9-FC33A2ADA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437D-0CC6-44DD-A420-E38F52E6D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063D-24EC-4AAD-9866-D8409D56C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C2DA-23A6-46A4-A777-64729EB96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DE39-A829-4770-8E1F-78471F9A4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5B9-F38E-4E56-8FBF-A2C62FFF9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5211-BFBB-48BB-8B20-261F80A3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18900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plementary feeding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ival an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5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6621-241D-4792-A50D-D95B192A68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ble energy and M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arbohydrate at 17 MJ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1960" y="1557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est’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(MJ/kg 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7920" y="14130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22050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01336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90E9-54F8-47E5-BF57-EC822CDA88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5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bolisable energy (MJ/kg DM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x 0.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3144960"/>
                <a:tab algn="ctr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050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49417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C0E7-C322-48A2-A4B0-72BB614A41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Metabolisable energ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/M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996920"/>
                <a:tab algn="ctr" pos="3887640"/>
                <a:tab algn="l" pos="6054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/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J/k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M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996920"/>
                <a:tab algn="ctr" pos="3887640"/>
                <a:tab algn="l" pos="6054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996920"/>
                <a:tab algn="ctr" pos="3887640"/>
                <a:tab algn="l" pos="6054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996920"/>
                <a:tab algn="ctr" pos="3887640"/>
                <a:tab algn="l" pos="6054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996920"/>
                <a:tab algn="ctr" pos="3887640"/>
                <a:tab algn="l" pos="6054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996920"/>
                <a:tab algn="ctr" pos="3887640"/>
                <a:tab algn="l" pos="6054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996920"/>
                <a:tab algn="ctr" pos="3887640"/>
                <a:tab algn="l" pos="6054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06064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9417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0D14-F6A3-49D0-8AAE-3A4BE93BE8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rm manage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1197000"/>
            <a:ext cx="636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and f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or commun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al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7232-6951-422C-AC64-A407BB26716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17680" y="2034720"/>
            <a:ext cx="5734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val f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f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2842-73C1-4440-BDF4-BEB0A601CC0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85800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feeding of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1640" y="1267920"/>
            <a:ext cx="636732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feed lot fin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 of saf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ing hay/silage and grain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low infrastructu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ing under graz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lf feeder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amounts of grain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12880" y="3427560"/>
            <a:ext cx="2190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04D2-D80D-48A8-B3E7-3716892D3D9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23096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dden introduction and feeding hay and grain sepa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3320" y="3100320"/>
            <a:ext cx="554832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95320" y="2133720"/>
            <a:ext cx="756432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u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d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d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d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m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xed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xed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parat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par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giniamyc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V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x/Wee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G (kg/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762280"/>
                <a:tab algn="ctr" pos="4000680"/>
                <a:tab algn="ctr" pos="5238720"/>
                <a:tab algn="ctr" pos="6477120"/>
                <a:tab algn="ctr" pos="771516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 utili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2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9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7304040" cy="0"/>
          </a:xfrm>
          <a:prstGeom prst="line">
            <a:avLst/>
          </a:prstGeom>
          <a:ln w="381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941720"/>
            <a:ext cx="7304040" cy="0"/>
          </a:xfrm>
          <a:prstGeom prst="line">
            <a:avLst/>
          </a:prstGeom>
          <a:ln w="381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9960" y="3357720"/>
            <a:ext cx="7304040" cy="0"/>
          </a:xfrm>
          <a:prstGeom prst="line">
            <a:avLst/>
          </a:prstGeom>
          <a:ln w="381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26520" y="5348160"/>
            <a:ext cx="153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(Zorrilla-Rios et al 199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3C3F-D78E-4403-9953-DD31200F746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7880" y="-360"/>
            <a:ext cx="79092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nses to grain fed daily or wee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473880" y="2925720"/>
            <a:ext cx="2171160" cy="769680"/>
            <a:chOff x="6473880" y="2925720"/>
            <a:chExt cx="2171160" cy="769680"/>
          </a:xfrm>
        </p:grpSpPr>
        <p:sp>
          <p:nvSpPr>
            <p:cNvPr id="137" name=""/>
            <p:cNvSpPr/>
            <p:nvPr/>
          </p:nvSpPr>
          <p:spPr>
            <a:xfrm>
              <a:off x="6473880" y="2925720"/>
              <a:ext cx="2171160" cy="74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7280" y="29656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Arial"/>
                </a:rPr>
                <a:t>Daily fee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84560" y="3332160"/>
              <a:ext cx="1740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Weekly fee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61000" y="3078360"/>
              <a:ext cx="16056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61000" y="3459240"/>
              <a:ext cx="160560" cy="1396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81360" y="1137960"/>
            <a:ext cx="3898800" cy="2624040"/>
            <a:chOff x="2781360" y="1137960"/>
            <a:chExt cx="3898800" cy="2624040"/>
          </a:xfrm>
        </p:grpSpPr>
        <p:sp>
          <p:nvSpPr>
            <p:cNvPr id="143" name=""/>
            <p:cNvSpPr/>
            <p:nvPr/>
          </p:nvSpPr>
          <p:spPr>
            <a:xfrm flipV="1">
              <a:off x="2781360" y="1137960"/>
              <a:ext cx="3898800" cy="262404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781360" y="1137960"/>
              <a:ext cx="3898800" cy="262404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562840" y="4699080"/>
            <a:ext cx="4360320" cy="363240"/>
            <a:chOff x="2562840" y="4699080"/>
            <a:chExt cx="4360320" cy="363240"/>
          </a:xfrm>
        </p:grpSpPr>
        <p:sp>
          <p:nvSpPr>
            <p:cNvPr id="146" name=""/>
            <p:cNvSpPr/>
            <p:nvPr/>
          </p:nvSpPr>
          <p:spPr>
            <a:xfrm>
              <a:off x="6398640" y="4699080"/>
              <a:ext cx="52452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60640" y="4699080"/>
              <a:ext cx="41004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2960" y="4699080"/>
              <a:ext cx="41004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1600" y="4699080"/>
              <a:ext cx="41004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02280" y="4699080"/>
              <a:ext cx="41004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62840" y="4699080"/>
              <a:ext cx="29592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765520" y="4479480"/>
            <a:ext cx="3930480" cy="74520"/>
            <a:chOff x="2765520" y="4479480"/>
            <a:chExt cx="3930480" cy="74520"/>
          </a:xfrm>
        </p:grpSpPr>
        <p:sp>
          <p:nvSpPr>
            <p:cNvPr id="153" name=""/>
            <p:cNvSpPr/>
            <p:nvPr/>
          </p:nvSpPr>
          <p:spPr>
            <a:xfrm flipV="1">
              <a:off x="2765520" y="4479480"/>
              <a:ext cx="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166200" y="447948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551400" y="4479480"/>
              <a:ext cx="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52440" y="447948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337280" y="4479480"/>
              <a:ext cx="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738320" y="447948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22080" y="4479480"/>
              <a:ext cx="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509080" y="447948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909760" y="4479480"/>
              <a:ext cx="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293520" y="447948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696000" y="4479480"/>
              <a:ext cx="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9480" y="4500360"/>
              <a:ext cx="39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58200" y="960480"/>
            <a:ext cx="468000" cy="3709800"/>
            <a:chOff x="2158200" y="960480"/>
            <a:chExt cx="468000" cy="3709800"/>
          </a:xfrm>
        </p:grpSpPr>
        <p:sp>
          <p:nvSpPr>
            <p:cNvPr id="166" name=""/>
            <p:cNvSpPr/>
            <p:nvPr/>
          </p:nvSpPr>
          <p:spPr>
            <a:xfrm>
              <a:off x="2158200" y="4307040"/>
              <a:ext cx="46800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58200" y="3471840"/>
              <a:ext cx="46800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58200" y="2633760"/>
              <a:ext cx="46800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58200" y="1798560"/>
              <a:ext cx="46800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960480"/>
              <a:ext cx="468000" cy="3632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00360" y="907920"/>
            <a:ext cx="69840" cy="3597120"/>
            <a:chOff x="2700360" y="907920"/>
            <a:chExt cx="69840" cy="3597120"/>
          </a:xfrm>
        </p:grpSpPr>
        <p:sp>
          <p:nvSpPr>
            <p:cNvPr id="172" name=""/>
            <p:cNvSpPr/>
            <p:nvPr/>
          </p:nvSpPr>
          <p:spPr>
            <a:xfrm flipH="1">
              <a:off x="2700360" y="4500360"/>
              <a:ext cx="6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714400" y="4082760"/>
              <a:ext cx="5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700360" y="3647880"/>
              <a:ext cx="6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714400" y="3247560"/>
              <a:ext cx="5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700360" y="2828520"/>
              <a:ext cx="6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714400" y="2409480"/>
              <a:ext cx="5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700360" y="1974600"/>
              <a:ext cx="6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714400" y="1572840"/>
              <a:ext cx="5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700360" y="1153800"/>
              <a:ext cx="6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65880" y="907920"/>
              <a:ext cx="0" cy="359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736720" y="3782880"/>
            <a:ext cx="558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36720" y="3782880"/>
            <a:ext cx="55800" cy="7164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56120" y="3300480"/>
            <a:ext cx="52200" cy="5544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0360" y="2879640"/>
            <a:ext cx="55800" cy="7308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33760" y="2719440"/>
            <a:ext cx="54000" cy="5544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6120" y="2719440"/>
            <a:ext cx="55440" cy="5544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21480" y="1076400"/>
            <a:ext cx="33120" cy="44280"/>
          </a:xfrm>
          <a:prstGeom prst="ellipse">
            <a:avLst/>
          </a:prstGeom>
          <a:solidFill>
            <a:srgbClr val="00ae00"/>
          </a:solidFill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53120" y="1719360"/>
            <a:ext cx="50760" cy="44280"/>
          </a:xfrm>
          <a:prstGeom prst="ellipse">
            <a:avLst/>
          </a:prstGeom>
          <a:solidFill>
            <a:srgbClr val="00ae00"/>
          </a:solidFill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92560" y="3282840"/>
            <a:ext cx="54000" cy="55800"/>
          </a:xfrm>
          <a:prstGeom prst="ellipse">
            <a:avLst/>
          </a:prstGeom>
          <a:solidFill>
            <a:srgbClr val="3366cc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33640" y="2960640"/>
            <a:ext cx="54000" cy="55440"/>
          </a:xfrm>
          <a:prstGeom prst="ellipse">
            <a:avLst/>
          </a:prstGeom>
          <a:solidFill>
            <a:srgbClr val="3366cc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5840" y="2657520"/>
            <a:ext cx="54000" cy="52200"/>
          </a:xfrm>
          <a:prstGeom prst="ellipse">
            <a:avLst/>
          </a:prstGeom>
          <a:solidFill>
            <a:srgbClr val="3366cc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98960" y="2490840"/>
            <a:ext cx="31680" cy="47520"/>
          </a:xfrm>
          <a:prstGeom prst="ellipse">
            <a:avLst/>
          </a:prstGeom>
          <a:solidFill>
            <a:srgbClr val="3366cc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1413000"/>
            <a:ext cx="14400" cy="14040"/>
          </a:xfrm>
          <a:prstGeom prst="ellipse">
            <a:avLst/>
          </a:prstGeom>
          <a:solidFill>
            <a:srgbClr val="3366cc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70200" y="1069560"/>
            <a:ext cx="3921120" cy="2792520"/>
            <a:chOff x="2770200" y="1069560"/>
            <a:chExt cx="3921120" cy="2792520"/>
          </a:xfrm>
        </p:grpSpPr>
        <p:sp>
          <p:nvSpPr>
            <p:cNvPr id="196" name=""/>
            <p:cNvSpPr/>
            <p:nvPr/>
          </p:nvSpPr>
          <p:spPr>
            <a:xfrm flipV="1">
              <a:off x="2770200" y="1069560"/>
              <a:ext cx="3921120" cy="279252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70200" y="1069560"/>
              <a:ext cx="3921120" cy="279252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908680" y="1557360"/>
            <a:ext cx="15840" cy="30240"/>
          </a:xfrm>
          <a:prstGeom prst="ellipse">
            <a:avLst/>
          </a:prstGeom>
          <a:solidFill>
            <a:srgbClr val="3366cc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81600" y="5141880"/>
            <a:ext cx="41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 intake as % of total d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13480" y="1916280"/>
            <a:ext cx="833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g/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2560" y="1076400"/>
            <a:ext cx="139680" cy="141120"/>
          </a:xfrm>
          <a:prstGeom prst="ellipse">
            <a:avLst/>
          </a:prstGeom>
          <a:solidFill>
            <a:srgbClr val="00ae00"/>
          </a:solidFill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9760" y="3276720"/>
            <a:ext cx="174960" cy="180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84920" y="2427120"/>
            <a:ext cx="139680" cy="142920"/>
          </a:xfrm>
          <a:prstGeom prst="ellipse">
            <a:avLst/>
          </a:prstGeom>
          <a:solidFill>
            <a:srgbClr val="fc0128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1365120"/>
            <a:ext cx="138240" cy="141480"/>
          </a:xfrm>
          <a:prstGeom prst="ellipse">
            <a:avLst/>
          </a:prstGeom>
          <a:solidFill>
            <a:srgbClr val="fc0128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16520" y="1460520"/>
            <a:ext cx="138240" cy="144360"/>
          </a:xfrm>
          <a:prstGeom prst="ellipse">
            <a:avLst/>
          </a:prstGeom>
          <a:solidFill>
            <a:srgbClr val="fc0128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3800" y="2890800"/>
            <a:ext cx="176400" cy="181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95760" y="2602080"/>
            <a:ext cx="174600" cy="179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79840" y="2793960"/>
            <a:ext cx="173160" cy="179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19640" y="2697120"/>
            <a:ext cx="173160" cy="1810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17960" y="3181320"/>
            <a:ext cx="174600" cy="1810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3680" y="2697120"/>
            <a:ext cx="174600" cy="1810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3000" y="1655640"/>
            <a:ext cx="137880" cy="141480"/>
          </a:xfrm>
          <a:prstGeom prst="ellipse">
            <a:avLst/>
          </a:prstGeom>
          <a:solidFill>
            <a:srgbClr val="00ae00"/>
          </a:solidFill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07920" y="620640"/>
            <a:ext cx="273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entury Gothic"/>
              </a:rPr>
              <a:t>(Rowe &amp; Zorrilla-Rios 199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0F65-043E-4117-AF55-20D3ADEA34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4360" y="-27000"/>
            <a:ext cx="732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ative losses in sheep fed daily or weekly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66680" y="476280"/>
            <a:ext cx="267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(Franklin, 19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88080" y="5084640"/>
            <a:ext cx="3179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s on drought f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03520" y="4770360"/>
            <a:ext cx="4406760" cy="332280"/>
            <a:chOff x="3503520" y="4770360"/>
            <a:chExt cx="4406760" cy="332280"/>
          </a:xfrm>
        </p:grpSpPr>
        <p:sp>
          <p:nvSpPr>
            <p:cNvPr id="218" name=""/>
            <p:cNvSpPr/>
            <p:nvPr/>
          </p:nvSpPr>
          <p:spPr>
            <a:xfrm>
              <a:off x="3503520" y="4770360"/>
              <a:ext cx="412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07240" y="4770360"/>
              <a:ext cx="528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61720" y="4770360"/>
              <a:ext cx="528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6200" y="4770360"/>
              <a:ext cx="528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70680" y="4770360"/>
              <a:ext cx="528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6960" y="4770360"/>
              <a:ext cx="528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81440" y="4770360"/>
              <a:ext cx="528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371760" y="4603320"/>
            <a:ext cx="4584960" cy="55800"/>
            <a:chOff x="3371760" y="4603320"/>
            <a:chExt cx="4584960" cy="55800"/>
          </a:xfrm>
        </p:grpSpPr>
        <p:sp>
          <p:nvSpPr>
            <p:cNvPr id="226" name=""/>
            <p:cNvSpPr/>
            <p:nvPr/>
          </p:nvSpPr>
          <p:spPr>
            <a:xfrm flipV="1">
              <a:off x="337176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2624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68288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33736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99220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64704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30188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956720" y="4603320"/>
              <a:ext cx="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75720" y="4624560"/>
              <a:ext cx="456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24200" y="1189080"/>
            <a:ext cx="412920" cy="3555000"/>
            <a:chOff x="2824200" y="1189080"/>
            <a:chExt cx="412920" cy="3555000"/>
          </a:xfrm>
        </p:grpSpPr>
        <p:sp>
          <p:nvSpPr>
            <p:cNvPr id="236" name=""/>
            <p:cNvSpPr/>
            <p:nvPr/>
          </p:nvSpPr>
          <p:spPr>
            <a:xfrm>
              <a:off x="2924280" y="4411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24200" y="3336840"/>
              <a:ext cx="412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24200" y="2263680"/>
              <a:ext cx="412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24200" y="1189080"/>
              <a:ext cx="412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285720" y="836280"/>
            <a:ext cx="88920" cy="3792600"/>
            <a:chOff x="3285720" y="836280"/>
            <a:chExt cx="88920" cy="3792600"/>
          </a:xfrm>
        </p:grpSpPr>
        <p:sp>
          <p:nvSpPr>
            <p:cNvPr id="241" name=""/>
            <p:cNvSpPr/>
            <p:nvPr/>
          </p:nvSpPr>
          <p:spPr>
            <a:xfrm flipH="1">
              <a:off x="3285720" y="462456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318480" y="4079880"/>
              <a:ext cx="5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285720" y="354960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318480" y="3005280"/>
              <a:ext cx="5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285720" y="247644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318480" y="1930320"/>
              <a:ext cx="5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285720" y="140184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318480" y="857160"/>
              <a:ext cx="5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370680" y="836280"/>
              <a:ext cx="0" cy="379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429000" y="1363680"/>
            <a:ext cx="4192200" cy="3254400"/>
            <a:chOff x="3429000" y="1363680"/>
            <a:chExt cx="4192200" cy="3254400"/>
          </a:xfrm>
        </p:grpSpPr>
        <p:sp>
          <p:nvSpPr>
            <p:cNvPr id="251" name=""/>
            <p:cNvSpPr/>
            <p:nvPr/>
          </p:nvSpPr>
          <p:spPr>
            <a:xfrm>
              <a:off x="3429000" y="3935520"/>
              <a:ext cx="263520" cy="682560"/>
            </a:xfrm>
            <a:custGeom>
              <a:avLst/>
              <a:gdLst/>
              <a:ahLst/>
              <a:rect l="l" t="t" r="r" b="b"/>
              <a:pathLst>
                <a:path w="187" h="430">
                  <a:moveTo>
                    <a:pt x="0" y="429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429"/>
                  </a:lnTo>
                  <a:lnTo>
                    <a:pt x="0" y="429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83480" y="3603600"/>
              <a:ext cx="263880" cy="1014480"/>
            </a:xfrm>
            <a:custGeom>
              <a:avLst/>
              <a:gdLst/>
              <a:ahLst/>
              <a:rect l="l" t="t" r="r" b="b"/>
              <a:pathLst>
                <a:path w="187" h="639">
                  <a:moveTo>
                    <a:pt x="0" y="638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38"/>
                  </a:lnTo>
                  <a:lnTo>
                    <a:pt x="0" y="63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38320" y="3043080"/>
              <a:ext cx="263880" cy="1575000"/>
            </a:xfrm>
            <a:custGeom>
              <a:avLst/>
              <a:gdLst/>
              <a:ahLst/>
              <a:rect l="l" t="t" r="r" b="b"/>
              <a:pathLst>
                <a:path w="187" h="992">
                  <a:moveTo>
                    <a:pt x="0" y="991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991"/>
                  </a:lnTo>
                  <a:lnTo>
                    <a:pt x="0" y="991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93160" y="2832120"/>
              <a:ext cx="263880" cy="1785960"/>
            </a:xfrm>
            <a:custGeom>
              <a:avLst/>
              <a:gdLst/>
              <a:ahLst/>
              <a:rect l="l" t="t" r="r" b="b"/>
              <a:pathLst>
                <a:path w="187" h="1125">
                  <a:moveTo>
                    <a:pt x="0" y="1124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124"/>
                  </a:lnTo>
                  <a:lnTo>
                    <a:pt x="0" y="1124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48000" y="2151000"/>
              <a:ext cx="263880" cy="2467080"/>
            </a:xfrm>
            <a:custGeom>
              <a:avLst/>
              <a:gdLst/>
              <a:ahLst/>
              <a:rect l="l" t="t" r="r" b="b"/>
              <a:pathLst>
                <a:path w="187" h="1554">
                  <a:moveTo>
                    <a:pt x="0" y="1553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553"/>
                  </a:lnTo>
                  <a:lnTo>
                    <a:pt x="0" y="155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02480" y="1590840"/>
              <a:ext cx="263880" cy="3027240"/>
            </a:xfrm>
            <a:custGeom>
              <a:avLst/>
              <a:gdLst/>
              <a:ahLst/>
              <a:rect l="l" t="t" r="r" b="b"/>
              <a:pathLst>
                <a:path w="187" h="1907">
                  <a:moveTo>
                    <a:pt x="0" y="190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906"/>
                  </a:lnTo>
                  <a:lnTo>
                    <a:pt x="0" y="190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57320" y="1363680"/>
              <a:ext cx="263880" cy="3254400"/>
            </a:xfrm>
            <a:custGeom>
              <a:avLst/>
              <a:gdLst/>
              <a:ahLst/>
              <a:rect l="l" t="t" r="r" b="b"/>
              <a:pathLst>
                <a:path w="187" h="2050">
                  <a:moveTo>
                    <a:pt x="0" y="2049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2049"/>
                  </a:lnTo>
                  <a:lnTo>
                    <a:pt x="0" y="204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6640" y="3346560"/>
            <a:ext cx="3536640" cy="1271520"/>
            <a:chOff x="4346640" y="3346560"/>
            <a:chExt cx="3536640" cy="1271520"/>
          </a:xfrm>
        </p:grpSpPr>
        <p:sp>
          <p:nvSpPr>
            <p:cNvPr id="259" name=""/>
            <p:cNvSpPr/>
            <p:nvPr/>
          </p:nvSpPr>
          <p:spPr>
            <a:xfrm>
              <a:off x="4346640" y="4465800"/>
              <a:ext cx="262080" cy="15228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0" y="9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85" y="95"/>
                  </a:lnTo>
                  <a:lnTo>
                    <a:pt x="0" y="95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01120" y="4389480"/>
              <a:ext cx="262080" cy="228600"/>
            </a:xfrm>
            <a:custGeom>
              <a:avLst/>
              <a:gdLst/>
              <a:ahLst/>
              <a:rect l="l" t="t" r="r" b="b"/>
              <a:pathLst>
                <a:path w="186" h="144">
                  <a:moveTo>
                    <a:pt x="0" y="143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85" y="143"/>
                  </a:lnTo>
                  <a:lnTo>
                    <a:pt x="0" y="14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55600" y="4238640"/>
              <a:ext cx="262440" cy="379440"/>
            </a:xfrm>
            <a:custGeom>
              <a:avLst/>
              <a:gdLst/>
              <a:ahLst/>
              <a:rect l="l" t="t" r="r" b="b"/>
              <a:pathLst>
                <a:path w="186" h="239">
                  <a:moveTo>
                    <a:pt x="0" y="238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85" y="238"/>
                  </a:lnTo>
                  <a:lnTo>
                    <a:pt x="0" y="23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0440" y="4011480"/>
              <a:ext cx="263880" cy="606600"/>
            </a:xfrm>
            <a:custGeom>
              <a:avLst/>
              <a:gdLst/>
              <a:ahLst/>
              <a:rect l="l" t="t" r="r" b="b"/>
              <a:pathLst>
                <a:path w="187" h="382">
                  <a:moveTo>
                    <a:pt x="0" y="381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381"/>
                  </a:lnTo>
                  <a:lnTo>
                    <a:pt x="0" y="381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65280" y="3573360"/>
              <a:ext cx="263520" cy="1044720"/>
            </a:xfrm>
            <a:custGeom>
              <a:avLst/>
              <a:gdLst/>
              <a:ahLst/>
              <a:rect l="l" t="t" r="r" b="b"/>
              <a:pathLst>
                <a:path w="187" h="658">
                  <a:moveTo>
                    <a:pt x="0" y="65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57"/>
                  </a:lnTo>
                  <a:lnTo>
                    <a:pt x="0" y="657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9760" y="3346560"/>
              <a:ext cx="263520" cy="1271520"/>
            </a:xfrm>
            <a:custGeom>
              <a:avLst/>
              <a:gdLst/>
              <a:ahLst/>
              <a:rect l="l" t="t" r="r" b="b"/>
              <a:pathLst>
                <a:path w="187" h="801">
                  <a:moveTo>
                    <a:pt x="0" y="800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800"/>
                  </a:lnTo>
                  <a:lnTo>
                    <a:pt x="0" y="80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762360" y="1346040"/>
            <a:ext cx="246240" cy="257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62360" y="1790640"/>
            <a:ext cx="246240" cy="257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63040" y="1311120"/>
            <a:ext cx="747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62320" y="175572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Wee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4400" y="2251080"/>
            <a:ext cx="1760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% of to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2F53-AED7-4E59-80E8-1CD5E6B6E2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3640" y="-27000"/>
            <a:ext cx="790884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al of feeding and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57440" y="4629240"/>
            <a:ext cx="4509000" cy="424080"/>
            <a:chOff x="2557440" y="4629240"/>
            <a:chExt cx="4509000" cy="424080"/>
          </a:xfrm>
        </p:grpSpPr>
        <p:sp>
          <p:nvSpPr>
            <p:cNvPr id="272" name=""/>
            <p:cNvSpPr/>
            <p:nvPr/>
          </p:nvSpPr>
          <p:spPr>
            <a:xfrm>
              <a:off x="6744960" y="462924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11200" y="462924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77800" y="462924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2400" y="462924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8640" y="462924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57440" y="4629240"/>
              <a:ext cx="414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39960" y="4435200"/>
            <a:ext cx="4152960" cy="129960"/>
            <a:chOff x="2739960" y="4435200"/>
            <a:chExt cx="4152960" cy="129960"/>
          </a:xfrm>
        </p:grpSpPr>
        <p:sp>
          <p:nvSpPr>
            <p:cNvPr id="279" name=""/>
            <p:cNvSpPr/>
            <p:nvPr/>
          </p:nvSpPr>
          <p:spPr>
            <a:xfrm flipV="1">
              <a:off x="2739960" y="4435200"/>
              <a:ext cx="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156120" y="4435200"/>
              <a:ext cx="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573720" y="4435200"/>
              <a:ext cx="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991320" y="4435200"/>
              <a:ext cx="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07840" y="4435200"/>
              <a:ext cx="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825440" y="4435200"/>
              <a:ext cx="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223600" y="4435200"/>
              <a:ext cx="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641200" y="4435200"/>
              <a:ext cx="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057360" y="4435200"/>
              <a:ext cx="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475320" y="4435200"/>
              <a:ext cx="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892920" y="4435200"/>
              <a:ext cx="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39960" y="4460760"/>
              <a:ext cx="413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309760" y="692280"/>
            <a:ext cx="414720" cy="4030560"/>
            <a:chOff x="2309760" y="692280"/>
            <a:chExt cx="414720" cy="4030560"/>
          </a:xfrm>
        </p:grpSpPr>
        <p:sp>
          <p:nvSpPr>
            <p:cNvPr id="292" name=""/>
            <p:cNvSpPr/>
            <p:nvPr/>
          </p:nvSpPr>
          <p:spPr>
            <a:xfrm>
              <a:off x="2309760" y="4298760"/>
              <a:ext cx="414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85720" y="309708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85720" y="189396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85720" y="69228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41320" y="828720"/>
            <a:ext cx="106200" cy="3643200"/>
            <a:chOff x="2641320" y="828720"/>
            <a:chExt cx="106200" cy="3643200"/>
          </a:xfrm>
        </p:grpSpPr>
        <p:sp>
          <p:nvSpPr>
            <p:cNvPr id="297" name=""/>
            <p:cNvSpPr/>
            <p:nvPr/>
          </p:nvSpPr>
          <p:spPr>
            <a:xfrm flipH="1">
              <a:off x="2641320" y="4460760"/>
              <a:ext cx="10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679480" y="3848040"/>
              <a:ext cx="6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641320" y="3259080"/>
              <a:ext cx="10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679480" y="2668680"/>
              <a:ext cx="6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641320" y="2055600"/>
              <a:ext cx="10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679480" y="1442880"/>
              <a:ext cx="6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641320" y="853920"/>
              <a:ext cx="10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740680" y="8287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33720" y="2646360"/>
            <a:ext cx="986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51320" y="2340000"/>
            <a:ext cx="100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19880" y="1373040"/>
            <a:ext cx="982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33720" y="3565440"/>
            <a:ext cx="115920" cy="142920"/>
          </a:xfrm>
          <a:custGeom>
            <a:avLst/>
            <a:gdLst/>
            <a:ahLst/>
            <a:rect l="l" t="t" r="r" b="b"/>
            <a:pathLst>
              <a:path w="82" h="90">
                <a:moveTo>
                  <a:pt x="41" y="0"/>
                </a:moveTo>
                <a:lnTo>
                  <a:pt x="81" y="89"/>
                </a:lnTo>
                <a:lnTo>
                  <a:pt x="0" y="89"/>
                </a:lnTo>
                <a:lnTo>
                  <a:pt x="41" y="0"/>
                </a:lnTo>
              </a:path>
            </a:pathLst>
          </a:custGeom>
          <a:solidFill>
            <a:srgbClr val="e540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33720" y="3730680"/>
            <a:ext cx="233640" cy="230040"/>
          </a:xfrm>
          <a:custGeom>
            <a:avLst/>
            <a:gdLst/>
            <a:ahLst/>
            <a:rect l="l" t="t" r="r" b="b"/>
            <a:pathLst>
              <a:path w="165" h="145">
                <a:moveTo>
                  <a:pt x="83" y="0"/>
                </a:moveTo>
                <a:lnTo>
                  <a:pt x="164" y="144"/>
                </a:lnTo>
                <a:lnTo>
                  <a:pt x="0" y="144"/>
                </a:lnTo>
                <a:lnTo>
                  <a:pt x="83" y="0"/>
                </a:lnTo>
              </a:path>
            </a:pathLst>
          </a:custGeom>
          <a:solidFill>
            <a:srgbClr val="e540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7920" y="3706920"/>
            <a:ext cx="98280" cy="12672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17920" y="3753000"/>
            <a:ext cx="230040" cy="26964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37000" y="3989520"/>
            <a:ext cx="142920" cy="185760"/>
          </a:xfrm>
          <a:prstGeom prst="rect">
            <a:avLst/>
          </a:prstGeom>
          <a:solidFill>
            <a:srgbClr val="02ab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70400" y="3117960"/>
            <a:ext cx="61920" cy="79200"/>
          </a:xfrm>
          <a:prstGeom prst="rect">
            <a:avLst/>
          </a:prstGeom>
          <a:solidFill>
            <a:srgbClr val="02ab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33720" y="2698920"/>
            <a:ext cx="301680" cy="271440"/>
          </a:xfrm>
          <a:custGeom>
            <a:avLst/>
            <a:gdLst/>
            <a:ahLst/>
            <a:rect l="l" t="t" r="r" b="b"/>
            <a:pathLst>
              <a:path w="213" h="171">
                <a:moveTo>
                  <a:pt x="107" y="0"/>
                </a:moveTo>
                <a:lnTo>
                  <a:pt x="212" y="170"/>
                </a:lnTo>
                <a:lnTo>
                  <a:pt x="0" y="170"/>
                </a:lnTo>
                <a:lnTo>
                  <a:pt x="107" y="0"/>
                </a:lnTo>
              </a:path>
            </a:pathLst>
          </a:custGeom>
          <a:solidFill>
            <a:srgbClr val="00336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05040" y="5084640"/>
            <a:ext cx="4233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vals between feeds (da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3480" y="1773360"/>
            <a:ext cx="1959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86800" y="5300640"/>
            <a:ext cx="1178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(Rowe et al 199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7120" y="3502080"/>
            <a:ext cx="231840" cy="230040"/>
          </a:xfrm>
          <a:custGeom>
            <a:avLst/>
            <a:gdLst/>
            <a:ahLst/>
            <a:rect l="l" t="t" r="r" b="b"/>
            <a:pathLst>
              <a:path w="165" h="145">
                <a:moveTo>
                  <a:pt x="83" y="0"/>
                </a:moveTo>
                <a:lnTo>
                  <a:pt x="164" y="144"/>
                </a:lnTo>
                <a:lnTo>
                  <a:pt x="0" y="144"/>
                </a:lnTo>
                <a:lnTo>
                  <a:pt x="83" y="0"/>
                </a:lnTo>
              </a:path>
            </a:pathLst>
          </a:custGeom>
          <a:solidFill>
            <a:srgbClr val="e5405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9520" y="3600360"/>
            <a:ext cx="230400" cy="27000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9880" y="3075120"/>
            <a:ext cx="142920" cy="185760"/>
          </a:xfrm>
          <a:prstGeom prst="rect">
            <a:avLst/>
          </a:prstGeom>
          <a:solidFill>
            <a:srgbClr val="02ab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55960" y="2610000"/>
            <a:ext cx="230400" cy="26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2400" y="2228760"/>
            <a:ext cx="230400" cy="27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62640" y="1314360"/>
            <a:ext cx="230400" cy="27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3FA1-00C7-45CE-92DB-FB0E4B58B1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87280" y="1989000"/>
            <a:ext cx="736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feed - determine th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utrition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ractical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720" y="54936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9246-60F2-4F0D-8A76-356FBA7BBB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3344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starch on liveweight gain in sheep fed barley or lup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587680" y="4916520"/>
            <a:ext cx="5745960" cy="286920"/>
            <a:chOff x="2587680" y="4916520"/>
            <a:chExt cx="5745960" cy="286920"/>
          </a:xfrm>
        </p:grpSpPr>
        <p:sp>
          <p:nvSpPr>
            <p:cNvPr id="327" name=""/>
            <p:cNvSpPr/>
            <p:nvPr/>
          </p:nvSpPr>
          <p:spPr>
            <a:xfrm>
              <a:off x="7963200" y="4916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82000" y="4916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01160" y="4916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88720" y="4916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29480" y="4916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48280" y="4916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67080" y="4916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87680" y="4916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739960" y="4787640"/>
            <a:ext cx="5443560" cy="106200"/>
            <a:chOff x="2739960" y="4787640"/>
            <a:chExt cx="5443560" cy="106200"/>
          </a:xfrm>
        </p:grpSpPr>
        <p:sp>
          <p:nvSpPr>
            <p:cNvPr id="336" name=""/>
            <p:cNvSpPr/>
            <p:nvPr/>
          </p:nvSpPr>
          <p:spPr>
            <a:xfrm flipV="1">
              <a:off x="274140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120840" y="478800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52224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901680" y="478800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30308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682520" y="478800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08284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462280" y="478800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84208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243480" y="478800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2292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024320" y="478800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40376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805520" y="478800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183520" y="4787640"/>
              <a:ext cx="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9960" y="4813200"/>
              <a:ext cx="54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071440" y="1197000"/>
            <a:ext cx="506160" cy="3781080"/>
            <a:chOff x="2071440" y="1197000"/>
            <a:chExt cx="506160" cy="3781080"/>
          </a:xfrm>
        </p:grpSpPr>
        <p:sp>
          <p:nvSpPr>
            <p:cNvPr id="353" name=""/>
            <p:cNvSpPr/>
            <p:nvPr/>
          </p:nvSpPr>
          <p:spPr>
            <a:xfrm>
              <a:off x="2207160" y="46911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07160" y="4183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7160" y="36943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07160" y="31878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7160" y="26989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07160" y="2192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07160" y="1703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71440" y="119700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628720" y="1293840"/>
            <a:ext cx="122040" cy="3525840"/>
            <a:chOff x="2628720" y="1293840"/>
            <a:chExt cx="122040" cy="3525840"/>
          </a:xfrm>
        </p:grpSpPr>
        <p:sp>
          <p:nvSpPr>
            <p:cNvPr id="362" name=""/>
            <p:cNvSpPr/>
            <p:nvPr/>
          </p:nvSpPr>
          <p:spPr>
            <a:xfrm flipH="1">
              <a:off x="2628720" y="481320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673000" y="456876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628720" y="430524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673000" y="406260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628720" y="381816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673000" y="357336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628720" y="330984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673000" y="306540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628720" y="282276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673000" y="255924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628720" y="231480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673000" y="207000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182556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673000" y="156384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628720" y="1319400"/>
              <a:ext cx="12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742120" y="1293840"/>
              <a:ext cx="0" cy="352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3132000" y="1650600"/>
            <a:ext cx="94320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54240" y="1712880"/>
            <a:ext cx="117720" cy="93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3360" y="1689120"/>
            <a:ext cx="1333440" cy="1003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3800" y="1619280"/>
            <a:ext cx="120600" cy="93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73800" y="2735280"/>
            <a:ext cx="2682720" cy="4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6040" y="2652840"/>
            <a:ext cx="118800" cy="93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15480" y="3160800"/>
            <a:ext cx="122040" cy="92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54240" y="2014560"/>
            <a:ext cx="1177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32000" y="2027160"/>
            <a:ext cx="954360" cy="8715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054240" y="1619280"/>
            <a:ext cx="135000" cy="789120"/>
            <a:chOff x="3054240" y="1619280"/>
            <a:chExt cx="135000" cy="789120"/>
          </a:xfrm>
        </p:grpSpPr>
        <p:sp>
          <p:nvSpPr>
            <p:cNvPr id="388" name=""/>
            <p:cNvSpPr/>
            <p:nvPr/>
          </p:nvSpPr>
          <p:spPr>
            <a:xfrm>
              <a:off x="3087720" y="1619280"/>
              <a:ext cx="5148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21560" y="1631880"/>
              <a:ext cx="0" cy="7444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7720" y="2408400"/>
              <a:ext cx="5148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195732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4240" y="195732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54240" y="195732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13360" y="2928960"/>
            <a:ext cx="1333440" cy="120960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35600" y="2521080"/>
            <a:ext cx="134640" cy="788760"/>
            <a:chOff x="4035600" y="2521080"/>
            <a:chExt cx="134640" cy="788760"/>
          </a:xfrm>
        </p:grpSpPr>
        <p:sp>
          <p:nvSpPr>
            <p:cNvPr id="396" name=""/>
            <p:cNvSpPr/>
            <p:nvPr/>
          </p:nvSpPr>
          <p:spPr>
            <a:xfrm>
              <a:off x="4067640" y="2521080"/>
              <a:ext cx="525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01480" y="2533680"/>
              <a:ext cx="0" cy="7444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67640" y="3309840"/>
              <a:ext cx="525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5600" y="2859120"/>
              <a:ext cx="13464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35600" y="2859120"/>
              <a:ext cx="13464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35600" y="2859120"/>
              <a:ext cx="13464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396040" y="3760920"/>
            <a:ext cx="134640" cy="807840"/>
            <a:chOff x="5396040" y="3760920"/>
            <a:chExt cx="134640" cy="807840"/>
          </a:xfrm>
        </p:grpSpPr>
        <p:sp>
          <p:nvSpPr>
            <p:cNvPr id="403" name=""/>
            <p:cNvSpPr/>
            <p:nvPr/>
          </p:nvSpPr>
          <p:spPr>
            <a:xfrm>
              <a:off x="5429520" y="3760920"/>
              <a:ext cx="5112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63000" y="3773520"/>
              <a:ext cx="0" cy="763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29520" y="4568760"/>
              <a:ext cx="5112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96040" y="4098960"/>
              <a:ext cx="13464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96040" y="4098960"/>
              <a:ext cx="13464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96040" y="4098960"/>
              <a:ext cx="13464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351960" y="5084640"/>
            <a:ext cx="3961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val of feeding (day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63680" y="1306440"/>
            <a:ext cx="441360" cy="3349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762720" y="362736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Bar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17440" y="1690560"/>
            <a:ext cx="117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2814-CD0A-435D-B7AB-F102CFBBA52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01640" y="95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8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000" y="189000"/>
            <a:ext cx="7162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starch/VM on liveweight gain in sheep fed barley or lup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740320" y="4807080"/>
            <a:ext cx="5745960" cy="286920"/>
            <a:chOff x="2740320" y="4807080"/>
            <a:chExt cx="5745960" cy="286920"/>
          </a:xfrm>
        </p:grpSpPr>
        <p:sp>
          <p:nvSpPr>
            <p:cNvPr id="418" name=""/>
            <p:cNvSpPr/>
            <p:nvPr/>
          </p:nvSpPr>
          <p:spPr>
            <a:xfrm>
              <a:off x="8115840" y="48070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34640" y="48070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53440" y="48070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41360" y="4807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81760" y="4807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00920" y="4807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19720" y="4807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0320" y="4807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894040" y="4665240"/>
            <a:ext cx="5441760" cy="132120"/>
            <a:chOff x="2894040" y="4665240"/>
            <a:chExt cx="5441760" cy="132120"/>
          </a:xfrm>
        </p:grpSpPr>
        <p:sp>
          <p:nvSpPr>
            <p:cNvPr id="427" name=""/>
            <p:cNvSpPr/>
            <p:nvPr/>
          </p:nvSpPr>
          <p:spPr>
            <a:xfrm flipV="1">
              <a:off x="289404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273480" y="4665240"/>
              <a:ext cx="0" cy="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67488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054320" y="4665240"/>
              <a:ext cx="0" cy="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45572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835160" y="4665240"/>
              <a:ext cx="0" cy="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23548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614920" y="4665240"/>
              <a:ext cx="0" cy="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99436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395400" y="4665240"/>
              <a:ext cx="0" cy="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77520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176600" y="4665240"/>
              <a:ext cx="0" cy="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55604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957440" y="4665240"/>
              <a:ext cx="0" cy="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335800" y="4665600"/>
              <a:ext cx="0" cy="13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4120" y="4703760"/>
              <a:ext cx="5403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23720" y="1087560"/>
            <a:ext cx="506160" cy="3781080"/>
            <a:chOff x="2223720" y="1087560"/>
            <a:chExt cx="506160" cy="3781080"/>
          </a:xfrm>
        </p:grpSpPr>
        <p:sp>
          <p:nvSpPr>
            <p:cNvPr id="444" name=""/>
            <p:cNvSpPr/>
            <p:nvPr/>
          </p:nvSpPr>
          <p:spPr>
            <a:xfrm>
              <a:off x="2359440" y="45817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59440" y="4073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9440" y="35848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9440" y="30783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59440" y="25894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59440" y="20829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59440" y="15940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23720" y="108756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769840" y="1171080"/>
            <a:ext cx="144360" cy="3551400"/>
            <a:chOff x="2769840" y="1171080"/>
            <a:chExt cx="144360" cy="3551400"/>
          </a:xfrm>
        </p:grpSpPr>
        <p:sp>
          <p:nvSpPr>
            <p:cNvPr id="453" name=""/>
            <p:cNvSpPr/>
            <p:nvPr/>
          </p:nvSpPr>
          <p:spPr>
            <a:xfrm flipH="1">
              <a:off x="2769840" y="470376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813760" y="4459320"/>
              <a:ext cx="100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769840" y="419580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813760" y="3952800"/>
              <a:ext cx="100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769840" y="370836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813760" y="3463920"/>
              <a:ext cx="100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769840" y="320040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813760" y="2955960"/>
              <a:ext cx="100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769840" y="271296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813760" y="2449440"/>
              <a:ext cx="100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769840" y="220500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813760" y="1960560"/>
              <a:ext cx="100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769840" y="171612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813760" y="1454040"/>
              <a:ext cx="100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769840" y="1209600"/>
              <a:ext cx="14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894040" y="1171080"/>
              <a:ext cx="0" cy="3551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V="1">
            <a:off x="3284640" y="1541160"/>
            <a:ext cx="94284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18040" y="1616040"/>
            <a:ext cx="95040" cy="68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5640" y="1579680"/>
            <a:ext cx="1333440" cy="1003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99040" y="1522440"/>
            <a:ext cx="96840" cy="68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26080" y="2625840"/>
            <a:ext cx="2682720" cy="45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59480" y="2556000"/>
            <a:ext cx="96840" cy="68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78920" y="3063960"/>
            <a:ext cx="98280" cy="66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84640" y="1986120"/>
            <a:ext cx="942840" cy="137880"/>
          </a:xfrm>
          <a:prstGeom prst="line">
            <a:avLst/>
          </a:prstGeom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18040" y="1917720"/>
            <a:ext cx="95040" cy="6840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5640" y="2174760"/>
            <a:ext cx="1324080" cy="513000"/>
          </a:xfrm>
          <a:prstGeom prst="line">
            <a:avLst/>
          </a:prstGeom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9040" y="2104920"/>
            <a:ext cx="96840" cy="68400"/>
          </a:xfrm>
          <a:prstGeom prst="ellipse">
            <a:avLst/>
          </a:prstGeom>
          <a:solidFill>
            <a:srgbClr val="3366cc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26080" y="2738520"/>
            <a:ext cx="2682720" cy="642960"/>
          </a:xfrm>
          <a:prstGeom prst="line">
            <a:avLst/>
          </a:prstGeom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59480" y="2668680"/>
            <a:ext cx="96840" cy="68040"/>
          </a:xfrm>
          <a:prstGeom prst="ellipse">
            <a:avLst/>
          </a:prstGeom>
          <a:solidFill>
            <a:srgbClr val="3366cc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78920" y="3363840"/>
            <a:ext cx="98280" cy="68400"/>
          </a:xfrm>
          <a:prstGeom prst="ellipse">
            <a:avLst/>
          </a:prstGeom>
          <a:solidFill>
            <a:srgbClr val="3366cc"/>
          </a:solidFill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84640" y="1917720"/>
            <a:ext cx="954000" cy="8715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206880" y="1509840"/>
            <a:ext cx="134640" cy="788760"/>
            <a:chOff x="3206880" y="1509840"/>
            <a:chExt cx="134640" cy="788760"/>
          </a:xfrm>
        </p:grpSpPr>
        <p:sp>
          <p:nvSpPr>
            <p:cNvPr id="485" name=""/>
            <p:cNvSpPr/>
            <p:nvPr/>
          </p:nvSpPr>
          <p:spPr>
            <a:xfrm>
              <a:off x="3240360" y="1509840"/>
              <a:ext cx="50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74200" y="1522440"/>
              <a:ext cx="0" cy="7441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40360" y="2298600"/>
              <a:ext cx="50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06880" y="1847880"/>
              <a:ext cx="134640" cy="11376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06880" y="1847880"/>
              <a:ext cx="134640" cy="11376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06880" y="1847880"/>
              <a:ext cx="134640" cy="11376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265640" y="2819520"/>
            <a:ext cx="1333440" cy="120960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187880" y="2411280"/>
            <a:ext cx="135000" cy="789120"/>
            <a:chOff x="4187880" y="2411280"/>
            <a:chExt cx="135000" cy="789120"/>
          </a:xfrm>
        </p:grpSpPr>
        <p:sp>
          <p:nvSpPr>
            <p:cNvPr id="493" name=""/>
            <p:cNvSpPr/>
            <p:nvPr/>
          </p:nvSpPr>
          <p:spPr>
            <a:xfrm>
              <a:off x="4219920" y="2411280"/>
              <a:ext cx="525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53400" y="2423880"/>
              <a:ext cx="0" cy="7448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19920" y="3200400"/>
              <a:ext cx="525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87880" y="274932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87880" y="274932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7880" y="274932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548320" y="3651120"/>
            <a:ext cx="135000" cy="808200"/>
            <a:chOff x="5548320" y="3651120"/>
            <a:chExt cx="135000" cy="808200"/>
          </a:xfrm>
        </p:grpSpPr>
        <p:sp>
          <p:nvSpPr>
            <p:cNvPr id="500" name=""/>
            <p:cNvSpPr/>
            <p:nvPr/>
          </p:nvSpPr>
          <p:spPr>
            <a:xfrm>
              <a:off x="5582160" y="3651120"/>
              <a:ext cx="5112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15640" y="3663720"/>
              <a:ext cx="0" cy="763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82160" y="4459320"/>
              <a:ext cx="5112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8320" y="398916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48320" y="398916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46" y="0"/>
                  </a:ln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48320" y="3989160"/>
              <a:ext cx="1350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46" y="0"/>
                  </a:moveTo>
                  <a:lnTo>
                    <a:pt x="91" y="71"/>
                  </a:lnTo>
                  <a:lnTo>
                    <a:pt x="0" y="71"/>
                  </a:lnTo>
                  <a:lnTo>
                    <a:pt x="46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3556800" y="5116680"/>
            <a:ext cx="3961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val of feeding (day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441360" cy="3349440"/>
          </a:xfrm>
          <a:prstGeom prst="rect">
            <a:avLst/>
          </a:prstGeom>
          <a:ln w="0">
            <a:noFill/>
          </a:ln>
        </p:spPr>
      </p:pic>
      <p:grpSp>
        <p:nvGrpSpPr>
          <p:cNvPr id="508" name=""/>
          <p:cNvGrpSpPr/>
          <p:nvPr/>
        </p:nvGrpSpPr>
        <p:grpSpPr>
          <a:xfrm>
            <a:off x="4067280" y="1581120"/>
            <a:ext cx="3834360" cy="2315160"/>
            <a:chOff x="4067280" y="1581120"/>
            <a:chExt cx="3834360" cy="2315160"/>
          </a:xfrm>
        </p:grpSpPr>
        <p:sp>
          <p:nvSpPr>
            <p:cNvPr id="509" name=""/>
            <p:cNvSpPr/>
            <p:nvPr/>
          </p:nvSpPr>
          <p:spPr>
            <a:xfrm>
              <a:off x="4067280" y="34416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Bar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69360" y="158112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up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75520" y="3103560"/>
              <a:ext cx="162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Barley+v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3B99-8B39-4730-913E-B76559D0CC9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26920" y="1268280"/>
            <a:ext cx="741708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 (197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mbe &amp; Mulholland (198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nessy (198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er &amp; Siebert (198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 et al (198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dsay et al (198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&amp; Barker (198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Meniman &amp; Elliot (198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lins et al (198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man et al 19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or &amp; Morris (197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6560" y="114480"/>
            <a:ext cx="82821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feed intake (% ) in response to nitrogen supplementation in 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41520" y="361800"/>
            <a:ext cx="636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3880" y="2133720"/>
            <a:ext cx="63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450A-A402-4C6C-B369-8E36266A9C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430880" y="2646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266920" y="4954320"/>
            <a:ext cx="5487840" cy="79560"/>
            <a:chOff x="2266920" y="4954320"/>
            <a:chExt cx="5487840" cy="79560"/>
          </a:xfrm>
        </p:grpSpPr>
        <p:sp>
          <p:nvSpPr>
            <p:cNvPr id="518" name=""/>
            <p:cNvSpPr/>
            <p:nvPr/>
          </p:nvSpPr>
          <p:spPr>
            <a:xfrm flipV="1">
              <a:off x="226692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96100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65076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30440" y="4954680"/>
              <a:ext cx="8280" cy="7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00220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69484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38604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07724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754760" y="4954320"/>
              <a:ext cx="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0880" y="4975200"/>
              <a:ext cx="546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71880" y="1052640"/>
            <a:ext cx="96480" cy="4381200"/>
            <a:chOff x="2171880" y="1052640"/>
            <a:chExt cx="96480" cy="4381200"/>
          </a:xfrm>
        </p:grpSpPr>
        <p:sp>
          <p:nvSpPr>
            <p:cNvPr id="529" name=""/>
            <p:cNvSpPr/>
            <p:nvPr/>
          </p:nvSpPr>
          <p:spPr>
            <a:xfrm flipH="1">
              <a:off x="2171880" y="5416920"/>
              <a:ext cx="96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198880" y="4334040"/>
              <a:ext cx="6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171880" y="3270240"/>
              <a:ext cx="96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198880" y="2167200"/>
              <a:ext cx="6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171880" y="1085040"/>
              <a:ext cx="96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255040" y="1052640"/>
              <a:ext cx="0" cy="4381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457360" y="1676520"/>
            <a:ext cx="5240160" cy="3276360"/>
            <a:chOff x="2457360" y="1676520"/>
            <a:chExt cx="5240160" cy="3276360"/>
          </a:xfrm>
        </p:grpSpPr>
        <p:sp>
          <p:nvSpPr>
            <p:cNvPr id="536" name=""/>
            <p:cNvSpPr/>
            <p:nvPr/>
          </p:nvSpPr>
          <p:spPr>
            <a:xfrm>
              <a:off x="3032640" y="3179880"/>
              <a:ext cx="529200" cy="1773000"/>
            </a:xfrm>
            <a:custGeom>
              <a:avLst/>
              <a:gdLst/>
              <a:ahLst/>
              <a:rect l="l" t="t" r="r" b="b"/>
              <a:pathLst>
                <a:path w="375" h="1117">
                  <a:moveTo>
                    <a:pt x="0" y="1116"/>
                  </a:moveTo>
                  <a:lnTo>
                    <a:pt x="0" y="0"/>
                  </a:lnTo>
                  <a:lnTo>
                    <a:pt x="374" y="0"/>
                  </a:lnTo>
                  <a:lnTo>
                    <a:pt x="374" y="1116"/>
                  </a:lnTo>
                  <a:lnTo>
                    <a:pt x="0" y="1116"/>
                  </a:lnTo>
                  <a:lnTo>
                    <a:pt x="0" y="0"/>
                  </a:lnTo>
                  <a:lnTo>
                    <a:pt x="374" y="0"/>
                  </a:lnTo>
                  <a:lnTo>
                    <a:pt x="374" y="1116"/>
                  </a:lnTo>
                  <a:lnTo>
                    <a:pt x="0" y="1116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10080" y="4056120"/>
              <a:ext cx="479520" cy="896760"/>
            </a:xfrm>
            <a:custGeom>
              <a:avLst/>
              <a:gdLst/>
              <a:ahLst/>
              <a:rect l="l" t="t" r="r" b="b"/>
              <a:pathLst>
                <a:path w="340" h="565">
                  <a:moveTo>
                    <a:pt x="0" y="564"/>
                  </a:moveTo>
                  <a:lnTo>
                    <a:pt x="0" y="0"/>
                  </a:lnTo>
                  <a:lnTo>
                    <a:pt x="339" y="0"/>
                  </a:lnTo>
                  <a:lnTo>
                    <a:pt x="339" y="564"/>
                  </a:lnTo>
                  <a:lnTo>
                    <a:pt x="0" y="564"/>
                  </a:lnTo>
                  <a:lnTo>
                    <a:pt x="0" y="0"/>
                  </a:lnTo>
                  <a:lnTo>
                    <a:pt x="339" y="0"/>
                  </a:lnTo>
                  <a:lnTo>
                    <a:pt x="339" y="564"/>
                  </a:lnTo>
                  <a:lnTo>
                    <a:pt x="0" y="56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47320" y="3179880"/>
              <a:ext cx="496800" cy="1773000"/>
            </a:xfrm>
            <a:custGeom>
              <a:avLst/>
              <a:gdLst/>
              <a:ahLst/>
              <a:rect l="l" t="t" r="r" b="b"/>
              <a:pathLst>
                <a:path w="352" h="1117">
                  <a:moveTo>
                    <a:pt x="0" y="1116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1116"/>
                  </a:lnTo>
                  <a:lnTo>
                    <a:pt x="0" y="1116"/>
                  </a:lnTo>
                  <a:lnTo>
                    <a:pt x="0" y="0"/>
                  </a:lnTo>
                  <a:lnTo>
                    <a:pt x="351" y="0"/>
                  </a:lnTo>
                  <a:lnTo>
                    <a:pt x="351" y="1116"/>
                  </a:lnTo>
                  <a:lnTo>
                    <a:pt x="0" y="1116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41320" y="2519280"/>
              <a:ext cx="478080" cy="2433600"/>
            </a:xfrm>
            <a:custGeom>
              <a:avLst/>
              <a:gdLst/>
              <a:ahLst/>
              <a:rect l="l" t="t" r="r" b="b"/>
              <a:pathLst>
                <a:path w="339" h="1533">
                  <a:moveTo>
                    <a:pt x="0" y="1532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338" y="1532"/>
                  </a:lnTo>
                  <a:lnTo>
                    <a:pt x="0" y="1532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338" y="1532"/>
                  </a:lnTo>
                  <a:lnTo>
                    <a:pt x="0" y="153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65280" y="1676520"/>
              <a:ext cx="479520" cy="3276360"/>
            </a:xfrm>
            <a:custGeom>
              <a:avLst/>
              <a:gdLst/>
              <a:ahLst/>
              <a:rect l="l" t="t" r="r" b="b"/>
              <a:pathLst>
                <a:path w="340" h="2064">
                  <a:moveTo>
                    <a:pt x="0" y="2063"/>
                  </a:moveTo>
                  <a:lnTo>
                    <a:pt x="0" y="0"/>
                  </a:lnTo>
                  <a:lnTo>
                    <a:pt x="339" y="0"/>
                  </a:lnTo>
                  <a:lnTo>
                    <a:pt x="339" y="2063"/>
                  </a:lnTo>
                  <a:lnTo>
                    <a:pt x="0" y="2063"/>
                  </a:lnTo>
                  <a:lnTo>
                    <a:pt x="0" y="0"/>
                  </a:lnTo>
                  <a:lnTo>
                    <a:pt x="339" y="0"/>
                  </a:lnTo>
                  <a:lnTo>
                    <a:pt x="339" y="2063"/>
                  </a:lnTo>
                  <a:lnTo>
                    <a:pt x="0" y="206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43800" y="1855800"/>
              <a:ext cx="478080" cy="3097080"/>
            </a:xfrm>
            <a:custGeom>
              <a:avLst/>
              <a:gdLst/>
              <a:ahLst/>
              <a:rect l="l" t="t" r="r" b="b"/>
              <a:pathLst>
                <a:path w="339" h="1951">
                  <a:moveTo>
                    <a:pt x="0" y="1950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338" y="1950"/>
                  </a:lnTo>
                  <a:lnTo>
                    <a:pt x="0" y="195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338" y="1950"/>
                  </a:lnTo>
                  <a:lnTo>
                    <a:pt x="0" y="195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19440" y="2967120"/>
              <a:ext cx="478080" cy="1985760"/>
            </a:xfrm>
            <a:custGeom>
              <a:avLst/>
              <a:gdLst/>
              <a:ahLst/>
              <a:rect l="l" t="t" r="r" b="b"/>
              <a:pathLst>
                <a:path w="339" h="1251">
                  <a:moveTo>
                    <a:pt x="0" y="1250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338" y="1250"/>
                  </a:lnTo>
                  <a:lnTo>
                    <a:pt x="0" y="125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338" y="1250"/>
                  </a:lnTo>
                  <a:lnTo>
                    <a:pt x="0" y="125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57360" y="2303280"/>
              <a:ext cx="478080" cy="2649600"/>
            </a:xfrm>
            <a:custGeom>
              <a:avLst/>
              <a:gdLst/>
              <a:ahLst/>
              <a:rect l="l" t="t" r="r" b="b"/>
              <a:pathLst>
                <a:path w="339" h="1669">
                  <a:moveTo>
                    <a:pt x="0" y="1668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338" y="1668"/>
                  </a:lnTo>
                  <a:lnTo>
                    <a:pt x="0" y="1668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338" y="1668"/>
                  </a:lnTo>
                  <a:lnTo>
                    <a:pt x="0" y="166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0152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26548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796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955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10000" y="31892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241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4004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5596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71880" y="3189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86000" y="31892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00480" y="31892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19640" y="31892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3376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48240" y="31892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656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797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942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083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24240" y="31892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1960" y="3189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5608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0560" y="31892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879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204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165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3388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4836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64280" y="31892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784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943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10240" y="3189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2436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4028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562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7068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848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02520" y="31892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16640" y="31892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34000" y="31892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4848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626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78520" y="31892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9300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0892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24840" y="318924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38960" y="3189240"/>
            <a:ext cx="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5488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72240" y="3189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86720" y="318924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45480" y="4962600"/>
            <a:ext cx="185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 Peak  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38080" y="49626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21960" y="5351400"/>
            <a:ext cx="107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20600" y="5351400"/>
            <a:ext cx="1482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13320" y="5351400"/>
            <a:ext cx="131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19840" y="4962600"/>
            <a:ext cx="131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  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23120" y="4962600"/>
            <a:ext cx="131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  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43240" y="5372280"/>
            <a:ext cx="17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13120" y="5372280"/>
            <a:ext cx="11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03880" y="5372280"/>
            <a:ext cx="14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62000" y="2562120"/>
            <a:ext cx="3044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bi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00000">
            <a:off x="-21600" y="2912400"/>
            <a:ext cx="194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N retain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g 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640160" y="1359000"/>
            <a:ext cx="501480" cy="3746520"/>
            <a:chOff x="1640160" y="1359000"/>
            <a:chExt cx="501480" cy="3746520"/>
          </a:xfrm>
        </p:grpSpPr>
        <p:sp>
          <p:nvSpPr>
            <p:cNvPr id="605" name=""/>
            <p:cNvSpPr/>
            <p:nvPr/>
          </p:nvSpPr>
          <p:spPr>
            <a:xfrm>
              <a:off x="1640160" y="1359000"/>
              <a:ext cx="50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40160" y="2502000"/>
              <a:ext cx="50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40160" y="3645000"/>
              <a:ext cx="50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92800" y="471168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292480" y="3162240"/>
            <a:ext cx="5440320" cy="0"/>
          </a:xfrm>
          <a:prstGeom prst="line">
            <a:avLst/>
          </a:prstGeom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5280" y="44280"/>
            <a:ext cx="7705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requireme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bial protein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46720" y="552600"/>
            <a:ext cx="1521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Orskov 197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95A6-01C1-4295-A445-EC15F19C4B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971280" y="2276280"/>
            <a:ext cx="6970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idosis and its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1E57-800B-4B8E-9357-35F95BB4B83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551880" y="1295280"/>
            <a:ext cx="7233840" cy="4368600"/>
            <a:chOff x="551880" y="1295280"/>
            <a:chExt cx="7233840" cy="4368600"/>
          </a:xfrm>
        </p:grpSpPr>
        <p:sp>
          <p:nvSpPr>
            <p:cNvPr id="614" name=""/>
            <p:cNvSpPr/>
            <p:nvPr/>
          </p:nvSpPr>
          <p:spPr>
            <a:xfrm>
              <a:off x="2981880" y="5148360"/>
              <a:ext cx="4803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ake of supplement (kg/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17520" y="2365920"/>
              <a:ext cx="7430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355720" y="3267360"/>
              <a:ext cx="590040" cy="980280"/>
            </a:xfrm>
            <a:prstGeom prst="line">
              <a:avLst/>
            </a:prstGeom>
            <a:ln w="255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983760" y="4315320"/>
              <a:ext cx="868320" cy="85680"/>
            </a:xfrm>
            <a:prstGeom prst="line">
              <a:avLst/>
            </a:prstGeom>
            <a:ln w="255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2969280" y="4377240"/>
              <a:ext cx="983880" cy="63360"/>
            </a:xfrm>
            <a:prstGeom prst="line">
              <a:avLst/>
            </a:prstGeom>
            <a:ln w="255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2695320" y="4677840"/>
              <a:ext cx="4065480" cy="394920"/>
              <a:chOff x="2695320" y="4677840"/>
              <a:chExt cx="4065480" cy="394920"/>
            </a:xfrm>
          </p:grpSpPr>
          <p:sp>
            <p:nvSpPr>
              <p:cNvPr id="620" name=""/>
              <p:cNvSpPr/>
              <p:nvPr/>
            </p:nvSpPr>
            <p:spPr>
              <a:xfrm>
                <a:off x="6259320" y="4677840"/>
                <a:ext cx="501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083560" y="4677840"/>
                <a:ext cx="501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79000" y="4677840"/>
                <a:ext cx="501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695320" y="4677840"/>
                <a:ext cx="501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695320" y="4678920"/>
                <a:ext cx="501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966400" y="4547160"/>
              <a:ext cx="4166640" cy="65880"/>
              <a:chOff x="2966400" y="4547160"/>
              <a:chExt cx="4166640" cy="65880"/>
            </a:xfrm>
          </p:grpSpPr>
          <p:sp>
            <p:nvSpPr>
              <p:cNvPr id="626" name=""/>
              <p:cNvSpPr/>
              <p:nvPr/>
            </p:nvSpPr>
            <p:spPr>
              <a:xfrm>
                <a:off x="2966400" y="4547160"/>
                <a:ext cx="0" cy="32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568680" y="4561560"/>
                <a:ext cx="0" cy="41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148280" y="4547160"/>
                <a:ext cx="0" cy="32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48760" y="4561560"/>
                <a:ext cx="0" cy="41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347080" y="4547160"/>
                <a:ext cx="0" cy="32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51520" y="4561560"/>
                <a:ext cx="0" cy="41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32920" y="4547160"/>
                <a:ext cx="0" cy="32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133040" y="4561560"/>
                <a:ext cx="0" cy="41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83680" y="4613040"/>
                <a:ext cx="4107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076480" y="1295280"/>
              <a:ext cx="639360" cy="3630240"/>
              <a:chOff x="2076480" y="1295280"/>
              <a:chExt cx="639360" cy="3630240"/>
            </a:xfrm>
          </p:grpSpPr>
          <p:sp>
            <p:nvSpPr>
              <p:cNvPr id="636" name=""/>
              <p:cNvSpPr/>
              <p:nvPr/>
            </p:nvSpPr>
            <p:spPr>
              <a:xfrm>
                <a:off x="2120760" y="4470840"/>
                <a:ext cx="588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31000" y="3678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206800" y="288468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76480" y="209196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077200" y="129528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2953440" y="1403280"/>
              <a:ext cx="55800" cy="3223440"/>
              <a:chOff x="2953440" y="1403280"/>
              <a:chExt cx="55800" cy="3223440"/>
            </a:xfrm>
          </p:grpSpPr>
          <p:sp>
            <p:nvSpPr>
              <p:cNvPr id="642" name=""/>
              <p:cNvSpPr/>
              <p:nvPr/>
            </p:nvSpPr>
            <p:spPr>
              <a:xfrm>
                <a:off x="2983320" y="4613040"/>
                <a:ext cx="25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53440" y="4205160"/>
                <a:ext cx="42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83320" y="3816000"/>
                <a:ext cx="25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53440" y="3431880"/>
                <a:ext cx="42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83320" y="3025440"/>
                <a:ext cx="25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53440" y="2615760"/>
                <a:ext cx="42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983320" y="2231280"/>
                <a:ext cx="25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953440" y="1843920"/>
                <a:ext cx="42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983320" y="1437480"/>
                <a:ext cx="25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2966400" y="1403280"/>
                <a:ext cx="0" cy="3223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V="1">
              <a:off x="2969280" y="3490920"/>
              <a:ext cx="1002240" cy="9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05920" y="4370040"/>
              <a:ext cx="99360" cy="98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3983760" y="2331720"/>
              <a:ext cx="823680" cy="120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591160" y="1802160"/>
              <a:ext cx="401040" cy="65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96520" y="1837440"/>
              <a:ext cx="6393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82680" y="4339080"/>
              <a:ext cx="312840" cy="37800"/>
            </a:xfrm>
            <a:prstGeom prst="line">
              <a:avLst/>
            </a:prstGeom>
            <a:ln w="255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225760" y="4204080"/>
              <a:ext cx="118440" cy="206280"/>
            </a:xfrm>
            <a:prstGeom prst="line">
              <a:avLst/>
            </a:prstGeom>
            <a:ln w="255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2921760" y="3242160"/>
              <a:ext cx="3053160" cy="1213200"/>
              <a:chOff x="2921760" y="3242160"/>
              <a:chExt cx="3053160" cy="12132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921760" y="3242160"/>
                <a:ext cx="3053160" cy="1213200"/>
                <a:chOff x="2921760" y="3242160"/>
                <a:chExt cx="3053160" cy="1213200"/>
              </a:xfrm>
            </p:grpSpPr>
            <p:sp>
              <p:nvSpPr>
                <p:cNvPr id="661" name=""/>
                <p:cNvSpPr/>
                <p:nvPr/>
              </p:nvSpPr>
              <p:spPr>
                <a:xfrm flipV="1">
                  <a:off x="3021480" y="4365000"/>
                  <a:ext cx="916200" cy="84240"/>
                </a:xfrm>
                <a:prstGeom prst="line">
                  <a:avLst/>
                </a:prstGeom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921760" y="4381200"/>
                  <a:ext cx="68760" cy="74160"/>
                </a:xfrm>
                <a:prstGeom prst="ellipse">
                  <a:avLst/>
                </a:prstGeom>
                <a:solidFill>
                  <a:srgbClr val="3366cc"/>
                </a:solidFill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3999240" y="4302720"/>
                  <a:ext cx="837360" cy="109440"/>
                </a:xfrm>
                <a:prstGeom prst="line">
                  <a:avLst/>
                </a:prstGeom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934080" y="4341240"/>
                  <a:ext cx="65160" cy="75600"/>
                </a:xfrm>
                <a:prstGeom prst="ellipse">
                  <a:avLst/>
                </a:prstGeom>
                <a:solidFill>
                  <a:srgbClr val="3366cc"/>
                </a:solidFill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898160" y="4350240"/>
                  <a:ext cx="281520" cy="14760"/>
                </a:xfrm>
                <a:prstGeom prst="line">
                  <a:avLst/>
                </a:prstGeom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833000" y="4278960"/>
                  <a:ext cx="66600" cy="75600"/>
                </a:xfrm>
                <a:prstGeom prst="ellipse">
                  <a:avLst/>
                </a:prstGeom>
                <a:solidFill>
                  <a:srgbClr val="3366cc"/>
                </a:solidFill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178240" y="4341240"/>
                  <a:ext cx="65160" cy="75600"/>
                </a:xfrm>
                <a:prstGeom prst="ellipse">
                  <a:avLst/>
                </a:prstGeom>
                <a:solidFill>
                  <a:srgbClr val="3366cc"/>
                </a:solidFill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5369760" y="3255120"/>
                  <a:ext cx="561600" cy="1004400"/>
                </a:xfrm>
                <a:prstGeom prst="line">
                  <a:avLst/>
                </a:prstGeom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304600" y="4178160"/>
                  <a:ext cx="66600" cy="74160"/>
                </a:xfrm>
                <a:prstGeom prst="ellipse">
                  <a:avLst/>
                </a:prstGeom>
                <a:solidFill>
                  <a:srgbClr val="3366cc"/>
                </a:solidFill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904360" y="3242160"/>
                  <a:ext cx="70560" cy="73800"/>
                </a:xfrm>
                <a:prstGeom prst="ellipse">
                  <a:avLst/>
                </a:prstGeom>
                <a:solidFill>
                  <a:srgbClr val="3366cc"/>
                </a:solidFill>
                <a:ln w="50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" name=""/>
              <p:cNvSpPr/>
              <p:nvPr/>
            </p:nvSpPr>
            <p:spPr>
              <a:xfrm flipV="1">
                <a:off x="5241600" y="4191120"/>
                <a:ext cx="88200" cy="230040"/>
              </a:xfrm>
              <a:prstGeom prst="line">
                <a:avLst/>
              </a:prstGeom>
              <a:ln w="507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551880" y="1896480"/>
              <a:ext cx="18424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veweigh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ain (g/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2983680" y="1775520"/>
              <a:ext cx="3700080" cy="2689560"/>
              <a:chOff x="2983680" y="1775520"/>
              <a:chExt cx="3700080" cy="2689560"/>
            </a:xfrm>
          </p:grpSpPr>
          <p:sp>
            <p:nvSpPr>
              <p:cNvPr id="674" name=""/>
              <p:cNvSpPr/>
              <p:nvPr/>
            </p:nvSpPr>
            <p:spPr>
              <a:xfrm flipV="1">
                <a:off x="2983680" y="3513960"/>
                <a:ext cx="933840" cy="95112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3998520" y="2318760"/>
                <a:ext cx="793800" cy="122760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33360" y="3463200"/>
                <a:ext cx="65160" cy="78480"/>
              </a:xfrm>
              <a:prstGeom prst="ellipse">
                <a:avLst/>
              </a:prstGeom>
              <a:solidFill>
                <a:srgbClr val="00ff00"/>
              </a:solidFill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833000" y="2376720"/>
                <a:ext cx="711720" cy="3384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69640" y="2304000"/>
                <a:ext cx="67320" cy="77040"/>
              </a:xfrm>
              <a:prstGeom prst="ellipse">
                <a:avLst/>
              </a:prstGeom>
              <a:solidFill>
                <a:srgbClr val="00ff00"/>
              </a:solidFill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5606280" y="1790280"/>
                <a:ext cx="370080" cy="67680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40760" y="2385360"/>
                <a:ext cx="66960" cy="75600"/>
              </a:xfrm>
              <a:prstGeom prst="ellipse">
                <a:avLst/>
              </a:prstGeom>
              <a:solidFill>
                <a:srgbClr val="00ff00"/>
              </a:solidFill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13080" y="1847880"/>
                <a:ext cx="605880" cy="15732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49360" y="1775520"/>
                <a:ext cx="67320" cy="73800"/>
              </a:xfrm>
              <a:prstGeom prst="ellipse">
                <a:avLst/>
              </a:prstGeom>
              <a:solidFill>
                <a:srgbClr val="00ff00"/>
              </a:solidFill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15360" y="1978560"/>
                <a:ext cx="68400" cy="74160"/>
              </a:xfrm>
              <a:prstGeom prst="ellipse">
                <a:avLst/>
              </a:prstGeom>
              <a:solidFill>
                <a:srgbClr val="00ff00"/>
              </a:solidFill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5734080" y="36666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ar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43000" y="238536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Lup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5504760" y="981000"/>
            <a:ext cx="327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From Rowe and Aitchison 198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4440" y="115920"/>
            <a:ext cx="8305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ementation with barley or lupin grain  (2x/week) sheep fed chaff + 1% 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D174-6040-4D93-AA0F-5E59AF06AA2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421400" y="4859280"/>
            <a:ext cx="41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73760" y="4859280"/>
            <a:ext cx="41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26120" y="4859280"/>
            <a:ext cx="41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35360" y="4859280"/>
            <a:ext cx="29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05000" y="4859280"/>
            <a:ext cx="29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57360" y="4859280"/>
            <a:ext cx="29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609720" y="4859280"/>
            <a:ext cx="29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62080" y="4859280"/>
            <a:ext cx="29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10356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417840" y="4706640"/>
            <a:ext cx="0" cy="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75120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065480" y="4706640"/>
            <a:ext cx="0" cy="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39884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13120" y="4706640"/>
            <a:ext cx="0" cy="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04684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5361120" y="4706640"/>
            <a:ext cx="0" cy="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67540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008760" y="4706640"/>
            <a:ext cx="0" cy="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632304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657840" y="4706640"/>
            <a:ext cx="0" cy="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97248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5840" y="4706640"/>
            <a:ext cx="0" cy="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7620120" y="47066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03560" y="4732200"/>
            <a:ext cx="450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4320" y="4581360"/>
            <a:ext cx="41292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14320" y="4067280"/>
            <a:ext cx="41292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4320" y="3538440"/>
            <a:ext cx="41292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14320" y="2990880"/>
            <a:ext cx="41292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14320" y="2462040"/>
            <a:ext cx="41292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14320" y="1914480"/>
            <a:ext cx="41292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14320" y="1386000"/>
            <a:ext cx="41292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03440" y="836640"/>
            <a:ext cx="528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004920" y="473220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043080" y="4468680"/>
            <a:ext cx="6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004920" y="421812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043080" y="3952800"/>
            <a:ext cx="6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004920" y="368928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043080" y="3425760"/>
            <a:ext cx="6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004920" y="314172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043080" y="2876400"/>
            <a:ext cx="6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3004920" y="261288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043080" y="2328840"/>
            <a:ext cx="6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3004920" y="206388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043080" y="1800360"/>
            <a:ext cx="6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004920" y="153684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043080" y="1252440"/>
            <a:ext cx="6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004920" y="98748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103560" y="961920"/>
            <a:ext cx="0" cy="38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429000" y="1348920"/>
            <a:ext cx="776160" cy="150840"/>
          </a:xfrm>
          <a:prstGeom prst="line">
            <a:avLst/>
          </a:prstGeom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73560" y="1427040"/>
            <a:ext cx="73080" cy="79560"/>
          </a:xfrm>
          <a:prstGeom prst="ellipse">
            <a:avLst/>
          </a:prstGeom>
          <a:noFill/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43320" y="1387440"/>
            <a:ext cx="1101960" cy="1085760"/>
          </a:xfrm>
          <a:prstGeom prst="line">
            <a:avLst/>
          </a:prstGeom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87880" y="1325520"/>
            <a:ext cx="135000" cy="142920"/>
          </a:xfrm>
          <a:prstGeom prst="ellipse">
            <a:avLst/>
          </a:prstGeom>
          <a:solidFill>
            <a:srgbClr val="00ff00"/>
          </a:solidFill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72280" y="2516040"/>
            <a:ext cx="2220840" cy="498600"/>
          </a:xfrm>
          <a:prstGeom prst="line">
            <a:avLst/>
          </a:prstGeom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16480" y="2443320"/>
            <a:ext cx="73080" cy="77760"/>
          </a:xfrm>
          <a:prstGeom prst="ellipse">
            <a:avLst/>
          </a:prstGeom>
          <a:noFill/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74040" y="2990880"/>
            <a:ext cx="74520" cy="79200"/>
          </a:xfrm>
          <a:prstGeom prst="ellipse">
            <a:avLst/>
          </a:prstGeom>
          <a:noFill/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1792440"/>
            <a:ext cx="787320" cy="94428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92640" y="1312920"/>
            <a:ext cx="34920" cy="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5480" y="1325520"/>
            <a:ext cx="0" cy="80964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09920" y="2185920"/>
            <a:ext cx="36720" cy="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81480" y="1658880"/>
            <a:ext cx="110880" cy="122400"/>
          </a:xfrm>
          <a:custGeom>
            <a:avLst/>
            <a:gdLst/>
            <a:ahLst/>
            <a:rect l="l" t="t" r="r" b="b"/>
            <a:pathLst>
              <a:path w="79" h="77">
                <a:moveTo>
                  <a:pt x="39" y="0"/>
                </a:moveTo>
                <a:lnTo>
                  <a:pt x="78" y="76"/>
                </a:lnTo>
                <a:lnTo>
                  <a:pt x="0" y="76"/>
                </a:lnTo>
                <a:lnTo>
                  <a:pt x="39" y="0"/>
                </a:lnTo>
              </a:path>
            </a:pathLst>
          </a:custGeom>
          <a:noFill/>
          <a:ln cap="rnd" w="50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43320" y="2706840"/>
            <a:ext cx="1101960" cy="130968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06960" y="2287440"/>
            <a:ext cx="34920" cy="0"/>
          </a:xfrm>
          <a:prstGeom prst="line">
            <a:avLst/>
          </a:prstGeom>
          <a:ln w="507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232160" y="2300400"/>
            <a:ext cx="0" cy="81108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06960" y="3121200"/>
            <a:ext cx="34920" cy="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76720" y="2654280"/>
            <a:ext cx="111240" cy="122400"/>
          </a:xfrm>
          <a:custGeom>
            <a:avLst/>
            <a:gdLst/>
            <a:ahLst/>
            <a:rect l="l" t="t" r="r" b="b"/>
            <a:pathLst>
              <a:path w="79" h="77">
                <a:moveTo>
                  <a:pt x="39" y="0"/>
                </a:moveTo>
                <a:lnTo>
                  <a:pt x="78" y="76"/>
                </a:lnTo>
                <a:lnTo>
                  <a:pt x="0" y="76"/>
                </a:lnTo>
                <a:lnTo>
                  <a:pt x="39" y="0"/>
                </a:lnTo>
              </a:path>
            </a:pathLst>
          </a:custGeom>
          <a:noFill/>
          <a:ln cap="rnd" w="50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3608280"/>
            <a:ext cx="36720" cy="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61120" y="3621240"/>
            <a:ext cx="0" cy="83016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35560" y="4448160"/>
            <a:ext cx="3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05320" y="3973680"/>
            <a:ext cx="112680" cy="123480"/>
          </a:xfrm>
          <a:custGeom>
            <a:avLst/>
            <a:gdLst/>
            <a:ahLst/>
            <a:rect l="l" t="t" r="r" b="b"/>
            <a:pathLst>
              <a:path w="80" h="78">
                <a:moveTo>
                  <a:pt x="39" y="0"/>
                </a:moveTo>
                <a:lnTo>
                  <a:pt x="79" y="77"/>
                </a:lnTo>
                <a:lnTo>
                  <a:pt x="0" y="77"/>
                </a:lnTo>
                <a:lnTo>
                  <a:pt x="39" y="0"/>
                </a:lnTo>
              </a:path>
            </a:pathLst>
          </a:custGeom>
          <a:noFill/>
          <a:ln cap="rnd" w="50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21520" y="5151600"/>
            <a:ext cx="4104360" cy="515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of feeding (d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30480" y="2332080"/>
            <a:ext cx="1504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we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(g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18880" y="3994200"/>
            <a:ext cx="1187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ar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35520" y="2165400"/>
            <a:ext cx="1249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u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29840" y="115920"/>
            <a:ext cx="871380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tion with barley or lupin grain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quiv 200 g/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21960" y="476280"/>
            <a:ext cx="211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Godfrey et al.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272200" y="2392200"/>
            <a:ext cx="135000" cy="142920"/>
          </a:xfrm>
          <a:prstGeom prst="ellipse">
            <a:avLst/>
          </a:prstGeom>
          <a:solidFill>
            <a:srgbClr val="00ff00"/>
          </a:solidFill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74040" y="2925720"/>
            <a:ext cx="136440" cy="142920"/>
          </a:xfrm>
          <a:prstGeom prst="ellipse">
            <a:avLst/>
          </a:prstGeom>
          <a:solidFill>
            <a:srgbClr val="00ff00"/>
          </a:solidFill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375000" y="1401840"/>
            <a:ext cx="135000" cy="142920"/>
          </a:xfrm>
          <a:prstGeom prst="ellipse">
            <a:avLst/>
          </a:prstGeom>
          <a:solidFill>
            <a:srgbClr val="00ff00"/>
          </a:solidFill>
          <a:ln w="5076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1645-5AD7-4A78-A0C3-9493BB8EDDA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219320" y="404640"/>
            <a:ext cx="686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pins: an excellent source of digestible energy without starch and without acid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2120" y="2852640"/>
            <a:ext cx="766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Dietary energy withou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fermentative acid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8E04-E8AA-4B93-BA3F-F66CDDBB0EE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885960" y="158760"/>
            <a:ext cx="6999120" cy="5824080"/>
            <a:chOff x="885960" y="158760"/>
            <a:chExt cx="6999120" cy="5824080"/>
          </a:xfrm>
        </p:grpSpPr>
        <p:sp>
          <p:nvSpPr>
            <p:cNvPr id="769" name=""/>
            <p:cNvSpPr/>
            <p:nvPr/>
          </p:nvSpPr>
          <p:spPr>
            <a:xfrm>
              <a:off x="4103280" y="1233000"/>
              <a:ext cx="1797480" cy="179028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58120" y="1536480"/>
              <a:ext cx="484920" cy="46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488040" y="2014920"/>
              <a:ext cx="734760" cy="1262520"/>
              <a:chOff x="3488040" y="2014920"/>
              <a:chExt cx="734760" cy="126252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3489480" y="2014920"/>
                <a:ext cx="733320" cy="1262520"/>
                <a:chOff x="3489480" y="2014920"/>
                <a:chExt cx="733320" cy="12625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3489480" y="2014920"/>
                  <a:ext cx="585720" cy="126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48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482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489480" y="2331720"/>
                  <a:ext cx="733320" cy="62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>
                <a:off x="3935520" y="2014920"/>
                <a:ext cx="285480" cy="126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3" y="0"/>
                    </a:moveTo>
                    <a:arcTo wR="10800" hR="10800" stAng="-5430970" swAng="5430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3" y="0"/>
                    </a:moveTo>
                    <a:arcTo wR="10800" hR="10800" stAng="-5430970" swAng="543097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488040" y="2331720"/>
                <a:ext cx="733320" cy="62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3365640" y="1239120"/>
              <a:ext cx="3708360" cy="2110680"/>
              <a:chOff x="3365640" y="1239120"/>
              <a:chExt cx="3708360" cy="2110680"/>
            </a:xfrm>
          </p:grpSpPr>
          <p:sp>
            <p:nvSpPr>
              <p:cNvPr id="778" name=""/>
              <p:cNvSpPr/>
              <p:nvPr/>
            </p:nvSpPr>
            <p:spPr>
              <a:xfrm>
                <a:off x="4170600" y="1239120"/>
                <a:ext cx="2096280" cy="21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7" y="0"/>
                    </a:moveTo>
                    <a:arcTo wR="10800" hR="10800" stAng="-5404233" swAng="5404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7" y="0"/>
                    </a:moveTo>
                    <a:arcTo wR="10800" hR="10800" stAng="-5404233" swAng="540423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33240" y="2186640"/>
                <a:ext cx="2344320" cy="77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11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1107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542120" y="1627920"/>
                <a:ext cx="1724760" cy="133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3365640" y="1239120"/>
                <a:ext cx="3708360" cy="1105560"/>
                <a:chOff x="3365640" y="1239120"/>
                <a:chExt cx="3708360" cy="11055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3365640" y="1239120"/>
                  <a:ext cx="3708360" cy="110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76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760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365640" y="1350000"/>
                  <a:ext cx="484920" cy="88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1870920" y="1644480"/>
              <a:ext cx="1860840" cy="8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68" swAng="54047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68" swAng="54047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24920" y="1537560"/>
              <a:ext cx="1863720" cy="8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58" swAng="5394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58" swAng="5394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09760" y="1775160"/>
              <a:ext cx="2592000" cy="14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55320" y="2432520"/>
              <a:ext cx="2343960" cy="130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786" swAng="5403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786" swAng="54037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48160" y="3088080"/>
              <a:ext cx="113400" cy="10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6868440" y="1964160"/>
              <a:ext cx="299160" cy="1739880"/>
              <a:chOff x="6868440" y="1964160"/>
              <a:chExt cx="299160" cy="173988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6868440" y="1964160"/>
                <a:ext cx="299160" cy="1739880"/>
                <a:chOff x="6868440" y="1964160"/>
                <a:chExt cx="299160" cy="173988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868440" y="1964160"/>
                  <a:ext cx="237240" cy="173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868440" y="2403000"/>
                  <a:ext cx="299160" cy="86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036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7053480" y="1964160"/>
                <a:ext cx="112680" cy="173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68800" y="2403000"/>
                <a:ext cx="298440" cy="86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7" y="0"/>
                    </a:moveTo>
                    <a:arcTo wR="10800" hR="10800" stAng="-5429635" swAng="54296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7" y="0"/>
                    </a:moveTo>
                    <a:arcTo wR="10800" hR="10800" stAng="-5429635" swAng="542963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2001600" y="3148920"/>
              <a:ext cx="5830200" cy="706320"/>
              <a:chOff x="2001600" y="3148920"/>
              <a:chExt cx="5830200" cy="70632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2296080" y="3148920"/>
                <a:ext cx="5535720" cy="346680"/>
                <a:chOff x="2296080" y="3148920"/>
                <a:chExt cx="5535720" cy="34668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2296080" y="3148920"/>
                  <a:ext cx="5535720" cy="346680"/>
                  <a:chOff x="2296080" y="3148920"/>
                  <a:chExt cx="5535720" cy="346680"/>
                </a:xfrm>
              </p:grpSpPr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296080" y="3148920"/>
                    <a:ext cx="5535000" cy="299160"/>
                    <a:chOff x="2296080" y="3148920"/>
                    <a:chExt cx="5535000" cy="299160"/>
                  </a:xfrm>
                </p:grpSpPr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2296080" y="3172320"/>
                      <a:ext cx="5535000" cy="275760"/>
                      <a:chOff x="2296080" y="3172320"/>
                      <a:chExt cx="5535000" cy="275760"/>
                    </a:xfrm>
                  </p:grpSpPr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2532240" y="3310200"/>
                        <a:ext cx="5298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9832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9832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200" bIns="34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01" name=""/>
                      <p:cNvGrpSpPr/>
                      <p:nvPr/>
                    </p:nvGrpSpPr>
                    <p:grpSpPr>
                      <a:xfrm>
                        <a:off x="2296080" y="3172320"/>
                        <a:ext cx="5475600" cy="275760"/>
                        <a:chOff x="2296080" y="3172320"/>
                        <a:chExt cx="5475600" cy="275760"/>
                      </a:xfrm>
                    </p:grpSpPr>
                    <p:grpSp>
                      <p:nvGrpSpPr>
                        <p:cNvPr id="802" name=""/>
                        <p:cNvGrpSpPr/>
                        <p:nvPr/>
                      </p:nvGrpSpPr>
                      <p:grpSpPr>
                        <a:xfrm>
                          <a:off x="4654080" y="3172320"/>
                          <a:ext cx="934200" cy="150840"/>
                          <a:chOff x="4654080" y="3172320"/>
                          <a:chExt cx="934200" cy="150840"/>
                        </a:xfrm>
                      </p:grpSpPr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>
                            <a:off x="5244120" y="3172320"/>
                            <a:ext cx="34236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343183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343183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>
                            <a:off x="4654080" y="3204720"/>
                            <a:ext cx="93420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21595" y="10477"/>
                                </a:moveTo>
                                <a:arcTo wR="10800" hR="10800" stAng="-102730" swAng="5512384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21595" y="10477"/>
                                </a:moveTo>
                                <a:arcTo wR="10800" hR="10800" stAng="-102730" swAng="5512384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>
                          <a:off x="2472840" y="3299040"/>
                          <a:ext cx="5298840" cy="8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9832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98325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200" bIns="34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>
                          <a:off x="2296080" y="3344760"/>
                          <a:ext cx="342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07" name=""/>
                    <p:cNvGrpSpPr/>
                    <p:nvPr/>
                  </p:nvGrpSpPr>
                  <p:grpSpPr>
                    <a:xfrm>
                      <a:off x="4477320" y="3148920"/>
                      <a:ext cx="1170360" cy="195480"/>
                      <a:chOff x="4477320" y="3148920"/>
                      <a:chExt cx="1170360" cy="195480"/>
                    </a:xfrm>
                  </p:grpSpPr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5217840" y="3148920"/>
                        <a:ext cx="42984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36" y="0"/>
                            </a:moveTo>
                            <a:arcTo wR="10800" hR="10800" stAng="-5420393" swAng="53764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36" y="0"/>
                            </a:moveTo>
                            <a:arcTo wR="10800" hR="10800" stAng="-5420393" swAng="5376472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4477320" y="3192120"/>
                        <a:ext cx="116892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10" name=""/>
                  <p:cNvSpPr/>
                  <p:nvPr/>
                </p:nvSpPr>
                <p:spPr>
                  <a:xfrm>
                    <a:off x="2414520" y="3345120"/>
                    <a:ext cx="3430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41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415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2472840" y="3401280"/>
                    <a:ext cx="5358960" cy="94320"/>
                    <a:chOff x="2472840" y="3401280"/>
                    <a:chExt cx="5358960" cy="9432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2532240" y="3401280"/>
                      <a:ext cx="529956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675" swAng="539832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675" swAng="5398325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2472840" y="3414960"/>
                      <a:ext cx="529956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701" swAng="550086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701" swAng="5500863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4" name=""/>
                  <p:cNvSpPr/>
                  <p:nvPr/>
                </p:nvSpPr>
                <p:spPr>
                  <a:xfrm>
                    <a:off x="2296080" y="3344040"/>
                    <a:ext cx="342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2414520" y="3333960"/>
                  <a:ext cx="224280" cy="10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80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808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2001600" y="3508200"/>
                <a:ext cx="5535720" cy="347040"/>
                <a:chOff x="2001600" y="3508200"/>
                <a:chExt cx="5535720" cy="34704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2001600" y="3508200"/>
                  <a:ext cx="5535720" cy="347040"/>
                  <a:chOff x="2001600" y="3508200"/>
                  <a:chExt cx="5535720" cy="34704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2001600" y="3508200"/>
                    <a:ext cx="5535720" cy="299160"/>
                    <a:chOff x="2001600" y="3508200"/>
                    <a:chExt cx="5535720" cy="299160"/>
                  </a:xfrm>
                </p:grpSpPr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2001600" y="3530160"/>
                      <a:ext cx="5535720" cy="277200"/>
                      <a:chOff x="2001600" y="3530160"/>
                      <a:chExt cx="5535720" cy="277200"/>
                    </a:xfrm>
                  </p:grpSpPr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2237760" y="3669120"/>
                        <a:ext cx="52995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9832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9832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21" name=""/>
                      <p:cNvGrpSpPr/>
                      <p:nvPr/>
                    </p:nvGrpSpPr>
                    <p:grpSpPr>
                      <a:xfrm>
                        <a:off x="2001600" y="3530160"/>
                        <a:ext cx="5475960" cy="277200"/>
                        <a:chOff x="2001600" y="3530160"/>
                        <a:chExt cx="5475960" cy="277200"/>
                      </a:xfrm>
                    </p:grpSpPr>
                    <p:grpSp>
                      <p:nvGrpSpPr>
                        <p:cNvPr id="822" name=""/>
                        <p:cNvGrpSpPr/>
                        <p:nvPr/>
                      </p:nvGrpSpPr>
                      <p:grpSpPr>
                        <a:xfrm>
                          <a:off x="4359960" y="3530160"/>
                          <a:ext cx="934200" cy="150840"/>
                          <a:chOff x="4359960" y="3530160"/>
                          <a:chExt cx="934200" cy="150840"/>
                        </a:xfrm>
                      </p:grpSpPr>
                      <p:sp>
                        <p:nvSpPr>
                          <p:cNvPr id="823" name=""/>
                          <p:cNvSpPr/>
                          <p:nvPr/>
                        </p:nvSpPr>
                        <p:spPr>
                          <a:xfrm>
                            <a:off x="4950000" y="3530160"/>
                            <a:ext cx="342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4" name=""/>
                          <p:cNvSpPr/>
                          <p:nvPr/>
                        </p:nvSpPr>
                        <p:spPr>
                          <a:xfrm>
                            <a:off x="4359960" y="3564000"/>
                            <a:ext cx="934200" cy="80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21600" y="10800"/>
                                </a:moveTo>
                                <a:arcTo wR="10800" hR="10800" stAng="0" swAng="540951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21600" y="10800"/>
                                </a:moveTo>
                                <a:arcTo wR="10800" hR="10800" stAng="0" swAng="5409510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3840" bIns="33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>
                          <a:off x="2178720" y="3656880"/>
                          <a:ext cx="529884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5" y="10478"/>
                              </a:moveTo>
                              <a:arcTo wR="10800" hR="10800" stAng="-10697436" swAng="529578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5" y="10478"/>
                              </a:moveTo>
                              <a:arcTo wR="10800" hR="10800" stAng="-10697436" swAng="5295786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2001600" y="3704040"/>
                          <a:ext cx="34308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4183200" y="3508200"/>
                      <a:ext cx="1170000" cy="195480"/>
                      <a:chOff x="4183200" y="3508200"/>
                      <a:chExt cx="1170000" cy="195480"/>
                    </a:xfrm>
                  </p:grpSpPr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4923000" y="3508200"/>
                        <a:ext cx="43020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36" y="0"/>
                            </a:moveTo>
                            <a:arcTo wR="10800" hR="10800" stAng="-5420393" swAng="53764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36" y="0"/>
                            </a:moveTo>
                            <a:arcTo wR="10800" hR="10800" stAng="-5420393" swAng="5376472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4183200" y="3553200"/>
                        <a:ext cx="1168920" cy="10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7" y="10552"/>
                            </a:moveTo>
                            <a:arcTo wR="10800" hR="10800" stAng="-79015" swAng="5479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7" y="10552"/>
                            </a:moveTo>
                            <a:arcTo wR="10800" hR="10800" stAng="-79015" swAng="547901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30" name=""/>
                  <p:cNvSpPr/>
                  <p:nvPr/>
                </p:nvSpPr>
                <p:spPr>
                  <a:xfrm>
                    <a:off x="2119320" y="3704400"/>
                    <a:ext cx="342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41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415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2178720" y="3760200"/>
                    <a:ext cx="5357880" cy="95040"/>
                    <a:chOff x="2178720" y="3760200"/>
                    <a:chExt cx="5357880" cy="9504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2237760" y="3760200"/>
                      <a:ext cx="52988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675" swAng="539832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675" swAng="5398325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2178720" y="3773880"/>
                      <a:ext cx="529884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701" swAng="550086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701" swAng="5500863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560" bIns="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4" name=""/>
                  <p:cNvSpPr/>
                  <p:nvPr/>
                </p:nvSpPr>
                <p:spPr>
                  <a:xfrm>
                    <a:off x="2001600" y="3702960"/>
                    <a:ext cx="3430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>
                  <a:off x="2119320" y="3693600"/>
                  <a:ext cx="226440" cy="10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5" y="21599"/>
                      </a:moveTo>
                      <a:arcTo wR="10800" hR="10800" stAng="5439754" swAng="5440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5" y="21599"/>
                      </a:moveTo>
                      <a:arcTo wR="10800" hR="10800" stAng="5439754" swAng="544065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1443600" y="3864960"/>
              <a:ext cx="5830200" cy="706320"/>
              <a:chOff x="1443600" y="3864960"/>
              <a:chExt cx="5830200" cy="706320"/>
            </a:xfrm>
          </p:grpSpPr>
          <p:grpSp>
            <p:nvGrpSpPr>
              <p:cNvPr id="837" name=""/>
              <p:cNvGrpSpPr/>
              <p:nvPr/>
            </p:nvGrpSpPr>
            <p:grpSpPr>
              <a:xfrm>
                <a:off x="1738080" y="3864960"/>
                <a:ext cx="5535720" cy="346680"/>
                <a:chOff x="1738080" y="3864960"/>
                <a:chExt cx="5535720" cy="346680"/>
              </a:xfrm>
            </p:grpSpPr>
            <p:grpSp>
              <p:nvGrpSpPr>
                <p:cNvPr id="838" name=""/>
                <p:cNvGrpSpPr/>
                <p:nvPr/>
              </p:nvGrpSpPr>
              <p:grpSpPr>
                <a:xfrm>
                  <a:off x="1738080" y="3864960"/>
                  <a:ext cx="5535720" cy="346680"/>
                  <a:chOff x="1738080" y="3864960"/>
                  <a:chExt cx="5535720" cy="346680"/>
                </a:xfrm>
              </p:grpSpPr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1738080" y="3864960"/>
                    <a:ext cx="5535000" cy="299160"/>
                    <a:chOff x="1738080" y="3864960"/>
                    <a:chExt cx="5535000" cy="299160"/>
                  </a:xfrm>
                </p:grpSpPr>
                <p:grpSp>
                  <p:nvGrpSpPr>
                    <p:cNvPr id="840" name=""/>
                    <p:cNvGrpSpPr/>
                    <p:nvPr/>
                  </p:nvGrpSpPr>
                  <p:grpSpPr>
                    <a:xfrm>
                      <a:off x="1738080" y="3888360"/>
                      <a:ext cx="5535000" cy="275760"/>
                      <a:chOff x="1738080" y="3888360"/>
                      <a:chExt cx="5535000" cy="275760"/>
                    </a:xfrm>
                  </p:grpSpPr>
                  <p:sp>
                    <p:nvSpPr>
                      <p:cNvPr id="841" name=""/>
                      <p:cNvSpPr/>
                      <p:nvPr/>
                    </p:nvSpPr>
                    <p:spPr>
                      <a:xfrm>
                        <a:off x="1974240" y="4026240"/>
                        <a:ext cx="52988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9832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9832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200" bIns="34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1738080" y="3888360"/>
                        <a:ext cx="5475600" cy="275760"/>
                        <a:chOff x="1738080" y="3888360"/>
                        <a:chExt cx="5475600" cy="27576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4096080" y="3888360"/>
                          <a:ext cx="934200" cy="150840"/>
                          <a:chOff x="4096080" y="3888360"/>
                          <a:chExt cx="934200" cy="150840"/>
                        </a:xfrm>
                      </p:grpSpPr>
                      <p:sp>
                        <p:nvSpPr>
                          <p:cNvPr id="844" name=""/>
                          <p:cNvSpPr/>
                          <p:nvPr/>
                        </p:nvSpPr>
                        <p:spPr>
                          <a:xfrm>
                            <a:off x="4686120" y="3888360"/>
                            <a:ext cx="34236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343183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343183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5" name=""/>
                          <p:cNvSpPr/>
                          <p:nvPr/>
                        </p:nvSpPr>
                        <p:spPr>
                          <a:xfrm>
                            <a:off x="4096080" y="3920760"/>
                            <a:ext cx="93420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21595" y="10477"/>
                                </a:moveTo>
                                <a:arcTo wR="10800" hR="10800" stAng="-102730" swAng="5512384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21595" y="10477"/>
                                </a:moveTo>
                                <a:arcTo wR="10800" hR="10800" stAng="-102730" swAng="5512384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1914840" y="4015080"/>
                          <a:ext cx="5298840" cy="8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9832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98325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200" bIns="34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>
                          <a:off x="1738080" y="4060800"/>
                          <a:ext cx="342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8" name=""/>
                    <p:cNvGrpSpPr/>
                    <p:nvPr/>
                  </p:nvGrpSpPr>
                  <p:grpSpPr>
                    <a:xfrm>
                      <a:off x="3919320" y="3864960"/>
                      <a:ext cx="1170360" cy="195480"/>
                      <a:chOff x="3919320" y="3864960"/>
                      <a:chExt cx="1170360" cy="195480"/>
                    </a:xfrm>
                  </p:grpSpPr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4659840" y="3864960"/>
                        <a:ext cx="42984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36" y="0"/>
                            </a:moveTo>
                            <a:arcTo wR="10800" hR="10800" stAng="-5420393" swAng="53764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36" y="0"/>
                            </a:moveTo>
                            <a:arcTo wR="10800" hR="10800" stAng="-5420393" swAng="5376472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>
                        <a:off x="3919320" y="3908160"/>
                        <a:ext cx="116892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1" name=""/>
                  <p:cNvSpPr/>
                  <p:nvPr/>
                </p:nvSpPr>
                <p:spPr>
                  <a:xfrm>
                    <a:off x="1856520" y="4061160"/>
                    <a:ext cx="3430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41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415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1914840" y="4117320"/>
                    <a:ext cx="5358960" cy="94320"/>
                    <a:chOff x="1914840" y="4117320"/>
                    <a:chExt cx="5358960" cy="94320"/>
                  </a:xfrm>
                </p:grpSpPr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974240" y="4117320"/>
                      <a:ext cx="529956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675" swAng="539832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675" swAng="5398325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1914840" y="4131000"/>
                      <a:ext cx="529956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701" swAng="550086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701" swAng="5500863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5" name=""/>
                  <p:cNvSpPr/>
                  <p:nvPr/>
                </p:nvSpPr>
                <p:spPr>
                  <a:xfrm>
                    <a:off x="1738080" y="4060080"/>
                    <a:ext cx="342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6" name=""/>
                <p:cNvSpPr/>
                <p:nvPr/>
              </p:nvSpPr>
              <p:spPr>
                <a:xfrm>
                  <a:off x="1856520" y="4050000"/>
                  <a:ext cx="224280" cy="10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80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808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1443600" y="4224240"/>
                <a:ext cx="5535720" cy="347040"/>
                <a:chOff x="1443600" y="4224240"/>
                <a:chExt cx="5535720" cy="34704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1443600" y="4224240"/>
                  <a:ext cx="5535720" cy="347040"/>
                  <a:chOff x="1443600" y="4224240"/>
                  <a:chExt cx="5535720" cy="34704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1443600" y="4224240"/>
                    <a:ext cx="5535720" cy="299160"/>
                    <a:chOff x="1443600" y="4224240"/>
                    <a:chExt cx="5535720" cy="299160"/>
                  </a:xfrm>
                </p:grpSpPr>
                <p:grpSp>
                  <p:nvGrpSpPr>
                    <p:cNvPr id="860" name=""/>
                    <p:cNvGrpSpPr/>
                    <p:nvPr/>
                  </p:nvGrpSpPr>
                  <p:grpSpPr>
                    <a:xfrm>
                      <a:off x="1443600" y="4246200"/>
                      <a:ext cx="5535720" cy="277200"/>
                      <a:chOff x="1443600" y="4246200"/>
                      <a:chExt cx="5535720" cy="277200"/>
                    </a:xfrm>
                  </p:grpSpPr>
                  <p:sp>
                    <p:nvSpPr>
                      <p:cNvPr id="861" name=""/>
                      <p:cNvSpPr/>
                      <p:nvPr/>
                    </p:nvSpPr>
                    <p:spPr>
                      <a:xfrm>
                        <a:off x="1679760" y="4385160"/>
                        <a:ext cx="52995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9832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9832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62" name=""/>
                      <p:cNvGrpSpPr/>
                      <p:nvPr/>
                    </p:nvGrpSpPr>
                    <p:grpSpPr>
                      <a:xfrm>
                        <a:off x="1443600" y="4246200"/>
                        <a:ext cx="5475960" cy="277200"/>
                        <a:chOff x="1443600" y="4246200"/>
                        <a:chExt cx="5475960" cy="277200"/>
                      </a:xfrm>
                    </p:grpSpPr>
                    <p:grpSp>
                      <p:nvGrpSpPr>
                        <p:cNvPr id="863" name=""/>
                        <p:cNvGrpSpPr/>
                        <p:nvPr/>
                      </p:nvGrpSpPr>
                      <p:grpSpPr>
                        <a:xfrm>
                          <a:off x="3801960" y="4246200"/>
                          <a:ext cx="934200" cy="150840"/>
                          <a:chOff x="3801960" y="4246200"/>
                          <a:chExt cx="934200" cy="150840"/>
                        </a:xfrm>
                      </p:grpSpPr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>
                            <a:off x="4392000" y="4246200"/>
                            <a:ext cx="342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>
                            <a:off x="3801960" y="4280040"/>
                            <a:ext cx="934200" cy="80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21600" y="10800"/>
                                </a:moveTo>
                                <a:arcTo wR="10800" hR="10800" stAng="0" swAng="540951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21600" y="10800"/>
                                </a:moveTo>
                                <a:arcTo wR="10800" hR="10800" stAng="0" swAng="5409510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3840" bIns="33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>
                          <a:off x="1620720" y="4372920"/>
                          <a:ext cx="529884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5" y="10478"/>
                              </a:moveTo>
                              <a:arcTo wR="10800" hR="10800" stAng="-10697436" swAng="529578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5" y="10478"/>
                              </a:moveTo>
                              <a:arcTo wR="10800" hR="10800" stAng="-10697436" swAng="5295786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>
                          <a:off x="1443600" y="4420080"/>
                          <a:ext cx="34308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68" name=""/>
                    <p:cNvGrpSpPr/>
                    <p:nvPr/>
                  </p:nvGrpSpPr>
                  <p:grpSpPr>
                    <a:xfrm>
                      <a:off x="3625200" y="4224240"/>
                      <a:ext cx="1170000" cy="195480"/>
                      <a:chOff x="3625200" y="4224240"/>
                      <a:chExt cx="1170000" cy="195480"/>
                    </a:xfrm>
                  </p:grpSpPr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4365000" y="4224240"/>
                        <a:ext cx="43020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36" y="0"/>
                            </a:moveTo>
                            <a:arcTo wR="10800" hR="10800" stAng="-5420393" swAng="53764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36" y="0"/>
                            </a:moveTo>
                            <a:arcTo wR="10800" hR="10800" stAng="-5420393" swAng="5376472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3625200" y="4269240"/>
                        <a:ext cx="1168920" cy="10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7" y="10552"/>
                            </a:moveTo>
                            <a:arcTo wR="10800" hR="10800" stAng="-79015" swAng="5479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7" y="10552"/>
                            </a:moveTo>
                            <a:arcTo wR="10800" hR="10800" stAng="-79015" swAng="547901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71" name=""/>
                  <p:cNvSpPr/>
                  <p:nvPr/>
                </p:nvSpPr>
                <p:spPr>
                  <a:xfrm>
                    <a:off x="1561320" y="4420440"/>
                    <a:ext cx="342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41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415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2" name=""/>
                  <p:cNvGrpSpPr/>
                  <p:nvPr/>
                </p:nvGrpSpPr>
                <p:grpSpPr>
                  <a:xfrm>
                    <a:off x="1620720" y="4476240"/>
                    <a:ext cx="5357880" cy="95040"/>
                    <a:chOff x="1620720" y="4476240"/>
                    <a:chExt cx="5357880" cy="95040"/>
                  </a:xfrm>
                </p:grpSpPr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1679760" y="4476240"/>
                      <a:ext cx="52988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675" swAng="539832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675" swAng="5398325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1620720" y="4489920"/>
                      <a:ext cx="529884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701" swAng="550086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701" swAng="5500863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560" bIns="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5" name=""/>
                  <p:cNvSpPr/>
                  <p:nvPr/>
                </p:nvSpPr>
                <p:spPr>
                  <a:xfrm>
                    <a:off x="1443600" y="4419000"/>
                    <a:ext cx="3430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6" name=""/>
                <p:cNvSpPr/>
                <p:nvPr/>
              </p:nvSpPr>
              <p:spPr>
                <a:xfrm>
                  <a:off x="1561320" y="4409640"/>
                  <a:ext cx="226440" cy="10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5" y="21599"/>
                      </a:moveTo>
                      <a:arcTo wR="10800" hR="10800" stAng="5439754" swAng="5440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5" y="21599"/>
                      </a:moveTo>
                      <a:arcTo wR="10800" hR="10800" stAng="5439754" swAng="544065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7" name=""/>
            <p:cNvGrpSpPr/>
            <p:nvPr/>
          </p:nvGrpSpPr>
          <p:grpSpPr>
            <a:xfrm>
              <a:off x="885960" y="4521960"/>
              <a:ext cx="5830200" cy="705960"/>
              <a:chOff x="885960" y="4521960"/>
              <a:chExt cx="5830200" cy="70596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1180440" y="4521960"/>
                <a:ext cx="5535720" cy="347040"/>
                <a:chOff x="1180440" y="4521960"/>
                <a:chExt cx="5535720" cy="347040"/>
              </a:xfrm>
            </p:grpSpPr>
            <p:grpSp>
              <p:nvGrpSpPr>
                <p:cNvPr id="879" name=""/>
                <p:cNvGrpSpPr/>
                <p:nvPr/>
              </p:nvGrpSpPr>
              <p:grpSpPr>
                <a:xfrm>
                  <a:off x="1180440" y="4521960"/>
                  <a:ext cx="5535720" cy="347040"/>
                  <a:chOff x="1180440" y="4521960"/>
                  <a:chExt cx="5535720" cy="347040"/>
                </a:xfrm>
              </p:grpSpPr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1180440" y="4521960"/>
                    <a:ext cx="5535000" cy="299520"/>
                    <a:chOff x="1180440" y="4521960"/>
                    <a:chExt cx="5535000" cy="299520"/>
                  </a:xfrm>
                </p:grpSpPr>
                <p:grpSp>
                  <p:nvGrpSpPr>
                    <p:cNvPr id="881" name=""/>
                    <p:cNvGrpSpPr/>
                    <p:nvPr/>
                  </p:nvGrpSpPr>
                  <p:grpSpPr>
                    <a:xfrm>
                      <a:off x="1180440" y="4545360"/>
                      <a:ext cx="5535000" cy="276120"/>
                      <a:chOff x="1180440" y="4545360"/>
                      <a:chExt cx="5535000" cy="276120"/>
                    </a:xfrm>
                  </p:grpSpPr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1416600" y="4682880"/>
                        <a:ext cx="529884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9832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9832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83" name=""/>
                      <p:cNvGrpSpPr/>
                      <p:nvPr/>
                    </p:nvGrpSpPr>
                    <p:grpSpPr>
                      <a:xfrm>
                        <a:off x="1180440" y="4545360"/>
                        <a:ext cx="5475600" cy="276120"/>
                        <a:chOff x="1180440" y="4545360"/>
                        <a:chExt cx="5475600" cy="276120"/>
                      </a:xfrm>
                    </p:grpSpPr>
                    <p:grpSp>
                      <p:nvGrpSpPr>
                        <p:cNvPr id="884" name=""/>
                        <p:cNvGrpSpPr/>
                        <p:nvPr/>
                      </p:nvGrpSpPr>
                      <p:grpSpPr>
                        <a:xfrm>
                          <a:off x="3538440" y="4545360"/>
                          <a:ext cx="934200" cy="150120"/>
                          <a:chOff x="3538440" y="4545360"/>
                          <a:chExt cx="934200" cy="150120"/>
                        </a:xfrm>
                      </p:grpSpPr>
                      <p:sp>
                        <p:nvSpPr>
                          <p:cNvPr id="885" name=""/>
                          <p:cNvSpPr/>
                          <p:nvPr/>
                        </p:nvSpPr>
                        <p:spPr>
                          <a:xfrm>
                            <a:off x="4128480" y="4545360"/>
                            <a:ext cx="342360" cy="150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343183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343183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6" name=""/>
                          <p:cNvSpPr/>
                          <p:nvPr/>
                        </p:nvSpPr>
                        <p:spPr>
                          <a:xfrm>
                            <a:off x="3538440" y="4577400"/>
                            <a:ext cx="934200" cy="83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21595" y="10477"/>
                                </a:moveTo>
                                <a:arcTo wR="10800" hR="10800" stAng="-102730" swAng="5512384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21595" y="10477"/>
                                </a:moveTo>
                                <a:arcTo wR="10800" hR="10800" stAng="-102730" swAng="5512384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6720" bIns="36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1357200" y="4671720"/>
                          <a:ext cx="5298840" cy="8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9832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98325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920" bIns="34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1180440" y="4717440"/>
                          <a:ext cx="342000" cy="10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3361680" y="4521960"/>
                      <a:ext cx="1170360" cy="195480"/>
                      <a:chOff x="3361680" y="4521960"/>
                      <a:chExt cx="1170360" cy="195480"/>
                    </a:xfrm>
                  </p:grpSpPr>
                  <p:sp>
                    <p:nvSpPr>
                      <p:cNvPr id="890" name=""/>
                      <p:cNvSpPr/>
                      <p:nvPr/>
                    </p:nvSpPr>
                    <p:spPr>
                      <a:xfrm>
                        <a:off x="4102200" y="4521960"/>
                        <a:ext cx="42984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36" y="0"/>
                            </a:moveTo>
                            <a:arcTo wR="10800" hR="10800" stAng="-5420393" swAng="53764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36" y="0"/>
                            </a:moveTo>
                            <a:arcTo wR="10800" hR="10800" stAng="-5420393" swAng="5376472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"/>
                      <p:cNvSpPr/>
                      <p:nvPr/>
                    </p:nvSpPr>
                    <p:spPr>
                      <a:xfrm>
                        <a:off x="3361680" y="4565880"/>
                        <a:ext cx="116892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92" name=""/>
                  <p:cNvSpPr/>
                  <p:nvPr/>
                </p:nvSpPr>
                <p:spPr>
                  <a:xfrm>
                    <a:off x="1298880" y="4717800"/>
                    <a:ext cx="3430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41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415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1357200" y="4774320"/>
                    <a:ext cx="5358960" cy="94680"/>
                    <a:chOff x="1357200" y="4774320"/>
                    <a:chExt cx="5358960" cy="9468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416600" y="4774320"/>
                      <a:ext cx="529956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675" swAng="539832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675" swAng="5398325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357200" y="4788360"/>
                      <a:ext cx="529956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701" swAng="550086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701" swAng="5500863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6" name=""/>
                  <p:cNvSpPr/>
                  <p:nvPr/>
                </p:nvSpPr>
                <p:spPr>
                  <a:xfrm>
                    <a:off x="1180440" y="4717080"/>
                    <a:ext cx="342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7" name=""/>
                <p:cNvSpPr/>
                <p:nvPr/>
              </p:nvSpPr>
              <p:spPr>
                <a:xfrm>
                  <a:off x="1298880" y="4707720"/>
                  <a:ext cx="224280" cy="10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80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808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885960" y="4880880"/>
                <a:ext cx="5535720" cy="347040"/>
                <a:chOff x="885960" y="4880880"/>
                <a:chExt cx="5535720" cy="34704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885960" y="4880880"/>
                  <a:ext cx="5535720" cy="347040"/>
                  <a:chOff x="885960" y="4880880"/>
                  <a:chExt cx="5535720" cy="347040"/>
                </a:xfrm>
              </p:grpSpPr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885960" y="4880880"/>
                    <a:ext cx="5535720" cy="299160"/>
                    <a:chOff x="885960" y="4880880"/>
                    <a:chExt cx="5535720" cy="299160"/>
                  </a:xfrm>
                </p:grpSpPr>
                <p:grpSp>
                  <p:nvGrpSpPr>
                    <p:cNvPr id="901" name=""/>
                    <p:cNvGrpSpPr/>
                    <p:nvPr/>
                  </p:nvGrpSpPr>
                  <p:grpSpPr>
                    <a:xfrm>
                      <a:off x="885960" y="4903200"/>
                      <a:ext cx="5535720" cy="276840"/>
                      <a:chOff x="885960" y="4903200"/>
                      <a:chExt cx="5535720" cy="276840"/>
                    </a:xfrm>
                  </p:grpSpPr>
                  <p:sp>
                    <p:nvSpPr>
                      <p:cNvPr id="902" name=""/>
                      <p:cNvSpPr/>
                      <p:nvPr/>
                    </p:nvSpPr>
                    <p:spPr>
                      <a:xfrm>
                        <a:off x="1122120" y="5041800"/>
                        <a:ext cx="52995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9832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9832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03" name=""/>
                      <p:cNvGrpSpPr/>
                      <p:nvPr/>
                    </p:nvGrpSpPr>
                    <p:grpSpPr>
                      <a:xfrm>
                        <a:off x="885960" y="4903200"/>
                        <a:ext cx="5475960" cy="276840"/>
                        <a:chOff x="885960" y="4903200"/>
                        <a:chExt cx="5475960" cy="276840"/>
                      </a:xfrm>
                    </p:grpSpPr>
                    <p:grpSp>
                      <p:nvGrpSpPr>
                        <p:cNvPr id="904" name=""/>
                        <p:cNvGrpSpPr/>
                        <p:nvPr/>
                      </p:nvGrpSpPr>
                      <p:grpSpPr>
                        <a:xfrm>
                          <a:off x="3244320" y="4903200"/>
                          <a:ext cx="934200" cy="150120"/>
                          <a:chOff x="3244320" y="4903200"/>
                          <a:chExt cx="934200" cy="150120"/>
                        </a:xfrm>
                      </p:grpSpPr>
                      <p:sp>
                        <p:nvSpPr>
                          <p:cNvPr id="905" name=""/>
                          <p:cNvSpPr/>
                          <p:nvPr/>
                        </p:nvSpPr>
                        <p:spPr>
                          <a:xfrm>
                            <a:off x="3834360" y="4903200"/>
                            <a:ext cx="342720" cy="150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06" name=""/>
                          <p:cNvSpPr/>
                          <p:nvPr/>
                        </p:nvSpPr>
                        <p:spPr>
                          <a:xfrm>
                            <a:off x="3244320" y="4936320"/>
                            <a:ext cx="934200" cy="81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21600" y="10800"/>
                                </a:moveTo>
                                <a:arcTo wR="10800" hR="10800" stAng="0" swAng="540951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21600" y="10800"/>
                                </a:moveTo>
                                <a:arcTo wR="10800" hR="10800" stAng="0" swAng="5409510"/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920" bIns="349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07" name=""/>
                        <p:cNvSpPr/>
                        <p:nvPr/>
                      </p:nvSpPr>
                      <p:spPr>
                        <a:xfrm>
                          <a:off x="1063080" y="5029560"/>
                          <a:ext cx="529884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5" y="10478"/>
                              </a:moveTo>
                              <a:arcTo wR="10800" hR="10800" stAng="-10697436" swAng="529578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5" y="10478"/>
                              </a:moveTo>
                              <a:arcTo wR="10800" hR="10800" stAng="-10697436" swAng="5295786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8" name=""/>
                        <p:cNvSpPr/>
                        <p:nvPr/>
                      </p:nvSpPr>
                      <p:spPr>
                        <a:xfrm>
                          <a:off x="885960" y="5076720"/>
                          <a:ext cx="34308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0" y="10800"/>
                              </a:moveTo>
                              <a:arcTo wR="10800" hR="10800" stAng="10800000" swAng="5374153"/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09" name=""/>
                    <p:cNvGrpSpPr/>
                    <p:nvPr/>
                  </p:nvGrpSpPr>
                  <p:grpSpPr>
                    <a:xfrm>
                      <a:off x="3067560" y="4880880"/>
                      <a:ext cx="1170000" cy="195480"/>
                      <a:chOff x="3067560" y="4880880"/>
                      <a:chExt cx="1170000" cy="195480"/>
                    </a:xfrm>
                  </p:grpSpPr>
                  <p:sp>
                    <p:nvSpPr>
                      <p:cNvPr id="910" name=""/>
                      <p:cNvSpPr/>
                      <p:nvPr/>
                    </p:nvSpPr>
                    <p:spPr>
                      <a:xfrm>
                        <a:off x="3807360" y="4880880"/>
                        <a:ext cx="43020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736" y="0"/>
                            </a:moveTo>
                            <a:arcTo wR="10800" hR="10800" stAng="-5420393" swAng="53764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736" y="0"/>
                            </a:moveTo>
                            <a:arcTo wR="10800" hR="10800" stAng="-5420393" swAng="5376472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>
                        <a:off x="3067560" y="4925880"/>
                        <a:ext cx="1168920" cy="10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7" y="10552"/>
                            </a:moveTo>
                            <a:arcTo wR="10800" hR="10800" stAng="-79015" swAng="5479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7" y="10552"/>
                            </a:moveTo>
                            <a:arcTo wR="10800" hR="10800" stAng="-79015" swAng="5479015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12" name=""/>
                  <p:cNvSpPr/>
                  <p:nvPr/>
                </p:nvSpPr>
                <p:spPr>
                  <a:xfrm>
                    <a:off x="1003680" y="5077080"/>
                    <a:ext cx="342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741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7415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1063080" y="5133600"/>
                    <a:ext cx="5357880" cy="94320"/>
                    <a:chOff x="1063080" y="5133600"/>
                    <a:chExt cx="5357880" cy="9432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1122120" y="5133600"/>
                      <a:ext cx="52988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675" swAng="539832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675" swAng="5398325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1063080" y="5147280"/>
                      <a:ext cx="529884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5" y="21600"/>
                          </a:moveTo>
                          <a:arcTo wR="10800" hR="10800" stAng="5401701" swAng="550086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5" y="21600"/>
                          </a:moveTo>
                          <a:arcTo wR="10800" hR="10800" stAng="5401701" swAng="5500863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6" name=""/>
                  <p:cNvSpPr/>
                  <p:nvPr/>
                </p:nvSpPr>
                <p:spPr>
                  <a:xfrm>
                    <a:off x="885960" y="5076360"/>
                    <a:ext cx="3430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7" name=""/>
                <p:cNvSpPr/>
                <p:nvPr/>
              </p:nvSpPr>
              <p:spPr>
                <a:xfrm>
                  <a:off x="1003680" y="5066280"/>
                  <a:ext cx="226440" cy="10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5" y="21599"/>
                      </a:moveTo>
                      <a:arcTo wR="10800" hR="10800" stAng="5439754" swAng="5440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5" y="21599"/>
                      </a:moveTo>
                      <a:arcTo wR="10800" hR="10800" stAng="5439754" swAng="544065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8" name=""/>
            <p:cNvSpPr/>
            <p:nvPr/>
          </p:nvSpPr>
          <p:spPr>
            <a:xfrm>
              <a:off x="1505160" y="4401360"/>
              <a:ext cx="4451760" cy="82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66360" y="4341600"/>
              <a:ext cx="4329000" cy="82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5907240" y="3626640"/>
              <a:ext cx="857160" cy="2356200"/>
              <a:chOff x="5907240" y="3626640"/>
              <a:chExt cx="857160" cy="2356200"/>
            </a:xfrm>
          </p:grpSpPr>
          <p:sp>
            <p:nvSpPr>
              <p:cNvPr id="921" name=""/>
              <p:cNvSpPr/>
              <p:nvPr/>
            </p:nvSpPr>
            <p:spPr>
              <a:xfrm>
                <a:off x="5907240" y="3626640"/>
                <a:ext cx="857160" cy="235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6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6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969160" y="3686040"/>
                <a:ext cx="732600" cy="22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78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789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5722200" y="3626640"/>
              <a:ext cx="12279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7" y="0"/>
                  </a:moveTo>
                  <a:arcTo wR="10800" hR="10800" stAng="-5407223" swAng="5407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7" y="0"/>
                  </a:moveTo>
                  <a:arcTo wR="10800" hR="10800" stAng="-5407223" swAng="54072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72720" y="3686040"/>
              <a:ext cx="1724400" cy="106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98680" y="3745800"/>
              <a:ext cx="484560" cy="94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6464160" y="3744720"/>
              <a:ext cx="919080" cy="944280"/>
              <a:chOff x="6464160" y="3744720"/>
              <a:chExt cx="919080" cy="944280"/>
            </a:xfrm>
          </p:grpSpPr>
          <p:sp>
            <p:nvSpPr>
              <p:cNvPr id="927" name=""/>
              <p:cNvSpPr/>
              <p:nvPr/>
            </p:nvSpPr>
            <p:spPr>
              <a:xfrm>
                <a:off x="6898320" y="3744720"/>
                <a:ext cx="484920" cy="9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464160" y="3744720"/>
                <a:ext cx="733320" cy="9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6651360" y="4700880"/>
              <a:ext cx="919080" cy="943560"/>
              <a:chOff x="6651360" y="4700880"/>
              <a:chExt cx="919080" cy="943560"/>
            </a:xfrm>
          </p:grpSpPr>
          <p:sp>
            <p:nvSpPr>
              <p:cNvPr id="930" name=""/>
              <p:cNvSpPr/>
              <p:nvPr/>
            </p:nvSpPr>
            <p:spPr>
              <a:xfrm>
                <a:off x="6651360" y="4700880"/>
                <a:ext cx="484920" cy="9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1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171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37120" y="4700880"/>
                <a:ext cx="733320" cy="9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78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789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6650280" y="5177160"/>
              <a:ext cx="17568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03680" y="158760"/>
              <a:ext cx="68814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attle &amp; sheep: fermentative acidosis can occur in  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rumen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/or 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hind g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90000" y="3083040"/>
              <a:ext cx="126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85520" y="3500640"/>
              <a:ext cx="0" cy="497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45280" y="874800"/>
              <a:ext cx="867600" cy="10742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808240" y="1143360"/>
              <a:ext cx="1177920" cy="149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03680" y="2545920"/>
              <a:ext cx="24793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ges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ch -&gt; gluco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55200" y="2426400"/>
              <a:ext cx="185760" cy="131292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0DB3-C11C-42A0-A54F-4CF9FE2D59C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37480" y="112680"/>
            <a:ext cx="53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ermentation and acid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5289480" y="620640"/>
            <a:ext cx="3310560" cy="4895640"/>
            <a:chOff x="5289480" y="620640"/>
            <a:chExt cx="3310560" cy="4895640"/>
          </a:xfrm>
        </p:grpSpPr>
        <p:sp>
          <p:nvSpPr>
            <p:cNvPr id="942" name=""/>
            <p:cNvSpPr/>
            <p:nvPr/>
          </p:nvSpPr>
          <p:spPr>
            <a:xfrm>
              <a:off x="5972760" y="285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V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63000" y="2786760"/>
              <a:ext cx="12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cc0000"/>
                  </a:solidFill>
                  <a:latin typeface="Times New Roman"/>
                </a:rPr>
                <a:t>Lac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11840" y="62064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cc0000"/>
                  </a:solidFill>
                  <a:latin typeface="Arial"/>
                </a:rPr>
                <a:t>Starch</a:t>
              </a:r>
              <a:r>
                <a:rPr b="1" lang="en-AU" sz="2800" spc="-1" strike="noStrike">
                  <a:solidFill>
                    <a:srgbClr val="cc0000"/>
                  </a:solidFill>
                  <a:latin typeface="Times New Roman"/>
                </a:rPr>
                <a:t> or suga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1720" y="17679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cc0000"/>
                  </a:solidFill>
                  <a:latin typeface="Times New Roman"/>
                </a:rPr>
                <a:t>C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40720" y="3952440"/>
              <a:ext cx="7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600" spc="-1" strike="noStrike">
                  <a:solidFill>
                    <a:srgbClr val="cc0000"/>
                  </a:solidFill>
                  <a:latin typeface="Times New Roman"/>
                </a:rPr>
                <a:t>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5765760" y="4563000"/>
              <a:ext cx="2651760" cy="444960"/>
              <a:chOff x="5765760" y="4563000"/>
              <a:chExt cx="2651760" cy="444960"/>
            </a:xfrm>
          </p:grpSpPr>
          <p:sp>
            <p:nvSpPr>
              <p:cNvPr id="948" name=""/>
              <p:cNvSpPr/>
              <p:nvPr/>
            </p:nvSpPr>
            <p:spPr>
              <a:xfrm>
                <a:off x="5765760" y="4563360"/>
                <a:ext cx="74808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7669800" y="4563000"/>
                <a:ext cx="74772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8417880" y="1514520"/>
              <a:ext cx="0" cy="3048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5765760" y="1514160"/>
              <a:ext cx="2651760" cy="444960"/>
              <a:chOff x="5765760" y="1514160"/>
              <a:chExt cx="2651760" cy="444960"/>
            </a:xfrm>
          </p:grpSpPr>
          <p:sp>
            <p:nvSpPr>
              <p:cNvPr id="952" name=""/>
              <p:cNvSpPr/>
              <p:nvPr/>
            </p:nvSpPr>
            <p:spPr>
              <a:xfrm>
                <a:off x="5765760" y="1514520"/>
                <a:ext cx="74808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7669800" y="1514160"/>
                <a:ext cx="74772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289480" y="3038760"/>
              <a:ext cx="6120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446160" y="3356280"/>
              <a:ext cx="407160" cy="50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329600" y="3356280"/>
              <a:ext cx="407520" cy="508320"/>
            </a:xfrm>
            <a:prstGeom prst="line">
              <a:avLst/>
            </a:prstGeom>
            <a:ln w="7632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41680" y="3483720"/>
              <a:ext cx="0" cy="10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41600" y="3483720"/>
              <a:ext cx="0" cy="10170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6786000" y="3038760"/>
              <a:ext cx="543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6377040" y="2340360"/>
              <a:ext cx="340200" cy="3808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51120" y="2320560"/>
              <a:ext cx="477360" cy="516960"/>
            </a:xfrm>
            <a:prstGeom prst="line">
              <a:avLst/>
            </a:prstGeom>
            <a:ln w="127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45200" y="1164600"/>
              <a:ext cx="0" cy="634320"/>
            </a:xfrm>
            <a:prstGeom prst="line">
              <a:avLst/>
            </a:prstGeom>
            <a:ln w="190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25120" y="5007960"/>
              <a:ext cx="0" cy="50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741280" y="1572840"/>
              <a:ext cx="0" cy="3048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09120" y="547560"/>
            <a:ext cx="3472560" cy="4968720"/>
            <a:chOff x="609120" y="547560"/>
            <a:chExt cx="3472560" cy="4968720"/>
          </a:xfrm>
        </p:grpSpPr>
        <p:sp>
          <p:nvSpPr>
            <p:cNvPr id="966" name=""/>
            <p:cNvSpPr/>
            <p:nvPr/>
          </p:nvSpPr>
          <p:spPr>
            <a:xfrm>
              <a:off x="1299600" y="27705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000099"/>
                  </a:solidFill>
                  <a:latin typeface="Times New Roman"/>
                </a:rPr>
                <a:t>V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06920" y="28123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Lac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96920" y="547560"/>
              <a:ext cx="298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000099"/>
                  </a:solidFill>
                  <a:latin typeface="Arial"/>
                </a:rPr>
                <a:t>Fibre</a:t>
              </a:r>
              <a:r>
                <a:rPr b="1" lang="en-AU" sz="2800" spc="-1" strike="noStrike">
                  <a:solidFill>
                    <a:srgbClr val="000099"/>
                  </a:solidFill>
                  <a:latin typeface="Times New Roman"/>
                </a:rPr>
                <a:t> or rough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038320" y="175248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99"/>
                  </a:solidFill>
                  <a:latin typeface="Times New Roman"/>
                </a:rPr>
                <a:t>C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53160" y="3791160"/>
              <a:ext cx="67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1" name=""/>
            <p:cNvGrpSpPr/>
            <p:nvPr/>
          </p:nvGrpSpPr>
          <p:grpSpPr>
            <a:xfrm>
              <a:off x="1090440" y="4548600"/>
              <a:ext cx="2678760" cy="451440"/>
              <a:chOff x="1090440" y="4548600"/>
              <a:chExt cx="2678760" cy="451440"/>
            </a:xfrm>
          </p:grpSpPr>
          <p:sp>
            <p:nvSpPr>
              <p:cNvPr id="972" name=""/>
              <p:cNvSpPr/>
              <p:nvPr/>
            </p:nvSpPr>
            <p:spPr>
              <a:xfrm>
                <a:off x="1090440" y="4548960"/>
                <a:ext cx="755640" cy="4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3013920" y="4548600"/>
                <a:ext cx="755280" cy="4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3769560" y="1454760"/>
              <a:ext cx="0" cy="3094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1090440" y="1454760"/>
              <a:ext cx="2678760" cy="451440"/>
              <a:chOff x="1090440" y="1454760"/>
              <a:chExt cx="2678760" cy="451440"/>
            </a:xfrm>
          </p:grpSpPr>
          <p:sp>
            <p:nvSpPr>
              <p:cNvPr id="976" name=""/>
              <p:cNvSpPr/>
              <p:nvPr/>
            </p:nvSpPr>
            <p:spPr>
              <a:xfrm>
                <a:off x="1090440" y="1454760"/>
                <a:ext cx="755640" cy="45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3013920" y="1454760"/>
                <a:ext cx="755280" cy="45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 flipH="1">
              <a:off x="609120" y="3002040"/>
              <a:ext cx="6181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76240" y="3324240"/>
              <a:ext cx="41328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120040" y="3002040"/>
              <a:ext cx="5500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1708200" y="2293200"/>
              <a:ext cx="343800" cy="386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70480" y="2293200"/>
              <a:ext cx="342000" cy="386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94720" y="1068120"/>
              <a:ext cx="0" cy="6436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4720" y="500040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80040" y="330804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94760" y="1513800"/>
              <a:ext cx="0" cy="3094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9C68-B6D2-49FF-B809-F4BFE584790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1638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exactly why you are going to feed a long time before you start to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conditions of pa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 of stock and targe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will you need to fe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ill you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t be prof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390F-56DE-49F1-AA0D-78FE63F0546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2985120" y="4878360"/>
            <a:ext cx="4067280" cy="393840"/>
            <a:chOff x="2985120" y="4878360"/>
            <a:chExt cx="4067280" cy="393840"/>
          </a:xfrm>
        </p:grpSpPr>
        <p:sp>
          <p:nvSpPr>
            <p:cNvPr id="988" name=""/>
            <p:cNvSpPr/>
            <p:nvPr/>
          </p:nvSpPr>
          <p:spPr>
            <a:xfrm>
              <a:off x="6742800" y="4878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99400" y="4878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54920" y="4878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01800" y="4878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55160" y="4878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85120" y="487836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139920" y="4827600"/>
            <a:ext cx="3732480" cy="85680"/>
            <a:chOff x="3139920" y="4827600"/>
            <a:chExt cx="3732480" cy="85680"/>
          </a:xfrm>
        </p:grpSpPr>
        <p:sp>
          <p:nvSpPr>
            <p:cNvPr id="995" name=""/>
            <p:cNvSpPr/>
            <p:nvPr/>
          </p:nvSpPr>
          <p:spPr>
            <a:xfrm flipV="1">
              <a:off x="3139920" y="482760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519360" y="4827600"/>
              <a:ext cx="0" cy="5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3884040" y="482760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4262400" y="4827600"/>
              <a:ext cx="0" cy="5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627440" y="482760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5006880" y="4827600"/>
              <a:ext cx="0" cy="5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5384520" y="482760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5749560" y="4827600"/>
              <a:ext cx="0" cy="5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6127920" y="482760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6492600" y="4827600"/>
              <a:ext cx="0" cy="5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6872400" y="482760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145320" y="4846680"/>
              <a:ext cx="370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3071880" y="1182600"/>
            <a:ext cx="77760" cy="3672000"/>
            <a:chOff x="3071880" y="1182600"/>
            <a:chExt cx="77760" cy="3672000"/>
          </a:xfrm>
        </p:grpSpPr>
        <p:sp>
          <p:nvSpPr>
            <p:cNvPr id="1008" name=""/>
            <p:cNvSpPr/>
            <p:nvPr/>
          </p:nvSpPr>
          <p:spPr>
            <a:xfrm flipH="1">
              <a:off x="3071880" y="484668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098160" y="4481280"/>
              <a:ext cx="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071880" y="411480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3098160" y="3749400"/>
              <a:ext cx="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071880" y="338292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098160" y="3031920"/>
              <a:ext cx="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3071880" y="266544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3098160" y="2300040"/>
              <a:ext cx="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071880" y="193356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098160" y="1568520"/>
              <a:ext cx="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071880" y="1201680"/>
              <a:ext cx="7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3141000" y="1182600"/>
              <a:ext cx="0" cy="36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537000" y="3051000"/>
            <a:ext cx="330120" cy="241560"/>
          </a:xfrm>
          <a:prstGeom prst="line">
            <a:avLst/>
          </a:prstGeom>
          <a:ln w="507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537000" y="3051000"/>
            <a:ext cx="330120" cy="2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75080" y="2981160"/>
            <a:ext cx="79200" cy="90720"/>
          </a:xfrm>
          <a:custGeom>
            <a:avLst/>
            <a:gdLst/>
            <a:ahLst/>
            <a:rect l="l" t="t" r="r" b="b"/>
            <a:pathLst>
              <a:path w="54" h="57">
                <a:moveTo>
                  <a:pt x="26" y="0"/>
                </a:moveTo>
                <a:lnTo>
                  <a:pt x="53" y="56"/>
                </a:lnTo>
                <a:lnTo>
                  <a:pt x="0" y="56"/>
                </a:lnTo>
                <a:lnTo>
                  <a:pt x="26" y="0"/>
                </a:lnTo>
              </a:path>
            </a:pathLst>
          </a:custGeom>
          <a:solidFill>
            <a:srgbClr val="0000d4"/>
          </a:solidFill>
          <a:ln cap="rnd" w="50760">
            <a:solidFill>
              <a:srgbClr val="0000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00600" y="3028680"/>
            <a:ext cx="345960" cy="314280"/>
          </a:xfrm>
          <a:prstGeom prst="line">
            <a:avLst/>
          </a:prstGeom>
          <a:ln w="507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00600" y="3028680"/>
            <a:ext cx="345960" cy="31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40120" y="3259080"/>
            <a:ext cx="79560" cy="90720"/>
          </a:xfrm>
          <a:custGeom>
            <a:avLst/>
            <a:gdLst/>
            <a:ahLst/>
            <a:rect l="l" t="t" r="r" b="b"/>
            <a:pathLst>
              <a:path w="55" h="57">
                <a:moveTo>
                  <a:pt x="27" y="0"/>
                </a:moveTo>
                <a:lnTo>
                  <a:pt x="54" y="56"/>
                </a:lnTo>
                <a:lnTo>
                  <a:pt x="0" y="56"/>
                </a:lnTo>
                <a:lnTo>
                  <a:pt x="27" y="0"/>
                </a:lnTo>
              </a:path>
            </a:pathLst>
          </a:custGeom>
          <a:solidFill>
            <a:srgbClr val="0000d4"/>
          </a:solidFill>
          <a:ln cap="rnd" w="50760">
            <a:solidFill>
              <a:srgbClr val="0000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280040" y="2517480"/>
            <a:ext cx="331560" cy="576360"/>
          </a:xfrm>
          <a:prstGeom prst="line">
            <a:avLst/>
          </a:prstGeom>
          <a:ln w="507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280040" y="2517480"/>
            <a:ext cx="331560" cy="576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19560" y="3011400"/>
            <a:ext cx="77760" cy="88920"/>
          </a:xfrm>
          <a:custGeom>
            <a:avLst/>
            <a:gdLst/>
            <a:ahLst/>
            <a:rect l="l" t="t" r="r" b="b"/>
            <a:pathLst>
              <a:path w="53" h="56">
                <a:moveTo>
                  <a:pt x="26" y="0"/>
                </a:moveTo>
                <a:lnTo>
                  <a:pt x="52" y="55"/>
                </a:lnTo>
                <a:lnTo>
                  <a:pt x="0" y="55"/>
                </a:lnTo>
                <a:lnTo>
                  <a:pt x="26" y="0"/>
                </a:lnTo>
              </a:path>
            </a:pathLst>
          </a:custGeom>
          <a:solidFill>
            <a:srgbClr val="0000d4"/>
          </a:solidFill>
          <a:ln cap="rnd" w="50760">
            <a:solidFill>
              <a:srgbClr val="0000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646520" y="2493720"/>
            <a:ext cx="331920" cy="81000"/>
          </a:xfrm>
          <a:prstGeom prst="line">
            <a:avLst/>
          </a:prstGeom>
          <a:ln w="507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646520" y="2493720"/>
            <a:ext cx="331920" cy="81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84600" y="2498760"/>
            <a:ext cx="79560" cy="88920"/>
          </a:xfrm>
          <a:custGeom>
            <a:avLst/>
            <a:gdLst/>
            <a:ahLst/>
            <a:rect l="l" t="t" r="r" b="b"/>
            <a:pathLst>
              <a:path w="54" h="56">
                <a:moveTo>
                  <a:pt x="26" y="0"/>
                </a:moveTo>
                <a:lnTo>
                  <a:pt x="53" y="55"/>
                </a:lnTo>
                <a:lnTo>
                  <a:pt x="0" y="55"/>
                </a:lnTo>
                <a:lnTo>
                  <a:pt x="26" y="0"/>
                </a:lnTo>
              </a:path>
            </a:pathLst>
          </a:custGeom>
          <a:solidFill>
            <a:srgbClr val="0000d4"/>
          </a:solidFill>
          <a:ln cap="rnd" w="50760">
            <a:solidFill>
              <a:srgbClr val="0000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22720" y="2544840"/>
            <a:ext cx="1078200" cy="125280"/>
          </a:xfrm>
          <a:prstGeom prst="line">
            <a:avLst/>
          </a:prstGeom>
          <a:ln w="507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22720" y="2544840"/>
            <a:ext cx="1078200" cy="12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962600" y="2468520"/>
            <a:ext cx="79200" cy="90360"/>
          </a:xfrm>
          <a:custGeom>
            <a:avLst/>
            <a:gdLst/>
            <a:ahLst/>
            <a:rect l="l" t="t" r="r" b="b"/>
            <a:pathLst>
              <a:path w="54" h="57">
                <a:moveTo>
                  <a:pt x="26" y="0"/>
                </a:moveTo>
                <a:lnTo>
                  <a:pt x="53" y="56"/>
                </a:lnTo>
                <a:lnTo>
                  <a:pt x="0" y="56"/>
                </a:lnTo>
                <a:lnTo>
                  <a:pt x="26" y="0"/>
                </a:lnTo>
              </a:path>
            </a:pathLst>
          </a:custGeom>
          <a:solidFill>
            <a:srgbClr val="0000d4"/>
          </a:solidFill>
          <a:ln cap="rnd" w="50760">
            <a:solidFill>
              <a:srgbClr val="0000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4720" y="2644920"/>
            <a:ext cx="169920" cy="182520"/>
          </a:xfrm>
          <a:custGeom>
            <a:avLst/>
            <a:gdLst/>
            <a:ahLst/>
            <a:rect l="l" t="t" r="r" b="b"/>
            <a:pathLst>
              <a:path w="116" h="115">
                <a:moveTo>
                  <a:pt x="56" y="0"/>
                </a:moveTo>
                <a:lnTo>
                  <a:pt x="115" y="114"/>
                </a:lnTo>
                <a:lnTo>
                  <a:pt x="0" y="114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537000" y="3351240"/>
            <a:ext cx="330120" cy="79704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537000" y="3351240"/>
            <a:ext cx="330120" cy="79704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98840" y="4091040"/>
            <a:ext cx="31680" cy="3816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908520" y="1901520"/>
            <a:ext cx="331560" cy="150156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908520" y="1901520"/>
            <a:ext cx="331560" cy="150156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62440" y="3359160"/>
            <a:ext cx="34920" cy="3816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4280040" y="1761840"/>
            <a:ext cx="322200" cy="19692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4280040" y="1761840"/>
            <a:ext cx="322200" cy="19692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241880" y="1909800"/>
            <a:ext cx="31680" cy="3816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646520" y="1689120"/>
            <a:ext cx="331920" cy="12384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646520" y="1689120"/>
            <a:ext cx="331920" cy="12384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608360" y="1762200"/>
            <a:ext cx="33480" cy="3960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022720" y="1739880"/>
            <a:ext cx="1078200" cy="16812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022720" y="1739880"/>
            <a:ext cx="1078200" cy="168120"/>
          </a:xfrm>
          <a:prstGeom prst="line">
            <a:avLst/>
          </a:prstGeom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84920" y="1689120"/>
            <a:ext cx="34920" cy="3960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08840" y="1909800"/>
            <a:ext cx="120600" cy="12852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131280" y="5238720"/>
            <a:ext cx="377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s after feeding w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813120" y="4387680"/>
            <a:ext cx="106560" cy="393480"/>
            <a:chOff x="3813120" y="4387680"/>
            <a:chExt cx="106560" cy="393480"/>
          </a:xfrm>
        </p:grpSpPr>
        <p:sp>
          <p:nvSpPr>
            <p:cNvPr id="1054" name=""/>
            <p:cNvSpPr/>
            <p:nvPr/>
          </p:nvSpPr>
          <p:spPr>
            <a:xfrm flipV="1">
              <a:off x="3871080" y="4461840"/>
              <a:ext cx="0" cy="31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13120" y="4387680"/>
              <a:ext cx="106560" cy="13356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36" y="55"/>
                  </a:moveTo>
                  <a:lnTo>
                    <a:pt x="72" y="83"/>
                  </a:lnTo>
                  <a:lnTo>
                    <a:pt x="36" y="0"/>
                  </a:lnTo>
                  <a:lnTo>
                    <a:pt x="0" y="83"/>
                  </a:lnTo>
                  <a:lnTo>
                    <a:pt x="36" y="55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13120" y="4387680"/>
              <a:ext cx="106560" cy="13356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36" y="55"/>
                  </a:moveTo>
                  <a:lnTo>
                    <a:pt x="72" y="83"/>
                  </a:lnTo>
                  <a:lnTo>
                    <a:pt x="36" y="0"/>
                  </a:lnTo>
                  <a:lnTo>
                    <a:pt x="0" y="83"/>
                  </a:lnTo>
                  <a:lnTo>
                    <a:pt x="36" y="55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887760" y="1622520"/>
            <a:ext cx="1586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5280" y="44280"/>
            <a:ext cx="7230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bial changes in rumen with introduction of w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111000" y="692280"/>
            <a:ext cx="197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ison et al 19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19560" y="4387680"/>
            <a:ext cx="106200" cy="393480"/>
            <a:chOff x="4219560" y="4387680"/>
            <a:chExt cx="106200" cy="393480"/>
          </a:xfrm>
        </p:grpSpPr>
        <p:sp>
          <p:nvSpPr>
            <p:cNvPr id="1061" name=""/>
            <p:cNvSpPr/>
            <p:nvPr/>
          </p:nvSpPr>
          <p:spPr>
            <a:xfrm flipV="1">
              <a:off x="4277880" y="4461840"/>
              <a:ext cx="0" cy="31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19560" y="4387680"/>
              <a:ext cx="106200" cy="13356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36" y="55"/>
                  </a:moveTo>
                  <a:lnTo>
                    <a:pt x="72" y="83"/>
                  </a:lnTo>
                  <a:lnTo>
                    <a:pt x="36" y="0"/>
                  </a:lnTo>
                  <a:lnTo>
                    <a:pt x="0" y="83"/>
                  </a:lnTo>
                  <a:lnTo>
                    <a:pt x="36" y="55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19560" y="4387680"/>
              <a:ext cx="106200" cy="13356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36" y="55"/>
                  </a:moveTo>
                  <a:lnTo>
                    <a:pt x="72" y="83"/>
                  </a:lnTo>
                  <a:lnTo>
                    <a:pt x="36" y="0"/>
                  </a:lnTo>
                  <a:lnTo>
                    <a:pt x="0" y="83"/>
                  </a:lnTo>
                  <a:lnTo>
                    <a:pt x="36" y="55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3889800" y="4425840"/>
            <a:ext cx="92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entury Gothic"/>
              </a:rPr>
              <a:t>W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03760" y="3281400"/>
            <a:ext cx="123840" cy="12852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11640" y="1833480"/>
            <a:ext cx="123840" cy="12852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48240" y="1757520"/>
            <a:ext cx="123840" cy="12852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956120" y="1681200"/>
            <a:ext cx="123840" cy="12852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467160" y="4043520"/>
            <a:ext cx="120600" cy="128520"/>
          </a:xfrm>
          <a:prstGeom prst="rect">
            <a:avLst/>
          </a:prstGeom>
          <a:solidFill>
            <a:srgbClr val="dd0806"/>
          </a:solidFill>
          <a:ln w="50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43400" y="2949480"/>
            <a:ext cx="169920" cy="18252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56" y="0"/>
                </a:moveTo>
                <a:lnTo>
                  <a:pt x="114" y="114"/>
                </a:lnTo>
                <a:lnTo>
                  <a:pt x="0" y="114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49840" y="3178080"/>
            <a:ext cx="169560" cy="182520"/>
          </a:xfrm>
          <a:custGeom>
            <a:avLst/>
            <a:gdLst/>
            <a:ahLst/>
            <a:rect l="l" t="t" r="r" b="b"/>
            <a:pathLst>
              <a:path w="116" h="115">
                <a:moveTo>
                  <a:pt x="56" y="0"/>
                </a:moveTo>
                <a:lnTo>
                  <a:pt x="115" y="114"/>
                </a:lnTo>
                <a:lnTo>
                  <a:pt x="0" y="114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87880" y="2949480"/>
            <a:ext cx="171360" cy="18252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57" y="0"/>
                </a:moveTo>
                <a:lnTo>
                  <a:pt x="116" y="114"/>
                </a:lnTo>
                <a:lnTo>
                  <a:pt x="0" y="114"/>
                </a:lnTo>
                <a:lnTo>
                  <a:pt x="57" y="0"/>
                </a:lnTo>
              </a:path>
            </a:pathLst>
          </a:custGeom>
          <a:solidFill>
            <a:srgbClr val="0000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25920" y="2416320"/>
            <a:ext cx="171360" cy="18252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57" y="0"/>
                </a:moveTo>
                <a:lnTo>
                  <a:pt x="116" y="114"/>
                </a:lnTo>
                <a:lnTo>
                  <a:pt x="0" y="114"/>
                </a:lnTo>
                <a:lnTo>
                  <a:pt x="57" y="0"/>
                </a:lnTo>
              </a:path>
            </a:pathLst>
          </a:custGeom>
          <a:solidFill>
            <a:srgbClr val="0000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32360" y="2416320"/>
            <a:ext cx="171360" cy="18252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57" y="0"/>
                </a:moveTo>
                <a:lnTo>
                  <a:pt x="116" y="114"/>
                </a:lnTo>
                <a:lnTo>
                  <a:pt x="0" y="114"/>
                </a:lnTo>
                <a:lnTo>
                  <a:pt x="57" y="0"/>
                </a:lnTo>
              </a:path>
            </a:pathLst>
          </a:custGeom>
          <a:solidFill>
            <a:srgbClr val="0000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404040" y="2487600"/>
            <a:ext cx="2055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ptocc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02600" y="1716120"/>
            <a:ext cx="197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actobaci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2723040" y="981000"/>
            <a:ext cx="437400" cy="4038840"/>
            <a:chOff x="2723040" y="981000"/>
            <a:chExt cx="437400" cy="4038840"/>
          </a:xfrm>
        </p:grpSpPr>
        <p:sp>
          <p:nvSpPr>
            <p:cNvPr id="1078" name=""/>
            <p:cNvSpPr/>
            <p:nvPr/>
          </p:nvSpPr>
          <p:spPr>
            <a:xfrm>
              <a:off x="2800440" y="46260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00440" y="389412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00440" y="31622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00440" y="24447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00440" y="171288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23040" y="981000"/>
              <a:ext cx="437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2431800" y="1181160"/>
            <a:ext cx="47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entury Gothi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501640" y="4076640"/>
            <a:ext cx="47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entury Gothi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501640" y="3314880"/>
            <a:ext cx="47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entury Gothi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01640" y="1866960"/>
            <a:ext cx="47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entury Gothi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501640" y="2629080"/>
            <a:ext cx="47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entury Gothi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527280" y="4273560"/>
            <a:ext cx="0" cy="533520"/>
          </a:xfrm>
          <a:prstGeom prst="line">
            <a:avLst/>
          </a:prstGeom>
          <a:ln w="7632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3755880" y="4273560"/>
            <a:ext cx="0" cy="533520"/>
          </a:xfrm>
          <a:prstGeom prst="line">
            <a:avLst/>
          </a:prstGeom>
          <a:ln w="7632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CB50-AB49-4739-B7EB-C401A74803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465840" y="11196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idosis control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227640" y="821520"/>
            <a:ext cx="2013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of g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of f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ic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ic uti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2050920" y="471240"/>
            <a:ext cx="4033440" cy="5045040"/>
            <a:chOff x="2050920" y="471240"/>
            <a:chExt cx="4033440" cy="5045040"/>
          </a:xfrm>
        </p:grpSpPr>
        <p:sp>
          <p:nvSpPr>
            <p:cNvPr id="1094" name=""/>
            <p:cNvSpPr/>
            <p:nvPr/>
          </p:nvSpPr>
          <p:spPr>
            <a:xfrm>
              <a:off x="2772000" y="28195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V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132440" y="2759760"/>
              <a:ext cx="12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cc0000"/>
                  </a:solidFill>
                  <a:latin typeface="Times New Roman"/>
                </a:rPr>
                <a:t>Lac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00640" y="691920"/>
              <a:ext cx="268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cc0000"/>
                  </a:solidFill>
                  <a:latin typeface="Times New Roman"/>
                </a:rPr>
                <a:t>Starch or suga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8040" y="178884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cc0000"/>
                  </a:solidFill>
                  <a:latin typeface="Times New Roman"/>
                </a:rPr>
                <a:t>C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33200" y="381492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cc0000"/>
                  </a:solidFill>
                  <a:latin typeface="Times New Roman"/>
                </a:rPr>
                <a:t>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2552760" y="4457160"/>
              <a:ext cx="2795400" cy="424800"/>
              <a:chOff x="2552760" y="4457160"/>
              <a:chExt cx="2795400" cy="424800"/>
            </a:xfrm>
          </p:grpSpPr>
          <p:sp>
            <p:nvSpPr>
              <p:cNvPr id="1100" name=""/>
              <p:cNvSpPr/>
              <p:nvPr/>
            </p:nvSpPr>
            <p:spPr>
              <a:xfrm>
                <a:off x="2552760" y="4457520"/>
                <a:ext cx="788760" cy="4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4559760" y="4457160"/>
                <a:ext cx="788400" cy="4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>
              <a:off x="5348880" y="1546920"/>
              <a:ext cx="0" cy="2910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2552760" y="1546920"/>
              <a:ext cx="2795400" cy="424800"/>
              <a:chOff x="2552760" y="1546920"/>
              <a:chExt cx="2795400" cy="424800"/>
            </a:xfrm>
          </p:grpSpPr>
          <p:sp>
            <p:nvSpPr>
              <p:cNvPr id="1104" name=""/>
              <p:cNvSpPr/>
              <p:nvPr/>
            </p:nvSpPr>
            <p:spPr>
              <a:xfrm>
                <a:off x="2552760" y="1546920"/>
                <a:ext cx="788760" cy="42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4559760" y="1546920"/>
                <a:ext cx="788400" cy="42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 flipH="1">
              <a:off x="2050920" y="3002400"/>
              <a:ext cx="64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70240" y="3305160"/>
              <a:ext cx="429480" cy="485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4201560" y="3305160"/>
              <a:ext cx="429480" cy="485280"/>
            </a:xfrm>
            <a:prstGeom prst="line">
              <a:avLst/>
            </a:prstGeom>
            <a:ln w="7632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054600" y="3426840"/>
              <a:ext cx="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46680" y="3426840"/>
              <a:ext cx="0" cy="971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628440" y="3002400"/>
              <a:ext cx="572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3197880" y="2335320"/>
              <a:ext cx="358560" cy="36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201920" y="2335320"/>
              <a:ext cx="358560" cy="36360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902040" y="1212840"/>
              <a:ext cx="0" cy="605520"/>
            </a:xfrm>
            <a:prstGeom prst="line">
              <a:avLst/>
            </a:prstGeom>
            <a:ln w="1522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965400" y="5031000"/>
              <a:ext cx="0" cy="48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27200" y="1602360"/>
              <a:ext cx="0" cy="2910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118760" y="345780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10800" y="235368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60680" y="1858320"/>
              <a:ext cx="689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3366"/>
                  </a:solidFill>
                  <a:latin typeface="Times New Roman"/>
                </a:rPr>
                <a:t>*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01680" y="92556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99320" y="471240"/>
              <a:ext cx="572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637160" y="3798720"/>
              <a:ext cx="1374480" cy="129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131000" y="2824920"/>
              <a:ext cx="1808280" cy="64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20080" y="1396440"/>
              <a:ext cx="1519200" cy="64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433480" y="942120"/>
              <a:ext cx="650880" cy="64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54240" y="2435400"/>
              <a:ext cx="10850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D7BA-03A8-4111-BE28-C5BE8FEE201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144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ffers and feed add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402920" y="974520"/>
            <a:ext cx="6862680" cy="24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of acid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% of anim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arbon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ton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voparcin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658200" y="522936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tchison et al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74800" y="981000"/>
            <a:ext cx="744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38080" y="2349360"/>
            <a:ext cx="744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900000" y="4941720"/>
            <a:ext cx="744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0160-BA8A-4DB5-8943-3B3478B177E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295280" y="1465200"/>
            <a:ext cx="709308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vopar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Virginiamy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µg/m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pH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t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p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Lac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.1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.6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.2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.7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.3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.7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.4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.6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57200"/>
                <a:tab algn="dec" pos="1714680"/>
                <a:tab algn="dec" pos="3143160"/>
                <a:tab algn="dec" pos="480060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9080" y="189000"/>
            <a:ext cx="701496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of lactic acid in vitr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quine caecal contents and ground whe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11400" y="1676520"/>
            <a:ext cx="6924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219320" y="177336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58920" y="479736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87280" y="29242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6D97-8F7F-4DDB-AE1A-39D0B6B5C16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576360" y="1598760"/>
            <a:ext cx="799128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ume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mol/L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405d"/>
                </a:solidFill>
                <a:latin typeface="Arial"/>
              </a:rPr>
              <a:t>Wheat alone</a:t>
            </a:r>
            <a:r>
              <a:rPr b="1" lang="en-US" sz="1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5405d"/>
                </a:solidFill>
                <a:latin typeface="Arial"/>
              </a:rPr>
              <a:t>4.72</a:t>
            </a:r>
            <a:r>
              <a:rPr b="1" lang="en-US" sz="1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5405d"/>
                </a:solidFill>
                <a:latin typeface="Arial"/>
              </a:rPr>
              <a:t>86.9</a:t>
            </a:r>
            <a:r>
              <a:rPr b="1" lang="en-US" sz="1800" spc="-1" strike="noStrike">
                <a:solidFill>
                  <a:srgbClr val="e5405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5405d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heat + VM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.47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0.3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.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619440"/>
                <a:tab algn="ctr" pos="5334120"/>
                <a:tab algn="ctr" pos="742968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687240" y="2146320"/>
            <a:ext cx="7701120" cy="3154320"/>
            <a:chOff x="687240" y="2146320"/>
            <a:chExt cx="7701120" cy="3154320"/>
          </a:xfrm>
        </p:grpSpPr>
        <p:sp>
          <p:nvSpPr>
            <p:cNvPr id="1141" name=""/>
            <p:cNvSpPr/>
            <p:nvPr/>
          </p:nvSpPr>
          <p:spPr>
            <a:xfrm>
              <a:off x="687240" y="2146320"/>
              <a:ext cx="770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7240" y="3328920"/>
              <a:ext cx="770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7240" y="5300640"/>
              <a:ext cx="770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395280" y="-27000"/>
            <a:ext cx="7910640" cy="1122120"/>
            <a:chOff x="395280" y="-27000"/>
            <a:chExt cx="7910640" cy="1122120"/>
          </a:xfrm>
        </p:grpSpPr>
        <p:sp>
          <p:nvSpPr>
            <p:cNvPr id="1145" name=""/>
            <p:cNvSpPr/>
            <p:nvPr/>
          </p:nvSpPr>
          <p:spPr>
            <a:xfrm>
              <a:off x="395280" y="-27000"/>
              <a:ext cx="79106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udden exposure of sheep to whe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16960" y="731880"/>
              <a:ext cx="211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(Godfrey et al. 199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0957-F905-4DEB-9B11-F2619F7340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536400" y="189000"/>
            <a:ext cx="78519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VM on diarrhoea in 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27880" y="6035760"/>
            <a:ext cx="2956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s of soft fa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33440" y="907920"/>
            <a:ext cx="209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 et al. 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266120" y="1341360"/>
            <a:ext cx="6582600" cy="4095720"/>
            <a:chOff x="1266120" y="1341360"/>
            <a:chExt cx="6582600" cy="4095720"/>
          </a:xfrm>
        </p:grpSpPr>
        <p:sp>
          <p:nvSpPr>
            <p:cNvPr id="1151" name=""/>
            <p:cNvSpPr/>
            <p:nvPr/>
          </p:nvSpPr>
          <p:spPr>
            <a:xfrm flipV="1">
              <a:off x="1922040" y="1741320"/>
              <a:ext cx="0" cy="32004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109960" y="1341360"/>
              <a:ext cx="1086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96840" y="3322440"/>
              <a:ext cx="70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78840" y="3779640"/>
              <a:ext cx="1086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141680" y="4313160"/>
              <a:ext cx="70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920240" y="4935240"/>
              <a:ext cx="5781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22040" y="48844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369960" y="48844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18240" y="48844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266880" y="48844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15160" y="48844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38800" y="1792080"/>
              <a:ext cx="180000" cy="3138480"/>
            </a:xfrm>
            <a:custGeom>
              <a:avLst/>
              <a:gdLst/>
              <a:ahLst/>
              <a:rect l="l" t="t" r="r" b="b"/>
              <a:pathLst>
                <a:path w="123" h="1977">
                  <a:moveTo>
                    <a:pt x="122" y="1896"/>
                  </a:moveTo>
                  <a:lnTo>
                    <a:pt x="122" y="0"/>
                  </a:lnTo>
                  <a:lnTo>
                    <a:pt x="0" y="88"/>
                  </a:lnTo>
                  <a:lnTo>
                    <a:pt x="0" y="1976"/>
                  </a:lnTo>
                  <a:lnTo>
                    <a:pt x="122" y="1896"/>
                  </a:lnTo>
                </a:path>
              </a:pathLst>
            </a:custGeom>
            <a:solidFill>
              <a:srgbClr val="7a3d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131200" y="1931760"/>
              <a:ext cx="508320" cy="2998800"/>
            </a:xfrm>
            <a:custGeom>
              <a:avLst/>
              <a:gdLst/>
              <a:ahLst/>
              <a:rect l="l" t="t" r="r" b="b"/>
              <a:pathLst>
                <a:path w="347" h="1889">
                  <a:moveTo>
                    <a:pt x="346" y="1888"/>
                  </a:moveTo>
                  <a:lnTo>
                    <a:pt x="346" y="0"/>
                  </a:lnTo>
                  <a:lnTo>
                    <a:pt x="0" y="0"/>
                  </a:lnTo>
                  <a:lnTo>
                    <a:pt x="0" y="1888"/>
                  </a:lnTo>
                  <a:lnTo>
                    <a:pt x="346" y="1888"/>
                  </a:lnTo>
                </a:path>
              </a:pathLst>
            </a:custGeom>
            <a:solidFill>
              <a:srgbClr val="f57b4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131200" y="1792080"/>
              <a:ext cx="687240" cy="141480"/>
            </a:xfrm>
            <a:custGeom>
              <a:avLst/>
              <a:gdLst/>
              <a:ahLst/>
              <a:rect l="l" t="t" r="r" b="b"/>
              <a:pathLst>
                <a:path w="469" h="89">
                  <a:moveTo>
                    <a:pt x="468" y="0"/>
                  </a:moveTo>
                  <a:lnTo>
                    <a:pt x="347" y="88"/>
                  </a:lnTo>
                  <a:lnTo>
                    <a:pt x="0" y="88"/>
                  </a:lnTo>
                  <a:lnTo>
                    <a:pt x="121" y="0"/>
                  </a:lnTo>
                  <a:lnTo>
                    <a:pt x="468" y="0"/>
                  </a:lnTo>
                </a:path>
              </a:pathLst>
            </a:custGeom>
            <a:solidFill>
              <a:srgbClr val="b75c3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60440" y="4128840"/>
              <a:ext cx="165240" cy="801720"/>
            </a:xfrm>
            <a:custGeom>
              <a:avLst/>
              <a:gdLst/>
              <a:ahLst/>
              <a:rect l="l" t="t" r="r" b="b"/>
              <a:pathLst>
                <a:path w="113" h="505">
                  <a:moveTo>
                    <a:pt x="112" y="424"/>
                  </a:moveTo>
                  <a:lnTo>
                    <a:pt x="112" y="0"/>
                  </a:lnTo>
                  <a:lnTo>
                    <a:pt x="0" y="80"/>
                  </a:lnTo>
                  <a:lnTo>
                    <a:pt x="0" y="504"/>
                  </a:lnTo>
                  <a:lnTo>
                    <a:pt x="112" y="424"/>
                  </a:lnTo>
                </a:path>
              </a:pathLst>
            </a:custGeom>
            <a:solidFill>
              <a:srgbClr val="7904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38800" y="4255920"/>
              <a:ext cx="523080" cy="674640"/>
            </a:xfrm>
            <a:custGeom>
              <a:avLst/>
              <a:gdLst/>
              <a:ahLst/>
              <a:rect l="l" t="t" r="r" b="b"/>
              <a:pathLst>
                <a:path w="357" h="425">
                  <a:moveTo>
                    <a:pt x="356" y="424"/>
                  </a:moveTo>
                  <a:lnTo>
                    <a:pt x="356" y="0"/>
                  </a:lnTo>
                  <a:lnTo>
                    <a:pt x="0" y="0"/>
                  </a:lnTo>
                  <a:lnTo>
                    <a:pt x="0" y="424"/>
                  </a:lnTo>
                  <a:lnTo>
                    <a:pt x="356" y="424"/>
                  </a:lnTo>
                </a:path>
              </a:pathLst>
            </a:custGeom>
            <a:solidFill>
              <a:srgbClr val="f2088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38800" y="4128840"/>
              <a:ext cx="687240" cy="128880"/>
            </a:xfrm>
            <a:custGeom>
              <a:avLst/>
              <a:gdLst/>
              <a:ahLst/>
              <a:rect l="l" t="t" r="r" b="b"/>
              <a:pathLst>
                <a:path w="469" h="81">
                  <a:moveTo>
                    <a:pt x="468" y="0"/>
                  </a:moveTo>
                  <a:lnTo>
                    <a:pt x="355" y="80"/>
                  </a:lnTo>
                  <a:lnTo>
                    <a:pt x="0" y="80"/>
                  </a:lnTo>
                  <a:lnTo>
                    <a:pt x="121" y="0"/>
                  </a:lnTo>
                  <a:lnTo>
                    <a:pt x="468" y="0"/>
                  </a:lnTo>
                </a:path>
              </a:pathLst>
            </a:custGeom>
            <a:solidFill>
              <a:srgbClr val="b5066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87080" y="2566800"/>
              <a:ext cx="180000" cy="2363760"/>
            </a:xfrm>
            <a:custGeom>
              <a:avLst/>
              <a:gdLst/>
              <a:ahLst/>
              <a:rect l="l" t="t" r="r" b="b"/>
              <a:pathLst>
                <a:path w="123" h="1489">
                  <a:moveTo>
                    <a:pt x="122" y="1408"/>
                  </a:moveTo>
                  <a:lnTo>
                    <a:pt x="122" y="0"/>
                  </a:lnTo>
                  <a:lnTo>
                    <a:pt x="0" y="88"/>
                  </a:lnTo>
                  <a:lnTo>
                    <a:pt x="0" y="1488"/>
                  </a:lnTo>
                  <a:lnTo>
                    <a:pt x="122" y="1408"/>
                  </a:lnTo>
                </a:path>
              </a:pathLst>
            </a:custGeom>
            <a:solidFill>
              <a:srgbClr val="7a3d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79840" y="2706480"/>
              <a:ext cx="508320" cy="2224080"/>
            </a:xfrm>
            <a:custGeom>
              <a:avLst/>
              <a:gdLst/>
              <a:ahLst/>
              <a:rect l="l" t="t" r="r" b="b"/>
              <a:pathLst>
                <a:path w="347" h="1401">
                  <a:moveTo>
                    <a:pt x="346" y="1400"/>
                  </a:moveTo>
                  <a:lnTo>
                    <a:pt x="346" y="0"/>
                  </a:lnTo>
                  <a:lnTo>
                    <a:pt x="0" y="0"/>
                  </a:lnTo>
                  <a:lnTo>
                    <a:pt x="0" y="1400"/>
                  </a:lnTo>
                  <a:lnTo>
                    <a:pt x="346" y="1400"/>
                  </a:lnTo>
                </a:path>
              </a:pathLst>
            </a:custGeom>
            <a:solidFill>
              <a:srgbClr val="f57b4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79840" y="2566800"/>
              <a:ext cx="687240" cy="141480"/>
            </a:xfrm>
            <a:custGeom>
              <a:avLst/>
              <a:gdLst/>
              <a:ahLst/>
              <a:rect l="l" t="t" r="r" b="b"/>
              <a:pathLst>
                <a:path w="469" h="89">
                  <a:moveTo>
                    <a:pt x="468" y="0"/>
                  </a:moveTo>
                  <a:lnTo>
                    <a:pt x="347" y="88"/>
                  </a:lnTo>
                  <a:lnTo>
                    <a:pt x="0" y="88"/>
                  </a:lnTo>
                  <a:lnTo>
                    <a:pt x="121" y="0"/>
                  </a:lnTo>
                  <a:lnTo>
                    <a:pt x="468" y="0"/>
                  </a:lnTo>
                </a:path>
              </a:pathLst>
            </a:custGeom>
            <a:solidFill>
              <a:srgbClr val="b75c3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95760" y="4484520"/>
              <a:ext cx="178560" cy="446040"/>
            </a:xfrm>
            <a:custGeom>
              <a:avLst/>
              <a:gdLst/>
              <a:ahLst/>
              <a:rect l="l" t="t" r="r" b="b"/>
              <a:pathLst>
                <a:path w="122" h="281">
                  <a:moveTo>
                    <a:pt x="121" y="200"/>
                  </a:moveTo>
                  <a:lnTo>
                    <a:pt x="121" y="0"/>
                  </a:lnTo>
                  <a:lnTo>
                    <a:pt x="0" y="80"/>
                  </a:lnTo>
                  <a:lnTo>
                    <a:pt x="0" y="280"/>
                  </a:lnTo>
                  <a:lnTo>
                    <a:pt x="121" y="200"/>
                  </a:lnTo>
                </a:path>
              </a:pathLst>
            </a:custGeom>
            <a:solidFill>
              <a:srgbClr val="7904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87080" y="4611600"/>
              <a:ext cx="509760" cy="318960"/>
            </a:xfrm>
            <a:custGeom>
              <a:avLst/>
              <a:gdLst/>
              <a:ahLst/>
              <a:rect l="l" t="t" r="r" b="b"/>
              <a:pathLst>
                <a:path w="348" h="201">
                  <a:moveTo>
                    <a:pt x="347" y="200"/>
                  </a:moveTo>
                  <a:lnTo>
                    <a:pt x="347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347" y="200"/>
                  </a:lnTo>
                </a:path>
              </a:pathLst>
            </a:custGeom>
            <a:solidFill>
              <a:srgbClr val="f2088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87080" y="4484520"/>
              <a:ext cx="687240" cy="128520"/>
            </a:xfrm>
            <a:custGeom>
              <a:avLst/>
              <a:gdLst/>
              <a:ahLst/>
              <a:rect l="l" t="t" r="r" b="b"/>
              <a:pathLst>
                <a:path w="469" h="81">
                  <a:moveTo>
                    <a:pt x="468" y="0"/>
                  </a:moveTo>
                  <a:lnTo>
                    <a:pt x="347" y="80"/>
                  </a:lnTo>
                  <a:lnTo>
                    <a:pt x="0" y="80"/>
                  </a:lnTo>
                  <a:lnTo>
                    <a:pt x="121" y="0"/>
                  </a:lnTo>
                  <a:lnTo>
                    <a:pt x="468" y="0"/>
                  </a:lnTo>
                </a:path>
              </a:pathLst>
            </a:custGeom>
            <a:solidFill>
              <a:srgbClr val="b5066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535360" y="2744640"/>
              <a:ext cx="180000" cy="2185920"/>
            </a:xfrm>
            <a:custGeom>
              <a:avLst/>
              <a:gdLst/>
              <a:ahLst/>
              <a:rect l="l" t="t" r="r" b="b"/>
              <a:pathLst>
                <a:path w="123" h="1377">
                  <a:moveTo>
                    <a:pt x="122" y="1296"/>
                  </a:moveTo>
                  <a:lnTo>
                    <a:pt x="122" y="0"/>
                  </a:lnTo>
                  <a:lnTo>
                    <a:pt x="0" y="88"/>
                  </a:lnTo>
                  <a:lnTo>
                    <a:pt x="0" y="1376"/>
                  </a:lnTo>
                  <a:lnTo>
                    <a:pt x="122" y="1296"/>
                  </a:lnTo>
                </a:path>
              </a:pathLst>
            </a:custGeom>
            <a:solidFill>
              <a:srgbClr val="7a3d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28120" y="2884320"/>
              <a:ext cx="508320" cy="2046240"/>
            </a:xfrm>
            <a:custGeom>
              <a:avLst/>
              <a:gdLst/>
              <a:ahLst/>
              <a:rect l="l" t="t" r="r" b="b"/>
              <a:pathLst>
                <a:path w="347" h="1289">
                  <a:moveTo>
                    <a:pt x="346" y="1288"/>
                  </a:moveTo>
                  <a:lnTo>
                    <a:pt x="346" y="0"/>
                  </a:lnTo>
                  <a:lnTo>
                    <a:pt x="0" y="0"/>
                  </a:lnTo>
                  <a:lnTo>
                    <a:pt x="0" y="1288"/>
                  </a:lnTo>
                  <a:lnTo>
                    <a:pt x="346" y="1288"/>
                  </a:lnTo>
                </a:path>
              </a:pathLst>
            </a:custGeom>
            <a:solidFill>
              <a:srgbClr val="f57b4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28120" y="2744640"/>
              <a:ext cx="687240" cy="141480"/>
            </a:xfrm>
            <a:custGeom>
              <a:avLst/>
              <a:gdLst/>
              <a:ahLst/>
              <a:rect l="l" t="t" r="r" b="b"/>
              <a:pathLst>
                <a:path w="469" h="89">
                  <a:moveTo>
                    <a:pt x="468" y="0"/>
                  </a:moveTo>
                  <a:lnTo>
                    <a:pt x="347" y="88"/>
                  </a:lnTo>
                  <a:lnTo>
                    <a:pt x="0" y="88"/>
                  </a:lnTo>
                  <a:lnTo>
                    <a:pt x="121" y="0"/>
                  </a:lnTo>
                  <a:lnTo>
                    <a:pt x="468" y="0"/>
                  </a:lnTo>
                </a:path>
              </a:pathLst>
            </a:custGeom>
            <a:solidFill>
              <a:srgbClr val="b75c3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44040" y="4802040"/>
              <a:ext cx="178560" cy="12852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1" y="0"/>
                  </a:moveTo>
                  <a:lnTo>
                    <a:pt x="121" y="0"/>
                  </a:lnTo>
                  <a:lnTo>
                    <a:pt x="0" y="80"/>
                  </a:lnTo>
                  <a:lnTo>
                    <a:pt x="121" y="0"/>
                  </a:lnTo>
                </a:path>
              </a:pathLst>
            </a:custGeom>
            <a:solidFill>
              <a:srgbClr val="7904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535360" y="4929120"/>
              <a:ext cx="509760" cy="144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347" y="0"/>
                  </a:moveTo>
                  <a:lnTo>
                    <a:pt x="347" y="0"/>
                  </a:lnTo>
                  <a:lnTo>
                    <a:pt x="0" y="0"/>
                  </a:lnTo>
                  <a:lnTo>
                    <a:pt x="347" y="0"/>
                  </a:lnTo>
                </a:path>
              </a:pathLst>
            </a:custGeom>
            <a:solidFill>
              <a:srgbClr val="f2088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535360" y="4802040"/>
              <a:ext cx="687240" cy="128520"/>
            </a:xfrm>
            <a:custGeom>
              <a:avLst/>
              <a:gdLst/>
              <a:ahLst/>
              <a:rect l="l" t="t" r="r" b="b"/>
              <a:pathLst>
                <a:path w="469" h="81">
                  <a:moveTo>
                    <a:pt x="468" y="0"/>
                  </a:moveTo>
                  <a:lnTo>
                    <a:pt x="347" y="80"/>
                  </a:lnTo>
                  <a:lnTo>
                    <a:pt x="0" y="80"/>
                  </a:lnTo>
                  <a:lnTo>
                    <a:pt x="121" y="0"/>
                  </a:lnTo>
                  <a:lnTo>
                    <a:pt x="468" y="0"/>
                  </a:lnTo>
                </a:path>
              </a:pathLst>
            </a:custGeom>
            <a:solidFill>
              <a:srgbClr val="b5066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83640" y="4268520"/>
              <a:ext cx="180360" cy="662040"/>
            </a:xfrm>
            <a:custGeom>
              <a:avLst/>
              <a:gdLst/>
              <a:ahLst/>
              <a:rect l="l" t="t" r="r" b="b"/>
              <a:pathLst>
                <a:path w="123" h="417">
                  <a:moveTo>
                    <a:pt x="122" y="336"/>
                  </a:moveTo>
                  <a:lnTo>
                    <a:pt x="122" y="0"/>
                  </a:lnTo>
                  <a:lnTo>
                    <a:pt x="0" y="80"/>
                  </a:lnTo>
                  <a:lnTo>
                    <a:pt x="0" y="416"/>
                  </a:lnTo>
                  <a:lnTo>
                    <a:pt x="122" y="336"/>
                  </a:lnTo>
                </a:path>
              </a:pathLst>
            </a:custGeom>
            <a:solidFill>
              <a:srgbClr val="7a3d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476760" y="4395600"/>
              <a:ext cx="508320" cy="534960"/>
            </a:xfrm>
            <a:custGeom>
              <a:avLst/>
              <a:gdLst/>
              <a:ahLst/>
              <a:rect l="l" t="t" r="r" b="b"/>
              <a:pathLst>
                <a:path w="347" h="337">
                  <a:moveTo>
                    <a:pt x="346" y="336"/>
                  </a:moveTo>
                  <a:lnTo>
                    <a:pt x="346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346" y="336"/>
                  </a:lnTo>
                </a:path>
              </a:pathLst>
            </a:custGeom>
            <a:solidFill>
              <a:srgbClr val="f57b4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476760" y="4268520"/>
              <a:ext cx="687240" cy="128880"/>
            </a:xfrm>
            <a:custGeom>
              <a:avLst/>
              <a:gdLst/>
              <a:ahLst/>
              <a:rect l="l" t="t" r="r" b="b"/>
              <a:pathLst>
                <a:path w="469" h="81">
                  <a:moveTo>
                    <a:pt x="468" y="0"/>
                  </a:moveTo>
                  <a:lnTo>
                    <a:pt x="347" y="80"/>
                  </a:lnTo>
                  <a:lnTo>
                    <a:pt x="0" y="80"/>
                  </a:lnTo>
                  <a:lnTo>
                    <a:pt x="113" y="0"/>
                  </a:lnTo>
                  <a:lnTo>
                    <a:pt x="468" y="0"/>
                  </a:lnTo>
                </a:path>
              </a:pathLst>
            </a:custGeom>
            <a:solidFill>
              <a:srgbClr val="b75c3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92680" y="4802040"/>
              <a:ext cx="178560" cy="12852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1" y="0"/>
                  </a:moveTo>
                  <a:lnTo>
                    <a:pt x="121" y="0"/>
                  </a:lnTo>
                  <a:lnTo>
                    <a:pt x="0" y="80"/>
                  </a:lnTo>
                  <a:lnTo>
                    <a:pt x="121" y="0"/>
                  </a:lnTo>
                </a:path>
              </a:pathLst>
            </a:custGeom>
            <a:solidFill>
              <a:srgbClr val="7904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83640" y="4929120"/>
              <a:ext cx="510120" cy="144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347" y="0"/>
                  </a:moveTo>
                  <a:lnTo>
                    <a:pt x="347" y="0"/>
                  </a:lnTo>
                  <a:lnTo>
                    <a:pt x="0" y="0"/>
                  </a:lnTo>
                  <a:lnTo>
                    <a:pt x="347" y="0"/>
                  </a:lnTo>
                </a:path>
              </a:pathLst>
            </a:custGeom>
            <a:solidFill>
              <a:srgbClr val="f2088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983640" y="4802040"/>
              <a:ext cx="687600" cy="128520"/>
            </a:xfrm>
            <a:custGeom>
              <a:avLst/>
              <a:gdLst/>
              <a:ahLst/>
              <a:rect l="l" t="t" r="r" b="b"/>
              <a:pathLst>
                <a:path w="469" h="81">
                  <a:moveTo>
                    <a:pt x="468" y="0"/>
                  </a:moveTo>
                  <a:lnTo>
                    <a:pt x="347" y="80"/>
                  </a:lnTo>
                  <a:lnTo>
                    <a:pt x="0" y="80"/>
                  </a:lnTo>
                  <a:lnTo>
                    <a:pt x="121" y="0"/>
                  </a:lnTo>
                  <a:lnTo>
                    <a:pt x="468" y="0"/>
                  </a:lnTo>
                </a:path>
              </a:pathLst>
            </a:custGeom>
            <a:solidFill>
              <a:srgbClr val="b5066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1908360" y="493524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1908360" y="4579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1908360" y="4224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1908360" y="38811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1908360" y="3525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1908360" y="31701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1908360" y="28144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1908360" y="24588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1908360" y="21034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908360" y="1760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1266120" y="1492200"/>
              <a:ext cx="486360" cy="3286800"/>
              <a:chOff x="1266120" y="1492200"/>
              <a:chExt cx="486360" cy="32868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266120" y="432432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266120" y="361296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266120" y="290196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266120" y="220320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66120" y="149220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2" name=""/>
            <p:cNvSpPr/>
            <p:nvPr/>
          </p:nvSpPr>
          <p:spPr>
            <a:xfrm>
              <a:off x="1926360" y="4935240"/>
              <a:ext cx="577008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22040" y="4884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69960" y="4967280"/>
              <a:ext cx="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18240" y="496080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66880" y="496080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715160" y="496080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2497320" y="5043240"/>
              <a:ext cx="4654080" cy="393840"/>
              <a:chOff x="2497320" y="5043240"/>
              <a:chExt cx="4654080" cy="393840"/>
            </a:xfrm>
          </p:grpSpPr>
          <p:sp>
            <p:nvSpPr>
              <p:cNvPr id="1209" name=""/>
              <p:cNvSpPr/>
              <p:nvPr/>
            </p:nvSpPr>
            <p:spPr>
              <a:xfrm>
                <a:off x="2497320" y="5043240"/>
                <a:ext cx="309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945240" y="5043240"/>
                <a:ext cx="309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393520" y="5043240"/>
                <a:ext cx="309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841800" y="5043240"/>
                <a:ext cx="309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3" name=""/>
          <p:cNvSpPr/>
          <p:nvPr/>
        </p:nvSpPr>
        <p:spPr>
          <a:xfrm rot="16200000">
            <a:off x="-56160" y="3006720"/>
            <a:ext cx="182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%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2AD7-AC25-46D1-8CCE-FC11DE13C98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8265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CF9B-5359-45B0-9C31-61BCACD2B214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3992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ock will you feed? And for what marke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more valuable will the stock be after they have been f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value of the stock at the time you plan to start feeding and again when they have reache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n you afford to spend on feed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CD6E-CD7B-46AF-8746-F07D7624F6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1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sonal conditi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pastur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371600"/>
            <a:ext cx="7561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est predictions of pasture production and uti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nutritional requirements of stock at different times of the year particularly when feed is likely to be in short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Access to determine probability of different seasonal conditions - don’t gu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A7F5-E89B-465A-8B4D-065A14894C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160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nutrients are required in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eed suppl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56204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animal’s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kely to be supplied by the pas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utrients need to be provided as suppl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est feed supplement to buy or m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best time to buy/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special requirements for storage and feeding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B707-81C6-4D41-A384-83FE885EF2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08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al and Technical Aspec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270080"/>
            <a:ext cx="77724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est way to purchase suppl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prior to purchase - what aspects of quality are important and what factors are likely to v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requirements an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before or after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ur and equipment for feed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costs and r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8791-D33A-4918-89D7-3D77B8614F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real costs of feeds and fee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205000"/>
            <a:ext cx="596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determine what really makes a good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2FF3-9ACC-46CE-9E01-2DBEC5581A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feeds 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ble energy 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777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content of the feed (MJ/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estibility of the feed (% of int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h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5427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135A-7785-4568-996B-82CB8D73CAF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mwatson2</cp:lastModifiedBy>
  <dcterms:modified xsi:type="dcterms:W3CDTF">2005-02-22T04:18:10Z</dcterms:modified>
  <cp:revision>65</cp:revision>
  <dc:subject/>
  <dc:title>PowerPoint Presentation</dc:title>
</cp:coreProperties>
</file>