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1D6-31F3-45BF-ACA6-36AE887666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9600-ADF7-4CA4-A02A-83D23E2F573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34CC-0FCF-475E-98E4-4B816351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4880" y="3405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AF68-0D41-47E7-8865-275ECAB57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756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A05E-8C82-45E4-9A2F-C6004820A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288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52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488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288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52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8E9F-8DF2-4954-8281-3317F524A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28D6-1B24-455F-B4DE-4DF1F8868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671B-8D06-4041-BB3E-EB98F0596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DC2E-BA5B-4B1D-B665-9E7EB7BB0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33D9-2574-4ED3-A249-B62DE09B32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3FEC-228E-4242-9486-C277976DD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87440" y="13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22CC-4558-4412-BD58-46052594D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B4D2-BFDC-4A66-A63C-FAABC10EF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85E7-7A4C-41A2-BE51-0D9A84CDE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756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3DB7-E89E-4C3F-BEBD-344532538F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0EE1-52D7-40A6-9F47-1D57A5C93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4880" y="3405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0A05-C368-474D-8BA2-113BDB38E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756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19F1-BB25-46CB-9D94-90DC110FAC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288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520" y="15346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488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288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520" y="3405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C115-8533-48F1-86E1-75F63DD9F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51E1-B0E7-4B8D-B977-81B1FC2CC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D2FB-A0B0-41D4-AE28-3573B3BED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51E0-54F8-4B0F-9A2E-51C8AFB28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440" y="13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73B4-99A5-4B63-848E-094B887B0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D8FB-40DD-4214-A917-B787213B8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7560" y="3405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C1AD-9289-4FE9-8A20-7B75AF2D8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488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5346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4880" y="3405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D001-74B9-47BE-A48D-4C7EFB8B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0BCE-4B9D-445B-B02A-E924F0F310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13744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96E-B1BB-4B03-B553-37256E366F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3040" y="11484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heep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75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opic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3863-1084-4F2D-BD0B-E96E3440C9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7360" y="174600"/>
            <a:ext cx="7218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ternal parasites of she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93960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cond most important diseas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terms of significance. Flies &gt; lice &gt; m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84200" y="1862280"/>
          <a:ext cx="585792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862280"/>
                    <a:ext cx="58579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6FF-FB95-4FA9-9AC5-CD7F684D0A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360" y="171000"/>
            <a:ext cx="68580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heep blowfly str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7600" y="785520"/>
            <a:ext cx="80010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Breec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pizzle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poll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wound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str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ly lays eggs on suitabl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rvae (maggots) grow on skin and tissues, fall off develop further in the soil then emerge as f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use severe generalised acute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 kill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ked reduction in wool quality (SS e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asonal - warm wet weather, scouring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ltiple contro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lesing, tail docking, crutching, chemicals, genetic resistance, timing of shearing, controlling scours, fly tr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blems with chemical residues in wool - esp. European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98BE-B7A0-46AB-B0D1-163BBB4356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440" y="70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heep body louse inf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3680" y="960480"/>
            <a:ext cx="800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ole lifecycle on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ery slow reproductive rate. Slow build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read by sheep-sheep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use severe irritation to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 generalised effects or reduced wool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ol quality reduced due to rubbing, biting etc - co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ol quantity reduced by wool pulled out of the fle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radication and quarantine possible. Need good fe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ecticides used to treat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ortwool treatments are most effective and create the least problems with resid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f-shears dipping or backline treatment is the most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1319-F4A1-415A-A72C-25B007C21E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04880" y="15346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F612-E6C9-4216-A42F-463B7C454A9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2566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 framework for understanding dise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2840" y="13093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is a continuum from healthy to unhealthy (diseased)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fectious v. non-infectiou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ease incidence is multifactorial. Vari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st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thogen/parasite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vironment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nical v. sub-clinical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aches to controlling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ventive, Tactical, Strategic, Cur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9859-0EBF-447F-A8C3-A300DCD934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6720" y="220320"/>
            <a:ext cx="74757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ajor disease syndromes in she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90760" y="839880"/>
            <a:ext cx="648180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3D1E-FE5D-4AFC-9AA5-2D6C81F3F6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2280" y="18540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mpact of dise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9120" y="1063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ss of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st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ss of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ological/Diseas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calised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eneralised or system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reased efficiency of feed utilisation for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fic effects of disease on woo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E419-8EB3-4A6F-A330-02C429B020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100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verview of the effects of key diseases on wool production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(GFW-Greasy fleece weight , MFD-Mean fibre diameter, SL-Staple length, SS-Staple streng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57200" y="1333440"/>
          <a:ext cx="6645240" cy="43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333440"/>
                    <a:ext cx="664524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37CB-DF2C-4DA4-86DC-24E428A5B5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169560"/>
            <a:ext cx="68580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rnal parasites of she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993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ajor disease problem of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terms of significance   Roundworms &gt; flukes &gt; tapew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00200" y="1407960"/>
          <a:ext cx="6019920" cy="29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07960"/>
                    <a:ext cx="6019920" cy="29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32000" y="3156120"/>
            <a:ext cx="144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ff0000"/>
                </a:solidFill>
                <a:latin typeface="Arial"/>
              </a:rPr>
              <a:t>(Barber’s pole w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2000" y="3395520"/>
            <a:ext cx="135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ff0000"/>
                </a:solidFill>
                <a:latin typeface="Arial"/>
              </a:rPr>
              <a:t>(Black scour w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040" y="361944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ff0000"/>
                </a:solidFill>
                <a:latin typeface="Arial"/>
              </a:rPr>
              <a:t>(Brown stomach w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7720" y="34290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ff0000"/>
                </a:solidFill>
                <a:latin typeface="Arial"/>
              </a:rPr>
              <a:t>(Liver flu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9960" y="342756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ff0000"/>
                </a:solidFill>
                <a:latin typeface="Arial"/>
              </a:rPr>
              <a:t>(Sheep tapew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E3E5-79C9-425D-B8B4-50264D307B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14600" y="3137040"/>
            <a:ext cx="4356000" cy="3111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00600" y="166680"/>
            <a:ext cx="4114800" cy="2894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40280" y="64278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ource: Brightling, 1994 “Stock dise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60600" y="2263680"/>
            <a:ext cx="2206440" cy="723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(next to a 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432320"/>
            <a:ext cx="1981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iver flu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69800"/>
            <a:ext cx="19699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apew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3123-571F-430A-9505-F6A4F86C35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0280" y="191880"/>
            <a:ext cx="6858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8760" y="1109160"/>
            <a:ext cx="80010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rrhoea, anaemia, ill thrift,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-clinical disease (chr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d feed intake, growth, woo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nitor by worm egg count in faeces (W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rval culture required to determine genus/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rol i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avily reliant on chemicals (anthelmin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despread anthelmintic resistance 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ve to integrated parasite management (I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razing management, chemicals, nutrition, genetics, quaran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2524-133A-4C6F-9563-F172E677BF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9120" y="231840"/>
            <a:ext cx="6858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iver flu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7840" y="925200"/>
            <a:ext cx="80010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plex life cycle involving freshwater s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reatly restricts distribution of para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it occurs it is very se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ute liver fluke - sudde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ronic liver fluke - severe produc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clinical liver fluke - moderate produc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lack disease (link with bacteria) - sudde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gnosed by post mortem or special W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emicals. Still mostly effective. Vary in stages of lifecycle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encing off of severely affected areas (swampy, w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ttle more resistant than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305F-65AC-47CE-8F50-4825ECD686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3:10:30Z</dcterms:created>
  <dc:creator>Cottle</dc:creator>
  <dc:description/>
  <dc:language>en-US</dc:language>
  <cp:lastModifiedBy>mwatson2</cp:lastModifiedBy>
  <dcterms:modified xsi:type="dcterms:W3CDTF">2005-01-31T01:16:07Z</dcterms:modified>
  <cp:revision>42</cp:revision>
  <dc:subject/>
  <dc:title>Slide 1</dc:title>
</cp:coreProperties>
</file>