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2.wmf" ContentType="image/x-wmf"/>
  <Override PartName="/ppt/media/image1.jpeg" ContentType="image/jpeg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5486400" cy="4279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1887-3BF1-476C-A5BE-3A30319C7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351C-5A51-4249-8771-B925AEC8F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601C-7952-4306-BC71-A2645DC71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9054-0DEB-46C9-BCF7-A68DF2EDA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07C4-2F27-4422-B331-D4B5ED4EDC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AAAB-7EFE-4480-BBB4-395F3E7B6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75F5-A535-473B-AA27-41062511F9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815C-BFE4-48D1-93E9-DD2D1F563D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4D65-562E-409A-80C1-18F5571E6E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8E54-8A65-4520-95A8-906BDBD7AE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6D57-27B5-4247-B0F1-AD91910B70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63DB-F1C4-4AB5-8F23-89EFE1044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239E-1331-4A74-A0E6-C4E690BE19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A6F8F-7D50-48AB-96BE-3CD4A2FF08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647E-E909-4F48-B98F-7DE6F71B03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1299-D52B-4085-8098-866BB8640E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608A-2A52-4797-A248-71CB8E161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442D-301D-4B70-BA7A-305E40C8D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EF3A-17FC-4D85-AA61-115CBCA97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D565-6581-4983-A1C7-649ADB29B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8B29-CC92-4EAE-B5AE-001FBC423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96A9-59A7-4BD0-B8CE-2DC374E14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25E2-5ABF-4B2C-96F3-E9670B113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8A57-6EA8-4E8F-BA0E-05B631F93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A5B9-6E7E-424D-8524-370A3445886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3F3-F745-461F-B016-8913E0A319C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75440"/>
            <a:ext cx="86868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zing Managemen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A4B3-6328-4E99-B887-91B06F564E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-81000" y="-227160"/>
            <a:ext cx="9496440" cy="7548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84720" y="4662360"/>
            <a:ext cx="3998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tational grazing – lush pastures in New Zea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F560-1DAF-45BE-93AC-8B7F6B52BB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6360" y="-44280"/>
            <a:ext cx="9275760" cy="13914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14680" y="2131920"/>
            <a:ext cx="5383080" cy="1189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Cicerone Farmlet A – short-term ryegrass pasture – early in 2002 – excellent feed but not 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17A4-276F-4F18-92FF-F1B5E1844C9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79000" cy="7824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14680" y="2131920"/>
            <a:ext cx="5981400" cy="823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Cicerone Farmlet C – intensive rotational grazing – 2002 – during the dr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A8C0-63BD-437B-BA6D-950BFC2D6B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67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79000" cy="7824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14680" y="5203800"/>
            <a:ext cx="5981400" cy="823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icerone Farmlet C – intensive rotational grazing – 2002 – during the dr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6720" y="555480"/>
            <a:ext cx="5981760" cy="64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Sheep are about to graze the LHS part of the paddock, having utilised virtually all feed on the R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DD2C-19D4-498B-AE02-7CE58E5448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32480" y="685440"/>
            <a:ext cx="24400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grazing wagon 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7200" y="19080"/>
            <a:ext cx="5349600" cy="58672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319560" y="-270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2793960"/>
            <a:ext cx="534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420920" y="736560"/>
            <a:ext cx="3727440" cy="41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488960" y="736560"/>
            <a:ext cx="3726000" cy="41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4720" y="1270080"/>
            <a:ext cx="2100240" cy="3276360"/>
          </a:xfrm>
          <a:custGeom>
            <a:avLst/>
            <a:gdLst>
              <a:gd name="textAreaLeft" fmla="*/ 281160 w 2100240"/>
              <a:gd name="textAreaRight" fmla="*/ 1819080 w 2100240"/>
              <a:gd name="textAreaTop" fmla="*/ 573120 h 3276360"/>
              <a:gd name="textAreaBottom" fmla="*/ 237528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622760"/>
            <a:ext cx="390600" cy="378000"/>
          </a:xfrm>
          <a:custGeom>
            <a:avLst/>
            <a:gdLst/>
            <a:ahLst/>
            <a:rect l="l" t="t" r="r" b="b"/>
            <a:pathLst>
              <a:path w="771" h="502">
                <a:moveTo>
                  <a:pt x="13" y="96"/>
                </a:moveTo>
                <a:cubicBezTo>
                  <a:pt x="21" y="85"/>
                  <a:pt x="32" y="69"/>
                  <a:pt x="46" y="65"/>
                </a:cubicBezTo>
                <a:cubicBezTo>
                  <a:pt x="59" y="57"/>
                  <a:pt x="75" y="52"/>
                  <a:pt x="90" y="48"/>
                </a:cubicBezTo>
                <a:cubicBezTo>
                  <a:pt x="99" y="41"/>
                  <a:pt x="108" y="38"/>
                  <a:pt x="118" y="31"/>
                </a:cubicBezTo>
                <a:cubicBezTo>
                  <a:pt x="123" y="28"/>
                  <a:pt x="133" y="22"/>
                  <a:pt x="133" y="22"/>
                </a:cubicBezTo>
                <a:cubicBezTo>
                  <a:pt x="140" y="11"/>
                  <a:pt x="147" y="4"/>
                  <a:pt x="159" y="0"/>
                </a:cubicBezTo>
                <a:cubicBezTo>
                  <a:pt x="180" y="2"/>
                  <a:pt x="183" y="1"/>
                  <a:pt x="198" y="10"/>
                </a:cubicBezTo>
                <a:cubicBezTo>
                  <a:pt x="214" y="39"/>
                  <a:pt x="235" y="66"/>
                  <a:pt x="267" y="77"/>
                </a:cubicBezTo>
                <a:cubicBezTo>
                  <a:pt x="284" y="89"/>
                  <a:pt x="311" y="94"/>
                  <a:pt x="332" y="98"/>
                </a:cubicBezTo>
                <a:cubicBezTo>
                  <a:pt x="348" y="105"/>
                  <a:pt x="366" y="108"/>
                  <a:pt x="382" y="113"/>
                </a:cubicBezTo>
                <a:cubicBezTo>
                  <a:pt x="477" y="111"/>
                  <a:pt x="567" y="108"/>
                  <a:pt x="661" y="110"/>
                </a:cubicBezTo>
                <a:cubicBezTo>
                  <a:pt x="675" y="115"/>
                  <a:pt x="688" y="119"/>
                  <a:pt x="702" y="122"/>
                </a:cubicBezTo>
                <a:cubicBezTo>
                  <a:pt x="715" y="128"/>
                  <a:pt x="726" y="134"/>
                  <a:pt x="738" y="142"/>
                </a:cubicBezTo>
                <a:cubicBezTo>
                  <a:pt x="739" y="144"/>
                  <a:pt x="740" y="147"/>
                  <a:pt x="742" y="149"/>
                </a:cubicBezTo>
                <a:cubicBezTo>
                  <a:pt x="744" y="151"/>
                  <a:pt x="748" y="149"/>
                  <a:pt x="750" y="151"/>
                </a:cubicBezTo>
                <a:cubicBezTo>
                  <a:pt x="755" y="156"/>
                  <a:pt x="757" y="173"/>
                  <a:pt x="762" y="180"/>
                </a:cubicBezTo>
                <a:cubicBezTo>
                  <a:pt x="763" y="185"/>
                  <a:pt x="765" y="189"/>
                  <a:pt x="766" y="194"/>
                </a:cubicBezTo>
                <a:cubicBezTo>
                  <a:pt x="767" y="197"/>
                  <a:pt x="769" y="204"/>
                  <a:pt x="769" y="204"/>
                </a:cubicBezTo>
                <a:cubicBezTo>
                  <a:pt x="765" y="239"/>
                  <a:pt x="771" y="233"/>
                  <a:pt x="742" y="238"/>
                </a:cubicBezTo>
                <a:cubicBezTo>
                  <a:pt x="729" y="261"/>
                  <a:pt x="733" y="290"/>
                  <a:pt x="723" y="314"/>
                </a:cubicBezTo>
                <a:cubicBezTo>
                  <a:pt x="719" y="339"/>
                  <a:pt x="716" y="361"/>
                  <a:pt x="706" y="384"/>
                </a:cubicBezTo>
                <a:cubicBezTo>
                  <a:pt x="702" y="416"/>
                  <a:pt x="720" y="460"/>
                  <a:pt x="692" y="480"/>
                </a:cubicBezTo>
                <a:cubicBezTo>
                  <a:pt x="682" y="479"/>
                  <a:pt x="672" y="482"/>
                  <a:pt x="663" y="478"/>
                </a:cubicBezTo>
                <a:cubicBezTo>
                  <a:pt x="660" y="477"/>
                  <a:pt x="665" y="471"/>
                  <a:pt x="666" y="468"/>
                </a:cubicBezTo>
                <a:cubicBezTo>
                  <a:pt x="670" y="454"/>
                  <a:pt x="673" y="439"/>
                  <a:pt x="678" y="425"/>
                </a:cubicBezTo>
                <a:cubicBezTo>
                  <a:pt x="683" y="377"/>
                  <a:pt x="683" y="387"/>
                  <a:pt x="678" y="305"/>
                </a:cubicBezTo>
                <a:cubicBezTo>
                  <a:pt x="678" y="299"/>
                  <a:pt x="673" y="288"/>
                  <a:pt x="673" y="288"/>
                </a:cubicBezTo>
                <a:cubicBezTo>
                  <a:pt x="669" y="306"/>
                  <a:pt x="670" y="326"/>
                  <a:pt x="663" y="343"/>
                </a:cubicBezTo>
                <a:cubicBezTo>
                  <a:pt x="659" y="361"/>
                  <a:pt x="655" y="383"/>
                  <a:pt x="644" y="398"/>
                </a:cubicBezTo>
                <a:cubicBezTo>
                  <a:pt x="640" y="412"/>
                  <a:pt x="639" y="416"/>
                  <a:pt x="646" y="430"/>
                </a:cubicBezTo>
                <a:cubicBezTo>
                  <a:pt x="644" y="439"/>
                  <a:pt x="639" y="456"/>
                  <a:pt x="639" y="456"/>
                </a:cubicBezTo>
                <a:cubicBezTo>
                  <a:pt x="637" y="472"/>
                  <a:pt x="639" y="478"/>
                  <a:pt x="627" y="487"/>
                </a:cubicBezTo>
                <a:cubicBezTo>
                  <a:pt x="619" y="481"/>
                  <a:pt x="611" y="481"/>
                  <a:pt x="601" y="478"/>
                </a:cubicBezTo>
                <a:cubicBezTo>
                  <a:pt x="603" y="456"/>
                  <a:pt x="611" y="440"/>
                  <a:pt x="615" y="418"/>
                </a:cubicBezTo>
                <a:cubicBezTo>
                  <a:pt x="613" y="394"/>
                  <a:pt x="604" y="372"/>
                  <a:pt x="601" y="348"/>
                </a:cubicBezTo>
                <a:cubicBezTo>
                  <a:pt x="587" y="367"/>
                  <a:pt x="573" y="374"/>
                  <a:pt x="550" y="379"/>
                </a:cubicBezTo>
                <a:cubicBezTo>
                  <a:pt x="498" y="378"/>
                  <a:pt x="449" y="374"/>
                  <a:pt x="397" y="370"/>
                </a:cubicBezTo>
                <a:cubicBezTo>
                  <a:pt x="370" y="362"/>
                  <a:pt x="342" y="368"/>
                  <a:pt x="315" y="360"/>
                </a:cubicBezTo>
                <a:cubicBezTo>
                  <a:pt x="309" y="380"/>
                  <a:pt x="317" y="399"/>
                  <a:pt x="320" y="418"/>
                </a:cubicBezTo>
                <a:cubicBezTo>
                  <a:pt x="319" y="443"/>
                  <a:pt x="322" y="479"/>
                  <a:pt x="296" y="494"/>
                </a:cubicBezTo>
                <a:cubicBezTo>
                  <a:pt x="254" y="491"/>
                  <a:pt x="264" y="490"/>
                  <a:pt x="286" y="478"/>
                </a:cubicBezTo>
                <a:cubicBezTo>
                  <a:pt x="297" y="449"/>
                  <a:pt x="293" y="408"/>
                  <a:pt x="296" y="377"/>
                </a:cubicBezTo>
                <a:cubicBezTo>
                  <a:pt x="298" y="356"/>
                  <a:pt x="304" y="356"/>
                  <a:pt x="291" y="360"/>
                </a:cubicBezTo>
                <a:cubicBezTo>
                  <a:pt x="286" y="377"/>
                  <a:pt x="276" y="392"/>
                  <a:pt x="272" y="410"/>
                </a:cubicBezTo>
                <a:cubicBezTo>
                  <a:pt x="264" y="443"/>
                  <a:pt x="270" y="487"/>
                  <a:pt x="234" y="502"/>
                </a:cubicBezTo>
                <a:cubicBezTo>
                  <a:pt x="224" y="501"/>
                  <a:pt x="214" y="502"/>
                  <a:pt x="205" y="499"/>
                </a:cubicBezTo>
                <a:cubicBezTo>
                  <a:pt x="203" y="498"/>
                  <a:pt x="216" y="473"/>
                  <a:pt x="217" y="470"/>
                </a:cubicBezTo>
                <a:cubicBezTo>
                  <a:pt x="223" y="451"/>
                  <a:pt x="229" y="432"/>
                  <a:pt x="234" y="413"/>
                </a:cubicBezTo>
                <a:cubicBezTo>
                  <a:pt x="236" y="388"/>
                  <a:pt x="241" y="367"/>
                  <a:pt x="248" y="343"/>
                </a:cubicBezTo>
                <a:cubicBezTo>
                  <a:pt x="246" y="311"/>
                  <a:pt x="252" y="307"/>
                  <a:pt x="229" y="317"/>
                </a:cubicBezTo>
                <a:cubicBezTo>
                  <a:pt x="214" y="313"/>
                  <a:pt x="206" y="306"/>
                  <a:pt x="193" y="298"/>
                </a:cubicBezTo>
                <a:cubicBezTo>
                  <a:pt x="188" y="286"/>
                  <a:pt x="184" y="286"/>
                  <a:pt x="171" y="283"/>
                </a:cubicBezTo>
                <a:cubicBezTo>
                  <a:pt x="166" y="276"/>
                  <a:pt x="159" y="269"/>
                  <a:pt x="154" y="262"/>
                </a:cubicBezTo>
                <a:cubicBezTo>
                  <a:pt x="148" y="238"/>
                  <a:pt x="139" y="225"/>
                  <a:pt x="123" y="206"/>
                </a:cubicBezTo>
                <a:cubicBezTo>
                  <a:pt x="118" y="187"/>
                  <a:pt x="121" y="168"/>
                  <a:pt x="126" y="149"/>
                </a:cubicBezTo>
                <a:cubicBezTo>
                  <a:pt x="122" y="134"/>
                  <a:pt x="108" y="134"/>
                  <a:pt x="94" y="130"/>
                </a:cubicBezTo>
                <a:cubicBezTo>
                  <a:pt x="87" y="125"/>
                  <a:pt x="81" y="122"/>
                  <a:pt x="73" y="120"/>
                </a:cubicBezTo>
                <a:cubicBezTo>
                  <a:pt x="61" y="122"/>
                  <a:pt x="56" y="124"/>
                  <a:pt x="46" y="130"/>
                </a:cubicBezTo>
                <a:cubicBezTo>
                  <a:pt x="23" y="127"/>
                  <a:pt x="23" y="126"/>
                  <a:pt x="6" y="118"/>
                </a:cubicBezTo>
                <a:cubicBezTo>
                  <a:pt x="4" y="111"/>
                  <a:pt x="0" y="108"/>
                  <a:pt x="6" y="101"/>
                </a:cubicBezTo>
                <a:cubicBezTo>
                  <a:pt x="9" y="97"/>
                  <a:pt x="20" y="101"/>
                  <a:pt x="20" y="96"/>
                </a:cubicBezTo>
                <a:cubicBezTo>
                  <a:pt x="20" y="94"/>
                  <a:pt x="15" y="96"/>
                  <a:pt x="13" y="9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5240" y="3784680"/>
            <a:ext cx="393480" cy="379440"/>
          </a:xfrm>
          <a:custGeom>
            <a:avLst/>
            <a:gdLst/>
            <a:ahLst/>
            <a:rect l="l" t="t" r="r" b="b"/>
            <a:pathLst>
              <a:path w="771" h="502">
                <a:moveTo>
                  <a:pt x="13" y="96"/>
                </a:moveTo>
                <a:cubicBezTo>
                  <a:pt x="21" y="85"/>
                  <a:pt x="32" y="69"/>
                  <a:pt x="46" y="65"/>
                </a:cubicBezTo>
                <a:cubicBezTo>
                  <a:pt x="59" y="57"/>
                  <a:pt x="75" y="52"/>
                  <a:pt x="90" y="48"/>
                </a:cubicBezTo>
                <a:cubicBezTo>
                  <a:pt x="99" y="41"/>
                  <a:pt x="108" y="38"/>
                  <a:pt x="118" y="31"/>
                </a:cubicBezTo>
                <a:cubicBezTo>
                  <a:pt x="123" y="28"/>
                  <a:pt x="133" y="22"/>
                  <a:pt x="133" y="22"/>
                </a:cubicBezTo>
                <a:cubicBezTo>
                  <a:pt x="140" y="11"/>
                  <a:pt x="147" y="4"/>
                  <a:pt x="159" y="0"/>
                </a:cubicBezTo>
                <a:cubicBezTo>
                  <a:pt x="180" y="2"/>
                  <a:pt x="183" y="1"/>
                  <a:pt x="198" y="10"/>
                </a:cubicBezTo>
                <a:cubicBezTo>
                  <a:pt x="214" y="39"/>
                  <a:pt x="235" y="66"/>
                  <a:pt x="267" y="77"/>
                </a:cubicBezTo>
                <a:cubicBezTo>
                  <a:pt x="284" y="89"/>
                  <a:pt x="311" y="94"/>
                  <a:pt x="332" y="98"/>
                </a:cubicBezTo>
                <a:cubicBezTo>
                  <a:pt x="348" y="105"/>
                  <a:pt x="366" y="108"/>
                  <a:pt x="382" y="113"/>
                </a:cubicBezTo>
                <a:cubicBezTo>
                  <a:pt x="477" y="111"/>
                  <a:pt x="567" y="108"/>
                  <a:pt x="661" y="110"/>
                </a:cubicBezTo>
                <a:cubicBezTo>
                  <a:pt x="675" y="115"/>
                  <a:pt x="688" y="119"/>
                  <a:pt x="702" y="122"/>
                </a:cubicBezTo>
                <a:cubicBezTo>
                  <a:pt x="715" y="128"/>
                  <a:pt x="726" y="134"/>
                  <a:pt x="738" y="142"/>
                </a:cubicBezTo>
                <a:cubicBezTo>
                  <a:pt x="739" y="144"/>
                  <a:pt x="740" y="147"/>
                  <a:pt x="742" y="149"/>
                </a:cubicBezTo>
                <a:cubicBezTo>
                  <a:pt x="744" y="151"/>
                  <a:pt x="748" y="149"/>
                  <a:pt x="750" y="151"/>
                </a:cubicBezTo>
                <a:cubicBezTo>
                  <a:pt x="755" y="156"/>
                  <a:pt x="757" y="173"/>
                  <a:pt x="762" y="180"/>
                </a:cubicBezTo>
                <a:cubicBezTo>
                  <a:pt x="763" y="185"/>
                  <a:pt x="765" y="189"/>
                  <a:pt x="766" y="194"/>
                </a:cubicBezTo>
                <a:cubicBezTo>
                  <a:pt x="767" y="197"/>
                  <a:pt x="769" y="204"/>
                  <a:pt x="769" y="204"/>
                </a:cubicBezTo>
                <a:cubicBezTo>
                  <a:pt x="765" y="239"/>
                  <a:pt x="771" y="233"/>
                  <a:pt x="742" y="238"/>
                </a:cubicBezTo>
                <a:cubicBezTo>
                  <a:pt x="729" y="261"/>
                  <a:pt x="733" y="290"/>
                  <a:pt x="723" y="314"/>
                </a:cubicBezTo>
                <a:cubicBezTo>
                  <a:pt x="719" y="339"/>
                  <a:pt x="716" y="361"/>
                  <a:pt x="706" y="384"/>
                </a:cubicBezTo>
                <a:cubicBezTo>
                  <a:pt x="702" y="416"/>
                  <a:pt x="720" y="460"/>
                  <a:pt x="692" y="480"/>
                </a:cubicBezTo>
                <a:cubicBezTo>
                  <a:pt x="682" y="479"/>
                  <a:pt x="672" y="482"/>
                  <a:pt x="663" y="478"/>
                </a:cubicBezTo>
                <a:cubicBezTo>
                  <a:pt x="660" y="477"/>
                  <a:pt x="665" y="471"/>
                  <a:pt x="666" y="468"/>
                </a:cubicBezTo>
                <a:cubicBezTo>
                  <a:pt x="670" y="454"/>
                  <a:pt x="673" y="439"/>
                  <a:pt x="678" y="425"/>
                </a:cubicBezTo>
                <a:cubicBezTo>
                  <a:pt x="683" y="377"/>
                  <a:pt x="683" y="387"/>
                  <a:pt x="678" y="305"/>
                </a:cubicBezTo>
                <a:cubicBezTo>
                  <a:pt x="678" y="299"/>
                  <a:pt x="673" y="288"/>
                  <a:pt x="673" y="288"/>
                </a:cubicBezTo>
                <a:cubicBezTo>
                  <a:pt x="669" y="306"/>
                  <a:pt x="670" y="326"/>
                  <a:pt x="663" y="343"/>
                </a:cubicBezTo>
                <a:cubicBezTo>
                  <a:pt x="659" y="361"/>
                  <a:pt x="655" y="383"/>
                  <a:pt x="644" y="398"/>
                </a:cubicBezTo>
                <a:cubicBezTo>
                  <a:pt x="640" y="412"/>
                  <a:pt x="639" y="416"/>
                  <a:pt x="646" y="430"/>
                </a:cubicBezTo>
                <a:cubicBezTo>
                  <a:pt x="644" y="439"/>
                  <a:pt x="639" y="456"/>
                  <a:pt x="639" y="456"/>
                </a:cubicBezTo>
                <a:cubicBezTo>
                  <a:pt x="637" y="472"/>
                  <a:pt x="639" y="478"/>
                  <a:pt x="627" y="487"/>
                </a:cubicBezTo>
                <a:cubicBezTo>
                  <a:pt x="619" y="481"/>
                  <a:pt x="611" y="481"/>
                  <a:pt x="601" y="478"/>
                </a:cubicBezTo>
                <a:cubicBezTo>
                  <a:pt x="603" y="456"/>
                  <a:pt x="611" y="440"/>
                  <a:pt x="615" y="418"/>
                </a:cubicBezTo>
                <a:cubicBezTo>
                  <a:pt x="613" y="394"/>
                  <a:pt x="604" y="372"/>
                  <a:pt x="601" y="348"/>
                </a:cubicBezTo>
                <a:cubicBezTo>
                  <a:pt x="587" y="367"/>
                  <a:pt x="573" y="374"/>
                  <a:pt x="550" y="379"/>
                </a:cubicBezTo>
                <a:cubicBezTo>
                  <a:pt x="498" y="378"/>
                  <a:pt x="449" y="374"/>
                  <a:pt x="397" y="370"/>
                </a:cubicBezTo>
                <a:cubicBezTo>
                  <a:pt x="370" y="362"/>
                  <a:pt x="342" y="368"/>
                  <a:pt x="315" y="360"/>
                </a:cubicBezTo>
                <a:cubicBezTo>
                  <a:pt x="309" y="380"/>
                  <a:pt x="317" y="399"/>
                  <a:pt x="320" y="418"/>
                </a:cubicBezTo>
                <a:cubicBezTo>
                  <a:pt x="319" y="443"/>
                  <a:pt x="322" y="479"/>
                  <a:pt x="296" y="494"/>
                </a:cubicBezTo>
                <a:cubicBezTo>
                  <a:pt x="254" y="491"/>
                  <a:pt x="264" y="490"/>
                  <a:pt x="286" y="478"/>
                </a:cubicBezTo>
                <a:cubicBezTo>
                  <a:pt x="297" y="449"/>
                  <a:pt x="293" y="408"/>
                  <a:pt x="296" y="377"/>
                </a:cubicBezTo>
                <a:cubicBezTo>
                  <a:pt x="298" y="356"/>
                  <a:pt x="304" y="356"/>
                  <a:pt x="291" y="360"/>
                </a:cubicBezTo>
                <a:cubicBezTo>
                  <a:pt x="286" y="377"/>
                  <a:pt x="276" y="392"/>
                  <a:pt x="272" y="410"/>
                </a:cubicBezTo>
                <a:cubicBezTo>
                  <a:pt x="264" y="443"/>
                  <a:pt x="270" y="487"/>
                  <a:pt x="234" y="502"/>
                </a:cubicBezTo>
                <a:cubicBezTo>
                  <a:pt x="224" y="501"/>
                  <a:pt x="214" y="502"/>
                  <a:pt x="205" y="499"/>
                </a:cubicBezTo>
                <a:cubicBezTo>
                  <a:pt x="203" y="498"/>
                  <a:pt x="216" y="473"/>
                  <a:pt x="217" y="470"/>
                </a:cubicBezTo>
                <a:cubicBezTo>
                  <a:pt x="223" y="451"/>
                  <a:pt x="229" y="432"/>
                  <a:pt x="234" y="413"/>
                </a:cubicBezTo>
                <a:cubicBezTo>
                  <a:pt x="236" y="388"/>
                  <a:pt x="241" y="367"/>
                  <a:pt x="248" y="343"/>
                </a:cubicBezTo>
                <a:cubicBezTo>
                  <a:pt x="246" y="311"/>
                  <a:pt x="252" y="307"/>
                  <a:pt x="229" y="317"/>
                </a:cubicBezTo>
                <a:cubicBezTo>
                  <a:pt x="214" y="313"/>
                  <a:pt x="206" y="306"/>
                  <a:pt x="193" y="298"/>
                </a:cubicBezTo>
                <a:cubicBezTo>
                  <a:pt x="188" y="286"/>
                  <a:pt x="184" y="286"/>
                  <a:pt x="171" y="283"/>
                </a:cubicBezTo>
                <a:cubicBezTo>
                  <a:pt x="166" y="276"/>
                  <a:pt x="159" y="269"/>
                  <a:pt x="154" y="262"/>
                </a:cubicBezTo>
                <a:cubicBezTo>
                  <a:pt x="148" y="238"/>
                  <a:pt x="139" y="225"/>
                  <a:pt x="123" y="206"/>
                </a:cubicBezTo>
                <a:cubicBezTo>
                  <a:pt x="118" y="187"/>
                  <a:pt x="121" y="168"/>
                  <a:pt x="126" y="149"/>
                </a:cubicBezTo>
                <a:cubicBezTo>
                  <a:pt x="122" y="134"/>
                  <a:pt x="108" y="134"/>
                  <a:pt x="94" y="130"/>
                </a:cubicBezTo>
                <a:cubicBezTo>
                  <a:pt x="87" y="125"/>
                  <a:pt x="81" y="122"/>
                  <a:pt x="73" y="120"/>
                </a:cubicBezTo>
                <a:cubicBezTo>
                  <a:pt x="61" y="122"/>
                  <a:pt x="56" y="124"/>
                  <a:pt x="46" y="130"/>
                </a:cubicBezTo>
                <a:cubicBezTo>
                  <a:pt x="23" y="127"/>
                  <a:pt x="23" y="126"/>
                  <a:pt x="6" y="118"/>
                </a:cubicBezTo>
                <a:cubicBezTo>
                  <a:pt x="4" y="111"/>
                  <a:pt x="0" y="108"/>
                  <a:pt x="6" y="101"/>
                </a:cubicBezTo>
                <a:cubicBezTo>
                  <a:pt x="9" y="97"/>
                  <a:pt x="20" y="101"/>
                  <a:pt x="20" y="96"/>
                </a:cubicBezTo>
                <a:cubicBezTo>
                  <a:pt x="20" y="94"/>
                  <a:pt x="15" y="96"/>
                  <a:pt x="13" y="9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00240" y="4241880"/>
            <a:ext cx="393840" cy="379440"/>
          </a:xfrm>
          <a:custGeom>
            <a:avLst/>
            <a:gdLst/>
            <a:ahLst/>
            <a:rect l="l" t="t" r="r" b="b"/>
            <a:pathLst>
              <a:path w="771" h="502">
                <a:moveTo>
                  <a:pt x="13" y="96"/>
                </a:moveTo>
                <a:cubicBezTo>
                  <a:pt x="21" y="85"/>
                  <a:pt x="32" y="69"/>
                  <a:pt x="46" y="65"/>
                </a:cubicBezTo>
                <a:cubicBezTo>
                  <a:pt x="59" y="57"/>
                  <a:pt x="75" y="52"/>
                  <a:pt x="90" y="48"/>
                </a:cubicBezTo>
                <a:cubicBezTo>
                  <a:pt x="99" y="41"/>
                  <a:pt x="108" y="38"/>
                  <a:pt x="118" y="31"/>
                </a:cubicBezTo>
                <a:cubicBezTo>
                  <a:pt x="123" y="28"/>
                  <a:pt x="133" y="22"/>
                  <a:pt x="133" y="22"/>
                </a:cubicBezTo>
                <a:cubicBezTo>
                  <a:pt x="140" y="11"/>
                  <a:pt x="147" y="4"/>
                  <a:pt x="159" y="0"/>
                </a:cubicBezTo>
                <a:cubicBezTo>
                  <a:pt x="180" y="2"/>
                  <a:pt x="183" y="1"/>
                  <a:pt x="198" y="10"/>
                </a:cubicBezTo>
                <a:cubicBezTo>
                  <a:pt x="214" y="39"/>
                  <a:pt x="235" y="66"/>
                  <a:pt x="267" y="77"/>
                </a:cubicBezTo>
                <a:cubicBezTo>
                  <a:pt x="284" y="89"/>
                  <a:pt x="311" y="94"/>
                  <a:pt x="332" y="98"/>
                </a:cubicBezTo>
                <a:cubicBezTo>
                  <a:pt x="348" y="105"/>
                  <a:pt x="366" y="108"/>
                  <a:pt x="382" y="113"/>
                </a:cubicBezTo>
                <a:cubicBezTo>
                  <a:pt x="477" y="111"/>
                  <a:pt x="567" y="108"/>
                  <a:pt x="661" y="110"/>
                </a:cubicBezTo>
                <a:cubicBezTo>
                  <a:pt x="675" y="115"/>
                  <a:pt x="688" y="119"/>
                  <a:pt x="702" y="122"/>
                </a:cubicBezTo>
                <a:cubicBezTo>
                  <a:pt x="715" y="128"/>
                  <a:pt x="726" y="134"/>
                  <a:pt x="738" y="142"/>
                </a:cubicBezTo>
                <a:cubicBezTo>
                  <a:pt x="739" y="144"/>
                  <a:pt x="740" y="147"/>
                  <a:pt x="742" y="149"/>
                </a:cubicBezTo>
                <a:cubicBezTo>
                  <a:pt x="744" y="151"/>
                  <a:pt x="748" y="149"/>
                  <a:pt x="750" y="151"/>
                </a:cubicBezTo>
                <a:cubicBezTo>
                  <a:pt x="755" y="156"/>
                  <a:pt x="757" y="173"/>
                  <a:pt x="762" y="180"/>
                </a:cubicBezTo>
                <a:cubicBezTo>
                  <a:pt x="763" y="185"/>
                  <a:pt x="765" y="189"/>
                  <a:pt x="766" y="194"/>
                </a:cubicBezTo>
                <a:cubicBezTo>
                  <a:pt x="767" y="197"/>
                  <a:pt x="769" y="204"/>
                  <a:pt x="769" y="204"/>
                </a:cubicBezTo>
                <a:cubicBezTo>
                  <a:pt x="765" y="239"/>
                  <a:pt x="771" y="233"/>
                  <a:pt x="742" y="238"/>
                </a:cubicBezTo>
                <a:cubicBezTo>
                  <a:pt x="729" y="261"/>
                  <a:pt x="733" y="290"/>
                  <a:pt x="723" y="314"/>
                </a:cubicBezTo>
                <a:cubicBezTo>
                  <a:pt x="719" y="339"/>
                  <a:pt x="716" y="361"/>
                  <a:pt x="706" y="384"/>
                </a:cubicBezTo>
                <a:cubicBezTo>
                  <a:pt x="702" y="416"/>
                  <a:pt x="720" y="460"/>
                  <a:pt x="692" y="480"/>
                </a:cubicBezTo>
                <a:cubicBezTo>
                  <a:pt x="682" y="479"/>
                  <a:pt x="672" y="482"/>
                  <a:pt x="663" y="478"/>
                </a:cubicBezTo>
                <a:cubicBezTo>
                  <a:pt x="660" y="477"/>
                  <a:pt x="665" y="471"/>
                  <a:pt x="666" y="468"/>
                </a:cubicBezTo>
                <a:cubicBezTo>
                  <a:pt x="670" y="454"/>
                  <a:pt x="673" y="439"/>
                  <a:pt x="678" y="425"/>
                </a:cubicBezTo>
                <a:cubicBezTo>
                  <a:pt x="683" y="377"/>
                  <a:pt x="683" y="387"/>
                  <a:pt x="678" y="305"/>
                </a:cubicBezTo>
                <a:cubicBezTo>
                  <a:pt x="678" y="299"/>
                  <a:pt x="673" y="288"/>
                  <a:pt x="673" y="288"/>
                </a:cubicBezTo>
                <a:cubicBezTo>
                  <a:pt x="669" y="306"/>
                  <a:pt x="670" y="326"/>
                  <a:pt x="663" y="343"/>
                </a:cubicBezTo>
                <a:cubicBezTo>
                  <a:pt x="659" y="361"/>
                  <a:pt x="655" y="383"/>
                  <a:pt x="644" y="398"/>
                </a:cubicBezTo>
                <a:cubicBezTo>
                  <a:pt x="640" y="412"/>
                  <a:pt x="639" y="416"/>
                  <a:pt x="646" y="430"/>
                </a:cubicBezTo>
                <a:cubicBezTo>
                  <a:pt x="644" y="439"/>
                  <a:pt x="639" y="456"/>
                  <a:pt x="639" y="456"/>
                </a:cubicBezTo>
                <a:cubicBezTo>
                  <a:pt x="637" y="472"/>
                  <a:pt x="639" y="478"/>
                  <a:pt x="627" y="487"/>
                </a:cubicBezTo>
                <a:cubicBezTo>
                  <a:pt x="619" y="481"/>
                  <a:pt x="611" y="481"/>
                  <a:pt x="601" y="478"/>
                </a:cubicBezTo>
                <a:cubicBezTo>
                  <a:pt x="603" y="456"/>
                  <a:pt x="611" y="440"/>
                  <a:pt x="615" y="418"/>
                </a:cubicBezTo>
                <a:cubicBezTo>
                  <a:pt x="613" y="394"/>
                  <a:pt x="604" y="372"/>
                  <a:pt x="601" y="348"/>
                </a:cubicBezTo>
                <a:cubicBezTo>
                  <a:pt x="587" y="367"/>
                  <a:pt x="573" y="374"/>
                  <a:pt x="550" y="379"/>
                </a:cubicBezTo>
                <a:cubicBezTo>
                  <a:pt x="498" y="378"/>
                  <a:pt x="449" y="374"/>
                  <a:pt x="397" y="370"/>
                </a:cubicBezTo>
                <a:cubicBezTo>
                  <a:pt x="370" y="362"/>
                  <a:pt x="342" y="368"/>
                  <a:pt x="315" y="360"/>
                </a:cubicBezTo>
                <a:cubicBezTo>
                  <a:pt x="309" y="380"/>
                  <a:pt x="317" y="399"/>
                  <a:pt x="320" y="418"/>
                </a:cubicBezTo>
                <a:cubicBezTo>
                  <a:pt x="319" y="443"/>
                  <a:pt x="322" y="479"/>
                  <a:pt x="296" y="494"/>
                </a:cubicBezTo>
                <a:cubicBezTo>
                  <a:pt x="254" y="491"/>
                  <a:pt x="264" y="490"/>
                  <a:pt x="286" y="478"/>
                </a:cubicBezTo>
                <a:cubicBezTo>
                  <a:pt x="297" y="449"/>
                  <a:pt x="293" y="408"/>
                  <a:pt x="296" y="377"/>
                </a:cubicBezTo>
                <a:cubicBezTo>
                  <a:pt x="298" y="356"/>
                  <a:pt x="304" y="356"/>
                  <a:pt x="291" y="360"/>
                </a:cubicBezTo>
                <a:cubicBezTo>
                  <a:pt x="286" y="377"/>
                  <a:pt x="276" y="392"/>
                  <a:pt x="272" y="410"/>
                </a:cubicBezTo>
                <a:cubicBezTo>
                  <a:pt x="264" y="443"/>
                  <a:pt x="270" y="487"/>
                  <a:pt x="234" y="502"/>
                </a:cubicBezTo>
                <a:cubicBezTo>
                  <a:pt x="224" y="501"/>
                  <a:pt x="214" y="502"/>
                  <a:pt x="205" y="499"/>
                </a:cubicBezTo>
                <a:cubicBezTo>
                  <a:pt x="203" y="498"/>
                  <a:pt x="216" y="473"/>
                  <a:pt x="217" y="470"/>
                </a:cubicBezTo>
                <a:cubicBezTo>
                  <a:pt x="223" y="451"/>
                  <a:pt x="229" y="432"/>
                  <a:pt x="234" y="413"/>
                </a:cubicBezTo>
                <a:cubicBezTo>
                  <a:pt x="236" y="388"/>
                  <a:pt x="241" y="367"/>
                  <a:pt x="248" y="343"/>
                </a:cubicBezTo>
                <a:cubicBezTo>
                  <a:pt x="246" y="311"/>
                  <a:pt x="252" y="307"/>
                  <a:pt x="229" y="317"/>
                </a:cubicBezTo>
                <a:cubicBezTo>
                  <a:pt x="214" y="313"/>
                  <a:pt x="206" y="306"/>
                  <a:pt x="193" y="298"/>
                </a:cubicBezTo>
                <a:cubicBezTo>
                  <a:pt x="188" y="286"/>
                  <a:pt x="184" y="286"/>
                  <a:pt x="171" y="283"/>
                </a:cubicBezTo>
                <a:cubicBezTo>
                  <a:pt x="166" y="276"/>
                  <a:pt x="159" y="269"/>
                  <a:pt x="154" y="262"/>
                </a:cubicBezTo>
                <a:cubicBezTo>
                  <a:pt x="148" y="238"/>
                  <a:pt x="139" y="225"/>
                  <a:pt x="123" y="206"/>
                </a:cubicBezTo>
                <a:cubicBezTo>
                  <a:pt x="118" y="187"/>
                  <a:pt x="121" y="168"/>
                  <a:pt x="126" y="149"/>
                </a:cubicBezTo>
                <a:cubicBezTo>
                  <a:pt x="122" y="134"/>
                  <a:pt x="108" y="134"/>
                  <a:pt x="94" y="130"/>
                </a:cubicBezTo>
                <a:cubicBezTo>
                  <a:pt x="87" y="125"/>
                  <a:pt x="81" y="122"/>
                  <a:pt x="73" y="120"/>
                </a:cubicBezTo>
                <a:cubicBezTo>
                  <a:pt x="61" y="122"/>
                  <a:pt x="56" y="124"/>
                  <a:pt x="46" y="130"/>
                </a:cubicBezTo>
                <a:cubicBezTo>
                  <a:pt x="23" y="127"/>
                  <a:pt x="23" y="126"/>
                  <a:pt x="6" y="118"/>
                </a:cubicBezTo>
                <a:cubicBezTo>
                  <a:pt x="4" y="111"/>
                  <a:pt x="0" y="108"/>
                  <a:pt x="6" y="101"/>
                </a:cubicBezTo>
                <a:cubicBezTo>
                  <a:pt x="9" y="97"/>
                  <a:pt x="20" y="101"/>
                  <a:pt x="20" y="96"/>
                </a:cubicBezTo>
                <a:cubicBezTo>
                  <a:pt x="20" y="94"/>
                  <a:pt x="15" y="96"/>
                  <a:pt x="13" y="9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75080" y="5079960"/>
            <a:ext cx="390240" cy="378000"/>
          </a:xfrm>
          <a:custGeom>
            <a:avLst/>
            <a:gdLst/>
            <a:ahLst/>
            <a:rect l="l" t="t" r="r" b="b"/>
            <a:pathLst>
              <a:path w="771" h="502">
                <a:moveTo>
                  <a:pt x="13" y="96"/>
                </a:moveTo>
                <a:cubicBezTo>
                  <a:pt x="21" y="85"/>
                  <a:pt x="32" y="69"/>
                  <a:pt x="46" y="65"/>
                </a:cubicBezTo>
                <a:cubicBezTo>
                  <a:pt x="59" y="57"/>
                  <a:pt x="75" y="52"/>
                  <a:pt x="90" y="48"/>
                </a:cubicBezTo>
                <a:cubicBezTo>
                  <a:pt x="99" y="41"/>
                  <a:pt x="108" y="38"/>
                  <a:pt x="118" y="31"/>
                </a:cubicBezTo>
                <a:cubicBezTo>
                  <a:pt x="123" y="28"/>
                  <a:pt x="133" y="22"/>
                  <a:pt x="133" y="22"/>
                </a:cubicBezTo>
                <a:cubicBezTo>
                  <a:pt x="140" y="11"/>
                  <a:pt x="147" y="4"/>
                  <a:pt x="159" y="0"/>
                </a:cubicBezTo>
                <a:cubicBezTo>
                  <a:pt x="180" y="2"/>
                  <a:pt x="183" y="1"/>
                  <a:pt x="198" y="10"/>
                </a:cubicBezTo>
                <a:cubicBezTo>
                  <a:pt x="214" y="39"/>
                  <a:pt x="235" y="66"/>
                  <a:pt x="267" y="77"/>
                </a:cubicBezTo>
                <a:cubicBezTo>
                  <a:pt x="284" y="89"/>
                  <a:pt x="311" y="94"/>
                  <a:pt x="332" y="98"/>
                </a:cubicBezTo>
                <a:cubicBezTo>
                  <a:pt x="348" y="105"/>
                  <a:pt x="366" y="108"/>
                  <a:pt x="382" y="113"/>
                </a:cubicBezTo>
                <a:cubicBezTo>
                  <a:pt x="477" y="111"/>
                  <a:pt x="567" y="108"/>
                  <a:pt x="661" y="110"/>
                </a:cubicBezTo>
                <a:cubicBezTo>
                  <a:pt x="675" y="115"/>
                  <a:pt x="688" y="119"/>
                  <a:pt x="702" y="122"/>
                </a:cubicBezTo>
                <a:cubicBezTo>
                  <a:pt x="715" y="128"/>
                  <a:pt x="726" y="134"/>
                  <a:pt x="738" y="142"/>
                </a:cubicBezTo>
                <a:cubicBezTo>
                  <a:pt x="739" y="144"/>
                  <a:pt x="740" y="147"/>
                  <a:pt x="742" y="149"/>
                </a:cubicBezTo>
                <a:cubicBezTo>
                  <a:pt x="744" y="151"/>
                  <a:pt x="748" y="149"/>
                  <a:pt x="750" y="151"/>
                </a:cubicBezTo>
                <a:cubicBezTo>
                  <a:pt x="755" y="156"/>
                  <a:pt x="757" y="173"/>
                  <a:pt x="762" y="180"/>
                </a:cubicBezTo>
                <a:cubicBezTo>
                  <a:pt x="763" y="185"/>
                  <a:pt x="765" y="189"/>
                  <a:pt x="766" y="194"/>
                </a:cubicBezTo>
                <a:cubicBezTo>
                  <a:pt x="767" y="197"/>
                  <a:pt x="769" y="204"/>
                  <a:pt x="769" y="204"/>
                </a:cubicBezTo>
                <a:cubicBezTo>
                  <a:pt x="765" y="239"/>
                  <a:pt x="771" y="233"/>
                  <a:pt x="742" y="238"/>
                </a:cubicBezTo>
                <a:cubicBezTo>
                  <a:pt x="729" y="261"/>
                  <a:pt x="733" y="290"/>
                  <a:pt x="723" y="314"/>
                </a:cubicBezTo>
                <a:cubicBezTo>
                  <a:pt x="719" y="339"/>
                  <a:pt x="716" y="361"/>
                  <a:pt x="706" y="384"/>
                </a:cubicBezTo>
                <a:cubicBezTo>
                  <a:pt x="702" y="416"/>
                  <a:pt x="720" y="460"/>
                  <a:pt x="692" y="480"/>
                </a:cubicBezTo>
                <a:cubicBezTo>
                  <a:pt x="682" y="479"/>
                  <a:pt x="672" y="482"/>
                  <a:pt x="663" y="478"/>
                </a:cubicBezTo>
                <a:cubicBezTo>
                  <a:pt x="660" y="477"/>
                  <a:pt x="665" y="471"/>
                  <a:pt x="666" y="468"/>
                </a:cubicBezTo>
                <a:cubicBezTo>
                  <a:pt x="670" y="454"/>
                  <a:pt x="673" y="439"/>
                  <a:pt x="678" y="425"/>
                </a:cubicBezTo>
                <a:cubicBezTo>
                  <a:pt x="683" y="377"/>
                  <a:pt x="683" y="387"/>
                  <a:pt x="678" y="305"/>
                </a:cubicBezTo>
                <a:cubicBezTo>
                  <a:pt x="678" y="299"/>
                  <a:pt x="673" y="288"/>
                  <a:pt x="673" y="288"/>
                </a:cubicBezTo>
                <a:cubicBezTo>
                  <a:pt x="669" y="306"/>
                  <a:pt x="670" y="326"/>
                  <a:pt x="663" y="343"/>
                </a:cubicBezTo>
                <a:cubicBezTo>
                  <a:pt x="659" y="361"/>
                  <a:pt x="655" y="383"/>
                  <a:pt x="644" y="398"/>
                </a:cubicBezTo>
                <a:cubicBezTo>
                  <a:pt x="640" y="412"/>
                  <a:pt x="639" y="416"/>
                  <a:pt x="646" y="430"/>
                </a:cubicBezTo>
                <a:cubicBezTo>
                  <a:pt x="644" y="439"/>
                  <a:pt x="639" y="456"/>
                  <a:pt x="639" y="456"/>
                </a:cubicBezTo>
                <a:cubicBezTo>
                  <a:pt x="637" y="472"/>
                  <a:pt x="639" y="478"/>
                  <a:pt x="627" y="487"/>
                </a:cubicBezTo>
                <a:cubicBezTo>
                  <a:pt x="619" y="481"/>
                  <a:pt x="611" y="481"/>
                  <a:pt x="601" y="478"/>
                </a:cubicBezTo>
                <a:cubicBezTo>
                  <a:pt x="603" y="456"/>
                  <a:pt x="611" y="440"/>
                  <a:pt x="615" y="418"/>
                </a:cubicBezTo>
                <a:cubicBezTo>
                  <a:pt x="613" y="394"/>
                  <a:pt x="604" y="372"/>
                  <a:pt x="601" y="348"/>
                </a:cubicBezTo>
                <a:cubicBezTo>
                  <a:pt x="587" y="367"/>
                  <a:pt x="573" y="374"/>
                  <a:pt x="550" y="379"/>
                </a:cubicBezTo>
                <a:cubicBezTo>
                  <a:pt x="498" y="378"/>
                  <a:pt x="449" y="374"/>
                  <a:pt x="397" y="370"/>
                </a:cubicBezTo>
                <a:cubicBezTo>
                  <a:pt x="370" y="362"/>
                  <a:pt x="342" y="368"/>
                  <a:pt x="315" y="360"/>
                </a:cubicBezTo>
                <a:cubicBezTo>
                  <a:pt x="309" y="380"/>
                  <a:pt x="317" y="399"/>
                  <a:pt x="320" y="418"/>
                </a:cubicBezTo>
                <a:cubicBezTo>
                  <a:pt x="319" y="443"/>
                  <a:pt x="322" y="479"/>
                  <a:pt x="296" y="494"/>
                </a:cubicBezTo>
                <a:cubicBezTo>
                  <a:pt x="254" y="491"/>
                  <a:pt x="264" y="490"/>
                  <a:pt x="286" y="478"/>
                </a:cubicBezTo>
                <a:cubicBezTo>
                  <a:pt x="297" y="449"/>
                  <a:pt x="293" y="408"/>
                  <a:pt x="296" y="377"/>
                </a:cubicBezTo>
                <a:cubicBezTo>
                  <a:pt x="298" y="356"/>
                  <a:pt x="304" y="356"/>
                  <a:pt x="291" y="360"/>
                </a:cubicBezTo>
                <a:cubicBezTo>
                  <a:pt x="286" y="377"/>
                  <a:pt x="276" y="392"/>
                  <a:pt x="272" y="410"/>
                </a:cubicBezTo>
                <a:cubicBezTo>
                  <a:pt x="264" y="443"/>
                  <a:pt x="270" y="487"/>
                  <a:pt x="234" y="502"/>
                </a:cubicBezTo>
                <a:cubicBezTo>
                  <a:pt x="224" y="501"/>
                  <a:pt x="214" y="502"/>
                  <a:pt x="205" y="499"/>
                </a:cubicBezTo>
                <a:cubicBezTo>
                  <a:pt x="203" y="498"/>
                  <a:pt x="216" y="473"/>
                  <a:pt x="217" y="470"/>
                </a:cubicBezTo>
                <a:cubicBezTo>
                  <a:pt x="223" y="451"/>
                  <a:pt x="229" y="432"/>
                  <a:pt x="234" y="413"/>
                </a:cubicBezTo>
                <a:cubicBezTo>
                  <a:pt x="236" y="388"/>
                  <a:pt x="241" y="367"/>
                  <a:pt x="248" y="343"/>
                </a:cubicBezTo>
                <a:cubicBezTo>
                  <a:pt x="246" y="311"/>
                  <a:pt x="252" y="307"/>
                  <a:pt x="229" y="317"/>
                </a:cubicBezTo>
                <a:cubicBezTo>
                  <a:pt x="214" y="313"/>
                  <a:pt x="206" y="306"/>
                  <a:pt x="193" y="298"/>
                </a:cubicBezTo>
                <a:cubicBezTo>
                  <a:pt x="188" y="286"/>
                  <a:pt x="184" y="286"/>
                  <a:pt x="171" y="283"/>
                </a:cubicBezTo>
                <a:cubicBezTo>
                  <a:pt x="166" y="276"/>
                  <a:pt x="159" y="269"/>
                  <a:pt x="154" y="262"/>
                </a:cubicBezTo>
                <a:cubicBezTo>
                  <a:pt x="148" y="238"/>
                  <a:pt x="139" y="225"/>
                  <a:pt x="123" y="206"/>
                </a:cubicBezTo>
                <a:cubicBezTo>
                  <a:pt x="118" y="187"/>
                  <a:pt x="121" y="168"/>
                  <a:pt x="126" y="149"/>
                </a:cubicBezTo>
                <a:cubicBezTo>
                  <a:pt x="122" y="134"/>
                  <a:pt x="108" y="134"/>
                  <a:pt x="94" y="130"/>
                </a:cubicBezTo>
                <a:cubicBezTo>
                  <a:pt x="87" y="125"/>
                  <a:pt x="81" y="122"/>
                  <a:pt x="73" y="120"/>
                </a:cubicBezTo>
                <a:cubicBezTo>
                  <a:pt x="61" y="122"/>
                  <a:pt x="56" y="124"/>
                  <a:pt x="46" y="130"/>
                </a:cubicBezTo>
                <a:cubicBezTo>
                  <a:pt x="23" y="127"/>
                  <a:pt x="23" y="126"/>
                  <a:pt x="6" y="118"/>
                </a:cubicBezTo>
                <a:cubicBezTo>
                  <a:pt x="4" y="111"/>
                  <a:pt x="0" y="108"/>
                  <a:pt x="6" y="101"/>
                </a:cubicBezTo>
                <a:cubicBezTo>
                  <a:pt x="9" y="97"/>
                  <a:pt x="20" y="101"/>
                  <a:pt x="20" y="96"/>
                </a:cubicBezTo>
                <a:cubicBezTo>
                  <a:pt x="20" y="94"/>
                  <a:pt x="15" y="96"/>
                  <a:pt x="13" y="9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5240" y="4392720"/>
            <a:ext cx="393480" cy="379440"/>
          </a:xfrm>
          <a:custGeom>
            <a:avLst/>
            <a:gdLst/>
            <a:ahLst/>
            <a:rect l="l" t="t" r="r" b="b"/>
            <a:pathLst>
              <a:path w="771" h="502">
                <a:moveTo>
                  <a:pt x="13" y="96"/>
                </a:moveTo>
                <a:cubicBezTo>
                  <a:pt x="21" y="85"/>
                  <a:pt x="32" y="69"/>
                  <a:pt x="46" y="65"/>
                </a:cubicBezTo>
                <a:cubicBezTo>
                  <a:pt x="59" y="57"/>
                  <a:pt x="75" y="52"/>
                  <a:pt x="90" y="48"/>
                </a:cubicBezTo>
                <a:cubicBezTo>
                  <a:pt x="99" y="41"/>
                  <a:pt x="108" y="38"/>
                  <a:pt x="118" y="31"/>
                </a:cubicBezTo>
                <a:cubicBezTo>
                  <a:pt x="123" y="28"/>
                  <a:pt x="133" y="22"/>
                  <a:pt x="133" y="22"/>
                </a:cubicBezTo>
                <a:cubicBezTo>
                  <a:pt x="140" y="11"/>
                  <a:pt x="147" y="4"/>
                  <a:pt x="159" y="0"/>
                </a:cubicBezTo>
                <a:cubicBezTo>
                  <a:pt x="180" y="2"/>
                  <a:pt x="183" y="1"/>
                  <a:pt x="198" y="10"/>
                </a:cubicBezTo>
                <a:cubicBezTo>
                  <a:pt x="214" y="39"/>
                  <a:pt x="235" y="66"/>
                  <a:pt x="267" y="77"/>
                </a:cubicBezTo>
                <a:cubicBezTo>
                  <a:pt x="284" y="89"/>
                  <a:pt x="311" y="94"/>
                  <a:pt x="332" y="98"/>
                </a:cubicBezTo>
                <a:cubicBezTo>
                  <a:pt x="348" y="105"/>
                  <a:pt x="366" y="108"/>
                  <a:pt x="382" y="113"/>
                </a:cubicBezTo>
                <a:cubicBezTo>
                  <a:pt x="477" y="111"/>
                  <a:pt x="567" y="108"/>
                  <a:pt x="661" y="110"/>
                </a:cubicBezTo>
                <a:cubicBezTo>
                  <a:pt x="675" y="115"/>
                  <a:pt x="688" y="119"/>
                  <a:pt x="702" y="122"/>
                </a:cubicBezTo>
                <a:cubicBezTo>
                  <a:pt x="715" y="128"/>
                  <a:pt x="726" y="134"/>
                  <a:pt x="738" y="142"/>
                </a:cubicBezTo>
                <a:cubicBezTo>
                  <a:pt x="739" y="144"/>
                  <a:pt x="740" y="147"/>
                  <a:pt x="742" y="149"/>
                </a:cubicBezTo>
                <a:cubicBezTo>
                  <a:pt x="744" y="151"/>
                  <a:pt x="748" y="149"/>
                  <a:pt x="750" y="151"/>
                </a:cubicBezTo>
                <a:cubicBezTo>
                  <a:pt x="755" y="156"/>
                  <a:pt x="757" y="173"/>
                  <a:pt x="762" y="180"/>
                </a:cubicBezTo>
                <a:cubicBezTo>
                  <a:pt x="763" y="185"/>
                  <a:pt x="765" y="189"/>
                  <a:pt x="766" y="194"/>
                </a:cubicBezTo>
                <a:cubicBezTo>
                  <a:pt x="767" y="197"/>
                  <a:pt x="769" y="204"/>
                  <a:pt x="769" y="204"/>
                </a:cubicBezTo>
                <a:cubicBezTo>
                  <a:pt x="765" y="239"/>
                  <a:pt x="771" y="233"/>
                  <a:pt x="742" y="238"/>
                </a:cubicBezTo>
                <a:cubicBezTo>
                  <a:pt x="729" y="261"/>
                  <a:pt x="733" y="290"/>
                  <a:pt x="723" y="314"/>
                </a:cubicBezTo>
                <a:cubicBezTo>
                  <a:pt x="719" y="339"/>
                  <a:pt x="716" y="361"/>
                  <a:pt x="706" y="384"/>
                </a:cubicBezTo>
                <a:cubicBezTo>
                  <a:pt x="702" y="416"/>
                  <a:pt x="720" y="460"/>
                  <a:pt x="692" y="480"/>
                </a:cubicBezTo>
                <a:cubicBezTo>
                  <a:pt x="682" y="479"/>
                  <a:pt x="672" y="482"/>
                  <a:pt x="663" y="478"/>
                </a:cubicBezTo>
                <a:cubicBezTo>
                  <a:pt x="660" y="477"/>
                  <a:pt x="665" y="471"/>
                  <a:pt x="666" y="468"/>
                </a:cubicBezTo>
                <a:cubicBezTo>
                  <a:pt x="670" y="454"/>
                  <a:pt x="673" y="439"/>
                  <a:pt x="678" y="425"/>
                </a:cubicBezTo>
                <a:cubicBezTo>
                  <a:pt x="683" y="377"/>
                  <a:pt x="683" y="387"/>
                  <a:pt x="678" y="305"/>
                </a:cubicBezTo>
                <a:cubicBezTo>
                  <a:pt x="678" y="299"/>
                  <a:pt x="673" y="288"/>
                  <a:pt x="673" y="288"/>
                </a:cubicBezTo>
                <a:cubicBezTo>
                  <a:pt x="669" y="306"/>
                  <a:pt x="670" y="326"/>
                  <a:pt x="663" y="343"/>
                </a:cubicBezTo>
                <a:cubicBezTo>
                  <a:pt x="659" y="361"/>
                  <a:pt x="655" y="383"/>
                  <a:pt x="644" y="398"/>
                </a:cubicBezTo>
                <a:cubicBezTo>
                  <a:pt x="640" y="412"/>
                  <a:pt x="639" y="416"/>
                  <a:pt x="646" y="430"/>
                </a:cubicBezTo>
                <a:cubicBezTo>
                  <a:pt x="644" y="439"/>
                  <a:pt x="639" y="456"/>
                  <a:pt x="639" y="456"/>
                </a:cubicBezTo>
                <a:cubicBezTo>
                  <a:pt x="637" y="472"/>
                  <a:pt x="639" y="478"/>
                  <a:pt x="627" y="487"/>
                </a:cubicBezTo>
                <a:cubicBezTo>
                  <a:pt x="619" y="481"/>
                  <a:pt x="611" y="481"/>
                  <a:pt x="601" y="478"/>
                </a:cubicBezTo>
                <a:cubicBezTo>
                  <a:pt x="603" y="456"/>
                  <a:pt x="611" y="440"/>
                  <a:pt x="615" y="418"/>
                </a:cubicBezTo>
                <a:cubicBezTo>
                  <a:pt x="613" y="394"/>
                  <a:pt x="604" y="372"/>
                  <a:pt x="601" y="348"/>
                </a:cubicBezTo>
                <a:cubicBezTo>
                  <a:pt x="587" y="367"/>
                  <a:pt x="573" y="374"/>
                  <a:pt x="550" y="379"/>
                </a:cubicBezTo>
                <a:cubicBezTo>
                  <a:pt x="498" y="378"/>
                  <a:pt x="449" y="374"/>
                  <a:pt x="397" y="370"/>
                </a:cubicBezTo>
                <a:cubicBezTo>
                  <a:pt x="370" y="362"/>
                  <a:pt x="342" y="368"/>
                  <a:pt x="315" y="360"/>
                </a:cubicBezTo>
                <a:cubicBezTo>
                  <a:pt x="309" y="380"/>
                  <a:pt x="317" y="399"/>
                  <a:pt x="320" y="418"/>
                </a:cubicBezTo>
                <a:cubicBezTo>
                  <a:pt x="319" y="443"/>
                  <a:pt x="322" y="479"/>
                  <a:pt x="296" y="494"/>
                </a:cubicBezTo>
                <a:cubicBezTo>
                  <a:pt x="254" y="491"/>
                  <a:pt x="264" y="490"/>
                  <a:pt x="286" y="478"/>
                </a:cubicBezTo>
                <a:cubicBezTo>
                  <a:pt x="297" y="449"/>
                  <a:pt x="293" y="408"/>
                  <a:pt x="296" y="377"/>
                </a:cubicBezTo>
                <a:cubicBezTo>
                  <a:pt x="298" y="356"/>
                  <a:pt x="304" y="356"/>
                  <a:pt x="291" y="360"/>
                </a:cubicBezTo>
                <a:cubicBezTo>
                  <a:pt x="286" y="377"/>
                  <a:pt x="276" y="392"/>
                  <a:pt x="272" y="410"/>
                </a:cubicBezTo>
                <a:cubicBezTo>
                  <a:pt x="264" y="443"/>
                  <a:pt x="270" y="487"/>
                  <a:pt x="234" y="502"/>
                </a:cubicBezTo>
                <a:cubicBezTo>
                  <a:pt x="224" y="501"/>
                  <a:pt x="214" y="502"/>
                  <a:pt x="205" y="499"/>
                </a:cubicBezTo>
                <a:cubicBezTo>
                  <a:pt x="203" y="498"/>
                  <a:pt x="216" y="473"/>
                  <a:pt x="217" y="470"/>
                </a:cubicBezTo>
                <a:cubicBezTo>
                  <a:pt x="223" y="451"/>
                  <a:pt x="229" y="432"/>
                  <a:pt x="234" y="413"/>
                </a:cubicBezTo>
                <a:cubicBezTo>
                  <a:pt x="236" y="388"/>
                  <a:pt x="241" y="367"/>
                  <a:pt x="248" y="343"/>
                </a:cubicBezTo>
                <a:cubicBezTo>
                  <a:pt x="246" y="311"/>
                  <a:pt x="252" y="307"/>
                  <a:pt x="229" y="317"/>
                </a:cubicBezTo>
                <a:cubicBezTo>
                  <a:pt x="214" y="313"/>
                  <a:pt x="206" y="306"/>
                  <a:pt x="193" y="298"/>
                </a:cubicBezTo>
                <a:cubicBezTo>
                  <a:pt x="188" y="286"/>
                  <a:pt x="184" y="286"/>
                  <a:pt x="171" y="283"/>
                </a:cubicBezTo>
                <a:cubicBezTo>
                  <a:pt x="166" y="276"/>
                  <a:pt x="159" y="269"/>
                  <a:pt x="154" y="262"/>
                </a:cubicBezTo>
                <a:cubicBezTo>
                  <a:pt x="148" y="238"/>
                  <a:pt x="139" y="225"/>
                  <a:pt x="123" y="206"/>
                </a:cubicBezTo>
                <a:cubicBezTo>
                  <a:pt x="118" y="187"/>
                  <a:pt x="121" y="168"/>
                  <a:pt x="126" y="149"/>
                </a:cubicBezTo>
                <a:cubicBezTo>
                  <a:pt x="122" y="134"/>
                  <a:pt x="108" y="134"/>
                  <a:pt x="94" y="130"/>
                </a:cubicBezTo>
                <a:cubicBezTo>
                  <a:pt x="87" y="125"/>
                  <a:pt x="81" y="122"/>
                  <a:pt x="73" y="120"/>
                </a:cubicBezTo>
                <a:cubicBezTo>
                  <a:pt x="61" y="122"/>
                  <a:pt x="56" y="124"/>
                  <a:pt x="46" y="130"/>
                </a:cubicBezTo>
                <a:cubicBezTo>
                  <a:pt x="23" y="127"/>
                  <a:pt x="23" y="126"/>
                  <a:pt x="6" y="118"/>
                </a:cubicBezTo>
                <a:cubicBezTo>
                  <a:pt x="4" y="111"/>
                  <a:pt x="0" y="108"/>
                  <a:pt x="6" y="101"/>
                </a:cubicBezTo>
                <a:cubicBezTo>
                  <a:pt x="9" y="97"/>
                  <a:pt x="20" y="101"/>
                  <a:pt x="20" y="96"/>
                </a:cubicBezTo>
                <a:cubicBezTo>
                  <a:pt x="20" y="94"/>
                  <a:pt x="15" y="96"/>
                  <a:pt x="13" y="9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03640" y="4775040"/>
            <a:ext cx="392040" cy="379440"/>
          </a:xfrm>
          <a:custGeom>
            <a:avLst/>
            <a:gdLst/>
            <a:ahLst/>
            <a:rect l="l" t="t" r="r" b="b"/>
            <a:pathLst>
              <a:path w="771" h="502">
                <a:moveTo>
                  <a:pt x="13" y="96"/>
                </a:moveTo>
                <a:cubicBezTo>
                  <a:pt x="21" y="85"/>
                  <a:pt x="32" y="69"/>
                  <a:pt x="46" y="65"/>
                </a:cubicBezTo>
                <a:cubicBezTo>
                  <a:pt x="59" y="57"/>
                  <a:pt x="75" y="52"/>
                  <a:pt x="90" y="48"/>
                </a:cubicBezTo>
                <a:cubicBezTo>
                  <a:pt x="99" y="41"/>
                  <a:pt x="108" y="38"/>
                  <a:pt x="118" y="31"/>
                </a:cubicBezTo>
                <a:cubicBezTo>
                  <a:pt x="123" y="28"/>
                  <a:pt x="133" y="22"/>
                  <a:pt x="133" y="22"/>
                </a:cubicBezTo>
                <a:cubicBezTo>
                  <a:pt x="140" y="11"/>
                  <a:pt x="147" y="4"/>
                  <a:pt x="159" y="0"/>
                </a:cubicBezTo>
                <a:cubicBezTo>
                  <a:pt x="180" y="2"/>
                  <a:pt x="183" y="1"/>
                  <a:pt x="198" y="10"/>
                </a:cubicBezTo>
                <a:cubicBezTo>
                  <a:pt x="214" y="39"/>
                  <a:pt x="235" y="66"/>
                  <a:pt x="267" y="77"/>
                </a:cubicBezTo>
                <a:cubicBezTo>
                  <a:pt x="284" y="89"/>
                  <a:pt x="311" y="94"/>
                  <a:pt x="332" y="98"/>
                </a:cubicBezTo>
                <a:cubicBezTo>
                  <a:pt x="348" y="105"/>
                  <a:pt x="366" y="108"/>
                  <a:pt x="382" y="113"/>
                </a:cubicBezTo>
                <a:cubicBezTo>
                  <a:pt x="477" y="111"/>
                  <a:pt x="567" y="108"/>
                  <a:pt x="661" y="110"/>
                </a:cubicBezTo>
                <a:cubicBezTo>
                  <a:pt x="675" y="115"/>
                  <a:pt x="688" y="119"/>
                  <a:pt x="702" y="122"/>
                </a:cubicBezTo>
                <a:cubicBezTo>
                  <a:pt x="715" y="128"/>
                  <a:pt x="726" y="134"/>
                  <a:pt x="738" y="142"/>
                </a:cubicBezTo>
                <a:cubicBezTo>
                  <a:pt x="739" y="144"/>
                  <a:pt x="740" y="147"/>
                  <a:pt x="742" y="149"/>
                </a:cubicBezTo>
                <a:cubicBezTo>
                  <a:pt x="744" y="151"/>
                  <a:pt x="748" y="149"/>
                  <a:pt x="750" y="151"/>
                </a:cubicBezTo>
                <a:cubicBezTo>
                  <a:pt x="755" y="156"/>
                  <a:pt x="757" y="173"/>
                  <a:pt x="762" y="180"/>
                </a:cubicBezTo>
                <a:cubicBezTo>
                  <a:pt x="763" y="185"/>
                  <a:pt x="765" y="189"/>
                  <a:pt x="766" y="194"/>
                </a:cubicBezTo>
                <a:cubicBezTo>
                  <a:pt x="767" y="197"/>
                  <a:pt x="769" y="204"/>
                  <a:pt x="769" y="204"/>
                </a:cubicBezTo>
                <a:cubicBezTo>
                  <a:pt x="765" y="239"/>
                  <a:pt x="771" y="233"/>
                  <a:pt x="742" y="238"/>
                </a:cubicBezTo>
                <a:cubicBezTo>
                  <a:pt x="729" y="261"/>
                  <a:pt x="733" y="290"/>
                  <a:pt x="723" y="314"/>
                </a:cubicBezTo>
                <a:cubicBezTo>
                  <a:pt x="719" y="339"/>
                  <a:pt x="716" y="361"/>
                  <a:pt x="706" y="384"/>
                </a:cubicBezTo>
                <a:cubicBezTo>
                  <a:pt x="702" y="416"/>
                  <a:pt x="720" y="460"/>
                  <a:pt x="692" y="480"/>
                </a:cubicBezTo>
                <a:cubicBezTo>
                  <a:pt x="682" y="479"/>
                  <a:pt x="672" y="482"/>
                  <a:pt x="663" y="478"/>
                </a:cubicBezTo>
                <a:cubicBezTo>
                  <a:pt x="660" y="477"/>
                  <a:pt x="665" y="471"/>
                  <a:pt x="666" y="468"/>
                </a:cubicBezTo>
                <a:cubicBezTo>
                  <a:pt x="670" y="454"/>
                  <a:pt x="673" y="439"/>
                  <a:pt x="678" y="425"/>
                </a:cubicBezTo>
                <a:cubicBezTo>
                  <a:pt x="683" y="377"/>
                  <a:pt x="683" y="387"/>
                  <a:pt x="678" y="305"/>
                </a:cubicBezTo>
                <a:cubicBezTo>
                  <a:pt x="678" y="299"/>
                  <a:pt x="673" y="288"/>
                  <a:pt x="673" y="288"/>
                </a:cubicBezTo>
                <a:cubicBezTo>
                  <a:pt x="669" y="306"/>
                  <a:pt x="670" y="326"/>
                  <a:pt x="663" y="343"/>
                </a:cubicBezTo>
                <a:cubicBezTo>
                  <a:pt x="659" y="361"/>
                  <a:pt x="655" y="383"/>
                  <a:pt x="644" y="398"/>
                </a:cubicBezTo>
                <a:cubicBezTo>
                  <a:pt x="640" y="412"/>
                  <a:pt x="639" y="416"/>
                  <a:pt x="646" y="430"/>
                </a:cubicBezTo>
                <a:cubicBezTo>
                  <a:pt x="644" y="439"/>
                  <a:pt x="639" y="456"/>
                  <a:pt x="639" y="456"/>
                </a:cubicBezTo>
                <a:cubicBezTo>
                  <a:pt x="637" y="472"/>
                  <a:pt x="639" y="478"/>
                  <a:pt x="627" y="487"/>
                </a:cubicBezTo>
                <a:cubicBezTo>
                  <a:pt x="619" y="481"/>
                  <a:pt x="611" y="481"/>
                  <a:pt x="601" y="478"/>
                </a:cubicBezTo>
                <a:cubicBezTo>
                  <a:pt x="603" y="456"/>
                  <a:pt x="611" y="440"/>
                  <a:pt x="615" y="418"/>
                </a:cubicBezTo>
                <a:cubicBezTo>
                  <a:pt x="613" y="394"/>
                  <a:pt x="604" y="372"/>
                  <a:pt x="601" y="348"/>
                </a:cubicBezTo>
                <a:cubicBezTo>
                  <a:pt x="587" y="367"/>
                  <a:pt x="573" y="374"/>
                  <a:pt x="550" y="379"/>
                </a:cubicBezTo>
                <a:cubicBezTo>
                  <a:pt x="498" y="378"/>
                  <a:pt x="449" y="374"/>
                  <a:pt x="397" y="370"/>
                </a:cubicBezTo>
                <a:cubicBezTo>
                  <a:pt x="370" y="362"/>
                  <a:pt x="342" y="368"/>
                  <a:pt x="315" y="360"/>
                </a:cubicBezTo>
                <a:cubicBezTo>
                  <a:pt x="309" y="380"/>
                  <a:pt x="317" y="399"/>
                  <a:pt x="320" y="418"/>
                </a:cubicBezTo>
                <a:cubicBezTo>
                  <a:pt x="319" y="443"/>
                  <a:pt x="322" y="479"/>
                  <a:pt x="296" y="494"/>
                </a:cubicBezTo>
                <a:cubicBezTo>
                  <a:pt x="254" y="491"/>
                  <a:pt x="264" y="490"/>
                  <a:pt x="286" y="478"/>
                </a:cubicBezTo>
                <a:cubicBezTo>
                  <a:pt x="297" y="449"/>
                  <a:pt x="293" y="408"/>
                  <a:pt x="296" y="377"/>
                </a:cubicBezTo>
                <a:cubicBezTo>
                  <a:pt x="298" y="356"/>
                  <a:pt x="304" y="356"/>
                  <a:pt x="291" y="360"/>
                </a:cubicBezTo>
                <a:cubicBezTo>
                  <a:pt x="286" y="377"/>
                  <a:pt x="276" y="392"/>
                  <a:pt x="272" y="410"/>
                </a:cubicBezTo>
                <a:cubicBezTo>
                  <a:pt x="264" y="443"/>
                  <a:pt x="270" y="487"/>
                  <a:pt x="234" y="502"/>
                </a:cubicBezTo>
                <a:cubicBezTo>
                  <a:pt x="224" y="501"/>
                  <a:pt x="214" y="502"/>
                  <a:pt x="205" y="499"/>
                </a:cubicBezTo>
                <a:cubicBezTo>
                  <a:pt x="203" y="498"/>
                  <a:pt x="216" y="473"/>
                  <a:pt x="217" y="470"/>
                </a:cubicBezTo>
                <a:cubicBezTo>
                  <a:pt x="223" y="451"/>
                  <a:pt x="229" y="432"/>
                  <a:pt x="234" y="413"/>
                </a:cubicBezTo>
                <a:cubicBezTo>
                  <a:pt x="236" y="388"/>
                  <a:pt x="241" y="367"/>
                  <a:pt x="248" y="343"/>
                </a:cubicBezTo>
                <a:cubicBezTo>
                  <a:pt x="246" y="311"/>
                  <a:pt x="252" y="307"/>
                  <a:pt x="229" y="317"/>
                </a:cubicBezTo>
                <a:cubicBezTo>
                  <a:pt x="214" y="313"/>
                  <a:pt x="206" y="306"/>
                  <a:pt x="193" y="298"/>
                </a:cubicBezTo>
                <a:cubicBezTo>
                  <a:pt x="188" y="286"/>
                  <a:pt x="184" y="286"/>
                  <a:pt x="171" y="283"/>
                </a:cubicBezTo>
                <a:cubicBezTo>
                  <a:pt x="166" y="276"/>
                  <a:pt x="159" y="269"/>
                  <a:pt x="154" y="262"/>
                </a:cubicBezTo>
                <a:cubicBezTo>
                  <a:pt x="148" y="238"/>
                  <a:pt x="139" y="225"/>
                  <a:pt x="123" y="206"/>
                </a:cubicBezTo>
                <a:cubicBezTo>
                  <a:pt x="118" y="187"/>
                  <a:pt x="121" y="168"/>
                  <a:pt x="126" y="149"/>
                </a:cubicBezTo>
                <a:cubicBezTo>
                  <a:pt x="122" y="134"/>
                  <a:pt x="108" y="134"/>
                  <a:pt x="94" y="130"/>
                </a:cubicBezTo>
                <a:cubicBezTo>
                  <a:pt x="87" y="125"/>
                  <a:pt x="81" y="122"/>
                  <a:pt x="73" y="120"/>
                </a:cubicBezTo>
                <a:cubicBezTo>
                  <a:pt x="61" y="122"/>
                  <a:pt x="56" y="124"/>
                  <a:pt x="46" y="130"/>
                </a:cubicBezTo>
                <a:cubicBezTo>
                  <a:pt x="23" y="127"/>
                  <a:pt x="23" y="126"/>
                  <a:pt x="6" y="118"/>
                </a:cubicBezTo>
                <a:cubicBezTo>
                  <a:pt x="4" y="111"/>
                  <a:pt x="0" y="108"/>
                  <a:pt x="6" y="101"/>
                </a:cubicBezTo>
                <a:cubicBezTo>
                  <a:pt x="9" y="97"/>
                  <a:pt x="20" y="101"/>
                  <a:pt x="20" y="96"/>
                </a:cubicBezTo>
                <a:cubicBezTo>
                  <a:pt x="20" y="94"/>
                  <a:pt x="15" y="96"/>
                  <a:pt x="13" y="9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6840" y="5156280"/>
            <a:ext cx="392040" cy="376200"/>
          </a:xfrm>
          <a:custGeom>
            <a:avLst/>
            <a:gdLst/>
            <a:ahLst/>
            <a:rect l="l" t="t" r="r" b="b"/>
            <a:pathLst>
              <a:path w="771" h="502">
                <a:moveTo>
                  <a:pt x="13" y="96"/>
                </a:moveTo>
                <a:cubicBezTo>
                  <a:pt x="21" y="85"/>
                  <a:pt x="32" y="69"/>
                  <a:pt x="46" y="65"/>
                </a:cubicBezTo>
                <a:cubicBezTo>
                  <a:pt x="59" y="57"/>
                  <a:pt x="75" y="52"/>
                  <a:pt x="90" y="48"/>
                </a:cubicBezTo>
                <a:cubicBezTo>
                  <a:pt x="99" y="41"/>
                  <a:pt x="108" y="38"/>
                  <a:pt x="118" y="31"/>
                </a:cubicBezTo>
                <a:cubicBezTo>
                  <a:pt x="123" y="28"/>
                  <a:pt x="133" y="22"/>
                  <a:pt x="133" y="22"/>
                </a:cubicBezTo>
                <a:cubicBezTo>
                  <a:pt x="140" y="11"/>
                  <a:pt x="147" y="4"/>
                  <a:pt x="159" y="0"/>
                </a:cubicBezTo>
                <a:cubicBezTo>
                  <a:pt x="180" y="2"/>
                  <a:pt x="183" y="1"/>
                  <a:pt x="198" y="10"/>
                </a:cubicBezTo>
                <a:cubicBezTo>
                  <a:pt x="214" y="39"/>
                  <a:pt x="235" y="66"/>
                  <a:pt x="267" y="77"/>
                </a:cubicBezTo>
                <a:cubicBezTo>
                  <a:pt x="284" y="89"/>
                  <a:pt x="311" y="94"/>
                  <a:pt x="332" y="98"/>
                </a:cubicBezTo>
                <a:cubicBezTo>
                  <a:pt x="348" y="105"/>
                  <a:pt x="366" y="108"/>
                  <a:pt x="382" y="113"/>
                </a:cubicBezTo>
                <a:cubicBezTo>
                  <a:pt x="477" y="111"/>
                  <a:pt x="567" y="108"/>
                  <a:pt x="661" y="110"/>
                </a:cubicBezTo>
                <a:cubicBezTo>
                  <a:pt x="675" y="115"/>
                  <a:pt x="688" y="119"/>
                  <a:pt x="702" y="122"/>
                </a:cubicBezTo>
                <a:cubicBezTo>
                  <a:pt x="715" y="128"/>
                  <a:pt x="726" y="134"/>
                  <a:pt x="738" y="142"/>
                </a:cubicBezTo>
                <a:cubicBezTo>
                  <a:pt x="739" y="144"/>
                  <a:pt x="740" y="147"/>
                  <a:pt x="742" y="149"/>
                </a:cubicBezTo>
                <a:cubicBezTo>
                  <a:pt x="744" y="151"/>
                  <a:pt x="748" y="149"/>
                  <a:pt x="750" y="151"/>
                </a:cubicBezTo>
                <a:cubicBezTo>
                  <a:pt x="755" y="156"/>
                  <a:pt x="757" y="173"/>
                  <a:pt x="762" y="180"/>
                </a:cubicBezTo>
                <a:cubicBezTo>
                  <a:pt x="763" y="185"/>
                  <a:pt x="765" y="189"/>
                  <a:pt x="766" y="194"/>
                </a:cubicBezTo>
                <a:cubicBezTo>
                  <a:pt x="767" y="197"/>
                  <a:pt x="769" y="204"/>
                  <a:pt x="769" y="204"/>
                </a:cubicBezTo>
                <a:cubicBezTo>
                  <a:pt x="765" y="239"/>
                  <a:pt x="771" y="233"/>
                  <a:pt x="742" y="238"/>
                </a:cubicBezTo>
                <a:cubicBezTo>
                  <a:pt x="729" y="261"/>
                  <a:pt x="733" y="290"/>
                  <a:pt x="723" y="314"/>
                </a:cubicBezTo>
                <a:cubicBezTo>
                  <a:pt x="719" y="339"/>
                  <a:pt x="716" y="361"/>
                  <a:pt x="706" y="384"/>
                </a:cubicBezTo>
                <a:cubicBezTo>
                  <a:pt x="702" y="416"/>
                  <a:pt x="720" y="460"/>
                  <a:pt x="692" y="480"/>
                </a:cubicBezTo>
                <a:cubicBezTo>
                  <a:pt x="682" y="479"/>
                  <a:pt x="672" y="482"/>
                  <a:pt x="663" y="478"/>
                </a:cubicBezTo>
                <a:cubicBezTo>
                  <a:pt x="660" y="477"/>
                  <a:pt x="665" y="471"/>
                  <a:pt x="666" y="468"/>
                </a:cubicBezTo>
                <a:cubicBezTo>
                  <a:pt x="670" y="454"/>
                  <a:pt x="673" y="439"/>
                  <a:pt x="678" y="425"/>
                </a:cubicBezTo>
                <a:cubicBezTo>
                  <a:pt x="683" y="377"/>
                  <a:pt x="683" y="387"/>
                  <a:pt x="678" y="305"/>
                </a:cubicBezTo>
                <a:cubicBezTo>
                  <a:pt x="678" y="299"/>
                  <a:pt x="673" y="288"/>
                  <a:pt x="673" y="288"/>
                </a:cubicBezTo>
                <a:cubicBezTo>
                  <a:pt x="669" y="306"/>
                  <a:pt x="670" y="326"/>
                  <a:pt x="663" y="343"/>
                </a:cubicBezTo>
                <a:cubicBezTo>
                  <a:pt x="659" y="361"/>
                  <a:pt x="655" y="383"/>
                  <a:pt x="644" y="398"/>
                </a:cubicBezTo>
                <a:cubicBezTo>
                  <a:pt x="640" y="412"/>
                  <a:pt x="639" y="416"/>
                  <a:pt x="646" y="430"/>
                </a:cubicBezTo>
                <a:cubicBezTo>
                  <a:pt x="644" y="439"/>
                  <a:pt x="639" y="456"/>
                  <a:pt x="639" y="456"/>
                </a:cubicBezTo>
                <a:cubicBezTo>
                  <a:pt x="637" y="472"/>
                  <a:pt x="639" y="478"/>
                  <a:pt x="627" y="487"/>
                </a:cubicBezTo>
                <a:cubicBezTo>
                  <a:pt x="619" y="481"/>
                  <a:pt x="611" y="481"/>
                  <a:pt x="601" y="478"/>
                </a:cubicBezTo>
                <a:cubicBezTo>
                  <a:pt x="603" y="456"/>
                  <a:pt x="611" y="440"/>
                  <a:pt x="615" y="418"/>
                </a:cubicBezTo>
                <a:cubicBezTo>
                  <a:pt x="613" y="394"/>
                  <a:pt x="604" y="372"/>
                  <a:pt x="601" y="348"/>
                </a:cubicBezTo>
                <a:cubicBezTo>
                  <a:pt x="587" y="367"/>
                  <a:pt x="573" y="374"/>
                  <a:pt x="550" y="379"/>
                </a:cubicBezTo>
                <a:cubicBezTo>
                  <a:pt x="498" y="378"/>
                  <a:pt x="449" y="374"/>
                  <a:pt x="397" y="370"/>
                </a:cubicBezTo>
                <a:cubicBezTo>
                  <a:pt x="370" y="362"/>
                  <a:pt x="342" y="368"/>
                  <a:pt x="315" y="360"/>
                </a:cubicBezTo>
                <a:cubicBezTo>
                  <a:pt x="309" y="380"/>
                  <a:pt x="317" y="399"/>
                  <a:pt x="320" y="418"/>
                </a:cubicBezTo>
                <a:cubicBezTo>
                  <a:pt x="319" y="443"/>
                  <a:pt x="322" y="479"/>
                  <a:pt x="296" y="494"/>
                </a:cubicBezTo>
                <a:cubicBezTo>
                  <a:pt x="254" y="491"/>
                  <a:pt x="264" y="490"/>
                  <a:pt x="286" y="478"/>
                </a:cubicBezTo>
                <a:cubicBezTo>
                  <a:pt x="297" y="449"/>
                  <a:pt x="293" y="408"/>
                  <a:pt x="296" y="377"/>
                </a:cubicBezTo>
                <a:cubicBezTo>
                  <a:pt x="298" y="356"/>
                  <a:pt x="304" y="356"/>
                  <a:pt x="291" y="360"/>
                </a:cubicBezTo>
                <a:cubicBezTo>
                  <a:pt x="286" y="377"/>
                  <a:pt x="276" y="392"/>
                  <a:pt x="272" y="410"/>
                </a:cubicBezTo>
                <a:cubicBezTo>
                  <a:pt x="264" y="443"/>
                  <a:pt x="270" y="487"/>
                  <a:pt x="234" y="502"/>
                </a:cubicBezTo>
                <a:cubicBezTo>
                  <a:pt x="224" y="501"/>
                  <a:pt x="214" y="502"/>
                  <a:pt x="205" y="499"/>
                </a:cubicBezTo>
                <a:cubicBezTo>
                  <a:pt x="203" y="498"/>
                  <a:pt x="216" y="473"/>
                  <a:pt x="217" y="470"/>
                </a:cubicBezTo>
                <a:cubicBezTo>
                  <a:pt x="223" y="451"/>
                  <a:pt x="229" y="432"/>
                  <a:pt x="234" y="413"/>
                </a:cubicBezTo>
                <a:cubicBezTo>
                  <a:pt x="236" y="388"/>
                  <a:pt x="241" y="367"/>
                  <a:pt x="248" y="343"/>
                </a:cubicBezTo>
                <a:cubicBezTo>
                  <a:pt x="246" y="311"/>
                  <a:pt x="252" y="307"/>
                  <a:pt x="229" y="317"/>
                </a:cubicBezTo>
                <a:cubicBezTo>
                  <a:pt x="214" y="313"/>
                  <a:pt x="206" y="306"/>
                  <a:pt x="193" y="298"/>
                </a:cubicBezTo>
                <a:cubicBezTo>
                  <a:pt x="188" y="286"/>
                  <a:pt x="184" y="286"/>
                  <a:pt x="171" y="283"/>
                </a:cubicBezTo>
                <a:cubicBezTo>
                  <a:pt x="166" y="276"/>
                  <a:pt x="159" y="269"/>
                  <a:pt x="154" y="262"/>
                </a:cubicBezTo>
                <a:cubicBezTo>
                  <a:pt x="148" y="238"/>
                  <a:pt x="139" y="225"/>
                  <a:pt x="123" y="206"/>
                </a:cubicBezTo>
                <a:cubicBezTo>
                  <a:pt x="118" y="187"/>
                  <a:pt x="121" y="168"/>
                  <a:pt x="126" y="149"/>
                </a:cubicBezTo>
                <a:cubicBezTo>
                  <a:pt x="122" y="134"/>
                  <a:pt x="108" y="134"/>
                  <a:pt x="94" y="130"/>
                </a:cubicBezTo>
                <a:cubicBezTo>
                  <a:pt x="87" y="125"/>
                  <a:pt x="81" y="122"/>
                  <a:pt x="73" y="120"/>
                </a:cubicBezTo>
                <a:cubicBezTo>
                  <a:pt x="61" y="122"/>
                  <a:pt x="56" y="124"/>
                  <a:pt x="46" y="130"/>
                </a:cubicBezTo>
                <a:cubicBezTo>
                  <a:pt x="23" y="127"/>
                  <a:pt x="23" y="126"/>
                  <a:pt x="6" y="118"/>
                </a:cubicBezTo>
                <a:cubicBezTo>
                  <a:pt x="4" y="111"/>
                  <a:pt x="0" y="108"/>
                  <a:pt x="6" y="101"/>
                </a:cubicBezTo>
                <a:cubicBezTo>
                  <a:pt x="9" y="97"/>
                  <a:pt x="20" y="101"/>
                  <a:pt x="20" y="96"/>
                </a:cubicBezTo>
                <a:cubicBezTo>
                  <a:pt x="20" y="94"/>
                  <a:pt x="15" y="96"/>
                  <a:pt x="13" y="9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76680" y="4775040"/>
            <a:ext cx="390240" cy="379440"/>
          </a:xfrm>
          <a:custGeom>
            <a:avLst/>
            <a:gdLst/>
            <a:ahLst/>
            <a:rect l="l" t="t" r="r" b="b"/>
            <a:pathLst>
              <a:path w="771" h="502">
                <a:moveTo>
                  <a:pt x="13" y="96"/>
                </a:moveTo>
                <a:cubicBezTo>
                  <a:pt x="21" y="85"/>
                  <a:pt x="32" y="69"/>
                  <a:pt x="46" y="65"/>
                </a:cubicBezTo>
                <a:cubicBezTo>
                  <a:pt x="59" y="57"/>
                  <a:pt x="75" y="52"/>
                  <a:pt x="90" y="48"/>
                </a:cubicBezTo>
                <a:cubicBezTo>
                  <a:pt x="99" y="41"/>
                  <a:pt x="108" y="38"/>
                  <a:pt x="118" y="31"/>
                </a:cubicBezTo>
                <a:cubicBezTo>
                  <a:pt x="123" y="28"/>
                  <a:pt x="133" y="22"/>
                  <a:pt x="133" y="22"/>
                </a:cubicBezTo>
                <a:cubicBezTo>
                  <a:pt x="140" y="11"/>
                  <a:pt x="147" y="4"/>
                  <a:pt x="159" y="0"/>
                </a:cubicBezTo>
                <a:cubicBezTo>
                  <a:pt x="180" y="2"/>
                  <a:pt x="183" y="1"/>
                  <a:pt x="198" y="10"/>
                </a:cubicBezTo>
                <a:cubicBezTo>
                  <a:pt x="214" y="39"/>
                  <a:pt x="235" y="66"/>
                  <a:pt x="267" y="77"/>
                </a:cubicBezTo>
                <a:cubicBezTo>
                  <a:pt x="284" y="89"/>
                  <a:pt x="311" y="94"/>
                  <a:pt x="332" y="98"/>
                </a:cubicBezTo>
                <a:cubicBezTo>
                  <a:pt x="348" y="105"/>
                  <a:pt x="366" y="108"/>
                  <a:pt x="382" y="113"/>
                </a:cubicBezTo>
                <a:cubicBezTo>
                  <a:pt x="477" y="111"/>
                  <a:pt x="567" y="108"/>
                  <a:pt x="661" y="110"/>
                </a:cubicBezTo>
                <a:cubicBezTo>
                  <a:pt x="675" y="115"/>
                  <a:pt x="688" y="119"/>
                  <a:pt x="702" y="122"/>
                </a:cubicBezTo>
                <a:cubicBezTo>
                  <a:pt x="715" y="128"/>
                  <a:pt x="726" y="134"/>
                  <a:pt x="738" y="142"/>
                </a:cubicBezTo>
                <a:cubicBezTo>
                  <a:pt x="739" y="144"/>
                  <a:pt x="740" y="147"/>
                  <a:pt x="742" y="149"/>
                </a:cubicBezTo>
                <a:cubicBezTo>
                  <a:pt x="744" y="151"/>
                  <a:pt x="748" y="149"/>
                  <a:pt x="750" y="151"/>
                </a:cubicBezTo>
                <a:cubicBezTo>
                  <a:pt x="755" y="156"/>
                  <a:pt x="757" y="173"/>
                  <a:pt x="762" y="180"/>
                </a:cubicBezTo>
                <a:cubicBezTo>
                  <a:pt x="763" y="185"/>
                  <a:pt x="765" y="189"/>
                  <a:pt x="766" y="194"/>
                </a:cubicBezTo>
                <a:cubicBezTo>
                  <a:pt x="767" y="197"/>
                  <a:pt x="769" y="204"/>
                  <a:pt x="769" y="204"/>
                </a:cubicBezTo>
                <a:cubicBezTo>
                  <a:pt x="765" y="239"/>
                  <a:pt x="771" y="233"/>
                  <a:pt x="742" y="238"/>
                </a:cubicBezTo>
                <a:cubicBezTo>
                  <a:pt x="729" y="261"/>
                  <a:pt x="733" y="290"/>
                  <a:pt x="723" y="314"/>
                </a:cubicBezTo>
                <a:cubicBezTo>
                  <a:pt x="719" y="339"/>
                  <a:pt x="716" y="361"/>
                  <a:pt x="706" y="384"/>
                </a:cubicBezTo>
                <a:cubicBezTo>
                  <a:pt x="702" y="416"/>
                  <a:pt x="720" y="460"/>
                  <a:pt x="692" y="480"/>
                </a:cubicBezTo>
                <a:cubicBezTo>
                  <a:pt x="682" y="479"/>
                  <a:pt x="672" y="482"/>
                  <a:pt x="663" y="478"/>
                </a:cubicBezTo>
                <a:cubicBezTo>
                  <a:pt x="660" y="477"/>
                  <a:pt x="665" y="471"/>
                  <a:pt x="666" y="468"/>
                </a:cubicBezTo>
                <a:cubicBezTo>
                  <a:pt x="670" y="454"/>
                  <a:pt x="673" y="439"/>
                  <a:pt x="678" y="425"/>
                </a:cubicBezTo>
                <a:cubicBezTo>
                  <a:pt x="683" y="377"/>
                  <a:pt x="683" y="387"/>
                  <a:pt x="678" y="305"/>
                </a:cubicBezTo>
                <a:cubicBezTo>
                  <a:pt x="678" y="299"/>
                  <a:pt x="673" y="288"/>
                  <a:pt x="673" y="288"/>
                </a:cubicBezTo>
                <a:cubicBezTo>
                  <a:pt x="669" y="306"/>
                  <a:pt x="670" y="326"/>
                  <a:pt x="663" y="343"/>
                </a:cubicBezTo>
                <a:cubicBezTo>
                  <a:pt x="659" y="361"/>
                  <a:pt x="655" y="383"/>
                  <a:pt x="644" y="398"/>
                </a:cubicBezTo>
                <a:cubicBezTo>
                  <a:pt x="640" y="412"/>
                  <a:pt x="639" y="416"/>
                  <a:pt x="646" y="430"/>
                </a:cubicBezTo>
                <a:cubicBezTo>
                  <a:pt x="644" y="439"/>
                  <a:pt x="639" y="456"/>
                  <a:pt x="639" y="456"/>
                </a:cubicBezTo>
                <a:cubicBezTo>
                  <a:pt x="637" y="472"/>
                  <a:pt x="639" y="478"/>
                  <a:pt x="627" y="487"/>
                </a:cubicBezTo>
                <a:cubicBezTo>
                  <a:pt x="619" y="481"/>
                  <a:pt x="611" y="481"/>
                  <a:pt x="601" y="478"/>
                </a:cubicBezTo>
                <a:cubicBezTo>
                  <a:pt x="603" y="456"/>
                  <a:pt x="611" y="440"/>
                  <a:pt x="615" y="418"/>
                </a:cubicBezTo>
                <a:cubicBezTo>
                  <a:pt x="613" y="394"/>
                  <a:pt x="604" y="372"/>
                  <a:pt x="601" y="348"/>
                </a:cubicBezTo>
                <a:cubicBezTo>
                  <a:pt x="587" y="367"/>
                  <a:pt x="573" y="374"/>
                  <a:pt x="550" y="379"/>
                </a:cubicBezTo>
                <a:cubicBezTo>
                  <a:pt x="498" y="378"/>
                  <a:pt x="449" y="374"/>
                  <a:pt x="397" y="370"/>
                </a:cubicBezTo>
                <a:cubicBezTo>
                  <a:pt x="370" y="362"/>
                  <a:pt x="342" y="368"/>
                  <a:pt x="315" y="360"/>
                </a:cubicBezTo>
                <a:cubicBezTo>
                  <a:pt x="309" y="380"/>
                  <a:pt x="317" y="399"/>
                  <a:pt x="320" y="418"/>
                </a:cubicBezTo>
                <a:cubicBezTo>
                  <a:pt x="319" y="443"/>
                  <a:pt x="322" y="479"/>
                  <a:pt x="296" y="494"/>
                </a:cubicBezTo>
                <a:cubicBezTo>
                  <a:pt x="254" y="491"/>
                  <a:pt x="264" y="490"/>
                  <a:pt x="286" y="478"/>
                </a:cubicBezTo>
                <a:cubicBezTo>
                  <a:pt x="297" y="449"/>
                  <a:pt x="293" y="408"/>
                  <a:pt x="296" y="377"/>
                </a:cubicBezTo>
                <a:cubicBezTo>
                  <a:pt x="298" y="356"/>
                  <a:pt x="304" y="356"/>
                  <a:pt x="291" y="360"/>
                </a:cubicBezTo>
                <a:cubicBezTo>
                  <a:pt x="286" y="377"/>
                  <a:pt x="276" y="392"/>
                  <a:pt x="272" y="410"/>
                </a:cubicBezTo>
                <a:cubicBezTo>
                  <a:pt x="264" y="443"/>
                  <a:pt x="270" y="487"/>
                  <a:pt x="234" y="502"/>
                </a:cubicBezTo>
                <a:cubicBezTo>
                  <a:pt x="224" y="501"/>
                  <a:pt x="214" y="502"/>
                  <a:pt x="205" y="499"/>
                </a:cubicBezTo>
                <a:cubicBezTo>
                  <a:pt x="203" y="498"/>
                  <a:pt x="216" y="473"/>
                  <a:pt x="217" y="470"/>
                </a:cubicBezTo>
                <a:cubicBezTo>
                  <a:pt x="223" y="451"/>
                  <a:pt x="229" y="432"/>
                  <a:pt x="234" y="413"/>
                </a:cubicBezTo>
                <a:cubicBezTo>
                  <a:pt x="236" y="388"/>
                  <a:pt x="241" y="367"/>
                  <a:pt x="248" y="343"/>
                </a:cubicBezTo>
                <a:cubicBezTo>
                  <a:pt x="246" y="311"/>
                  <a:pt x="252" y="307"/>
                  <a:pt x="229" y="317"/>
                </a:cubicBezTo>
                <a:cubicBezTo>
                  <a:pt x="214" y="313"/>
                  <a:pt x="206" y="306"/>
                  <a:pt x="193" y="298"/>
                </a:cubicBezTo>
                <a:cubicBezTo>
                  <a:pt x="188" y="286"/>
                  <a:pt x="184" y="286"/>
                  <a:pt x="171" y="283"/>
                </a:cubicBezTo>
                <a:cubicBezTo>
                  <a:pt x="166" y="276"/>
                  <a:pt x="159" y="269"/>
                  <a:pt x="154" y="262"/>
                </a:cubicBezTo>
                <a:cubicBezTo>
                  <a:pt x="148" y="238"/>
                  <a:pt x="139" y="225"/>
                  <a:pt x="123" y="206"/>
                </a:cubicBezTo>
                <a:cubicBezTo>
                  <a:pt x="118" y="187"/>
                  <a:pt x="121" y="168"/>
                  <a:pt x="126" y="149"/>
                </a:cubicBezTo>
                <a:cubicBezTo>
                  <a:pt x="122" y="134"/>
                  <a:pt x="108" y="134"/>
                  <a:pt x="94" y="130"/>
                </a:cubicBezTo>
                <a:cubicBezTo>
                  <a:pt x="87" y="125"/>
                  <a:pt x="81" y="122"/>
                  <a:pt x="73" y="120"/>
                </a:cubicBezTo>
                <a:cubicBezTo>
                  <a:pt x="61" y="122"/>
                  <a:pt x="56" y="124"/>
                  <a:pt x="46" y="130"/>
                </a:cubicBezTo>
                <a:cubicBezTo>
                  <a:pt x="23" y="127"/>
                  <a:pt x="23" y="126"/>
                  <a:pt x="6" y="118"/>
                </a:cubicBezTo>
                <a:cubicBezTo>
                  <a:pt x="4" y="111"/>
                  <a:pt x="0" y="108"/>
                  <a:pt x="6" y="101"/>
                </a:cubicBezTo>
                <a:cubicBezTo>
                  <a:pt x="9" y="97"/>
                  <a:pt x="20" y="101"/>
                  <a:pt x="20" y="96"/>
                </a:cubicBezTo>
                <a:cubicBezTo>
                  <a:pt x="20" y="94"/>
                  <a:pt x="15" y="96"/>
                  <a:pt x="13" y="9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3120" y="2336760"/>
            <a:ext cx="814320" cy="914400"/>
          </a:xfrm>
          <a:prstGeom prst="donut">
            <a:avLst>
              <a:gd name="adj" fmla="val 25000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0B33-5FF0-4453-A6AD-3695C285F1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35000" y="-227160"/>
            <a:ext cx="9593280" cy="7194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06560" y="2089080"/>
            <a:ext cx="45370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p grazing prairie grass – at the 4-leaf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023520"/>
            <a:ext cx="5148360" cy="729000"/>
          </a:xfrm>
          <a:prstGeom prst="rect">
            <a:avLst/>
          </a:prstGeom>
          <a:solidFill>
            <a:srgbClr val="5490a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Researchers: Prof. Bill Fulkerson (Uni. Sydney) and Ms. Katrina Slack (NSWAg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AED6-4D82-4BCD-9261-F2BE459457F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4120" y="2131560"/>
            <a:ext cx="304812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irie grass ti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067280" y="44280"/>
            <a:ext cx="332712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B2DC-0176-4CE2-BECB-6A3297484AB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4480" y="2133720"/>
            <a:ext cx="34545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ze at the 4 leaf stage for prairie gr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51200" y="63360"/>
            <a:ext cx="3233880" cy="545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FA07-D203-433C-8EFD-92FA65CA383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77840" y="-227160"/>
            <a:ext cx="9593280" cy="7194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63800" y="5527440"/>
            <a:ext cx="4403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asture growth ca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48C8-CB4A-4B15-9C01-D95376C7F9D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-135000" y="-227160"/>
            <a:ext cx="9593280" cy="7194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1680" y="1519200"/>
            <a:ext cx="39798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easuring pasture eaten by using grazing exclosures (perennial ryegrass, Casino, NS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29040" y="5387040"/>
            <a:ext cx="3978360" cy="1368720"/>
          </a:xfrm>
          <a:prstGeom prst="rect">
            <a:avLst/>
          </a:prstGeom>
          <a:solidFill>
            <a:srgbClr val="5490a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r. Danny Donaghy (now at TIAR, Tasman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6C70-10BB-4F81-AAF5-FD164FFAAE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lides to augment the lectur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"All grasslands within a property are a feed supply which is augmented by plant growth and depleted by breakdown and intak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increase the supply, either growth must be increased or breakdown or intake must be decreased." (Willoughby, 19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E770-1D0A-4F28-9FCC-BC753E9075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 quality of pha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79320" y="692280"/>
          <a:ext cx="765180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692280"/>
                    <a:ext cx="76518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F0F3-6979-497B-BAC7-89BCED06116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912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e-off between digestibility and herbage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9640" y="1492200"/>
          <a:ext cx="8425080" cy="38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92200"/>
                    <a:ext cx="842508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1118-BEC0-4AA0-9C42-399BD18EDCD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072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ze - Pasture benchmarks for 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79600" y="1531800"/>
          <a:ext cx="8240400" cy="36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531800"/>
                    <a:ext cx="824040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B513-B8B9-4A85-AA51-DC850EE1AAB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61640"/>
            <a:ext cx="75186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ze - Pasture benchmarks for c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401840"/>
          <a:ext cx="8209080" cy="361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01840"/>
                    <a:ext cx="820908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0B95-7990-4181-9A7C-F5C8E06AC12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2818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ion of pasture production and demand fo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268280"/>
          <a:ext cx="820872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2087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15E4-BBE5-494B-8EC1-7CED782555E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2F17-ADB7-4789-BA2B-8311AE2BF1E0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199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razing management of pastur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8960" y="1371600"/>
            <a:ext cx="73486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"Any ... system of grazing management other than continuous grazing requires that the stock be restricted for a time to less than the whole food supply available and thus introduces the risk of current animal production being depresse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a management system to be superior to continuous grazing, subsequent access to the previously protected area or material must more than compensate for this prior depression."  (Willoughby, 19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F05D-EBA0-4A1B-8ED9-41A9608F21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-135000" y="-152280"/>
            <a:ext cx="9593280" cy="7196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360" y="5233680"/>
            <a:ext cx="55656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azing animal has large effects on the pasture which supports that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15D5-5DD7-4F80-9F1A-0FAB2E00FD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5000" y="-185760"/>
            <a:ext cx="9593280" cy="7196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5240" y="5213160"/>
            <a:ext cx="575604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 of high stocking rate –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photosynthesis will occur in this paddock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A668-81A5-4C51-B408-11D52742E0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203040" y="-227160"/>
            <a:ext cx="9593280" cy="7194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9400" y="5373360"/>
            <a:ext cx="49276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recovery after rain in an overgrazed padd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FF8B-F827-4F1D-A553-C2F0293D57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68400" y="-76320"/>
            <a:ext cx="9596520" cy="7196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18800"/>
            <a:ext cx="3722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graz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pprox. 15,000 DM/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84640" y="28440"/>
            <a:ext cx="4059360" cy="1551240"/>
          </a:xfrm>
          <a:prstGeom prst="rect">
            <a:avLst/>
          </a:prstGeom>
          <a:solidFill>
            <a:srgbClr val="5490a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tocking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pprox. &lt;500 kg DM/h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5720" y="5600880"/>
            <a:ext cx="5375160" cy="1063800"/>
          </a:xfrm>
          <a:prstGeom prst="rect">
            <a:avLst/>
          </a:prstGeom>
          <a:solidFill>
            <a:srgbClr val="5490a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a dry autumn on the Northern Table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F850-7FA8-4CB3-BBA0-C0D3E82DAD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68400" y="-152280"/>
            <a:ext cx="9596520" cy="7196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0920" y="4881600"/>
            <a:ext cx="44704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 stocking rate – during a dry autum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2CF9-18D5-4537-BC27-F0A249E96DB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35000" y="-306360"/>
            <a:ext cx="9593280" cy="7199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15560" y="3504960"/>
            <a:ext cx="25750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stock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91240" y="3444840"/>
            <a:ext cx="2571840" cy="1063800"/>
          </a:xfrm>
          <a:prstGeom prst="rect">
            <a:avLst/>
          </a:prstGeom>
          <a:solidFill>
            <a:srgbClr val="5490a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tocking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65DC-A162-4A17-BB09-094B3E4727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1T21:06:12Z</dcterms:created>
  <dc:creator>J and M Scott.</dc:creator>
  <dc:description/>
  <cp:keywords/>
  <dc:language>en-US</dc:language>
  <cp:lastModifiedBy>mwatson2</cp:lastModifiedBy>
  <cp:lastPrinted>2000-08-14T14:35:53Z</cp:lastPrinted>
  <dcterms:modified xsi:type="dcterms:W3CDTF">2005-01-31T01:17:46Z</dcterms:modified>
  <cp:revision>308</cp:revision>
  <dc:subject/>
  <dc:title>Managing pastures for persistence  in the high rainfall zone</dc:title>
</cp:coreProperties>
</file>