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FBF0-5503-49AB-97CE-480049FD9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856D-3838-480F-9613-8D9CA81A7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4711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5565-75B5-40BF-83E0-FD8BC60E9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4711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4711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459C-A1CC-4AE2-B531-C510780E0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4711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4711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4711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5D00-3490-46D3-A826-DB3C19703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C595-FAE0-409D-9764-BBFDF6CF68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9C82-18EA-4BB3-900A-F48C3C0F4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DDD7-792F-49E0-A21F-C68870CAFF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0FAF-220D-49CD-827D-117D7019E9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26DA-42D6-4EFB-A2C2-4C0548C915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3618-F06B-49E7-A300-017CCF4F92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34711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7390-26A5-4AE9-A741-CBBDD2EC1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6CBD-93C6-43CB-ADB9-3C83E1645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4800" y="34711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4AE7-340B-431B-859C-991C5405A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4711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BF42-DF17-424C-B2DD-A38E676F36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34711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5316-B49A-4481-8D80-1F24E3A7F0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34711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4800" y="34711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ADC41-A4D1-4A8E-9499-636F045FA0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34711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90120" y="34711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34711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E588-BAB5-4431-9134-69278D240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8510-9391-4A96-8A1D-2B21002A3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AEE1-A00D-4457-8FA0-22331DC44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4508-F3CE-4F8A-BA99-74DCE0301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9FD4-59A3-44DA-B8D7-ACE942340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4711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44C9-3017-4B9C-A672-2D9550232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4711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01BB-7E4F-4E0E-A1EB-0F91604FF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4711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5A41-12CB-4122-9309-0DD390973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3404-1955-4AF7-AF35-D5DE72CD3AF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806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EF76-BAC5-4707-8705-B352267BAFE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2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eece Weight and it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88560" y="4114440"/>
            <a:ext cx="7317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2604-976B-4EDD-B1EC-946997C0A51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effects a high or low plane of nutr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3520" y="1438200"/>
          <a:ext cx="8381880" cy="3210120"/>
        </p:xfrm>
        <a:graphic>
          <a:graphicData uri="http://schemas.openxmlformats.org/drawingml/2006/table">
            <a:tbl>
              <a:tblPr/>
              <a:tblGrid>
                <a:gridCol w="3068640"/>
                <a:gridCol w="1655640"/>
                <a:gridCol w="1828800"/>
                <a:gridCol w="1828800"/>
              </a:tblGrid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dif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 fleece weight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weight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nkle 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licle density (no. per m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 diameter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6477120" y="5257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un 19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BD3C-CD35-4D11-B1DA-DC6BCE4C4F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fleece variation in wool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2743200" cy="2148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57800" y="990720"/>
            <a:ext cx="2496960" cy="1954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65280" y="3276720"/>
            <a:ext cx="2840040" cy="2222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334120" y="3276720"/>
            <a:ext cx="287784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17720" y="266688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ean w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2666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bre di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5105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ple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5181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llicle d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9B6A-345B-44E1-8854-0A4D25AE689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 contributions to total within-mob vari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523880"/>
          <a:ext cx="8458200" cy="3059280"/>
        </p:xfrm>
        <a:graphic>
          <a:graphicData uri="http://schemas.openxmlformats.org/drawingml/2006/table">
            <a:tbl>
              <a:tblPr/>
              <a:tblGrid>
                <a:gridCol w="2362320"/>
                <a:gridCol w="2027160"/>
                <a:gridCol w="2035080"/>
                <a:gridCol w="203364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flee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sta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sta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flee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219320" y="51814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Quinnel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973; Rottenbury and Andrews 1975; Rottenbury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980;  Dunlop and McMahon 19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0E2F-1D97-4E22-9876-7DAB8B61C0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ndicaps in hogget'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295280"/>
          <a:ext cx="8077320" cy="3105360"/>
        </p:xfrm>
        <a:graphic>
          <a:graphicData uri="http://schemas.openxmlformats.org/drawingml/2006/table">
            <a:tbl>
              <a:tblPr/>
              <a:tblGrid>
                <a:gridCol w="2666880"/>
                <a:gridCol w="1560600"/>
                <a:gridCol w="2000160"/>
                <a:gridCol w="1849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den vs adult 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le- vs single-  rea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ngest vs oldest &amp; lamb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 fleece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nk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licl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 di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5105520" y="5334120"/>
            <a:ext cx="61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Mortimer and Atkins 1989;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FDC9-AE11-472A-9D89-DF96CDB5767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fleece is func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area, follicle density, fibre diameter, length and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of sampling effects yield and woo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genetic animal factors effect fleece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29A9-BF24-4FA5-84C2-60D982E8E1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6260-A476-44A9-80C0-40F4F0344D5C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lecture will c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ece weight, yield and the non-fibre components of the fl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fleece weight and its component tr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of variation and within-fleece gradients of fleec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its of the mid-sid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genetic factors that bias selection decisions based on fleece weight and its component tr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5AFE-D5FD-46B7-B72B-72A7C78DCD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henotypic corre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371600"/>
          <a:ext cx="8305560" cy="3484440"/>
        </p:xfrm>
        <a:graphic>
          <a:graphicData uri="http://schemas.openxmlformats.org/drawingml/2006/table">
            <a:tbl>
              <a:tblPr/>
              <a:tblGrid>
                <a:gridCol w="1465200"/>
                <a:gridCol w="1140840"/>
                <a:gridCol w="1138680"/>
                <a:gridCol w="1140840"/>
                <a:gridCol w="1140120"/>
                <a:gridCol w="1139040"/>
                <a:gridCol w="1140840"/>
              </a:tblGrid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F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F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F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114800" y="5105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rtimer and Atkins, 1989; 1993; Thornberry and Atkins 19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F6C6-7BA9-4827-A7D1-374F5E6BA0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fleece variation in non wool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990720"/>
          <a:ext cx="335268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335268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89548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su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00600" y="958680"/>
          <a:ext cx="3171960" cy="231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58680"/>
                    <a:ext cx="3171960" cy="23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8580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w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3505320"/>
          <a:ext cx="2895480" cy="211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505320"/>
                    <a:ext cx="28954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971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800600" y="3352680"/>
          <a:ext cx="3048120" cy="222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52680"/>
                    <a:ext cx="3048120" cy="22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1629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57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Thornberry and Atkins 19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7B21-8655-4F65-AA95-329D786D8E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and between fleece vari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1676520"/>
          <a:ext cx="8001000" cy="284472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-flee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-flee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int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x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st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63244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Source: Thornberry and Atkins 198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518F-2F54-4C39-8895-756C3B08B9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-side l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779400"/>
            <a:ext cx="4952880" cy="4695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rom: Standards Australia, 199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75F5-1D6F-4692-BAA1-1D4F438D88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ece weight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95280"/>
          <a:ext cx="8686800" cy="3200400"/>
        </p:xfrm>
        <a:graphic>
          <a:graphicData uri="http://schemas.openxmlformats.org/drawingml/2006/table">
            <a:tbl>
              <a:tblPr/>
              <a:tblGrid>
                <a:gridCol w="3276720"/>
                <a:gridCol w="2895480"/>
                <a:gridCol w="2514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nent tr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rived 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r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surface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weight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nkling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nkle score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fibre dens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follicle density (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fibre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staple length (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fibre cross-sectional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fibre diameter (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V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486400" y="762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Turner, 1958, Schlink et al. 2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1E99-33A2-4893-B8EC-A300E2E2E0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e contributions to fleece weight fro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480" y="1600200"/>
          <a:ext cx="8229600" cy="2754360"/>
        </p:xfrm>
        <a:graphic>
          <a:graphicData uri="http://schemas.openxmlformats.org/drawingml/2006/table">
            <a:tbl>
              <a:tblPr/>
              <a:tblGrid>
                <a:gridCol w="2666880"/>
                <a:gridCol w="1628640"/>
                <a:gridCol w="1648080"/>
                <a:gridCol w="22860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nkle 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licle den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2057400" y="52578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Source: Swan </a:t>
            </a:r>
            <a:r>
              <a:rPr b="0" i="1" lang="en-AU" sz="1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. 1995; Purvis and Swan 1997; Brown and Turner 1968; Gregory 19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E2FC-CCE6-4A67-A1E7-CDE2610431A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rrelations between clean fleece weight and its component tra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1752480"/>
          <a:ext cx="8229600" cy="2754360"/>
        </p:xfrm>
        <a:graphic>
          <a:graphicData uri="http://schemas.openxmlformats.org/drawingml/2006/table">
            <a:tbl>
              <a:tblPr/>
              <a:tblGrid>
                <a:gridCol w="2666880"/>
                <a:gridCol w="1981080"/>
                <a:gridCol w="1805040"/>
                <a:gridCol w="1776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nkle 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licle den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971800" y="5029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wan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 1995; Purvis and Swan 1997; Brown and Turner 1968; Gregory 19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FFD6-358D-4D44-B29C-A3E33D5395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3:10:30Z</dcterms:created>
  <dc:creator>Cottle</dc:creator>
  <dc:description/>
  <dc:language>en-US</dc:language>
  <cp:lastModifiedBy>mwatson2</cp:lastModifiedBy>
  <dcterms:modified xsi:type="dcterms:W3CDTF">2005-01-31T01:15:09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5692659</vt:r8>
  </property>
  <property fmtid="{D5CDD505-2E9C-101B-9397-08002B2CF9AE}" pid="3" name="_AuthorEmail">
    <vt:lpwstr>Tony.Schlink@csiro.au</vt:lpwstr>
  </property>
  <property fmtid="{D5CDD505-2E9C-101B-9397-08002B2CF9AE}" pid="4" name="_AuthorEmailDisplayName">
    <vt:lpwstr>Schlink, Tony (LI, Floreat)</vt:lpwstr>
  </property>
  <property fmtid="{D5CDD505-2E9C-101B-9397-08002B2CF9AE}" pid="5" name="_EmailSubject">
    <vt:lpwstr>CRC missing bits</vt:lpwstr>
  </property>
  <property fmtid="{D5CDD505-2E9C-101B-9397-08002B2CF9AE}" pid="6" name="_ReviewingToolsShownOnce">
    <vt:lpwstr/>
  </property>
</Properties>
</file>