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D85B-6307-4345-A593-E7A086B26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opic describes greasy colour of fleece wool on the sheep in the context of two types of unscourable discolourations that develop under certain conditions of moisture, temperature and bacterial activity, namely yellow discolouration and fleece r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lour of greasy Merino wool can vary. It varies from near white through to shades of cream and yellow, with intense yellow discolouration in greasy wool known as ‘canary stain’. Yellow discolouration results from chemical reactions occurring within the fleece under the influence of moisture, temperature and bacterial activity. Due to moisture and bacterial activity at skin level inducing fleece rot, other discolourations can often occur. Discolouration can range from red, orange, pink, violet and blue as well as the more usual discolourations of yellow, grey, brown and gree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ount of rainfall, bacterial activity, age of sheep and flock management will influence the incidence and the severity of fleece rot in a flock. Young sheep (less than 12 months of age) are more severely affected by fleece rot than adult sheep, so that culling of affected young animals can improve a flock’s level of resistance to fleece rot. Sheep with 4-6 months wool growth are most susceptible to fleece rot during critical times of the year. Strategic timing of shearing is important to consider if periods of prolonged rainfall are likely to coincide with sheep having 4-6 months wool growth. Also, lamb shearing (tipping) could increase the susceptibility of young sheep to fleece r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fleece, skin and immunological characteristics of sheep within a flock have been studied for their association with fleece rot. These studies show that the phenotypic correlations are small (range between 0.3 and –0.3) and often inconsistent in the direction of the association. The characteristics studied should be used carefully to identify animals for culling due to their relative inefficiency as predictors of fleece rot resistance. However, the fleeces of more resistant animals have: whiter colour; longer, thinner staples of higher crimp frequency; lower average and variability of fibre diameter; higher wax content; lower suint content; and higher wax/suint ratio. Factors that are components of fleece structure (e.g. average and variability of fibre diameter) will influence fleece wettability and the retention of moisture in the fl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classers are able to grade animals resistant to fleece rot within a flock, with the phenotypic association between predicted and observed fleece rot ranging between 0.05 to 0.39. Visual fleece and skin traits used by sheep classers include handle, crimp, fibre diameter, staple length, staple thickness and its uniformity, staple tip formation, greasy fleece colour, fleece condition and yield, fleece density, and the skin’s thickness, tone and texture. Conformational faults of the withers on the sheep increase the susceptibility of sheep to fleece rot. These faults include high shoulder blades, broad withers and ‘pinch’ (an abnormal narrowing which may be seen as a depression) behind the wither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the Merino breed, large differences between strains in resistance to fleece rot occur. The order of resistance increases from the strong wool to medium wool to fine wool strains. These differences become greater as the average incidence of fleece rot increases in response to more favourable conditions for the development of fleece rot. As well, there are significant differences between bloodlines within a strain in the average level of resistance to fleece rot. These differences between strains and bloodlines within strain are due to many influences such as differences in breeding programs (use of selective breeding and crossbreeding) and environments. The differences present a means of rapidly improving resistance to fleece rot through bloodline substitution, but choice of bloodline would need to consider other economically important traits to the produc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bloodline correlations indicate that bloodlines of greater resistance to fleece rot are associated with finer fibre diameter and better style and colour but reduced clean fleece weight, yield and body weight and shorter staple length. However, these traits would need to be used cautiously as predictors of resistance to fleece rot when considering different bloo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breed level, there is inconclusive evidence for differences between breeds in resistance to fleece rot, due to a lack of designed studies to compare breeds under the same environment and managemen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oring sheep for fleece rot provides an easy and cheap method of assessing the severity of the condition and of grading individuals on their relative susceptibility to fleece rot. The information then allows decisions on the culling of animals within a mob to be made. A detailed scoring system, developed by NSW Agriculture, is available to the sheep industr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S.I. Mortimer, NSW Agricul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ool colour will influence the price achieved for a sale lot under the auction system. Wool is discounted if it is perceived to have an ‘unscourable’ colour as the type of products the wool can be used for and dyed is expected to be more limited. Wools that scour ‘white’ can be dyed any colour, including pastel shades. In contrast, wools with increasing degrees of yellowness after scouring are more difficult to dye pastel shades and therefore have more limited end u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efore sale, greasy wool is appraised visually as being either scourable or unscourable, with wools considered unscourable graded for the degree of discolouration present based on the AWEX-ID system. Wool with scourable colour will be creamy-white after scouring (washing to remove impurities). Wool with unscourable colour will be off white or yellow after scouring and subsequently discounted. The AWEX-ID system provides three grades for appraising greasy wool discolouration: H1, light unscourable colour; H2, moderate unscourable colour; and H3, heavy unscourable colour. An additional category, N1 (light water stain) is provided for bacterial discolouration and water stain. The table shows the average discounts for the unscourable colour grades in a range of Merino wool types over the last three full wool auction seasons (2000/01 to 2002/2003). As discolouration increases, the level of discount increases. As well, discounts are greater as wool type becomes finer. Greasy wool colour is of greater economic importance to fine wool production as compared to broad wool production.</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B010-35F8-438E-A4E1-F42B7FA2D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 and based on material prepared by B.J. Crook,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greasy and clean scoured wool can be objectively measured and described by the components of brightness (the opposite of dullness or greyness) and yellowness (to provide a scale from white through to intense yellow). Wool colour is determined using a spectrophotometer or a colorimeter. Colour measurement systems allow colours to be represented by a mixture of three defined colours (notionally red, green and blue) expressed by the derived tristimulus values X, Y and Z. In wool colour measurement, the Y value is indicative of brightness and the Y-Z value indicative of yellowness. Brightness of wool increases as Y value increases and its yellowness increases as Y-Z value increases. The colour is best described in yellowness (Y-Z) units, which can range from 7 to 18 units. Most Australian fleece wools have Y-Z values between 7 and 12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easy wool colour has been shown to be a poor predictor of clean wool colour following scouring. Measured clean colour is related weakly to both measured greasy colour and visually assessed greasy colour. This indicates that discounts applied on the basis of a visual appraisal of greasy colour may not always be justified, as some wool perceived as being discoloured could often produce clean white wool after scouring. Where greasy wool colour is appraised as unscourable for a sale lot, measurement of clean wool colour could be useful in reducing the size of price discounts applied to that wool. While greasy sale lots can be measured for clean wool colour, much less than 10% of fleece wool sale lots are measured currently for this trai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3D43-C2E1-448E-A53A-06AF715A0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 and based on material produced by B.J. Crook,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ellow discolouration in wool can occur irrespective of whether wool is on the sheep in the paddock or in shorn greasy, semi-processed or final fabric form. Yellow discolouration can develop due to decomposition of the fibre protein as a result of exposure to ultra-violet light, sustained high temperature and alkaline conditions. However, the natural yellow discolouration that can be seen in some fleeces in the paddock is generally the result of a series of chemical reactions among non-fibre components occurring within the fleece under the effects of certain environmental conditions (moisture and temperature) and bacterial activit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00C0-B6AA-4D1A-BFD5-DC661337D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f the reactions involved in wool discolouration is the Maillard Reaction, a ‘browning’ effect that results from the interaction of reactive carbohydrates and proteins within the fleece. It was demonstrated when white Merino wool was induced to discolour after being placed into solutions of the reactive carbohydrates, glyceraldehyde or glycolaldehy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the normal fleece environment, a Maillard reaction involving non-fibre proteins within the fleece occurs following the generation of reactive carbohydrates as a result of the metabolism of suint components by bacterial populations within the fleece. Suint consists mainly of potassium salts of various carboxylic acids. The Maillard reaction occurring in the fleece can be described as fol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Simple carbohydrates such as glycolaldehyde are derived from the metabolism of potassium salts of various carboxylic acids in the suint by bacterial populations on the skin sur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se carbohydrates react with amino acids within the yolk of the fleece and skin debris to produce yellow discolour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Wool fibres absorb the yellow discolou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reactions within the fleece are involved in wool discolouration. During the production of the reactive carbohydrates, the bacterial activity also generates carbonates and bicarbonates, causing a rise in the pH of the fleece. As conditions become more alkaline, the wool fibres become more susceptible to decomposing and absorbing the yellow discolouration present in the yolk of the fleece. Also, the bacterial population is implicated in wool discolouration via the formation of ammonia following degradation of the non-fibre protein components of the fleece. During this process of bacterial deamination of amino acids, potassium present in the suint is likely to act as a catalyst. Additionally, the potassium component may possibly increase the rate of absorption of discolouration into the fib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ese possible reactions, the following factors are likely to be important in determining the level of yellow discolouration present in w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Suint content of the fleece, influencing the concentration of reactive carbohydrates (derived via the Maillard reaction) and carbonates and bicarbonates (effect of more alkaline conditions) and total amount of potassium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Potassium concentration in the suint, influencing the bacterial degradation of amino acids that produces ammonia (de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Bacterial activity, influencing the rates of production of reactive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emperature and moisture, influencing the size of the bacterial population and rate of bacteri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combination of moisture and warm temperature is required for discolouration to occur, susceptible sheep can only express their propensity to discolour if the environmental conditions are conducive to the development of discolouration. Observation and recording of discolouration in sheep is then not always possible. There are a number of implications of this for Merino breeding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emphasis given to wool colour in a breeding program is likely to vary with location, where greater emphasis is likely in environments characterised by a summer-dominant rainfall pattern (providing conditions of moisture combined with warm temperatu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Susceptible animals cannot be assessed and identified for culling unless seasonal conditions favour the development of discolour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If wool colour is in the breeding objective, selection and purchase of rams in a breeding program will need to consider the environmental conditions under which the rams are raised as compared to those environmental conditions under which their progeny would be born. As a result of genotype by environment interaction, progeny may only express their propensity to discolour only under certain environmental condi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rocedure has been developed whereby a greasy wool sample is artificially challenged to induce yellow discolouration. The procedure involves incubating the sample at both high temperature (40OC) and humidity for 1-7 days. This incubated colour test simulates the environmental conditions necessary to induce discolouration in susceptible fleeces. Following incubation, the development of colour is scored on a scale from 1 (bright and white) to 5 (dark brown/yellow discolouration). The procedure is used to assess the development of discolouration by measuring the absorbance at 430 nm on a colour extract taken from the wool samples following incubation. Under this approach, susceptibility to yellow discolouration increases as absorbance increases. Each of the traits associated with susceptibility to yellow discolouration has been shown to be correlated strongly (at the phenotypic level) with the level of discolouration developed under the incubated colour test. Fleeces resistant to discolouration show a lower level of suint (as a percentage of greasy sample weight) and a lower concentration of potassium in the suint and a less alkaline suint. Fleeces resistant to discolouration may also tend to be of lower fibre diameter and higher yield. Wax/suint ratio, but not wax content, is associated with yellow discolouration, with resistant fleeces tending to have higher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there is little economic incentive for its use in Australia, little commercial use of the incubated colour test has occurred in Australia, with more attention given to its application in New Zealan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S.I. Mortimer, NSW Agriculture and based on material produced by B.J. Crook, University of New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rot is a skin disease that develops in the fleeces of susceptible animals after prolonged wetting and bacterial proliferation at the skin level. It is best described as a mild superficial dermatitis. Other names for fleece rot include ‘water stain’, ‘weather stain’, ‘water rot’, ‘wool rot’, ‘pink rot’, ‘cakey yolk’ and ‘dead yo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rot develops following prolonged wetting of the fleece that results in moisture at skin level. The presence of free moisture on the skin causes a breakdown in the wax layer on the skin and the release of serous exudate that matts the fibres together in bands. The serous exudate provides a medium for the growth of a range of bacteria, including </a:t>
            </a:r>
            <a:r>
              <a:rPr b="0" i="1" lang="en-AU" sz="1200" spc="-1" strike="noStrike">
                <a:solidFill>
                  <a:srgbClr val="000000"/>
                </a:solidFill>
                <a:latin typeface="Times New Roman"/>
              </a:rPr>
              <a:t>Pseudomonas aeruginosa</a:t>
            </a:r>
            <a:r>
              <a:rPr b="0" lang="en-AU" sz="1200" spc="-1" strike="noStrike">
                <a:solidFill>
                  <a:srgbClr val="000000"/>
                </a:solidFill>
                <a:latin typeface="Times New Roman"/>
              </a:rPr>
              <a:t>. The bacteria usually produce pigments that stain the fleece in well-defined bands, so that most forms of fleece rot are associated with bacterial stain. The colour of the resultant stain is dependent on the various bacteria present in the fleece. For example, </a:t>
            </a:r>
            <a:r>
              <a:rPr b="0" i="1" lang="en-AU" sz="1200" spc="-1" strike="noStrike">
                <a:solidFill>
                  <a:srgbClr val="000000"/>
                </a:solidFill>
                <a:latin typeface="Times New Roman"/>
              </a:rPr>
              <a:t>P. aeruginosa</a:t>
            </a:r>
            <a:r>
              <a:rPr b="0" lang="en-AU" sz="1200" spc="-1" strike="noStrike">
                <a:solidFill>
                  <a:srgbClr val="000000"/>
                </a:solidFill>
                <a:latin typeface="Times New Roman"/>
              </a:rPr>
              <a:t> usually produces a blue-green pigment (pyocyanin). The serous exudate eventually dries into a crusted band which is characteristic of fleece rot. Bacterial staining without skin exudation is not considered exudative fleece rot but the condition of weather s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conomic impact of fleece rot in a flock is evident in reductions in wool production and quality and in deaths of animals or the need to cull animals affected with fleece rot. For a given incidence of fleece rot, a proportion of animals with fleece rot will have fleeces or areas of the fleece that are discoloured (with unscourable colour) and/or tender leading to a reduced value of the wool as discounts for these faults are in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rot also has economic consequences because of its role as a major pre-disposing factor influencing the development of body strike in susceptible Merino sheep. The bands of serous exudate and the odours produced during fleece rot development are highly attractive to gravid (pregnant) sheep blowflies (namely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The serous exudate also provides ideal conditions for egg laying and hatching and subsequent larval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rot can result in unscourable colou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A293E-59FB-4936-969C-1BED82EFC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838080" y="1523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83808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FD71827-1331-441A-9237-7A6823DE8E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8380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82076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83808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82076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BDB8EC7-FD7F-4023-8819-2D20F8A34B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83808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46608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9372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83808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46608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9372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C15290C-8385-4871-96AC-86BB1C399C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928F6D-0EA3-4EF3-A93E-DD508DA3DA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838080" y="15235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C845EDEC-6E37-494C-857E-B6345581E6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838080" y="15235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1FF48B-B59F-4890-8DAD-818BCE6A8D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83808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82076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79D58E2-6595-4A96-BC92-EF2B4019B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77A4D4FC-2ACE-48BF-B1C2-7C6F5F7775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1519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7A2775FA-76C3-4419-ACE0-8E8F3CA76C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8380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82076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83808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6F96C8C-498B-4B1B-9B56-67F27A1B89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838080" y="15235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659CE4D-9032-4C43-970C-E6976CEC72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83808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82076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82076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67B4C0A4-7C09-43BF-89CF-20BB6A9C03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8380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82076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83808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CD4E16E-7EC3-4E97-BFA6-EE6CE00858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838080" y="1523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83808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E54E735-88F7-447D-9928-4458F1D5C2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8380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82076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83808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82076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95A4FD87-FF22-4813-8474-8873678596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83808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46608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9372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83808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46608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9372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24B099E5-6D85-4729-B0FE-A9D7B31C4B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838080" y="15235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13508-905E-4E48-8F8B-2DAD67C922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82076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697D816-51C7-4733-A907-8289C799F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9F0EE12D-8AA1-4384-8AA0-5EF6140554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D14372C4-8746-420C-89C1-684A11A98C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8380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82076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83808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BC09AC8-C507-4E6C-ACC1-D4B2EEDAD6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83808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82076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82076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A9E6E43-89B5-41E2-BC27-06E01C19BB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8380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82076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83808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F793510-B876-4622-A199-2A81A0FAF2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838080" y="15235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AA44-09B0-47A0-8E8C-99B178E2DE6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76A1-1696-4F53-BE53-EF89EA6E2DC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11811" t="27559" r="47245" b="39370"/>
          <a:stretch/>
        </p:blipFill>
        <p:spPr>
          <a:xfrm>
            <a:off x="5398920" y="3657600"/>
            <a:ext cx="3745080" cy="2268360"/>
          </a:xfrm>
          <a:prstGeom prst="rect">
            <a:avLst/>
          </a:prstGeom>
          <a:ln w="0">
            <a:noFill/>
          </a:ln>
        </p:spPr>
      </p:pic>
      <p:pic>
        <p:nvPicPr>
          <p:cNvPr id="92" name="" descr=""/>
          <p:cNvPicPr/>
          <p:nvPr/>
        </p:nvPicPr>
        <p:blipFill>
          <a:blip r:embed="rId2"/>
          <a:stretch/>
        </p:blipFill>
        <p:spPr>
          <a:xfrm>
            <a:off x="3733920" y="3597120"/>
            <a:ext cx="1830240" cy="3260880"/>
          </a:xfrm>
          <a:prstGeom prst="rect">
            <a:avLst/>
          </a:prstGeom>
          <a:ln w="0">
            <a:noFill/>
          </a:ln>
        </p:spPr>
      </p:pic>
      <p:sp>
        <p:nvSpPr>
          <p:cNvPr id="93" name="PlaceHolder 1"/>
          <p:cNvSpPr>
            <a:spLocks noGrp="1"/>
          </p:cNvSpPr>
          <p:nvPr>
            <p:ph type="title"/>
          </p:nvPr>
        </p:nvSpPr>
        <p:spPr>
          <a:xfrm>
            <a:off x="914400" y="15192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Colour and Fleece Rot</a:t>
            </a:r>
            <a:br>
              <a:rPr sz="2800"/>
            </a:br>
            <a:br>
              <a:rPr sz="2800"/>
            </a:br>
            <a:br>
              <a:rPr sz="2800"/>
            </a:br>
            <a:r>
              <a:rPr b="1" lang="en-US" sz="2800" spc="-1" strike="noStrike">
                <a:solidFill>
                  <a:srgbClr val="000000"/>
                </a:solidFill>
                <a:latin typeface="Arial"/>
              </a:rPr>
              <a:t>Topic 4</a:t>
            </a:r>
            <a:endParaRPr b="0" lang="en-US" sz="2800" spc="-1" strike="noStrike">
              <a:solidFill>
                <a:srgbClr val="000000"/>
              </a:solidFill>
              <a:latin typeface="Arial"/>
            </a:endParaRPr>
          </a:p>
        </p:txBody>
      </p:sp>
      <p:pic>
        <p:nvPicPr>
          <p:cNvPr id="94" name="" descr=""/>
          <p:cNvPicPr/>
          <p:nvPr/>
        </p:nvPicPr>
        <p:blipFill>
          <a:blip r:embed="rId3"/>
          <a:srcRect l="5906" t="27559" r="47245" b="27559"/>
          <a:stretch/>
        </p:blipFill>
        <p:spPr>
          <a:xfrm>
            <a:off x="0" y="3733920"/>
            <a:ext cx="3733920" cy="2057400"/>
          </a:xfrm>
          <a:prstGeom prst="rect">
            <a:avLst/>
          </a:prstGeom>
          <a:ln w="0">
            <a:noFill/>
          </a:ln>
        </p:spPr>
      </p:pic>
      <p:sp>
        <p:nvSpPr>
          <p:cNvPr id="3" name="PlaceHolder 2"/>
          <p:cNvSpPr>
            <a:spLocks noGrp="1"/>
          </p:cNvSpPr>
          <p:nvPr>
            <p:ph type="sldNum" idx="2"/>
          </p:nvPr>
        </p:nvSpPr>
        <p:spPr/>
        <p:txBody>
          <a:bodyPr/>
          <a:p>
            <a:fld id="{D5F1CEEC-09AC-48BE-A86E-FAC3A565D6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1920"/>
            <a:ext cx="8305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eep traits associated with fleece rot</a:t>
            </a:r>
            <a:endParaRPr b="1" lang="en-US" sz="3200" spc="-1" strike="noStrike">
              <a:solidFill>
                <a:srgbClr val="000000"/>
              </a:solidFill>
              <a:latin typeface="Arial"/>
            </a:endParaRPr>
          </a:p>
        </p:txBody>
      </p:sp>
      <p:sp>
        <p:nvSpPr>
          <p:cNvPr id="134" name="PlaceHolder 2"/>
          <p:cNvSpPr>
            <a:spLocks noGrp="1"/>
          </p:cNvSpPr>
          <p:nvPr>
            <p:ph/>
          </p:nvPr>
        </p:nvSpPr>
        <p:spPr>
          <a:xfrm>
            <a:off x="533160" y="762120"/>
            <a:ext cx="8001000" cy="50292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t sheep tend to ha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a:t>
            </a:r>
            <a:r>
              <a:rPr b="0" lang="en-AU" sz="2000" spc="-1" strike="noStrike">
                <a:solidFill>
                  <a:srgbClr val="000000"/>
                </a:solidFill>
                <a:latin typeface="Arial"/>
              </a:rPr>
              <a:t>average diameter and diameter vari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r, thinner staples of lower crimp frequenc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wax/suint rat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er fleec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ormational faults of the with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houlder blades, broad withers and ’pinch’ behind the withers increase suscepti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of shee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ult sheep more resista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39F02-2649-4818-B6E6-6F99C41E54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5960"/>
            <a:ext cx="8382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tion in  fleece rot incidence in Merinos</a:t>
            </a:r>
            <a:endParaRPr b="1" lang="en-US" sz="3200" spc="-1" strike="noStrike">
              <a:solidFill>
                <a:srgbClr val="000000"/>
              </a:solidFill>
              <a:latin typeface="Arial"/>
            </a:endParaRPr>
          </a:p>
        </p:txBody>
      </p:sp>
      <p:sp>
        <p:nvSpPr>
          <p:cNvPr id="136" name="PlaceHolder 2"/>
          <p:cNvSpPr>
            <a:spLocks noGrp="1"/>
          </p:cNvSpPr>
          <p:nvPr>
            <p:ph/>
          </p:nvPr>
        </p:nvSpPr>
        <p:spPr>
          <a:xfrm>
            <a:off x="837720" y="1142640"/>
            <a:ext cx="8001000" cy="4343400"/>
          </a:xfrm>
          <a:prstGeom prst="rect">
            <a:avLst/>
          </a:prstGeom>
          <a:noFill/>
          <a:ln w="0">
            <a:noFill/>
          </a:ln>
        </p:spPr>
        <p:txBody>
          <a:bodyPr lIns="90000" rIns="90000" tIns="46800" bIns="46800" anchor="t">
            <a:normAutofit/>
          </a:bodyPr>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n differences are lar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ce increases from strong to medium to fine wool Merin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crease as average incidence of fleece rot incr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line within strain differences are lar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t bloodlines tend to have finer fibre diameter, better style and colour but lower fleece weight, body weight and shorter stapl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ce rot easily assessed by sco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line substitution offers a means of rapidly improving resistan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2D1C3-5817-41CB-8173-0B48B99C04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838080" y="1523520"/>
            <a:ext cx="7772400" cy="358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Summary Sl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 Window</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BB6C56D-2E39-4F0F-B9E2-F362C9141133}"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erage discounts for colour grades in Merino fleece wool</a:t>
            </a:r>
            <a:endParaRPr b="1" lang="en-US" sz="3200" spc="-1" strike="noStrike">
              <a:solidFill>
                <a:srgbClr val="000000"/>
              </a:solidFill>
              <a:latin typeface="Arial"/>
            </a:endParaRPr>
          </a:p>
        </p:txBody>
      </p:sp>
      <p:graphicFrame>
        <p:nvGraphicFramePr>
          <p:cNvPr id="96" name=""/>
          <p:cNvGraphicFramePr/>
          <p:nvPr/>
        </p:nvGraphicFramePr>
        <p:xfrm>
          <a:off x="685800" y="1219320"/>
          <a:ext cx="7772400" cy="3581280"/>
        </p:xfrm>
        <a:graphic>
          <a:graphicData uri="http://schemas.openxmlformats.org/drawingml/2006/table">
            <a:tbl>
              <a:tblPr/>
              <a:tblGrid>
                <a:gridCol w="1554120"/>
                <a:gridCol w="1554120"/>
                <a:gridCol w="1555920"/>
                <a:gridCol w="1554120"/>
                <a:gridCol w="1554120"/>
              </a:tblGrid>
              <a:tr h="715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fin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18.5</a:t>
                      </a:r>
                      <a:r>
                        <a:rPr b="0" lang="en-US" sz="1400" spc="-1" strike="noStrike">
                          <a:solidFill>
                            <a:srgbClr val="000000"/>
                          </a:solidFill>
                          <a:latin typeface="Arial"/>
                          <a:ea typeface="Arial"/>
                        </a:rPr>
                        <a:t>µ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6-20.5 </a:t>
                      </a:r>
                      <a:r>
                        <a:rPr b="0" lang="en-US" sz="1400" spc="-1" strike="noStrike">
                          <a:solidFill>
                            <a:srgbClr val="000000"/>
                          </a:solidFill>
                          <a:latin typeface="Arial"/>
                          <a:ea typeface="Arial"/>
                        </a:rPr>
                        <a:t>µ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6-22.5 </a:t>
                      </a:r>
                      <a:r>
                        <a:rPr b="0" lang="en-US" sz="1400" spc="-1" strike="noStrike">
                          <a:solidFill>
                            <a:srgbClr val="000000"/>
                          </a:solidFill>
                          <a:latin typeface="Arial"/>
                          <a:ea typeface="Arial"/>
                        </a:rPr>
                        <a:t>µ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25 </a:t>
                      </a:r>
                      <a:r>
                        <a:rPr b="0" lang="en-US" sz="1400" spc="-1" strike="noStrike">
                          <a:solidFill>
                            <a:srgbClr val="000000"/>
                          </a:solidFill>
                          <a:latin typeface="Arial"/>
                          <a:ea typeface="Arial"/>
                        </a:rPr>
                        <a:t>µm</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1, light unscourab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 medium unscourab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3, heavy unscourab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6324480" y="5288040"/>
            <a:ext cx="443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Innovation 2004</a:t>
            </a:r>
            <a:endParaRPr b="0" lang="en-US" sz="1200" spc="-1" strike="noStrike">
              <a:solidFill>
                <a:srgbClr val="000000"/>
              </a:solidFill>
              <a:latin typeface="Times New Roman"/>
            </a:endParaRPr>
          </a:p>
        </p:txBody>
      </p:sp>
      <p:sp>
        <p:nvSpPr>
          <p:cNvPr id="98" name=""/>
          <p:cNvSpPr/>
          <p:nvPr/>
        </p:nvSpPr>
        <p:spPr>
          <a:xfrm>
            <a:off x="609480" y="4876920"/>
            <a:ext cx="6248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scounts relative to wool that has no unscourable colour during 2001/02 to 2003/04 auction season</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04815F6-092E-4183-AFE5-1A028A4B8DC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6858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easured wool colour</a:t>
            </a:r>
            <a:endParaRPr b="1" lang="en-US" sz="3200" spc="-1" strike="noStrike">
              <a:solidFill>
                <a:srgbClr val="000000"/>
              </a:solidFill>
              <a:latin typeface="Arial"/>
            </a:endParaRPr>
          </a:p>
        </p:txBody>
      </p:sp>
      <p:sp>
        <p:nvSpPr>
          <p:cNvPr id="100" name="PlaceHolder 2"/>
          <p:cNvSpPr>
            <a:spLocks noGrp="1"/>
          </p:cNvSpPr>
          <p:nvPr>
            <p:ph/>
          </p:nvPr>
        </p:nvSpPr>
        <p:spPr>
          <a:xfrm>
            <a:off x="685440" y="1066680"/>
            <a:ext cx="8001000" cy="3733920"/>
          </a:xfrm>
          <a:prstGeom prst="rect">
            <a:avLst/>
          </a:prstGeom>
          <a:noFill/>
          <a:ln w="0">
            <a:noFill/>
          </a:ln>
        </p:spPr>
        <p:txBody>
          <a:bodyPr lIns="90000" rIns="90000" tIns="46800" bIns="46800"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components:</a:t>
            </a:r>
            <a:endParaRPr b="0" lang="en-US" sz="20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ghtness (reflectance)</a:t>
            </a:r>
            <a:endParaRPr b="0" lang="en-US" sz="20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 value: as Y </a:t>
            </a:r>
            <a:r>
              <a:rPr b="0" lang="en-GB" sz="2000" spc="-1" strike="noStrike">
                <a:solidFill>
                  <a:srgbClr val="000000"/>
                </a:solidFill>
                <a:latin typeface="Symbol"/>
                <a:ea typeface="Symbol"/>
              </a:rPr>
              <a:t></a:t>
            </a:r>
            <a:r>
              <a:rPr b="0" lang="en-GB" sz="2000" spc="-1" strike="noStrike">
                <a:solidFill>
                  <a:srgbClr val="000000"/>
                </a:solidFill>
                <a:latin typeface="Arial"/>
              </a:rPr>
              <a:t>, brightness </a:t>
            </a:r>
            <a:r>
              <a:rPr b="0" lang="en-GB" sz="2000" spc="-1" strike="noStrike">
                <a:solidFill>
                  <a:srgbClr val="000000"/>
                </a:solidFill>
                <a:latin typeface="Symbol"/>
                <a:ea typeface="Symbol"/>
              </a:rPr>
              <a:t></a:t>
            </a:r>
            <a:endParaRPr b="0" lang="en-US" sz="20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llowness (colour)</a:t>
            </a:r>
            <a:endParaRPr b="0" lang="en-US" sz="20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 Z value: as Y- Z </a:t>
            </a:r>
            <a:r>
              <a:rPr b="0" lang="en-GB" sz="2000" spc="-1" strike="noStrike">
                <a:solidFill>
                  <a:srgbClr val="000000"/>
                </a:solidFill>
                <a:latin typeface="Symbol"/>
                <a:ea typeface="Symbol"/>
              </a:rPr>
              <a:t></a:t>
            </a:r>
            <a:r>
              <a:rPr b="0" lang="en-GB" sz="2000" spc="-1" strike="noStrike">
                <a:solidFill>
                  <a:srgbClr val="000000"/>
                </a:solidFill>
                <a:latin typeface="Arial"/>
              </a:rPr>
              <a:t> , yellowness </a:t>
            </a:r>
            <a:r>
              <a:rPr b="0" lang="en-GB" sz="2000" spc="-1" strike="noStrike">
                <a:solidFill>
                  <a:srgbClr val="000000"/>
                </a:solidFill>
                <a:latin typeface="Symbol"/>
                <a:ea typeface="Symbol"/>
              </a:rPr>
              <a:t></a:t>
            </a:r>
            <a:endParaRPr b="0" lang="en-US" sz="2000" spc="-1" strike="noStrike">
              <a:solidFill>
                <a:srgbClr val="000000"/>
              </a:solidFill>
              <a:latin typeface="Arial"/>
            </a:endParaRPr>
          </a:p>
          <a:p>
            <a:pPr lvl="2" marL="9601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ually measured as clean colour (i.e. after scouring)</a:t>
            </a:r>
            <a:endParaRPr b="0" lang="en-US" sz="2000" spc="-1" strike="noStrike">
              <a:solidFill>
                <a:srgbClr val="000000"/>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sy colour may or may not be scourable</a:t>
            </a:r>
            <a:endParaRPr b="0" lang="en-US" sz="2000" spc="-1" strike="noStrike">
              <a:solidFill>
                <a:srgbClr val="000000"/>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sy colour, either measured or visually assessed, weakly related to measured clean colo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451BA-77E5-44A7-8495-AE4E3845F0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743200" y="4876920"/>
            <a:ext cx="4800600" cy="5151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also </a:t>
            </a:r>
            <a:r>
              <a:rPr b="1" lang="en-GB" sz="1400" spc="-1" strike="noStrike">
                <a:solidFill>
                  <a:srgbClr val="000000"/>
                </a:solidFill>
                <a:latin typeface="Arial"/>
              </a:rPr>
              <a:t>microbe-specific</a:t>
            </a:r>
            <a:r>
              <a:rPr b="0" lang="en-GB" sz="1400" spc="-1" strike="noStrike">
                <a:solidFill>
                  <a:srgbClr val="000000"/>
                </a:solidFill>
                <a:latin typeface="Arial"/>
              </a:rPr>
              <a:t> pigments (e.g. red, blue, green, brown) occurring in bands</a:t>
            </a:r>
            <a:endParaRPr b="0" lang="en-US" sz="1400" spc="-1" strike="noStrike">
              <a:solidFill>
                <a:srgbClr val="000000"/>
              </a:solidFill>
              <a:latin typeface="Times New Roman"/>
            </a:endParaRPr>
          </a:p>
        </p:txBody>
      </p:sp>
      <p:sp>
        <p:nvSpPr>
          <p:cNvPr id="102" name=""/>
          <p:cNvSpPr/>
          <p:nvPr/>
        </p:nvSpPr>
        <p:spPr>
          <a:xfrm>
            <a:off x="1752480" y="5715000"/>
            <a:ext cx="612720" cy="380880"/>
          </a:xfrm>
          <a:custGeom>
            <a:avLst/>
            <a:gdLst/>
            <a:ahLst/>
            <a:rect l="l" t="t" r="r" b="b"/>
            <a:pathLst>
              <a:path w="386" h="390">
                <a:moveTo>
                  <a:pt x="0" y="0"/>
                </a:moveTo>
                <a:lnTo>
                  <a:pt x="0" y="389"/>
                </a:lnTo>
                <a:lnTo>
                  <a:pt x="385" y="389"/>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807400" y="6431040"/>
            <a:ext cx="18432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velopment of yellow wool discolouration</a:t>
            </a:r>
            <a:endParaRPr b="1" lang="en-US" sz="3200" spc="-1" strike="noStrike">
              <a:solidFill>
                <a:srgbClr val="000000"/>
              </a:solidFill>
              <a:latin typeface="Arial"/>
            </a:endParaRPr>
          </a:p>
        </p:txBody>
      </p:sp>
      <p:sp>
        <p:nvSpPr>
          <p:cNvPr id="105" name="PlaceHolder 2"/>
          <p:cNvSpPr>
            <a:spLocks noGrp="1"/>
          </p:cNvSpPr>
          <p:nvPr>
            <p:ph/>
          </p:nvPr>
        </p:nvSpPr>
        <p:spPr>
          <a:xfrm>
            <a:off x="609120" y="1218960"/>
            <a:ext cx="8001000" cy="37335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omposition of fibre kerat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osure to UV light (sunligh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kaline conditions (high p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ctions among non-fibre components of the flee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 reactivity of suint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products of microbial activ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C7AD5-314C-4C3D-9ECD-7CFCFADB56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6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ctions involved in wool discolouration: Maillard reaction</a:t>
            </a:r>
            <a:endParaRPr b="1" lang="en-US" sz="3200" spc="-1" strike="noStrike">
              <a:solidFill>
                <a:srgbClr val="000000"/>
              </a:solidFill>
              <a:latin typeface="Arial"/>
            </a:endParaRPr>
          </a:p>
        </p:txBody>
      </p:sp>
      <p:sp>
        <p:nvSpPr>
          <p:cNvPr id="107" name="PlaceHolder 2"/>
          <p:cNvSpPr>
            <a:spLocks noGrp="1"/>
          </p:cNvSpPr>
          <p:nvPr>
            <p:ph/>
          </p:nvPr>
        </p:nvSpPr>
        <p:spPr>
          <a:xfrm>
            <a:off x="761760" y="1218960"/>
            <a:ext cx="8001000" cy="464796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tassium salts of various carboxylic acids in suint are metabolised by bacter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 carbohydrates (e.g. glycolaldehyde) are deriv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carbohydrates react with amino acids in “yolk” and skin debris to produce yellow discolour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ol fibres absorb discolouration, leading to unscourable colour</a:t>
            </a:r>
            <a:endParaRPr b="0" lang="en-US" sz="2000" spc="-1" strike="noStrike">
              <a:solidFill>
                <a:srgbClr val="000000"/>
              </a:solidFill>
              <a:latin typeface="Arial"/>
            </a:endParaRPr>
          </a:p>
        </p:txBody>
      </p:sp>
      <p:sp>
        <p:nvSpPr>
          <p:cNvPr id="108" name=""/>
          <p:cNvSpPr/>
          <p:nvPr/>
        </p:nvSpPr>
        <p:spPr>
          <a:xfrm>
            <a:off x="8807400" y="6431040"/>
            <a:ext cx="18432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168B9B0-1DEF-4C63-8590-4D7C42A01F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6782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reactions involved in wool discolouration</a:t>
            </a:r>
            <a:endParaRPr b="1" lang="en-US" sz="3200" spc="-1" strike="noStrike">
              <a:solidFill>
                <a:srgbClr val="000000"/>
              </a:solidFill>
              <a:latin typeface="Arial"/>
            </a:endParaRPr>
          </a:p>
        </p:txBody>
      </p:sp>
      <p:sp>
        <p:nvSpPr>
          <p:cNvPr id="110" name="PlaceHolder 2"/>
          <p:cNvSpPr>
            <a:spLocks noGrp="1"/>
          </p:cNvSpPr>
          <p:nvPr>
            <p:ph/>
          </p:nvPr>
        </p:nvSpPr>
        <p:spPr>
          <a:xfrm>
            <a:off x="837720" y="1219320"/>
            <a:ext cx="8001000" cy="502920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of carbonates and bicarbonates by bacterial activity also occurs as reactive carbohydrates are produc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fleece becomes more alkaline, wool fibres more prone to decomposing and absorbing yellow discolour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mination of amino acids: bacteria may degrade skin and “yolk” proteins to amino acids, producing ammoni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tassium may act as a catalyst in this breakdow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tassium may aid the speed of absorption of yellow pigments associated with discolour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7498E-7BAD-4ABE-8CD5-06EF2B08EE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6781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llow wool discolouration</a:t>
            </a:r>
            <a:endParaRPr b="1" lang="en-US" sz="3200" spc="-1" strike="noStrike">
              <a:solidFill>
                <a:srgbClr val="000000"/>
              </a:solidFill>
              <a:latin typeface="Arial"/>
            </a:endParaRPr>
          </a:p>
        </p:txBody>
      </p:sp>
      <p:sp>
        <p:nvSpPr>
          <p:cNvPr id="112" name="PlaceHolder 2"/>
          <p:cNvSpPr>
            <a:spLocks noGrp="1"/>
          </p:cNvSpPr>
          <p:nvPr>
            <p:ph/>
          </p:nvPr>
        </p:nvSpPr>
        <p:spPr>
          <a:xfrm>
            <a:off x="685440" y="1066680"/>
            <a:ext cx="8001000" cy="464832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ression of discolouration depends on warm temperatures and high humid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 reactiv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mperature dependent e.g. Maillard reactio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robial activ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isture and temperature dependen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e of colour absorption by fibr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r in wet conditions than in d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71A3F-DD36-4082-A487-565AED9D4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eece traits associated with yellow wool discolouration</a:t>
            </a:r>
            <a:endParaRPr b="1" lang="en-US" sz="3200" spc="-1" strike="noStrike">
              <a:solidFill>
                <a:srgbClr val="000000"/>
              </a:solidFill>
              <a:latin typeface="Arial"/>
            </a:endParaRPr>
          </a:p>
        </p:txBody>
      </p:sp>
      <p:sp>
        <p:nvSpPr>
          <p:cNvPr id="114" name="PlaceHolder 2"/>
          <p:cNvSpPr>
            <a:spLocks noGrp="1"/>
          </p:cNvSpPr>
          <p:nvPr>
            <p:ph/>
          </p:nvPr>
        </p:nvSpPr>
        <p:spPr>
          <a:xfrm>
            <a:off x="685440" y="1371600"/>
            <a:ext cx="8001000" cy="3733920"/>
          </a:xfrm>
          <a:prstGeom prst="rect">
            <a:avLst/>
          </a:prstGeom>
          <a:noFill/>
          <a:ln w="0">
            <a:noFill/>
          </a:ln>
        </p:spPr>
        <p:txBody>
          <a:bodyPr lIns="90000" rIns="90000" tIns="46800" bIns="46800" anchor="t">
            <a:normAutofit/>
          </a:bodyPr>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llow wool discolouration can be express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ly in the flee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ced in greasy wool samples in an incubated colour tes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ces resistant to discolouration tend to ha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suint content and potassium content of suint and less alkaline sui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wax/suint rat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fibre diame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5C73C-1506-49D4-AF90-919A35C1C0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ment of fleece rot</a:t>
            </a:r>
            <a:endParaRPr b="1" lang="en-US" sz="3200" spc="-1" strike="noStrike">
              <a:solidFill>
                <a:srgbClr val="000000"/>
              </a:solidFill>
              <a:latin typeface="Arial"/>
            </a:endParaRPr>
          </a:p>
        </p:txBody>
      </p:sp>
      <p:sp>
        <p:nvSpPr>
          <p:cNvPr id="116" name=""/>
          <p:cNvSpPr/>
          <p:nvPr/>
        </p:nvSpPr>
        <p:spPr>
          <a:xfrm>
            <a:off x="5311080" y="965160"/>
            <a:ext cx="2558880" cy="698760"/>
          </a:xfrm>
          <a:prstGeom prst="rect">
            <a:avLst/>
          </a:prstGeom>
          <a:solidFill>
            <a:srgbClr val="fbfed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Bacteria present 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normal skin</a:t>
            </a:r>
            <a:endParaRPr b="0" lang="en-US" sz="2000" spc="-1" strike="noStrike">
              <a:solidFill>
                <a:srgbClr val="000000"/>
              </a:solidFill>
              <a:latin typeface="Times New Roman"/>
            </a:endParaRPr>
          </a:p>
        </p:txBody>
      </p:sp>
      <p:sp>
        <p:nvSpPr>
          <p:cNvPr id="117" name=""/>
          <p:cNvSpPr/>
          <p:nvPr/>
        </p:nvSpPr>
        <p:spPr>
          <a:xfrm>
            <a:off x="4885920" y="2184480"/>
            <a:ext cx="3037320" cy="393840"/>
          </a:xfrm>
          <a:prstGeom prst="rect">
            <a:avLst/>
          </a:prstGeom>
          <a:solidFill>
            <a:srgbClr val="fbfed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Proliferation of bacteria</a:t>
            </a:r>
            <a:endParaRPr b="0" lang="en-US" sz="2000" spc="-1" strike="noStrike">
              <a:solidFill>
                <a:srgbClr val="000000"/>
              </a:solidFill>
              <a:latin typeface="Times New Roman"/>
            </a:endParaRPr>
          </a:p>
        </p:txBody>
      </p:sp>
      <p:sp>
        <p:nvSpPr>
          <p:cNvPr id="118" name=""/>
          <p:cNvSpPr/>
          <p:nvPr/>
        </p:nvSpPr>
        <p:spPr>
          <a:xfrm>
            <a:off x="4950360" y="3098880"/>
            <a:ext cx="3035880" cy="698760"/>
          </a:xfrm>
          <a:prstGeom prst="rect">
            <a:avLst/>
          </a:prstGeom>
          <a:solidFill>
            <a:srgbClr val="fbfed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Production of pigment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bacterial stain)</a:t>
            </a:r>
            <a:endParaRPr b="0" lang="en-US" sz="2000" spc="-1" strike="noStrike">
              <a:solidFill>
                <a:srgbClr val="000000"/>
              </a:solidFill>
              <a:latin typeface="Times New Roman"/>
            </a:endParaRPr>
          </a:p>
        </p:txBody>
      </p:sp>
      <p:sp>
        <p:nvSpPr>
          <p:cNvPr id="119" name=""/>
          <p:cNvSpPr/>
          <p:nvPr/>
        </p:nvSpPr>
        <p:spPr>
          <a:xfrm flipH="1" rot="16200000">
            <a:off x="6273000" y="1848600"/>
            <a:ext cx="393840" cy="176400"/>
          </a:xfrm>
          <a:prstGeom prst="rightArrow">
            <a:avLst>
              <a:gd name="adj1" fmla="val 50000"/>
              <a:gd name="adj2" fmla="val 111705"/>
            </a:avLst>
          </a:prstGeom>
          <a:solidFill>
            <a:srgbClr val="fafd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0" name=""/>
          <p:cNvSpPr/>
          <p:nvPr/>
        </p:nvSpPr>
        <p:spPr>
          <a:xfrm flipH="1" rot="16200000">
            <a:off x="6285960" y="2763000"/>
            <a:ext cx="393840" cy="176040"/>
          </a:xfrm>
          <a:prstGeom prst="rightArrow">
            <a:avLst>
              <a:gd name="adj1" fmla="val 50000"/>
              <a:gd name="adj2" fmla="val 111933"/>
            </a:avLst>
          </a:prstGeom>
          <a:solidFill>
            <a:srgbClr val="fafd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1" name=""/>
          <p:cNvSpPr/>
          <p:nvPr/>
        </p:nvSpPr>
        <p:spPr>
          <a:xfrm rot="21202200">
            <a:off x="4002480" y="3830760"/>
            <a:ext cx="2562120" cy="511200"/>
          </a:xfrm>
          <a:custGeom>
            <a:avLst/>
            <a:gdLst/>
            <a:ahLst/>
            <a:rect l="l" t="t" r="r" b="b"/>
            <a:pathLst>
              <a:path stroke="0" w="21600" h="21600">
                <a:moveTo>
                  <a:pt x="21600" y="10800"/>
                </a:moveTo>
                <a:arcTo wR="10800" hR="10800" stAng="0" swAng="5246889"/>
                <a:lnTo>
                  <a:pt x="10800" y="10800"/>
                </a:lnTo>
                <a:close/>
              </a:path>
              <a:path fill="none" w="21600" h="21600">
                <a:moveTo>
                  <a:pt x="21600" y="10800"/>
                </a:moveTo>
                <a:arcTo wR="10800" hR="10800" stAng="0" swAng="5246889"/>
              </a:path>
            </a:pathLst>
          </a:custGeom>
          <a:noFill/>
          <a:ln cap="rnd" w="7632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16080" y="5079960"/>
            <a:ext cx="4880160" cy="393840"/>
          </a:xfrm>
          <a:prstGeom prst="rect">
            <a:avLst/>
          </a:prstGeom>
          <a:solidFill>
            <a:srgbClr val="fbfed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Predisposition to blowfly strike</a:t>
            </a:r>
            <a:endParaRPr b="0" lang="en-US" sz="2000" spc="-1" strike="noStrike">
              <a:solidFill>
                <a:srgbClr val="000000"/>
              </a:solidFill>
              <a:latin typeface="Times New Roman"/>
            </a:endParaRPr>
          </a:p>
        </p:txBody>
      </p:sp>
      <p:sp>
        <p:nvSpPr>
          <p:cNvPr id="123" name=""/>
          <p:cNvSpPr/>
          <p:nvPr/>
        </p:nvSpPr>
        <p:spPr>
          <a:xfrm>
            <a:off x="3610080" y="4145040"/>
            <a:ext cx="1900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Fleece rot</a:t>
            </a:r>
            <a:endParaRPr b="0" lang="en-US" sz="2000" spc="-1" strike="noStrike">
              <a:solidFill>
                <a:srgbClr val="000000"/>
              </a:solidFill>
              <a:latin typeface="Times New Roman"/>
            </a:endParaRPr>
          </a:p>
        </p:txBody>
      </p:sp>
      <p:sp>
        <p:nvSpPr>
          <p:cNvPr id="124" name=""/>
          <p:cNvSpPr/>
          <p:nvPr/>
        </p:nvSpPr>
        <p:spPr>
          <a:xfrm flipH="1" rot="16200000">
            <a:off x="4348080" y="4379760"/>
            <a:ext cx="393480" cy="752400"/>
          </a:xfrm>
          <a:prstGeom prst="rightArrow">
            <a:avLst>
              <a:gd name="adj1" fmla="val 50000"/>
              <a:gd name="adj2" fmla="val 50032"/>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24760" y="738360"/>
            <a:ext cx="3516120" cy="698760"/>
          </a:xfrm>
          <a:prstGeom prst="rect">
            <a:avLst/>
          </a:prstGeom>
          <a:solidFill>
            <a:srgbClr val="fbfed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Warm and moist condition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prolonged wetting of skin)</a:t>
            </a:r>
            <a:endParaRPr b="0" lang="en-US" sz="2000" spc="-1" strike="noStrike">
              <a:solidFill>
                <a:srgbClr val="000000"/>
              </a:solidFill>
              <a:latin typeface="Times New Roman"/>
            </a:endParaRPr>
          </a:p>
        </p:txBody>
      </p:sp>
      <p:sp>
        <p:nvSpPr>
          <p:cNvPr id="126" name=""/>
          <p:cNvSpPr/>
          <p:nvPr/>
        </p:nvSpPr>
        <p:spPr>
          <a:xfrm>
            <a:off x="1375920" y="1955880"/>
            <a:ext cx="2077200" cy="698760"/>
          </a:xfrm>
          <a:prstGeom prst="rect">
            <a:avLst/>
          </a:prstGeom>
          <a:solidFill>
            <a:srgbClr val="fbfed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erous exuda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from skin</a:t>
            </a:r>
            <a:endParaRPr b="0" lang="en-US" sz="2000" spc="-1" strike="noStrike">
              <a:solidFill>
                <a:srgbClr val="000000"/>
              </a:solidFill>
              <a:latin typeface="Times New Roman"/>
            </a:endParaRPr>
          </a:p>
        </p:txBody>
      </p:sp>
      <p:sp>
        <p:nvSpPr>
          <p:cNvPr id="127" name=""/>
          <p:cNvSpPr/>
          <p:nvPr/>
        </p:nvSpPr>
        <p:spPr>
          <a:xfrm>
            <a:off x="914400" y="3174840"/>
            <a:ext cx="3092400" cy="698760"/>
          </a:xfrm>
          <a:prstGeom prst="rect">
            <a:avLst/>
          </a:prstGeom>
          <a:solidFill>
            <a:srgbClr val="fbfed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Dried crusts adhering</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to wool fibres</a:t>
            </a:r>
            <a:endParaRPr b="0" lang="en-US" sz="2000" spc="-1" strike="noStrike">
              <a:solidFill>
                <a:srgbClr val="000000"/>
              </a:solidFill>
              <a:latin typeface="Times New Roman"/>
            </a:endParaRPr>
          </a:p>
        </p:txBody>
      </p:sp>
      <p:sp>
        <p:nvSpPr>
          <p:cNvPr id="128" name=""/>
          <p:cNvSpPr/>
          <p:nvPr/>
        </p:nvSpPr>
        <p:spPr>
          <a:xfrm flipH="1" rot="16200000">
            <a:off x="2228400" y="1620000"/>
            <a:ext cx="393840" cy="176040"/>
          </a:xfrm>
          <a:prstGeom prst="rightArrow">
            <a:avLst>
              <a:gd name="adj1" fmla="val 50000"/>
              <a:gd name="adj2" fmla="val 111933"/>
            </a:avLst>
          </a:prstGeom>
          <a:solidFill>
            <a:srgbClr val="fafd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9" name=""/>
          <p:cNvSpPr/>
          <p:nvPr/>
        </p:nvSpPr>
        <p:spPr>
          <a:xfrm flipH="1" rot="16200000">
            <a:off x="2252520" y="2839320"/>
            <a:ext cx="393480" cy="176040"/>
          </a:xfrm>
          <a:prstGeom prst="rightArrow">
            <a:avLst>
              <a:gd name="adj1" fmla="val 50000"/>
              <a:gd name="adj2" fmla="val 111831"/>
            </a:avLst>
          </a:prstGeom>
          <a:solidFill>
            <a:srgbClr val="fafd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30" name=""/>
          <p:cNvSpPr/>
          <p:nvPr/>
        </p:nvSpPr>
        <p:spPr>
          <a:xfrm rot="344400">
            <a:off x="2538360" y="3847680"/>
            <a:ext cx="2561400" cy="510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7632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22840" y="821880"/>
            <a:ext cx="2412360" cy="1512000"/>
          </a:xfrm>
          <a:custGeom>
            <a:avLst/>
            <a:gdLst/>
            <a:ahLst/>
            <a:rect l="l" t="t" r="r" b="b"/>
            <a:pathLst>
              <a:path stroke="0" w="21600" h="21600">
                <a:moveTo>
                  <a:pt x="7008" y="20912"/>
                </a:moveTo>
                <a:arcTo wR="10800" hR="10800" stAng="6633383" swAng="4166617"/>
                <a:lnTo>
                  <a:pt x="10800" y="10800"/>
                </a:lnTo>
                <a:close/>
              </a:path>
              <a:path fill="none" w="21600" h="21600">
                <a:moveTo>
                  <a:pt x="7008" y="20912"/>
                </a:moveTo>
                <a:arcTo wR="10800" hR="10800" stAng="6633383" swAng="4166617"/>
              </a:path>
            </a:pathLst>
          </a:custGeom>
          <a:noFill/>
          <a:ln cap="rnd" w="507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629160" y="2514600"/>
            <a:ext cx="94284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D8D9C12-A78A-46FE-84A5-DF65233809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03:10:30Z</dcterms:created>
  <dc:creator>Cottle</dc:creator>
  <dc:description/>
  <dc:language>en-US</dc:language>
  <cp:lastModifiedBy>Briana Daly</cp:lastModifiedBy>
  <dcterms:modified xsi:type="dcterms:W3CDTF">2005-02-09T01:17:54Z</dcterms:modified>
  <cp:revision>84</cp:revision>
  <dc:subject/>
  <dc:title>Slide 1</dc:title>
</cp:coreProperties>
</file>