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B948-EB51-464E-A402-41902A19631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78A8F-FAAF-4C43-8B55-2A6A9E2EB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327C7-B3FC-4B6F-BBA5-7E1BB14E4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430AA-920D-4555-8FE0-78A531D7E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97D8C-E3AB-4A6A-89D9-DBC635B138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F3008-00C4-4D30-A588-3B6E1D55A8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19B39-B70C-4178-BEC3-C1D3576187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1FBF0-C5A5-4473-9E44-4766709124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BF654-6688-4C76-812F-E6FB74FA92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EFEED-D507-4792-89B8-BD6EA93EB3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29EFA-304A-42C7-BD66-30E7718D7E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66309-8F2F-49F4-B241-388B46D2B3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B43F2-62BE-4E84-99C6-4D562AAB62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58B87-581A-4F00-9FD8-070291EC0D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3EDDF-FF5E-436C-B2F9-B16645046D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26B67-453F-4FEC-85CB-ACFC30B140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E8C11-64BA-4736-A3D2-B69FE850D9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39E4D-2BC1-467A-8522-0946A994B2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EC72B-FABD-4802-9A51-1494BA9AE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AF9AA-48E3-4568-AB46-77C15AEE3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E2695-2091-4EDD-9CE1-B84B6184C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6593B-0774-4DDB-9D4C-7EDDCE44DC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0824-4359-4119-BEE2-04FAB874AC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FD6F5-DC7E-4451-A3F5-A90616040D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18D64-196A-4A6F-BFE7-67D64B252C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C26B-2C2F-42D3-A1B7-2F290D459BB9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45D1-8C66-4319-BD1B-53B3B169FEF1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68360" y="189000"/>
            <a:ext cx="867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eep Production in Mediterranean Environ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4508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34462-7C6A-493D-8F6E-4FEC6F4CD38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Crop Resid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484280"/>
            <a:ext cx="82296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ats, barley, wheat, lup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in, leaf, 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in is main source of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 with wheat and barley (acidos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value by counting grain den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variation with rainfall, time since harv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09FBB-51D5-470D-B0CB-9FC27818D35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Supplementary fee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1600200"/>
            <a:ext cx="822960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quired every season. Use strateg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rains used are those grown effici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ats. Quality critical (tes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Lupins. Ideal where avail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elleted rations. Evaluate use, can be expens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B0756-7859-43C7-8D8E-5C003FB6951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Standing fodder cro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ossible because of dry summ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ixture of oats and sometimes legu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asture reseeding – mixed with ryegr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elf-rationing, labour effici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7C49A-D2D3-4AEE-944A-B0D381048C7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Crop/Sheep Intera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ep may not be priority – but must be produc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bbles valuable dry season feed sour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zing management for productive pas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ve pastures valuable nitrogen source for cropp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ep – excellent weed control, pasture manipulation, stubble manag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24070-BB1C-442E-BE2C-91CBA204C98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ool Quality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00200"/>
            <a:ext cx="822960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pastures large variation in feed quality and quant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l growth, FD mirrors th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ple strength an iss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of shearing signific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FEA99-BA83-496D-8BC9-FD1EF53DC52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4428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ol qua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303200" y="981000"/>
            <a:ext cx="653760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21046-0F87-43D5-A6C9-B967880E322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Sheep Breeds, Flock Stru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we dominant flock stru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ed with greater stock turnoff – reduction in feed requirement for dry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use of recently available “exotic” breeds of she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D4C4F-01B3-4F13-B161-F6EF126D9C7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Disease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916280"/>
            <a:ext cx="82296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wfly strike, internal parasites the main iss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facilitated by dry peri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D2108-7327-450D-BE64-B2BCD3ED195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26560" y="21333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A6500-7C8C-4228-9849-2F93CA878A43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125360"/>
            <a:ext cx="82296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ustralian Mediterranean Enviro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istinctiv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as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arm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Livestock feed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heep management cale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ool growth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389FC-FF7F-4207-AE3C-1DE047F2167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-2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Mediterranean Climat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ustralia – mostly in WA and 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90560" y="1557360"/>
            <a:ext cx="5761080" cy="400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40DBE-B3FF-4A0D-8AD0-C06E0AD1351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00200"/>
            <a:ext cx="822960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ainfall mainly in winter (typically 300-600 mm annual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ol mild wi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ot dry sum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nnual plant species predomi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astures alternating with cro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2E6E8-B5C6-4852-9937-7D6111C1BE7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Typical Pas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Legumes sub-clover or Med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nnual gr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otal senescence over su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New germination following autumn r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edictable growth pat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E1BD-43E7-488F-82D1-1912A1B64CA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Pasture Growth Cur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11280" y="1197000"/>
            <a:ext cx="7993080" cy="4329000"/>
            <a:chOff x="611280" y="1197000"/>
            <a:chExt cx="7993080" cy="4329000"/>
          </a:xfrm>
        </p:grpSpPr>
        <p:pic>
          <p:nvPicPr>
            <p:cNvPr id="104" name="Fig%201%2019%20Pasture%20Growth" descr=""/>
            <p:cNvPicPr/>
            <p:nvPr/>
          </p:nvPicPr>
          <p:blipFill>
            <a:blip r:embed="rId1"/>
            <a:stretch/>
          </p:blipFill>
          <p:spPr>
            <a:xfrm>
              <a:off x="1116000" y="1197000"/>
              <a:ext cx="7488360" cy="37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 rot="16200000">
              <a:off x="-68760" y="270864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ed Avail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56120" y="515772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FB257-3D3C-4108-A3FF-7AEB59412CE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Sheep Management Calendar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- Ration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71144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inter lambing to synchronise ewe requirements with pasture grow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ambs sufficiently grown before pasture senescence (October-Novemb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hear lambs and adult sheep before grass seed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acilitate sale of surplus sheep before sum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123CB-487C-4B61-8FC2-4EA1BD0C32E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Sheep Management Calend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22000" y="1674720"/>
            <a:ext cx="7893000" cy="2785320"/>
            <a:chOff x="522000" y="1674720"/>
            <a:chExt cx="7893000" cy="2785320"/>
          </a:xfrm>
        </p:grpSpPr>
        <p:grpSp>
          <p:nvGrpSpPr>
            <p:cNvPr id="111" name=""/>
            <p:cNvGrpSpPr/>
            <p:nvPr/>
          </p:nvGrpSpPr>
          <p:grpSpPr>
            <a:xfrm>
              <a:off x="2826360" y="2226960"/>
              <a:ext cx="83520" cy="344160"/>
              <a:chOff x="2826360" y="2226960"/>
              <a:chExt cx="83520" cy="344160"/>
            </a:xfrm>
          </p:grpSpPr>
          <p:sp>
            <p:nvSpPr>
              <p:cNvPr id="112" name=""/>
              <p:cNvSpPr/>
              <p:nvPr/>
            </p:nvSpPr>
            <p:spPr>
              <a:xfrm>
                <a:off x="2826360" y="2443680"/>
                <a:ext cx="83520" cy="127440"/>
              </a:xfrm>
              <a:custGeom>
                <a:avLst/>
                <a:gdLst/>
                <a:ahLst/>
                <a:rect l="l" t="t" r="r" b="b"/>
                <a:pathLst>
                  <a:path w="56" h="70">
                    <a:moveTo>
                      <a:pt x="27" y="69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55" y="0"/>
                    </a:lnTo>
                    <a:lnTo>
                      <a:pt x="27" y="6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84320" y="2226960"/>
                <a:ext cx="0" cy="21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8022600" y="2226960"/>
              <a:ext cx="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47240" y="1937160"/>
              <a:ext cx="147060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</a:rPr>
                <a:t>Opening Rai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83080" y="2958120"/>
              <a:ext cx="7405200" cy="932760"/>
            </a:xfrm>
            <a:custGeom>
              <a:avLst/>
              <a:gdLst/>
              <a:ahLst/>
              <a:rect l="l" t="t" r="r" b="b"/>
              <a:pathLst>
                <a:path w="4958" h="512">
                  <a:moveTo>
                    <a:pt x="0" y="46"/>
                  </a:moveTo>
                  <a:lnTo>
                    <a:pt x="298" y="0"/>
                  </a:lnTo>
                  <a:lnTo>
                    <a:pt x="606" y="98"/>
                  </a:lnTo>
                  <a:lnTo>
                    <a:pt x="904" y="241"/>
                  </a:lnTo>
                  <a:lnTo>
                    <a:pt x="1202" y="344"/>
                  </a:lnTo>
                  <a:lnTo>
                    <a:pt x="1500" y="379"/>
                  </a:lnTo>
                  <a:lnTo>
                    <a:pt x="1808" y="396"/>
                  </a:lnTo>
                  <a:lnTo>
                    <a:pt x="2105" y="338"/>
                  </a:lnTo>
                  <a:lnTo>
                    <a:pt x="2640" y="306"/>
                  </a:lnTo>
                  <a:lnTo>
                    <a:pt x="2932" y="272"/>
                  </a:lnTo>
                  <a:lnTo>
                    <a:pt x="3114" y="321"/>
                  </a:lnTo>
                  <a:lnTo>
                    <a:pt x="3346" y="57"/>
                  </a:lnTo>
                  <a:lnTo>
                    <a:pt x="3671" y="22"/>
                  </a:lnTo>
                  <a:lnTo>
                    <a:pt x="3987" y="102"/>
                  </a:lnTo>
                  <a:lnTo>
                    <a:pt x="4281" y="247"/>
                  </a:lnTo>
                  <a:lnTo>
                    <a:pt x="4538" y="366"/>
                  </a:lnTo>
                  <a:lnTo>
                    <a:pt x="4730" y="435"/>
                  </a:lnTo>
                  <a:lnTo>
                    <a:pt x="4957" y="461"/>
                  </a:lnTo>
                  <a:lnTo>
                    <a:pt x="4757" y="507"/>
                  </a:lnTo>
                  <a:lnTo>
                    <a:pt x="4074" y="507"/>
                  </a:lnTo>
                  <a:lnTo>
                    <a:pt x="2843" y="384"/>
                  </a:lnTo>
                  <a:lnTo>
                    <a:pt x="2490" y="421"/>
                  </a:lnTo>
                  <a:lnTo>
                    <a:pt x="2132" y="410"/>
                  </a:lnTo>
                  <a:lnTo>
                    <a:pt x="1808" y="425"/>
                  </a:lnTo>
                  <a:lnTo>
                    <a:pt x="1500" y="488"/>
                  </a:lnTo>
                  <a:lnTo>
                    <a:pt x="1202" y="511"/>
                  </a:lnTo>
                  <a:lnTo>
                    <a:pt x="904" y="511"/>
                  </a:lnTo>
                  <a:lnTo>
                    <a:pt x="606" y="477"/>
                  </a:lnTo>
                  <a:lnTo>
                    <a:pt x="298" y="167"/>
                  </a:lnTo>
                  <a:lnTo>
                    <a:pt x="0" y="46"/>
                  </a:lnTo>
                </a:path>
              </a:pathLst>
            </a:custGeom>
            <a:solidFill>
              <a:srgbClr val="ef91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83080" y="3041640"/>
              <a:ext cx="7417440" cy="855360"/>
            </a:xfrm>
            <a:custGeom>
              <a:avLst/>
              <a:gdLst/>
              <a:ahLst/>
              <a:rect l="l" t="t" r="r" b="b"/>
              <a:pathLst>
                <a:path w="4966" h="469">
                  <a:moveTo>
                    <a:pt x="0" y="0"/>
                  </a:moveTo>
                  <a:lnTo>
                    <a:pt x="298" y="121"/>
                  </a:lnTo>
                  <a:lnTo>
                    <a:pt x="606" y="431"/>
                  </a:lnTo>
                  <a:lnTo>
                    <a:pt x="904" y="466"/>
                  </a:lnTo>
                  <a:lnTo>
                    <a:pt x="1202" y="466"/>
                  </a:lnTo>
                  <a:lnTo>
                    <a:pt x="1499" y="443"/>
                  </a:lnTo>
                  <a:lnTo>
                    <a:pt x="1808" y="380"/>
                  </a:lnTo>
                  <a:lnTo>
                    <a:pt x="2106" y="276"/>
                  </a:lnTo>
                  <a:lnTo>
                    <a:pt x="2414" y="236"/>
                  </a:lnTo>
                  <a:lnTo>
                    <a:pt x="2712" y="224"/>
                  </a:lnTo>
                  <a:lnTo>
                    <a:pt x="2997" y="163"/>
                  </a:lnTo>
                  <a:lnTo>
                    <a:pt x="3339" y="11"/>
                  </a:lnTo>
                  <a:lnTo>
                    <a:pt x="3626" y="123"/>
                  </a:lnTo>
                  <a:lnTo>
                    <a:pt x="3945" y="436"/>
                  </a:lnTo>
                  <a:lnTo>
                    <a:pt x="4193" y="465"/>
                  </a:lnTo>
                  <a:lnTo>
                    <a:pt x="4585" y="468"/>
                  </a:lnTo>
                  <a:lnTo>
                    <a:pt x="4817" y="451"/>
                  </a:lnTo>
                  <a:lnTo>
                    <a:pt x="4949" y="422"/>
                  </a:lnTo>
                  <a:lnTo>
                    <a:pt x="4965" y="465"/>
                  </a:lnTo>
                  <a:lnTo>
                    <a:pt x="2106" y="466"/>
                  </a:lnTo>
                  <a:lnTo>
                    <a:pt x="1808" y="466"/>
                  </a:lnTo>
                  <a:lnTo>
                    <a:pt x="1499" y="466"/>
                  </a:lnTo>
                  <a:lnTo>
                    <a:pt x="1202" y="466"/>
                  </a:lnTo>
                  <a:lnTo>
                    <a:pt x="904" y="466"/>
                  </a:lnTo>
                  <a:lnTo>
                    <a:pt x="0" y="466"/>
                  </a:lnTo>
                  <a:lnTo>
                    <a:pt x="0" y="0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70320" y="38948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417000" y="3894840"/>
              <a:ext cx="1793880" cy="0"/>
              <a:chOff x="6417000" y="3894840"/>
              <a:chExt cx="1793880" cy="0"/>
            </a:xfrm>
          </p:grpSpPr>
          <p:sp>
            <p:nvSpPr>
              <p:cNvPr id="120" name=""/>
              <p:cNvSpPr/>
              <p:nvPr/>
            </p:nvSpPr>
            <p:spPr>
              <a:xfrm>
                <a:off x="6417000" y="38948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861960" y="38948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305480" y="38948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749000" y="38948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210880" y="38948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464920" y="38948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669240" y="2820960"/>
              <a:ext cx="0" cy="105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1560" y="38970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91560" y="37911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1560" y="36763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1560" y="3570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1560" y="34556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1560" y="33516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1560" y="32353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1560" y="31201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1560" y="30142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1560" y="28994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4000" y="3897000"/>
              <a:ext cx="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4000" y="3351600"/>
              <a:ext cx="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9240" y="38948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12760" y="38948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58080" y="38948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01600" y="38948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06640" y="38948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69960" y="38948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13480" y="38948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75000" y="38948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18520" y="38948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64920" y="38948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10600" y="38948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96840" y="3884400"/>
              <a:ext cx="79704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</a:rPr>
                <a:t>Spr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2720" y="2571480"/>
              <a:ext cx="1166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as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2000" y="3884400"/>
              <a:ext cx="79704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</a:rPr>
                <a:t>Spr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21840" y="3884400"/>
              <a:ext cx="9183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utum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1560" y="16747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67120" y="3884400"/>
              <a:ext cx="947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utum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7120" y="3897000"/>
              <a:ext cx="759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37840" y="1937160"/>
              <a:ext cx="147060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</a:rPr>
                <a:t>Opening Rai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42560" y="2571480"/>
              <a:ext cx="2230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quantity &amp; quality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319480" y="392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32000" y="3475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03640" y="3546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64000" y="426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19640" y="4194000"/>
            <a:ext cx="288720" cy="432000"/>
          </a:xfrm>
          <a:prstGeom prst="upArrow">
            <a:avLst>
              <a:gd name="adj1" fmla="val 50000"/>
              <a:gd name="adj2" fmla="val 37406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03800" y="47181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amb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4267080"/>
            <a:ext cx="2089080" cy="287280"/>
          </a:xfrm>
          <a:prstGeom prst="leftRightArrow">
            <a:avLst>
              <a:gd name="adj1" fmla="val 49676"/>
              <a:gd name="adj2" fmla="val 144765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471816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hea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0F36-6672-4EB5-9380-5F0C01AE043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Additional Feed Sourc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1700280"/>
            <a:ext cx="822960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rop residues (Stubb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upplementary f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ry standing fodder cr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103BC-7465-42A4-A05C-2D67BE602A9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4:52:09Z</dcterms:created>
  <dc:creator>ES</dc:creator>
  <dc:description/>
  <dc:language>en-US</dc:language>
  <cp:lastModifiedBy>Briana Daly</cp:lastModifiedBy>
  <dcterms:modified xsi:type="dcterms:W3CDTF">2005-02-09T03:35:07Z</dcterms:modified>
  <cp:revision>59</cp:revision>
  <dc:subject/>
  <dc:title>PowerPoint Presentation</dc:title>
</cp:coreProperties>
</file>