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F72B4-D027-4BBE-B24E-6C9ACA9CA465}"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d by S.I. Mortimer, NSW Agricul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is topic describes the genetics of the major diseases that affect Merino sheep production in Australia and approaches to breeding for resistance to these diseases: nematodiasis (the effects of gastrointestinal roundworms), flystrike (and its major precursor fleece rot) and footrot. Other diseases are significant, such as Johnes disease and brucellosis, due to substantial effects in individual sheep flocks that may occur and restrict movement and trade in livestock and their products. However, due to a lack of genetic studies, these diseases are not covered in this topic.</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epared by S.I. Mortimer, NSW Agricultur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Any sheep production system will need to consider the risk of diseases and subsequent losses. The importance of a disease will vary with the climate, the standard of sheep husbandry and management and the ability of the manager to prevent, control and treat a disease occurrence. More particularly, the relative importance of diseases for a sheep flock will be influenced by their impact on welfare and production.</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For some sheep diseases, control measures such as vaccination, chemical prevention and treatment and physical and biological intervention measures are effective and economic. For example, several clostridial diseases and anthrax can be prevented by the use of inexpensive multi-valent vaccin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However, for other sheep diseases these forms of control have become ineffective, uneconomic and/or potentially unacceptable in terms of animal welfare, occupational exposure of people to pesticides and accumulation of chemicals in the environment and sheep products. For some diseases, resistance of parasites to chemicals, e.g. anthelmintic resistance in gastrointestinal roundworms, is limiting use of chemicals by sheep producers. For other diseases such as blowfly strike, the use of some preventative or curative measures highlights additional issues. These include animal welfare (due to concerns over the preventative measure of surgical mulesing) and chemical residues in wool (because of concerns over residues from pesticides applications entering the environment following early stage processing of wool in overseas plants). Also, effective vaccines have yet to be developed against both gastrointestinal nematodes and blowfly strik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Where variation between animals in susceptibility to diseases is evident, genetic approaches are being researched as a strategy for disease control. This research has shown that an animal’s genes are influencing the variation in resistance between animals to a number of sheep diseases. As well, the research continues to provide information on the genetics of disease resistance that will allow sheep producers to develop and implement breeding programs that incorporate disease resistance and to integrate these programs with other disease control strategies. </a:t>
            </a:r>
            <a:endParaRPr b="0" lang="en-US" sz="9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epared by S.I. Mortimer, NSW Agricultur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To consider disease resistance in a breeding program and allow the selection of disease resistant animals it is necessary to define the most relevant measure of resistance. For improvement of sheep resistance to nematode parasites, three approaches have been described to define resistance as a trait used by sheep breeders and researchers: </a:t>
            </a:r>
            <a:r>
              <a:rPr b="0" i="1" lang="en-AU" sz="800" spc="-1" strike="noStrike">
                <a:solidFill>
                  <a:srgbClr val="000000"/>
                </a:solidFill>
                <a:latin typeface="Times New Roman"/>
              </a:rPr>
              <a:t>resistance</a:t>
            </a:r>
            <a:r>
              <a:rPr b="0" lang="en-AU" sz="800" spc="-1" strike="noStrike">
                <a:solidFill>
                  <a:srgbClr val="000000"/>
                </a:solidFill>
                <a:latin typeface="Times New Roman"/>
              </a:rPr>
              <a:t>, </a:t>
            </a:r>
            <a:r>
              <a:rPr b="0" i="1" lang="en-AU" sz="800" spc="-1" strike="noStrike">
                <a:solidFill>
                  <a:srgbClr val="000000"/>
                </a:solidFill>
                <a:latin typeface="Times New Roman"/>
              </a:rPr>
              <a:t>resilience</a:t>
            </a:r>
            <a:r>
              <a:rPr b="0" lang="en-AU" sz="800" spc="-1" strike="noStrike">
                <a:solidFill>
                  <a:srgbClr val="000000"/>
                </a:solidFill>
                <a:latin typeface="Times New Roman"/>
              </a:rPr>
              <a:t> and </a:t>
            </a:r>
            <a:r>
              <a:rPr b="0" i="1" lang="en-AU" sz="800" spc="-1" strike="noStrike">
                <a:solidFill>
                  <a:srgbClr val="000000"/>
                </a:solidFill>
                <a:latin typeface="Times New Roman"/>
              </a:rPr>
              <a:t>reduced treatment costs</a:t>
            </a:r>
            <a:r>
              <a:rPr b="0" lang="en-AU"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The three approaches could be applied to any disease that affects sheep production, incurs preventative and treatment costs and can be measured on a linear scale. Each of these approaches has its advantages and disadvantages. However, it is important to note that all the approaches require that the animal must be challenged with the disease before its ability to respond to the disease can be assess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800" spc="-1" strike="noStrike">
                <a:solidFill>
                  <a:srgbClr val="000000"/>
                </a:solidFill>
                <a:latin typeface="Times New Roman"/>
              </a:rPr>
              <a:t>Disease resistance’</a:t>
            </a:r>
            <a:r>
              <a:rPr b="0" lang="en-AU" sz="800" spc="-1" strike="noStrike">
                <a:solidFill>
                  <a:srgbClr val="000000"/>
                </a:solidFill>
                <a:latin typeface="Times New Roman"/>
              </a:rPr>
              <a:t> can be defined as absence of observable signs of disease in an animal after challenge. Under the same level of disease challenge, resistant animals are unaffected by clinical signs of disease while susceptible animals become affected. In sheep, this means that disease resistance is often expressed on a discontinuous basis or as a binomial trait (0, 1 scale). This is seen in fly strike where animals show ‘absence’ (unaffected) or ‘presence’ (affected) of the condition. In some instances, the relative scale of susceptibility is expanded from ‘absence/presence’ by using a linear score describing increasing severity of the disease e.g. scoring of fleece rot on a 0-5 scale. In other cases, the relative scale of susceptibility can be expressed on a continuous basis where an indicator of resistance can be measured rather than scored. This is exemplified by resistance to gastrointestinal roundworms, where resistant sheep carry fewer worms as indicated by a lower faecal worm egg cou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Resistance, with heritability estimates based on faecal egg counts ranging from low to moderate, is the most heritable of the three measures. However, a major disadvantage of this approach is that it is very difficult to place an economic value on reducing the proportion of diseased animals in a flock or the concentration of disease-causing organisms relative to the value of genetic change in other production traits (e.g. fleece weight, reproduction ra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800" spc="-1" strike="noStrike">
                <a:solidFill>
                  <a:srgbClr val="000000"/>
                </a:solidFill>
                <a:latin typeface="Times New Roman"/>
              </a:rPr>
              <a:t>‘</a:t>
            </a:r>
            <a:r>
              <a:rPr b="0" i="1" lang="en-AU" sz="800" spc="-1" strike="noStrike">
                <a:solidFill>
                  <a:srgbClr val="000000"/>
                </a:solidFill>
                <a:latin typeface="Times New Roman"/>
              </a:rPr>
              <a:t>Resilience’</a:t>
            </a:r>
            <a:r>
              <a:rPr b="0" lang="en-AU" sz="800" spc="-1" strike="noStrike">
                <a:solidFill>
                  <a:srgbClr val="000000"/>
                </a:solidFill>
                <a:latin typeface="Times New Roman"/>
              </a:rPr>
              <a:t> can be defined as hosts suffering little or no adverse effects on production during infection or disease challenge. Measurement of resilience requires measurement of production under conditions of a disease challenge, which may not be cost- or time-effective in practice. Resilience does not require direct measures of the relative pathogen load of animals when part of the breeding objective. Information on production levels, with and without a disease challenge, are then needed to determine how an animal superior in production during challenge would produce in the absence of a disease challeng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The heritability of resilience to internal parasites is estimated to be low, within the range of 0.03-0.14. Selection for resilience may not be practical, as assessment of resilience to internal parasites usually requires a lengthy period of infection, which would be unacceptable to breeders of elite rams. Selection for resilience to blowfly strike, similarly, is likely to be impractical, as all affected animals require treatment to minimise production losses. However, selection for resilience to footrot may be beneficial in that resilient sheep exposed to virulent strains of </a:t>
            </a:r>
            <a:r>
              <a:rPr b="0" i="1" lang="en-AU" sz="800" spc="-1" strike="noStrike">
                <a:solidFill>
                  <a:srgbClr val="000000"/>
                </a:solidFill>
                <a:latin typeface="Times New Roman"/>
              </a:rPr>
              <a:t>Dichelobacter nodosus</a:t>
            </a:r>
            <a:r>
              <a:rPr b="0" lang="en-AU" sz="800" spc="-1" strike="noStrike">
                <a:solidFill>
                  <a:srgbClr val="000000"/>
                </a:solidFill>
                <a:latin typeface="Times New Roman"/>
              </a:rPr>
              <a:t> would cope similarly to unselected sheep exposed to benign isolates of the bacter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800" spc="-1" strike="noStrike">
                <a:solidFill>
                  <a:srgbClr val="000000"/>
                </a:solidFill>
                <a:latin typeface="Times New Roman"/>
              </a:rPr>
              <a:t>The ‘reduced treatment cost’ approach</a:t>
            </a:r>
            <a:r>
              <a:rPr b="0" lang="en-AU" sz="800" spc="-1" strike="noStrike">
                <a:solidFill>
                  <a:srgbClr val="000000"/>
                </a:solidFill>
                <a:latin typeface="Times New Roman"/>
              </a:rPr>
              <a:t> was developed by New Zealand workers and defines a trait, in this case internal parasite resistance, on the basis of a subjective assessment of the needs of individual animals for anthelmintic treatment over a certain period. Its determination does not require quantitative measures of production with and without challenge. An economic value for this trait can be derived, using assumptions about the present and future costs of anthelmintic treatment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This trait, as initially described, has been estimated to have low heritability and was unrelated to resistance. Heritability estimates for the trait as defined by a modified assessment protocol are also low. The assessment protocol also  reduced the ability to detect genetic variation in other traits.</a:t>
            </a:r>
            <a:endParaRPr b="0" lang="en-US" sz="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epared by S.I. Mortimer, NSW Agricultur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Substantial between-sheep variation exists within a mob of sheep in responses to gastrointestinal roundworms as assessed by faecal egg count (FEC). FEC is expressed as the number of worm eggs per gram of faeces and provides a measure of the total worm burden of an animal at the time of sampling. If resistance is defined as the ability of the host animal to reduce the number of parasites that establish, reproduce and survive, then an animal with a low FEC reading as compared to its contemporaries could be considered more resistant to an infestation of worm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The proportion of this variation in resistance to gastrointestinal roundworms that can be attributed to an animal’s genes, heritability, has been estimated in many studies. Across all studies, heritability estimates range from low to moderate, with an average estimate of about 0.25. At these levels of heritability and the variable nature of the trait, genetic improvement in resistance to gastrointestinal roundworms from direct selection on FEC can be relatively rapi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Some estimates are based on natural infections, where sheep have grazed a known contaminated pasture. Other estimates have come from studies where an artificial infection has been used. This usually involves a ‘clean out’ drench followed by a measured inoculation (delivered by a modified drenching gun) with third stage larvae. As well, some estimates are based on more than one record of FEC as a means of improving the reliability of estimates of the phenotype and increasing the accuracy of estimation of heritabilit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The use of alternative indicators for resistance to gastrointestinal roundworms, either following challenge or without challenge, has been studied. The indicators of resistance considered include circulating eosinophil count, circulating antibody levels, faecal antigen test, packed cell volume, ovine lymphocyte antigen (OLA) type and components of the immune response (e.g. mucosal mast cell accumulation in the gastrointestinal tract). The indicator traits have been shown to be relatively inefficient predictors of FEC and resistance to gastrointestinal roundworm infec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The table also presents the range in published estimates of heritability for each of flystrike, fleece rot and dermatophilosis (also a precursor of flystrike in the form of body strike). These estimates indicate that all three diseases are low to moderately heritable and that breeding for resistance to these diseases could be accommodated within a practical breeding program.</a:t>
            </a:r>
            <a:r>
              <a:rPr b="0" lang="en-GB"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There is a close genetic relationship between resistance to fleece rot and body strike in Merino sheep, allowing breeders to make progress in body strike resistance by selection against fleece rot alone. Both the reduced production penalty associated with fleece rot and the ease of assessment makes fleece rot the preferred selection trait for resistance to both diseases. It is likely that there is a similar genetic relationship between resistance to dermatophilosis and flystrike, and that selection against dermatophilosis will also reduce flystrik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A number of indicator traits have been identified as indirect selection criteria for resistance to fleece rot and flystrike, but as yet none have been identified for dermatophilosis as genetic studies are lacking. For fleece rot and flystrike, these include greasy wool colour, variability in fibre diameter, wax content and staple length. However, when direct and indirect selection strategies are considered in breeding programs that include other production traits, indirect selection has been shown to be no more useful than direct selection alone (Atkins 1987).</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The heritability of resistance to footrot has been estimated at 0.15-0.29, indicating the potential to breed for resistance. However, the advantages of selection for increased resistance to footrot are not clear.  In the case of this contagious disease, eradication of the causative bacterium</a:t>
            </a:r>
            <a:r>
              <a:rPr b="0" i="1" lang="en-AU" sz="800" spc="-1" strike="noStrike">
                <a:solidFill>
                  <a:srgbClr val="000000"/>
                </a:solidFill>
                <a:latin typeface="Times New Roman"/>
              </a:rPr>
              <a:t> (Dichelobacter nodosus) </a:t>
            </a:r>
            <a:r>
              <a:rPr b="0" lang="en-AU" sz="800" spc="-1" strike="noStrike">
                <a:solidFill>
                  <a:srgbClr val="000000"/>
                </a:solidFill>
                <a:latin typeface="Times New Roman"/>
              </a:rPr>
              <a:t>from flocks of sheep has been shown to be feasible.</a:t>
            </a:r>
            <a:endParaRPr b="0" lang="en-US" sz="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d by S.I. Mortimer, NSW Agricul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number of single trait selection flocks have been established over the years to demonstrate the effectiveness of breeding programs aimed at improving resistance to gastrointestinal roundworms. These include selection for resistance to each of Barber’s Pole Worm (</a:t>
            </a:r>
            <a:r>
              <a:rPr b="0" i="1" lang="en-AU" sz="1200" spc="-1" strike="noStrike">
                <a:solidFill>
                  <a:srgbClr val="000000"/>
                </a:solidFill>
                <a:latin typeface="Times New Roman"/>
              </a:rPr>
              <a:t>Haemonchus contortus)</a:t>
            </a:r>
            <a:r>
              <a:rPr b="0" lang="en-AU" sz="1200" spc="-1" strike="noStrike">
                <a:solidFill>
                  <a:srgbClr val="000000"/>
                </a:solidFill>
                <a:latin typeface="Times New Roman"/>
              </a:rPr>
              <a:t>, Black Scour Worm (</a:t>
            </a:r>
            <a:r>
              <a:rPr b="0" i="1" lang="en-AU" sz="1200" spc="-1" strike="noStrike">
                <a:solidFill>
                  <a:srgbClr val="000000"/>
                </a:solidFill>
                <a:latin typeface="Times New Roman"/>
              </a:rPr>
              <a:t>Trichostrongylus colubriformis)</a:t>
            </a:r>
            <a:r>
              <a:rPr b="0" lang="en-AU" sz="1200" spc="-1" strike="noStrike">
                <a:solidFill>
                  <a:srgbClr val="000000"/>
                </a:solidFill>
                <a:latin typeface="Times New Roman"/>
              </a:rPr>
              <a:t> and Small Brown Stomach Worm (</a:t>
            </a:r>
            <a:r>
              <a:rPr b="0" i="1" lang="en-AU" sz="1200" spc="-1" strike="noStrike">
                <a:solidFill>
                  <a:srgbClr val="000000"/>
                </a:solidFill>
                <a:latin typeface="Times New Roman"/>
              </a:rPr>
              <a:t>Ostertagia</a:t>
            </a:r>
            <a:r>
              <a:rPr b="0" lang="en-AU" sz="1200" spc="-1" strike="noStrike">
                <a:solidFill>
                  <a:srgbClr val="000000"/>
                </a:solidFill>
                <a:latin typeface="Times New Roman"/>
              </a:rPr>
              <a:t> spp).  In all cases, a change in FEC has been achieved in the desired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1970s, CSIRO commenced an experiment at Armidale, NSW, to evaluate the responses achieved following continued selection for resistance to </a:t>
            </a:r>
            <a:r>
              <a:rPr b="0" i="1" lang="en-GB" sz="1200" spc="-1" strike="noStrike">
                <a:solidFill>
                  <a:srgbClr val="000000"/>
                </a:solidFill>
                <a:latin typeface="Times New Roman"/>
              </a:rPr>
              <a:t>H. contortus</a:t>
            </a:r>
            <a:r>
              <a:rPr b="0" lang="en-GB" sz="1200" spc="-1" strike="noStrike">
                <a:solidFill>
                  <a:srgbClr val="000000"/>
                </a:solidFill>
                <a:latin typeface="Times New Roman"/>
              </a:rPr>
              <a:t>. A randomly selected control line, as well as a line selected for increased susceptibility to </a:t>
            </a:r>
            <a:r>
              <a:rPr b="0" i="1" lang="en-GB" sz="1200" spc="-1" strike="noStrike">
                <a:solidFill>
                  <a:srgbClr val="000000"/>
                </a:solidFill>
                <a:latin typeface="Times New Roman"/>
              </a:rPr>
              <a:t>H. contortus,</a:t>
            </a:r>
            <a:r>
              <a:rPr b="0" lang="en-GB" sz="1200" spc="-1" strike="noStrike">
                <a:solidFill>
                  <a:srgbClr val="000000"/>
                </a:solidFill>
                <a:latin typeface="Times New Roman"/>
              </a:rPr>
              <a:t> were also established at the same time. All lines were closed to outside introductions and replacement animals came from within each line. The selection criterion was FEC after artificial infection with a known quantity of infective </a:t>
            </a:r>
            <a:r>
              <a:rPr b="0" i="1" lang="en-GB" sz="1200" spc="-1" strike="noStrike">
                <a:solidFill>
                  <a:srgbClr val="000000"/>
                </a:solidFill>
                <a:latin typeface="Times New Roman"/>
              </a:rPr>
              <a:t>H</a:t>
            </a:r>
            <a:r>
              <a:rPr b="0" lang="en-GB" sz="1200" spc="-1" strike="noStrike">
                <a:solidFill>
                  <a:srgbClr val="000000"/>
                </a:solidFill>
                <a:latin typeface="Times New Roman"/>
              </a:rPr>
              <a:t>. </a:t>
            </a:r>
            <a:r>
              <a:rPr b="0" i="1" lang="en-GB" sz="1200" spc="-1" strike="noStrike">
                <a:solidFill>
                  <a:srgbClr val="000000"/>
                </a:solidFill>
                <a:latin typeface="Times New Roman"/>
              </a:rPr>
              <a:t>contortus</a:t>
            </a:r>
            <a:r>
              <a:rPr b="0" lang="en-GB" sz="1200" spc="-1" strike="noStrike">
                <a:solidFill>
                  <a:srgbClr val="000000"/>
                </a:solidFill>
                <a:latin typeface="Times New Roman"/>
              </a:rPr>
              <a:t> larv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gnificant divergence between the lines in FEC has resulted over time, with the resistant line achieving lower FEC compared to the control. The changes achieved in the selection lines were lower than theoretical expectation because of relatively small numbers and reduced selection pressure due to the need to restrict inbr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ingle trait selection lines have shown also whether sheep selected for resistance to one type of internal parasite are resistant or otherwise to other types.  Indirect evidence for favourable associations between resistance to different roundworm species can be found in the CSIRO </a:t>
            </a:r>
            <a:r>
              <a:rPr b="0" i="1" lang="en-AU" sz="1200" spc="-1" strike="noStrike">
                <a:solidFill>
                  <a:srgbClr val="000000"/>
                </a:solidFill>
                <a:latin typeface="Times New Roman"/>
              </a:rPr>
              <a:t>H. contortus</a:t>
            </a:r>
            <a:r>
              <a:rPr b="0" lang="en-AU" sz="1200" spc="-1" strike="noStrike">
                <a:solidFill>
                  <a:srgbClr val="000000"/>
                </a:solidFill>
                <a:latin typeface="Times New Roman"/>
              </a:rPr>
              <a:t> selection lines. When weaners from all three lines were run as a single mob, those derived from the resistance line showed lower FEC following natural infection with other worm species. These results indicated that resistance was expressed early in the life of the animal and that selection for resistance to one worm species also conferred resistance to other worm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ewes approach lambing, their resistance to worms decreases, referred to as the peri-parturient rise in FEC. In a study conducted in the early 1990s, ewes from the CSIRO </a:t>
            </a:r>
            <a:r>
              <a:rPr b="0" i="1" lang="en-GB" sz="1200" spc="-1" strike="noStrike">
                <a:solidFill>
                  <a:srgbClr val="000000"/>
                </a:solidFill>
                <a:latin typeface="Times New Roman"/>
              </a:rPr>
              <a:t>H. contortus</a:t>
            </a:r>
            <a:r>
              <a:rPr b="0" lang="en-GB" sz="1200" spc="-1" strike="noStrike">
                <a:solidFill>
                  <a:srgbClr val="000000"/>
                </a:solidFill>
                <a:latin typeface="Times New Roman"/>
              </a:rPr>
              <a:t> selection lines were deliberately exposed to moderately contaminated pastures prior to lambing. All ewes were maintained together and were thus exposed to the same level of challenge. Ewes derived from the resistant line did not display as great a peri-parturient rise and were able to expel worms at a faster rate in the period following lambing, compared to ewes derived from the control and susceptible lines. These latter two lines required drenching at around 5 weeks after lambing due to extremely high FECs. Thus the resistance to gastrointestinal roundworms evident early in the life of the selected animals persisted through to older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another study using the CSIRO </a:t>
            </a:r>
            <a:r>
              <a:rPr b="0" i="1" lang="en-AU" sz="1200" spc="-1" strike="noStrike">
                <a:solidFill>
                  <a:srgbClr val="000000"/>
                </a:solidFill>
                <a:latin typeface="Times New Roman"/>
              </a:rPr>
              <a:t>H. contortus</a:t>
            </a:r>
            <a:r>
              <a:rPr b="0" lang="en-AU" sz="1200" spc="-1" strike="noStrike">
                <a:solidFill>
                  <a:srgbClr val="000000"/>
                </a:solidFill>
                <a:latin typeface="Times New Roman"/>
              </a:rPr>
              <a:t> resistant and control lines, genetic and several non-genetic approaches for worm control were compared over a period from March to October. The impact on FEC of selection for resistance was greater than that resulting from nutritional supplementation, vaccination (against </a:t>
            </a:r>
            <a:r>
              <a:rPr b="0" i="1" lang="en-AU" sz="1200" spc="-1" strike="noStrike">
                <a:solidFill>
                  <a:srgbClr val="000000"/>
                </a:solidFill>
                <a:latin typeface="Times New Roman"/>
              </a:rPr>
              <a:t>H. contortus</a:t>
            </a:r>
            <a:r>
              <a:rPr b="0" lang="en-AU" sz="1200" spc="-1" strike="noStrike">
                <a:solidFill>
                  <a:srgbClr val="000000"/>
                </a:solidFill>
                <a:latin typeface="Times New Roman"/>
              </a:rPr>
              <a:t>) or implementation of a strategic drenching program. </a:t>
            </a:r>
            <a:r>
              <a:rPr b="0" lang="en-GB" sz="1200" spc="-1" strike="noStrike">
                <a:solidFill>
                  <a:srgbClr val="000000"/>
                </a:solidFill>
                <a:latin typeface="Times New Roman"/>
              </a:rPr>
              <a:t>When the experiment was completed, all sheep were drenched and combined into a single mob. Faecal samples were collected after 2 months. As expected, breeding for resistance conferred a permanent advantage to the host. In contrast, drenching and other non-genetic strategies had little residual benefits after the treatment had ceased. The pastures were also grazed with new sheep after the experiment to provide a measure of worm contamination of the pastures. It was clearly evident that the resistant sheep left less contamination on the pasture compared to unselected she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ng-term benefits of selection for resistance on the frequency of drenches required in a worm control program have been evaluated. This has been considered using simulation models. Across a number of replicate runs, the simulation models indicate that selection for increased resistance to worms could reduce drenching requirements from 3 to 0 per year after 11-18 years, depending on seasonal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us selection for resistance to gastrointestinal roundworms not only results in benefits to the individual arising from the permanent effects of reduced worm burdens, but resistant sheep also leave the pastures cleaner and, over the long-term, will reduce the reliance on anthelmintics and the costs associated with their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nsequences of selection for resistance to flystrike and fleece rot have been demonstrated in long-term selection flocks selected for and against resistance to fleece rot, undertaken by NSW Agriculture at Trangie. The selection criteria varied across years and included expressions of fleece rot and body strike following natural challenge between birth and 13 months of age, and following fleece rot induction (i.e. artificial challenge) at 14 months of age. The divergence in the incidence of natural fleece rot between the two selection lines over a 14 year period equates to a change in divergence of around 2.8% per year. Overall, the susceptible line had higher incidences of natural fleece rot (37% vs 10%), natural body strike (8% vs 3%), artificial fleece rot (63% vs 38%) and artificial body strike (5% vs 0%) than the resistant line. In terms of the incidence of natural body strike, the lines diverged at a rate of around 0.4% per yea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d by S.I. Mortimer, NSW Agricul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jor diseases attracting research attention are all favoured by conditions of high rainfall. It is thus highly likely that sheep grazed under such conditions would be exposed to internal parasite challenge, fleece rot and flystrike and footrot in infected flocks.  Information on genetic associations between resistance to these diseases is of interest, not only to predict the indirect consequences of selecting for resistance to one disease, but also allows the consideration the potential for ‘broad-based’ disease re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present, little information is available on this. Where preliminary information is available, multiple diseases have been monitored on the same animals, and results may therefore have been biased by the influence of one disease on the expression of the other.  Results to date indicate that at best, the genetic associations between internal parasite resistance and resistance to other diseases, are neutral or slightly favou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milarly genetic relationships between resistance to fleece rot, dermatophilosis and footrot (essentially all diseases of the skin) appear to be essentially neutral. It is unlikely that there are strong favourable or unfavourable genetic relationships between resistance to the important diseases in sheep, but more reliable information is required to refine selection decisions that aim to include resistance to more than one disease.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d by S.I. Mortimer, NSW Agricul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implications of the inclusion of disease resistance into a breeding program 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Selection pressure applied to other traits in the breeding objective will be reduced, which will affect subsequently genetic change in these traits depending on the size and direction of the genetic correlations involving disease resistance trai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Little is known of the physiological impact of selection for disease resistance on other traits that are in the breeding objective. An animal’s ability to mount a continued immune response (i.e. resistance) may compromise the utilisation of nutrients and energy for wool and meat 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Expression of resistance to a disease usually requires that animals be exposed to a disease challeng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4. Economic values of disease resistance traits are difficult to quantif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d by S.I. Mortimer, NSW Agricul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 breeding program should have disease resistance as its only objective.  Realistic programs will include disease resistance with other important production traits.  Therefore genetic relationships of resistance with other traits targeted for improvement (such as live weight gain, fleece weight, fleece quality and resistance to other diseases) all need to be considered. At present, estimates of such relationships are sca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Merino improvement programs that do not consider disease resistance, preliminary predictions can be made on the likely consequences on resistance to the major diseases.  Programs with a strong emphasis on clean fleece weight may lead to a small increase in susceptibility to disease. Programs with a strong emphasis on reducing fibre diameter are likely to see no changes in resistance to gastrointestinal nematodes, a slight improvement in resistance to fleece rot and flystrike, and no major change in resistance to footrot. Selection for increased body weight is likely to lead to a favourable effect on nematode resistance, a small decrease in resistance to fleece rot and flystrike, and an unknown effect on resistance to footrot. It should be noted that in all cases the likely changes in resistance / susceptibility are sm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general, inclusion of disease resistance in a breeding objective should not impact greatly on rates of progress in other economically important traits. Importantly, where slight genetic antagonisms exist between production traits and disease resistance, the breeding program must be appropriately designed to optimise improvement in all traits in the breeding objective.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d by S.I. Mortimer, NSW Agricul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siderable variation in resistance to fleece rot and body strike exists between strains and bloodlines within the Merino breed. Bloodline differences in fleece rot resistance have been shown also in data from wether comparisons for a limited number of bloodlines. Differences between bloodlines in resistance to dermatophilosis also exist, though to a lesser extent. This provides breeders with the option of changing strain or bloodline to make relatively large and rapid changes in resistance to these diseases, as well as exploiting within-flock genetic variation. The implications on all other production traits obviously need to be considered before making such changes. Preliminary data also suggest differences between Merino bloodlines within the fine-wool spectrum in resistance to footr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sistance to gastrointestinal roundworms, in contrast, has shown very little variation between strains and bloodlines, with most of the genetic variation occurring between animals within flocks. </a:t>
            </a:r>
            <a:r>
              <a:rPr b="0" lang="en-GB" sz="1200" spc="-1" strike="noStrike">
                <a:solidFill>
                  <a:srgbClr val="000000"/>
                </a:solidFill>
                <a:latin typeface="Times New Roman"/>
              </a:rPr>
              <a:t>Variation in worm resistance between bloodlines may change in the future as individual studs begin to include this trait in the breeding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dentification of resistant individuals, rather than resistant flocks, is the major genetic option available to breeders looking to improve resistance to gastrointestinal roundworms. Information is accumulating on the resistance of individual Merino sires used in central test sire evaluations.</a:t>
            </a:r>
            <a:r>
              <a:rPr b="0" lang="en-GB" sz="1200" spc="-1" strike="noStrike">
                <a:solidFill>
                  <a:srgbClr val="000000"/>
                </a:solidFill>
                <a:latin typeface="Times New Roman"/>
              </a:rPr>
              <a:t> There are high performance sires throughout the stud industry that are just as resistant as experimental animals, indicating that genes for resistance are already present in the Merino sheep used within the sheep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some of the genetic variation between animals in resistance to sheep diseases is influenced also by the effects of major genes, it is possible then to develop methods to select for these genes using genetic markers. Analyses of data on gastrointestinal roundworm infections and fleece rot and body strike incidences in experimental flocks have suggested that genes of major effect may be influencing resistance to these diseases. A genetic marker is a sequence of DNA that differs between animals and is located near to or within a gene. Genetic markers can easily be tested for in the labor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arches for associations between genetic markers and disease resistance are mainly focussed on resistance to worms and, more recently, on resistance to fleece rot. However, as yet no useful markers have been found. Using genetic markers to select for disease resistance would be advantage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enetic markers would allow information to be collected for selection purposes even when expression of the disease trait is limited by environmental conditions (e.g. insufficient rainfall to allow prolonged wetting of a sheep’s skin for the development of fleece rot). Information for assessment of disease resistance would also be available for environments where disease incidences vary across years and at any age. In practice, genetic markers could be used by ram breeders who breed rams, which are rarely challenged or not challenged by the diseases, to be sold and used in flocks in environments of greater disease challenge. It would be a major breakthrough if animals carrying the favoured genes could be identified by analysis of DNA from blood or other tissu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D6BD23-020E-4961-90BE-5BB023D33A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501DB3-D201-4F96-8A4B-74205370FE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63E82F-144F-4275-8B47-D63BEF4634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D8E005-1329-43A0-8C17-9C3FDB01DD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831FAF-8FD4-428E-949B-262347A7CF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2"/>
          </p:nvPr>
        </p:nvSpPr>
        <p:spPr/>
        <p:txBody>
          <a:bodyPr/>
          <a:p>
            <a:fld id="{F0C71A19-33CA-4199-9713-C1F0715384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EE3B1B-4672-4F33-B36C-7274A15577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E95CE96-96A8-4424-9172-4A746608BB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9ED32442-4D99-41BE-ABC9-FA9582AE9B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6EF4BE8F-1B8F-42CD-B4AE-84E828C5C7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4118890-CC33-432D-8411-99AA27ADCF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1"/>
          </p:nvPr>
        </p:nvSpPr>
        <p:spPr/>
        <p:txBody>
          <a:bodyPr/>
          <a:p>
            <a:fld id="{B22251ED-9DB7-410F-996A-56FA08D8A1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60A0DBE-1211-43B3-B1EF-DFBF40D868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09AB5FB-C457-4CEA-A0EF-0566CB04F4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EAD110F-E064-4CAA-B6AF-36FDC3B18C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9BBAEA0-C7AC-447C-8F6C-029784B942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002B96B-18E2-4E95-BD09-B702ABE967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07CE0-34AE-4D6F-8F9F-B48AB3116A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0236B7-9105-4011-A63F-B2C59DDFEE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47266A37-188D-4810-835B-31352E507B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291C3F7E-943E-499A-98DF-949F189A97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E5CD7D-7615-4E5E-9142-A2CFED85EB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4CE105-4BF8-46EB-B0E0-060BF50BCC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E2C649-68DD-4430-B16C-3AA7FA5A6D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fontScale="86000"/>
          </a:bodyPr>
          <a:p>
            <a:pPr marL="294840" indent="-29484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9E8D3-76BC-427E-8279-B49A5CCB60E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F9F6F-D022-483B-B0DF-E7FD7C6CCF3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592560"/>
            <a:ext cx="7772400" cy="146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etics of Disease Resistance</a:t>
            </a:r>
            <a:br>
              <a:rPr sz="5400"/>
            </a:br>
            <a:endParaRPr b="0" lang="en-US" sz="3600" spc="-1" strike="noStrike">
              <a:solidFill>
                <a:srgbClr val="000000"/>
              </a:solidFill>
              <a:latin typeface="Arial"/>
            </a:endParaRPr>
          </a:p>
        </p:txBody>
      </p:sp>
      <p:sp>
        <p:nvSpPr>
          <p:cNvPr id="92" name="PlaceHolder 2"/>
          <p:cNvSpPr>
            <a:spLocks noGrp="1"/>
          </p:cNvSpPr>
          <p:nvPr>
            <p:ph type="subTitle"/>
          </p:nvPr>
        </p:nvSpPr>
        <p:spPr>
          <a:xfrm>
            <a:off x="988920" y="3962520"/>
            <a:ext cx="640080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ic 13</a:t>
            </a:r>
            <a:endParaRPr b="0" lang="en-US" sz="2800" spc="-1" strike="noStrike">
              <a:solidFill>
                <a:srgbClr val="000000"/>
              </a:solidFill>
              <a:latin typeface="Arial"/>
            </a:endParaRPr>
          </a:p>
        </p:txBody>
      </p:sp>
      <p:pic>
        <p:nvPicPr>
          <p:cNvPr id="93" name="" descr=""/>
          <p:cNvPicPr/>
          <p:nvPr/>
        </p:nvPicPr>
        <p:blipFill>
          <a:blip r:embed="rId1"/>
          <a:srcRect l="11534" t="0" r="11534" b="38447"/>
          <a:stretch/>
        </p:blipFill>
        <p:spPr>
          <a:xfrm>
            <a:off x="457200" y="3505320"/>
            <a:ext cx="5283360" cy="3170160"/>
          </a:xfrm>
          <a:prstGeom prst="rect">
            <a:avLst/>
          </a:prstGeom>
          <a:ln w="0">
            <a:noFill/>
          </a:ln>
        </p:spPr>
      </p:pic>
      <p:sp>
        <p:nvSpPr>
          <p:cNvPr id="4" name="PlaceHolder 3"/>
          <p:cNvSpPr>
            <a:spLocks noGrp="1"/>
          </p:cNvSpPr>
          <p:nvPr>
            <p:ph type="sldNum" idx="2"/>
          </p:nvPr>
        </p:nvSpPr>
        <p:spPr/>
        <p:txBody>
          <a:bodyPr/>
          <a:p>
            <a:fld id="{4633A12D-D6B5-48EB-A508-AC27484B7F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of Summary Sl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e window</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71F3A27-6FE3-4BD5-9861-6E536D2BD053}" type="slidenum">
              <a:t>10</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151920"/>
            <a:ext cx="6782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sues for current disease control measures</a:t>
            </a:r>
            <a:endParaRPr b="0" lang="en-US" sz="3200" spc="-1" strike="noStrike">
              <a:solidFill>
                <a:srgbClr val="000000"/>
              </a:solidFill>
              <a:latin typeface="Arial"/>
            </a:endParaRPr>
          </a:p>
        </p:txBody>
      </p:sp>
      <p:sp>
        <p:nvSpPr>
          <p:cNvPr id="95" name="PlaceHolder 2"/>
          <p:cNvSpPr>
            <a:spLocks noGrp="1"/>
          </p:cNvSpPr>
          <p:nvPr>
            <p:ph/>
          </p:nvPr>
        </p:nvSpPr>
        <p:spPr>
          <a:xfrm>
            <a:off x="685440" y="1523880"/>
            <a:ext cx="8001000" cy="381024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stance of parasites to chemicals and pesticid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strointestinal roundworms: anthelmintic resistanc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imal welfa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ep blowfly: surgical mulesing for control of breech strik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sticide residu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ep blowfly applications: residues in wool and its by-produc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2624D2-2FD4-4D34-9CCC-93DFE2992663}"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itions of measures of disease resistance</a:t>
            </a:r>
            <a:endParaRPr b="0" lang="en-US" sz="3200" spc="-1" strike="noStrike">
              <a:solidFill>
                <a:srgbClr val="000000"/>
              </a:solidFill>
              <a:latin typeface="Arial"/>
            </a:endParaRPr>
          </a:p>
        </p:txBody>
      </p:sp>
      <p:sp>
        <p:nvSpPr>
          <p:cNvPr id="97" name="PlaceHolder 2"/>
          <p:cNvSpPr>
            <a:spLocks noGrp="1"/>
          </p:cNvSpPr>
          <p:nvPr>
            <p:ph/>
          </p:nvPr>
        </p:nvSpPr>
        <p:spPr>
          <a:xfrm>
            <a:off x="914040" y="1599840"/>
            <a:ext cx="8001000" cy="380988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stan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ence of observable signs of disease in a sheep after challenge</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lien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heep suffering little or no adverse effects on production during infection or disease challenge</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treatment cos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nternal parasite resistance, based on a subjective assessment of a sheep’s need for anthelmintic treatment over a certain perio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CB2846-8AE9-4FC5-BD96-1FA64B6C96F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ritability estimates for major sheep diseases</a:t>
            </a:r>
            <a:endParaRPr b="0" lang="en-US" sz="3200" spc="-1" strike="noStrike">
              <a:solidFill>
                <a:srgbClr val="000000"/>
              </a:solidFill>
              <a:latin typeface="Arial"/>
            </a:endParaRPr>
          </a:p>
        </p:txBody>
      </p:sp>
      <p:graphicFrame>
        <p:nvGraphicFramePr>
          <p:cNvPr id="99" name=""/>
          <p:cNvGraphicFramePr/>
          <p:nvPr/>
        </p:nvGraphicFramePr>
        <p:xfrm>
          <a:off x="533520" y="1219320"/>
          <a:ext cx="8001000" cy="3811320"/>
        </p:xfrm>
        <a:graphic>
          <a:graphicData uri="http://schemas.openxmlformats.org/drawingml/2006/table">
            <a:tbl>
              <a:tblPr/>
              <a:tblGrid>
                <a:gridCol w="2590560"/>
                <a:gridCol w="2590920"/>
                <a:gridCol w="2819520"/>
              </a:tblGrid>
              <a:tr h="621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ge of estimat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strointestinal roundworm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ecal egg cou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5-0.4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1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ystrik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ity, incidenc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0.5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1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ce ro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ity, incidenc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5-0.8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1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matopihilosi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ity, incidenc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5-0.4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tro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ity, incidenc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5-0.29</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961FF352-7135-4EB1-BDE3-45F4F88340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sequences of selection for resistance in selection lines</a:t>
            </a:r>
            <a:endParaRPr b="0" lang="en-US" sz="3200" spc="-1" strike="noStrike">
              <a:solidFill>
                <a:srgbClr val="000000"/>
              </a:solidFill>
              <a:latin typeface="Arial"/>
            </a:endParaRPr>
          </a:p>
        </p:txBody>
      </p:sp>
      <p:sp>
        <p:nvSpPr>
          <p:cNvPr id="101" name="PlaceHolder 2"/>
          <p:cNvSpPr>
            <a:spLocks noGrp="1"/>
          </p:cNvSpPr>
          <p:nvPr>
            <p:ph/>
          </p:nvPr>
        </p:nvSpPr>
        <p:spPr>
          <a:xfrm>
            <a:off x="685440" y="1447560"/>
            <a:ext cx="8001000" cy="464796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IRO </a:t>
            </a:r>
            <a:r>
              <a:rPr b="0" i="1" lang="en-US" sz="2000" spc="-1" strike="noStrike">
                <a:solidFill>
                  <a:srgbClr val="000000"/>
                </a:solidFill>
                <a:latin typeface="Arial"/>
              </a:rPr>
              <a:t>Haemonchus contortus</a:t>
            </a:r>
            <a:r>
              <a:rPr b="0" lang="en-US" sz="2000" spc="-1" strike="noStrike">
                <a:solidFill>
                  <a:srgbClr val="000000"/>
                </a:solidFill>
                <a:latin typeface="Arial"/>
              </a:rPr>
              <a:t> lines</a:t>
            </a:r>
            <a:endParaRPr b="0" lang="en-US" sz="2000" spc="-1" strike="noStrike">
              <a:solidFill>
                <a:srgbClr val="000000"/>
              </a:solidFill>
              <a:latin typeface="Arial"/>
            </a:endParaRPr>
          </a:p>
          <a:p>
            <a:pPr lvl="1" marL="743040" indent="-28584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stant line animals had lower faecal egg counts (FEC) compared to the control (permanent benefit) and left pastures cleaner</a:t>
            </a:r>
            <a:endParaRPr b="0" lang="en-US" sz="2000" spc="-1" strike="noStrike">
              <a:solidFill>
                <a:srgbClr val="000000"/>
              </a:solidFill>
              <a:latin typeface="Arial"/>
            </a:endParaRPr>
          </a:p>
          <a:p>
            <a:pPr lvl="1" marL="743040" indent="-28584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stant line animals showed lower FEC after natural infection with other roundworm species</a:t>
            </a:r>
            <a:endParaRPr b="0" lang="en-US" sz="2000" spc="-1" strike="noStrike">
              <a:solidFill>
                <a:srgbClr val="000000"/>
              </a:solidFill>
              <a:latin typeface="Arial"/>
            </a:endParaRPr>
          </a:p>
          <a:p>
            <a:pPr lvl="1" marL="743040" indent="-28584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stant line ewes had lower peri-parturient rises in FEC</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SW Agriculture Fleece Rot lines</a:t>
            </a:r>
            <a:endParaRPr b="0" lang="en-US" sz="2000" spc="-1" strike="noStrike">
              <a:solidFill>
                <a:srgbClr val="000000"/>
              </a:solidFill>
              <a:latin typeface="Arial"/>
            </a:endParaRPr>
          </a:p>
          <a:p>
            <a:pPr lvl="1" marL="743040" indent="-28584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ual decreases of 1.0-1.4% in fleece rot and 0.4% in body strike incidenc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5916FD-D335-47CA-8654-487A1B381D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tic relationships among disease traits</a:t>
            </a:r>
            <a:endParaRPr b="0" lang="en-US" sz="3200" spc="-1" strike="noStrike">
              <a:solidFill>
                <a:srgbClr val="000000"/>
              </a:solidFill>
              <a:latin typeface="Arial"/>
            </a:endParaRPr>
          </a:p>
        </p:txBody>
      </p:sp>
      <p:graphicFrame>
        <p:nvGraphicFramePr>
          <p:cNvPr id="103" name=""/>
          <p:cNvGraphicFramePr/>
          <p:nvPr/>
        </p:nvGraphicFramePr>
        <p:xfrm>
          <a:off x="457200" y="1371600"/>
          <a:ext cx="8381880" cy="4226040"/>
        </p:xfrm>
        <a:graphic>
          <a:graphicData uri="http://schemas.openxmlformats.org/drawingml/2006/table">
            <a:tbl>
              <a:tblPr/>
              <a:tblGrid>
                <a:gridCol w="1676520"/>
                <a:gridCol w="1676160"/>
                <a:gridCol w="1676520"/>
                <a:gridCol w="1676520"/>
                <a:gridCol w="1676160"/>
              </a:tblGrid>
              <a:tr h="478440">
                <a:tc row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on for resistance 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ted change in resistance to:</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5570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m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ce ro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matophilosi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tro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7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m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g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ight increas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ight increas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ce ro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g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g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ight decreas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matophilosi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ight increas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g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g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tro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ight increas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g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7A219304-8237-4A69-9830-0BD30DD94D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luding disease resistance in breeding programs: implications</a:t>
            </a:r>
            <a:endParaRPr b="0" lang="en-US" sz="2800" spc="-1" strike="noStrike">
              <a:solidFill>
                <a:srgbClr val="000000"/>
              </a:solidFill>
              <a:latin typeface="Arial"/>
            </a:endParaRPr>
          </a:p>
        </p:txBody>
      </p:sp>
      <p:sp>
        <p:nvSpPr>
          <p:cNvPr id="105" name="PlaceHolder 2"/>
          <p:cNvSpPr>
            <a:spLocks noGrp="1"/>
          </p:cNvSpPr>
          <p:nvPr>
            <p:ph/>
          </p:nvPr>
        </p:nvSpPr>
        <p:spPr>
          <a:xfrm>
            <a:off x="838080" y="1447920"/>
            <a:ext cx="7772400" cy="358128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 trait in objective to be improv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tic changes in all traits affect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physiological impac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resistance usually needs animals to be exposed to a challeng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c values of resistance difficult to identif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FA5028-2487-40EE-94EC-744D23926A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152280"/>
            <a:ext cx="7772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tic relationships between production and disease traits</a:t>
            </a:r>
            <a:endParaRPr b="0" lang="en-US" sz="3200" spc="-1" strike="noStrike">
              <a:solidFill>
                <a:srgbClr val="000000"/>
              </a:solidFill>
              <a:latin typeface="Arial"/>
            </a:endParaRPr>
          </a:p>
        </p:txBody>
      </p:sp>
      <p:graphicFrame>
        <p:nvGraphicFramePr>
          <p:cNvPr id="107" name=""/>
          <p:cNvGraphicFramePr/>
          <p:nvPr/>
        </p:nvGraphicFramePr>
        <p:xfrm>
          <a:off x="533520" y="1311120"/>
          <a:ext cx="8381880" cy="4251240"/>
        </p:xfrm>
        <a:graphic>
          <a:graphicData uri="http://schemas.openxmlformats.org/drawingml/2006/table">
            <a:tbl>
              <a:tblPr/>
              <a:tblGrid>
                <a:gridCol w="2381040"/>
                <a:gridCol w="2000520"/>
                <a:gridCol w="2000160"/>
                <a:gridCol w="2000160"/>
              </a:tblGrid>
              <a:tr h="533520">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ease resistance trai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28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m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ece rot and flystrik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tro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0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n fleece weigh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tral to slightly unfavourabl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tral to slightly unfavourabl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tral to slightly unfavourab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8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re diamete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tra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tral to slightly favourabl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tral</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0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dy weigh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tral to slightly favourabl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tral to slightly unfavourabl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know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7273C12D-2378-472F-B247-12A654FE15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riation in disease resistance traits in Merinos</a:t>
            </a:r>
            <a:endParaRPr b="0" lang="en-US" sz="2800" spc="-1" strike="noStrike">
              <a:solidFill>
                <a:srgbClr val="000000"/>
              </a:solidFill>
              <a:latin typeface="Arial"/>
            </a:endParaRPr>
          </a:p>
        </p:txBody>
      </p:sp>
      <p:sp>
        <p:nvSpPr>
          <p:cNvPr id="109" name="PlaceHolder 2"/>
          <p:cNvSpPr>
            <a:spLocks noGrp="1"/>
          </p:cNvSpPr>
          <p:nvPr>
            <p:ph/>
          </p:nvPr>
        </p:nvSpPr>
        <p:spPr>
          <a:xfrm>
            <a:off x="914040" y="1599840"/>
            <a:ext cx="8001000" cy="396252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in and bloodline differences in resistance</a:t>
            </a:r>
            <a:endParaRPr b="0" lang="en-US" sz="2000" spc="-1" strike="noStrike">
              <a:solidFill>
                <a:srgbClr val="000000"/>
              </a:solidFill>
              <a:latin typeface="Arial"/>
            </a:endParaRPr>
          </a:p>
          <a:p>
            <a:pPr lvl="1" marL="743040" indent="-28584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differences for fleece rot and body strike</a:t>
            </a:r>
            <a:endParaRPr b="0" lang="en-US" sz="2000" spc="-1" strike="noStrike">
              <a:solidFill>
                <a:srgbClr val="000000"/>
              </a:solidFill>
              <a:latin typeface="Arial"/>
            </a:endParaRPr>
          </a:p>
          <a:p>
            <a:pPr lvl="1" marL="743040" indent="-28584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er differences for dermatophilosis and footrot</a:t>
            </a:r>
            <a:endParaRPr b="0" lang="en-US" sz="2000" spc="-1" strike="noStrike">
              <a:solidFill>
                <a:srgbClr val="000000"/>
              </a:solidFill>
              <a:latin typeface="Arial"/>
            </a:endParaRPr>
          </a:p>
          <a:p>
            <a:pPr lvl="1" marL="743040" indent="-28584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differences for gastrointestinal roundworm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s across flocks</a:t>
            </a:r>
            <a:endParaRPr b="0" lang="en-US" sz="2000" spc="-1" strike="noStrike">
              <a:solidFill>
                <a:srgbClr val="000000"/>
              </a:solidFill>
              <a:latin typeface="Arial"/>
            </a:endParaRPr>
          </a:p>
          <a:p>
            <a:pPr lvl="1" marL="743040" indent="-28584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differences between sires for gastrointestinal roundworm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genetic markers to select for major resistance gene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00C5B2-77CC-4CC7-9B98-FF9F8A1928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6T03:10:30Z</dcterms:created>
  <dc:creator>Cottle</dc:creator>
  <dc:description/>
  <dc:language>en-US</dc:language>
  <cp:lastModifiedBy>mwatson2</cp:lastModifiedBy>
  <dcterms:modified xsi:type="dcterms:W3CDTF">2005-01-31T01:17:09Z</dcterms:modified>
  <cp:revision>54</cp:revision>
  <dc:subject/>
  <dc:title>Slide 1</dc:title>
</cp:coreProperties>
</file>