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6D18C-3558-471E-A58C-C2D6A5AC2A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DA946-7BD3-4A4F-B341-FBB0FD06BD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925A1-690A-44C2-88E4-5CFBB49E52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73A05-AC73-4EA4-94C2-F11F31A4A9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12A68-A22E-4F11-BB39-41B92607A7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C45DC-B580-4554-BA6D-04B5CDE567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15034-4167-4102-AABF-17C7EDB73D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125C6-E8A2-440E-BAA8-4302396A66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22166-E40A-48AA-80D5-AC6A0D087C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F2095-0703-4944-9679-AC2CF4B78C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3F6F4-3DC5-43B7-A2B2-6E221CE503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85D1E-3E6E-404B-A323-1635366261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06B89-4CE4-481A-A12A-DD7D0AC3B2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8CE3D-C5DB-4FA1-8A77-F30FF03FC5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D5437-2254-4907-8A86-1A78DB4142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689DB-71D8-4E82-8454-F856F155EE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B1EC4-1E1A-4512-B23C-51E7F0A090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076DD-CF94-4FE8-A129-5CFA60CAD8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A902E-CD3F-4CCA-8CA0-41983E39AC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D9E1B-29C1-44E9-BD15-9387C90512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3D9A8-0410-433C-BAE7-3B12994A5C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83AAA-2A30-43B7-BAB5-8AAE7D0947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BD698-8109-442D-BBAE-1D0F8FAEC0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069FA-510C-4E54-8244-C6B0B86B5E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CF23-839E-44A4-9467-F7B8A35228BC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DE83-F8FE-4A05-A9E4-2E896C791A04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332280"/>
            <a:ext cx="87487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ing Genetics to Improve Lamb Growth and Meet Carcass Spe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19640" y="45086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15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96D06-8D59-40BF-8E45-47C3DCCDB34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6048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EBVs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978480" y="696240"/>
            <a:ext cx="7729560" cy="4779000"/>
            <a:chOff x="978480" y="696240"/>
            <a:chExt cx="7729560" cy="4779000"/>
          </a:xfrm>
        </p:grpSpPr>
        <p:sp>
          <p:nvSpPr>
            <p:cNvPr id="478" name=""/>
            <p:cNvSpPr/>
            <p:nvPr/>
          </p:nvSpPr>
          <p:spPr>
            <a:xfrm>
              <a:off x="978480" y="696240"/>
              <a:ext cx="7729560" cy="47790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546920" y="1406160"/>
              <a:ext cx="6919200" cy="3434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546920" y="4841280"/>
              <a:ext cx="691920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46920" y="4528440"/>
              <a:ext cx="691920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546920" y="4215960"/>
              <a:ext cx="69192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546920" y="3592440"/>
              <a:ext cx="691920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546920" y="3279960"/>
              <a:ext cx="69192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46920" y="2967480"/>
              <a:ext cx="691920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546920" y="2654640"/>
              <a:ext cx="69192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546920" y="2342520"/>
              <a:ext cx="691920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546920" y="2029680"/>
              <a:ext cx="69192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546920" y="1717560"/>
              <a:ext cx="691920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546920" y="1406160"/>
              <a:ext cx="69192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546920" y="1406160"/>
              <a:ext cx="6919200" cy="343476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46920" y="1406160"/>
              <a:ext cx="1440" cy="3434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06960" y="4841280"/>
              <a:ext cx="3996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506960" y="4528440"/>
              <a:ext cx="3996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506960" y="4215960"/>
              <a:ext cx="39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506960" y="3904920"/>
              <a:ext cx="39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506960" y="3592440"/>
              <a:ext cx="3996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506960" y="3279960"/>
              <a:ext cx="39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506960" y="2967480"/>
              <a:ext cx="3996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506960" y="2654640"/>
              <a:ext cx="39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506960" y="2342520"/>
              <a:ext cx="3996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506960" y="2029680"/>
              <a:ext cx="39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506960" y="1717560"/>
              <a:ext cx="3996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506960" y="1406160"/>
              <a:ext cx="39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546920" y="3904920"/>
              <a:ext cx="69192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1546920" y="3904560"/>
              <a:ext cx="1440" cy="406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2178000" y="3904560"/>
              <a:ext cx="1080" cy="406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2805840" y="3904560"/>
              <a:ext cx="1080" cy="406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3435120" y="3904560"/>
              <a:ext cx="1440" cy="406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4064400" y="3904560"/>
              <a:ext cx="1080" cy="406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4693680" y="3904560"/>
              <a:ext cx="1080" cy="406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5321520" y="3904560"/>
              <a:ext cx="1080" cy="406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5950800" y="3904560"/>
              <a:ext cx="1440" cy="406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6580080" y="3904560"/>
              <a:ext cx="1080" cy="406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7209360" y="3904560"/>
              <a:ext cx="1080" cy="406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7837200" y="3904560"/>
              <a:ext cx="1080" cy="406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8466120" y="3904560"/>
              <a:ext cx="1440" cy="406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829520" y="3870360"/>
              <a:ext cx="106560" cy="10836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458440" y="3823200"/>
              <a:ext cx="106560" cy="1098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086280" y="3623760"/>
              <a:ext cx="108360" cy="1098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715560" y="3603600"/>
              <a:ext cx="108360" cy="1080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344840" y="3485520"/>
              <a:ext cx="108000" cy="1080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974120" y="3400920"/>
              <a:ext cx="108360" cy="1098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603400" y="3111840"/>
              <a:ext cx="106920" cy="10836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233040" y="2874960"/>
              <a:ext cx="106560" cy="1094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861960" y="2607840"/>
              <a:ext cx="106560" cy="1098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9800" y="2278080"/>
              <a:ext cx="106560" cy="1080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119080" y="1657440"/>
              <a:ext cx="106920" cy="1080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829520" y="3870360"/>
              <a:ext cx="106560" cy="10836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458440" y="3917880"/>
              <a:ext cx="106560" cy="10800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086280" y="3909960"/>
              <a:ext cx="108360" cy="10800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715560" y="3966120"/>
              <a:ext cx="108360" cy="10836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344840" y="4005720"/>
              <a:ext cx="108000" cy="10800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974120" y="4057200"/>
              <a:ext cx="108360" cy="10800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603400" y="4102920"/>
              <a:ext cx="106920" cy="10800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233040" y="4172040"/>
              <a:ext cx="106560" cy="10980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861960" y="4195440"/>
              <a:ext cx="106560" cy="10800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89800" y="4289760"/>
              <a:ext cx="106560" cy="1094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119080" y="4393440"/>
              <a:ext cx="106920" cy="10800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29520" y="3870360"/>
              <a:ext cx="106560" cy="108360"/>
            </a:xfrm>
            <a:custGeom>
              <a:avLst/>
              <a:gdLst/>
              <a:ahLst/>
              <a:rect l="l" t="t" r="r" b="b"/>
              <a:pathLst>
                <a:path w="139" h="139">
                  <a:moveTo>
                    <a:pt x="69" y="0"/>
                  </a:moveTo>
                  <a:lnTo>
                    <a:pt x="139" y="69"/>
                  </a:lnTo>
                  <a:lnTo>
                    <a:pt x="69" y="139"/>
                  </a:lnTo>
                  <a:lnTo>
                    <a:pt x="0" y="69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458440" y="3902040"/>
              <a:ext cx="106560" cy="108000"/>
            </a:xfrm>
            <a:custGeom>
              <a:avLst/>
              <a:gdLst/>
              <a:ahLst/>
              <a:rect l="l" t="t" r="r" b="b"/>
              <a:pathLst>
                <a:path w="139" h="138">
                  <a:moveTo>
                    <a:pt x="69" y="0"/>
                  </a:moveTo>
                  <a:lnTo>
                    <a:pt x="139" y="69"/>
                  </a:lnTo>
                  <a:lnTo>
                    <a:pt x="69" y="138"/>
                  </a:lnTo>
                  <a:lnTo>
                    <a:pt x="0" y="69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086280" y="3979080"/>
              <a:ext cx="108360" cy="10944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69" y="0"/>
                  </a:moveTo>
                  <a:lnTo>
                    <a:pt x="138" y="69"/>
                  </a:lnTo>
                  <a:lnTo>
                    <a:pt x="69" y="138"/>
                  </a:lnTo>
                  <a:lnTo>
                    <a:pt x="0" y="69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715560" y="3971160"/>
              <a:ext cx="108360" cy="108000"/>
            </a:xfrm>
            <a:custGeom>
              <a:avLst/>
              <a:gdLst/>
              <a:ahLst/>
              <a:rect l="l" t="t" r="r" b="b"/>
              <a:pathLst>
                <a:path w="138" h="139">
                  <a:moveTo>
                    <a:pt x="69" y="0"/>
                  </a:moveTo>
                  <a:lnTo>
                    <a:pt x="138" y="69"/>
                  </a:lnTo>
                  <a:lnTo>
                    <a:pt x="69" y="139"/>
                  </a:lnTo>
                  <a:lnTo>
                    <a:pt x="0" y="69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344840" y="3926880"/>
              <a:ext cx="108000" cy="10980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69" y="0"/>
                  </a:moveTo>
                  <a:lnTo>
                    <a:pt x="138" y="69"/>
                  </a:lnTo>
                  <a:lnTo>
                    <a:pt x="69" y="138"/>
                  </a:lnTo>
                  <a:lnTo>
                    <a:pt x="0" y="69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974120" y="3911400"/>
              <a:ext cx="108360" cy="109800"/>
            </a:xfrm>
            <a:custGeom>
              <a:avLst/>
              <a:gdLst/>
              <a:ahLst/>
              <a:rect l="l" t="t" r="r" b="b"/>
              <a:pathLst>
                <a:path w="138" h="139">
                  <a:moveTo>
                    <a:pt x="69" y="0"/>
                  </a:moveTo>
                  <a:lnTo>
                    <a:pt x="138" y="69"/>
                  </a:lnTo>
                  <a:lnTo>
                    <a:pt x="69" y="139"/>
                  </a:lnTo>
                  <a:lnTo>
                    <a:pt x="0" y="69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603400" y="3903480"/>
              <a:ext cx="106920" cy="108000"/>
            </a:xfrm>
            <a:custGeom>
              <a:avLst/>
              <a:gdLst/>
              <a:ahLst/>
              <a:rect l="l" t="t" r="r" b="b"/>
              <a:pathLst>
                <a:path w="139" h="139">
                  <a:moveTo>
                    <a:pt x="70" y="0"/>
                  </a:moveTo>
                  <a:lnTo>
                    <a:pt x="139" y="70"/>
                  </a:lnTo>
                  <a:lnTo>
                    <a:pt x="70" y="139"/>
                  </a:lnTo>
                  <a:lnTo>
                    <a:pt x="0" y="7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33040" y="3887640"/>
              <a:ext cx="106560" cy="108000"/>
            </a:xfrm>
            <a:custGeom>
              <a:avLst/>
              <a:gdLst/>
              <a:ahLst/>
              <a:rect l="l" t="t" r="r" b="b"/>
              <a:pathLst>
                <a:path w="139" h="138">
                  <a:moveTo>
                    <a:pt x="70" y="0"/>
                  </a:moveTo>
                  <a:lnTo>
                    <a:pt x="139" y="69"/>
                  </a:lnTo>
                  <a:lnTo>
                    <a:pt x="70" y="138"/>
                  </a:lnTo>
                  <a:lnTo>
                    <a:pt x="0" y="69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861960" y="3872160"/>
              <a:ext cx="106560" cy="108000"/>
            </a:xfrm>
            <a:custGeom>
              <a:avLst/>
              <a:gdLst/>
              <a:ahLst/>
              <a:rect l="l" t="t" r="r" b="b"/>
              <a:pathLst>
                <a:path w="139" h="138">
                  <a:moveTo>
                    <a:pt x="70" y="0"/>
                  </a:moveTo>
                  <a:lnTo>
                    <a:pt x="139" y="69"/>
                  </a:lnTo>
                  <a:lnTo>
                    <a:pt x="70" y="138"/>
                  </a:lnTo>
                  <a:lnTo>
                    <a:pt x="0" y="69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489800" y="3843720"/>
              <a:ext cx="106560" cy="108360"/>
            </a:xfrm>
            <a:custGeom>
              <a:avLst/>
              <a:gdLst/>
              <a:ahLst/>
              <a:rect l="l" t="t" r="r" b="b"/>
              <a:pathLst>
                <a:path w="138" h="139">
                  <a:moveTo>
                    <a:pt x="69" y="0"/>
                  </a:moveTo>
                  <a:lnTo>
                    <a:pt x="138" y="70"/>
                  </a:lnTo>
                  <a:lnTo>
                    <a:pt x="69" y="139"/>
                  </a:lnTo>
                  <a:lnTo>
                    <a:pt x="0" y="7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119080" y="3760560"/>
              <a:ext cx="106920" cy="108000"/>
            </a:xfrm>
            <a:custGeom>
              <a:avLst/>
              <a:gdLst/>
              <a:ahLst/>
              <a:rect l="l" t="t" r="r" b="b"/>
              <a:pathLst>
                <a:path w="139" h="138">
                  <a:moveTo>
                    <a:pt x="69" y="0"/>
                  </a:moveTo>
                  <a:lnTo>
                    <a:pt x="139" y="69"/>
                  </a:lnTo>
                  <a:lnTo>
                    <a:pt x="69" y="138"/>
                  </a:lnTo>
                  <a:lnTo>
                    <a:pt x="0" y="69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1863360" y="3857760"/>
              <a:ext cx="628920" cy="4680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2492640" y="3658320"/>
              <a:ext cx="627480" cy="19944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3120480" y="3638160"/>
              <a:ext cx="628920" cy="2016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3749400" y="3518280"/>
              <a:ext cx="629280" cy="11916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4379040" y="3435120"/>
              <a:ext cx="628920" cy="8316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5008320" y="3144600"/>
              <a:ext cx="627480" cy="29052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636160" y="2909160"/>
              <a:ext cx="628920" cy="23508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6265080" y="2642040"/>
              <a:ext cx="629280" cy="26676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6894720" y="2310480"/>
              <a:ext cx="627480" cy="33156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7522560" y="1690560"/>
              <a:ext cx="628920" cy="61992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863360" y="3904920"/>
              <a:ext cx="628920" cy="453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2492640" y="3942360"/>
              <a:ext cx="627480" cy="75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120480" y="3942720"/>
              <a:ext cx="628920" cy="579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749400" y="4000680"/>
              <a:ext cx="629280" cy="374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379040" y="4038480"/>
              <a:ext cx="628920" cy="518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008320" y="4090320"/>
              <a:ext cx="627480" cy="453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636160" y="4136040"/>
              <a:ext cx="628920" cy="70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265080" y="4206600"/>
              <a:ext cx="629280" cy="234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894720" y="4230000"/>
              <a:ext cx="627480" cy="943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522560" y="4324320"/>
              <a:ext cx="628920" cy="1015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863360" y="3904920"/>
              <a:ext cx="628920" cy="29880"/>
            </a:xfrm>
            <a:prstGeom prst="line">
              <a:avLst/>
            </a:prstGeom>
            <a:ln w="316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92640" y="3934800"/>
              <a:ext cx="627480" cy="78480"/>
            </a:xfrm>
            <a:prstGeom prst="line">
              <a:avLst/>
            </a:prstGeom>
            <a:ln w="316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3120480" y="4003920"/>
              <a:ext cx="628920" cy="9360"/>
            </a:xfrm>
            <a:prstGeom prst="line">
              <a:avLst/>
            </a:prstGeom>
            <a:ln w="316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3749400" y="3961080"/>
              <a:ext cx="629280" cy="42120"/>
            </a:xfrm>
            <a:prstGeom prst="line">
              <a:avLst/>
            </a:prstGeom>
            <a:ln w="316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379040" y="3945600"/>
              <a:ext cx="628920" cy="15480"/>
            </a:xfrm>
            <a:prstGeom prst="line">
              <a:avLst/>
            </a:prstGeom>
            <a:ln w="316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5008320" y="3936240"/>
              <a:ext cx="627480" cy="9000"/>
            </a:xfrm>
            <a:prstGeom prst="line">
              <a:avLst/>
            </a:prstGeom>
            <a:ln w="316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5636160" y="3920400"/>
              <a:ext cx="628920" cy="15840"/>
            </a:xfrm>
            <a:prstGeom prst="line">
              <a:avLst/>
            </a:prstGeom>
            <a:ln w="316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6265080" y="3904560"/>
              <a:ext cx="629280" cy="15480"/>
            </a:xfrm>
            <a:prstGeom prst="line">
              <a:avLst/>
            </a:prstGeom>
            <a:ln w="316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6894720" y="3876840"/>
              <a:ext cx="627480" cy="28080"/>
            </a:xfrm>
            <a:prstGeom prst="line">
              <a:avLst/>
            </a:prstGeom>
            <a:ln w="316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522560" y="3792960"/>
              <a:ext cx="628920" cy="83160"/>
            </a:xfrm>
            <a:prstGeom prst="line">
              <a:avLst/>
            </a:prstGeom>
            <a:ln w="316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809000" y="3850200"/>
              <a:ext cx="106920" cy="108000"/>
            </a:xfrm>
            <a:prstGeom prst="ellipse">
              <a:avLst/>
            </a:prstGeom>
            <a:solidFill>
              <a:srgbClr val="0000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438640" y="3803040"/>
              <a:ext cx="106560" cy="108000"/>
            </a:xfrm>
            <a:prstGeom prst="ellipse">
              <a:avLst/>
            </a:prstGeom>
            <a:solidFill>
              <a:srgbClr val="0000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066120" y="3603600"/>
              <a:ext cx="106560" cy="108000"/>
            </a:xfrm>
            <a:prstGeom prst="ellipse">
              <a:avLst/>
            </a:prstGeom>
            <a:solidFill>
              <a:srgbClr val="0000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95400" y="3583080"/>
              <a:ext cx="106560" cy="108360"/>
            </a:xfrm>
            <a:prstGeom prst="ellipse">
              <a:avLst/>
            </a:prstGeom>
            <a:solidFill>
              <a:srgbClr val="0000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324680" y="3465360"/>
              <a:ext cx="106920" cy="108000"/>
            </a:xfrm>
            <a:prstGeom prst="ellipse">
              <a:avLst/>
            </a:prstGeom>
            <a:solidFill>
              <a:srgbClr val="0000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954320" y="3380400"/>
              <a:ext cx="108000" cy="108360"/>
            </a:xfrm>
            <a:prstGeom prst="ellipse">
              <a:avLst/>
            </a:prstGeom>
            <a:solidFill>
              <a:srgbClr val="0000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581800" y="3089880"/>
              <a:ext cx="108000" cy="109440"/>
            </a:xfrm>
            <a:prstGeom prst="ellipse">
              <a:avLst/>
            </a:prstGeom>
            <a:solidFill>
              <a:srgbClr val="0000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211080" y="2854080"/>
              <a:ext cx="108360" cy="108360"/>
            </a:xfrm>
            <a:prstGeom prst="ellipse">
              <a:avLst/>
            </a:prstGeom>
            <a:solidFill>
              <a:srgbClr val="0000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842160" y="2587320"/>
              <a:ext cx="106560" cy="108000"/>
            </a:xfrm>
            <a:prstGeom prst="ellipse">
              <a:avLst/>
            </a:prstGeom>
            <a:solidFill>
              <a:srgbClr val="0000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469640" y="2257560"/>
              <a:ext cx="106560" cy="108000"/>
            </a:xfrm>
            <a:prstGeom prst="ellipse">
              <a:avLst/>
            </a:prstGeom>
            <a:solidFill>
              <a:srgbClr val="0000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098920" y="1635480"/>
              <a:ext cx="106560" cy="109800"/>
            </a:xfrm>
            <a:prstGeom prst="ellipse">
              <a:avLst/>
            </a:prstGeom>
            <a:solidFill>
              <a:srgbClr val="0000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809000" y="3850200"/>
              <a:ext cx="106920" cy="10800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438640" y="3897000"/>
              <a:ext cx="106560" cy="1083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066120" y="3889080"/>
              <a:ext cx="106560" cy="1083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695400" y="3945960"/>
              <a:ext cx="106560" cy="10800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324680" y="3984840"/>
              <a:ext cx="106920" cy="1083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954320" y="4037040"/>
              <a:ext cx="108000" cy="10800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81800" y="4082760"/>
              <a:ext cx="108000" cy="10800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211080" y="4151520"/>
              <a:ext cx="108360" cy="10800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42160" y="4175280"/>
              <a:ext cx="106560" cy="10800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469640" y="4269240"/>
              <a:ext cx="106560" cy="10980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098920" y="4371480"/>
              <a:ext cx="106560" cy="10980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809000" y="3850200"/>
              <a:ext cx="106920" cy="10800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69" y="0"/>
                  </a:moveTo>
                  <a:lnTo>
                    <a:pt x="138" y="69"/>
                  </a:lnTo>
                  <a:lnTo>
                    <a:pt x="69" y="138"/>
                  </a:lnTo>
                  <a:lnTo>
                    <a:pt x="0" y="69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9900"/>
            </a:solidFill>
            <a:ln w="11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438640" y="3881520"/>
              <a:ext cx="106560" cy="108000"/>
            </a:xfrm>
            <a:custGeom>
              <a:avLst/>
              <a:gdLst/>
              <a:ahLst/>
              <a:rect l="l" t="t" r="r" b="b"/>
              <a:pathLst>
                <a:path w="138" h="139">
                  <a:moveTo>
                    <a:pt x="69" y="0"/>
                  </a:moveTo>
                  <a:lnTo>
                    <a:pt x="138" y="70"/>
                  </a:lnTo>
                  <a:lnTo>
                    <a:pt x="69" y="139"/>
                  </a:lnTo>
                  <a:lnTo>
                    <a:pt x="0" y="7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9900"/>
            </a:solidFill>
            <a:ln w="11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066120" y="3958200"/>
              <a:ext cx="106560" cy="108360"/>
            </a:xfrm>
            <a:custGeom>
              <a:avLst/>
              <a:gdLst/>
              <a:ahLst/>
              <a:rect l="l" t="t" r="r" b="b"/>
              <a:pathLst>
                <a:path w="139" h="139">
                  <a:moveTo>
                    <a:pt x="70" y="0"/>
                  </a:moveTo>
                  <a:lnTo>
                    <a:pt x="139" y="70"/>
                  </a:lnTo>
                  <a:lnTo>
                    <a:pt x="70" y="139"/>
                  </a:lnTo>
                  <a:lnTo>
                    <a:pt x="0" y="7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9900"/>
            </a:solidFill>
            <a:ln w="11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695400" y="3949200"/>
              <a:ext cx="106560" cy="109440"/>
            </a:xfrm>
            <a:custGeom>
              <a:avLst/>
              <a:gdLst/>
              <a:ahLst/>
              <a:rect l="l" t="t" r="r" b="b"/>
              <a:pathLst>
                <a:path w="139" h="138">
                  <a:moveTo>
                    <a:pt x="70" y="0"/>
                  </a:moveTo>
                  <a:lnTo>
                    <a:pt x="139" y="69"/>
                  </a:lnTo>
                  <a:lnTo>
                    <a:pt x="70" y="138"/>
                  </a:lnTo>
                  <a:lnTo>
                    <a:pt x="0" y="69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9900"/>
            </a:solidFill>
            <a:ln w="11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324680" y="3906720"/>
              <a:ext cx="106920" cy="108000"/>
            </a:xfrm>
            <a:custGeom>
              <a:avLst/>
              <a:gdLst/>
              <a:ahLst/>
              <a:rect l="l" t="t" r="r" b="b"/>
              <a:pathLst>
                <a:path w="139" h="139">
                  <a:moveTo>
                    <a:pt x="70" y="0"/>
                  </a:moveTo>
                  <a:lnTo>
                    <a:pt x="139" y="70"/>
                  </a:lnTo>
                  <a:lnTo>
                    <a:pt x="70" y="139"/>
                  </a:lnTo>
                  <a:lnTo>
                    <a:pt x="0" y="7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9900"/>
            </a:solidFill>
            <a:ln w="11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54320" y="3890880"/>
              <a:ext cx="108000" cy="109440"/>
            </a:xfrm>
            <a:custGeom>
              <a:avLst/>
              <a:gdLst/>
              <a:ahLst/>
              <a:rect l="l" t="t" r="r" b="b"/>
              <a:pathLst>
                <a:path w="139" h="139">
                  <a:moveTo>
                    <a:pt x="70" y="0"/>
                  </a:moveTo>
                  <a:lnTo>
                    <a:pt x="139" y="70"/>
                  </a:lnTo>
                  <a:lnTo>
                    <a:pt x="70" y="139"/>
                  </a:lnTo>
                  <a:lnTo>
                    <a:pt x="0" y="7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9900"/>
            </a:solidFill>
            <a:ln w="11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581800" y="3881520"/>
              <a:ext cx="108000" cy="109800"/>
            </a:xfrm>
            <a:custGeom>
              <a:avLst/>
              <a:gdLst/>
              <a:ahLst/>
              <a:rect l="l" t="t" r="r" b="b"/>
              <a:pathLst>
                <a:path w="138" h="139">
                  <a:moveTo>
                    <a:pt x="69" y="0"/>
                  </a:moveTo>
                  <a:lnTo>
                    <a:pt x="138" y="69"/>
                  </a:lnTo>
                  <a:lnTo>
                    <a:pt x="69" y="139"/>
                  </a:lnTo>
                  <a:lnTo>
                    <a:pt x="0" y="69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9900"/>
            </a:solidFill>
            <a:ln w="11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211080" y="3867480"/>
              <a:ext cx="108360" cy="108000"/>
            </a:xfrm>
            <a:custGeom>
              <a:avLst/>
              <a:gdLst/>
              <a:ahLst/>
              <a:rect l="l" t="t" r="r" b="b"/>
              <a:pathLst>
                <a:path w="139" h="139">
                  <a:moveTo>
                    <a:pt x="69" y="0"/>
                  </a:moveTo>
                  <a:lnTo>
                    <a:pt x="139" y="69"/>
                  </a:lnTo>
                  <a:lnTo>
                    <a:pt x="69" y="139"/>
                  </a:lnTo>
                  <a:lnTo>
                    <a:pt x="0" y="69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9900"/>
            </a:solidFill>
            <a:ln w="11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842160" y="3851280"/>
              <a:ext cx="106560" cy="108360"/>
            </a:xfrm>
            <a:custGeom>
              <a:avLst/>
              <a:gdLst/>
              <a:ahLst/>
              <a:rect l="l" t="t" r="r" b="b"/>
              <a:pathLst>
                <a:path w="139" h="139">
                  <a:moveTo>
                    <a:pt x="69" y="0"/>
                  </a:moveTo>
                  <a:lnTo>
                    <a:pt x="139" y="70"/>
                  </a:lnTo>
                  <a:lnTo>
                    <a:pt x="69" y="139"/>
                  </a:lnTo>
                  <a:lnTo>
                    <a:pt x="0" y="7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9900"/>
            </a:solidFill>
            <a:ln w="11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469640" y="3823200"/>
              <a:ext cx="106560" cy="108000"/>
            </a:xfrm>
            <a:custGeom>
              <a:avLst/>
              <a:gdLst/>
              <a:ahLst/>
              <a:rect l="l" t="t" r="r" b="b"/>
              <a:pathLst>
                <a:path w="139" h="139">
                  <a:moveTo>
                    <a:pt x="70" y="0"/>
                  </a:moveTo>
                  <a:lnTo>
                    <a:pt x="139" y="69"/>
                  </a:lnTo>
                  <a:lnTo>
                    <a:pt x="70" y="139"/>
                  </a:lnTo>
                  <a:lnTo>
                    <a:pt x="0" y="69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9900"/>
            </a:solidFill>
            <a:ln w="11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098920" y="3740040"/>
              <a:ext cx="106560" cy="108360"/>
            </a:xfrm>
            <a:custGeom>
              <a:avLst/>
              <a:gdLst/>
              <a:ahLst/>
              <a:rect l="l" t="t" r="r" b="b"/>
              <a:pathLst>
                <a:path w="138" h="139">
                  <a:moveTo>
                    <a:pt x="69" y="0"/>
                  </a:moveTo>
                  <a:lnTo>
                    <a:pt x="138" y="70"/>
                  </a:lnTo>
                  <a:lnTo>
                    <a:pt x="69" y="139"/>
                  </a:lnTo>
                  <a:lnTo>
                    <a:pt x="0" y="7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9900"/>
            </a:solidFill>
            <a:ln w="11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331440" y="837720"/>
              <a:ext cx="1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342080" y="4763880"/>
              <a:ext cx="10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-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342080" y="4452840"/>
              <a:ext cx="10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342080" y="4140720"/>
              <a:ext cx="10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385280" y="3827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385280" y="3515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385280" y="32029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385280" y="2890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385280" y="25779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320120" y="226548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320120" y="195408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320120" y="164196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20120" y="132912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733400" y="4957200"/>
              <a:ext cx="25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99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362680" y="4957200"/>
              <a:ext cx="25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99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990160" y="4957200"/>
              <a:ext cx="25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99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619800" y="4957200"/>
              <a:ext cx="25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99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249080" y="4957200"/>
              <a:ext cx="25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99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878360" y="4957200"/>
              <a:ext cx="25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99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507640" y="4957200"/>
              <a:ext cx="25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99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136920" y="4957200"/>
              <a:ext cx="25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99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766200" y="4957200"/>
              <a:ext cx="25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99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393680" y="4957200"/>
              <a:ext cx="25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9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023320" y="4957200"/>
              <a:ext cx="25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642200" y="5178960"/>
              <a:ext cx="727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Year of Bir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16200000">
              <a:off x="741960" y="3052800"/>
              <a:ext cx="898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% Improv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82520" y="1579320"/>
              <a:ext cx="1118880" cy="63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163960" y="1679760"/>
              <a:ext cx="241560" cy="108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243160" y="1637280"/>
              <a:ext cx="82080" cy="82800"/>
            </a:xfrm>
            <a:prstGeom prst="ellipse">
              <a:avLst/>
            </a:prstGeom>
            <a:solidFill>
              <a:srgbClr val="0000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436120" y="1615320"/>
              <a:ext cx="42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Grow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163960" y="1890000"/>
              <a:ext cx="241560" cy="10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243160" y="1849320"/>
              <a:ext cx="82080" cy="831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436480" y="1827000"/>
              <a:ext cx="18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163960" y="2103480"/>
              <a:ext cx="241560" cy="1440"/>
            </a:xfrm>
            <a:prstGeom prst="line">
              <a:avLst/>
            </a:prstGeom>
            <a:ln w="316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43160" y="2061000"/>
              <a:ext cx="82080" cy="8316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53" y="0"/>
                  </a:moveTo>
                  <a:lnTo>
                    <a:pt x="106" y="53"/>
                  </a:lnTo>
                  <a:lnTo>
                    <a:pt x="53" y="106"/>
                  </a:lnTo>
                  <a:lnTo>
                    <a:pt x="0" y="53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9900"/>
            </a:solidFill>
            <a:ln w="11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437920" y="203940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usc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7093080" y="10008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LAMB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476360" y="76500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inal Sire Impr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F58B9-B6F1-4D83-AFCE-A724FDE03A9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6858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EBVs work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201080" cy="501336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6877080" y="1159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from (Hall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00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9FC87-5192-4632-AE34-CC5BE890508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23640" y="12492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ing EBVs and indexes to select rams for target marke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80010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igh index (CARCASE+) rams will produce fast growing lambs with lean, well muscled carc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BVs to select rams to produce lambs for particular market specific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xport: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igh EBVywt, low EBVyf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omestic: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igh EBVpwwt, moderate EBVpwf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4F4EA-1241-4F76-9843-6398A8B92E8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62452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ibution of the ew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4000" y="2492280"/>
            <a:ext cx="80010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tability (up to $50/ewe/y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mb growth, leanness and musc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rtion of lambs meeting carcass specific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11280" y="184464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tics of the crossbred ewe markedly affe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90C75-7F66-4318-A228-2E8CC280BDE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6534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uch are EBVs worth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7610400" cy="32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dditional value of high EBVs depend on the number of lambs produced and their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xtra value of lamb produced from +1 kg EBVpwwt is about $200 at current p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xtra value of lamb produced from a top 10% ram over an average ram is $670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488CC-DB2B-4027-AFC6-D6D476A8B4A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/>
          </p:nvPr>
        </p:nvSpPr>
        <p:spPr>
          <a:xfrm>
            <a:off x="826560" y="22050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694BF-2F83-41D6-A46E-5BBBE9D42081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73454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 covered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3757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ce and genetic variation of growth and carcass traits in lamb prod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MBPLAN, estimated breeding values (EBVs) and index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select rams to achieve improved growth and carcasses in commercial lam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tic contribution of the ewe flock to growth and carcass of lam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the $ value of EBV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3BA99-D6DF-4A74-AEAC-66D4CB0B1C9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7200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are lamb growth and meeting carcass specifications important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66840" y="1165680"/>
            <a:ext cx="7850520" cy="4476600"/>
            <a:chOff x="366840" y="1165680"/>
            <a:chExt cx="7850520" cy="4476600"/>
          </a:xfrm>
        </p:grpSpPr>
        <p:sp>
          <p:nvSpPr>
            <p:cNvPr id="91" name=""/>
            <p:cNvSpPr/>
            <p:nvPr/>
          </p:nvSpPr>
          <p:spPr>
            <a:xfrm>
              <a:off x="366840" y="1165680"/>
              <a:ext cx="7850520" cy="447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95800" y="1997280"/>
              <a:ext cx="6126120" cy="3007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95800" y="1997280"/>
              <a:ext cx="6126120" cy="3007800"/>
            </a:xfrm>
            <a:prstGeom prst="rect">
              <a:avLst/>
            </a:prstGeom>
            <a:noFill/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95800" y="1997280"/>
              <a:ext cx="1440" cy="300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46480" y="5005080"/>
              <a:ext cx="48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446480" y="4753800"/>
              <a:ext cx="4896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46480" y="4505040"/>
              <a:ext cx="4896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46480" y="4253040"/>
              <a:ext cx="4896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46480" y="4002480"/>
              <a:ext cx="48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46480" y="3752280"/>
              <a:ext cx="4896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446480" y="3502080"/>
              <a:ext cx="48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46480" y="3250440"/>
              <a:ext cx="4896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46480" y="2999880"/>
              <a:ext cx="48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46480" y="2749680"/>
              <a:ext cx="4896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46480" y="2498040"/>
              <a:ext cx="4896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46480" y="2249280"/>
              <a:ext cx="4896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46480" y="1997280"/>
              <a:ext cx="48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95800" y="5005080"/>
              <a:ext cx="61261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1495800" y="5004720"/>
              <a:ext cx="1440" cy="46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2722320" y="5004720"/>
              <a:ext cx="1080" cy="46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3946680" y="5004720"/>
              <a:ext cx="1440" cy="46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5171400" y="5004720"/>
              <a:ext cx="1080" cy="46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6397560" y="5004720"/>
              <a:ext cx="1440" cy="46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7622280" y="5004720"/>
              <a:ext cx="1080" cy="46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52680" y="1374120"/>
              <a:ext cx="776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Lamb ~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28840" y="1374120"/>
              <a:ext cx="2856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Times New Roman"/>
                </a:rPr>
                <a:t>Preferred Market Specification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86280" y="4932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86280" y="4681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99520" y="44316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99520" y="41796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99520" y="393084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99520" y="3679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99520" y="342864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99520" y="317844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99520" y="292644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99520" y="267624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99520" y="242604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99520" y="217584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99520" y="192384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51520" y="5193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78040" y="5193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58480" y="51930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81760" y="51930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08640" y="51930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34080" y="51930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01160" y="5399640"/>
              <a:ext cx="176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R Tissue Depth (mm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207360" y="3320280"/>
              <a:ext cx="156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arcase Weight (kg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11160" y="1956960"/>
              <a:ext cx="2804040" cy="1378800"/>
            </a:xfrm>
            <a:prstGeom prst="rect">
              <a:avLst/>
            </a:prstGeom>
            <a:solidFill>
              <a:srgbClr val="ff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36360" y="1992960"/>
              <a:ext cx="64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xport 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50880" y="1992960"/>
              <a:ext cx="1617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often trimmed back 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33840" y="2204280"/>
              <a:ext cx="137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17 mm equivale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32440" y="3260880"/>
              <a:ext cx="1215360" cy="525600"/>
            </a:xfrm>
            <a:prstGeom prst="rect">
              <a:avLst/>
            </a:prstGeom>
            <a:solidFill>
              <a:srgbClr val="ff99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12240" y="3296520"/>
              <a:ext cx="46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ra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32440" y="2494800"/>
              <a:ext cx="1692000" cy="767160"/>
            </a:xfrm>
            <a:prstGeom prst="rect">
              <a:avLst/>
            </a:prstGeom>
            <a:solidFill>
              <a:srgbClr val="00ff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59320" y="2530800"/>
              <a:ext cx="1064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xport FAR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87920" y="4022280"/>
              <a:ext cx="1245960" cy="799920"/>
            </a:xfrm>
            <a:prstGeom prst="rect">
              <a:avLst/>
            </a:prstGeom>
            <a:solidFill>
              <a:srgbClr val="ffff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48640" y="4059720"/>
              <a:ext cx="53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42160" y="426924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idd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44760" y="4480920"/>
              <a:ext cx="33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a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32440" y="2880000"/>
              <a:ext cx="1215360" cy="382320"/>
            </a:xfrm>
            <a:prstGeom prst="rect">
              <a:avLst/>
            </a:prstGeom>
            <a:solidFill>
              <a:srgbClr val="99cc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53040" y="2916000"/>
              <a:ext cx="999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eavy Tra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5510880" y="1953720"/>
              <a:ext cx="853920" cy="1382400"/>
              <a:chOff x="5510880" y="1953720"/>
              <a:chExt cx="853920" cy="1382400"/>
            </a:xfrm>
          </p:grpSpPr>
          <p:grpSp>
            <p:nvGrpSpPr>
              <p:cNvPr id="153" name=""/>
              <p:cNvGrpSpPr/>
              <p:nvPr/>
            </p:nvGrpSpPr>
            <p:grpSpPr>
              <a:xfrm>
                <a:off x="5513400" y="1956600"/>
                <a:ext cx="849600" cy="1377360"/>
                <a:chOff x="5513400" y="1956600"/>
                <a:chExt cx="849600" cy="137736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5513400" y="1956600"/>
                  <a:ext cx="848160" cy="1375560"/>
                </a:xfrm>
                <a:prstGeom prst="rect">
                  <a:avLst/>
                </a:prstGeom>
                <a:solidFill>
                  <a:srgbClr val="ff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513400" y="1956600"/>
                  <a:ext cx="848160" cy="1375560"/>
                </a:xfrm>
                <a:prstGeom prst="rect">
                  <a:avLst/>
                </a:prstGeom>
                <a:solidFill>
                  <a:srgbClr val="ff8080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513400" y="1956600"/>
                  <a:ext cx="849600" cy="137736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513400" y="1956600"/>
                  <a:ext cx="848160" cy="1375560"/>
                </a:xfrm>
                <a:prstGeom prst="rect">
                  <a:avLst/>
                </a:prstGeom>
                <a:solidFill>
                  <a:srgbClr val="ff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5510880" y="1956600"/>
                <a:ext cx="853920" cy="1379520"/>
                <a:chOff x="5510880" y="1956600"/>
                <a:chExt cx="853920" cy="13795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5510880" y="195660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510880" y="197136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510880" y="198648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510880" y="199980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510880" y="2014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510880" y="202968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510880" y="2044800"/>
                  <a:ext cx="7560" cy="5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510880" y="205848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510880" y="207324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510880" y="208836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510880" y="210168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510880" y="211680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510880" y="2131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510880" y="2146680"/>
                  <a:ext cx="7560" cy="5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510880" y="216036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510880" y="21751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510880" y="219024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510880" y="2203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510880" y="221868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510880" y="223380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510880" y="2248560"/>
                  <a:ext cx="7560" cy="5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510880" y="226224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510880" y="227736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510880" y="22921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510880" y="230580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510880" y="232056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510880" y="233568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510880" y="2350440"/>
                  <a:ext cx="7560" cy="5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510880" y="2363760"/>
                  <a:ext cx="7560" cy="7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5510880" y="237924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510880" y="239400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510880" y="24073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510880" y="2422440"/>
                  <a:ext cx="7560" cy="7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510880" y="243756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510880" y="2452680"/>
                  <a:ext cx="7560" cy="5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510880" y="246564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510880" y="2480760"/>
                  <a:ext cx="7560" cy="7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510880" y="249588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510880" y="250920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510880" y="25243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510880" y="253908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510880" y="2554560"/>
                  <a:ext cx="7560" cy="5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510880" y="256788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510880" y="258264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510880" y="259776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510880" y="261108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510880" y="262620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510880" y="264096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510880" y="2656080"/>
                  <a:ext cx="7560" cy="5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510880" y="266976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510880" y="26845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510880" y="269964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510880" y="271296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510880" y="272808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510880" y="274320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510880" y="2757960"/>
                  <a:ext cx="7560" cy="5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510880" y="277164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510880" y="278640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510880" y="28015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510880" y="281520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510880" y="282996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510880" y="284508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510880" y="2859840"/>
                  <a:ext cx="7560" cy="5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510880" y="28735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510880" y="288864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510880" y="290340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510880" y="291708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510880" y="293184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510880" y="294696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510880" y="2961720"/>
                  <a:ext cx="7560" cy="5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510880" y="297540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510880" y="29905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510880" y="300528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510880" y="301896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510880" y="303408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510880" y="304884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510880" y="3063960"/>
                  <a:ext cx="7560" cy="5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510880" y="307728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510880" y="309240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5510880" y="310716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510880" y="312048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510880" y="313596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510880" y="31507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510880" y="3165840"/>
                  <a:ext cx="7560" cy="5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510880" y="317916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510880" y="3193920"/>
                  <a:ext cx="7560" cy="7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510880" y="320940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510880" y="322236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510880" y="323748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510880" y="3252240"/>
                  <a:ext cx="7560" cy="7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5510880" y="3267720"/>
                  <a:ext cx="7560" cy="5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510880" y="328104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510880" y="329580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510880" y="3310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510880" y="332460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521680" y="3328920"/>
                  <a:ext cx="900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538240" y="3328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553720" y="3328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569200" y="3328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584320" y="3328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599800" y="3328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615640" y="3328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631120" y="3328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646240" y="3328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661720" y="3328920"/>
                  <a:ext cx="900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678640" y="3328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693760" y="3328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709240" y="3328920"/>
                  <a:ext cx="792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725080" y="3328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740560" y="3328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5755680" y="3328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771160" y="3328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786640" y="3328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802120" y="3328920"/>
                  <a:ext cx="93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819040" y="3328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834520" y="3328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850000" y="3328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865120" y="3328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880600" y="3328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896080" y="3328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5911560" y="3328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926680" y="3328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942160" y="3328920"/>
                  <a:ext cx="93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959440" y="3328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974560" y="3328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5990040" y="3328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6005520" y="3328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6021000" y="3328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036120" y="3328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6051600" y="3328920"/>
                  <a:ext cx="792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6067440" y="3328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082920" y="3328920"/>
                  <a:ext cx="900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099480" y="3328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114960" y="3328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130440" y="3328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6145560" y="3328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161400" y="3328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176880" y="3328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192360" y="3328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207480" y="3328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222960" y="3328920"/>
                  <a:ext cx="900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39880" y="3328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255360" y="3328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270840" y="3328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286320" y="3328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301800" y="3328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316920" y="3328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332400" y="3328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347880" y="33289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357240" y="332316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6357240" y="330804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6357240" y="329328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357240" y="327960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6357240" y="326448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357240" y="32497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357240" y="3236040"/>
                  <a:ext cx="7560" cy="5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357240" y="322128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6357240" y="320616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357240" y="319140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357240" y="31777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357240" y="316260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357240" y="314784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357240" y="3134160"/>
                  <a:ext cx="7560" cy="5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357240" y="311904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357240" y="310428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357240" y="308916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357240" y="307584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357240" y="30607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357240" y="304596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357240" y="3032280"/>
                  <a:ext cx="7560" cy="5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357240" y="301716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357240" y="300240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357240" y="298728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357240" y="297360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357240" y="295884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357240" y="29437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357240" y="2930400"/>
                  <a:ext cx="7560" cy="5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6357240" y="291528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357240" y="29005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357240" y="288540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357240" y="28717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357240" y="285696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357240" y="284184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357240" y="2828520"/>
                  <a:ext cx="7560" cy="5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357240" y="281340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357240" y="279828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357240" y="27835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357240" y="277020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357240" y="275508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357240" y="273996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357240" y="2726640"/>
                  <a:ext cx="7560" cy="5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357240" y="271188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357240" y="2696400"/>
                  <a:ext cx="7560" cy="7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357240" y="268164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357240" y="266832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357240" y="265320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357240" y="2638080"/>
                  <a:ext cx="7560" cy="7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357240" y="2624760"/>
                  <a:ext cx="7560" cy="5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357240" y="261000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357240" y="2594880"/>
                  <a:ext cx="7560" cy="7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9" name=""/>
              <p:cNvSpPr/>
              <p:nvPr/>
            </p:nvSpPr>
            <p:spPr>
              <a:xfrm>
                <a:off x="6357240" y="2579760"/>
                <a:ext cx="7560" cy="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357240" y="256644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357240" y="255168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357240" y="253656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357240" y="2523240"/>
                <a:ext cx="7560" cy="5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357240" y="25081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357240" y="249336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357240" y="247824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357240" y="246456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357240" y="244980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357240" y="243468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357240" y="2421000"/>
                <a:ext cx="7560" cy="5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357240" y="240624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357240" y="23911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357240" y="237636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357240" y="236268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357240" y="23479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357240" y="233280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357240" y="2319120"/>
                <a:ext cx="7560" cy="5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357240" y="230436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357240" y="228924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357240" y="227448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357240" y="226080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357240" y="224568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357240" y="22309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357240" y="2217240"/>
                <a:ext cx="7560" cy="5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357240" y="220248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357240" y="218736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357240" y="217224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357240" y="21589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357240" y="214380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357240" y="212904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357240" y="2115360"/>
                <a:ext cx="7560" cy="5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357240" y="210024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357240" y="208548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357240" y="207036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357240" y="205704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357240" y="20419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357240" y="202680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357240" y="2013840"/>
                <a:ext cx="7560" cy="5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357240" y="1998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357240" y="198360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357240" y="196848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357240" y="1953720"/>
                <a:ext cx="7560" cy="9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1"/>
                    </a:moveTo>
                    <a:lnTo>
                      <a:pt x="10" y="11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1" y="10"/>
                    </a:lnTo>
                    <a:lnTo>
                      <a:pt x="5" y="10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34320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32808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31260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29712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28164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26472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24924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23376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21864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20316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18768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17184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15672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14124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12432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10884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09372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07788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6240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04728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03180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01632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00084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98392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96844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95296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93784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92236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90688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89140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87628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86080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84352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82804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81292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79744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78196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76684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75136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735520" y="1953720"/>
                <a:ext cx="792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72004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70348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68800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67252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65704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641560" y="1953720"/>
                <a:ext cx="792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62608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61060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59548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8000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56308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547240" y="1953720"/>
                <a:ext cx="792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3212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516640" y="1953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7" name=""/>
          <p:cNvSpPr/>
          <p:nvPr/>
        </p:nvSpPr>
        <p:spPr>
          <a:xfrm>
            <a:off x="7020000" y="119700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LAMB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2C6DA-17DC-49F0-ACFE-E6499CC0813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660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eed and crossbreeding effects for growth trai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nt differences in growth for different types of lamb: 2ndX &gt; 1stX &gt; Mer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breed differences are relatively small (within a breed type eg. terminal si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differences between individual sires within a breed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to select rams with genetics for high grow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F0CEB-5051-4198-9310-64910F2F96B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9134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tic variation for growth trai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55280" y="836280"/>
            <a:ext cx="8001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henotype = Genotype + Environme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itability = proportion of variation passed on to progeny through the g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weight has moderate heritability and improvement can be made by sel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116000" y="436572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403280" y="3357720"/>
            <a:ext cx="6481800" cy="208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eed typ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o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al-purpos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rth weigh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2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ning weigh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2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 weaning weigh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3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2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ng Adu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4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3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ource: from Safari and Fogarty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6920" y="2917800"/>
            <a:ext cx="770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itability of liveweight for wool, dual purpose and meat bree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08ADD-D950-4846-BD80-C7B55997BB2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7489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tic variation for carcass trai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55640" y="980640"/>
            <a:ext cx="777240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differences between breed typ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differences between individual s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cass fat and muscle - moderate heritability and improvement can be made by selec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763640" y="3284640"/>
            <a:ext cx="4681440" cy="232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iv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arc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t dep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2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ye muscle dep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2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ye muscle are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4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n meat yie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t p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t colou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ource: from Safari and Fogarty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08000" y="292428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itability of carcass tra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1E794-6856-4EE7-B30F-C0CB9F89E1C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MBPLA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55280" y="1125360"/>
            <a:ext cx="7689960" cy="37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sheep industry genetic information and evaluation progr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MBPLAN and other services provide EBVs (Estimated Breeding Valu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Vs rank animals on genetic mer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digree links allow across-flock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D54AE-DD0C-43AD-A0FA-2DE5F4D1D3A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65340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BVs and index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826920" y="662040"/>
          <a:ext cx="6193080" cy="4927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662040"/>
                    <a:ext cx="6193080" cy="49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A8984-25F5-46C2-93B2-DA99661CEEB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5742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BVs and inde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80010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Vs rank animals on genetic mer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Vs are calculated from performance data, account for environmental effects and heri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digree links allow across-flock (and across-breed) EBVs to be calcu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ous indexes combine EBVs for traits to match different breeding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cy of EBVs is improved with more sources and better quality of 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BEAF4-7A29-428E-8125-CAFB8A969C2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7T22:02:14Z</dcterms:created>
  <dc:creator>fogartn</dc:creator>
  <dc:description/>
  <dc:language>en-US</dc:language>
  <cp:lastModifiedBy>mwatson2</cp:lastModifiedBy>
  <dcterms:modified xsi:type="dcterms:W3CDTF">2005-01-31T01:17:34Z</dcterms:modified>
  <cp:revision>18</cp:revision>
  <dc:subject/>
  <dc:title>Slide 1</dc:title>
</cp:coreProperties>
</file>