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0E82-8C74-4BFE-8648-FA3585CB1D2F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ABAE3-7F77-4DB7-B269-9D04BF8C4C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D7EE5-DF74-4AD9-A694-9127545C29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25A73-CF5B-45DA-A826-B0308899C4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72870-D64B-4EEE-9D23-9EBC6A9750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C703D-B1E5-44B6-A163-486A485A00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D7658-D555-4456-8495-024E160408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4AFAD-06A7-4CC8-A41C-F95252CCD8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B2B88-3F89-4A5E-9D8C-9C2FB62478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17C30-6D5D-43AA-AD40-0102819B2F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DAAA6-5679-46B2-B03B-C89CDE3228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A7BC1-42F1-4465-9D1D-03B12A62DF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596B8-5428-486E-ADCD-B0ADA1639D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D6A9C-D77C-4220-9D8F-F48B8F31EB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2E143-EB72-403F-A0D4-5AE2AAAD07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AA778-9C83-4F6A-AC41-936947FF95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A4BBF-FA64-491A-B2C5-22863765B9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E3946-5974-471E-93C7-5AB3FF2C8A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CC331-5086-41F1-ACEF-31EFC9BE94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86BFF-E884-435C-B61D-A2117274AC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E8334-4D20-460B-8A38-5982FBF639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B2379-20E3-4C06-9A91-BCD42D12EB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0FDC0-1C8E-4C1F-9CCB-91A3BA7337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2B330-6BD8-46DB-9B1C-75113566CB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15088-F8F3-4B60-9027-D0B62A6745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71DA-7590-46D0-8207-70FB72761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42920" y="9068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87BE-3829-434D-9F84-8365CD69A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920" y="294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sbandry calendars, precision sheep management and benchmark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D3A75-80E4-4913-AB50-9334D411AE3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 of production and price received drive profit for wool grow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71640" y="1700280"/>
          <a:ext cx="6970680" cy="2798640"/>
        </p:xfrm>
        <a:graphic>
          <a:graphicData uri="http://schemas.openxmlformats.org/drawingml/2006/table">
            <a:tbl>
              <a:tblPr/>
              <a:tblGrid>
                <a:gridCol w="2774880"/>
                <a:gridCol w="1463760"/>
                <a:gridCol w="1406520"/>
                <a:gridCol w="1325520"/>
              </a:tblGrid>
              <a:tr h="98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ttom 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p 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 of Production ($/kg clea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7.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6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.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ce Received ($/kg clea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6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7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8.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ivity (kg/ha/100m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3645000" y="5228640"/>
            <a:ext cx="513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: Holmes Sackett and Associates Benchmarking Data (1997/98 – 2001/0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673E8-2786-413B-A08F-265ED9BB9FD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18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 of production and productivity drive profit for lamb produc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16000" y="1628640"/>
          <a:ext cx="6630840" cy="2862360"/>
        </p:xfrm>
        <a:graphic>
          <a:graphicData uri="http://schemas.openxmlformats.org/drawingml/2006/table">
            <a:tbl>
              <a:tblPr/>
              <a:tblGrid>
                <a:gridCol w="2639880"/>
                <a:gridCol w="1392480"/>
                <a:gridCol w="1338120"/>
                <a:gridCol w="1260360"/>
              </a:tblGrid>
              <a:tr h="1004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ttom 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p 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 of Pro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.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.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ce Recei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.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.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.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ivity (kg/ha/100m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3357720" y="5228640"/>
            <a:ext cx="513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: Holmes Sackett and Associates Benchmarking Data (1997/98 – 2001/0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F4107-9248-466F-99CF-42B611EEEFF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ur efficiency is a key driver of profitability in sheep enterpri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971640" y="1773360"/>
          <a:ext cx="6624720" cy="2449440"/>
        </p:xfrm>
        <a:graphic>
          <a:graphicData uri="http://schemas.openxmlformats.org/drawingml/2006/table">
            <a:tbl>
              <a:tblPr/>
              <a:tblGrid>
                <a:gridCol w="1655640"/>
                <a:gridCol w="1657440"/>
                <a:gridCol w="1655640"/>
                <a:gridCol w="1656000"/>
              </a:tblGrid>
              <a:tr h="860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ttom 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p 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al Purp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me Lam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1919880" y="5083920"/>
            <a:ext cx="677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: Holmes Sackett and Associates Benchmarking Data (1997/98 – 2001/02). (DSE’s per Labour Un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4DF58-BC76-4FB9-8E46-F3710D083D8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ing a husbandry calend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1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s to achieving the best comprom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m to increase the per hectare produ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m to increase labour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lambin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 shearing where it fits best from a labour efficiency point of view but not in the middle of w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a strategic program for managing the sheep health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3A8FE-9AE2-45E4-BA36-159C0FB1A07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cision sheep management is about harnessing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73080" y="1201680"/>
            <a:ext cx="7199280" cy="44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3233E-645D-4BBF-94E7-7B5FB15C077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99640" y="19890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DAF15-51EF-4FE6-866D-F3403064125C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00:50:20Z</dcterms:created>
  <dc:creator>Sandy</dc:creator>
  <dc:description/>
  <dc:language>en-US</dc:language>
  <cp:lastModifiedBy>mwatson2</cp:lastModifiedBy>
  <dcterms:modified xsi:type="dcterms:W3CDTF">2005-01-31T01:16:36Z</dcterms:modified>
  <cp:revision>12</cp:revision>
  <dc:subject/>
  <dc:title>Topic 9: Husbandry calendars, precision sheep management and benchmark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51922995</vt:r8>
  </property>
  <property fmtid="{D5CDD505-2E9C-101B-9397-08002B2CF9AE}" pid="3" name="_AuthorEmail">
    <vt:lpwstr>sandy@hs-a.com.au</vt:lpwstr>
  </property>
  <property fmtid="{D5CDD505-2E9C-101B-9397-08002B2CF9AE}" pid="4" name="_AuthorEmailDisplayName">
    <vt:lpwstr>Holmes Sackett &amp; Associates (Sandy)</vt:lpwstr>
  </property>
  <property fmtid="{D5CDD505-2E9C-101B-9397-08002B2CF9AE}" pid="5" name="_EmailSubject">
    <vt:lpwstr>topic 9</vt:lpwstr>
  </property>
  <property fmtid="{D5CDD505-2E9C-101B-9397-08002B2CF9AE}" pid="6" name="_ReviewingToolsShownOnce">
    <vt:lpwstr/>
  </property>
</Properties>
</file>