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303A1-5A3B-4FB9-9987-05BBB208E8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r Chairm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bers of the Boa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dies and Gentlem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F125F7-07D7-4326-877C-6E9828CDEA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85840" y="385164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B2EE68-06AE-4503-B819-BDFB59CC22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8584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6852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3C5F51-82A9-41BE-AD1A-85E735A9D1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813840" y="1980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441480" y="1980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85840" y="3851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813840" y="3851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441480" y="3851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119889-A6D0-48EC-98D8-CB8C0142FD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325300-5041-402F-B452-06F9A7A5858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8584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4501A6-2EDD-4B8B-A115-7E626296CC0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DF4C3D-CF5F-40AC-848D-7FC36BBCCB2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0EE2E0-F763-4C2B-BE91-33A29B51DCD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232460-C32E-4968-83B1-24A558064BF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BF8C83-F3A3-4EB8-83A7-E5EB32BD904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8584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ADE80A-9C38-4420-8ED4-5CB0D945DB1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8584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FE54E9-0B22-4FDD-868C-428F2ADFA8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16852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E57B1C-1213-4DF9-92FF-A41436DDF71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85840" y="385164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534F6F-B304-4D9B-8596-AD5E37F1FB5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85840" y="385164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9D6B61-E599-46BD-BC52-FA3DB95F919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584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16852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8E2826-5B17-41A7-A779-03101895FC1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13840" y="1980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441480" y="1980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85840" y="3851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813840" y="3851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441480" y="3851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E4E6B7-924E-401D-8F55-21305C87F2E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62E4FA-CCB5-4FE2-864D-F2400CACD1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1C5C74-41C6-4F75-94E7-1E5AD2C3F3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7D639-D962-4113-9231-8DECC6D8F3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A76420-CE00-45EE-8EA4-0E1E365C64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8584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F8E12E-19DC-434E-B4F0-06D27278C6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6852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13E7F7-BECF-4540-9B41-0E3BEA92D0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584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852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5840" y="385164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B36E04-BE70-41E6-BC82-A05138073E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8584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b9bc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0" y="5651640"/>
            <a:ext cx="9144000" cy="853920"/>
          </a:xfrm>
          <a:prstGeom prst="rect">
            <a:avLst/>
          </a:prstGeom>
          <a:ln w="0">
            <a:noFill/>
          </a:ln>
        </p:spPr>
      </p:pic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6350040" y="5270400"/>
            <a:ext cx="1127160" cy="16002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477120" y="6477120"/>
            <a:ext cx="26668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6BAD6-333A-48A2-BEAF-82439BFFA386}" type="slidenum">
              <a:rPr b="0" lang="en-A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95400" y="312840"/>
            <a:ext cx="777240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ldNum" idx="2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95F5A-DB1F-4CA5-B4F3-849B30A57942}" type="slidenum">
              <a:rPr b="0" lang="en-A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380880" cy="2133720"/>
          </a:xfrm>
          <a:prstGeom prst="rect">
            <a:avLst/>
          </a:prstGeom>
          <a:solidFill>
            <a:srgbClr val="b9bc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0" y="2133720"/>
            <a:ext cx="9144000" cy="17492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3479760"/>
            <a:ext cx="380880" cy="3378240"/>
          </a:xfrm>
          <a:prstGeom prst="rect">
            <a:avLst/>
          </a:prstGeom>
          <a:solidFill>
            <a:srgbClr val="b9bc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71640" y="475560"/>
            <a:ext cx="755784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ime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nd Frequency of Shearing, Preparation for Shea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843280" y="4437000"/>
            <a:ext cx="403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pic 4 – Lecture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F6FA35-A6D9-4480-AF42-6D84A14EA372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requency of Shearing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71280" y="1125360"/>
            <a:ext cx="7064280" cy="35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ditionally once per y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fine wools are becoming too long for end user requir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equency can be increased to 3 times in 2 years to combat this probl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effect other wool characteristics (eg micron, staple strength et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ials currently being undertaken to assess this issu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17A136-3956-4B87-8BEA-F53E356BF44A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95280" y="11592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 of Shea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87280" y="1052640"/>
            <a:ext cx="67723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luenced b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 management events (eg lamb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ather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y suscepti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effe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ple Strength and Position of Bre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getable Matter contamin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eep surviv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mb surviv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22C64D-62AD-480D-97DC-2B24D53A00F8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77724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mb Shea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26920" y="980640"/>
            <a:ext cx="698184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on place in Australia to shear lambs with less the 12 months growth t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ing in line with grown shee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nimise the effects of grass se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y lead to significant economic disadvantage when compared to carrying out first shearing as hogg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3781E9-E9C2-4176-8ED3-3EEDD17E1323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95280" y="11592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eparation for Shea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86920" y="1052640"/>
            <a:ext cx="6350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paration of Shee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aft into mob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move sheep with Dark Fibre Ri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pect for s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 shearing crutching should be considered to remove stain and dag. Crutching is also essential for the good health of animals and supplies shorter wool to the woollen tra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4B23BA-37B1-4B94-81B4-FB1D065D5574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7772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eparation for Shea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71640" y="980640"/>
            <a:ext cx="677232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paration of Shearing Sh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potential contaminates are remov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equate lighting and equipment is provi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roved packs are avail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ol bins, butts and baskets are clearly identified with the line of wool they are to h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ccupational Health and Safety requirements are m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870167-3BC5-41A4-8870-5D52134BAECA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900000" y="98064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nd of Summary Sli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ose Wind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6C7DE4-90FD-49E4-B0FD-EAA491E818FE}" type="slidenum">
              <a:t>7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7T03:33:41Z</dcterms:created>
  <dc:creator>AWEX</dc:creator>
  <dc:description/>
  <dc:language>en-US</dc:language>
  <cp:lastModifiedBy>Sally Mahony</cp:lastModifiedBy>
  <dcterms:modified xsi:type="dcterms:W3CDTF">2005-06-03T02:19:05Z</dcterms:modified>
  <cp:revision>14</cp:revision>
  <dc:subject/>
  <dc:title>PowerPoint Presentation</dc:title>
</cp:coreProperties>
</file>