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18AF-F132-4AAE-A329-8031EB67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ies and Gent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B5FD-2FF7-4F08-9F5C-446BE3A51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47CC-27C9-4345-86ED-03F75B622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0F2C-A4CF-4FDC-888B-1DA3253E3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692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692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87A0-0998-444E-AFD1-30250A852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D525-1DE5-49BD-A64D-631BBD54CC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7E6E5-B41F-48B7-9891-9925414E8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1CAE-6966-46C5-8326-0E8A3CEA5E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62E6-92BD-43C3-A4F9-85AD9AB85B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2E17-F1F1-4466-A509-6C937E2C8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9473-EE58-41E7-8094-729C73E46A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95E4-6BA0-45DA-9F50-0EFAE1356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05EB-FF96-41E1-B423-168F7752E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EE25-9B51-4340-A07B-B1557E0874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C036-108D-4103-AFFF-BFB733B181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3B97-9D2D-415B-A6D5-515E36C9A2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F63D-78B5-4D22-BA19-162D0FCDE0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6920" y="155736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6920" y="342828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A209-42EF-4268-AB8A-FC3DF82EF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2F31-F05B-4D69-AF72-197B730D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9E67-16F7-4C19-83C2-4274F1C59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7A3A-17E7-4282-9F79-D671871BF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304C-B92E-490D-AE73-69CAE89B2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0CD5-84BC-4C77-BCF0-0C2D7259A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42828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96CF-D05A-47E5-8B7E-B62A20B7D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55736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42828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7D5F-919E-41C5-A12A-C22E8659E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651640"/>
            <a:ext cx="9144000" cy="853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350040" y="52704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477120" y="6477120"/>
            <a:ext cx="2666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4619-762B-4139-BE51-FE5AA9A96AE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5400" y="49644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B5D7-D7A9-49B5-B892-C464330B1E2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213372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479760"/>
            <a:ext cx="380880" cy="3378240"/>
          </a:xfrm>
          <a:prstGeom prst="rect">
            <a:avLst/>
          </a:prstGeom>
          <a:solidFill>
            <a:srgbClr val="b9b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633600"/>
            <a:ext cx="770256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ive Shearing Practices</a:t>
            </a:r>
            <a:br>
              <a:rPr sz="48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50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ic 4 – Lectu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31EF-1119-491A-A229-C1698F3170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8680" y="-27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botic Shea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345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ferred to as Automated Mechanical Shearing (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WA was successful in developing the Shear Magic robot and SLAMP (simplified loading and manipulation platform) to shear the entire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stopped when industry entered a period of financial hardship in the early 199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has never recomme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464C-A42E-4A77-ABBB-32AC102223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3240" y="126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Summary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62EF-76B8-4BB4-B38A-41C0622CB54A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 Shear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1280" y="1611000"/>
            <a:ext cx="685476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little development since 1887 when mechanically driven shears wer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shortage of skilled shearing lab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A7AB-670B-4988-91E1-FD97E11DFF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s in Wool Harv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started in the 1970’s by CS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natural protein to induce a break in the 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Wool Innovation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Production Li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ic She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during the 1970’s and 1980’s by U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no longer contin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DA41-BADF-45EE-AC93-4EA3096D34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46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are vaccinated with natural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e temporarily stops being produced after approximately 2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bre reaches the skin after approximately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ol is harvested after 2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7B92-3EAF-4DB0-B72C-FEF0562AF7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cl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66680" y="3573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ted 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ested 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581280" cy="2435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69228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BCS Agribusiness &amp; The McKinnon Project (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4752-F7CC-405D-80A8-5D0A1ED5A2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86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Biolc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anim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wool quality an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processing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animal husba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3554-1959-4AA3-BA1C-2EA8A8F7B5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996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6696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d within a mobile, expandable B double tr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specialised stations with defined blow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ep travel along a conveyor system, held by leg cuffs and positioned by manipulator arms for each b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removed, fleece is prepared, classed and tested if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is 120 sheep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F50F-4106-4B98-988C-81BDB43AF7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7120" y="33195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of Shear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49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of Shear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537080" cy="2651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427280" cy="264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69228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urce: AWI (20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149B-E9B1-4906-BDB9-31C8992550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868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 of ShearExpr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productivity in wool harv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consistency of clip quality and preparation with less damage to fle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mproved Occupational Health and Safety and air-conditioned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mployment opportunities for rur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duced requirements for capital intensiv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99F-16EC-467F-8936-FEA9D9FD8F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33:41Z</dcterms:created>
  <dc:creator>AWEX</dc:creator>
  <dc:description/>
  <dc:language>en-US</dc:language>
  <cp:lastModifiedBy>Sally Mahony</cp:lastModifiedBy>
  <dcterms:modified xsi:type="dcterms:W3CDTF">2005-06-03T02:19:03Z</dcterms:modified>
  <cp:revision>20</cp:revision>
  <dc:subject/>
  <dc:title>PowerPoint Presentation</dc:title>
</cp:coreProperties>
</file>