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7008-9645-4197-BE2C-501A5BE5C95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4154-57B7-47F1-9C26-84B3C44B2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7280" y="3283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7A3C4-AE23-4D64-B2AE-262B32D8E3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996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728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996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7A4F6-52C6-4997-AF3E-07F437F1E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528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292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728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528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292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07737-385D-4915-B7CC-2DE75B11A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8B3E1-E735-4B4F-88BB-621144A639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728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DF610-9424-4110-BAD4-9EC3F9410E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07DD6-B61D-4F3E-8D98-C8D5F28424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996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58019-D5CA-4F53-9B1F-A57A11ACE0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5AFCA-EDFD-40DB-AA92-1A8F74C83B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90E93-7F60-47E7-BC6C-C1E8952CCC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996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728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634FA-694F-4AC4-BF23-4EFF5B93A1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728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42EE-FC67-4A0E-99A2-260131F7B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996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996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5D105-E387-406B-A770-122864DE81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996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7280" y="3283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FECCC-C8A5-45FC-A885-DFA77A59C4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7280" y="3283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3F568-E5C8-4E66-8BE2-AA19AC67A1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996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728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996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5CBC1-13E9-431F-83A7-70807141EC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528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2920" y="14130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728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528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2920" y="3283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F605C-2948-4991-B630-D51A9FED5A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D5201-E86D-4A96-A491-B012E8A4B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996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D7C68-E6CE-4675-B06A-189FB4DC0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0BFFE-5C47-419C-BC25-C86EF6148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0EF2E-0335-40D0-BCB3-F5BC0AEF9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996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728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3C2D-5409-4037-B8A1-D8AF4F12F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996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9960" y="3283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BC4F4-A7D9-4AB7-A16B-163737E5CC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9960" y="14130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7280" y="3283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65016-6B4A-4F16-B5C3-71BCCC571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728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E1FD-CC8F-410F-8B01-9EBA16DF1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4964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EC9F-73DB-4428-A4CF-A25A19244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5868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icipants in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ol Marketing Ch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818BF-0A1A-4236-87E0-122E0B90BA5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001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 of the Wool Marketing Cha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34880" y="692280"/>
            <a:ext cx="1155960" cy="1123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5280" y="4314960"/>
            <a:ext cx="963720" cy="1311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897600" y="901800"/>
            <a:ext cx="1812960" cy="666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421160" y="770040"/>
            <a:ext cx="1519200" cy="506160"/>
          </a:xfrm>
          <a:prstGeom prst="flowChartPreparation">
            <a:avLst/>
          </a:prstGeom>
          <a:solidFill>
            <a:srgbClr val="690d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o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47800" y="1176480"/>
            <a:ext cx="585720" cy="195120"/>
          </a:xfrm>
          <a:custGeom>
            <a:avLst/>
            <a:gdLst>
              <a:gd name="textAreaLeft" fmla="*/ 91440 w 585720"/>
              <a:gd name="textAreaRight" fmla="*/ 512640 w 585720"/>
              <a:gd name="textAreaTop" fmla="*/ 48600 h 195120"/>
              <a:gd name="textAreaBottom" fmla="*/ 146520 h 195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20850000">
            <a:off x="3635280" y="1093320"/>
            <a:ext cx="585720" cy="195480"/>
          </a:xfrm>
          <a:custGeom>
            <a:avLst/>
            <a:gdLst>
              <a:gd name="textAreaLeft" fmla="*/ 91440 w 585720"/>
              <a:gd name="textAreaRight" fmla="*/ 512640 w 585720"/>
              <a:gd name="textAreaTop" fmla="*/ 48960 h 195480"/>
              <a:gd name="textAreaBottom" fmla="*/ 146880 h 19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2593800" y="774720"/>
            <a:ext cx="868680" cy="1195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27640" y="1822320"/>
            <a:ext cx="1519200" cy="506520"/>
          </a:xfrm>
          <a:prstGeom prst="flowChartPreparation">
            <a:avLst/>
          </a:prstGeom>
          <a:solidFill>
            <a:srgbClr val="690d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74880" y="9651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cc"/>
                </a:solidFill>
                <a:latin typeface="Arial"/>
              </a:rPr>
              <a:t>A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172400">
            <a:off x="3611160" y="1563840"/>
            <a:ext cx="585720" cy="195120"/>
          </a:xfrm>
          <a:custGeom>
            <a:avLst/>
            <a:gdLst>
              <a:gd name="textAreaLeft" fmla="*/ 91440 w 585720"/>
              <a:gd name="textAreaRight" fmla="*/ 512640 w 585720"/>
              <a:gd name="textAreaTop" fmla="*/ 48600 h 195120"/>
              <a:gd name="textAreaBottom" fmla="*/ 146520 h 195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21440" y="968400"/>
            <a:ext cx="585720" cy="195120"/>
          </a:xfrm>
          <a:custGeom>
            <a:avLst/>
            <a:gdLst>
              <a:gd name="textAreaLeft" fmla="*/ 91440 w 585720"/>
              <a:gd name="textAreaRight" fmla="*/ 512640 w 585720"/>
              <a:gd name="textAreaTop" fmla="*/ 48600 h 195120"/>
              <a:gd name="textAreaBottom" fmla="*/ 146520 h 195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726800">
            <a:off x="6081840" y="2324160"/>
            <a:ext cx="585720" cy="193680"/>
          </a:xfrm>
          <a:custGeom>
            <a:avLst/>
            <a:gdLst>
              <a:gd name="textAreaLeft" fmla="*/ 91440 w 585720"/>
              <a:gd name="textAreaRight" fmla="*/ 512640 w 58572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9464600">
            <a:off x="6073560" y="1660320"/>
            <a:ext cx="585720" cy="193680"/>
          </a:xfrm>
          <a:custGeom>
            <a:avLst/>
            <a:gdLst>
              <a:gd name="textAreaLeft" fmla="*/ 91440 w 585720"/>
              <a:gd name="textAreaRight" fmla="*/ 512640 w 58572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24760" y="2351160"/>
            <a:ext cx="1377720" cy="581040"/>
          </a:xfrm>
          <a:prstGeom prst="flowChartAlternateProcess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Arial"/>
              </a:rPr>
              <a:t>Ex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7505640" y="1844640"/>
            <a:ext cx="585720" cy="195120"/>
          </a:xfrm>
          <a:custGeom>
            <a:avLst/>
            <a:gdLst>
              <a:gd name="textAreaLeft" fmla="*/ 91440 w 585720"/>
              <a:gd name="textAreaRight" fmla="*/ 512640 w 585720"/>
              <a:gd name="textAreaTop" fmla="*/ 48600 h 195120"/>
              <a:gd name="textAreaBottom" fmla="*/ 146520 h 195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80400" y="3556080"/>
            <a:ext cx="1406520" cy="522360"/>
          </a:xfrm>
          <a:prstGeom prst="flowChartManualInpu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Arial"/>
              </a:rPr>
              <a:t>Topma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6201600">
            <a:off x="7424640" y="3198600"/>
            <a:ext cx="585720" cy="195120"/>
          </a:xfrm>
          <a:custGeom>
            <a:avLst/>
            <a:gdLst>
              <a:gd name="textAreaLeft" fmla="*/ 91440 w 585720"/>
              <a:gd name="textAreaRight" fmla="*/ 512640 w 585720"/>
              <a:gd name="textAreaTop" fmla="*/ 48600 h 195120"/>
              <a:gd name="textAreaBottom" fmla="*/ 146520 h 195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85040" y="4687920"/>
            <a:ext cx="1060200" cy="739800"/>
          </a:xfrm>
          <a:prstGeom prst="flowChartDocumen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Arial"/>
              </a:rPr>
              <a:t>Spi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6987600">
            <a:off x="7022880" y="4294080"/>
            <a:ext cx="585720" cy="195120"/>
          </a:xfrm>
          <a:custGeom>
            <a:avLst/>
            <a:gdLst>
              <a:gd name="textAreaLeft" fmla="*/ 91440 w 585720"/>
              <a:gd name="textAreaRight" fmla="*/ 512640 w 585720"/>
              <a:gd name="textAreaTop" fmla="*/ 48600 h 195120"/>
              <a:gd name="textAreaBottom" fmla="*/ 146520 h 195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4834080"/>
            <a:ext cx="1320840" cy="37764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Arial"/>
              </a:rPr>
              <a:t>Wea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46400" y="4687920"/>
            <a:ext cx="900000" cy="784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Arial"/>
              </a:rPr>
              <a:t>Gar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Arial"/>
              </a:rPr>
              <a:t>Ma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5678280" y="4879440"/>
            <a:ext cx="585720" cy="195480"/>
          </a:xfrm>
          <a:custGeom>
            <a:avLst/>
            <a:gdLst>
              <a:gd name="textAreaLeft" fmla="*/ 91440 w 585720"/>
              <a:gd name="textAreaRight" fmla="*/ 512640 w 585720"/>
              <a:gd name="textAreaTop" fmla="*/ 48960 h 195480"/>
              <a:gd name="textAreaBottom" fmla="*/ 146880 h 19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3252600" y="4906440"/>
            <a:ext cx="585720" cy="195480"/>
          </a:xfrm>
          <a:custGeom>
            <a:avLst/>
            <a:gdLst>
              <a:gd name="textAreaLeft" fmla="*/ 91440 w 585720"/>
              <a:gd name="textAreaRight" fmla="*/ 512640 w 585720"/>
              <a:gd name="textAreaTop" fmla="*/ 48960 h 195480"/>
              <a:gd name="textAreaBottom" fmla="*/ 146880 h 19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1512720" y="4896000"/>
            <a:ext cx="586080" cy="195120"/>
          </a:xfrm>
          <a:custGeom>
            <a:avLst/>
            <a:gdLst>
              <a:gd name="textAreaLeft" fmla="*/ 91440 w 586080"/>
              <a:gd name="textAreaRight" fmla="*/ 513000 w 586080"/>
              <a:gd name="textAreaTop" fmla="*/ 48600 h 195120"/>
              <a:gd name="textAreaBottom" fmla="*/ 146520 h 195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177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23400" y="7286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42120" y="18082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794400">
            <a:off x="8256600" y="2931840"/>
            <a:ext cx="493560" cy="2438280"/>
          </a:xfrm>
          <a:custGeom>
            <a:avLst/>
            <a:gdLst>
              <a:gd name="textAreaLeft" fmla="*/ 65880 w 493560"/>
              <a:gd name="textAreaRight" fmla="*/ 427680 w 493560"/>
              <a:gd name="textAreaTop" fmla="*/ 459000 h 2438280"/>
              <a:gd name="textAreaBottom" fmla="*/ 16063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33" stAng="-5400000" swAng="5400000"/>
                <a:lnTo>
                  <a:pt x="21600" y="10163"/>
                </a:lnTo>
                <a:arcTo wR="21600" hR="8133" stAng="0" swAng="2650410"/>
                <a:lnTo>
                  <a:pt x="7805" y="21051"/>
                </a:lnTo>
                <a:lnTo>
                  <a:pt x="0" y="17280"/>
                </a:lnTo>
                <a:lnTo>
                  <a:pt x="7805" y="12411"/>
                </a:lnTo>
                <a:lnTo>
                  <a:pt x="7805" y="15716"/>
                </a:lnTo>
                <a:arcTo wR="21600" hR="8133" stAng="2650410" swAng="-2487717"/>
                <a:lnTo>
                  <a:pt x="21431" y="9148"/>
                </a:lnTo>
                <a:arcTo wR="21600" hR="8133" stAng="-162694" swAng="-5237306"/>
                <a:close/>
              </a:path>
              <a:path fill="darkenLess" w="21600" h="21600">
                <a:moveTo>
                  <a:pt x="0" y="0"/>
                </a:moveTo>
                <a:arcTo wR="21600" hR="8133" stAng="-5400000" swAng="5400000"/>
                <a:lnTo>
                  <a:pt x="21600" y="10163"/>
                </a:lnTo>
                <a:arcTo wR="21600" hR="8133" stAng="0" swAng="-162694"/>
                <a:lnTo>
                  <a:pt x="21431" y="9148"/>
                </a:lnTo>
                <a:arcTo wR="21600" hR="8133" stAng="-162694" swAng="-5237306"/>
                <a:close/>
              </a:path>
            </a:pathLst>
          </a:cu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9BBFF-E1C7-4957-B155-693A2F0DF43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ol Bro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1125000"/>
            <a:ext cx="8001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unctions perform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ceival and storage of woo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rranging for testing and sampling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ducting of auction s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dditional services to support busin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n-farm preparation and marketing adv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Quality assurance system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inance and risk management products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arket information and analy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E3626-0821-481F-8A82-7CF633BC8FC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vate Buy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unctions perform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urchasing direct from the grow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ceival, storing and testing of the wool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n-sale back through auction or direct to expor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ypes of purchase arrang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ice in the sh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ice on result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orward con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1F01-235F-46C9-B5B2-D4267475612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or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100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perform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ation of customer requiremen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wool at auc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anging shipping, documentation and foreign exchange cover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finance via extended payment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transa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nt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m 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E063-AF92-4F76-975C-FF524510FF2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ly Stage Process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112500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perform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uring – removal of grease and di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ding – removal of vegetable matter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g – aligning fibres in preparation for spi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early stage process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stage processor onl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ly integrated (also involved in export and/or later stage proces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early stage processors will purchase wool directly from growers if the lots are large enough and been tested by AW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7B0E0-C9F6-471B-9C4C-188C86837C8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4436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er Stage Process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perform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nn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v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eing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rment Ma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later stage process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fibre, single process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 fibre, vertically integra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1E9B5-5DDB-4F7E-AB2C-3937509BECF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ture of the Wool Marketing Chain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ucture of the chain and profitability of participants has been challenged by the halving of production over the past 20 yea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developments are likely to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lidation (fewer, larger players)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irect relationships (fewer intermediarie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E298C-E232-4BDC-951D-075709362F8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05264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7E90A-8605-4ADD-AB05-4A83A66EC32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02:07:57Z</dcterms:created>
  <dc:creator>Bill Mitchell</dc:creator>
  <dc:description/>
  <dc:language>en-US</dc:language>
  <cp:lastModifiedBy>Sally Mahony</cp:lastModifiedBy>
  <dcterms:modified xsi:type="dcterms:W3CDTF">2005-05-23T02:17:19Z</dcterms:modified>
  <cp:revision>10</cp:revision>
  <dc:subject/>
  <dc:title>Participants in the Wool Marketing Chain</dc:title>
</cp:coreProperties>
</file>