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440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4336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D2E6-447D-4377-8CB8-17A7FBB32467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998B-78D8-4542-9BC7-11E8773C3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8307-B782-43CC-BC7B-916E89AC3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EB71-A0F5-4662-B671-D5350792E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70FF-1D1B-4132-97F8-4E5F90C09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6BA1-E084-4C8D-AA4B-35E6EF8E9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5817-07E5-4B46-B3D2-5F7D24914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6B72-1646-4BA3-8D86-1A99A36C79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ACE8-AC57-4205-9946-AA15B6E7A6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0F5B-A346-4B40-B8A1-370939F3BF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EE21-597A-4C91-A5A4-A290CC9B3C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078B-40A2-49B3-86CD-2850FFB43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BFE3-2BD8-43C9-B678-3C599021E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957D-9819-424F-A74B-653AD7C2A2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4AB7-9CA1-4A7C-BD46-F82F1ABAFF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483A-E214-41E1-82D8-D8E37E91D5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418F-F723-49BD-9562-0BDC6CD910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6A87-294F-4C60-8C68-38A97FBB2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76A2-05DC-4AB2-82D0-EAB2E477E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7E83-09B6-49A4-B82D-4E7F286AD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9DDD-0459-4D7D-AE62-EE5475039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4890-03CE-4AFD-A184-0D16F2E0D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464C-C66C-4123-9DB7-B274E50B5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A9BA-9006-4D6D-9D1E-B18E1B33A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EB85-6D18-4F25-A582-17B962EE9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CB13-BD78-417D-8AF7-46F8DA14D6B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BA2-49D6-4622-A40C-686D74EF664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880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Growing as a Bus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112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2 - Lectur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B968-94BB-4125-AA86-BFAED978F97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ing ‘outlook’ and the family farm (re: lecture 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s for high performance wool p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 of the wool produ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F99D-8B24-4962-A873-564F501A13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ability and Management Le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‘outlook’ of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link to far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 and poorly performing farms have definabl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also linked cumulatively to farm managemen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ing rate is the ke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9B41-1F32-4564-A573-38AF0AD132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Performanc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6897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independent of farming reg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variability between farms for the following efficiency meas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ur (dse/labour uni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 (wool cut/ds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(wool production cost/k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dse/ha); 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e ($income/d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0FF8-67F8-4572-BA1E-9A853E21F1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Performanc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6105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 (Samson,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decile = 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 decile  = -1.1%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25% producers have rates of return x3 the industry average (Martin, 199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25% producers have disposable income x2 the industry average (Martin,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D83E-DAF0-4366-A0F3-1F3417DFCA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ative Performanc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90756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ing farmers h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business vision or go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external information sources; a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taken training in the recent pa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in discussion groups appears to improve productivity, but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ing farmers tend to participate in discussion group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chicken or eg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F704-DD5C-4912-8695-2D9AF482FC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ifting to another enterpr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6350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necessarily the answ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arms tend to be more focussed, not less focussed on woo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not as strong in the pastoral z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practices are the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586A-C170-42F9-BE4D-EA468E7E3E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of the wool production un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256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and sheep farm numbers have dec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farm size between the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08240" y="2276640"/>
            <a:ext cx="7483320" cy="25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2A60-8534-4AAE-9B3B-0050546C1D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E0D4-A85F-4605-A82C-EF2EFCA976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1:20:30Z</dcterms:created>
  <dc:creator>SChampion</dc:creator>
  <dc:description/>
  <dc:language>en-US</dc:language>
  <cp:lastModifiedBy>Sally Mahony</cp:lastModifiedBy>
  <dcterms:modified xsi:type="dcterms:W3CDTF">2005-05-23T05:10:44Z</dcterms:modified>
  <cp:revision>26</cp:revision>
  <dc:subject/>
  <dc:title>Slide 1</dc:title>
</cp:coreProperties>
</file>