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0EC8E3-CA70-4B6A-8EC8-6BE5D757BD6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A9A8-47A6-4406-B91E-B6A06CA80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AB9F-100A-48FD-88A6-4B67EAA3D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3FA2-B39F-46CE-BF7A-0CCD954AF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7377-B473-46E2-A8FB-75DECE036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7DDD-A0D6-4C8C-B90C-A5B12B853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56EB-FF75-499E-B7D5-2EE252E9A6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D04C-7E3A-44B2-95EE-6012613326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28CE-E7CC-43CF-B7B5-560ACDD56D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7E50-0D5F-45B2-9E20-02E7AC8B01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D463-9994-459F-9897-05CDDFAFCD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DDC0-C429-4B60-99F5-D0A0C94B9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A604-49F7-4173-A009-7E6C116A9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1BED-F1A1-43BA-9B11-C4DB145E0B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0042-D8B8-41DC-AC5C-E0B5C0E71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B9C7-84FC-4C96-A97B-194A41386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B47D-6ECE-4915-99E7-DFBC04626B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DD0D-74A6-4B4E-8A1F-F7FB2D2FB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720E-2359-45D9-A8A7-DF355103E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3843-D578-4E70-8F65-845D73130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1A58-1F62-415C-AD35-79FB3A62F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FAAD-AE60-4D9D-99CC-6983651E5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B211-F4B4-4911-BE7C-73F621664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D64F-E0C1-4EAF-98DA-73E8875F1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53D5-ABBF-415B-B58B-2469E28FD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7AE-D664-4458-A053-35853AAF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842D-0C2C-490C-9A4B-AF8FE786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View of the Apparel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29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5 -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08F1-4A19-4711-86BF-FA0D6492E1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World Wool Production 2001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ly wool is produced in the Southern Hemisphere countries of Australia, New Zealand, South Africa, Uruguay and Argentina and exported to the Northern Hemisphere processing centres. However, China is also a major wool produc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44500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WTO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22720" y="3102120"/>
            <a:ext cx="900000" cy="655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900000" cy="655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908000" y="1490760"/>
            <a:ext cx="536292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BBD6-7B19-4CB2-AB9D-AEAFEC5DAE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Australian Share of Southern Hemisphere Wool Production by Fibre Di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1728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alia’s wool production as a share of the main exporter (Australia, New Zealand, South Africa, Uruguay and Argentina as well as China and the former USSR) production varies according to micron categ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630440"/>
            <a:ext cx="6337440" cy="359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44500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dependent Commodity Services P/L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E764-A4D5-4FD2-9198-337B5473E5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Final Demand of Wool by Countr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terms of wool consumption, Western Europe remains the major market, with China growing in importance. For Australian wool, Japan and then North America are the next most important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CI Fibres and Raw Materials Textile Pip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1441440"/>
            <a:ext cx="720072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E4BF-6436-4845-840A-7C308D0974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End-use Share for W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n terms of apparel use, the market share is evenly spread between menswear, womens wear and knitwear. Interior textiles account for largets end-use with a 38% sh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1649520"/>
            <a:ext cx="7490160" cy="355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Woolmark Company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FA2E-D13D-4A27-BD69-0A6D552D69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r preferences have driven fabric weights down in recent decades causing wool producers to respond by increasing fine wool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-171360"/>
            <a:ext cx="83898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Average Fabric Weights in the Italian Wool Textile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724280" y="1184400"/>
          <a:ext cx="439740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84400"/>
                    <a:ext cx="439740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5960" y="1217520"/>
          <a:ext cx="4389480" cy="441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1217520"/>
                    <a:ext cx="43894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55640" y="54450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The Woolmark Company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87D1-5597-40C2-84E4-D54A2A4EF2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16AD-2FF8-4917-B4CE-A1AE7BF02FC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7:43:18Z</dcterms:created>
  <dc:creator>Andrew Woods</dc:creator>
  <dc:description/>
  <dc:language>en-US</dc:language>
  <cp:lastModifiedBy>Sally Mahony</cp:lastModifiedBy>
  <cp:lastPrinted>2003-09-02T08:07:53Z</cp:lastPrinted>
  <dcterms:modified xsi:type="dcterms:W3CDTF">2005-05-31T00:57:32Z</dcterms:modified>
  <cp:revision>25</cp:revision>
  <dc:subject/>
  <dc:title>Global View of the Apparel Market</dc:title>
</cp:coreProperties>
</file>