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CFB4-0678-4854-A0A1-E755A580295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4400" y="743040"/>
            <a:ext cx="4952880" cy="3714840"/>
          </a:xfrm>
          <a:prstGeom prst="rect">
            <a:avLst/>
          </a:prstGeom>
          <a:ln w="0">
            <a:noFill/>
          </a:ln>
        </p:spPr>
      </p:sp>
      <p:sp>
        <p:nvSpPr>
          <p:cNvPr id="10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4400" y="743040"/>
            <a:ext cx="4952880" cy="3714840"/>
          </a:xfrm>
          <a:prstGeom prst="rect">
            <a:avLst/>
          </a:prstGeom>
          <a:ln w="0">
            <a:noFill/>
          </a:ln>
        </p:spPr>
      </p:sp>
      <p:sp>
        <p:nvSpPr>
          <p:cNvPr id="10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36 looked at different approaches to promotion. In it we looked at and compared generic (used by Woolmark) and targeted approa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look at how technology impacts on promotion and also the role and impact of technology on competing fib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also look at the contribution of technology both on- and post-far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4400" y="743040"/>
            <a:ext cx="4952880" cy="3714840"/>
          </a:xfrm>
          <a:prstGeom prst="rect">
            <a:avLst/>
          </a:prstGeom>
          <a:ln w="0">
            <a:noFill/>
          </a:ln>
        </p:spPr>
      </p:sp>
      <p:sp>
        <p:nvSpPr>
          <p:cNvPr id="11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can be used in a number of ways to assist promotion of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through the application of technology in the products themselves or through the use of technology for information dissemination to support a product sale and traditional promotion and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can also be used through the research and development process to assist in developing new produc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4400" y="743040"/>
            <a:ext cx="4952880" cy="3714840"/>
          </a:xfrm>
          <a:prstGeom prst="rect">
            <a:avLst/>
          </a:prstGeom>
          <a:ln w="0">
            <a:noFill/>
          </a:ln>
        </p:spPr>
      </p:sp>
      <p:sp>
        <p:nvSpPr>
          <p:cNvPr id="11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case of information dissemination is where promotion is used to disseminate information that is of interest to the same consumer of  the product being advertised,  e.g. Coca Cola Australia web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is website, there is very little information about the product.  It primarily promotes other categories that might be of interest to a Coca Cola consumer i.e. music, sport events etc.  As a result, it takes a supporting approach to promotion rather than a focus on the product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ke’s website identifies the market you are in (i.e. US, NZ etc) and then the product that you are interested in (footwear, clothes etc) through a menu system. It then directs you to a specific part of the website.  For the US website you can also make purchases (e-commerce).  Therefore the website supports the products and sells the product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mark Company’s website shows more detailed support information.  It provides more detailed information than Nike or Coca Cola.  This is partly because of Woolmark’s role, i.e. it has no products of its own to sell. Consumers can find information about garment care, traveling with wool and about the attributes and benefits of wool as a product.  This is a very detailed product support approa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4400" y="743040"/>
            <a:ext cx="4952880" cy="3714840"/>
          </a:xfrm>
          <a:prstGeom prst="rect">
            <a:avLst/>
          </a:prstGeom>
          <a:ln w="0">
            <a:noFill/>
          </a:ln>
        </p:spPr>
      </p:sp>
      <p:sp>
        <p:nvSpPr>
          <p:cNvPr id="11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technology in terms of promotion is to link to the needs and wants of the consumer i.e. the technology needs to address the specific competitive disadvantages of the fibre.  This table shows consumer needs (left column) and how technology can be used to address a competitive disadvantage (right colu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sumers are looking to spend their dollar on other things (apart from apparel), one of the ways of overcoming wool’s competitive disadvantage is to look at the value and longevity of the wool garment and the intangible attributes that can be linked to a wool garment purch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re is a perception of problems with respect to easy care, there needs to be a message that the garments can be easy care with regard to laundering due to technologies like ‘total easy care’ (machine washable, tumble dry). Consumers should look for th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have a number of perceptions and pressures. Technologies and messages can be used to deal with many of these.</a:t>
            </a:r>
            <a:br>
              <a:rPr sz="1200"/>
            </a:br>
            <a:br>
              <a:rPr sz="1200"/>
            </a:b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to in the future and how can technology be used to promote wool and woo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rea is wearable intelligence (discussed in lecture notes) and technology can also be used in support of the production of better fabrics and gar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farm technology can be used to assist with production and efficiency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echnology is also going to be used to help the synthetic fibre industries improve their performance and costs. Therefore over time the competitive ‘bar’ will ri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6D182-5EFF-4F6A-A4EB-4B192A659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5FEE7-6623-4853-BC2F-2496137A47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B6249-608C-4CF8-9B99-5DD6F1C8F6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CD5FDF-DCBA-4C22-A401-3E43588FDD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635715-14BA-4641-A541-4449F24B62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9CA01E16-129C-45EC-AE44-2978CC814B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0D129D-ACB3-4631-94DD-A525864C6C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027BF1D-2AB1-425C-AE7C-B6156465CF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2C2E1EA-EE38-483D-9E2B-F7B2BD1329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7AE0A827-CA07-4FB7-BF8D-50BA3466B8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8A938E-2EEF-41C0-B6F3-A001B184ED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CC301F19-5DFD-4918-B52A-E9630AAE9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CD4F85-CB9B-4727-9283-5577400215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ABCA52-0B41-4E10-AAC9-96ECD0C264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A854FD-DFE4-4172-832E-64C8F94F5E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3B652BF-8B69-48AB-B71D-175B292E5C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CCE3250-4308-40A9-B430-F6C6D30D39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BB8D2-A3F9-4BC2-8B08-25776A8D9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2AB7C-C53F-48C0-A8DD-5D3ABB2266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2C59DE64-383E-4991-B316-71CBC4AA0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7ECA7FC-63F5-4429-95FD-0DC2A1C8E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C8561-0A20-4E35-BE43-759D7F56D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4B25E-6C9D-4C7B-84E4-3C3D1D3FB4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FE5BC-AE60-45B4-8A24-8EAEEC468F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17BA-6028-418C-826F-EB17B11FE49B}"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F8B1-9451-46CC-8244-74DA98F9248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oca-cola.com.au/" TargetMode="External"/><Relationship Id="rId2" Type="http://schemas.openxmlformats.org/officeDocument/2006/relationships/hyperlink" Target="http://www.nike.com/" TargetMode="External"/><Relationship Id="rId3" Type="http://schemas.openxmlformats.org/officeDocument/2006/relationships/hyperlink" Target="http://www.wool.com/"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756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Promotion</a:t>
            </a:r>
            <a:endParaRPr b="0" lang="en-US" sz="3600" spc="-1" strike="noStrike">
              <a:solidFill>
                <a:srgbClr val="000000"/>
              </a:solidFill>
              <a:latin typeface="Arial"/>
            </a:endParaRPr>
          </a:p>
        </p:txBody>
      </p:sp>
      <p:sp>
        <p:nvSpPr>
          <p:cNvPr id="92" name="PlaceHolder 2"/>
          <p:cNvSpPr>
            <a:spLocks noGrp="1"/>
          </p:cNvSpPr>
          <p:nvPr>
            <p:ph type="subTitle"/>
          </p:nvPr>
        </p:nvSpPr>
        <p:spPr>
          <a:xfrm>
            <a:off x="1339920" y="41968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19 - Lecture 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A0CCA8-BBE8-4B20-A93C-54CE5F46875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60280"/>
            <a:ext cx="6858000" cy="38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4" name="PlaceHolder 2"/>
          <p:cNvSpPr>
            <a:spLocks noGrp="1"/>
          </p:cNvSpPr>
          <p:nvPr>
            <p:ph/>
          </p:nvPr>
        </p:nvSpPr>
        <p:spPr>
          <a:xfrm>
            <a:off x="755640" y="105264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es to promotion and the differences between generic and targeted promotion (previous lectu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and impact of technolog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and competing fibr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ions of on- and post-farm technology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70BB9-CE46-4587-8991-449BD98946B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8864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technology in promotion</a:t>
            </a:r>
            <a:endParaRPr b="0" lang="en-US" sz="3200" spc="-1" strike="noStrike">
              <a:solidFill>
                <a:srgbClr val="000000"/>
              </a:solidFill>
              <a:latin typeface="Arial"/>
            </a:endParaRPr>
          </a:p>
        </p:txBody>
      </p:sp>
      <p:sp>
        <p:nvSpPr>
          <p:cNvPr id="96" name="PlaceHolder 2"/>
          <p:cNvSpPr>
            <a:spLocks noGrp="1"/>
          </p:cNvSpPr>
          <p:nvPr>
            <p:ph/>
          </p:nvPr>
        </p:nvSpPr>
        <p:spPr>
          <a:xfrm>
            <a:off x="1116000" y="105264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ca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product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 in developing new produc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ome cas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50D71-DE02-4CA2-86A0-1373CD1628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8864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b use case studies</a:t>
            </a:r>
            <a:endParaRPr b="0" lang="en-US" sz="3200" spc="-1" strike="noStrike">
              <a:solidFill>
                <a:srgbClr val="000000"/>
              </a:solidFill>
              <a:latin typeface="Arial"/>
            </a:endParaRPr>
          </a:p>
        </p:txBody>
      </p:sp>
      <p:sp>
        <p:nvSpPr>
          <p:cNvPr id="98" name="PlaceHolder 2"/>
          <p:cNvSpPr>
            <a:spLocks noGrp="1"/>
          </p:cNvSpPr>
          <p:nvPr>
            <p:ph/>
          </p:nvPr>
        </p:nvSpPr>
        <p:spPr>
          <a:xfrm>
            <a:off x="684360" y="112500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a-Cola Australia (</a:t>
            </a:r>
            <a:r>
              <a:rPr b="0" lang="en-US" sz="2000" spc="-1" strike="noStrike" u="sng">
                <a:solidFill>
                  <a:srgbClr val="99ccff"/>
                </a:solidFill>
                <a:uFillTx/>
                <a:latin typeface="Arial"/>
                <a:hlinkClick r:id="rId1"/>
              </a:rPr>
              <a:t>www.coca-cola.com.au</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f interest to the consum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ke (</a:t>
            </a:r>
            <a:r>
              <a:rPr b="0" lang="en-US" sz="2000" spc="-1" strike="noStrike" u="sng">
                <a:solidFill>
                  <a:srgbClr val="99ccff"/>
                </a:solidFill>
                <a:uFillTx/>
                <a:latin typeface="Arial"/>
                <a:hlinkClick r:id="rId2"/>
              </a:rPr>
              <a:t>www.nike.com</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formation and purchas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olmark Company (</a:t>
            </a:r>
            <a:r>
              <a:rPr b="0" lang="en-US" sz="2000" spc="-1" strike="noStrike" u="sng">
                <a:solidFill>
                  <a:srgbClr val="99ccff"/>
                </a:solidFill>
                <a:uFillTx/>
                <a:latin typeface="Arial"/>
                <a:hlinkClick r:id="rId3"/>
              </a:rPr>
              <a:t>www.wool.com</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a:t>
            </a:r>
            <a:r>
              <a:rPr b="0" lang="en-US" sz="2800" spc="-1" strike="noStrike">
                <a:solidFill>
                  <a:srgbClr val="000000"/>
                </a:solidFill>
                <a:latin typeface="Arial"/>
              </a:rPr>
              <a:t> </a:t>
            </a:r>
            <a:r>
              <a:rPr b="0" lang="en-US" sz="2000" spc="-1" strike="noStrike">
                <a:solidFill>
                  <a:srgbClr val="000000"/>
                </a:solidFill>
                <a:latin typeface="Arial"/>
              </a:rPr>
              <a:t>support inform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C0B5B-46C9-4861-BA57-5476020895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15560"/>
            <a:ext cx="81374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ology helping the consumer</a:t>
            </a:r>
            <a:endParaRPr b="0" lang="en-US" sz="3200" spc="-1" strike="noStrike">
              <a:solidFill>
                <a:srgbClr val="000000"/>
              </a:solidFill>
              <a:latin typeface="Arial"/>
            </a:endParaRPr>
          </a:p>
        </p:txBody>
      </p:sp>
      <p:sp>
        <p:nvSpPr>
          <p:cNvPr id="100" name="PlaceHolder 2"/>
          <p:cNvSpPr>
            <a:spLocks noGrp="1"/>
          </p:cNvSpPr>
          <p:nvPr>
            <p:ph/>
          </p:nvPr>
        </p:nvSpPr>
        <p:spPr>
          <a:xfrm>
            <a:off x="468000" y="836640"/>
            <a:ext cx="7684920" cy="5047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can help with competitive disadvantage</a:t>
            </a:r>
            <a:endParaRPr b="0" lang="en-US" sz="2000" spc="-1" strike="noStrike">
              <a:solidFill>
                <a:srgbClr val="000000"/>
              </a:solidFill>
              <a:latin typeface="Arial"/>
            </a:endParaRPr>
          </a:p>
        </p:txBody>
      </p:sp>
      <p:graphicFrame>
        <p:nvGraphicFramePr>
          <p:cNvPr id="101" name=""/>
          <p:cNvGraphicFramePr/>
          <p:nvPr/>
        </p:nvGraphicFramePr>
        <p:xfrm>
          <a:off x="754200" y="1417680"/>
          <a:ext cx="7921440" cy="4098960"/>
        </p:xfrm>
        <a:graphic>
          <a:graphicData uri="http://schemas.openxmlformats.org/drawingml/2006/table">
            <a:tbl>
              <a:tblPr/>
              <a:tblGrid>
                <a:gridCol w="2098440"/>
                <a:gridCol w="582300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nsumer Ne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chnology Use/Messa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etition for spend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value and longevity of a wool garment, plus intangib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sire for lei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ultifunctional use of active sports and casual wool gar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ice pres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lue of a wool garment through comfort, luxury and longev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omen at wor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ase of care available with modern wool gar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ven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ase of care and multi-use/multi-wear functionality of wool garm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geing popul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ern aspects of the wool fibre linked to its traditional associations with warmth e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lobalis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tailer listings within product categor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laxed dr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ailability of wool in active and casual sportswea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fo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nefits of wool through moisture absorption etc.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asy ca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ase of care aspects with respect to launder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lue for mone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ngevity of the investment through garment durabilit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1"/>
          </p:nvPr>
        </p:nvSpPr>
        <p:spPr/>
        <p:txBody>
          <a:bodyPr/>
          <a:p>
            <a:fld id="{6862A894-1AE2-41A4-BF6F-65E6BA0C5E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uture</a:t>
            </a:r>
            <a:endParaRPr b="0" lang="en-US" sz="3200" spc="-1" strike="noStrike">
              <a:solidFill>
                <a:srgbClr val="000000"/>
              </a:solidFill>
              <a:latin typeface="Arial"/>
            </a:endParaRPr>
          </a:p>
        </p:txBody>
      </p:sp>
      <p:sp>
        <p:nvSpPr>
          <p:cNvPr id="103" name="PlaceHolder 2"/>
          <p:cNvSpPr>
            <a:spLocks noGrp="1"/>
          </p:cNvSpPr>
          <p:nvPr>
            <p:ph/>
          </p:nvPr>
        </p:nvSpPr>
        <p:spPr>
          <a:xfrm>
            <a:off x="826920" y="157644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will help make wool more attractive to the consumer:</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rable intelligence; and,</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fabrics and garm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will help on-far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will improve synthetic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4E8BC-9FE7-4F5F-B0FC-58CC17636A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55640" y="83664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BFF0D5-15E8-4334-A76E-2D5F10AC297F}" type="slidenum">
              <a:t>7</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5-23T05:13:59Z</dcterms:modified>
  <cp:revision>68</cp:revision>
  <dc:subject/>
  <dc:title>Slide 1</dc:title>
</cp:coreProperties>
</file>