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952-730A-49F8-A34C-253114F13E0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FCD3-BEFD-4FD5-BC4C-40FB3D116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0067-07A2-4D43-947F-DFAA78683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58E2-2B3F-478D-9B67-420AA451B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8DA5-8157-4E9B-A979-EB14FB915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6CF8-3A1A-4AE1-B535-7C3C71BEA7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CC56-3C0C-4E42-B481-E15E7F740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F460-7189-44EB-81D7-F1A5342E1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6A57-D6DD-4ADC-AA5E-0571C4A934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AC68-19B4-420B-88A3-F1B3B569F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CC86-A5A3-4EB3-86E9-ABE2B2CBC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F251-A7A2-4FE4-8595-51F28AE65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0C5E-DF1A-4D02-B1A9-05019FC38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0F8D-B70B-46B5-8A74-9F6931E45C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C112-1863-42EC-B2F7-66A202AEF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7E41-767F-4553-A3F9-5FA3FDB248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31F0-228B-47D1-A367-A152942A7A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36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36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86A6-E600-41EF-B259-081A202A9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3E17-8644-4B3A-BEDE-EA805955A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F8F8-7BF6-4196-A1D8-E2859DEC4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1843-6034-46B9-8C9F-EBA73864F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84C2-59A9-4910-887F-FA695FC24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DD5B-FAD8-4B12-BBD6-004FB1759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832E-B3E6-4784-A2B9-351F4B084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B5C5-BECB-42EF-8F3C-CA785B940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A877-5FE0-4E0E-ACE4-959C1972D64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934-DD06-49E9-80B4-B1151D47050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6199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ile properties of woo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other fib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Topic 20 –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279E-40AF-437F-BEEB-510676E15B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80010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fibre length in car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94600" y="1125360"/>
            <a:ext cx="8069760" cy="4374720"/>
            <a:chOff x="894600" y="1125360"/>
            <a:chExt cx="8069760" cy="4374720"/>
          </a:xfrm>
        </p:grpSpPr>
        <p:grpSp>
          <p:nvGrpSpPr>
            <p:cNvPr id="175" name=""/>
            <p:cNvGrpSpPr/>
            <p:nvPr/>
          </p:nvGrpSpPr>
          <p:grpSpPr>
            <a:xfrm>
              <a:off x="2295720" y="1125360"/>
              <a:ext cx="4255200" cy="1108800"/>
              <a:chOff x="2295720" y="1125360"/>
              <a:chExt cx="4255200" cy="110880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5720" y="1125360"/>
                <a:ext cx="4255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c0000"/>
                    </a:solidFill>
                    <a:latin typeface="Arial Narrow"/>
                  </a:rPr>
                  <a:t>Fibre length distribution after carding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73040" y="1636920"/>
                <a:ext cx="79200" cy="5972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38480" y="3625200"/>
              <a:ext cx="312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af1b65"/>
                  </a:solidFill>
                  <a:latin typeface="Arial Narrow"/>
                </a:rPr>
                <a:t>Fibre length distribution before card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120280" y="3710160"/>
              <a:ext cx="638280" cy="341280"/>
            </a:xfrm>
            <a:prstGeom prst="line">
              <a:avLst/>
            </a:prstGeom>
            <a:ln w="38160">
              <a:solidFill>
                <a:srgbClr val="af1b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92200" y="1807920"/>
              <a:ext cx="35892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 Narrow"/>
                </a:rPr>
                <a:t>Fibre length distribution shifts to the left, depending on amount of fibre breakag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35000" y="1967760"/>
              <a:ext cx="3748680" cy="302976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32"/>
                  </a:moveTo>
                  <a:cubicBezTo>
                    <a:pt x="88" y="1044"/>
                    <a:pt x="176" y="1056"/>
                    <a:pt x="288" y="936"/>
                  </a:cubicBezTo>
                  <a:cubicBezTo>
                    <a:pt x="400" y="816"/>
                    <a:pt x="576" y="456"/>
                    <a:pt x="672" y="312"/>
                  </a:cubicBezTo>
                  <a:cubicBezTo>
                    <a:pt x="768" y="168"/>
                    <a:pt x="800" y="112"/>
                    <a:pt x="864" y="72"/>
                  </a:cubicBezTo>
                  <a:cubicBezTo>
                    <a:pt x="928" y="32"/>
                    <a:pt x="1000" y="0"/>
                    <a:pt x="1056" y="72"/>
                  </a:cubicBezTo>
                  <a:cubicBezTo>
                    <a:pt x="1112" y="144"/>
                    <a:pt x="1160" y="360"/>
                    <a:pt x="1200" y="504"/>
                  </a:cubicBezTo>
                  <a:cubicBezTo>
                    <a:pt x="1240" y="648"/>
                    <a:pt x="1248" y="848"/>
                    <a:pt x="1296" y="936"/>
                  </a:cubicBezTo>
                  <a:cubicBezTo>
                    <a:pt x="1344" y="1024"/>
                    <a:pt x="1416" y="1028"/>
                    <a:pt x="1488" y="1032"/>
                  </a:cubicBezTo>
                </a:path>
              </a:pathLst>
            </a:custGeom>
            <a:solidFill>
              <a:srgbClr val="003366"/>
            </a:solidFill>
            <a:ln w="7632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95600" y="2254320"/>
              <a:ext cx="3110760" cy="2716920"/>
            </a:xfrm>
            <a:custGeom>
              <a:avLst/>
              <a:gdLst/>
              <a:ahLst/>
              <a:rect l="l" t="t" r="r" b="b"/>
              <a:pathLst>
                <a:path w="1632" h="1528">
                  <a:moveTo>
                    <a:pt x="0" y="1528"/>
                  </a:moveTo>
                  <a:cubicBezTo>
                    <a:pt x="40" y="1488"/>
                    <a:pt x="80" y="1448"/>
                    <a:pt x="144" y="1288"/>
                  </a:cubicBezTo>
                  <a:cubicBezTo>
                    <a:pt x="208" y="1128"/>
                    <a:pt x="312" y="768"/>
                    <a:pt x="384" y="568"/>
                  </a:cubicBezTo>
                  <a:cubicBezTo>
                    <a:pt x="456" y="368"/>
                    <a:pt x="496" y="176"/>
                    <a:pt x="576" y="88"/>
                  </a:cubicBezTo>
                  <a:cubicBezTo>
                    <a:pt x="656" y="0"/>
                    <a:pt x="784" y="24"/>
                    <a:pt x="864" y="40"/>
                  </a:cubicBezTo>
                  <a:cubicBezTo>
                    <a:pt x="944" y="56"/>
                    <a:pt x="1000" y="88"/>
                    <a:pt x="1056" y="184"/>
                  </a:cubicBezTo>
                  <a:cubicBezTo>
                    <a:pt x="1112" y="280"/>
                    <a:pt x="1160" y="488"/>
                    <a:pt x="1200" y="616"/>
                  </a:cubicBezTo>
                  <a:cubicBezTo>
                    <a:pt x="1240" y="744"/>
                    <a:pt x="1264" y="848"/>
                    <a:pt x="1296" y="952"/>
                  </a:cubicBezTo>
                  <a:cubicBezTo>
                    <a:pt x="1328" y="1056"/>
                    <a:pt x="1336" y="1152"/>
                    <a:pt x="1392" y="1240"/>
                  </a:cubicBezTo>
                  <a:cubicBezTo>
                    <a:pt x="1448" y="1328"/>
                    <a:pt x="1540" y="1404"/>
                    <a:pt x="1632" y="1480"/>
                  </a:cubicBezTo>
                </a:path>
              </a:pathLst>
            </a:custGeom>
            <a:solidFill>
              <a:srgbClr val="d60093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4480" y="2565360"/>
              <a:ext cx="1675080" cy="2389320"/>
            </a:xfrm>
            <a:custGeom>
              <a:avLst/>
              <a:gdLst/>
              <a:ahLst/>
              <a:rect l="l" t="t" r="r" b="b"/>
              <a:pathLst>
                <a:path w="912" h="1392">
                  <a:moveTo>
                    <a:pt x="912" y="0"/>
                  </a:moveTo>
                  <a:cubicBezTo>
                    <a:pt x="888" y="120"/>
                    <a:pt x="864" y="240"/>
                    <a:pt x="816" y="384"/>
                  </a:cubicBezTo>
                  <a:cubicBezTo>
                    <a:pt x="768" y="528"/>
                    <a:pt x="680" y="744"/>
                    <a:pt x="624" y="864"/>
                  </a:cubicBezTo>
                  <a:cubicBezTo>
                    <a:pt x="568" y="984"/>
                    <a:pt x="560" y="1024"/>
                    <a:pt x="480" y="1104"/>
                  </a:cubicBezTo>
                  <a:cubicBezTo>
                    <a:pt x="400" y="1184"/>
                    <a:pt x="224" y="1296"/>
                    <a:pt x="144" y="1344"/>
                  </a:cubicBezTo>
                  <a:cubicBezTo>
                    <a:pt x="64" y="1392"/>
                    <a:pt x="32" y="1392"/>
                    <a:pt x="0" y="1392"/>
                  </a:cubicBezTo>
                </a:path>
              </a:pathLst>
            </a:custGeom>
            <a:noFill/>
            <a:ln w="76320">
              <a:solidFill>
                <a:srgbClr val="e1e1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36480" y="4955040"/>
              <a:ext cx="45464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536480" y="1284840"/>
              <a:ext cx="1440" cy="366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14400">
              <a:off x="-150120" y="3017880"/>
              <a:ext cx="25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umber of 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2320" y="5040360"/>
              <a:ext cx="20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Fibre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46120" y="5040360"/>
              <a:ext cx="7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4920" y="5040360"/>
              <a:ext cx="87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9F31-4075-46FB-B672-0CA46F8F53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ngth and strength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80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und, long wools preferred otherwise reduced yield, inferior y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mbing removes short fibres but at expense of yiel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le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andles shorter wools (provided not extre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ery long wools cause problem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emi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o combing so long, sound wool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1562-81C1-44B2-A049-FE18F4FFD1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235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te and bright wools preferred for most product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ellow wools limit dye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so may indicate microbial damag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igmented fibres to be avoided for apparel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ecified by X, Y, Z tristimulu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rightness: Y (the higher the b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ellowness: Y – Z (the lower the be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C880-A408-497F-B983-3CD386926D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9628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 of colour on dye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272360" cy="45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8B27-8CE8-4F53-BCFA-D46B64E825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p and its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280" y="83664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p has an important influence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k (the ability of wool to fill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to Compression (compressibility of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tre (level of shininess of fib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003560"/>
            <a:ext cx="7777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500280"/>
            <a:ext cx="19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r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3500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cri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2560" y="4148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ow bulk, low resistance to compression, high lustre, generally coarser w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4148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bulk, high resistance to compression, lower lustre, generally finer w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543D-3117-483D-824F-31E11CCB8E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p in wool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beneficial in knitwear and car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ringy handle and warmth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w crimp (ie, high lustre) less desirable in machine-made carpet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gher crimp frequency is disadvantageous in wors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duces shorter 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arns weaker and more 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w crimp better for smoother, soft-handling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9022-C68E-47EE-9D03-6E368F0A08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010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getable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135080"/>
            <a:ext cx="7417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ellulosic contaminant: burrs, grass seeds, thistles, hard heads, chaff, twigs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me types (eg, shive) more of a problem for removal in processing, hence dis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gh levels may necessitate carbon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asured as part of Yield Test (NaOH dig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port VM level (%) and typ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65FB-E126-49DF-A1F8-DDA4C52EECC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41036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ul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20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ollow core (medulla) in some coarser wool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mnant of outer coat of primitive sheep breeds, g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red out of finer breeds to eliminate in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ceptable in carpet blends – uniqu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dullated fibres won’t take dye as ordinary fibre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4895640" cy="294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26920" y="3284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ypes of medu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3D41-334D-46C6-B4BA-47D7DAF4793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’s compet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generated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ayon (1900) – from wood pulp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ynthetic fibres – from petro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amide (ie, Nylon) (19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ester (19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rylic (19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lypropylene (1960)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tton complementary rather than a compet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347920" cy="48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1CB7-A53F-4BC2-8421-F791DEBACC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bl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279080"/>
            <a:ext cx="80010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lending different w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produce a yarn meeting a specification at cheapes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add special features, eg, bulk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llen spinning – more diverse types combined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rsted and semiworsted spinning – more uniform, better quality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3ADA-3DFD-4F79-AECD-E831F99C6F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5914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rcially important properties of w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length and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p/bulk/lu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ble matt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ullation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59E6-B7D1-47AE-BCBD-8D10F2F22F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ends of wool with other fib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8640" y="907560"/>
            <a:ext cx="8001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best features of the fibr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wool-like properties similar to 100% w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on combin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/cotton (Viyella) – light-weight appa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Wool/ 80% nylon – for abrasion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/polyester – easy-care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-Lycra – to add 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E677-59B6-4113-95B8-635CB29780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5BCE-1B1C-4817-8E17-A7550C113DB6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most important textile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s suitability of wool for end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fineness to which a yarn can be sp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 wools produce fine, soft-handling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: micron – 1 micron = 1/1,000,000 me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7D00-03BE-48F9-B091-135A9F23BB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77480"/>
            <a:ext cx="80010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 requirements for wool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480360" cy="42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BA99-45B4-4232-97E8-EC996F771A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010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ide variation in fibre diameter in a flock or individual fleec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bre diameter distribution depicts diameter range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Mean Fibre Diamete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used as fineness indicator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efficient of variation of fibre diameter CV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asures range of diameters</a:t>
            </a:r>
            <a:br>
              <a:rPr sz="2000"/>
            </a:b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dern instruments OFDA and Laserscan provide complete fibre diamete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5845-AB27-486B-9521-DB359C387C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900000" y="1481040"/>
            <a:ext cx="7416720" cy="4179600"/>
            <a:chOff x="900000" y="1481040"/>
            <a:chExt cx="7416720" cy="4179600"/>
          </a:xfrm>
        </p:grpSpPr>
        <p:grpSp>
          <p:nvGrpSpPr>
            <p:cNvPr id="102" name=""/>
            <p:cNvGrpSpPr/>
            <p:nvPr/>
          </p:nvGrpSpPr>
          <p:grpSpPr>
            <a:xfrm>
              <a:off x="900000" y="2562120"/>
              <a:ext cx="5832360" cy="3098520"/>
              <a:chOff x="900000" y="2562120"/>
              <a:chExt cx="5832360" cy="3098520"/>
            </a:xfrm>
          </p:grpSpPr>
          <p:sp>
            <p:nvSpPr>
              <p:cNvPr id="103" name=""/>
              <p:cNvSpPr/>
              <p:nvPr/>
            </p:nvSpPr>
            <p:spPr>
              <a:xfrm>
                <a:off x="214128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63520" y="4367880"/>
                <a:ext cx="0" cy="672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55680" y="4279680"/>
                <a:ext cx="0" cy="7603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145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2380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320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4912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063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9848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89200" y="4716720"/>
                <a:ext cx="0" cy="323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46400" y="4105080"/>
                <a:ext cx="0" cy="9349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38200" y="3930840"/>
                <a:ext cx="0" cy="11095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28920" y="3842640"/>
                <a:ext cx="0" cy="11973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20720" y="3668040"/>
                <a:ext cx="0" cy="13719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288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03600" y="3319200"/>
                <a:ext cx="0" cy="1721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9540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786120" y="3231000"/>
                <a:ext cx="0" cy="180900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77920" y="3142800"/>
                <a:ext cx="0" cy="189720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70080" y="3319200"/>
                <a:ext cx="0" cy="1721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60800" y="3405600"/>
                <a:ext cx="0" cy="1634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52600" y="3493440"/>
                <a:ext cx="0" cy="1546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43320" y="3493440"/>
                <a:ext cx="0" cy="15465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35120" y="3579840"/>
                <a:ext cx="0" cy="14601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5840" y="3756240"/>
                <a:ext cx="0" cy="128376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18000" y="3930840"/>
                <a:ext cx="0" cy="11095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9800" y="4105080"/>
                <a:ext cx="0" cy="9349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00520" y="4279680"/>
                <a:ext cx="0" cy="7603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92320" y="4542120"/>
                <a:ext cx="0" cy="4978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83040" y="4630320"/>
                <a:ext cx="0" cy="409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7520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67000" y="4716720"/>
                <a:ext cx="0" cy="323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57720" y="4804920"/>
                <a:ext cx="0" cy="235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49520" y="4893120"/>
                <a:ext cx="0" cy="1472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49120" y="4979520"/>
                <a:ext cx="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923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779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635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49120" y="4893120"/>
                <a:ext cx="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81000" y="4630320"/>
                <a:ext cx="0" cy="4096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71720" y="4456080"/>
                <a:ext cx="0" cy="5842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57320" y="5067360"/>
                <a:ext cx="365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957320" y="2975760"/>
                <a:ext cx="0" cy="209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4024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324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24200" y="4979520"/>
                <a:ext cx="0" cy="608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54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98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6600" y="5161320"/>
                <a:ext cx="36540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81000" y="5155560"/>
                <a:ext cx="36540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0240" y="5155560"/>
                <a:ext cx="13921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bre diameter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57320" y="445608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7320" y="384264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57320" y="3231000"/>
                <a:ext cx="18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00120" y="3063960"/>
                <a:ext cx="366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00120" y="3668040"/>
                <a:ext cx="366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00120" y="4279680"/>
                <a:ext cx="366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00000" y="2562120"/>
                <a:ext cx="9604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umber of fib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51280" y="2346480"/>
              <a:ext cx="0" cy="64764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5640" y="1481040"/>
              <a:ext cx="28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 Narrow"/>
                </a:rPr>
                <a:t>Mean fibre diameter             = 25 micr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16000" y="4362480"/>
              <a:ext cx="194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16360" y="3137040"/>
              <a:ext cx="36003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ndard deviation of 10 microns gives C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of 4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51280" y="3497040"/>
              <a:ext cx="86508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fibre diameter 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0DAC-27A9-40CC-847B-0DAA556CE73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858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ameter and fibre be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ibre as a flexible ro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required to bend varies as square of di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, a 20 micron fibr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 ti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flexible than a 40 micron fib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for diameter effect on fabric handle and dra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 prickle explained by Euler’s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2C10-E571-42CD-ADC1-3E1F180A2B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6178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s of prick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5400720" cy="45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1D4F-F488-417A-82A0-5DC34A5FF5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01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length and str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3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s most suitable processing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mportant as fibre diameter for coarser wo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fibre breakage in carding (mostly) fibre length can change significant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/stronger wools easier to spin and better yar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ple length and strength measurements used to assess these fibr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048B-F142-4E99-8269-A90CEC8E51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4:52:09Z</dcterms:created>
  <dc:creator>ES</dc:creator>
  <dc:description/>
  <dc:language>en-US</dc:language>
  <cp:lastModifiedBy>Sally Mahony</cp:lastModifiedBy>
  <dcterms:modified xsi:type="dcterms:W3CDTF">2005-05-23T05:15:57Z</dcterms:modified>
  <cp:revision>69</cp:revision>
  <dc:subject/>
  <dc:title>PowerPoint Presentation</dc:title>
</cp:coreProperties>
</file>