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69E3-CD64-4DAA-B953-F0B260D5F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FE35-658F-4775-80DF-C8DAC25AF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FCCF-F8FC-4F80-B2E7-C645729FE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150B-7CBB-473C-9E38-F2D472847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1707-8B1F-48CB-92CB-ED9E311C5C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DADD-185E-49CE-A898-8CA0ACA94D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54E4-BE07-4F10-B357-5BB1924D20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E961-E4A3-431F-974A-C321857679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F0B3-DC28-437D-B15D-8873B4F4AD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7CCA-8174-4735-AD53-12AEF5E099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E575-64D1-49A2-B321-C6966DBF7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5F05-7295-47AC-B570-151BA300A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2356-2B65-4FE0-9B88-D20B11077D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D9A0-AD98-4A49-9D63-D71DCA3111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F479-DFB0-4FB1-B186-F5229015D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B754-01CB-4E7E-91FD-E3586A3267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9C6E-6102-4D51-9CCF-5A2A8A7446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EE68-AC5F-44FA-B2C5-F1722BF85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EA0A-41D1-4CAD-B6C7-127A6B4C3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5F2C-B691-4846-802C-C595A8470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6A28-C48C-4391-BDEC-23A8E1273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5347-EBDA-4BC3-8811-AD9293045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B321-91E3-4ECA-B17C-1AF3F8BC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367F-6132-468A-B191-125AFB76C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DE1B-B06E-46B1-A75F-19CBD9A6276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BFDA-0334-4285-AD05-23F9AEBFD17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12063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e Markets for Australian Woo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6320" y="4060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27F3-713E-47D3-ADBF-5B623A1236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ustralian Wool Expor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ong lift in export demand for Australian fine and superfine merino wool in the pas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rresponding fall in export demand for medium-fine and other wools from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4440-D822-4997-9518-C98D1FEF7B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4760"/>
            <a:ext cx="86868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nds in Wool Exports by Micron Category, Australia</a:t>
            </a:r>
            <a:br>
              <a:rPr sz="3200"/>
            </a:b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BS (2005). Data for calendar years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6360" y="1295280"/>
          <a:ext cx="4348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95280"/>
                    <a:ext cx="4348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471680" y="5181480"/>
            <a:ext cx="6605280" cy="381240"/>
            <a:chOff x="1471680" y="5181480"/>
            <a:chExt cx="6605280" cy="381240"/>
          </a:xfrm>
        </p:grpSpPr>
        <p:sp>
          <p:nvSpPr>
            <p:cNvPr id="92" name=""/>
            <p:cNvSpPr/>
            <p:nvPr/>
          </p:nvSpPr>
          <p:spPr>
            <a:xfrm>
              <a:off x="1471680" y="5195880"/>
              <a:ext cx="6605280" cy="36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1000" y="5389560"/>
              <a:ext cx="2174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51200" y="5394240"/>
              <a:ext cx="33336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65640" y="5381640"/>
              <a:ext cx="4176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663560" y="5321160"/>
              <a:ext cx="398520" cy="115920"/>
              <a:chOff x="1663560" y="5321160"/>
              <a:chExt cx="398520" cy="115920"/>
            </a:xfrm>
          </p:grpSpPr>
          <p:sp>
            <p:nvSpPr>
              <p:cNvPr id="97" name=""/>
              <p:cNvSpPr/>
              <p:nvPr/>
            </p:nvSpPr>
            <p:spPr>
              <a:xfrm>
                <a:off x="1663560" y="5370480"/>
                <a:ext cx="3985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30240" y="5321160"/>
                <a:ext cx="98640" cy="115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032920" y="519444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um &amp; f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13680" y="520380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-23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36040" y="51814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4-27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27800" y="5191200"/>
              <a:ext cx="163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7um &amp; bro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718160" y="1295280"/>
          <a:ext cx="432756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8160" y="1295280"/>
                    <a:ext cx="43275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087640" y="12193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3320" y="12193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C85D-0D7F-4BF8-8625-9D29713D7C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ustralian Wool Export Dest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5840" y="18028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na and India have increased share as processors of Australian wool, with China expanding as a processor of fine/superfine wool to first place ahead of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pan and North America have lost share as export destinations for Australian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9946-A0B0-426A-AE94-7D7C03E16F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46040" y="1406520"/>
          <a:ext cx="8433000" cy="42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406520"/>
                    <a:ext cx="8433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4240" y="68400"/>
            <a:ext cx="8699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ine Wool Expor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China &amp; Italy - 19 Micron &amp; Finer</a:t>
            </a:r>
            <a:br>
              <a:rPr sz="32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ABS, Woolmark (2005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 Data are rolling 12 monthly totals. 2004 data are understated due to the confidentiality restrictions on top export destinations from September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18800" y="2180160"/>
            <a:ext cx="59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56ac"/>
                </a:solidFill>
                <a:latin typeface="Arial"/>
              </a:rPr>
              <a:t>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75320" y="402660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F034-EC26-448B-ABEF-5CB4C9490C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elocation of Woo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in apparel wool availability in the pipeline mirrors declining raw wool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location of wool processing in the past 10 years sees China and Western Europe dominating the spinning of Australian w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ased competition at retail is bringing further relocation of spinning and weaving from Western Europe, Japan and Korea to China, India and Ea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bour costs have been the major driver of this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2CE4-7055-4E6E-821F-DE61C3AEA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998640" y="1341360"/>
          <a:ext cx="693108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1341360"/>
                    <a:ext cx="693108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1240" y="85320"/>
            <a:ext cx="8049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Costs in the Textile Industry 2004 (US$/hour)</a:t>
            </a:r>
            <a:br>
              <a:rPr sz="3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Werner 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D915-DF7C-4319-A858-74F58EED00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Retail Demand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lobal wool demand has declined in the pas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knitwear, the decline is due to competition from other fibres in price-sensitive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ol maintains a dominant share in men’s suiting, but its position in jackets and trousers is sta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ol’s position has weakened in women’s wear due to a greater emphasis on price, fashion, fabric handle, fluidity and col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5C4F-6F67-43B2-9DE7-E6A19E7D0C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27F8-BD19-4A4A-B7D2-147EC33577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1:53:08Z</dcterms:created>
  <dc:creator>mcleisw</dc:creator>
  <dc:description/>
  <dc:language>en-US</dc:language>
  <cp:lastModifiedBy>Sally Mahony</cp:lastModifiedBy>
  <dcterms:modified xsi:type="dcterms:W3CDTF">2005-05-23T05:01:12Z</dcterms:modified>
  <cp:revision>129</cp:revision>
  <dc:subject/>
  <dc:title>PowerPoint Presentation</dc:title>
</cp:coreProperties>
</file>