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0F1-AB5F-4A03-8B25-58089BE2ABC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289B-BF5A-423D-958A-213F4B24F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EAF9-3B8E-454E-89F9-E4D30E3E0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09DA-3161-463B-A4CD-AF69E0F21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4CFD-6B9C-4AA7-AB0A-85C520DAA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A9E0-C23C-4DC2-B4A9-A69CD1BDD8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ECEC-6CE4-4B88-928E-57F47283E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5A22-24D9-4718-8EA5-03AE8AC91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C56E-2E08-47ED-84E0-81076ACC7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5111-6613-4E11-B4F4-E7FE7BBAF6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937F-A2FD-4078-9451-8EECFF951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357D-8156-4567-942F-BE9E4BE30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71E5-D3C9-42B3-9930-51C51691E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61B9-BB59-4A11-99C9-BB3CA62409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2D02-C32F-44FA-A70D-2D4398FD7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7181-245F-4C70-B75A-335CFD14E1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2245-832F-4B79-A755-E6E8E5EECA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C909-63CA-4C53-8161-568E7590F9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9910-9195-41BC-B837-3C4CF7D7D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8A45-80E5-4DB3-B637-CDA3737D3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278A-7ABD-4B46-A2D2-E932D06E1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443F-FDD5-42D7-B8F0-C8C48B5E2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0EF8-36A2-47AD-A6A6-66BFFC553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F95E-3EA5-4E41-967E-0AAF95447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EDA-21F9-4D6D-B8BC-736B65B77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171-BD44-4552-AA8D-1BF6C978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197-ADE6-4DB8-A2A8-18B7280C7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 Management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ol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88920" y="50180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 –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5B8F-2A6F-4A4F-9678-16284B96AA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nt of pric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2736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will generally move by up to 35-40% over twelve month peri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this figure has been &gt;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435640" cy="383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22936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Man Financial (unpub.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54EC-ED12-469A-8FAC-1D621FF237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Risk Management Products in the Wool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558800"/>
            <a:ext cx="2016000" cy="287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285588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or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400860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5016600"/>
            <a:ext cx="2016000" cy="287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s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1970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91916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 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5588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ction Alternatives (Electro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49552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r / Processor Supply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1480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Based Forwar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85444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 Forwar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379260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Traded (S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415116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C (Macquarie Bank and N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4800600"/>
            <a:ext cx="3095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 Traded (S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5159520"/>
            <a:ext cx="3095640" cy="288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C (Macquarie 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99" idx="3"/>
            <a:endCxn id="103" idx="1"/>
          </p:cNvCxnSpPr>
          <p:nvPr/>
        </p:nvCxnSpPr>
        <p:spPr>
          <a:xfrm flipV="1">
            <a:off x="3851280" y="1341360"/>
            <a:ext cx="792720" cy="36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9" idx="3"/>
            <a:endCxn id="105" idx="1"/>
          </p:cNvCxnSpPr>
          <p:nvPr/>
        </p:nvCxnSpPr>
        <p:spPr>
          <a:xfrm>
            <a:off x="3851280" y="1703160"/>
            <a:ext cx="792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99" idx="3"/>
            <a:endCxn id="104" idx="1"/>
          </p:cNvCxnSpPr>
          <p:nvPr/>
        </p:nvCxnSpPr>
        <p:spPr>
          <a:xfrm>
            <a:off x="3851280" y="1703160"/>
            <a:ext cx="792720" cy="3610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0" idx="3"/>
            <a:endCxn id="106" idx="1"/>
          </p:cNvCxnSpPr>
          <p:nvPr/>
        </p:nvCxnSpPr>
        <p:spPr>
          <a:xfrm flipV="1">
            <a:off x="3851280" y="2639160"/>
            <a:ext cx="792720" cy="3610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0" idx="3"/>
            <a:endCxn id="108" idx="1"/>
          </p:cNvCxnSpPr>
          <p:nvPr/>
        </p:nvCxnSpPr>
        <p:spPr>
          <a:xfrm flipV="1">
            <a:off x="3851280" y="2998440"/>
            <a:ext cx="792720" cy="2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0" idx="3"/>
            <a:endCxn id="107" idx="1"/>
          </p:cNvCxnSpPr>
          <p:nvPr/>
        </p:nvCxnSpPr>
        <p:spPr>
          <a:xfrm>
            <a:off x="3851280" y="2999880"/>
            <a:ext cx="792720" cy="359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3"/>
            <a:endCxn id="109" idx="1"/>
          </p:cNvCxnSpPr>
          <p:nvPr/>
        </p:nvCxnSpPr>
        <p:spPr>
          <a:xfrm flipV="1">
            <a:off x="3851280" y="3936600"/>
            <a:ext cx="792720" cy="216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1" idx="3"/>
            <a:endCxn id="110" idx="1"/>
          </p:cNvCxnSpPr>
          <p:nvPr/>
        </p:nvCxnSpPr>
        <p:spPr>
          <a:xfrm>
            <a:off x="3851280" y="4152600"/>
            <a:ext cx="792720" cy="143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2" idx="3"/>
            <a:endCxn id="111" idx="1"/>
          </p:cNvCxnSpPr>
          <p:nvPr/>
        </p:nvCxnSpPr>
        <p:spPr>
          <a:xfrm flipV="1">
            <a:off x="3851280" y="4944600"/>
            <a:ext cx="792720" cy="216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3"/>
            <a:endCxn id="112" idx="1"/>
          </p:cNvCxnSpPr>
          <p:nvPr/>
        </p:nvCxnSpPr>
        <p:spPr>
          <a:xfrm>
            <a:off x="3851280" y="5160600"/>
            <a:ext cx="792720" cy="14364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2F7A-4A93-44A4-8025-40AB2FC93C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ward Physical Contracts Typical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44520" y="1341360"/>
            <a:ext cx="699948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9FFD-EEB4-4479-8319-6FC513A5C9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Futures Volumes by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396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9079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Sydney Futures Exchange (1995-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9A96-14FD-4DEB-9C80-397DBC7700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Wool Risk Managem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Index Based Contracts and Forward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lso managed internally through expenditur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rs and Expor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est users of futures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to construct contracts for produce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forward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3A54-FC05-448C-9DB4-3193F3658D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9075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4673-1605-40D1-B8AA-8DEE7005F34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6-06T02:03:32Z</dcterms:modified>
  <cp:revision>16</cp:revision>
  <dc:subject/>
  <dc:title>Participants in the Wool Marketing Chain</dc:title>
</cp:coreProperties>
</file>