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A1E3-F702-46E7-A2ED-00C4DAFCC96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4400" y="743040"/>
            <a:ext cx="4952880" cy="3714840"/>
          </a:xfrm>
          <a:prstGeom prst="rect">
            <a:avLst/>
          </a:prstGeom>
          <a:ln w="0">
            <a:noFill/>
          </a:ln>
        </p:spPr>
      </p:sp>
      <p:sp>
        <p:nvSpPr>
          <p:cNvPr id="11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4400" y="743040"/>
            <a:ext cx="4952880" cy="3714840"/>
          </a:xfrm>
          <a:prstGeom prst="rect">
            <a:avLst/>
          </a:prstGeom>
          <a:ln w="0">
            <a:noFill/>
          </a:ln>
        </p:spPr>
      </p:sp>
      <p:sp>
        <p:nvSpPr>
          <p:cNvPr id="11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30 considered the general principles of the supply chain as a structure, and also looked at the implications for a more managed supply chain approach (i.e. the concept of supply chain manag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it is really important to understand the difference a supply chain as an entity, compared to the concept of supply chain management, which defines a specific approach to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looks at the competitive position of wool as a textile fibre compared to other competing fibres (both cottons, man-made etc).  It also looks at the changing demands of the consumer, the role of wool description and looks at the role of description in the future of the wool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4400" y="743040"/>
            <a:ext cx="4952880" cy="3714840"/>
          </a:xfrm>
          <a:prstGeom prst="rect">
            <a:avLst/>
          </a:prstGeom>
          <a:ln w="0">
            <a:noFill/>
          </a:ln>
        </p:spPr>
      </p:sp>
      <p:sp>
        <p:nvSpPr>
          <p:cNvPr id="12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realise that the needs of the consumer are changing rapidly. We need to analyse what the consumer is looking for in terms of purchase decisions/drivers if we are going to maximise the success of our product.  This is the same for wool as for any other product group (food, consumer good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rise in the importance of intangible product characteristics to consumers. These are the ‘soft’ product attributes such as product origin, concepts of naturalness etc.  These can be important to some consumer groups. Wool is often quite ‘rich’ in these characteristics, although we don’t always describe them very effe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desire amongst consumers to have something unique. This can  present a significant challenge for manufacturers and also for wool as a fibre. The desire for something unique links to the concept of mass customisation – the design and manufacturing process of taking a mass produced good and customising it in ways that give it a degree of uniqueness for individual consum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4400" y="743040"/>
            <a:ext cx="4952880" cy="3714840"/>
          </a:xfrm>
          <a:prstGeom prst="rect">
            <a:avLst/>
          </a:prstGeom>
          <a:ln w="0">
            <a:noFill/>
          </a:ln>
        </p:spPr>
      </p:sp>
      <p:sp>
        <p:nvSpPr>
          <p:cNvPr id="12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looks at the relative importance of consumer income with respect to the influence of price and intangible factors on purchase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shows that as the income of a consumer increases then price becomes less important and intangible factors of the product become more important I terms of their contribution to a purchase decis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4400" y="743040"/>
            <a:ext cx="4952880" cy="3714840"/>
          </a:xfrm>
          <a:prstGeom prst="rect">
            <a:avLst/>
          </a:prstGeom>
          <a:ln w="0">
            <a:noFill/>
          </a:ln>
        </p:spPr>
      </p:sp>
      <p:sp>
        <p:nvSpPr>
          <p:cNvPr id="12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needs to be recognised that wool demand is being influenced by both changing lifestyle and changing technology.  This has come about because of a number of factors such as: increased levels of environmental control in buildings and transport systems meaning that clothes do not need to be as warm as they used to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also been successive and significant changes in both the cost and the performance characteristics of synthetic fibres. Synthetic fibres can now be both cheaper and have higher levels of performance than wool with respect to certain functiona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also been a process of casualisation. People are now wearing less formal or traditional apparel (i.e. su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decrease in the amount of disposable income spent on apparel purchases.  Relatively, clothing apparel is becoming less important to consumers than it has been in the past. Income previously spent on clothes now competes for the consumer dollar with things like electronics and holiday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4400" y="743040"/>
            <a:ext cx="4952880" cy="3714840"/>
          </a:xfrm>
          <a:prstGeom prst="rect">
            <a:avLst/>
          </a:prstGeom>
          <a:ln w="0">
            <a:noFill/>
          </a:ln>
        </p:spPr>
      </p:sp>
      <p:sp>
        <p:nvSpPr>
          <p:cNvPr id="12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herent diversity in wool is important to remember. As a wool production sector, farmers sell a range of raw wool products. Each of these wools have a different end use and are treated individually by the 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versity is confirmed by the table on this slide which shows that for a range of fibre faults the impact varies between wool types.  For example, the impact of high vegetable matter contamination on a superfine type is more severe (11%) discount compared to a strong merino type (5% discou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rule is that for the higher value end-use applications, the discount applied for quality faults is hig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4400" y="743040"/>
            <a:ext cx="4952880" cy="3714840"/>
          </a:xfrm>
          <a:prstGeom prst="rect">
            <a:avLst/>
          </a:prstGeom>
          <a:ln w="0">
            <a:noFill/>
          </a:ln>
        </p:spPr>
      </p:sp>
      <p:sp>
        <p:nvSpPr>
          <p:cNvPr id="12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slide also indicates that inherent in the wool fibre are a range of contaminants and product faults. It is also produced across a broad array of farms in geographically isolated areas. These characteristics mean the fibre is at a competitive dis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ply chains as a whole is also at a competitive disadvantage.  This diagram shows the comparative costs of wool, polyester and cotton at various stages of the supply chain - wool is the most expensive at each s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anslates through to more expensive products and process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3040"/>
            <a:ext cx="4952880" cy="3714840"/>
          </a:xfrm>
          <a:prstGeom prst="rect">
            <a:avLst/>
          </a:prstGeom>
          <a:ln w="0">
            <a:noFill/>
          </a:ln>
        </p:spPr>
      </p:sp>
      <p:sp>
        <p:nvSpPr>
          <p:cNvPr id="13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cription of raw wool is a vital information link to the market.  If we have either too much or too little description, value can be lost or costs are added unnecessar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uture description may be used for the opportunity of prediction or customisation. This allows for opportunities for reducing processing risk, optimizing price (through the fine tuning of purchase decisions) and also undertaking of quality management programs both within and between processing pla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2D5EA-CF7D-4296-95DC-DF47D56639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63ABA-FEDF-4CE4-8674-26F0473153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E43C19-B210-4689-AE86-406113D5C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6205F-1A56-458E-9309-7CCE2E5E31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59C051-6CB9-429A-9372-DD75E0A723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0DD0C8A3-C015-49A2-BE34-621DBFE791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27CFA8-9FA3-4875-B032-479B701FE8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A789DDD-3AE9-4753-B15F-ED445B39C2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BB9A017-DC9A-420D-9965-052F806DC3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3A21FBF4-5EBA-4CDD-8E79-3C3913EDB7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A2D6C0-8B06-40B5-A635-50EF23811B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4C3B9647-5BE3-4406-8F48-A23DBA066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1409AF9-2067-4332-898D-9FA98E17D7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EC3734-EC50-440D-BCA3-53139BA1B9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2DFBEC9-2CD3-46ED-A2EA-856EE1B5EC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8CC1881-0F17-42B6-95E6-2AB9A8C59E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30A43FF-9E6C-4A62-88A9-EEDFDAE4AF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44B5B-3279-4DB6-AE40-B5A74460EC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D1B208-B267-4792-96B8-AA258D08E6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5F6B7BF9-0346-4768-84EF-CA4257AE13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902F9589-AC13-4436-9F5B-02B78AEC61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EB251-8DC3-45A3-929A-25D29CB316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AC14A-C582-456E-A037-4617B95F7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02874-9088-4AE6-A7BD-CBCAE33519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03AB-5B91-42B4-BC57-012B48C0D20D}"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29C4-30D3-4192-B78F-CF2D431F3675}"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756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Principles</a:t>
            </a:r>
            <a:endParaRPr b="0" lang="en-US" sz="3600" spc="-1" strike="noStrike">
              <a:solidFill>
                <a:srgbClr val="000000"/>
              </a:solidFill>
              <a:latin typeface="Arial"/>
            </a:endParaRPr>
          </a:p>
        </p:txBody>
      </p:sp>
      <p:sp>
        <p:nvSpPr>
          <p:cNvPr id="92" name="PlaceHolder 2"/>
          <p:cNvSpPr>
            <a:spLocks noGrp="1"/>
          </p:cNvSpPr>
          <p:nvPr>
            <p:ph type="subTitle"/>
          </p:nvPr>
        </p:nvSpPr>
        <p:spPr>
          <a:xfrm>
            <a:off x="1627200" y="396252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4 – Lecture 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C8EA28-2667-4C9E-BDC8-E5F682E1F5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00000" y="141300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545658C-AEB5-4E3D-9809-2DCCA2D8E124}"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15920"/>
            <a:ext cx="685800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and Context</a:t>
            </a:r>
            <a:endParaRPr b="0" lang="en-US" sz="2800" spc="-1" strike="noStrike">
              <a:solidFill>
                <a:srgbClr val="000000"/>
              </a:solidFill>
              <a:latin typeface="Arial"/>
            </a:endParaRPr>
          </a:p>
        </p:txBody>
      </p:sp>
      <p:sp>
        <p:nvSpPr>
          <p:cNvPr id="94" name="PlaceHolder 2"/>
          <p:cNvSpPr>
            <a:spLocks noGrp="1"/>
          </p:cNvSpPr>
          <p:nvPr>
            <p:ph/>
          </p:nvPr>
        </p:nvSpPr>
        <p:spPr>
          <a:xfrm>
            <a:off x="610920" y="1123560"/>
            <a:ext cx="8001000" cy="4033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inciples of the supply chain as a structure. Also the implications for a more managed supply chain approach, i.e. SCM</a:t>
            </a:r>
            <a:br>
              <a:rPr sz="2000"/>
            </a:br>
            <a:r>
              <a:rPr b="0" lang="en-US" sz="2000" spc="-1" strike="noStrike">
                <a:solidFill>
                  <a:srgbClr val="000000"/>
                </a:solidFill>
                <a:latin typeface="Arial"/>
              </a:rPr>
              <a:t>(see Topic 14 Lecture 2)</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position of wool as a textile fib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demands of the consume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wool descrip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for the futu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140F3-4707-4081-9AB2-292DB5E89FB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1556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hanging Consumer</a:t>
            </a:r>
            <a:endParaRPr b="0" lang="en-US" sz="3200" spc="-1" strike="noStrike">
              <a:solidFill>
                <a:srgbClr val="000000"/>
              </a:solidFill>
              <a:latin typeface="Arial"/>
            </a:endParaRPr>
          </a:p>
        </p:txBody>
      </p:sp>
      <p:sp>
        <p:nvSpPr>
          <p:cNvPr id="96" name="PlaceHolder 2"/>
          <p:cNvSpPr>
            <a:spLocks noGrp="1"/>
          </p:cNvSpPr>
          <p:nvPr>
            <p:ph/>
          </p:nvPr>
        </p:nvSpPr>
        <p:spPr>
          <a:xfrm>
            <a:off x="1131480" y="1168200"/>
            <a:ext cx="6753240" cy="42051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 is changin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nalyse what the consumer is looking for to maximise product succes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e of ‘intangibl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for something unique – the challenge of ‘mass customis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C8742-B1D6-4CD6-BB92-ED378C55F0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7000" y="188640"/>
            <a:ext cx="8001000" cy="42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uence of Consumer Income</a:t>
            </a:r>
            <a:endParaRPr b="0" lang="en-US" sz="3200" spc="-1" strike="noStrike">
              <a:solidFill>
                <a:srgbClr val="000000"/>
              </a:solidFill>
              <a:latin typeface="Arial"/>
            </a:endParaRPr>
          </a:p>
        </p:txBody>
      </p:sp>
      <p:sp>
        <p:nvSpPr>
          <p:cNvPr id="98"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9" name=""/>
          <p:cNvGraphicFramePr/>
          <p:nvPr/>
        </p:nvGraphicFramePr>
        <p:xfrm>
          <a:off x="826920" y="692280"/>
          <a:ext cx="4792680" cy="5041800"/>
        </p:xfrm>
        <a:graphic>
          <a:graphicData uri="http://schemas.openxmlformats.org/presentationml/2006/ole">
            <p:oleObj r:id="rId1" spid="">
              <p:embed/>
              <p:pic>
                <p:nvPicPr>
                  <p:cNvPr id="100" name="" descr=""/>
                  <p:cNvPicPr/>
                  <p:nvPr/>
                </p:nvPicPr>
                <p:blipFill>
                  <a:blip r:embed="rId2"/>
                  <a:stretch/>
                </p:blipFill>
                <p:spPr>
                  <a:xfrm>
                    <a:off x="826920" y="692280"/>
                    <a:ext cx="4792680" cy="5041800"/>
                  </a:xfrm>
                  <a:prstGeom prst="rect">
                    <a:avLst/>
                  </a:prstGeom>
                  <a:ln w="0">
                    <a:noFill/>
                  </a:ln>
                </p:spPr>
              </p:pic>
            </p:oleObj>
          </a:graphicData>
        </a:graphic>
      </p:graphicFrame>
      <p:sp>
        <p:nvSpPr>
          <p:cNvPr id="101" name=""/>
          <p:cNvSpPr/>
          <p:nvPr/>
        </p:nvSpPr>
        <p:spPr>
          <a:xfrm>
            <a:off x="5941800" y="5228640"/>
            <a:ext cx="29527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ource: Adapted from von Alvensleben (1997)</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7E1ADC18-03D1-41D0-A8F8-5B1956E812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0"/>
            <a:ext cx="685800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in a Changing World</a:t>
            </a:r>
            <a:endParaRPr b="0" lang="en-US" sz="3200" spc="-1" strike="noStrike">
              <a:solidFill>
                <a:srgbClr val="000000"/>
              </a:solidFill>
              <a:latin typeface="Arial"/>
            </a:endParaRPr>
          </a:p>
        </p:txBody>
      </p:sp>
      <p:sp>
        <p:nvSpPr>
          <p:cNvPr id="103" name="PlaceHolder 2"/>
          <p:cNvSpPr>
            <a:spLocks noGrp="1"/>
          </p:cNvSpPr>
          <p:nvPr>
            <p:ph/>
          </p:nvPr>
        </p:nvSpPr>
        <p:spPr>
          <a:xfrm>
            <a:off x="900000" y="980640"/>
            <a:ext cx="7042320" cy="43498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ool demand is being influenced by changing lifestyle and 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reased levels of environmental contr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ccessive and significant improvements in the cost and properties of synthetic fibr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decrease in wearing of more formal, traditional apparel;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decrease in the proportion of disposable income spent on apparel purchas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A7160-AD04-4A1D-A90E-64921E5487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6858000" cy="4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sity of Wool</a:t>
            </a:r>
            <a:endParaRPr b="0" lang="en-US" sz="3200" spc="-1" strike="noStrike">
              <a:solidFill>
                <a:srgbClr val="000000"/>
              </a:solidFill>
              <a:latin typeface="Arial"/>
            </a:endParaRPr>
          </a:p>
        </p:txBody>
      </p:sp>
      <p:sp>
        <p:nvSpPr>
          <p:cNvPr id="105" name="PlaceHolder 2"/>
          <p:cNvSpPr>
            <a:spLocks noGrp="1"/>
          </p:cNvSpPr>
          <p:nvPr>
            <p:ph/>
          </p:nvPr>
        </p:nvSpPr>
        <p:spPr>
          <a:xfrm>
            <a:off x="1115640" y="836640"/>
            <a:ext cx="7186680" cy="1449360"/>
          </a:xfrm>
          <a:prstGeom prst="rect">
            <a:avLst/>
          </a:prstGeom>
          <a:noFill/>
          <a:ln w="0">
            <a:noFill/>
          </a:ln>
        </p:spPr>
        <p:txBody>
          <a:bodyPr lIns="90000" rIns="90000" tIns="46800" bIns="46800" anchor="t">
            <a:normAutofit fontScale="79000"/>
          </a:bodyPr>
          <a:p>
            <a:pPr marL="270720" indent="-27072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 range of ‘wools’</a:t>
            </a:r>
            <a:endParaRPr b="0" lang="en-US" sz="2000" spc="-1" strike="noStrike">
              <a:solidFill>
                <a:srgbClr val="000000"/>
              </a:solidFill>
              <a:latin typeface="Arial"/>
            </a:endParaRPr>
          </a:p>
          <a:p>
            <a:pPr marL="270720" indent="-27072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has a different end use</a:t>
            </a:r>
            <a:endParaRPr b="0" lang="en-US" sz="2000" spc="-1" strike="noStrike">
              <a:solidFill>
                <a:srgbClr val="000000"/>
              </a:solidFill>
              <a:latin typeface="Arial"/>
            </a:endParaRPr>
          </a:p>
          <a:p>
            <a:pPr marL="270720" indent="-27072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is treated individually by the market</a:t>
            </a:r>
            <a:endParaRPr b="0" lang="en-US" sz="2000" spc="-1" strike="noStrike">
              <a:solidFill>
                <a:srgbClr val="000000"/>
              </a:solidFill>
              <a:latin typeface="Arial"/>
            </a:endParaRPr>
          </a:p>
          <a:p>
            <a:pPr marL="270720" indent="-27072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illustrates the discounts received during the Dec Quarter (2004) for various wool faul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1FA05-E3E9-4D98-93D0-A43C43F2BA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1173240" y="457200"/>
          <a:ext cx="7785000" cy="4235400"/>
        </p:xfrm>
        <a:graphic>
          <a:graphicData uri="http://schemas.openxmlformats.org/drawingml/2006/table">
            <a:tbl>
              <a:tblPr/>
              <a:tblGrid>
                <a:gridCol w="1297080"/>
                <a:gridCol w="1298520"/>
                <a:gridCol w="1296720"/>
                <a:gridCol w="1297080"/>
                <a:gridCol w="1298520"/>
                <a:gridCol w="1297080"/>
              </a:tblGrid>
              <a:tr h="1459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bre Diameter Descript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bre Diamete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egetabl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tte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vs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rength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5 N/k v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8 N/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oint at which discounts are applied  for strength (N/kte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lour</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diu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perfi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7.0 - 1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8.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8.6 – 2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diu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6 – 2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ro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2.5 – 24.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6.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7" name="" descr=""/>
          <p:cNvPicPr/>
          <p:nvPr/>
        </p:nvPicPr>
        <p:blipFill>
          <a:blip r:embed="rId1"/>
          <a:stretch/>
        </p:blipFill>
        <p:spPr>
          <a:xfrm>
            <a:off x="8077320" y="5638680"/>
            <a:ext cx="1066680" cy="941400"/>
          </a:xfrm>
          <a:prstGeom prst="rect">
            <a:avLst/>
          </a:prstGeom>
          <a:ln w="0">
            <a:noFill/>
          </a:ln>
        </p:spPr>
      </p:pic>
      <p:sp>
        <p:nvSpPr>
          <p:cNvPr id="108" name=""/>
          <p:cNvSpPr/>
          <p:nvPr/>
        </p:nvSpPr>
        <p:spPr>
          <a:xfrm>
            <a:off x="5651640" y="4869000"/>
            <a:ext cx="3456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 The Woolmark Company (2005)</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796E715-F698-42D5-A852-759D443ADF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15920"/>
            <a:ext cx="8137440" cy="60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tive Position of the </a:t>
            </a:r>
            <a:br>
              <a:rPr sz="3200"/>
            </a:br>
            <a:r>
              <a:rPr b="1" lang="en-US" sz="3200" spc="-1" strike="noStrike">
                <a:solidFill>
                  <a:srgbClr val="000000"/>
                </a:solidFill>
                <a:latin typeface="Arial"/>
              </a:rPr>
              <a:t>Wool Supply Chain</a:t>
            </a:r>
            <a:endParaRPr b="0" lang="en-US" sz="3200" spc="-1" strike="noStrike">
              <a:solidFill>
                <a:srgbClr val="000000"/>
              </a:solidFill>
              <a:latin typeface="Arial"/>
            </a:endParaRPr>
          </a:p>
        </p:txBody>
      </p:sp>
      <p:pic>
        <p:nvPicPr>
          <p:cNvPr id="110" name="" descr=""/>
          <p:cNvPicPr/>
          <p:nvPr/>
        </p:nvPicPr>
        <p:blipFill>
          <a:blip r:embed="rId1"/>
          <a:stretch/>
        </p:blipFill>
        <p:spPr>
          <a:xfrm>
            <a:off x="1692360" y="1197000"/>
            <a:ext cx="5976720" cy="3832200"/>
          </a:xfrm>
          <a:prstGeom prst="rect">
            <a:avLst/>
          </a:prstGeom>
          <a:ln w="0">
            <a:noFill/>
          </a:ln>
        </p:spPr>
      </p:pic>
      <p:sp>
        <p:nvSpPr>
          <p:cNvPr id="111" name=""/>
          <p:cNvSpPr/>
          <p:nvPr/>
        </p:nvSpPr>
        <p:spPr>
          <a:xfrm>
            <a:off x="5028480" y="5300640"/>
            <a:ext cx="408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ol Industry Future Directions Taskforce (1999)</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CFD5CD05-1A38-4F9D-9251-9FFD2D9BAD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8864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 and Future of Description</a:t>
            </a:r>
            <a:endParaRPr b="0" lang="en-US" sz="2800" spc="-1" strike="noStrike">
              <a:solidFill>
                <a:srgbClr val="000000"/>
              </a:solidFill>
              <a:latin typeface="Arial"/>
            </a:endParaRPr>
          </a:p>
        </p:txBody>
      </p:sp>
      <p:sp>
        <p:nvSpPr>
          <p:cNvPr id="113" name="PlaceHolder 2"/>
          <p:cNvSpPr>
            <a:spLocks noGrp="1"/>
          </p:cNvSpPr>
          <p:nvPr>
            <p:ph/>
          </p:nvPr>
        </p:nvSpPr>
        <p:spPr>
          <a:xfrm>
            <a:off x="971640" y="1197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ital information link to the market</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o much/too little description</a:t>
            </a:r>
            <a:endParaRPr b="0" lang="en-US" sz="20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portunity for prediction and customisation to</a:t>
            </a:r>
            <a:r>
              <a:rPr b="0" lang="en-NZ"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duce processing ris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ptimise price by fine tuning purchase decisions; 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dertake quality management programmes both within and between processing pla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AE89F-270B-4898-B658-0527260437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6-06T04:48:24Z</dcterms:modified>
  <cp:revision>57</cp:revision>
  <dc:subject/>
  <dc:title>Slide 1</dc:title>
</cp:coreProperties>
</file>