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440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8" name="PlaceHolder 4"/>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9410760"/>
            <a:ext cx="29383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43360" y="9410760"/>
            <a:ext cx="293832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230EE-E929-4CB7-977C-EEA65C3FA6B4}"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14400" y="743040"/>
            <a:ext cx="4952880" cy="3714840"/>
          </a:xfrm>
          <a:prstGeom prst="rect">
            <a:avLst/>
          </a:prstGeom>
          <a:ln w="0">
            <a:noFill/>
          </a:ln>
        </p:spPr>
      </p:sp>
      <p:sp>
        <p:nvSpPr>
          <p:cNvPr id="109"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4400" y="743040"/>
            <a:ext cx="4952880" cy="3714840"/>
          </a:xfrm>
          <a:prstGeom prst="rect">
            <a:avLst/>
          </a:prstGeom>
          <a:ln w="0">
            <a:noFill/>
          </a:ln>
        </p:spPr>
      </p:sp>
      <p:sp>
        <p:nvSpPr>
          <p:cNvPr id="111"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29 looked at the concepts of ‘commodity’ and ‘product’ and the need to co-ordinate choice of marketing system with the nature of the material flowing throug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examines the supply chain.  It asks the question, what is a supply chain? It also examines supply chain management as a concept in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y Chain Management is an approach to marketing and marketing systems.  It is important to note that </a:t>
            </a:r>
            <a:r>
              <a:rPr b="0" lang="en-US" sz="1200" spc="-1" strike="noStrike" u="sng">
                <a:solidFill>
                  <a:srgbClr val="000000"/>
                </a:solidFill>
                <a:uFillTx/>
                <a:latin typeface="Times New Roman"/>
              </a:rPr>
              <a:t>not all</a:t>
            </a:r>
            <a:r>
              <a:rPr b="0" lang="en-US" sz="1200" spc="-1" strike="noStrike">
                <a:solidFill>
                  <a:srgbClr val="000000"/>
                </a:solidFill>
                <a:latin typeface="Times New Roman"/>
              </a:rPr>
              <a:t> supply chains are managed supply chains -  there is a key difference between supply chain management and the definition of a supply chain (i.e. a group of related entities that pass product from one to an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will look at chain formation, chain management and the factors contributing to chain succ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14400" y="743040"/>
            <a:ext cx="4952880" cy="3714840"/>
          </a:xfrm>
          <a:prstGeom prst="rect">
            <a:avLst/>
          </a:prstGeom>
          <a:ln w="0">
            <a:noFill/>
          </a:ln>
        </p:spPr>
      </p:sp>
      <p:sp>
        <p:nvSpPr>
          <p:cNvPr id="113"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thing of marketing systems as a continuum. In their simplest form they can be purely transactional (just for the exchange of goods or services). The other end of the continuum sharing equity through vertical integration. In-between are strategic alliances and joint ven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ol industry is increasingly interested in more coordinated forms of marketing systems and improved communication.  A number of reports have highlighted the need for the wool industry to move towards a more coordinated marketing systems. There appears to be a shift towards this, although it is quite small and there have been a number of fail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art of this, there is an interest in dealing with the supply chain through the approach known as supply chain management, as a philosophy or marketing system in its self.  As mentioned before however, tt is important to note that not all supply chains are actively managed, i.e. not all employ the concept of supply chain manag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14400" y="743040"/>
            <a:ext cx="4952880" cy="3714840"/>
          </a:xfrm>
          <a:prstGeom prst="rect">
            <a:avLst/>
          </a:prstGeom>
          <a:ln w="0">
            <a:noFill/>
          </a:ln>
        </p:spPr>
      </p:sp>
      <p:sp>
        <p:nvSpPr>
          <p:cNvPr id="115"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definitions for supply chain management (see abov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4400" y="743040"/>
            <a:ext cx="4952880" cy="3714840"/>
          </a:xfrm>
          <a:prstGeom prst="rect">
            <a:avLst/>
          </a:prstGeom>
          <a:ln w="0">
            <a:noFill/>
          </a:ln>
        </p:spPr>
      </p:sp>
      <p:sp>
        <p:nvSpPr>
          <p:cNvPr id="117"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has been compiled from a number of sources.  It looks at the differences between traditional and value or supply chain orientation, with respect to a number of characteristics or factors.  These factors are shown in the left hand column, i.e. information sharing, focus of the supply chain, the power relationship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le then considers the two approaches; traditional or non-managed supply chain approach vs. a managed supply ch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4400" y="743040"/>
            <a:ext cx="4952880" cy="3714840"/>
          </a:xfrm>
          <a:prstGeom prst="rect">
            <a:avLst/>
          </a:prstGeom>
          <a:ln w="0">
            <a:noFill/>
          </a:ln>
        </p:spPr>
      </p:sp>
      <p:sp>
        <p:nvSpPr>
          <p:cNvPr id="119"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 to more managed supply chain approaches and the formation of the effective supply chain relationships hasn’t just developed spontaneously! Rather, it has been driven by pressures in the market and certain drivers and factors which have brought about change.  Those drivers includ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bulence in marke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ization of industrie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ened product life cycle; and,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economic uncertain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se challenges are true of many industries, both agriculture and otherwise. They are just as true of the Australian wool 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sponses to these challenges has been to develop more managed supply chains and to look at using relationships to deal with some of the challenges and the uncertaintie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4400" y="743040"/>
            <a:ext cx="4952880" cy="3714840"/>
          </a:xfrm>
          <a:prstGeom prst="rect">
            <a:avLst/>
          </a:prstGeom>
          <a:ln w="0">
            <a:noFill/>
          </a:ln>
        </p:spPr>
      </p:sp>
      <p:sp>
        <p:nvSpPr>
          <p:cNvPr id="121"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key challenges in getting involved in a supply chain approach is partner selection, coupled to maintaining effective partnerships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eck list indicates key areas and characteristics to think through when looking to develop supply chain partnerships and relationships. By working through these you can make an assessment of your ability to align and work with other organizations in a very collaborative and coordinated m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4215A5-1B54-41FA-8803-2F5AD46022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4B55E3-87FC-4F97-841A-104EFE705E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890F31-2CB0-4868-A629-EB740BD930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1313C4-0FE8-43B1-8646-23630429BE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64DC1D-77FE-430F-86E5-0B1D6F9BDE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6014F6B5-5731-43C6-886C-F711913138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D520B9-F987-4F70-86FB-6290C53A37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48F3ADD-65B5-48B8-875B-ED7487603C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7B270D79-95CB-4E74-BF40-287DDDF21B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35FC5BAD-C60C-41A7-B310-FEEA8A7EB1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36F05CB-B050-4DD1-AA31-DB07E43BE2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B7C47D5B-43AD-4A7D-AF67-CC8FA4DB9C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D2B9389-BB43-47D0-A013-0A23ECFF6E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250E896-D02D-4EB0-A047-7419F3FA68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43AD7A8-F36A-4DD7-9BE0-241AA6BA9A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6D6EDCD-C3CC-466F-A518-BB0D0EFA97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2C68BD1-F589-49A0-9037-7A9BA82DCF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7D0A0-4922-4660-84B7-AAE210A31D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CF7FC7-B652-43CD-93CA-0A2DEE72FC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4A4A6AD5-BBDF-435A-9D5F-48A76E5DF8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D3229AE4-D017-4020-9452-645308EC4D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FB3925-4B0F-41EF-8105-2B63C1EB96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F30AD8-57A2-4697-90E1-4DB26DFAD6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BD7E13-928C-49EE-B023-50CFAC51CF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86AD-690F-4DA5-A7DC-61ECCEAC1C36}"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A819-BA85-4007-8FDA-18839333E548}"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00000" y="8276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Principles</a:t>
            </a:r>
            <a:endParaRPr b="0" lang="en-US" sz="3600" spc="-1" strike="noStrike">
              <a:solidFill>
                <a:srgbClr val="000000"/>
              </a:solidFill>
              <a:latin typeface="Arial"/>
            </a:endParaRPr>
          </a:p>
        </p:txBody>
      </p:sp>
      <p:sp>
        <p:nvSpPr>
          <p:cNvPr id="92" name="PlaceHolder 2"/>
          <p:cNvSpPr>
            <a:spLocks noGrp="1"/>
          </p:cNvSpPr>
          <p:nvPr>
            <p:ph type="subTitle"/>
          </p:nvPr>
        </p:nvSpPr>
        <p:spPr>
          <a:xfrm>
            <a:off x="1339920" y="405288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14 – Lecture 2</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B48838D-5E60-4FC3-94BD-40185AB4342E}"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189000"/>
            <a:ext cx="6858000" cy="45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ckground and Context</a:t>
            </a:r>
            <a:endParaRPr b="0" lang="en-US" sz="3200" spc="-1" strike="noStrike">
              <a:solidFill>
                <a:srgbClr val="000000"/>
              </a:solidFill>
              <a:latin typeface="Arial"/>
            </a:endParaRPr>
          </a:p>
        </p:txBody>
      </p:sp>
      <p:sp>
        <p:nvSpPr>
          <p:cNvPr id="94" name="PlaceHolder 2"/>
          <p:cNvSpPr>
            <a:spLocks noGrp="1"/>
          </p:cNvSpPr>
          <p:nvPr>
            <p:ph/>
          </p:nvPr>
        </p:nvSpPr>
        <p:spPr>
          <a:xfrm>
            <a:off x="755280" y="1412640"/>
            <a:ext cx="7473960" cy="3600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s of commodity and product and the need to co-ordinate marketing system choice with ‘unit type’</a:t>
            </a:r>
            <a:br>
              <a:rPr sz="2000"/>
            </a:br>
            <a:r>
              <a:rPr b="0" lang="en-US" sz="2000" spc="-1" strike="noStrike">
                <a:solidFill>
                  <a:srgbClr val="000000"/>
                </a:solidFill>
                <a:latin typeface="Arial"/>
              </a:rPr>
              <a:t>(re: 14.1)</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lecture examines the supply chain – what is i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examines supply chain management as a concep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n formation, management and succes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D34E7-EC3C-408E-BF84-E3ED94B1152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ic Alliances and Supply Chains</a:t>
            </a:r>
            <a:endParaRPr b="0" lang="en-US" sz="3200" spc="-1" strike="noStrike">
              <a:solidFill>
                <a:srgbClr val="000000"/>
              </a:solidFill>
              <a:latin typeface="Arial"/>
            </a:endParaRPr>
          </a:p>
        </p:txBody>
      </p:sp>
      <p:sp>
        <p:nvSpPr>
          <p:cNvPr id="96" name="PlaceHolder 2"/>
          <p:cNvSpPr>
            <a:spLocks noGrp="1"/>
          </p:cNvSpPr>
          <p:nvPr>
            <p:ph/>
          </p:nvPr>
        </p:nvSpPr>
        <p:spPr>
          <a:xfrm>
            <a:off x="900000" y="1198440"/>
            <a:ext cx="7329600" cy="374328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ing systems are a continuum</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industry increasingly interested in more co-ordinated forms of marketing system and improved communic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interest in SCM</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to note that not all supply chains are managed, i.e. not all employ SCM.</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73B46-D89F-4EF1-A513-0BDD977F37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259920"/>
            <a:ext cx="6858000" cy="45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s of SCM</a:t>
            </a:r>
            <a:endParaRPr b="0" lang="en-US" sz="3200" spc="-1" strike="noStrike">
              <a:solidFill>
                <a:srgbClr val="000000"/>
              </a:solidFill>
              <a:latin typeface="Arial"/>
            </a:endParaRPr>
          </a:p>
        </p:txBody>
      </p:sp>
      <p:sp>
        <p:nvSpPr>
          <p:cNvPr id="98" name="PlaceHolder 2"/>
          <p:cNvSpPr>
            <a:spLocks noGrp="1"/>
          </p:cNvSpPr>
          <p:nvPr>
            <p:ph/>
          </p:nvPr>
        </p:nvSpPr>
        <p:spPr>
          <a:xfrm>
            <a:off x="610920" y="1052280"/>
            <a:ext cx="8001000" cy="47084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a:t>
            </a:r>
            <a:r>
              <a:rPr b="0" i="1" lang="en-AU" sz="2000" spc="-1" strike="noStrike">
                <a:solidFill>
                  <a:srgbClr val="000000"/>
                </a:solidFill>
                <a:latin typeface="Arial"/>
              </a:rPr>
              <a:t>A network of connected organisations aimed at the fulfilment of specific consumer needs…in conjunction with the fulfilment of needs of other stakeholders of such an entity” (Beers, Beulens &amp; van Dalen 1998)</a:t>
            </a:r>
            <a:br>
              <a:rPr sz="2000"/>
            </a:br>
            <a:r>
              <a:rPr b="0" i="1" lang="en-A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 “</a:t>
            </a:r>
            <a:r>
              <a:rPr b="0" i="1" lang="en-AU" sz="2000" spc="-1" strike="noStrike">
                <a:solidFill>
                  <a:srgbClr val="000000"/>
                </a:solidFill>
                <a:latin typeface="Arial"/>
              </a:rPr>
              <a:t>Supply chain management seeks to break down barriers which exist between each of the links in the chain in order to achieve higher levels of service and substantial savings in costs…and…it seeks to achieve a relationship of mutual benefit by defining organisational structures and contractual relationships between buyer and seller which up to now have been classified as adversarial” (Fearne, 1998)</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17EE3-82BC-49F9-8EC5-C99F902B29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4920" y="-100440"/>
            <a:ext cx="6767640" cy="7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ditional vs Chain Orientation</a:t>
            </a:r>
            <a:endParaRPr b="0" lang="en-US" sz="3200" spc="-1" strike="noStrike">
              <a:solidFill>
                <a:srgbClr val="000000"/>
              </a:solidFill>
              <a:latin typeface="Arial"/>
            </a:endParaRPr>
          </a:p>
        </p:txBody>
      </p:sp>
      <p:sp>
        <p:nvSpPr>
          <p:cNvPr id="100" name=""/>
          <p:cNvSpPr/>
          <p:nvPr/>
        </p:nvSpPr>
        <p:spPr>
          <a:xfrm>
            <a:off x="6794280" y="188280"/>
            <a:ext cx="23479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ea typeface="Times New Roman"/>
              </a:rPr>
              <a:t>Source: DIST (1998); Newton (2000) </a:t>
            </a:r>
            <a:endParaRPr b="0" lang="en-US" sz="1000" spc="-1" strike="noStrike">
              <a:solidFill>
                <a:srgbClr val="000000"/>
              </a:solidFill>
              <a:latin typeface="Times New Roman"/>
            </a:endParaRPr>
          </a:p>
        </p:txBody>
      </p:sp>
      <p:graphicFrame>
        <p:nvGraphicFramePr>
          <p:cNvPr id="101" name=""/>
          <p:cNvGraphicFramePr/>
          <p:nvPr/>
        </p:nvGraphicFramePr>
        <p:xfrm>
          <a:off x="612720" y="549360"/>
          <a:ext cx="7920000" cy="5097240"/>
        </p:xfrm>
        <a:graphic>
          <a:graphicData uri="http://schemas.openxmlformats.org/drawingml/2006/table">
            <a:tbl>
              <a:tblPr/>
              <a:tblGrid>
                <a:gridCol w="3352680"/>
                <a:gridCol w="2003400"/>
                <a:gridCol w="2563920"/>
              </a:tblGrid>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Fac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radition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Supply Cha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formation Shari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Little or no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Extensiv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Primary Focu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st/pri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Value/quali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Orient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mmodi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ifferentiated produc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Power relationshi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upply Pus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emand pul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Organisational structu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depend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terdepend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Philosoph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elf intere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hain optimis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dividual organisational boundar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Har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uzz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upply chain boundar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uzz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Har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Points of inter-organizational contac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e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Man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Mode of oper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actic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trategi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mmunication between stakeholde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mal and slo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formal an fa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Relationships between stakeholde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Lo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Hig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rust between stakeholde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hort-ter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Longer-ter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Knowledge diffusion amongst stakeholde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Lo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Hig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takeholders/actors/players in the syste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Man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e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Organisational models employ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Predominantly mechanisti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Predominantly organi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Organisational visions and values among stakeholder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ifferent, diverse and diverg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More common, focussed and converg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9CE2E453-BD32-4B25-B46F-813C8F8590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189000"/>
            <a:ext cx="6858000" cy="67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ming and Managing Chains</a:t>
            </a:r>
            <a:endParaRPr b="0" lang="en-US" sz="3200" spc="-1" strike="noStrike">
              <a:solidFill>
                <a:srgbClr val="000000"/>
              </a:solidFill>
              <a:latin typeface="Arial"/>
            </a:endParaRPr>
          </a:p>
        </p:txBody>
      </p:sp>
      <p:sp>
        <p:nvSpPr>
          <p:cNvPr id="103" name="PlaceHolder 2"/>
          <p:cNvSpPr>
            <a:spLocks noGrp="1"/>
          </p:cNvSpPr>
          <p:nvPr>
            <p:ph/>
          </p:nvPr>
        </p:nvSpPr>
        <p:spPr>
          <a:xfrm>
            <a:off x="971280" y="1052640"/>
            <a:ext cx="6910200" cy="3581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ove to SCM approaches and the formation of effective supply chain relationships, driven by pressure in the market</a:t>
            </a:r>
            <a:br>
              <a:rPr sz="2000"/>
            </a:br>
            <a:r>
              <a:rPr b="0" lang="en-N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rivers include:</a:t>
            </a:r>
            <a:endParaRPr b="0" lang="en-US" sz="2000" spc="-1" strike="noStrike">
              <a:solidFill>
                <a:srgbClr val="000000"/>
              </a:solidFill>
              <a:latin typeface="Arial"/>
            </a:endParaRPr>
          </a:p>
          <a:p>
            <a:pPr lvl="1" marL="743040" indent="-285840">
              <a:lnSpc>
                <a:spcPct val="90000"/>
              </a:lnSpc>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urbulence in markets; </a:t>
            </a:r>
            <a:endParaRPr b="0" lang="en-US" sz="2000" spc="-1" strike="noStrike">
              <a:solidFill>
                <a:srgbClr val="000000"/>
              </a:solidFill>
              <a:latin typeface="Arial"/>
            </a:endParaRPr>
          </a:p>
          <a:p>
            <a:pPr lvl="1" marL="743040" indent="-285840">
              <a:lnSpc>
                <a:spcPct val="90000"/>
              </a:lnSpc>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lobalisation of the industry; </a:t>
            </a:r>
            <a:endParaRPr b="0" lang="en-US" sz="2000" spc="-1" strike="noStrike">
              <a:solidFill>
                <a:srgbClr val="000000"/>
              </a:solidFill>
              <a:latin typeface="Arial"/>
            </a:endParaRPr>
          </a:p>
          <a:p>
            <a:pPr lvl="1" marL="743040" indent="-285840">
              <a:lnSpc>
                <a:spcPct val="90000"/>
              </a:lnSpc>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hortening product life cycles; and, </a:t>
            </a:r>
            <a:endParaRPr b="0" lang="en-US" sz="2000" spc="-1" strike="noStrike">
              <a:solidFill>
                <a:srgbClr val="000000"/>
              </a:solidFill>
              <a:latin typeface="Arial"/>
            </a:endParaRPr>
          </a:p>
          <a:p>
            <a:pPr lvl="1" marL="743040" indent="-285840">
              <a:lnSpc>
                <a:spcPct val="90000"/>
              </a:lnSpc>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igh economic uncertainty.</a:t>
            </a:r>
            <a:r>
              <a:rPr b="0" lang="en-NZ"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5D9CF-6EBF-4E52-B2CB-0E827B1C28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360"/>
            <a:ext cx="4896000" cy="7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CM Audit</a:t>
            </a:r>
            <a:endParaRPr b="0" lang="en-US" sz="3200" spc="-1" strike="noStrike">
              <a:solidFill>
                <a:srgbClr val="000000"/>
              </a:solidFill>
              <a:latin typeface="Arial"/>
            </a:endParaRPr>
          </a:p>
        </p:txBody>
      </p:sp>
      <p:graphicFrame>
        <p:nvGraphicFramePr>
          <p:cNvPr id="105" name=""/>
          <p:cNvGraphicFramePr/>
          <p:nvPr/>
        </p:nvGraphicFramePr>
        <p:xfrm>
          <a:off x="603360" y="620640"/>
          <a:ext cx="8001000" cy="4957920"/>
        </p:xfrm>
        <a:graphic>
          <a:graphicData uri="http://schemas.openxmlformats.org/drawingml/2006/table">
            <a:tbl>
              <a:tblPr/>
              <a:tblGrid>
                <a:gridCol w="3354120"/>
                <a:gridCol w="2168640"/>
                <a:gridCol w="247824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Times New Roman"/>
                        </a:rPr>
                        <a:t>Key Are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Times New Roman"/>
                        </a:rPr>
                        <a:t>Characteristi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Value Crea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Vis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Partnering</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Competitiveness</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Align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Goals</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Capabilities</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Histor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Understanding</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Levels</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46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Alternativ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Alternatives</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Investmen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Nature</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Balance</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Investment risks/uncertain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Uncertain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Observed quality</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Perishability</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Investment reward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Shar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Costing systems</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Opportunism</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Core capabiliti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Satisfa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Performance</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Future perform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Boundaries</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Relationship managem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Consider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Understand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Stability</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Cultural fi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Times New Roman"/>
                        </a:rPr>
                        <a:t>Internal systems</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106" name=""/>
          <p:cNvSpPr/>
          <p:nvPr/>
        </p:nvSpPr>
        <p:spPr>
          <a:xfrm>
            <a:off x="3636360" y="259560"/>
            <a:ext cx="16041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Source: O'Keeffe (1998)</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8D1FDD08-C9CB-4302-91BC-AB76A293F2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4360" y="1125000"/>
            <a:ext cx="7772400" cy="358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CC29718-F6D8-4E6A-8287-1E426BF9B6F5}"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21:20:30Z</dcterms:created>
  <dc:creator>SChampion</dc:creator>
  <dc:description/>
  <dc:language>en-US</dc:language>
  <cp:lastModifiedBy>Sally Mahony</cp:lastModifiedBy>
  <dcterms:modified xsi:type="dcterms:W3CDTF">2005-06-06T04:47:55Z</dcterms:modified>
  <cp:revision>47</cp:revision>
  <dc:subject/>
  <dc:title>Slide 1</dc:title>
</cp:coreProperties>
</file>