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C0885D-FEB2-4615-9BBA-C66744E5613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13FF-ED4C-4F2B-8BB4-1656F8D39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2A09-979A-46EA-96D4-646F62988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0E89-6682-40D8-B03F-CA36F39B4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CB62-EE22-40E3-947E-B69781D28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AB07-1084-4E7F-96E6-FED645ACA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33AD-7106-45B8-B81F-601299731E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9D23-7DD4-4FA4-BBC4-D0C563EC29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7E1F-E3CF-436E-943B-8DFA40DC8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A9A4-6A4B-47D1-9DB0-8A55D15FEA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6B55-2C57-4978-AC1F-C9F4EA9146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126D-0BA6-4C2D-9F98-44EA20EE0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1210-9BE8-4313-B044-80D4D1C94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30B6-E4D2-4259-9208-F1C2F7F75A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D7F0-5339-4CAF-ABCD-C6F3CC277E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8E7B-73A7-49B3-9F46-191FFE861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D345-C66E-44CA-BE09-D8DFDF554B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2B26-BACC-4633-A643-250890F49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B483-60EE-473E-A60A-B0FC2EDB6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0ECC-A322-4795-AF7F-7348C7240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3DF7-6093-4BCF-A128-404EF85C4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2F64-AFFD-4F97-8006-BEE878847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68B1-AF76-4064-8B3D-C0257DBBB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A964-E230-4D84-A5F3-610B444D9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A76B-F2E5-4EB8-8AC1-E9C40723B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0A1-0A45-4086-9588-6D06241C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6BB4-6B93-4119-A225-7C31FBA3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View of the Apparel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292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5 -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E722-F700-4E53-8848-DC359A640C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4724280" y="1184400"/>
          <a:ext cx="439740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84400"/>
                    <a:ext cx="439740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96560"/>
            <a:ext cx="84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preferences have driven fabric weights down in recent dec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45960" y="1217520"/>
          <a:ext cx="4389480" cy="441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60" y="1217520"/>
                    <a:ext cx="438948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74560" y="641520"/>
            <a:ext cx="83901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Average Fabric Weights in the Italian Wool Textile Industr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0880" y="6497640"/>
            <a:ext cx="28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s: SMI,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7B91-E759-45BB-B0AF-754EC9DA4C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ing wool producers to respond by increasing fine wool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97000"/>
          <a:ext cx="792144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792144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013440" y="5445000"/>
            <a:ext cx="295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Independent Commodity Services P/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0B0B-47F1-4F73-BF6C-FB05675052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4E7E-7F4D-45F3-9BBF-A4FA0F55D73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0643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fibre, textiles, end use and distribution industrie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489800" cy="409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29320" y="5445000"/>
            <a:ext cx="169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Dickerson (19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7378-1B29-46E4-B261-E9FABA1D1C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makes up 2% of the total fibr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320" y="5157720"/>
            <a:ext cx="735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: The Woolmark Company (200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wool and cotton production on a seasonal basis (i2003 = 2002/03), man-made fibres exclude olefin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76360" y="1628640"/>
          <a:ext cx="61023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28640"/>
                    <a:ext cx="6102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CA05-7F28-4A7F-8F9C-B2027FA312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 the wool is mainly used for apparel and home furnis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71640" y="1071720"/>
          <a:ext cx="74674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71720"/>
                    <a:ext cx="74674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14520" y="5226120"/>
            <a:ext cx="361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Sources: The Woolmark Company (200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 Man-made fibre includes oil based and cellulosic fibre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08D9-4872-42F0-9167-AA69C87B3B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160" y="198000"/>
            <a:ext cx="7947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nd so the share of apparel markets held by wool is mode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Men’s Outerwear (Value Basi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03680" y="1208160"/>
          <a:ext cx="416556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3680" y="1208160"/>
                    <a:ext cx="41655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76120" y="1209600"/>
          <a:ext cx="4240440" cy="447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120" y="1209600"/>
                    <a:ext cx="42404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2560" y="6453360"/>
            <a:ext cx="6628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The Woolmark Company (2005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s: Suits incl. ensembles; coats excl. anorak/parka /windbreakers; trousers of cotton excl. corduroy and deni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0B65-7A62-478F-ABD0-6262099AED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6520" y="-135000"/>
            <a:ext cx="83073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Women’s Outerwear (Value Basis)</a:t>
            </a:r>
            <a:br>
              <a:rPr sz="18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olmark Company (2005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s: Suits incl. ensembles; coats excl. anorak/parka /windbreakers; trousers of cotton excl. corduroy and deni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31640" y="1052640"/>
          <a:ext cx="4240440" cy="44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052640"/>
                    <a:ext cx="4240440" cy="44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622760" y="1066680"/>
          <a:ext cx="4192560" cy="446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1066680"/>
                    <a:ext cx="41925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1C0A-1ABF-4562-9750-EA24D3CEBD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3560" y="209520"/>
            <a:ext cx="8391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ibre Shares of Imports of Knitwear (Value Basis)</a:t>
            </a: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ources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olmark Company (2005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ote:  Knitwear = sweaters/cardigans &amp; excludes vests &amp; sweatshi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38040" y="1162080"/>
          <a:ext cx="422460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162080"/>
                    <a:ext cx="4224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35440" y="1158840"/>
          <a:ext cx="4232520" cy="447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5440" y="1158840"/>
                    <a:ext cx="423252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077320" y="56386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AD7D-7620-437A-8D46-ABA6CE0A92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25280"/>
            <a:ext cx="7632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eographic location of processing and retail demand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1197000"/>
          <a:ext cx="7416720" cy="40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41672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734880" y="537372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PCI Fibres and Raw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D02D-4DE3-4E11-B9A9-04864F7920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same time that technology is causing change to continue in the textil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47640" y="1341360"/>
          <a:ext cx="590400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590400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528160" y="5445000"/>
            <a:ext cx="343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David Buck and PCI Fibres and Raw Materi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F493-E4F9-453F-A194-56CBC629AC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7:43:18Z</dcterms:created>
  <dc:creator>Andrew Woods</dc:creator>
  <dc:description/>
  <dc:language>en-US</dc:language>
  <cp:lastModifiedBy>Sally Mahony</cp:lastModifiedBy>
  <cp:lastPrinted>2003-09-02T08:07:53Z</cp:lastPrinted>
  <dcterms:modified xsi:type="dcterms:W3CDTF">2005-06-06T05:16:39Z</dcterms:modified>
  <cp:revision>26</cp:revision>
  <dc:subject/>
  <dc:title>Global View of the Apparel Market</dc:title>
</cp:coreProperties>
</file>