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4D9E13-4087-4FCE-995B-833896D695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436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FDB1075-9B1A-492B-B2D3-286721D100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2265714-1026-414F-93AF-74A2E5139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684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2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000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4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2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000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22878A5-8A18-47E2-BD76-40C2BEAD52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965F7-CAE7-48DE-8404-CE75F8965B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68436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AE2A50-ACE3-4518-AF19-D6EBA1044B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68436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C81EFB-2444-454A-885A-5E94EF74B5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11B5539-C2FA-4CC1-BCDB-B6E3398411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3A87C36D-E8D5-4964-9A01-8134E3A633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2FCF0D9-4C29-4213-8C6D-E553D901CE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C8D714D-4123-4065-9A4B-569700C08E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684360" y="1413000"/>
            <a:ext cx="7772400" cy="3581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70C35-41C4-4BE0-8935-87ACF7EDE2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C706DA7-5F9F-4EAD-B375-20CB781A0A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9E45395-F2F4-47F9-8C56-DC70CD50C3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4360" y="14130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DE4793C-5EAD-4B77-A211-067489249C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55CFDA5-6097-4F23-8F56-96CC09E6ED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684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236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0000" y="14130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4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236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0000" y="32839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48B15BE-FF30-4535-ADB1-A285E88BB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684360" y="1413000"/>
            <a:ext cx="77724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58FCF-4324-4B9E-9567-4D66206C8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05DDE17-83AF-4775-AF03-44B2A11C8F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55410FE5-E549-4CF0-9D56-579D3FC43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80E09F5-691E-48BB-BFA7-756C31D67B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704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436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7EF8F2D-58F1-45FE-9D67-5B9E24FE43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684360" y="1413000"/>
            <a:ext cx="3792600" cy="358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7040" y="32839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E433E84-20B1-41C7-9315-6F3B089B8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68436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7040" y="14130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4360" y="32839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E400DBD-13D1-422F-A82C-6DEF4C6D6D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4360" y="1413000"/>
            <a:ext cx="777240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14CC-F2B4-414E-ACBE-150FF9C820E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F82B-B251-4ABC-A33E-93FDC9D598C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322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ple Strength and General Preparation Procedures</a:t>
            </a:r>
            <a:endParaRPr b="1" lang="en-US" sz="3600" spc="-1" strike="noStrike">
              <a:solidFill>
                <a:srgbClr val="000000"/>
              </a:solidFill>
              <a:latin typeface="Arial"/>
            </a:endParaRPr>
          </a:p>
        </p:txBody>
      </p:sp>
      <p:sp>
        <p:nvSpPr>
          <p:cNvPr id="85" name="PlaceHolder 2"/>
          <p:cNvSpPr>
            <a:spLocks noGrp="1"/>
          </p:cNvSpPr>
          <p:nvPr>
            <p:ph type="subTitle"/>
          </p:nvPr>
        </p:nvSpPr>
        <p:spPr>
          <a:xfrm>
            <a:off x="111600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 – Lecture 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03F275C-083B-477A-9CA5-BDCDA3A892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77724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ing Sound and Tender Wools</a:t>
            </a:r>
            <a:endParaRPr b="1" lang="en-US" sz="3200" spc="-1" strike="noStrike">
              <a:solidFill>
                <a:srgbClr val="000000"/>
              </a:solidFill>
              <a:latin typeface="Arial"/>
            </a:endParaRPr>
          </a:p>
        </p:txBody>
      </p:sp>
      <p:graphicFrame>
        <p:nvGraphicFramePr>
          <p:cNvPr id="106" name=""/>
          <p:cNvGraphicFramePr/>
          <p:nvPr/>
        </p:nvGraphicFramePr>
        <p:xfrm>
          <a:off x="611280" y="1197000"/>
          <a:ext cx="8001000" cy="2131920"/>
        </p:xfrm>
        <a:graphic>
          <a:graphicData uri="http://schemas.openxmlformats.org/drawingml/2006/table">
            <a:tbl>
              <a:tblPr/>
              <a:tblGrid>
                <a:gridCol w="1333440"/>
                <a:gridCol w="1333440"/>
                <a:gridCol w="1333440"/>
                <a:gridCol w="1333440"/>
                <a:gridCol w="1333440"/>
                <a:gridCol w="1333800"/>
              </a:tblGrid>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 Lo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i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 Length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Fibre (&lt;25m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6126C59-0323-49AC-A112-4ADF1A353A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00000" y="764640"/>
            <a:ext cx="7834320" cy="4781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Lower Lines” comprise pieces, bellies, locks and stai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They constitute almost 30% of the weight of wool from a mob of shee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b Structure (% by weight of 18 clip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Lower lines commonly have higher levels of vegetable fault and dark fibr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They are separated from the fleece as they may be processed by different pathway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9" name=""/>
          <p:cNvGraphicFramePr/>
          <p:nvPr/>
        </p:nvGraphicFramePr>
        <p:xfrm>
          <a:off x="1908000" y="1773360"/>
          <a:ext cx="5040000" cy="2447280"/>
        </p:xfrm>
        <a:graphic>
          <a:graphicData uri="http://schemas.openxmlformats.org/drawingml/2006/table">
            <a:tbl>
              <a:tblPr/>
              <a:tblGrid>
                <a:gridCol w="1848240"/>
                <a:gridCol w="1510920"/>
                <a:gridCol w="1680840"/>
              </a:tblGrid>
              <a:tr h="4737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rted Fleec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 8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 2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li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 8</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 1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harlton,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6B9A7AF-3804-4254-8B0D-C1556AC7FC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360" y="259920"/>
            <a:ext cx="783432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lower lines are finer in fibre diameter and lower in staple length and staple strength than fleec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 of Preparation on some Raw Wool Characteristics – Average for all clips</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1116000" y="2303640"/>
          <a:ext cx="7056360" cy="2925720"/>
        </p:xfrm>
        <a:graphic>
          <a:graphicData uri="http://schemas.openxmlformats.org/drawingml/2006/table">
            <a:tbl>
              <a:tblPr/>
              <a:tblGrid>
                <a:gridCol w="2087640"/>
                <a:gridCol w="1584360"/>
                <a:gridCol w="1584360"/>
                <a:gridCol w="1800000"/>
              </a:tblGrid>
              <a:tr h="5029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re Diameter (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Strength (N/kte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Skirted Flee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Unskirted Fleec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 Uni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0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FL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harlton,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AC6E2A1-D96D-4A49-BE73-D41729E57B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9640" y="259920"/>
            <a:ext cx="8229600" cy="547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aw wool properties are reflected in fibre length in the to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s expected, there is very little effect on CV of fibre leng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to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ce of Preparation on Top Diameter and Leng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5" name=""/>
          <p:cNvGraphicFramePr/>
          <p:nvPr/>
        </p:nvGraphicFramePr>
        <p:xfrm>
          <a:off x="826920" y="2276640"/>
          <a:ext cx="7632720" cy="2990520"/>
        </p:xfrm>
        <a:graphic>
          <a:graphicData uri="http://schemas.openxmlformats.org/drawingml/2006/table">
            <a:tbl>
              <a:tblPr/>
              <a:tblGrid>
                <a:gridCol w="1525680"/>
                <a:gridCol w="1528560"/>
                <a:gridCol w="1524240"/>
                <a:gridCol w="1528560"/>
                <a:gridCol w="1525680"/>
              </a:tblGrid>
              <a:tr h="24624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re Diame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bre Length – Hauteu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Un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 Uni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FL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0BF67F8-25F5-43B5-9DE0-0B96BE358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280" y="404280"/>
            <a:ext cx="8001000" cy="485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key issues in the processing of lower lines are colour, vegetable fault and dark fibres (following 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oth the brightness and the yellowness of the lower lines are inferior to the fleece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number of vegetable matter particles in the lower lines is significantly greater regardless of whether the VM content of the greasy wool was high or lo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Of greatest significance, there are dramatic increases in the dark fibre contents of the lower lin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1492BC0-2791-4E29-9B31-61EE303D4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77724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uence of Preparation on Top Faults</a:t>
            </a:r>
            <a:endParaRPr b="1" lang="en-US" sz="3200" spc="-1" strike="noStrike">
              <a:solidFill>
                <a:srgbClr val="000000"/>
              </a:solidFill>
              <a:latin typeface="Arial"/>
            </a:endParaRPr>
          </a:p>
        </p:txBody>
      </p:sp>
      <p:graphicFrame>
        <p:nvGraphicFramePr>
          <p:cNvPr id="119" name=""/>
          <p:cNvGraphicFramePr/>
          <p:nvPr/>
        </p:nvGraphicFramePr>
        <p:xfrm>
          <a:off x="755640" y="1052640"/>
          <a:ext cx="8001000" cy="3838320"/>
        </p:xfrm>
        <a:graphic>
          <a:graphicData uri="http://schemas.openxmlformats.org/drawingml/2006/table">
            <a:tbl>
              <a:tblPr/>
              <a:tblGrid>
                <a:gridCol w="1871640"/>
                <a:gridCol w="1295280"/>
                <a:gridCol w="1441440"/>
                <a:gridCol w="1079640"/>
                <a:gridCol w="1152360"/>
                <a:gridCol w="1160640"/>
              </a:tblGrid>
              <a:tr h="406440">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 Particles** (/100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rk Fibres (/100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ightnes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llowness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classed/Unskirted Fleec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 Uni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FL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6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900000" y="5013360"/>
            <a:ext cx="7632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High values indicate higher levels of Brightness and higher levels of Yellownes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he 18 clips were divided into two groups representing high and low levels of VM contamination</a:t>
            </a:r>
            <a:endParaRPr b="0" lang="en-US" sz="1200" spc="-1" strike="noStrike">
              <a:solidFill>
                <a:srgbClr val="000000"/>
              </a:solidFill>
              <a:latin typeface="Arial"/>
            </a:endParaRPr>
          </a:p>
        </p:txBody>
      </p:sp>
      <p:sp>
        <p:nvSpPr>
          <p:cNvPr id="121" name=""/>
          <p:cNvSpPr/>
          <p:nvPr/>
        </p:nvSpPr>
        <p:spPr>
          <a:xfrm>
            <a:off x="7093080" y="486900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90F6099-091B-4BD7-8535-6163B4AD7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9280" y="260280"/>
            <a:ext cx="80010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The lower lines were converted to top without difficul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he “mob unit” comprising a mixture of all the lines also processed satisfactorily and in a manner predictable from the raw wool measurements (following tab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Wool from lower lines does not present any difficulties in process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However, tops produced from wool comprising both fleece and lower lines are poor in colour, contain more vegetable particles and have unacceptable levels of dark fib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eparation is therefore an essential part of clip preparation.  From a processing point of view it is more important than the classing of skirted fleec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E5EA5-4F75-4901-82DA-B7CC42BBE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100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vity of Processing – Predicted and Actual Performance of the Mob Unit</a:t>
            </a:r>
            <a:endParaRPr b="1" lang="en-US" sz="2800" spc="-1" strike="noStrike">
              <a:solidFill>
                <a:srgbClr val="000000"/>
              </a:solidFill>
              <a:latin typeface="Arial"/>
            </a:endParaRPr>
          </a:p>
        </p:txBody>
      </p:sp>
      <p:graphicFrame>
        <p:nvGraphicFramePr>
          <p:cNvPr id="124" name=""/>
          <p:cNvGraphicFramePr/>
          <p:nvPr/>
        </p:nvGraphicFramePr>
        <p:xfrm>
          <a:off x="539640" y="1135080"/>
          <a:ext cx="8280360" cy="4022640"/>
        </p:xfrm>
        <a:graphic>
          <a:graphicData uri="http://schemas.openxmlformats.org/drawingml/2006/table">
            <a:tbl>
              <a:tblPr/>
              <a:tblGrid>
                <a:gridCol w="1655640"/>
                <a:gridCol w="1657440"/>
                <a:gridCol w="1654200"/>
                <a:gridCol w="1657440"/>
                <a:gridCol w="1655640"/>
              </a:tblGrid>
              <a:tr h="572760">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d + Noil Los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 Fibre Length – Hauteur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6659640" y="5345280"/>
            <a:ext cx="2305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198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853D28B-5A16-4BC7-BEFA-DE68900CBC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26560" y="981000"/>
            <a:ext cx="80010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8872C5-E88A-496E-AC38-B1F49BEB292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831960" y="54936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strength is considered as a wool fault and grouped with other faults such as cotted and coloured flee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Staple strength variations are caused by changes in the diameter of wool fibres along their length due, primarily, to varying nutritional condi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refore, among the fleeces from a single mob, staple strength is related to fibre diameter variabilit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CAC7B0C-1772-4604-B46E-DF607581C9F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360" y="333360"/>
            <a:ext cx="7772400" cy="1727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ithin a mob there are wide variations in staple strength among fleec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is contrasts with fibre diameter and length where the major variation occurs within fleeces</a:t>
            </a:r>
            <a:endParaRPr b="0" lang="en-US" sz="2000" spc="-1" strike="noStrike">
              <a:solidFill>
                <a:srgbClr val="000000"/>
              </a:solidFill>
              <a:latin typeface="Arial"/>
            </a:endParaRPr>
          </a:p>
        </p:txBody>
      </p:sp>
      <p:sp>
        <p:nvSpPr>
          <p:cNvPr id="88" name=""/>
          <p:cNvSpPr/>
          <p:nvPr/>
        </p:nvSpPr>
        <p:spPr>
          <a:xfrm>
            <a:off x="611280" y="2349360"/>
            <a:ext cx="6858000" cy="684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of variation of staple strength</a:t>
            </a:r>
            <a:endParaRPr b="0" lang="en-US" sz="1800" spc="-1" strike="noStrike">
              <a:solidFill>
                <a:srgbClr val="000000"/>
              </a:solidFill>
              <a:latin typeface="Arial"/>
            </a:endParaRPr>
          </a:p>
        </p:txBody>
      </p:sp>
      <p:graphicFrame>
        <p:nvGraphicFramePr>
          <p:cNvPr id="89" name=""/>
          <p:cNvGraphicFramePr/>
          <p:nvPr/>
        </p:nvGraphicFramePr>
        <p:xfrm>
          <a:off x="684360" y="3013200"/>
          <a:ext cx="8001000" cy="1568160"/>
        </p:xfrm>
        <a:graphic>
          <a:graphicData uri="http://schemas.openxmlformats.org/drawingml/2006/table">
            <a:tbl>
              <a:tblPr/>
              <a:tblGrid>
                <a:gridCol w="4000320"/>
                <a:gridCol w="4000680"/>
              </a:tblGrid>
              <a:tr h="431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Vari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Fleece Si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 Si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s Within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5724360" y="5373720"/>
            <a:ext cx="3241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Rottenbury and Smith, 1979, Rottenbury  1981</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FD5BF9A-7E92-44FA-8C34-8622C19A7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9280" y="620280"/>
            <a:ext cx="8001000" cy="4853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strength is measured in newtons/kilotex (N/ktex) and sound wools have a value of 30 N/ktex and abo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Mob averages of 30 N/ktex to 50 N/ktex are common but values as high as 100 N/ktex have been repor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ue to the force necessary to break a staple, subjective methods are only effective up to strengths of 30 N/kte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Wool with staple strengths greater than 30 N/ktex give better processing performance and cannot be evaluated by subjective meth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Wool with a staple strength below 30 N/ktex is likely to be classified as tender using subjective method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E41664A-3A34-44F5-A42C-917D5E274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ion of staple strength among the fleeces of a mob of sheep grown under constant levels of nutrition</a:t>
            </a:r>
            <a:endParaRPr b="1" lang="en-US" sz="2800" spc="-1" strike="noStrike">
              <a:solidFill>
                <a:srgbClr val="000000"/>
              </a:solidFill>
              <a:latin typeface="Arial"/>
            </a:endParaRPr>
          </a:p>
        </p:txBody>
      </p:sp>
      <p:graphicFrame>
        <p:nvGraphicFramePr>
          <p:cNvPr id="93" name=""/>
          <p:cNvGraphicFramePr/>
          <p:nvPr/>
        </p:nvGraphicFramePr>
        <p:xfrm>
          <a:off x="900000" y="1341360"/>
          <a:ext cx="7488360" cy="3409920"/>
        </p:xfrm>
        <a:graphic>
          <a:graphicData uri="http://schemas.openxmlformats.org/drawingml/2006/table">
            <a:tbl>
              <a:tblPr/>
              <a:tblGrid>
                <a:gridCol w="936000"/>
                <a:gridCol w="936000"/>
                <a:gridCol w="936000"/>
                <a:gridCol w="936360"/>
                <a:gridCol w="936000"/>
                <a:gridCol w="936000"/>
                <a:gridCol w="936000"/>
                <a:gridCol w="936000"/>
              </a:tblGrid>
              <a:tr h="485280">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rowSpan="6">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gridSpan="2"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
          <p:cNvSpPr/>
          <p:nvPr/>
        </p:nvSpPr>
        <p:spPr>
          <a:xfrm rot="16200000">
            <a:off x="-453960" y="34149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Arial"/>
            </a:endParaRPr>
          </a:p>
        </p:txBody>
      </p:sp>
      <p:sp>
        <p:nvSpPr>
          <p:cNvPr id="95" name=""/>
          <p:cNvSpPr/>
          <p:nvPr/>
        </p:nvSpPr>
        <p:spPr>
          <a:xfrm>
            <a:off x="684360" y="486900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6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8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6300720" y="19177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40</a:t>
            </a:r>
            <a:endParaRPr b="0" lang="en-US" sz="2400" spc="-1" strike="noStrike">
              <a:solidFill>
                <a:srgbClr val="000000"/>
              </a:solidFill>
              <a:latin typeface="Arial"/>
            </a:endParaRPr>
          </a:p>
        </p:txBody>
      </p:sp>
      <p:sp>
        <p:nvSpPr>
          <p:cNvPr id="97" name=""/>
          <p:cNvSpPr/>
          <p:nvPr/>
        </p:nvSpPr>
        <p:spPr>
          <a:xfrm>
            <a:off x="3132000" y="5300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ple Strength (N/ktex)</a:t>
            </a:r>
            <a:endParaRPr b="0" lang="en-US" sz="1800" spc="-1" strike="noStrike">
              <a:solidFill>
                <a:srgbClr val="000000"/>
              </a:solidFill>
              <a:latin typeface="Arial"/>
            </a:endParaRPr>
          </a:p>
        </p:txBody>
      </p:sp>
      <p:sp>
        <p:nvSpPr>
          <p:cNvPr id="98" name=""/>
          <p:cNvSpPr/>
          <p:nvPr/>
        </p:nvSpPr>
        <p:spPr>
          <a:xfrm>
            <a:off x="6516720" y="907920"/>
            <a:ext cx="24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895109B-ACC5-4724-84F9-2D507E7D5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360" y="54936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While fleeces within mobs vary over a wide range there are also large differences among mobs from different farm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se effects are demonstrated in the next table for clips prepared in the traditional manner and tested presa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Note that the subjectively-appraised tender lines from each of the three mobs have staple strengths of about 20 N/ktex due to the method of appraisal whereas the main AAA lines vary substantiall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FC96219-A531-4785-937D-382C7F8CD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ple Strength of Sound and Tender Lines</a:t>
            </a:r>
            <a:endParaRPr b="1" lang="en-US" sz="3200" spc="-1" strike="noStrike">
              <a:solidFill>
                <a:srgbClr val="000000"/>
              </a:solidFill>
              <a:latin typeface="Arial"/>
            </a:endParaRPr>
          </a:p>
        </p:txBody>
      </p:sp>
      <p:graphicFrame>
        <p:nvGraphicFramePr>
          <p:cNvPr id="101" name=""/>
          <p:cNvGraphicFramePr/>
          <p:nvPr/>
        </p:nvGraphicFramePr>
        <p:xfrm>
          <a:off x="826920" y="1268280"/>
          <a:ext cx="8001000" cy="3733560"/>
        </p:xfrm>
        <a:graphic>
          <a:graphicData uri="http://schemas.openxmlformats.org/drawingml/2006/table">
            <a:tbl>
              <a:tblPr/>
              <a:tblGrid>
                <a:gridCol w="2666880"/>
                <a:gridCol w="2667240"/>
                <a:gridCol w="2666880"/>
              </a:tblGrid>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ple Strength (N/kte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8226CD58-41B5-4C50-8BED-54EE650D5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000" y="475920"/>
            <a:ext cx="8001000" cy="492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processing performances of these three mobs are shown in the following t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ote that the strong clip (Farm A), produces the longest fibre length in the top and, although the tender line is shorter, it is still longer than the AAA lines from the other two mob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n other words there are similarities in the processing performances of the sound and tender lines from the same mob.  A good demonstration lies in the results for short fibre cont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is may be due to the fact that although there are differences in strength their staple profiles would be similar as the sheep have been run under similar conditions throughout the growing season</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EF41AF3-A9AB-4530-B238-9CC8082BE3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333360"/>
            <a:ext cx="800100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differences between the classed lines is largest in strong clips but the size of the tender line in these clips would be sm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lending the AAA line with the small amount of tender wool would not influence the processing performance of the main l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In the mobs of lower staple strength where the average is about 30N/ktex the tender line will obviously be much larger but the difference between the sound and tender lines is very small so little is achieved by separating them if presale test results are availab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It is important to note that current regulations require that tender fleeces are removed</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4B45DFF-E43E-46A5-86A3-83291FC818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23:27:03Z</dcterms:created>
  <dc:creator>mwatson2</dc:creator>
  <dc:description/>
  <dc:language>en-US</dc:language>
  <cp:lastModifiedBy>Sally Mahony</cp:lastModifiedBy>
  <dcterms:modified xsi:type="dcterms:W3CDTF">2005-06-03T01:56:08Z</dcterms:modified>
  <cp:revision>17</cp:revision>
  <dc:subject/>
  <dc:title>Staple Strength and General Preparation Procedures</dc:title>
</cp:coreProperties>
</file>