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25D5-A1BE-4F33-B279-C8D151761AC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A995-F276-4903-8A86-A0EB725EC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E983-B8B0-4168-88CF-7020E508B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2284-A07F-4D91-9147-B9AF6C8B0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7A88-EF91-44B7-8B96-1412259EF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268B-CB7C-4390-AF3B-9E832E7ED7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CF50-5066-4B0F-8212-4225DD44C2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29C6-BC5F-4BF3-B57B-3A94ABDD38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0D4E-593D-4314-8789-50EEADE347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B58C-F13A-40B0-A654-4879CD5E25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CAC0-0C68-40C0-8DFE-232EDA187C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EB91-7BFF-4528-BA5A-FB7193F50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18AF-CE23-4555-9E14-F24C69B95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838F-9942-4D3F-9B92-CDAA95DC83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7FE6-066A-4797-AEA3-2E0FEB0916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3366-6853-4605-AD51-CD2C1F734B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555D-8C19-4D57-BEBA-8A8DB884D4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E080-FE49-4BFD-9722-B86A35C43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7DFE-1BFC-4592-B76C-C0E54D805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77C7-764B-4C66-8F24-6BEFF2671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0260-6458-4DF7-BC4E-A90D8BB9E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AFF9-B023-449A-93A1-D01EE2662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56E0-C149-4A8D-979C-FDCA7D37A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391E-783C-41B9-A22C-398E6D914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5309-D98D-43DE-97D3-F13BFD20F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EF92-FD55-431F-A291-BE1B9EF42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8193-90AA-45A8-B541-09D6493AB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3240" y="2487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ce Risk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ure and Management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ce Ris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84280" y="4437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10 – 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013B-2063-452C-9D6F-4F859C5F930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2251-D674-4898-82C5-6A57E5F2A7B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R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64520" cy="39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6DE3-26E1-4D9B-980C-E88A18B51A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wool price risk ar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changes in the balanc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, which is a func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fitability of producing alternative goods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of inpu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, which is a func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s and wants of consum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e and spending power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of alternat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8BC9-0F13-456F-BD73-09F586DDD8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aches to price r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ducers and end-us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exposed to large amounts of price risk (by waiting to be “given” a price once a year when their clip is offered at auction)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rgely accept this risk as part of being i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aders and process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attempt to structure business activities to avoid risk, others embrace it with a view to making a profit from its management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atter play a valuable role in the market by evening out short term supply and demand fluc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wool reserve price scheme was designed to reduce risk but failed due to lack of commeric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8401-A67E-499F-837F-125364182CD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Price R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pric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 associated with market prices rising or fa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risk (basis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 associated with changing price differentials between different quality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spread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k associated with changing price differentials between different maturity 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DC66-DEBE-47A6-AE81-2CD64B7821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Pro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45480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2C93-072D-4FAE-A209-DB0C2E906C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 Risk Management Prod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physical purchase and sale contra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s contra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rad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Counter (OTC)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contracts (exchange traded and O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E35F-1BE1-4A99-BC06-2BD58A0121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4440" y="44280"/>
            <a:ext cx="3336840" cy="271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24600" y="44280"/>
            <a:ext cx="3408120" cy="277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3068640"/>
            <a:ext cx="3097080" cy="2523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58800" y="2997360"/>
            <a:ext cx="3192480" cy="260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4E0C-D121-4FE6-AD86-F09C5CB73B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Management 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ducers and end-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ple products that negat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ward physical contracts and some OT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aders and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l types of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ward contracts if risk to be ne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tures contracts used to create products for other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C1AC-476F-44E0-A48C-3242931D67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07:57Z</dcterms:created>
  <dc:creator>Bill Mitchell</dc:creator>
  <dc:description/>
  <dc:language>en-US</dc:language>
  <cp:lastModifiedBy>Sally Mahony</cp:lastModifiedBy>
  <dcterms:modified xsi:type="dcterms:W3CDTF">2005-05-23T05:11:07Z</dcterms:modified>
  <cp:revision>16</cp:revision>
  <dc:subject/>
  <dc:title>Participants in the Wool Marketing Chain</dc:title>
</cp:coreProperties>
</file>