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63598D-CAFF-4F64-A11F-F446F0E0E5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FCFFB50-16CE-48E4-B21F-CDD61E28E3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B2A370B-3FA4-4E56-BFCC-38C9CD33CD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4BDAB4F-6B6F-4FFA-8722-F31640F3DA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35088D2-D492-49E7-8AB0-02B3081A21B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D9DFC7-38E8-4CBE-A9CB-7074745D07D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AF6A9B9-0DC6-46B1-B7E7-B77CDD2B92D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A7DC488B-29EF-47D3-A68F-62955AB155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2"/>
          </p:nvPr>
        </p:nvSpPr>
        <p:spPr/>
        <p:txBody>
          <a:bodyPr/>
          <a:p>
            <a:fld id="{951FD4EF-F592-44A6-9F40-69BD074646F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24000" y="-36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1F596B8-EF6A-4414-B8EA-4BB6E871E4A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63620124-1B24-40A6-B699-8AF04104198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AE67C-2279-46F0-BB83-99B3A2221C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DABBAAE2-9191-46B8-9076-03576F19F97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49FDD296-F718-4FEF-9087-5009F266C48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615CA412-8C8E-4480-A482-ED7D54A8C32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114A34AE-7876-415D-B2AE-0E792A4A78A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0A1D2C38-6C7B-4582-B114-F8F748D0E7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AF02F8-478A-408C-9010-1D2EDFDE10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CF081C4-83EA-454A-9F25-4B4E115F58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1"/>
          </p:nvPr>
        </p:nvSpPr>
        <p:spPr/>
        <p:txBody>
          <a:bodyPr/>
          <a:p>
            <a:fld id="{D580B661-F48C-416B-9037-B9BBC17BBB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24000" y="-36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003EBC7-8DDD-47C4-AE87-36F31D41F8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35D06EE-1E36-474C-9D6B-2D89EF4BCA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FA1BC1D-4B74-40EB-B7DF-E1B49B0511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A60478D-A987-4D20-A342-A8B91CBE69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4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1185840" y="1980720"/>
            <a:ext cx="7772400" cy="3581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
          <p:cNvSpPr/>
          <p:nvPr/>
        </p:nvSpPr>
        <p:spPr>
          <a:xfrm>
            <a:off x="0" y="0"/>
            <a:ext cx="380880" cy="685800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0" y="5651640"/>
            <a:ext cx="9144000" cy="853920"/>
          </a:xfrm>
          <a:prstGeom prst="rect">
            <a:avLst/>
          </a:prstGeom>
          <a:ln w="0">
            <a:noFill/>
          </a:ln>
        </p:spPr>
      </p:pic>
      <p:pic>
        <p:nvPicPr>
          <p:cNvPr id="4" name="" descr=""/>
          <p:cNvPicPr/>
          <p:nvPr/>
        </p:nvPicPr>
        <p:blipFill>
          <a:blip r:embed="rId3"/>
          <a:stretch/>
        </p:blipFill>
        <p:spPr>
          <a:xfrm>
            <a:off x="6350040" y="5270400"/>
            <a:ext cx="1127160" cy="1600200"/>
          </a:xfrm>
          <a:prstGeom prst="rect">
            <a:avLst/>
          </a:prstGeom>
          <a:ln w="0">
            <a:noFill/>
          </a:ln>
        </p:spPr>
      </p:pic>
      <p:sp>
        <p:nvSpPr>
          <p:cNvPr id="5" name="PlaceHolder 3"/>
          <p:cNvSpPr>
            <a:spLocks noGrp="1"/>
          </p:cNvSpPr>
          <p:nvPr>
            <p:ph type="sldNum" idx="1"/>
          </p:nvPr>
        </p:nvSpPr>
        <p:spPr>
          <a:xfrm>
            <a:off x="6477120" y="6477120"/>
            <a:ext cx="2666880" cy="3808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1C4E3-ABD1-4F16-A983-C2D5EFF416A5}"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5400" y="61812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3" name="PlaceHolder 2"/>
          <p:cNvSpPr>
            <a:spLocks noGrp="1"/>
          </p:cNvSpPr>
          <p:nvPr>
            <p:ph type="sldNum" idx="2"/>
          </p:nvPr>
        </p:nvSpPr>
        <p:spPr>
          <a:xfrm>
            <a:off x="70102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55E1F-6BD7-482D-8EC6-772985B91358}"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 name=""/>
          <p:cNvSpPr/>
          <p:nvPr/>
        </p:nvSpPr>
        <p:spPr>
          <a:xfrm>
            <a:off x="0" y="0"/>
            <a:ext cx="380880" cy="213372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5" name="" descr=""/>
          <p:cNvPicPr/>
          <p:nvPr/>
        </p:nvPicPr>
        <p:blipFill>
          <a:blip r:embed="rId2"/>
          <a:stretch/>
        </p:blipFill>
        <p:spPr>
          <a:xfrm>
            <a:off x="0" y="2133720"/>
            <a:ext cx="9144000" cy="1749240"/>
          </a:xfrm>
          <a:prstGeom prst="rect">
            <a:avLst/>
          </a:prstGeom>
          <a:ln w="0">
            <a:noFill/>
          </a:ln>
        </p:spPr>
      </p:pic>
      <p:sp>
        <p:nvSpPr>
          <p:cNvPr id="46" name=""/>
          <p:cNvSpPr/>
          <p:nvPr/>
        </p:nvSpPr>
        <p:spPr>
          <a:xfrm>
            <a:off x="0" y="3479760"/>
            <a:ext cx="380880" cy="337824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645120"/>
            <a:ext cx="777240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n Farm Fibre Measurement (OFFM)</a:t>
            </a:r>
            <a:endParaRPr b="1" lang="en-US" sz="3600" spc="-1" strike="noStrike">
              <a:solidFill>
                <a:srgbClr val="000000"/>
              </a:solidFill>
              <a:latin typeface="Arial"/>
            </a:endParaRPr>
          </a:p>
        </p:txBody>
      </p:sp>
      <p:sp>
        <p:nvSpPr>
          <p:cNvPr id="85" name="PlaceHolder 2"/>
          <p:cNvSpPr>
            <a:spLocks noGrp="1"/>
          </p:cNvSpPr>
          <p:nvPr>
            <p:ph type="subTitle"/>
          </p:nvPr>
        </p:nvSpPr>
        <p:spPr>
          <a:xfrm>
            <a:off x="1258920" y="4220640"/>
            <a:ext cx="640080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pic 3</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DAA3AAC-839B-4885-90CE-C41FD03114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23640" y="-27360"/>
            <a:ext cx="85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ce differences achieved using OFFM with a high micron premium at low, medium and high level price levels compared to selling wool in one single lot.  The heavy horizontal line represents the extra cost of using OFFM</a:t>
            </a:r>
            <a:endParaRPr b="1" lang="en-US" sz="1800" spc="-1" strike="noStrike">
              <a:solidFill>
                <a:srgbClr val="000000"/>
              </a:solidFill>
              <a:latin typeface="Arial"/>
            </a:endParaRPr>
          </a:p>
        </p:txBody>
      </p:sp>
      <p:pic>
        <p:nvPicPr>
          <p:cNvPr id="101" name="" descr=""/>
          <p:cNvPicPr/>
          <p:nvPr/>
        </p:nvPicPr>
        <p:blipFill>
          <a:blip r:embed="rId1"/>
          <a:stretch/>
        </p:blipFill>
        <p:spPr>
          <a:xfrm>
            <a:off x="395280" y="907920"/>
            <a:ext cx="8280360" cy="4560840"/>
          </a:xfrm>
          <a:prstGeom prst="rect">
            <a:avLst/>
          </a:prstGeom>
          <a:ln w="0">
            <a:noFill/>
          </a:ln>
        </p:spPr>
      </p:pic>
      <p:sp>
        <p:nvSpPr>
          <p:cNvPr id="102" name=""/>
          <p:cNvSpPr/>
          <p:nvPr/>
        </p:nvSpPr>
        <p:spPr>
          <a:xfrm>
            <a:off x="5796000" y="907920"/>
            <a:ext cx="302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ource: Dominik &amp; Pope (2002)</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09D5D57E-73EA-4529-8718-937B0F7F8C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826920" y="836640"/>
            <a:ext cx="7772400" cy="3581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The following figure demonstrates the situation when the micron premium is at a medium leve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Profit levels are greatly reduced and only 2 clips (3 and 11) clear costs at all price level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Five clips produce a loss at all price levels</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C7E974D7-85FE-4A5D-87A8-039FF1DD5F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360"/>
            <a:ext cx="8424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ce differences achieved using OFFM with a medium micron premium at low, medium and high price levels compared to selling wool in one single lot.  The heavy horizontal line represents the extra cost of using OFFM</a:t>
            </a:r>
            <a:endParaRPr b="1" lang="en-US" sz="1800" spc="-1" strike="noStrike">
              <a:solidFill>
                <a:srgbClr val="000000"/>
              </a:solidFill>
              <a:latin typeface="Arial"/>
            </a:endParaRPr>
          </a:p>
        </p:txBody>
      </p:sp>
      <p:pic>
        <p:nvPicPr>
          <p:cNvPr id="105" name="" descr=""/>
          <p:cNvPicPr/>
          <p:nvPr/>
        </p:nvPicPr>
        <p:blipFill>
          <a:blip r:embed="rId1"/>
          <a:stretch/>
        </p:blipFill>
        <p:spPr>
          <a:xfrm>
            <a:off x="755640" y="981000"/>
            <a:ext cx="7920000" cy="4635720"/>
          </a:xfrm>
          <a:prstGeom prst="rect">
            <a:avLst/>
          </a:prstGeom>
          <a:ln w="0">
            <a:noFill/>
          </a:ln>
        </p:spPr>
      </p:pic>
      <p:sp>
        <p:nvSpPr>
          <p:cNvPr id="106" name=""/>
          <p:cNvSpPr/>
          <p:nvPr/>
        </p:nvSpPr>
        <p:spPr>
          <a:xfrm>
            <a:off x="5796000" y="907920"/>
            <a:ext cx="302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ource: Dominik &amp; Pope (2002)</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4872C6E6-97CD-46EE-914C-F72F5187E0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539280" y="549360"/>
            <a:ext cx="8001000" cy="4852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The previous two figures present a clear demonstration of the importance of:</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he average diameter of the mob an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 high premium for fine woo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Even in flocks that have a high fibre diameter, say 23um, the young sheep may still have a mean fibre diameter close to the inflexion point and make clip preparation using OFFM profitabl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Further, if the sheep are identified, it is only necessary to measure them once.  This measurement can be used at subsequent shearings as it is a good guide to their relative performance as adults</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37F3E533-0A1B-4557-BF96-15D3EE7FE5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68000" y="0"/>
            <a:ext cx="8001000" cy="4968720"/>
          </a:xfrm>
          <a:prstGeom prst="rect">
            <a:avLst/>
          </a:prstGeom>
          <a:noFill/>
          <a:ln w="0">
            <a:noFill/>
          </a:ln>
        </p:spPr>
        <p:txBody>
          <a:bodyPr lIns="90000" rIns="90000" tIns="46800" bIns="46800" anchor="t">
            <a:normAutofit fontScale="94000"/>
          </a:bodyPr>
          <a:p>
            <a:pPr marL="429480" indent="-42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asurement can also be used profitably for sheep selection in two ways:</a:t>
            </a:r>
            <a:endParaRPr b="0" lang="en-US" sz="2000" spc="-1" strike="noStrike">
              <a:solidFill>
                <a:srgbClr val="000000"/>
              </a:solidFill>
              <a:latin typeface="Arial"/>
            </a:endParaRPr>
          </a:p>
          <a:p>
            <a:pPr marL="42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irstly it can be used to select replacements for the adult flock in order to reduce its mean diameter and increase the value of the wool</a:t>
            </a:r>
            <a:endParaRPr b="0" lang="en-US" sz="2000" spc="-1" strike="noStrike">
              <a:solidFill>
                <a:srgbClr val="000000"/>
              </a:solidFill>
              <a:latin typeface="Arial"/>
            </a:endParaRPr>
          </a:p>
          <a:p>
            <a:pPr marL="42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econdly, by using the measurement to select replacements, their offspring will also be finer further improving returns</a:t>
            </a:r>
            <a:endParaRPr b="0" lang="en-US" sz="2000" spc="-1" strike="noStrike">
              <a:solidFill>
                <a:srgbClr val="000000"/>
              </a:solidFill>
              <a:latin typeface="Arial"/>
            </a:endParaRPr>
          </a:p>
          <a:p>
            <a:pPr marL="42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2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However, buyers will/should not rely on growers’ fibre measurements as there is too much variation and lack of reliability in grower testing. Also, buyers need an independent authority to “guarantee” ALL of the characteristics of greasy wool, to justify the purchase</a:t>
            </a:r>
            <a:r>
              <a:rPr b="0" lang="en-US" sz="2000" spc="-1" strike="noStrike">
                <a:solidFill>
                  <a:srgbClr val="000000"/>
                </a:solidFill>
                <a:latin typeface="Arial"/>
              </a:rPr>
              <a:t> </a:t>
            </a:r>
            <a:endParaRPr b="0" lang="en-US" sz="2000" spc="-1" strike="noStrike">
              <a:solidFill>
                <a:srgbClr val="000000"/>
              </a:solidFill>
              <a:latin typeface="Arial"/>
            </a:endParaRPr>
          </a:p>
          <a:p>
            <a:pPr marL="42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2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If advantage is taken of OFFM or flock testing for both clip preparation, sheep selection and other aspects of farm management, the outcome is likely to be profitable over most of the merino range (see the following figure)</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E6EBBA39-2248-4BE1-9309-38AEA113E1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60"/>
            <a:ext cx="8424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ng term economic benefits of OFFM for clip preparation and sheep selection in a flock comprising 2000 breeding ewes and 1000 adult wethers</a:t>
            </a:r>
            <a:endParaRPr b="1" lang="en-US" sz="2400" spc="-1" strike="noStrike">
              <a:solidFill>
                <a:srgbClr val="000000"/>
              </a:solidFill>
              <a:latin typeface="Arial"/>
            </a:endParaRPr>
          </a:p>
        </p:txBody>
      </p:sp>
      <p:pic>
        <p:nvPicPr>
          <p:cNvPr id="110" name="" descr=""/>
          <p:cNvPicPr/>
          <p:nvPr/>
        </p:nvPicPr>
        <p:blipFill>
          <a:blip r:embed="rId1"/>
          <a:stretch/>
        </p:blipFill>
        <p:spPr>
          <a:xfrm>
            <a:off x="1258920" y="1170000"/>
            <a:ext cx="6337440" cy="4707000"/>
          </a:xfrm>
          <a:prstGeom prst="rect">
            <a:avLst/>
          </a:prstGeom>
          <a:ln w="0">
            <a:noFill/>
          </a:ln>
        </p:spPr>
      </p:pic>
      <p:sp>
        <p:nvSpPr>
          <p:cNvPr id="111" name=""/>
          <p:cNvSpPr/>
          <p:nvPr/>
        </p:nvSpPr>
        <p:spPr>
          <a:xfrm>
            <a:off x="5796000" y="1125360"/>
            <a:ext cx="302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ource: Atkins &amp; Semple  (2002)</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E1B2CCFA-52BC-4805-8957-0C3FAA77F3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826560" y="620640"/>
            <a:ext cx="7201080" cy="3733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d of Topic Summa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ose Window</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C2A4E1E-ADC2-4423-B474-9D70E8DAC94B}" type="slidenum">
              <a:t>1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39280" y="404280"/>
            <a:ext cx="8001000" cy="5185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The introduction of pre-sale testing revealed two major anomali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ifferences in fibre diameter achieved by classing skirted fleeces from the same mob were much smaller than expecte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ifferences among classed lines having the same quality number but from different mobs/farms were much larger than expecte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The OCP procedure was for the classer to ignore the small differences in fibre diameter achieved by classing for fineness and produce one major fleece line.  The buyer could use the presale test results to remove variations between these large lines from different mobs/farms</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1D976418-5E1E-462D-BF05-D16483868E56}"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539280" y="333360"/>
            <a:ext cx="8001000" cy="4967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The price/diameter relationship is reasonably linear for merino wool broader than 21u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At about 20um there is an inflexion point or “elbow” below which prices rise sharply for finer woo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If the average fibre diameter of the fleeces of a mob lie near this inflexion point then the separation of fleeces into lines based on micron categories may result in better returns than would be obtained by selling all fleeces in one large line as proposed under OCP</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The shape of the relationship is very volatile.  When prices are high the premium for fine wools is also high and vice versa</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C1E38A50-34DD-42CA-8338-5C6990A93D5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23640" y="-360"/>
            <a:ext cx="8351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relationship between fibre diameter and clean price of wool</a:t>
            </a:r>
            <a:endParaRPr b="1" lang="en-US" sz="3200" spc="-1" strike="noStrike">
              <a:solidFill>
                <a:srgbClr val="000000"/>
              </a:solidFill>
              <a:latin typeface="Arial"/>
            </a:endParaRPr>
          </a:p>
        </p:txBody>
      </p:sp>
      <p:pic>
        <p:nvPicPr>
          <p:cNvPr id="89" name="" descr=""/>
          <p:cNvPicPr/>
          <p:nvPr/>
        </p:nvPicPr>
        <p:blipFill>
          <a:blip r:embed="rId1"/>
          <a:stretch/>
        </p:blipFill>
        <p:spPr>
          <a:xfrm>
            <a:off x="1835280" y="1125360"/>
            <a:ext cx="5976720" cy="4538880"/>
          </a:xfrm>
          <a:prstGeom prst="rect">
            <a:avLst/>
          </a:prstGeom>
          <a:ln w="0">
            <a:noFill/>
          </a:ln>
        </p:spPr>
      </p:pic>
      <p:sp>
        <p:nvSpPr>
          <p:cNvPr id="90" name=""/>
          <p:cNvSpPr/>
          <p:nvPr/>
        </p:nvSpPr>
        <p:spPr>
          <a:xfrm>
            <a:off x="5796000" y="1125360"/>
            <a:ext cx="302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ource: Atkins &amp; Semple (2003)</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3C061BE3-8122-40FF-A322-E6698AB383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68000" y="259920"/>
            <a:ext cx="8001000" cy="496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The invention of very rapid methods for measuring fibre diameter, such as the laserscan and the OFDA 100, made it feasible to adapt these technologies for use during the shearing oper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Alternatively, flock testing operations could be managed so that the mid-side results were available at the time of shearing</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Using either procedure fleeces could be measured and grouped into diameter categori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Table 1 illustrates a profitable example of on farm fibre measurement</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C155CA3A-A886-4BF1-B174-3CB6DBC4A7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68000" y="53640"/>
            <a:ext cx="849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ces in the average fibre diameter of sale lots that could be achieved using OFFM based on the inputs listed.  The prices and potential profit compared with selling the wool in one major line are based on prices received in Sale Week 10 2000/2001</a:t>
            </a:r>
            <a:endParaRPr b="1" lang="en-US" sz="1800" spc="-1" strike="noStrike">
              <a:solidFill>
                <a:srgbClr val="000000"/>
              </a:solidFill>
              <a:latin typeface="Arial"/>
            </a:endParaRPr>
          </a:p>
        </p:txBody>
      </p:sp>
      <p:graphicFrame>
        <p:nvGraphicFramePr>
          <p:cNvPr id="93" name=""/>
          <p:cNvGraphicFramePr/>
          <p:nvPr/>
        </p:nvGraphicFramePr>
        <p:xfrm>
          <a:off x="826920" y="1197000"/>
          <a:ext cx="7561440" cy="4451400"/>
        </p:xfrm>
        <a:graphic>
          <a:graphicData uri="http://schemas.openxmlformats.org/drawingml/2006/table">
            <a:tbl>
              <a:tblPr/>
              <a:tblGrid>
                <a:gridCol w="1081080"/>
                <a:gridCol w="1078200"/>
                <a:gridCol w="1081080"/>
                <a:gridCol w="1081080"/>
                <a:gridCol w="1081080"/>
                <a:gridCol w="1077840"/>
                <a:gridCol w="1081080"/>
              </a:tblGrid>
              <a:tr h="276480">
                <a:tc grid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le Quarter used was: Week 10 2000/2001                                              Potential Gain was: $7401.85</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33960">
                <a:tc grid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Sheep                           1500</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 GFW (kg/hd)                               5.0</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 FD (um)                                    20.5</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 Yld (%)                                     75.0</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n. number of bales                           1</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ndard Deviation                         1.44</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eece Skirting Ration                    80.0</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le Weight (kg)                              200</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15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F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ol k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off</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012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8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2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012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8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7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97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1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7</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012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9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15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4</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012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4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7600">
                <a:tc gridSpan="2">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ighted Average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3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4" name=""/>
          <p:cNvSpPr/>
          <p:nvPr/>
        </p:nvSpPr>
        <p:spPr>
          <a:xfrm>
            <a:off x="4716360" y="907920"/>
            <a:ext cx="302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ource: Semple &amp; Atkins </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FD99C595-1B3F-4F7F-891A-BA17D4E26E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39280" y="475920"/>
            <a:ext cx="8001000" cy="5040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In table 2 some practical results are reported for the use of OFFM in clip prepar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Particular notice should be taken of the average fibre diameter of the clip and whether the OFFM classed lines fall on either side of the inflexion point in the curves shown in the first graph</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Clips 1 and 9 represent clips where the mean diameters lie away from the inflexion poi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Clips 5 and 11 lie close to the inflexion poi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a:solidFill>
                  <a:srgbClr val="000000"/>
                </a:solidFill>
                <a:latin typeface="Arial"/>
              </a:rPr>
              <a:t>	</a:t>
            </a:r>
            <a:r>
              <a:rPr b="0" lang="en-US" sz="2000" spc="-1" strike="noStrike">
                <a:solidFill>
                  <a:srgbClr val="000000"/>
                </a:solidFill>
                <a:latin typeface="Arial"/>
              </a:rPr>
              <a:t>Examine the spread of the OFFM classed lines about the inflexion point</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AC35E811-1E02-4156-8BC6-01E9B7B4A9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4000" y="-27360"/>
            <a:ext cx="8496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ces in the average fibre diameter of sale lots achieved using OFFM for 11 South Australian mobs.  SE=South Eastern, P=Pastoral, MN=Mid North and WC=West Coast.  Number of bales are shown in brackets</a:t>
            </a:r>
            <a:endParaRPr b="1" lang="en-US" sz="1800" spc="-1" strike="noStrike">
              <a:solidFill>
                <a:srgbClr val="000000"/>
              </a:solidFill>
              <a:latin typeface="Arial"/>
            </a:endParaRPr>
          </a:p>
        </p:txBody>
      </p:sp>
      <p:graphicFrame>
        <p:nvGraphicFramePr>
          <p:cNvPr id="97" name=""/>
          <p:cNvGraphicFramePr/>
          <p:nvPr/>
        </p:nvGraphicFramePr>
        <p:xfrm>
          <a:off x="395280" y="1125360"/>
          <a:ext cx="8640720" cy="4398840"/>
        </p:xfrm>
        <a:graphic>
          <a:graphicData uri="http://schemas.openxmlformats.org/drawingml/2006/table">
            <a:tbl>
              <a:tblPr/>
              <a:tblGrid>
                <a:gridCol w="960480"/>
                <a:gridCol w="960480"/>
                <a:gridCol w="1319040"/>
                <a:gridCol w="1008000"/>
                <a:gridCol w="936720"/>
                <a:gridCol w="934920"/>
                <a:gridCol w="865440"/>
                <a:gridCol w="863280"/>
                <a:gridCol w="792360"/>
              </a:tblGrid>
              <a:tr h="415440">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per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an FD of clip (u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6">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an FD of multiple sale lots (micron) and number of bal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2(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3 (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 (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1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3 (1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5 (1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11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5 (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7 (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1 (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 (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4 (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8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9 (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3 (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4 (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8 (1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70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0 (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1 (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0 (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 (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3 (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70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0 (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1 (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7 (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70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5 (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3 (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2 (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0 (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 (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56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3 (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8 (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5 (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6 (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9 (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79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9 (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1 (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6 (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70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0 (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1 (1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8 (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2 (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0 (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0 (1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0 (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8 (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 (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5 (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8" name=""/>
          <p:cNvSpPr/>
          <p:nvPr/>
        </p:nvSpPr>
        <p:spPr>
          <a:xfrm>
            <a:off x="5796000" y="907920"/>
            <a:ext cx="302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ource: Dominik &amp; Pope (2002)</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2E78CA8E-FB6C-45E1-A659-E26ED56369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68000" y="259920"/>
            <a:ext cx="8001000" cy="496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In the following two figures the profit or loss from this method of preparation is demonstrated under two different sets of pricing conditio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The second of the two following figures illustrates a situation in which there is a high micron premium at three different price level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In clips 1 and 9 OFFM produces a loss at all price level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Clips 5 and 11 reveal a substantial profit/sheep at all three price levels and 7 out of the 11 clips either make a profit or clear the extra costs of OFFM at all price levels</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85C4ADC3-EC2F-4BEE-9040-56255B766E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6T21:35:55Z</dcterms:created>
  <dc:creator>mwatson2</dc:creator>
  <dc:description/>
  <dc:language>en-US</dc:language>
  <cp:lastModifiedBy>Sally Mahony</cp:lastModifiedBy>
  <dcterms:modified xsi:type="dcterms:W3CDTF">2005-06-03T02:07:19Z</dcterms:modified>
  <cp:revision>18</cp:revision>
  <dc:subject/>
  <dc:title>Slide 1</dc:title>
</cp:coreProperties>
</file>