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03F0-479D-4CD4-83EA-B75A7C12644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4E21-597D-4D4B-8759-043C93CD3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C015-3954-4D74-AA7B-D7BCE81FB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DDE7-CC85-4386-B9D3-516E13F2D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8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64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0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8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64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7507-6BC0-4364-B7C5-5D3AABF95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664D-5C19-457D-A49B-B650CF190A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CD48-EDCD-441F-B437-40282764D6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412B-F7B9-442B-997F-6B126AF606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98B8-A7A0-4C76-AC64-F5E61E21F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2795-8ECD-4E83-A3E6-6C8927694A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35E3-A173-46EE-9FF3-29195B94C7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FCD0-110F-48EB-BDB8-383FB073E7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D534-B282-42FA-9356-19614255F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9284-B202-4762-9F74-D55F635762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3859-98D1-487C-ACE4-183D5ADAB8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7254-C3BD-4154-A0DA-7C06BECC17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B9A1-A19B-48A9-986A-908904FF7B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2800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64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00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2800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64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3967-20B0-4C5A-A420-2B872EC1A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1F2E-424C-4B69-B849-0CFD95172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2ABD-9800-49BE-9052-0F959EC17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5DCB-4F1A-4BB2-9662-22E745EC9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72E4-C0A8-4D88-991E-88C3403A2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C237-1119-4C9C-86B1-ABEF0AD53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26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1057-DD3E-4766-B0F0-683762AF6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26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913D-9E86-48AD-A98C-38FE68493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04E-AE40-4E8C-BF78-9BFBB6CEE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618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D808-E0CB-47E8-AC46-F53A0170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83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ling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55920" y="4052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FA9D-3FE5-4F79-8A77-B004CE2787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tralian Selling Methods (% Shar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Cry Auction  (75-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Treaty (10-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 (2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to Processor (up to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/Portfolio (&lt;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tion Dominant and feed by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9E25-A1EC-4CD0-8CA1-FF4D252042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A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, many buyers/sellers/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by AWEX (industry self reg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centres across 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inflex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industry infrastructure based around these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price setter for 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1C3D-02B7-4DE5-A0B8-5394565891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PRIVATE TREA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transfer mechanism (between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ries due to market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eeds back into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forward/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ing in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rm gate basis moving to electronic access (provided lots are weighed and tested by AW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B17B-A5A5-452D-A5D1-A6A6AC0A81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DIRECT TO M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not transparent, less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access method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part of a private treaty or vertically integrate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ing can be post gr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se as supply dec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more grower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05B7-6216-4A04-AF46-7B3B991227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ELECTRON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systems op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s an adjunct to A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use could transform industry if accepted by all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/7 capability allowing access to any authorised buyer in the world, &gt;single lot purchase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is not the limiting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8F94-7F86-4D49-83CE-C4CCADCCF2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 Methods -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but specialise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folio selling of wool clip via a variety of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linked with futures contracts or private/auction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growers “protection of incom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growers selling forward 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good marke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F489-8511-459D-901A-956A0264DF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9D0F-6F5F-4201-BD10-A4785C60E82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0:26:20Z</dcterms:created>
  <dc:creator>Australian Wool Exchange</dc:creator>
  <dc:description/>
  <dc:language>en-US</dc:language>
  <cp:lastModifiedBy>Sally Mahony</cp:lastModifiedBy>
  <dcterms:modified xsi:type="dcterms:W3CDTF">2005-05-30T23:26:51Z</dcterms:modified>
  <cp:revision>10</cp:revision>
  <dc:subject/>
  <dc:title>No Slide Title</dc:title>
</cp:coreProperties>
</file>