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DE58-99D6-4E65-A1B7-7BAA04D82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CC1B-59FD-481D-AC29-F33C8CF5D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31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6A91-03A7-4C14-A06A-4212D0DA3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8EE3-A6D2-4BFF-AB4D-EFDFF8A4F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8C7F-230C-4806-82ED-40EF328A9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C8EE-1133-4930-B01B-2F00F3E54C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7FEE-29D4-466D-AE89-1CDF177902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CAEB-E924-4F09-9EAD-1789A14A8C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78E5-BF0C-4C5A-8FAB-7F51DE7648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175B-3E6D-4C70-B3F0-DE2D471D05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1FD6-370A-482A-AF1A-E0A8A15147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B2B3-AE35-4B2C-BB7B-EC56C62D09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A865-16EE-4D1E-ABF6-177375A49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759E3-65EC-47D1-B2E9-9CED5CD42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341C-7CFC-4EC1-9C8A-FCD434794E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720" y="331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F106-DB08-4821-BA11-2108770ED3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CE60-1B37-4C07-94D6-3D91A98AC3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72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872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6360" y="331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0D3E-837E-4BF3-A9A0-DD7735A12F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0CF1-0343-45D6-BAEB-13C5D9547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01CA-AF8D-4D29-90B6-C04465225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2620-F6C1-453A-9AB3-E50BB2795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CFD6-FE07-4155-BF68-3669A7042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84FD-31C7-49D6-AECB-70FA874B7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31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DF23-F5E0-4130-81EC-5B36105E7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31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587A-5BAF-47EC-BA01-A01460F16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2B08-7E4B-4122-B43E-D1261328E13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93C8-9CAD-4789-8896-C507DA02C43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woolwise.com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21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and for Australian Wo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0FE1D-7199-42EC-97E6-BB799A868B4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chematic diagram of the language change for diameter in the wool textile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80880" y="1600200"/>
          <a:ext cx="8610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610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6D60-7608-4812-9412-159B09C9CE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Mid-micron production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20-30um)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by major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oducers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mkg Cle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5800" y="1600200"/>
          <a:ext cx="7924680" cy="2514600"/>
        </p:xfrm>
        <a:graphic>
          <a:graphicData uri="http://schemas.openxmlformats.org/drawingml/2006/table">
            <a:tbl>
              <a:tblPr/>
              <a:tblGrid>
                <a:gridCol w="1706400"/>
                <a:gridCol w="966960"/>
                <a:gridCol w="1288800"/>
                <a:gridCol w="1067040"/>
                <a:gridCol w="990360"/>
                <a:gridCol w="1067040"/>
                <a:gridCol w="838080"/>
              </a:tblGrid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 of Tot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/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/02 Estim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/03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3703680" y="5393520"/>
            <a:ext cx="513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urce: Review and Outlook for Mid-Micron Wool – 2003. The Woolmar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6989-FF5F-44E4-8BC5-08ADD355129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iameter profile of Australian fine wool sold at auction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bales)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1993/94 season to 2001/02 sea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09480" y="1447920"/>
          <a:ext cx="7619760" cy="3276000"/>
        </p:xfrm>
        <a:graphic>
          <a:graphicData uri="http://schemas.openxmlformats.org/drawingml/2006/table">
            <a:tbl>
              <a:tblPr/>
              <a:tblGrid>
                <a:gridCol w="1908360"/>
                <a:gridCol w="1970640"/>
                <a:gridCol w="1970280"/>
                <a:gridCol w="177048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3/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/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Ch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1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.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6 – 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,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6 – 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,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,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6 – 1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7,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4,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4,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,7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4459680" y="5410080"/>
            <a:ext cx="468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Source: Review and Outlook for Fine Wool – 2002 The Woolmar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AD2F-2B99-4981-944D-614D916EAF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ypical Diameter and Hauteur Ranges for Worsted Yar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85800" y="1447920"/>
          <a:ext cx="7848360" cy="356040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 (Nm)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meter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es in the Yarn Cross-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uteur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0-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-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0-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-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5-2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-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-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0-2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-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0-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-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0-2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-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/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0-2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-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-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"/>
          <p:cNvSpPr/>
          <p:nvPr/>
        </p:nvSpPr>
        <p:spPr>
          <a:xfrm>
            <a:off x="1144800" y="5630040"/>
            <a:ext cx="141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 note tex = 1000/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D46E-531D-4664-8357-F0BAC6DE381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xample Top Specification for Yar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Main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Quantity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5,000 Kg of 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2.0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p Length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72mm Haute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ength Distributio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48% CV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hort Fibre Content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% &lt;30mm or %&lt;25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tal Fatty Matter (TFM)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ckage type &amp; siz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upplementary specifications may include limits for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ark fibres/100 g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. VM Sp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. N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ome spinners will also seek supplementary specifications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majority of spinners demand as many measurements as possible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lour measurement (tristimulus values of X, Y and Z or  Y-Z (yellownes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Vd (coefficient of variation of di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% fibres &gt;30um (comfort facto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5FA3-06E6-491D-8052-5A440F335FC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Greasy Wool Specification for T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ain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0,000 Kg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1.5 um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ple Lengt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95mm ±12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ple Strengt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5N/Ktex, min. 30N/K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5%, max component 2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edicted Hauteur (TEAM 2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0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upplementary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ceptable wool types eg 100% fleece wool or 10% Pieces/ 90% Flee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 sh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7D97-5BC1-45C8-AA9E-285673F4165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96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cation of Comber’s and R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 basi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ertically integr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rt of a vertical processing operation, scourer, comber, and spinner and even up to weaver and retailer in some extreme cases. These operations are typically found in non-European environments such as India and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ber merch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bers that make tops for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mission comber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bers who make tops for topmaker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levels and attitudes to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442A-5982-44C0-82D3-1CC47CE8138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actors affecting Topm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6019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st of topmaking in Australia (Chinese top maker costs are approximately 25% of world top maker costs and are equal in quality of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asonality of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mand from sp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east cost” solution to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95520" y="5393520"/>
            <a:ext cx="278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Michael Blake  www.woolwi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4EEB-BD8B-4A20-8326-A2A96A9ED92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ost of Topmaking in Austral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cro-economic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chang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es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w margin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gh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f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84520" y="5409360"/>
            <a:ext cx="278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Michael Blake  www.woolwi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F7B1-79C4-431A-B0CE-3CF20338D14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8580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w Wool Supp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aw Wool Supply -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ivate trea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ockpile forward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le by descri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lectronic selling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versea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n-measured w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gher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 predi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er estimates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ill staff estimates of processing ability of those w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AC5B-AB1E-4036-BECE-D7B693EC216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7772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Diameter, Country of Origin and Product Ran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3520" y="1309680"/>
            <a:ext cx="8610480" cy="2790720"/>
            <a:chOff x="533520" y="1309680"/>
            <a:chExt cx="8610480" cy="2790720"/>
          </a:xfrm>
        </p:grpSpPr>
        <p:sp>
          <p:nvSpPr>
            <p:cNvPr id="95" name=""/>
            <p:cNvSpPr/>
            <p:nvPr/>
          </p:nvSpPr>
          <p:spPr>
            <a:xfrm>
              <a:off x="533520" y="1357200"/>
              <a:ext cx="86104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66880" y="2255760"/>
              <a:ext cx="533520" cy="982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2320" y="1954080"/>
              <a:ext cx="227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women’s woven outerwe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75800" y="37414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carp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14400" y="2055600"/>
              <a:ext cx="990720" cy="100080"/>
            </a:xfrm>
            <a:prstGeom prst="flowChartProcess">
              <a:avLst/>
            </a:prstGeom>
            <a:solidFill>
              <a:srgbClr val="ff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33520" y="1309680"/>
              <a:ext cx="7390800" cy="458280"/>
              <a:chOff x="533520" y="1309680"/>
              <a:chExt cx="7390800" cy="45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533520" y="1309680"/>
                <a:ext cx="1371240" cy="458280"/>
              </a:xfrm>
              <a:prstGeom prst="flowChartProcess">
                <a:avLst/>
              </a:prstGeom>
              <a:solidFill>
                <a:srgbClr val="0bf5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Superfine merin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19 um and fin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04760" y="1309680"/>
                <a:ext cx="1142640" cy="458280"/>
              </a:xfrm>
              <a:prstGeom prst="flowChartProcess">
                <a:avLst/>
              </a:prstGeom>
              <a:solidFill>
                <a:srgbClr val="0bf5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Merin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20 - 24 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19360" y="1309680"/>
                <a:ext cx="1828440" cy="458280"/>
              </a:xfrm>
              <a:prstGeom prst="flowChartProcess">
                <a:avLst/>
              </a:prstGeom>
              <a:solidFill>
                <a:srgbClr val="0bf5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Medium crossbr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29- 32 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47760" y="1309680"/>
                <a:ext cx="1371240" cy="458280"/>
              </a:xfrm>
              <a:prstGeom prst="flowChartProcess">
                <a:avLst/>
              </a:prstGeom>
              <a:solidFill>
                <a:srgbClr val="0bf5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Fine crossbr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25-28 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248160" y="1309680"/>
                <a:ext cx="1676160" cy="458280"/>
              </a:xfrm>
              <a:prstGeom prst="flowChartProcess">
                <a:avLst/>
              </a:prstGeom>
              <a:solidFill>
                <a:srgbClr val="0bf5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Broad woo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32 um and broad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752480" y="1855800"/>
              <a:ext cx="1371600" cy="9972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24080" y="1855800"/>
              <a:ext cx="2590920" cy="9972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3880" y="2055600"/>
              <a:ext cx="1447920" cy="10008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2055600"/>
              <a:ext cx="2286000" cy="1000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7920" y="2255760"/>
              <a:ext cx="1218960" cy="9828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00400" y="2255760"/>
              <a:ext cx="1447920" cy="9828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8320" y="2255760"/>
              <a:ext cx="1600200" cy="982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2504880"/>
              <a:ext cx="1295280" cy="9864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81080" y="2504880"/>
              <a:ext cx="685800" cy="9864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6680" y="2703240"/>
              <a:ext cx="1067040" cy="1000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3720" y="2703240"/>
              <a:ext cx="1295280" cy="100080"/>
            </a:xfrm>
            <a:prstGeom prst="flowChartProcess">
              <a:avLst/>
            </a:prstGeom>
            <a:solidFill>
              <a:srgbClr val="ff00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29000" y="2703240"/>
              <a:ext cx="2971800" cy="1000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2952720"/>
              <a:ext cx="1447920" cy="10008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2952720"/>
              <a:ext cx="914400" cy="1000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4080" y="2952720"/>
              <a:ext cx="1219320" cy="10008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67080" y="2952720"/>
              <a:ext cx="914400" cy="1000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2320" y="3201840"/>
              <a:ext cx="761760" cy="1000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124080" y="3201840"/>
              <a:ext cx="914400" cy="10008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38480" y="3201840"/>
              <a:ext cx="914400" cy="1000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8120" y="3452760"/>
              <a:ext cx="1295280" cy="982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3400" y="3452760"/>
              <a:ext cx="3124080" cy="9828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4600" y="3651120"/>
              <a:ext cx="914400" cy="10008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3651120"/>
              <a:ext cx="1752480" cy="10008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851280"/>
              <a:ext cx="3353040" cy="99720"/>
            </a:xfrm>
            <a:prstGeom prst="flowChartProcess">
              <a:avLst/>
            </a:prstGeom>
            <a:solidFill>
              <a:srgbClr val="b7ae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2200" y="3851280"/>
              <a:ext cx="1752480" cy="99720"/>
            </a:xfrm>
            <a:prstGeom prst="flowChartProcess">
              <a:avLst/>
            </a:prstGeom>
            <a:solidFill>
              <a:srgbClr val="2f16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07880" y="1743120"/>
              <a:ext cx="2046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men’s woven outerwe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2149200"/>
              <a:ext cx="874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knitwe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37440" y="2409840"/>
              <a:ext cx="1012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underwe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90080" y="2609640"/>
              <a:ext cx="646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sock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52760" y="2832120"/>
              <a:ext cx="848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blank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14800" y="3098520"/>
              <a:ext cx="1022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upholste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21840" y="3340080"/>
              <a:ext cx="1250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filled bedd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41240" y="3539880"/>
              <a:ext cx="537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</a:rPr>
                <a:t>rug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480" y="1855800"/>
              <a:ext cx="1143000" cy="9972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480" y="2255760"/>
              <a:ext cx="838440" cy="982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2055600"/>
              <a:ext cx="990720" cy="10008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2504880"/>
              <a:ext cx="228600" cy="98640"/>
            </a:xfrm>
            <a:prstGeom prst="flowChartProcess">
              <a:avLst/>
            </a:prstGeom>
            <a:solidFill>
              <a:srgbClr val="ffbf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592200" y="3643200"/>
          <a:ext cx="762300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643200"/>
                    <a:ext cx="762300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5680" y="990720"/>
            <a:ext cx="24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The Woolmark Company (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DCAF-39E7-49A8-B882-5E8DBA339D8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eep’s Back to Mill Co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66680" y="1143000"/>
          <a:ext cx="6705720" cy="395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670572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34F7-392F-4342-BEA4-5CB7D58D161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329760"/>
            <a:ext cx="80010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Wool Innovation’s </a:t>
            </a: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Futurefleece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C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B2BE-055B-48FB-93DB-2610EEA17BD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2895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el, B. (1997), Consumer Demand, Wool Marketing, CRC for PQW lecture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n. (2002).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view and Outlook for Fine Wool – 2002 publ.The Woolmark Company, Melbour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on (2003). Review and Outlook for Mid-Micron Wool – 2003 publ. The Woolmark Company, Melbour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er, P. (1999), CRC for Premium Wool, Woolwise Powerpoint Presen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lake, M. (1997), The Customers of the Wool Industry - The Topmaker, Access to the Experts Wool Marketing module, CRC for Premium Quality W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lake, M. (1998), Demand: A Processor’s Perspective, Wool Marketing lecture series, CRC for Premium Quality W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nor, S. (1997) The Modern Consumer, Access to the Experts Wool Marketing module, CRC for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remium Quality W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brys, M. Sheep’s Back to Mill Year Book - 2000-2001 (2002) Publ. AWEX, Syd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son, N. (1998), The Drivers of Apparel Innovation, Wool Technology &amp; Sheep Breeding, 46 (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urt Salmon &amp; Associates (1999), Woolmark 2005, publ. The Woolmark Company, Melbour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cLachlan, I. (1991). Diversity &amp; Innovation for Australian Wool – Report of The Wool Task Force Report (1991) publ. Commonwealth of Aus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anton, J. &amp; Senior, A. (1994), Wool Market Awareness, Curti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extile Terms and Definitions (1995) 3rd Edition – ed. Prof.J E McIntyre &amp; P N Daniels - The Textile Institute – Manchester, U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ter, H (1997), Consumer Demand Factors in Apparel, Wool Marketing, CRC for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remium Quality Woo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cture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olmarket Research Group (1998), various material, The Woolmark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5B99-ADFC-4A2B-AF7D-8D889AE07B8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6764-9959-4D51-A07A-464891F9ACD6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629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thing Business Cy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6172200" cy="4543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936840" y="5410080"/>
            <a:ext cx="212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 The Woolmark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C5F5-A3EF-420F-83E4-C024C83C1B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Demand Dri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1219320"/>
            <a:ext cx="6311520" cy="3428640"/>
            <a:chOff x="1066680" y="1219320"/>
            <a:chExt cx="6311520" cy="3428640"/>
          </a:xfrm>
        </p:grpSpPr>
        <p:sp>
          <p:nvSpPr>
            <p:cNvPr id="152" name=""/>
            <p:cNvSpPr/>
            <p:nvPr/>
          </p:nvSpPr>
          <p:spPr>
            <a:xfrm>
              <a:off x="2428560" y="2844360"/>
              <a:ext cx="2704320" cy="58176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Demand for wool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the processing ch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1320" y="1637640"/>
              <a:ext cx="2281680" cy="589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Consumer de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for clot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74680" y="4062240"/>
              <a:ext cx="1551240" cy="58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Demand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62626"/>
                  </a:solidFill>
                  <a:latin typeface="Arial"/>
                </a:rPr>
                <a:t>raw w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4360" y="1219320"/>
              <a:ext cx="586800" cy="23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4360" y="1567800"/>
              <a:ext cx="1563840" cy="29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shion/tas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4360" y="2090880"/>
              <a:ext cx="1563840" cy="2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ason/cl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4360" y="2556000"/>
              <a:ext cx="1139040" cy="291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ov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66680" y="1451160"/>
              <a:ext cx="1577880" cy="237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64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2626"/>
                  </a:solidFill>
                  <a:latin typeface="Arial"/>
                </a:rPr>
                <a:t>Population/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37160" y="2306160"/>
              <a:ext cx="0" cy="438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87280" y="1705680"/>
              <a:ext cx="555840" cy="2955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711440" y="2187360"/>
              <a:ext cx="960480" cy="3387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074200" y="1319760"/>
              <a:ext cx="706320" cy="227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074200" y="1756440"/>
              <a:ext cx="7250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5017680" y="1957680"/>
              <a:ext cx="799200" cy="359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019480" y="2214720"/>
              <a:ext cx="709920" cy="494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37160" y="3485880"/>
              <a:ext cx="0" cy="522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872320" y="5409360"/>
            <a:ext cx="31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.  Auer. P – CRC for Premium Quality Wool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A3EB-896E-49C4-BCD8-0510DF8357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are of Household Expenditure Spent on Clothing in 4 Marke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95280" y="1523880"/>
            <a:ext cx="6400800" cy="3434040"/>
            <a:chOff x="1295280" y="1523880"/>
            <a:chExt cx="6400800" cy="3434040"/>
          </a:xfrm>
        </p:grpSpPr>
        <p:sp>
          <p:nvSpPr>
            <p:cNvPr id="171" name=""/>
            <p:cNvSpPr/>
            <p:nvPr/>
          </p:nvSpPr>
          <p:spPr>
            <a:xfrm>
              <a:off x="1295280" y="1523880"/>
              <a:ext cx="6400800" cy="343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409400" y="1596600"/>
              <a:ext cx="5932800" cy="3170880"/>
              <a:chOff x="1409400" y="1596600"/>
              <a:chExt cx="5932800" cy="317088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525680" y="1689120"/>
                <a:ext cx="2550960" cy="1415520"/>
                <a:chOff x="1525680" y="1689120"/>
                <a:chExt cx="2550960" cy="14155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372400" y="2260080"/>
                  <a:ext cx="216000" cy="604800"/>
                </a:xfrm>
                <a:prstGeom prst="rect">
                  <a:avLst/>
                </a:prstGeom>
                <a:solidFill>
                  <a:srgbClr val="cc00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721960" y="2293920"/>
                  <a:ext cx="217080" cy="570600"/>
                </a:xfrm>
                <a:prstGeom prst="rect">
                  <a:avLst/>
                </a:prstGeom>
                <a:solidFill>
                  <a:srgbClr val="cc00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072600" y="2420640"/>
                  <a:ext cx="216000" cy="444240"/>
                </a:xfrm>
                <a:prstGeom prst="rect">
                  <a:avLst/>
                </a:prstGeom>
                <a:solidFill>
                  <a:srgbClr val="cc00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22160" y="2447280"/>
                  <a:ext cx="216000" cy="417600"/>
                </a:xfrm>
                <a:prstGeom prst="rect">
                  <a:avLst/>
                </a:prstGeom>
                <a:solidFill>
                  <a:srgbClr val="cc00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772800" y="2526120"/>
                  <a:ext cx="216000" cy="338400"/>
                </a:xfrm>
                <a:prstGeom prst="rect">
                  <a:avLst/>
                </a:prstGeom>
                <a:solidFill>
                  <a:srgbClr val="cc00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308680" y="2221200"/>
                  <a:ext cx="1080" cy="643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308680" y="2864880"/>
                  <a:ext cx="5004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308680" y="2572560"/>
                  <a:ext cx="5004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308680" y="2280240"/>
                  <a:ext cx="5004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308680" y="2864880"/>
                  <a:ext cx="174996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230868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265824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300888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335844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370944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4059000" y="28324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73480" y="1689120"/>
                  <a:ext cx="870840" cy="22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092320" y="2765880"/>
                  <a:ext cx="993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092320" y="2473200"/>
                  <a:ext cx="993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003760" y="2184840"/>
                  <a:ext cx="200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373480" y="2965320"/>
                  <a:ext cx="279720" cy="13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721960" y="2965320"/>
                  <a:ext cx="279720" cy="13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072600" y="2965320"/>
                  <a:ext cx="279720" cy="13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423240" y="2965320"/>
                  <a:ext cx="279720" cy="13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760920" y="2965320"/>
                  <a:ext cx="315720" cy="13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10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686600" y="2334240"/>
                  <a:ext cx="2098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525680" y="2546280"/>
                  <a:ext cx="480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h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800600" y="1596600"/>
                <a:ext cx="2541600" cy="1555920"/>
                <a:chOff x="4800600" y="1596600"/>
                <a:chExt cx="2541600" cy="15559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494680" y="2301840"/>
                  <a:ext cx="235440" cy="612360"/>
                </a:xfrm>
                <a:prstGeom prst="rect">
                  <a:avLst/>
                </a:prstGeom>
                <a:solidFill>
                  <a:srgbClr val="66cc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76640" y="2408400"/>
                  <a:ext cx="235080" cy="505440"/>
                </a:xfrm>
                <a:prstGeom prst="rect">
                  <a:avLst/>
                </a:prstGeom>
                <a:solidFill>
                  <a:srgbClr val="66cc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58600" y="2435040"/>
                  <a:ext cx="241200" cy="479160"/>
                </a:xfrm>
                <a:prstGeom prst="rect">
                  <a:avLst/>
                </a:prstGeom>
                <a:solidFill>
                  <a:srgbClr val="66cc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646680" y="2521440"/>
                  <a:ext cx="235440" cy="392760"/>
                </a:xfrm>
                <a:prstGeom prst="rect">
                  <a:avLst/>
                </a:prstGeom>
                <a:solidFill>
                  <a:srgbClr val="66cc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029000" y="2601720"/>
                  <a:ext cx="235080" cy="312480"/>
                </a:xfrm>
                <a:prstGeom prst="rect">
                  <a:avLst/>
                </a:prstGeom>
                <a:solidFill>
                  <a:srgbClr val="66cc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423760" y="2142360"/>
                  <a:ext cx="1080" cy="771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423760" y="291420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423760" y="259416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423760" y="226944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423760" y="2914200"/>
                  <a:ext cx="191736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542376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580608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618912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657720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695916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7341120" y="2880360"/>
                  <a:ext cx="1080" cy="33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711040" y="1596600"/>
                  <a:ext cx="582480" cy="2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Japan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205240" y="2814120"/>
                  <a:ext cx="1004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205240" y="2495160"/>
                  <a:ext cx="1004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18480" y="2168640"/>
                  <a:ext cx="200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99360" y="301356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881320" y="301356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270840" y="301356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652800" y="301356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022880" y="3013560"/>
                  <a:ext cx="31464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10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800600" y="2328120"/>
                  <a:ext cx="209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409400" y="3351240"/>
                <a:ext cx="2698920" cy="1416240"/>
                <a:chOff x="1409400" y="3351240"/>
                <a:chExt cx="2698920" cy="1416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280240" y="4010040"/>
                  <a:ext cx="298800" cy="518040"/>
                </a:xfrm>
                <a:prstGeom prst="rect">
                  <a:avLst/>
                </a:prstGeom>
                <a:solidFill>
                  <a:srgbClr val="000099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758320" y="4135320"/>
                  <a:ext cx="304920" cy="392400"/>
                </a:xfrm>
                <a:prstGeom prst="rect">
                  <a:avLst/>
                </a:prstGeom>
                <a:solidFill>
                  <a:srgbClr val="000099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241080" y="4195800"/>
                  <a:ext cx="298800" cy="332280"/>
                </a:xfrm>
                <a:prstGeom prst="rect">
                  <a:avLst/>
                </a:prstGeom>
                <a:solidFill>
                  <a:srgbClr val="000099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719160" y="4295880"/>
                  <a:ext cx="298800" cy="232200"/>
                </a:xfrm>
                <a:prstGeom prst="rect">
                  <a:avLst/>
                </a:prstGeom>
                <a:solidFill>
                  <a:srgbClr val="000099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191320" y="3883320"/>
                  <a:ext cx="1080" cy="644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191320" y="452808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191320" y="426204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191320" y="3989520"/>
                  <a:ext cx="5148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191320" y="4528080"/>
                  <a:ext cx="191556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2191320" y="44956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2669400" y="44956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3152160" y="44956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3630600" y="44956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4107240" y="449568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39720" y="3351240"/>
                  <a:ext cx="659160" cy="2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974960" y="4429080"/>
                  <a:ext cx="1004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974960" y="4163040"/>
                  <a:ext cx="10044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86040" y="3889440"/>
                  <a:ext cx="20016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19480" y="46285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794320" y="46285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72400" y="46285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738240" y="4628520"/>
                  <a:ext cx="315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10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567800" y="3996000"/>
                  <a:ext cx="2102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09400" y="4209480"/>
                  <a:ext cx="4802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h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491720" y="3343680"/>
                <a:ext cx="2847960" cy="1416600"/>
                <a:chOff x="4491720" y="3343680"/>
                <a:chExt cx="2847960" cy="14166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350320" y="4055400"/>
                  <a:ext cx="261720" cy="465480"/>
                </a:xfrm>
                <a:prstGeom prst="rect">
                  <a:avLst/>
                </a:prstGeom>
                <a:solidFill>
                  <a:srgbClr val="99ff33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765040" y="4161960"/>
                  <a:ext cx="261720" cy="358560"/>
                </a:xfrm>
                <a:prstGeom prst="rect">
                  <a:avLst/>
                </a:prstGeom>
                <a:solidFill>
                  <a:srgbClr val="99ff33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179400" y="4268520"/>
                  <a:ext cx="254520" cy="252360"/>
                </a:xfrm>
                <a:prstGeom prst="rect">
                  <a:avLst/>
                </a:prstGeom>
                <a:solidFill>
                  <a:srgbClr val="99ff33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586560" y="4308840"/>
                  <a:ext cx="261720" cy="211680"/>
                </a:xfrm>
                <a:prstGeom prst="rect">
                  <a:avLst/>
                </a:prstGeom>
                <a:solidFill>
                  <a:srgbClr val="99ff33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000920" y="4341240"/>
                  <a:ext cx="260640" cy="179280"/>
                </a:xfrm>
                <a:prstGeom prst="rect">
                  <a:avLst/>
                </a:prstGeom>
                <a:solidFill>
                  <a:srgbClr val="99ff33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274720" y="3875760"/>
                  <a:ext cx="1080" cy="645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274720" y="4520880"/>
                  <a:ext cx="5040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274720" y="4254840"/>
                  <a:ext cx="5040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274720" y="3982320"/>
                  <a:ext cx="5040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274720" y="4520880"/>
                  <a:ext cx="206352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5478120" y="449424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892480" y="449424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6306840" y="449424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6719760" y="449424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7134480" y="4494240"/>
                  <a:ext cx="1080" cy="26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527472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V="1">
                  <a:off x="568800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610272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651096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692424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7338600" y="4488120"/>
                  <a:ext cx="1080" cy="32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629320" y="3343680"/>
                  <a:ext cx="570600" cy="22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Kore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056200" y="4421520"/>
                  <a:ext cx="10044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056200" y="4155840"/>
                  <a:ext cx="10044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65120" y="3881880"/>
                  <a:ext cx="200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62560" y="46213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776920" y="46213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8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190200" y="46213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04560" y="4621320"/>
                  <a:ext cx="279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005960" y="4621320"/>
                  <a:ext cx="315720" cy="13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10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650120" y="3988800"/>
                  <a:ext cx="209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%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491720" y="4202280"/>
                  <a:ext cx="480240" cy="19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h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6" name=""/>
          <p:cNvSpPr/>
          <p:nvPr/>
        </p:nvSpPr>
        <p:spPr>
          <a:xfrm>
            <a:off x="3281040" y="5409360"/>
            <a:ext cx="579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Eurostat, Annual Report on the Family, BOK ref: Auer, P. CRC Premium Quality W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E439-18E2-46BE-AFA0-A998035B68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400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tion for the Textile $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818080" y="1587600"/>
            <a:ext cx="2270520" cy="2180880"/>
            <a:chOff x="2818080" y="1587600"/>
            <a:chExt cx="2270520" cy="2180880"/>
          </a:xfrm>
        </p:grpSpPr>
        <p:sp>
          <p:nvSpPr>
            <p:cNvPr id="289" name=""/>
            <p:cNvSpPr/>
            <p:nvPr/>
          </p:nvSpPr>
          <p:spPr>
            <a:xfrm>
              <a:off x="2819520" y="1587600"/>
              <a:ext cx="2267640" cy="21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71078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710787"/>
                </a:path>
              </a:pathLst>
            </a:custGeom>
            <a:solidFill>
              <a:srgbClr val="ff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18800" y="1589760"/>
              <a:ext cx="2269080" cy="21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70" y="13017"/>
                  </a:moveTo>
                  <a:arcTo wR="10800" hR="10800" stAng="710787" swAng="16381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70" y="13017"/>
                  </a:moveTo>
                  <a:arcTo wR="10800" hR="10800" stAng="710787" swAng="1638100"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0240" y="1589040"/>
              <a:ext cx="2266560" cy="21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176" y="17618"/>
                  </a:moveTo>
                  <a:arcTo wR="10800" hR="10800" stAng="2348887" swAng="11921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176" y="17618"/>
                  </a:moveTo>
                  <a:arcTo wR="10800" hR="10800" stAng="2348887" swAng="1192197"/>
                </a:path>
              </a:pathLst>
            </a:custGeom>
            <a:solidFill>
              <a:srgbClr val="bf7411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19160" y="1589040"/>
              <a:ext cx="2267280" cy="21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59" y="20059"/>
                  </a:moveTo>
                  <a:arcTo wR="10800" hR="10800" stAng="3541084" swAng="32398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59" y="20059"/>
                  </a:moveTo>
                  <a:arcTo wR="10800" hR="10800" stAng="3541084" swAng="3239871"/>
                </a:path>
              </a:pathLst>
            </a:cu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9520" y="1590480"/>
              <a:ext cx="2268000" cy="2175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77" y="20740"/>
                  </a:moveTo>
                  <a:arcTo wR="10800" hR="10800" stAng="6780955" swAng="371061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77" y="20740"/>
                  </a:moveTo>
                  <a:arcTo wR="10800" hR="10800" stAng="6780955" swAng="3710616"/>
                </a:path>
              </a:pathLst>
            </a:custGeom>
            <a:solidFill>
              <a:srgbClr val="cc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1589040"/>
              <a:ext cx="2267640" cy="217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" y="11768"/>
                  </a:moveTo>
                  <a:arcTo wR="10800" hR="10800" stAng="10491571" swAng="5473395"/>
                  <a:lnTo>
                    <a:pt x="10800" y="10800"/>
                  </a:lnTo>
                  <a:close/>
                </a:path>
                <a:path fill="none" w="21600" h="21600">
                  <a:moveTo>
                    <a:pt x="43" y="11768"/>
                  </a:moveTo>
                  <a:arcTo wR="10800" hR="10800" stAng="10491571" swAng="5473395"/>
                </a:path>
              </a:pathLst>
            </a:custGeom>
            <a:solidFill>
              <a:srgbClr val="0000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18080" y="1589040"/>
              <a:ext cx="2270520" cy="21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62" y="25"/>
                  </a:moveTo>
                  <a:arcTo wR="10800" hR="10800" stAng="-5635034" swAng="1191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62" y="25"/>
                  </a:moveTo>
                  <a:arcTo wR="10800" hR="10800" stAng="-5635034" swAng="1191809"/>
                </a:path>
              </a:pathLst>
            </a:custGeom>
            <a:solidFill>
              <a:srgbClr val="00ff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19520" y="1589760"/>
              <a:ext cx="2267640" cy="21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416"/>
                  </a:moveTo>
                  <a:arcTo wR="10800" hR="10800" stAng="-4443225" swAng="44432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416"/>
                  </a:moveTo>
                  <a:arcTo wR="10800" hR="10800" stAng="-4443225" swAng="4443225"/>
                </a:path>
              </a:pathLst>
            </a:custGeom>
            <a:solidFill>
              <a:srgbClr val="fafd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42360" y="114300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thing &amp; Footwear 5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7760" y="181764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d 20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655720"/>
            <a:ext cx="272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ncial Services 3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18280" y="948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1920" y="311292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&amp; Personal Goods 7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73680" y="357012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ertainment 5.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28280" y="38750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15.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9080" y="318924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ort 17.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2720" y="181764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ing &amp; Energy 20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66720" y="5333400"/>
            <a:ext cx="209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ter Auer   Source: ABS (1996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6A33-F778-4CF7-9CD3-F49BE795B1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ffect of Age on Fibre selection and use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stralian Womenswe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weaters, cardigans, sweatshir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582560" y="1143000"/>
            <a:ext cx="6240600" cy="32893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54240" y="1676520"/>
            <a:ext cx="19134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rn post-World War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43320" y="5257800"/>
            <a:ext cx="39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: Auer, P. </a:t>
            </a:r>
            <a:r>
              <a:rPr b="0" lang="en-US" sz="10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www.woolwise.com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... CRC for Premium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Quality Wool. 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urce: IWS: Consumer Purchase Research (199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DFD3-70D4-43DB-815D-CA950F495B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fort, Performance and Fashion as Drivers for Purchasing Decisions of Apparel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427800" cy="3733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500360" y="5256720"/>
            <a:ext cx="47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Ref: Auer, P.    CRC for Premium Quality Wool.  Source: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Johnson, N. (1998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E2D8-AA3C-4F04-ADC7-D8E1185E91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rcRect l="1893" t="0" r="1893" b="0"/>
          <a:stretch/>
        </p:blipFill>
        <p:spPr>
          <a:xfrm>
            <a:off x="533520" y="1143000"/>
            <a:ext cx="6737400" cy="4471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629400" y="540936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Morris, D. &amp; Stogdon, A. (199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-76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of distribution and processing stages for northern hemisphere purchases of Australian wool, 1996-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2679-2B57-423A-82F7-8C3C506F17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1:16:18Z</dcterms:created>
  <dc:creator>Bob Couchman</dc:creator>
  <dc:description/>
  <dc:language>en-US</dc:language>
  <cp:lastModifiedBy>Sally Mahony</cp:lastModifiedBy>
  <dcterms:modified xsi:type="dcterms:W3CDTF">2005-05-23T05:03:11Z</dcterms:modified>
  <cp:revision>25</cp:revision>
  <dc:subject/>
  <dc:title>Lecture 17.</dc:title>
</cp:coreProperties>
</file>