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337B-9095-4AD1-970F-6BFAA46AC51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C3C27-1A56-49A1-979A-06BB423AB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34992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B530-DADA-4BD8-88C6-C0B0542B8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832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3499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8320" y="3499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78595-68A8-4384-A020-99AD86F2C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83640" y="16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1280" y="16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34992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83640" y="34992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1280" y="34992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922E-3688-47A4-B080-D136DD037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281E7-BB7E-4EDA-8D6B-5271BDE11F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16282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AE796-EF93-420D-B75F-A0D2920798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19426-1B8B-4DBA-B61D-4CD977493D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8320" y="16282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09432-827C-47FA-9BEF-A3C551454F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A380E-1BCD-47EE-A184-282081BD76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B5D2E-6F7F-4F41-AB5A-991F589550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8320" y="16282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55640" y="3499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64D9-64A7-46F0-AE3F-4E542B650A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16282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0C44A-71D6-4D55-A574-7A30A2576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832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8320" y="3499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06922-DA2B-48BC-8A83-FB8B98B4DD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832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55640" y="34992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DF773-8F3A-4C86-8460-68BBA8D381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55640" y="34992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E1CDE-87A0-48EF-88AE-9E0D772E57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832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55640" y="3499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8320" y="3499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2AD10-D389-4A68-A88F-BFD30F8B4A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83640" y="16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1280" y="16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55640" y="34992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83640" y="34992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1280" y="34992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6E1F4-706E-41DD-B4DD-6666E4B4AD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B8EF-C586-4773-8F13-1B1E9DFA2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8320" y="16282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5E1D-2A6D-49B8-B998-32F352FD2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FA8F-801B-4D40-82E7-948006418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B724-74B3-46AB-AE41-A1CB3135E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8320" y="16282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3499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438D-E31D-4B47-A5CD-9028805E4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832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8320" y="34992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E4B5-3019-4C44-9A41-A1716F449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8320" y="16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34992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2BDD-646A-4D86-9B9A-07CDA6127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6282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3A6A-70AB-49BB-A93B-4CF506E99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DA65-738B-4264-8BD5-ACA564BA2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691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ments in Wool 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5AF1E-BBAA-4F18-8524-E829EE05989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smanian Quality W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6920" y="126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ved to attract a price premium for an industry-wide quality assurance sche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eded in supplying branded product through a supply chain up to retail l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costs and delivered premium pri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upply chain opportunities being so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2E20-017D-4768-89DC-F9A5425F6A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Pooginook Wool Initiative / </a:t>
            </a: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Natural Instinct Wool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66308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ased on the Pooginook merino stud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Quality assurance that has evolved to include wool marketing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ludes direct marketing and branding of wool sold through traditional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DA43C-3BEC-49EF-8450-2BFBB81594E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Zealand Mer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0372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Zealand Merino acts as broker and marke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ontracts account for 28% of turn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ontracts requiring supply of specific wool typ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otiated with key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DB69-A928-4695-8E19-84647F6159F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30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lternative marketing solutions to growers both as broker and exporter/process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desk, Elite wool and Direct-to-m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Fibre to Fashion chart"/>
          <p:cNvPicPr/>
          <p:nvPr/>
        </p:nvPicPr>
        <p:blipFill>
          <a:blip r:embed="rId1"/>
          <a:stretch/>
        </p:blipFill>
        <p:spPr>
          <a:xfrm>
            <a:off x="4572000" y="44280"/>
            <a:ext cx="4321080" cy="597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BF1D-1C5C-47FC-B761-A77B386A480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5571-6C69-4E81-A378-0210527DAB7D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0"/>
            <a:ext cx="8317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‘Traditional’ Wool Marketing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77800" y="727200"/>
            <a:ext cx="1155600" cy="1123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8200" y="4349880"/>
            <a:ext cx="963720" cy="1311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040520" y="936720"/>
            <a:ext cx="1812960" cy="66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64080" y="804960"/>
            <a:ext cx="1519200" cy="506160"/>
          </a:xfrm>
          <a:prstGeom prst="flowChartPreparation">
            <a:avLst/>
          </a:prstGeom>
          <a:solidFill>
            <a:srgbClr val="690d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o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90720" y="1211400"/>
            <a:ext cx="585720" cy="195120"/>
          </a:xfrm>
          <a:custGeom>
            <a:avLst/>
            <a:gdLst>
              <a:gd name="textAreaLeft" fmla="*/ 91440 w 585720"/>
              <a:gd name="textAreaRight" fmla="*/ 512640 w 58572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20850000">
            <a:off x="3778200" y="1128240"/>
            <a:ext cx="585720" cy="195480"/>
          </a:xfrm>
          <a:custGeom>
            <a:avLst/>
            <a:gdLst>
              <a:gd name="textAreaLeft" fmla="*/ 91440 w 585720"/>
              <a:gd name="textAreaRight" fmla="*/ 512640 w 585720"/>
              <a:gd name="textAreaTop" fmla="*/ 48960 h 195480"/>
              <a:gd name="textAreaBottom" fmla="*/ 146880 h 19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736720" y="809640"/>
            <a:ext cx="868320" cy="1195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0560" y="1857240"/>
            <a:ext cx="1519200" cy="506520"/>
          </a:xfrm>
          <a:prstGeom prst="flowChartPreparation">
            <a:avLst/>
          </a:prstGeom>
          <a:solidFill>
            <a:srgbClr val="690d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7800" y="10000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A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172400">
            <a:off x="3754080" y="1598760"/>
            <a:ext cx="585720" cy="195120"/>
          </a:xfrm>
          <a:custGeom>
            <a:avLst/>
            <a:gdLst>
              <a:gd name="textAreaLeft" fmla="*/ 91440 w 585720"/>
              <a:gd name="textAreaRight" fmla="*/ 512640 w 58572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64360" y="1003320"/>
            <a:ext cx="585720" cy="195120"/>
          </a:xfrm>
          <a:custGeom>
            <a:avLst/>
            <a:gdLst>
              <a:gd name="textAreaLeft" fmla="*/ 91440 w 585720"/>
              <a:gd name="textAreaRight" fmla="*/ 512640 w 58572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726800">
            <a:off x="6224760" y="2359080"/>
            <a:ext cx="585720" cy="193680"/>
          </a:xfrm>
          <a:custGeom>
            <a:avLst/>
            <a:gdLst>
              <a:gd name="textAreaLeft" fmla="*/ 91440 w 585720"/>
              <a:gd name="textAreaRight" fmla="*/ 512640 w 58572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9464600">
            <a:off x="6216480" y="1695600"/>
            <a:ext cx="586080" cy="193680"/>
          </a:xfrm>
          <a:custGeom>
            <a:avLst/>
            <a:gdLst>
              <a:gd name="textAreaLeft" fmla="*/ 91440 w 586080"/>
              <a:gd name="textAreaRight" fmla="*/ 513000 w 58608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67680" y="2386080"/>
            <a:ext cx="1377720" cy="581040"/>
          </a:xfrm>
          <a:prstGeom prst="flowChartAlternateProcess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7648200" y="1879560"/>
            <a:ext cx="585720" cy="195480"/>
          </a:xfrm>
          <a:custGeom>
            <a:avLst/>
            <a:gdLst>
              <a:gd name="textAreaLeft" fmla="*/ 91440 w 585720"/>
              <a:gd name="textAreaRight" fmla="*/ 512640 w 585720"/>
              <a:gd name="textAreaTop" fmla="*/ 48960 h 195480"/>
              <a:gd name="textAreaBottom" fmla="*/ 146880 h 19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2960" y="3591000"/>
            <a:ext cx="1406520" cy="522360"/>
          </a:xfrm>
          <a:prstGeom prst="flowChartManualInpu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Topm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6201600">
            <a:off x="7567560" y="3233520"/>
            <a:ext cx="585720" cy="195120"/>
          </a:xfrm>
          <a:custGeom>
            <a:avLst/>
            <a:gdLst>
              <a:gd name="textAreaLeft" fmla="*/ 91440 w 585720"/>
              <a:gd name="textAreaRight" fmla="*/ 512640 w 58572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27960" y="4722840"/>
            <a:ext cx="1060200" cy="739800"/>
          </a:xfrm>
          <a:prstGeom prst="flowChartDocumen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Spi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6987600">
            <a:off x="7165800" y="4329000"/>
            <a:ext cx="585720" cy="195120"/>
          </a:xfrm>
          <a:custGeom>
            <a:avLst/>
            <a:gdLst>
              <a:gd name="textAreaLeft" fmla="*/ 91440 w 585720"/>
              <a:gd name="textAreaRight" fmla="*/ 512640 w 58572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9560" y="4869000"/>
            <a:ext cx="1320840" cy="37764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Wea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89320" y="4722840"/>
            <a:ext cx="900000" cy="784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Gar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M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821200" y="4915080"/>
            <a:ext cx="586080" cy="195120"/>
          </a:xfrm>
          <a:custGeom>
            <a:avLst/>
            <a:gdLst>
              <a:gd name="textAreaLeft" fmla="*/ 91440 w 586080"/>
              <a:gd name="textAreaRight" fmla="*/ 513000 w 58608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3395520" y="4941360"/>
            <a:ext cx="586080" cy="195480"/>
          </a:xfrm>
          <a:custGeom>
            <a:avLst/>
            <a:gdLst>
              <a:gd name="textAreaLeft" fmla="*/ 91440 w 586080"/>
              <a:gd name="textAreaRight" fmla="*/ 513000 w 586080"/>
              <a:gd name="textAreaTop" fmla="*/ 48960 h 195480"/>
              <a:gd name="textAreaBottom" fmla="*/ 146880 h 19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1655640" y="4930920"/>
            <a:ext cx="586080" cy="195120"/>
          </a:xfrm>
          <a:custGeom>
            <a:avLst/>
            <a:gdLst>
              <a:gd name="textAreaLeft" fmla="*/ 91440 w 586080"/>
              <a:gd name="textAreaRight" fmla="*/ 513000 w 58608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5960" y="7635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5040" y="1843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794400">
            <a:off x="8399520" y="2966760"/>
            <a:ext cx="493560" cy="2438280"/>
          </a:xfrm>
          <a:custGeom>
            <a:avLst/>
            <a:gdLst>
              <a:gd name="textAreaLeft" fmla="*/ 65880 w 493560"/>
              <a:gd name="textAreaRight" fmla="*/ 427680 w 493560"/>
              <a:gd name="textAreaTop" fmla="*/ 459000 h 2438280"/>
              <a:gd name="textAreaBottom" fmla="*/ 16063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33" stAng="-5400000" swAng="5400000"/>
                <a:lnTo>
                  <a:pt x="21600" y="10163"/>
                </a:lnTo>
                <a:arcTo wR="21600" hR="8133" stAng="0" swAng="2650410"/>
                <a:lnTo>
                  <a:pt x="7805" y="21051"/>
                </a:lnTo>
                <a:lnTo>
                  <a:pt x="0" y="17280"/>
                </a:lnTo>
                <a:lnTo>
                  <a:pt x="7805" y="12411"/>
                </a:lnTo>
                <a:lnTo>
                  <a:pt x="7805" y="15716"/>
                </a:lnTo>
                <a:arcTo wR="21600" hR="8133" stAng="2650410" swAng="-2487717"/>
                <a:lnTo>
                  <a:pt x="21431" y="9148"/>
                </a:lnTo>
                <a:arcTo wR="21600" hR="8133" stAng="-162694" swAng="-5237306"/>
                <a:close/>
              </a:path>
              <a:path fill="darkenLess" w="21600" h="21600">
                <a:moveTo>
                  <a:pt x="0" y="0"/>
                </a:moveTo>
                <a:arcTo wR="21600" hR="8133" stAng="-5400000" swAng="5400000"/>
                <a:lnTo>
                  <a:pt x="21600" y="10163"/>
                </a:lnTo>
                <a:arcTo wR="21600" hR="8133" stAng="0" swAng="-162694"/>
                <a:lnTo>
                  <a:pt x="21431" y="9148"/>
                </a:lnTo>
                <a:arcTo wR="21600" hR="8133" stAng="-162694" swAng="-5237306"/>
                <a:close/>
              </a:path>
            </a:pathLst>
          </a:cu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FBA8-7459-4F44-BEF0-09147EDAA87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363920" y="4724280"/>
          <a:ext cx="928800" cy="9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3920" y="4724280"/>
                    <a:ext cx="92880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68360" y="1484280"/>
            <a:ext cx="2389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numbers of growers producing small amounts of variable qualit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987640" y="1341360"/>
            <a:ext cx="3587760" cy="2903040"/>
            <a:chOff x="2987640" y="1341360"/>
            <a:chExt cx="3587760" cy="2903040"/>
          </a:xfrm>
        </p:grpSpPr>
        <p:grpSp>
          <p:nvGrpSpPr>
            <p:cNvPr id="125" name=""/>
            <p:cNvGrpSpPr/>
            <p:nvPr/>
          </p:nvGrpSpPr>
          <p:grpSpPr>
            <a:xfrm>
              <a:off x="2987640" y="3261960"/>
              <a:ext cx="816120" cy="951120"/>
              <a:chOff x="2987640" y="3261960"/>
              <a:chExt cx="816120" cy="951120"/>
            </a:xfrm>
          </p:grpSpPr>
          <p:pic>
            <p:nvPicPr>
              <p:cNvPr id="12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987640" y="3261960"/>
                <a:ext cx="41328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21560" y="3393000"/>
                <a:ext cx="41328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255840" y="3524400"/>
                <a:ext cx="41328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390480" y="3656160"/>
                <a:ext cx="413280" cy="556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0" name=""/>
            <p:cNvGrpSpPr/>
            <p:nvPr/>
          </p:nvGrpSpPr>
          <p:grpSpPr>
            <a:xfrm>
              <a:off x="3824280" y="3295440"/>
              <a:ext cx="785880" cy="948960"/>
              <a:chOff x="3824280" y="3295440"/>
              <a:chExt cx="785880" cy="948960"/>
            </a:xfrm>
          </p:grpSpPr>
          <p:pic>
            <p:nvPicPr>
              <p:cNvPr id="13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824280" y="3295440"/>
                <a:ext cx="398160" cy="55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953520" y="3426480"/>
                <a:ext cx="39780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082760" y="3557520"/>
                <a:ext cx="39816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212000" y="3688560"/>
                <a:ext cx="398160" cy="555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" name=""/>
            <p:cNvGrpSpPr/>
            <p:nvPr/>
          </p:nvGrpSpPr>
          <p:grpSpPr>
            <a:xfrm>
              <a:off x="3252600" y="1407960"/>
              <a:ext cx="1037880" cy="1001160"/>
              <a:chOff x="3252600" y="1407960"/>
              <a:chExt cx="1037880" cy="1001160"/>
            </a:xfrm>
          </p:grpSpPr>
          <p:graphicFrame>
            <p:nvGraphicFramePr>
              <p:cNvPr id="136" name=""/>
              <p:cNvGraphicFramePr/>
              <p:nvPr/>
            </p:nvGraphicFramePr>
            <p:xfrm>
              <a:off x="3252600" y="1741680"/>
              <a:ext cx="457560" cy="331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37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252600" y="1741680"/>
                        <a:ext cx="457560" cy="331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3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80040" y="2077920"/>
                <a:ext cx="457560" cy="3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832560" y="2015280"/>
                <a:ext cx="457920" cy="3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472920" y="1407960"/>
                <a:ext cx="457920" cy="3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06200" y="1736280"/>
                <a:ext cx="457560" cy="33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" name=""/>
            <p:cNvGrpSpPr/>
            <p:nvPr/>
          </p:nvGrpSpPr>
          <p:grpSpPr>
            <a:xfrm>
              <a:off x="4970520" y="1341360"/>
              <a:ext cx="1037880" cy="1001160"/>
              <a:chOff x="4970520" y="1341360"/>
              <a:chExt cx="1037880" cy="1001160"/>
            </a:xfrm>
          </p:grpSpPr>
          <p:graphicFrame>
            <p:nvGraphicFramePr>
              <p:cNvPr id="143" name=""/>
              <p:cNvGraphicFramePr/>
              <p:nvPr/>
            </p:nvGraphicFramePr>
            <p:xfrm>
              <a:off x="4970520" y="1675080"/>
              <a:ext cx="457560" cy="3312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44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4970520" y="1675080"/>
                        <a:ext cx="457560" cy="331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45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5097960" y="2011320"/>
                <a:ext cx="457560" cy="3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550480" y="1948680"/>
                <a:ext cx="457920" cy="3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190840" y="1341360"/>
                <a:ext cx="457920" cy="3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5424120" y="1669680"/>
                <a:ext cx="457560" cy="33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"/>
            <p:cNvGrpSpPr/>
            <p:nvPr/>
          </p:nvGrpSpPr>
          <p:grpSpPr>
            <a:xfrm>
              <a:off x="4995720" y="3281040"/>
              <a:ext cx="816120" cy="951120"/>
              <a:chOff x="4995720" y="3281040"/>
              <a:chExt cx="816120" cy="951120"/>
            </a:xfrm>
          </p:grpSpPr>
          <p:pic>
            <p:nvPicPr>
              <p:cNvPr id="15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4995720" y="3281040"/>
                <a:ext cx="41328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129640" y="3412080"/>
                <a:ext cx="41328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263920" y="3543480"/>
                <a:ext cx="413280" cy="55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5398560" y="3675240"/>
                <a:ext cx="413280" cy="556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" name=""/>
            <p:cNvGrpSpPr/>
            <p:nvPr/>
          </p:nvGrpSpPr>
          <p:grpSpPr>
            <a:xfrm>
              <a:off x="5789520" y="3257280"/>
              <a:ext cx="785880" cy="948960"/>
              <a:chOff x="5789520" y="3257280"/>
              <a:chExt cx="785880" cy="948960"/>
            </a:xfrm>
          </p:grpSpPr>
          <p:pic>
            <p:nvPicPr>
              <p:cNvPr id="155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5789520" y="3257280"/>
                <a:ext cx="398160" cy="55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5918760" y="3388320"/>
                <a:ext cx="39780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48000" y="3519360"/>
                <a:ext cx="39816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6177240" y="3650400"/>
                <a:ext cx="398160" cy="55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" name=""/>
            <p:cNvSpPr/>
            <p:nvPr/>
          </p:nvSpPr>
          <p:spPr>
            <a:xfrm flipH="1">
              <a:off x="3354120" y="2498400"/>
              <a:ext cx="347400" cy="5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00520" y="2522520"/>
              <a:ext cx="11592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097240" y="2455560"/>
              <a:ext cx="347400" cy="5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91160" y="2455560"/>
              <a:ext cx="203040" cy="55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49560" y="2484360"/>
              <a:ext cx="362160" cy="49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11840" y="2460600"/>
              <a:ext cx="361800" cy="49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09480" y="4044960"/>
            <a:ext cx="2389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ment for tight product specifications is managed through extensive blending and averag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8360" y="4149720"/>
            <a:ext cx="248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Combin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62520" y="441468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5160" y="1322280"/>
            <a:ext cx="20588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ystem works, but is cost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ol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06880" y="364500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0.00 per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06880" y="5300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3.00 per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6867360" y="4302000"/>
            <a:ext cx="1160280" cy="566640"/>
          </a:xfrm>
          <a:custGeom>
            <a:avLst/>
            <a:gdLst>
              <a:gd name="textAreaLeft" fmla="*/ 181080 w 1160280"/>
              <a:gd name="textAreaRight" fmla="*/ 1015560 w 1160280"/>
              <a:gd name="textAreaTop" fmla="*/ 141480 h 566640"/>
              <a:gd name="textAreaBottom" fmla="*/ 425160 h 566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ool Supply System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urrent model works, but is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4008-7EE7-4446-A72A-2CDF11129DC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ts sought from alternativ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267920"/>
            <a:ext cx="7632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sts and time associated with getting wool from the sheep’s back to the processing mi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tent of communication between producers and processors / users of woo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tential to differentiate product based on quality contro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tential for demand to be increased through the supply of superior produc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tential to gain premium prices through brand name marketing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tential to reduce price risk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B6E0-7D75-4183-BFAF-45A1C8117DF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042920" y="1413000"/>
          <a:ext cx="7416720" cy="3024000"/>
        </p:xfrm>
        <a:graphic>
          <a:graphicData uri="http://schemas.openxmlformats.org/drawingml/2006/table">
            <a:tbl>
              <a:tblPr/>
              <a:tblGrid>
                <a:gridCol w="4284720"/>
                <a:gridCol w="1484280"/>
                <a:gridCol w="164772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er price $A per 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ipping / Insurance / Trader Margins et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rly stage processing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to Spin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centage Incr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cative Cost Comparison –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ol to Co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4868280"/>
            <a:ext cx="779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In the cotton industry early stage processing costs are offset by the proceeds of cotton seed sa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1818-6DFF-4EE3-9E9F-611809040D7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Alternative Marke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99640" y="119700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er init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tic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linked to quality assurance differenti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er initia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 initi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D4AB-316D-404D-A03F-2C3AC17A042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bre Di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ly developed by grow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equently sold to Landmar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to improve grower returns through reduced supply chain costs and improved market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nguishing features - unique quality assurance / wool preparation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F2B7-A293-4FD5-A03A-04BDD04675D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stralian Wool Network 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120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erm contracts for fine and superfine wo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to manage price risk and improve commun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erm (up to 3 year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ers must purchase wool to fill contract if their own production does not meet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496E-CAD7-4B85-B83C-9FA61C92DA5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Lin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2597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ian Government initia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to demonstrate the feasibility and value of strategic relationships between growers and thei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consignments with a total value exceeding $500,000 were facilita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ers cited numerous indirect benefits including education an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D25B-8466-4536-A855-77F69F70095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02:07:57Z</dcterms:created>
  <dc:creator>Bill Mitchell</dc:creator>
  <dc:description/>
  <dc:language>en-US</dc:language>
  <cp:lastModifiedBy>Sally Mahony</cp:lastModifiedBy>
  <dcterms:modified xsi:type="dcterms:W3CDTF">2005-06-06T02:17:54Z</dcterms:modified>
  <cp:revision>15</cp:revision>
  <dc:subject/>
  <dc:title>Participants in the Wool Marketing Chain</dc:title>
</cp:coreProperties>
</file>