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E88D-71F8-4356-A71F-47A376978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63CA-112C-4236-9E0E-8FDDC7836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1594-0EEE-4499-A468-37111D430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E8D9F-5377-4E1B-956F-1960F690D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305B-F9CB-455A-B45A-1A5C75072A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97A8D-4C8C-412F-8728-B9A2F79AB7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223C8-4BC7-4FC7-9493-D98B4874F6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1517F-0321-4ABC-B3F6-0A2DDF3BE4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64E56-65CF-4C59-B2A5-7D9657CC4B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17A89-4592-46B4-AD94-428B9AF82B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92ECC-D271-4E5E-B658-BD8B0371F9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64CBC-6165-4987-99F0-FC7E50184D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55E9-E7C0-4804-B627-AA4A3EEA1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FE614-0B5F-48BA-8006-1EDA29D03C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B8FA7-4536-49A9-ACE0-4312A58D4F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932AB-5752-4922-A8BF-F82E99D68B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AE248-A8E5-4899-9BD3-95D2C368D9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D700E-3465-4246-8628-D2AAAFB8C5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2FF1-D526-4632-9E5C-C1DB5D828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3A07-832E-42F3-80A6-5F0CD45D89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3C5F0-0D1C-454D-9526-77826D9B2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0C00-8C6F-400A-8DD7-198281DC5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B415-FB31-48C5-9060-FD30C9588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292B-794C-406D-BF66-AE6C5D5188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FF1A-EFE0-4AE1-B5DD-61B46281C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DDFC-EA64-4B92-86C9-A649BD63ECC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A326-F27C-4E1B-81F4-E4633FC20B7B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691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lassing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87640" y="4437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2CCE0-02F6-4253-B4EB-DD18660983C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WEX Code of Practice -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426320"/>
            <a:ext cx="797256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code describes the 3 key principles in preparation of wool for sale: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need for even lines of wool suitable for 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need to eliminate contamination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appropriate identification and documentation of the wo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n-farm and at the point of s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2DED-85F9-4E81-A01D-2EE73E2CD8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42920" y="112500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5CB6-256E-4A5F-975C-4356E771B9BF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640" y="-75600"/>
            <a:ext cx="67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1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 to Micron Conve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4360" y="404640"/>
          <a:ext cx="7704000" cy="5186520"/>
        </p:xfrm>
        <a:graphic>
          <a:graphicData uri="http://schemas.openxmlformats.org/drawingml/2006/table">
            <a:tbl>
              <a:tblPr/>
              <a:tblGrid>
                <a:gridCol w="1555560"/>
                <a:gridCol w="1627200"/>
                <a:gridCol w="4521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meter (u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/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/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             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Comeback (Polwart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/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             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       “                 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              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       “                 “           / Corried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/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eback – Corried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                     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/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                     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                      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ssbre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/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6734160" y="5358600"/>
            <a:ext cx="203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e 1um = 1,000,000 of a me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6F11-430B-48EA-8264-EF639C38A53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1879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00000" y="1192320"/>
          <a:ext cx="7559640" cy="3531960"/>
        </p:xfrm>
        <a:graphic>
          <a:graphicData uri="http://schemas.openxmlformats.org/drawingml/2006/table">
            <a:tbl>
              <a:tblPr/>
              <a:tblGrid>
                <a:gridCol w="3489480"/>
                <a:gridCol w="2022480"/>
                <a:gridCol w="2047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ge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rted Flee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-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-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ll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50951-5CD5-466B-9BC2-48D0E12A517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3040" y="79200"/>
            <a:ext cx="70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4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s of Variation for Dia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ple Length in Objectively Classed Clip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1280" y="1716120"/>
          <a:ext cx="7864560" cy="3008160"/>
        </p:xfrm>
        <a:graphic>
          <a:graphicData uri="http://schemas.openxmlformats.org/drawingml/2006/table">
            <a:tbl>
              <a:tblPr/>
              <a:tblGrid>
                <a:gridCol w="2620800"/>
                <a:gridCol w="2622600"/>
                <a:gridCol w="2621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meter # % Var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ple Length * % Var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ween &amp; Along Fib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ween Sta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ween Flee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ween L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5076000" y="5292000"/>
            <a:ext cx="391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ureces: # Andrews et.al. (1979) * Rottenbury &amp; Andrews  (197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DD0A-67F8-4CAC-82C9-AB40A483025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01040" y="158040"/>
            <a:ext cx="844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5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dditivity of Processing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765000"/>
          <a:ext cx="8569440" cy="4465800"/>
        </p:xfrm>
        <a:graphic>
          <a:graphicData uri="http://schemas.openxmlformats.org/drawingml/2006/table">
            <a:tbl>
              <a:tblPr/>
              <a:tblGrid>
                <a:gridCol w="1712880"/>
                <a:gridCol w="1714680"/>
                <a:gridCol w="1712880"/>
                <a:gridCol w="1712880"/>
                <a:gridCol w="171612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Losses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uteur (m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cul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cul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bi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7448400" y="53618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Rottenbury 19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1938-D981-4AB9-824C-CDEA074DC8F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12672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6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ces in Processing Attributes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 Traditional Main Line &amp; Mob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9640" y="1657440"/>
          <a:ext cx="8209080" cy="2373120"/>
        </p:xfrm>
        <a:graphic>
          <a:graphicData uri="http://schemas.openxmlformats.org/drawingml/2006/table">
            <a:tbl>
              <a:tblPr/>
              <a:tblGrid>
                <a:gridCol w="1728720"/>
                <a:gridCol w="1554480"/>
                <a:gridCol w="1641240"/>
                <a:gridCol w="1703520"/>
                <a:gridCol w="158112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tribu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p Diame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p 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meter (u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Vd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uteur (m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V Ha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AA 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b Un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5293440" y="5299920"/>
            <a:ext cx="382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e: these differences are not practically or statistically differ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13DA-5F14-40A9-9850-72BF3CCE599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62880" y="726120"/>
            <a:ext cx="571284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Class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raditional – On-Farm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Lot Building &amp; Bulk Cla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bjective Bulk Classin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educed Skirting Systems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Fleece Sepa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bjective Classing Systems – On-Farm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85905-6982-4820-9761-C258006B73B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eter and Curvilinear Price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D499-783E-46CE-8826-DF76EB7BF83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1468800"/>
            <a:ext cx="567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NZ Pac Con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.Africa &amp; 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.Ameri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UK/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Central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11592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Overseas Develop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946DB-D96A-4A76-8AF5-78F3968E90A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02:54:28Z</dcterms:created>
  <dc:creator>Bob Couchman</dc:creator>
  <dc:description/>
  <dc:language>en-US</dc:language>
  <cp:lastModifiedBy>Sally Mahony</cp:lastModifiedBy>
  <dcterms:modified xsi:type="dcterms:W3CDTF">2005-06-06T01:16:26Z</dcterms:modified>
  <cp:revision>11</cp:revision>
  <dc:subject/>
  <dc:title>Slide 1</dc:title>
</cp:coreProperties>
</file>