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B52-7F60-4372-9D2A-0475F596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0EAC-EA77-4BE5-9DF5-946485BAC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EBE7-7F29-4E06-AC7E-DF8939C21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C046-12DF-4188-B79B-0EE991F79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FCE9-08B5-4C6B-8AD5-6A575B222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1D30-7FA2-492A-97E3-DFCFF5B372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3FDF-DDF4-4CE5-AA2D-C9E6F024A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4ECF-9F60-4684-A48E-880AFDE078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3618-D79B-4943-9B8A-6AAFE50910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56F3-420F-43A3-8BA6-6A7D24C941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3755-418E-4616-A7D6-4F61FDC71B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7AE0-CD48-4765-8323-1C1658C65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7BC7-E671-4DB2-A6CF-8E4F4397D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34C0-08F9-45DC-8A03-53DC66FB23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742D-57F8-4B81-A804-E1EA96B911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AB51-D990-46D9-B066-CEBDACEC77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336E-DD7E-48BA-9B0B-B2A3C26A4C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D65D-0DA5-4157-8253-AF1A7737C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A8CE-C0A5-4B5B-9BC7-E42227810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AA89-C221-4E1B-8386-E6752AD76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9017-78FF-462E-BBA8-C4BDD641F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106D-09D2-411F-9748-C4153AE7E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313D-6AD9-437C-9C23-2B5E5F8AA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0710-9B8A-4076-9DFB-5B07CB955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96A2-BED6-4F52-B84F-C6F3E1DD7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C36E-5721-455A-9517-3EC3447C347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0747-C47A-4B31-9977-02A0251D7F5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ol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633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 and 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1DAC-9942-42B6-99F1-988D52661B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3 – Spinn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51664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01D6-6557-491D-B2C1-E7BF5A6BDA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4- Best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378760" cy="39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DFA0-467E-4B6A-A734-E02AA1D102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5 Style – Good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5643720" cy="41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7171-4356-4687-8833-76A27D8482A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6 – Average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35608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5DF9-A629-4CCC-A684-A3A942955EA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7 – Inferior Topmak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9936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3FC7-EB6A-4C2A-BC22-FE582AC6086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1C00-1CB9-4D22-B53E-26768D5AB6D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 Descriptors and AWEX-I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58920" y="1341360"/>
          <a:ext cx="6913440" cy="4033800"/>
        </p:xfrm>
        <a:graphic>
          <a:graphicData uri="http://schemas.openxmlformats.org/drawingml/2006/table">
            <a:tbl>
              <a:tblPr/>
              <a:tblGrid>
                <a:gridCol w="4201920"/>
                <a:gridCol w="2711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 Descri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WEX ID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in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st Topmakers (B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 Topmakers (G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erage Topmakers  (AT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EC32-7B55-44D2-8C2C-47391951B5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98640" y="264600"/>
            <a:ext cx="3418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ce of Raw Wool Character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907920"/>
            <a:ext cx="27352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***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**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ondary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*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nor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 Significant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Fibre Streng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b)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Fibre Leng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c)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on dy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nor effect on sp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6560" y="163440"/>
          <a:ext cx="4897440" cy="5281560"/>
        </p:xfrm>
        <a:graphic>
          <a:graphicData uri="http://schemas.openxmlformats.org/drawingml/2006/table">
            <a:tbl>
              <a:tblPr/>
              <a:tblGrid>
                <a:gridCol w="1924200"/>
                <a:gridCol w="1033560"/>
                <a:gridCol w="1033200"/>
                <a:gridCol w="906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w Wool 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pm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i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Di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Str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 of Brea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ean Col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 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ed Fib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Length Vari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V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mp/Resistance to Com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ple T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tyle/Type… Han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ed/Age/Fleece Por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589440" y="508320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Plate (19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61D2-1B55-4AFC-BB8D-2531732EBE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7440" y="1596960"/>
            <a:ext cx="93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c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27680" y="1596960"/>
            <a:ext cx="91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5120" y="4567320"/>
            <a:ext cx="115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d breaks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6080" y="4819680"/>
            <a:ext cx="73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7880" y="5051520"/>
            <a:ext cx="73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&lt;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42040" y="4809960"/>
            <a:ext cx="106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yle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95280"/>
            <a:ext cx="249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a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asurement 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520" y="4572000"/>
            <a:ext cx="1076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0160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alue Determining Characteristics 2003/04: 17.0-18.5 Micron Merino Fleece Wool</a:t>
            </a:r>
            <a:br>
              <a:rPr sz="2800"/>
            </a:br>
            <a:r>
              <a:rPr b="1" i="1" lang="en-AU" sz="1000" spc="-1" strike="noStrike">
                <a:solidFill>
                  <a:srgbClr val="000000"/>
                </a:solidFill>
                <a:latin typeface="Arial"/>
              </a:rPr>
              <a:t>Source: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4809960"/>
            <a:ext cx="129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M 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8680" y="1568520"/>
          <a:ext cx="841356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568520"/>
                    <a:ext cx="841356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077320" y="4724280"/>
            <a:ext cx="1066680" cy="9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2DDF-6A5C-404F-A2A8-EFC150BBBC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40464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90600"/>
            <a:ext cx="8763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alue Determining Characteristics 2003/04: 18.6-24.5 Micron Merino Fleece Wool</a:t>
            </a:r>
            <a:br>
              <a:rPr sz="2800"/>
            </a:b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Source: The Woolmark Company (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77320" y="4724280"/>
            <a:ext cx="1066680" cy="9414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360" y="1371600"/>
            <a:ext cx="8413920" cy="4189320"/>
            <a:chOff x="252360" y="1371600"/>
            <a:chExt cx="8413920" cy="4189320"/>
          </a:xfrm>
        </p:grpSpPr>
        <p:graphicFrame>
          <p:nvGraphicFramePr>
            <p:cNvPr id="122" name=""/>
            <p:cNvGraphicFramePr/>
            <p:nvPr/>
          </p:nvGraphicFramePr>
          <p:xfrm>
            <a:off x="252360" y="1492200"/>
            <a:ext cx="8413920" cy="357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2360" y="1492200"/>
                      <a:ext cx="8413920" cy="357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1390320" y="1519200"/>
              <a:ext cx="79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mic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77200" y="1851120"/>
              <a:ext cx="91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50080" y="3909960"/>
              <a:ext cx="8542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mid brea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3440" y="4443480"/>
              <a:ext cx="738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28520" y="5022720"/>
              <a:ext cx="108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colour 3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87720" y="4735440"/>
              <a:ext cx="1292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style 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6560" y="1371600"/>
              <a:ext cx="259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staple measur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6520" y="4981680"/>
              <a:ext cx="2112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marketing factors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6800" y="4734000"/>
              <a:ext cx="590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AA01-AD79-4F4A-9885-C12E5D569D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Sit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27040" y="2133720"/>
            <a:ext cx="49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ww.wool.com</a:t>
            </a:r>
            <a:r>
              <a:rPr b="1" i="1" lang="en-AU" sz="32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i="1" lang="en-AU" sz="3200" spc="-1" strike="noStrike" u="sng">
                <a:solidFill>
                  <a:srgbClr val="99ccff"/>
                </a:solidFill>
                <a:uFillTx/>
                <a:latin typeface="Times New Roman"/>
              </a:rPr>
              <a:t>/pricem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 u="sng">
                <a:solidFill>
                  <a:srgbClr val="99ccff"/>
                </a:solidFill>
                <a:uFillTx/>
                <a:latin typeface="Times New Roman"/>
              </a:rPr>
              <a:t>www.awex.com.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4903-EA49-4548-9A65-1C2304F7D6D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2200" y="1314360"/>
            <a:ext cx="7607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WEX – ID ...Description of the Non-Measured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f Greasy Wool –Appraisal Guidelines., V2.0,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bl. Aust. Wool Exchange, Sydn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oolspec 94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fication of Australian Wool &amp; its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 Marketing and Processing, 199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ubl. CSIRO (Division of Wool Technology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national Wool Secretariat) Syd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ific paper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Crowe &amp; Stev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Ford &amp; Jack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- Stevens &amp; Cr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27B2-14C9-4A18-8C4D-210B074545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8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1 – Spinner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7000" y="1125360"/>
            <a:ext cx="5499000" cy="410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79360"/>
            <a:ext cx="56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images show the 7 style grades. The grades differ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907920"/>
            <a:ext cx="309708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ple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p dust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gree of staple weat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ity &amp; consistency of the apprais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mp character, regularity &amp;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ple tip structure (if wean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ib content (if pie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480F-7C9C-4720-BA0D-C082EF741DE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2 – Superio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499360" cy="406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D1F6-80B8-4F77-BA30-11385ED0DD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0:49:24Z</dcterms:created>
  <dc:creator>Bob Couchman</dc:creator>
  <dc:description/>
  <dc:language>en-US</dc:language>
  <cp:lastModifiedBy>Sally Mahony</cp:lastModifiedBy>
  <dcterms:modified xsi:type="dcterms:W3CDTF">2005-06-06T01:08:22Z</dcterms:modified>
  <cp:revision>14</cp:revision>
  <dc:subject/>
  <dc:title>Lecture 6</dc:title>
</cp:coreProperties>
</file>