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440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9410760"/>
            <a:ext cx="29383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43360" y="9410760"/>
            <a:ext cx="29383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D8B0-476D-4228-B5CD-BC05AADC06A0}"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4400" y="743040"/>
            <a:ext cx="4952880" cy="3714840"/>
          </a:xfrm>
          <a:prstGeom prst="rect">
            <a:avLst/>
          </a:prstGeom>
          <a:ln w="0">
            <a:noFill/>
          </a:ln>
        </p:spPr>
      </p:sp>
      <p:sp>
        <p:nvSpPr>
          <p:cNvPr id="112"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4400" y="743040"/>
            <a:ext cx="4952880" cy="3714840"/>
          </a:xfrm>
          <a:prstGeom prst="rect">
            <a:avLst/>
          </a:prstGeom>
          <a:ln w="0">
            <a:noFill/>
          </a:ln>
        </p:spPr>
      </p:sp>
      <p:sp>
        <p:nvSpPr>
          <p:cNvPr id="114"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evious lecture we looked at the role of technology in supporting consumers with respect to their product choice and purchasing dec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will look at future models for promotion and the ideas that are around at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we will look at the nature of the consum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we consider the future of wool (non – traditional 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examine the idea of grower marketing groups and how these may develop, and look at the benefits and challenges associated with these group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4400" y="743040"/>
            <a:ext cx="4952880" cy="3714840"/>
          </a:xfrm>
          <a:prstGeom prst="rect">
            <a:avLst/>
          </a:prstGeom>
          <a:ln w="0">
            <a:noFill/>
          </a:ln>
        </p:spPr>
      </p:sp>
      <p:sp>
        <p:nvSpPr>
          <p:cNvPr id="116"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present there is no centrally funded promotion for wool in Australia.  Promotion continues to be a topic of concern especially amongst members of the processing sector.  Generally, there is concern that wool needs to be kept in the consumers’ ‘eye’, and that without promotion this will not occu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4400" y="743040"/>
            <a:ext cx="4952880" cy="3714840"/>
          </a:xfrm>
          <a:prstGeom prst="rect">
            <a:avLst/>
          </a:prstGeom>
          <a:ln w="0">
            <a:noFill/>
          </a:ln>
        </p:spPr>
      </p:sp>
      <p:sp>
        <p:nvSpPr>
          <p:cNvPr id="118"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consumer of the future going to look like?  We need to understand how and why consumers are buying products, and what influences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and the market generally are under a number of pressures. Firstly, stagnant population growth (no organic growth in the market). Secondly, the increasing proportion of women that are working (this group require convenience in products that they purchase).  Finally, households are getting smaller, more numerous and changing in ther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ressures on consumers change the purchase drivers when buying apparel or any household item.  Increasing intangible product attributes (emotions, aesthetics) are becoming more important when consumers make purchases.  In part this arises as the functionality is adequate across price points for a particular product type. Now other issues are used to differentiate between products. Many of these are ‘intang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at apparel spending is down as a proportion of income and that there is an increase in the price pressure on apparel with more than 50% of apparel items in Germany and 60% in the US purchased ‘on sa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4400" y="743040"/>
            <a:ext cx="4952880" cy="3714840"/>
          </a:xfrm>
          <a:prstGeom prst="rect">
            <a:avLst/>
          </a:prstGeom>
          <a:ln w="0">
            <a:noFill/>
          </a:ln>
        </p:spPr>
      </p:sp>
      <p:sp>
        <p:nvSpPr>
          <p:cNvPr id="120"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te likely that wool in the future is not only going to be used in traditional apparel. It could also be used in areas of ‘wearable intelligence’ (garments that have an information technology cap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switch is an example of this which has been commercialised in a snowboard jacket by American manufacturer Burton. The technology was developed by WRONZ in NZ. The photo shows a snowboarder touching a panel on his left arm which activates various functions of a Sony mini-disc p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ture of wool may also be in non-traditional production techniques for wool fabrics, e.g. non-wov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may also be used for medical and industrial uses. It may be broken down into its constituent proteins, with these used as building blocks for other products.  These non-traditional uses of wool are drawing on the attributes of the fibre through utilising the fibre’s inherent chemical and physical properti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4400" y="743040"/>
            <a:ext cx="4952880" cy="3714840"/>
          </a:xfrm>
          <a:prstGeom prst="rect">
            <a:avLst/>
          </a:prstGeom>
          <a:ln w="0">
            <a:noFill/>
          </a:ln>
        </p:spPr>
      </p:sp>
      <p:sp>
        <p:nvSpPr>
          <p:cNvPr id="122"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er marketing groups are a comparatively new development in the Australian wool marketing and promotion scene.  They have arisen to better link to the market (feedback and understanding) and through quality assurance programmes which have arisen to deal with issues such as dark fibre and other forms of contamin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er marketing groups need to get past the bottle neck (the concentration in the early stage processing) and start communicating with late stage processors in a meaningful mann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4400" y="743040"/>
            <a:ext cx="4952880" cy="3714840"/>
          </a:xfrm>
          <a:prstGeom prst="rect">
            <a:avLst/>
          </a:prstGeom>
          <a:ln w="0">
            <a:noFill/>
          </a:ln>
        </p:spPr>
      </p:sp>
      <p:sp>
        <p:nvSpPr>
          <p:cNvPr id="124"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challenges that grower groups 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grower groups are small in size – there is a significant difference between what a farm produces and what a factory needs.  Processors also need year round supply. Growers typically can’t supply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s are involved in developing market relationships (these are often offshore) and these links need to be visited frequ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s have changing demands, therefore processors may find it difficult to lock into one supply source if that supply source can’t meet the needs of changing product de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there is difficulty in establishing repeat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ety of different wool types mean it is difficult for the woolgrower group to know what processor to link to.  Therefore it is sometimes difficult to answer simple questions such as “Who is my customer?” and “What happens to my woo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4400" y="743040"/>
            <a:ext cx="4952880" cy="3714840"/>
          </a:xfrm>
          <a:prstGeom prst="rect">
            <a:avLst/>
          </a:prstGeom>
          <a:ln w="0">
            <a:noFill/>
          </a:ln>
        </p:spPr>
      </p:sp>
      <p:sp>
        <p:nvSpPr>
          <p:cNvPr id="126"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a number of opportunities for grower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nclude enhanced mechanisms to capture the value generated through pro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er groups can deliver more complete marketing services and increase responsive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y partnerships can be facilitated and align interests, and they are typically more focused on value as a promotional entity rather than generic pro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ers can also choose whether to par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provides competition with respect to wool selling and promotion channe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5E2983-120F-4A5C-9BB9-4AF37C087F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63795-9E62-4508-A162-5795D9B37C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53333B-A056-4BF2-BE8B-941A0D7F86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618F96-4BF8-438C-A685-0B1947BFDC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F3F77D-8805-406B-A161-D716C85488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B8255AC2-FCB0-4476-8B01-A10D3642F7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8115B0-4CD2-49B8-9861-ED9D8A8A31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E983B02-1788-4F82-9004-5B05AE849B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54922422-421D-478E-871D-C617A727E0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3D43A98D-2796-40D8-A805-8DD2D12529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0B74AB9-79C1-484F-9FB6-EE2CD27473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275E7AD2-D073-455F-8039-A484EA2D07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482A4EF-AB73-4E14-A6D0-5A32F66606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38DEAA6-721F-44C1-886F-17DCCF944F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AFF121B-46A0-4F74-A1F2-53CDE7BE8C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3440EAA-191E-43D1-85DB-DCA2AC496E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A334175-E11E-4C86-8BAD-9D49F4016F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56046-1BDB-438F-8E31-8BC5F9157A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BF220B-CBE9-4A47-BF5D-81B3DA8C93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92C6B09C-F7D7-40CC-9F2F-26F291A7FB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7FF4441C-125F-478D-890C-2FCF7BF321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92570A-D5F5-4298-8782-CB25C7887A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66B08-8A96-4889-B4F4-6C3533ACE1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C3541D-A77F-4917-82DA-9F74BD5A38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F944-C1DE-4247-9CB5-C20D1DA94E63}"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AA28-7FA7-4E9F-A0BE-A609C64CEBE3}"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640" y="98640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Promotion</a:t>
            </a:r>
            <a:endParaRPr b="0" lang="en-US" sz="3600" spc="-1" strike="noStrike">
              <a:solidFill>
                <a:srgbClr val="000000"/>
              </a:solidFill>
              <a:latin typeface="Arial"/>
            </a:endParaRPr>
          </a:p>
        </p:txBody>
      </p:sp>
      <p:sp>
        <p:nvSpPr>
          <p:cNvPr id="92" name="PlaceHolder 2"/>
          <p:cNvSpPr>
            <a:spLocks noGrp="1"/>
          </p:cNvSpPr>
          <p:nvPr>
            <p:ph type="subTitle"/>
          </p:nvPr>
        </p:nvSpPr>
        <p:spPr>
          <a:xfrm>
            <a:off x="1484280" y="422064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9 - Lecture 3</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8078B9-4530-4D04-82DC-EF17734769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4360" y="980640"/>
            <a:ext cx="777240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DD00183-FD13-4B27-ACB7-19EE8552C4FB}"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ckground and Context</a:t>
            </a:r>
            <a:endParaRPr b="0" lang="en-US" sz="3200" spc="-1" strike="noStrike">
              <a:solidFill>
                <a:srgbClr val="000000"/>
              </a:solidFill>
              <a:latin typeface="Arial"/>
            </a:endParaRPr>
          </a:p>
        </p:txBody>
      </p:sp>
      <p:sp>
        <p:nvSpPr>
          <p:cNvPr id="94" name="PlaceHolder 2"/>
          <p:cNvSpPr>
            <a:spLocks noGrp="1"/>
          </p:cNvSpPr>
          <p:nvPr>
            <p:ph/>
          </p:nvPr>
        </p:nvSpPr>
        <p:spPr>
          <a:xfrm>
            <a:off x="826920" y="1125360"/>
            <a:ext cx="7042320" cy="427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technology in supporting consumers with product and purchase decisions</a:t>
            </a:r>
            <a:br>
              <a:rPr sz="2000"/>
            </a:br>
            <a:r>
              <a:rPr b="0" lang="en-US" sz="2000" spc="-1" strike="noStrike">
                <a:solidFill>
                  <a:srgbClr val="000000"/>
                </a:solidFill>
                <a:latin typeface="Arial"/>
              </a:rPr>
              <a:t>(previous lectur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models for promo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ill the consumer of the future be lik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of wool</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er marketing group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63A2C-B794-4CF0-8950-0CF8209D24F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188640"/>
            <a:ext cx="6858000" cy="53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ture promotion models</a:t>
            </a:r>
            <a:endParaRPr b="0" lang="en-US" sz="3200" spc="-1" strike="noStrike">
              <a:solidFill>
                <a:srgbClr val="000000"/>
              </a:solidFill>
              <a:latin typeface="Arial"/>
            </a:endParaRPr>
          </a:p>
        </p:txBody>
      </p:sp>
      <p:sp>
        <p:nvSpPr>
          <p:cNvPr id="96" name="PlaceHolder 2"/>
          <p:cNvSpPr>
            <a:spLocks noGrp="1"/>
          </p:cNvSpPr>
          <p:nvPr>
            <p:ph/>
          </p:nvPr>
        </p:nvSpPr>
        <p:spPr>
          <a:xfrm>
            <a:off x="1258560" y="1700280"/>
            <a:ext cx="6840360" cy="35812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entrally funded promo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 is a ‘hot’ topic</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rn that wool needs to be kept in the </a:t>
            </a:r>
            <a:br>
              <a:rPr sz="2000"/>
            </a:br>
            <a:r>
              <a:rPr b="0" lang="en-US" sz="2000" spc="-1" strike="noStrike">
                <a:solidFill>
                  <a:srgbClr val="000000"/>
                </a:solidFill>
                <a:latin typeface="Arial"/>
              </a:rPr>
              <a:t>consumer’s ‘ey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8B41B-DF1C-4E34-B228-0D63AB95CB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88640"/>
            <a:ext cx="6858000" cy="53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umer of the future</a:t>
            </a:r>
            <a:endParaRPr b="0" lang="en-US" sz="3200" spc="-1" strike="noStrike">
              <a:solidFill>
                <a:srgbClr val="000000"/>
              </a:solidFill>
              <a:latin typeface="Arial"/>
            </a:endParaRPr>
          </a:p>
        </p:txBody>
      </p:sp>
      <p:sp>
        <p:nvSpPr>
          <p:cNvPr id="98" name="PlaceHolder 2"/>
          <p:cNvSpPr>
            <a:spLocks noGrp="1"/>
          </p:cNvSpPr>
          <p:nvPr>
            <p:ph/>
          </p:nvPr>
        </p:nvSpPr>
        <p:spPr>
          <a:xfrm>
            <a:off x="899640" y="1125000"/>
            <a:ext cx="7689960" cy="45658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s to understand why and how consumers are buying products. What influences them?</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ures:</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nant population growth;</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women require convenience; and,</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eholds getting smaller and more numerou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sthetics and emotions – the ‘intangibl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arel spending down and price pressur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9ED53-3801-47CF-8FD8-6AD7171022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89000"/>
            <a:ext cx="6858000" cy="45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in the future</a:t>
            </a:r>
            <a:endParaRPr b="0" lang="en-US" sz="3200" spc="-1" strike="noStrike">
              <a:solidFill>
                <a:srgbClr val="000000"/>
              </a:solidFill>
              <a:latin typeface="Arial"/>
            </a:endParaRPr>
          </a:p>
        </p:txBody>
      </p:sp>
      <p:sp>
        <p:nvSpPr>
          <p:cNvPr id="100" name="PlaceHolder 2"/>
          <p:cNvSpPr>
            <a:spLocks noGrp="1"/>
          </p:cNvSpPr>
          <p:nvPr>
            <p:ph/>
          </p:nvPr>
        </p:nvSpPr>
        <p:spPr>
          <a:xfrm>
            <a:off x="987120" y="1412640"/>
            <a:ext cx="4521240" cy="439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earable intelligence</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on-wovens</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ool as a protein</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edical uses</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dustrial us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tribute-based use</a:t>
            </a:r>
            <a:endParaRPr b="0" lang="en-US" sz="2000" spc="-1" strike="noStrike">
              <a:solidFill>
                <a:srgbClr val="000000"/>
              </a:solidFill>
              <a:latin typeface="Arial"/>
            </a:endParaRPr>
          </a:p>
        </p:txBody>
      </p:sp>
      <p:pic>
        <p:nvPicPr>
          <p:cNvPr id="101" name="" descr=""/>
          <p:cNvPicPr/>
          <p:nvPr/>
        </p:nvPicPr>
        <p:blipFill>
          <a:blip r:embed="rId1"/>
          <a:stretch/>
        </p:blipFill>
        <p:spPr>
          <a:xfrm>
            <a:off x="4500720" y="907920"/>
            <a:ext cx="2666880" cy="4608720"/>
          </a:xfrm>
          <a:prstGeom prst="rect">
            <a:avLst/>
          </a:prstGeom>
          <a:ln w="0">
            <a:noFill/>
          </a:ln>
        </p:spPr>
      </p:pic>
      <p:sp>
        <p:nvSpPr>
          <p:cNvPr id="4" name="PlaceHolder 3"/>
          <p:cNvSpPr>
            <a:spLocks noGrp="1"/>
          </p:cNvSpPr>
          <p:nvPr>
            <p:ph type="sldNum" idx="1"/>
          </p:nvPr>
        </p:nvSpPr>
        <p:spPr/>
        <p:txBody>
          <a:bodyPr/>
          <a:p>
            <a:fld id="{4AD24E6D-9E30-43AD-B66F-CFAAFFE6B6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5920"/>
            <a:ext cx="6858000" cy="45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ower marketing groups</a:t>
            </a:r>
            <a:endParaRPr b="0" lang="en-US" sz="3200" spc="-1" strike="noStrike">
              <a:solidFill>
                <a:srgbClr val="000000"/>
              </a:solidFill>
              <a:latin typeface="Arial"/>
            </a:endParaRPr>
          </a:p>
        </p:txBody>
      </p:sp>
      <p:sp>
        <p:nvSpPr>
          <p:cNvPr id="103" name="PlaceHolder 2"/>
          <p:cNvSpPr>
            <a:spLocks noGrp="1"/>
          </p:cNvSpPr>
          <p:nvPr>
            <p:ph/>
          </p:nvPr>
        </p:nvSpPr>
        <p:spPr>
          <a:xfrm>
            <a:off x="1116000" y="1125000"/>
            <a:ext cx="3811680" cy="3581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 development:</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to the market; and,</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get past the ‘bottleneck</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664D7-1F7D-4C17-BF38-93388BC141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6858000" cy="45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ower group challenges</a:t>
            </a:r>
            <a:endParaRPr b="0" lang="en-US" sz="3200" spc="-1" strike="noStrike">
              <a:solidFill>
                <a:srgbClr val="000000"/>
              </a:solidFill>
              <a:latin typeface="Arial"/>
            </a:endParaRPr>
          </a:p>
        </p:txBody>
      </p:sp>
      <p:sp>
        <p:nvSpPr>
          <p:cNvPr id="105" name="PlaceHolder 2"/>
          <p:cNvSpPr>
            <a:spLocks noGrp="1"/>
          </p:cNvSpPr>
          <p:nvPr>
            <p:ph/>
          </p:nvPr>
        </p:nvSpPr>
        <p:spPr>
          <a:xfrm>
            <a:off x="610920" y="765000"/>
            <a:ext cx="8001000" cy="511200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latively small size of individual clips with respect to processor needs and year-round supply;</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sts involved with developing marketing relationships (often offshore);</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anging patterns of demand;</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fficulties of establishing repeat business; and,</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ariety of end-uses for a wool type leading to difficulty in answering the questions:</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o is my customer?</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at happened to my woo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B4465-8A69-4EB0-9957-42F546CD38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88640"/>
            <a:ext cx="6858000" cy="53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ower group opportunities</a:t>
            </a:r>
            <a:endParaRPr b="0" lang="en-US" sz="3200" spc="-1" strike="noStrike">
              <a:solidFill>
                <a:srgbClr val="000000"/>
              </a:solidFill>
              <a:latin typeface="Arial"/>
            </a:endParaRPr>
          </a:p>
        </p:txBody>
      </p:sp>
      <p:sp>
        <p:nvSpPr>
          <p:cNvPr id="107" name="PlaceHolder 2"/>
          <p:cNvSpPr>
            <a:spLocks noGrp="1"/>
          </p:cNvSpPr>
          <p:nvPr>
            <p:ph/>
          </p:nvPr>
        </p:nvSpPr>
        <p:spPr>
          <a:xfrm>
            <a:off x="611280" y="907560"/>
            <a:ext cx="7618320" cy="504036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hanced mechanisms to capture value generated through promotion;</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livery of complete marketing services;</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creased responsiveness;</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acilitates industry partnerships and aligns interests;</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ocuses on value;</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ives growers choice to participate; and,</a:t>
            </a:r>
            <a:br>
              <a:rPr sz="2000"/>
            </a:br>
            <a:r>
              <a:rPr b="0" lang="en-A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s competi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02043-9514-493F-AB00-7A62173870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a:t>
            </a:r>
            <a:endParaRPr b="0" lang="en-US" sz="3200" spc="-1" strike="noStrike">
              <a:solidFill>
                <a:srgbClr val="000000"/>
              </a:solidFill>
              <a:latin typeface="Arial"/>
            </a:endParaRPr>
          </a:p>
        </p:txBody>
      </p:sp>
      <p:sp>
        <p:nvSpPr>
          <p:cNvPr id="10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 will be different in the futur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644EA-FEF1-474A-A900-4EEEE4C296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20:30Z</dcterms:created>
  <dc:creator>SChampion</dc:creator>
  <dc:description/>
  <dc:language>en-US</dc:language>
  <cp:lastModifiedBy>Sally Mahony</cp:lastModifiedBy>
  <dcterms:modified xsi:type="dcterms:W3CDTF">2005-05-23T05:13:36Z</dcterms:modified>
  <cp:revision>74</cp:revision>
  <dc:subject/>
  <dc:title>Slide 1</dc:title>
</cp:coreProperties>
</file>