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81F8-761F-48B7-AC60-1B99BA6A935E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9DB4-DE9E-4E4F-9619-A32D33E099B1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95D53-81C1-42ED-918D-257FF39CA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283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10F4B-F1CC-4045-A44A-36855A228E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04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04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F0EFB-79A4-4635-9231-1EEF4C7030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2360" y="1413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000" y="1413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283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2360" y="3283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000" y="3283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D3900-920B-42C0-8BCF-0D99145BEE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FAF85-5780-43CE-A003-38BC3E6A0F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36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7FCDA-76F6-49BC-ACA5-C2B2D8B32D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0DE3B-D294-4844-AFF8-A326E1CE69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704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AE586-06DA-4353-8861-1487FF0C35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460DC-8452-41AF-BFBB-FE650169A2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D5A81-7F7F-44D3-B793-344C823B3D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04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436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AEEC7-E52D-45A1-8001-1C978DFCF0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9D7F5-FCD9-465D-85CC-2281FA9696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704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8D759-F85E-46A8-9EF3-CEEC744247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4360" y="3283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55F99-034C-4EE8-8023-61D9632DD5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4360" y="3283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89B23-B338-483A-B4E7-45F9211BB1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04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436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704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54F9B-974A-4352-9C5B-4598E68109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2360" y="1413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0000" y="1413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4360" y="3283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2360" y="3283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0000" y="3283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4ADA0-383F-41F8-A854-B4B4D1E28B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D0908-38E5-45A2-B416-549C8836BE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04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3EA44-35C1-41F5-825E-1E726D7960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3A1BA-78C2-44F8-8BC5-40AD85AF7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CEA99-B758-4676-B761-A75120014C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04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D050B-4559-42AF-8D0E-7C010A2971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04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04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925BB-A2E2-4E2C-AA36-D17DD08590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04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283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5DB96-D511-47A9-9DC5-E75CD9715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5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455D-584A-43C8-8D42-11218D3CCAF1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436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C8FC-8483-4DC9-BCA6-E6707932A00B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7AFE-C27F-4684-BD0C-92A7C47D3758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Textile properties of wool </a:t>
            </a:r>
            <a:br>
              <a:rPr sz="3600"/>
            </a:b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and other fib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2916360" y="41497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Topic 21 – Lectur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2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0B45-AA75-4574-B3AC-1DE4213C4DD3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124920"/>
            <a:ext cx="80010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Changes in fibre length in card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23"/>
          <p:cNvGrpSpPr/>
          <p:nvPr/>
        </p:nvGrpSpPr>
        <p:grpSpPr>
          <a:xfrm>
            <a:off x="894600" y="1125360"/>
            <a:ext cx="8069760" cy="4374720"/>
            <a:chOff x="894600" y="1125360"/>
            <a:chExt cx="8069760" cy="4374720"/>
          </a:xfrm>
        </p:grpSpPr>
        <p:grpSp>
          <p:nvGrpSpPr>
            <p:cNvPr id="185" name="Group 6"/>
            <p:cNvGrpSpPr/>
            <p:nvPr/>
          </p:nvGrpSpPr>
          <p:grpSpPr>
            <a:xfrm>
              <a:off x="2295720" y="1125360"/>
              <a:ext cx="4255200" cy="1108800"/>
              <a:chOff x="2295720" y="1125360"/>
              <a:chExt cx="4255200" cy="1108800"/>
            </a:xfrm>
          </p:grpSpPr>
          <p:sp>
            <p:nvSpPr>
              <p:cNvPr id="186" name="Text Box 7"/>
              <p:cNvSpPr/>
              <p:nvPr/>
            </p:nvSpPr>
            <p:spPr>
              <a:xfrm>
                <a:off x="2295720" y="1125360"/>
                <a:ext cx="42552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c0000"/>
                    </a:solidFill>
                    <a:latin typeface="Arial Narrow"/>
                  </a:rPr>
                  <a:t>Fibre length distribution after carding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8"/>
              <p:cNvSpPr/>
              <p:nvPr/>
            </p:nvSpPr>
            <p:spPr>
              <a:xfrm>
                <a:off x="3173040" y="1636920"/>
                <a:ext cx="79200" cy="59724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Text Box 10"/>
            <p:cNvSpPr/>
            <p:nvPr/>
          </p:nvSpPr>
          <p:spPr>
            <a:xfrm>
              <a:off x="5838480" y="3625200"/>
              <a:ext cx="312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af1b65"/>
                  </a:solidFill>
                  <a:latin typeface="Arial Narrow"/>
                </a:rPr>
                <a:t>Fibre length distribution before cardin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11"/>
            <p:cNvSpPr/>
            <p:nvPr/>
          </p:nvSpPr>
          <p:spPr>
            <a:xfrm flipH="1" flipV="1">
              <a:off x="5120280" y="3710160"/>
              <a:ext cx="638280" cy="341280"/>
            </a:xfrm>
            <a:prstGeom prst="line">
              <a:avLst/>
            </a:prstGeom>
            <a:ln w="38160">
              <a:solidFill>
                <a:srgbClr val="af1b6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12"/>
            <p:cNvSpPr/>
            <p:nvPr/>
          </p:nvSpPr>
          <p:spPr>
            <a:xfrm>
              <a:off x="5092200" y="1807920"/>
              <a:ext cx="35892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 Narrow"/>
                </a:rPr>
                <a:t>Fibre length distribution shifts to the left, depending on amount of fibre breakag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Freeform 14"/>
            <p:cNvSpPr/>
            <p:nvPr/>
          </p:nvSpPr>
          <p:spPr>
            <a:xfrm>
              <a:off x="1935000" y="1967760"/>
              <a:ext cx="3748680" cy="3029760"/>
            </a:xfrm>
            <a:custGeom>
              <a:avLst/>
              <a:gdLst/>
              <a:ahLst/>
              <a:rect l="l" t="t" r="r" b="b"/>
              <a:pathLst>
                <a:path w="1488" h="1056">
                  <a:moveTo>
                    <a:pt x="0" y="1032"/>
                  </a:moveTo>
                  <a:cubicBezTo>
                    <a:pt x="88" y="1044"/>
                    <a:pt x="176" y="1056"/>
                    <a:pt x="288" y="936"/>
                  </a:cubicBezTo>
                  <a:cubicBezTo>
                    <a:pt x="400" y="816"/>
                    <a:pt x="576" y="456"/>
                    <a:pt x="672" y="312"/>
                  </a:cubicBezTo>
                  <a:cubicBezTo>
                    <a:pt x="768" y="168"/>
                    <a:pt x="800" y="112"/>
                    <a:pt x="864" y="72"/>
                  </a:cubicBezTo>
                  <a:cubicBezTo>
                    <a:pt x="928" y="32"/>
                    <a:pt x="1000" y="0"/>
                    <a:pt x="1056" y="72"/>
                  </a:cubicBezTo>
                  <a:cubicBezTo>
                    <a:pt x="1112" y="144"/>
                    <a:pt x="1160" y="360"/>
                    <a:pt x="1200" y="504"/>
                  </a:cubicBezTo>
                  <a:cubicBezTo>
                    <a:pt x="1240" y="648"/>
                    <a:pt x="1248" y="848"/>
                    <a:pt x="1296" y="936"/>
                  </a:cubicBezTo>
                  <a:cubicBezTo>
                    <a:pt x="1344" y="1024"/>
                    <a:pt x="1416" y="1028"/>
                    <a:pt x="1488" y="1032"/>
                  </a:cubicBezTo>
                </a:path>
              </a:pathLst>
            </a:custGeom>
            <a:solidFill>
              <a:srgbClr val="003366"/>
            </a:solidFill>
            <a:ln w="76320">
              <a:solidFill>
                <a:srgbClr val="e1e1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Freeform 15"/>
            <p:cNvSpPr/>
            <p:nvPr/>
          </p:nvSpPr>
          <p:spPr>
            <a:xfrm>
              <a:off x="1695600" y="2254320"/>
              <a:ext cx="3110760" cy="2716920"/>
            </a:xfrm>
            <a:custGeom>
              <a:avLst/>
              <a:gdLst/>
              <a:ahLst/>
              <a:rect l="l" t="t" r="r" b="b"/>
              <a:pathLst>
                <a:path w="1632" h="1528">
                  <a:moveTo>
                    <a:pt x="0" y="1528"/>
                  </a:moveTo>
                  <a:cubicBezTo>
                    <a:pt x="40" y="1488"/>
                    <a:pt x="80" y="1448"/>
                    <a:pt x="144" y="1288"/>
                  </a:cubicBezTo>
                  <a:cubicBezTo>
                    <a:pt x="208" y="1128"/>
                    <a:pt x="312" y="768"/>
                    <a:pt x="384" y="568"/>
                  </a:cubicBezTo>
                  <a:cubicBezTo>
                    <a:pt x="456" y="368"/>
                    <a:pt x="496" y="176"/>
                    <a:pt x="576" y="88"/>
                  </a:cubicBezTo>
                  <a:cubicBezTo>
                    <a:pt x="656" y="0"/>
                    <a:pt x="784" y="24"/>
                    <a:pt x="864" y="40"/>
                  </a:cubicBezTo>
                  <a:cubicBezTo>
                    <a:pt x="944" y="56"/>
                    <a:pt x="1000" y="88"/>
                    <a:pt x="1056" y="184"/>
                  </a:cubicBezTo>
                  <a:cubicBezTo>
                    <a:pt x="1112" y="280"/>
                    <a:pt x="1160" y="488"/>
                    <a:pt x="1200" y="616"/>
                  </a:cubicBezTo>
                  <a:cubicBezTo>
                    <a:pt x="1240" y="744"/>
                    <a:pt x="1264" y="848"/>
                    <a:pt x="1296" y="952"/>
                  </a:cubicBezTo>
                  <a:cubicBezTo>
                    <a:pt x="1328" y="1056"/>
                    <a:pt x="1336" y="1152"/>
                    <a:pt x="1392" y="1240"/>
                  </a:cubicBezTo>
                  <a:cubicBezTo>
                    <a:pt x="1448" y="1328"/>
                    <a:pt x="1540" y="1404"/>
                    <a:pt x="1632" y="1480"/>
                  </a:cubicBezTo>
                </a:path>
              </a:pathLst>
            </a:custGeom>
            <a:solidFill>
              <a:srgbClr val="d60093"/>
            </a:solidFill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16"/>
            <p:cNvSpPr/>
            <p:nvPr/>
          </p:nvSpPr>
          <p:spPr>
            <a:xfrm>
              <a:off x="2094480" y="2565360"/>
              <a:ext cx="1675080" cy="2389320"/>
            </a:xfrm>
            <a:custGeom>
              <a:avLst/>
              <a:gdLst/>
              <a:ahLst/>
              <a:rect l="l" t="t" r="r" b="b"/>
              <a:pathLst>
                <a:path w="912" h="1392">
                  <a:moveTo>
                    <a:pt x="912" y="0"/>
                  </a:moveTo>
                  <a:cubicBezTo>
                    <a:pt x="888" y="120"/>
                    <a:pt x="864" y="240"/>
                    <a:pt x="816" y="384"/>
                  </a:cubicBezTo>
                  <a:cubicBezTo>
                    <a:pt x="768" y="528"/>
                    <a:pt x="680" y="744"/>
                    <a:pt x="624" y="864"/>
                  </a:cubicBezTo>
                  <a:cubicBezTo>
                    <a:pt x="568" y="984"/>
                    <a:pt x="560" y="1024"/>
                    <a:pt x="480" y="1104"/>
                  </a:cubicBezTo>
                  <a:cubicBezTo>
                    <a:pt x="400" y="1184"/>
                    <a:pt x="224" y="1296"/>
                    <a:pt x="144" y="1344"/>
                  </a:cubicBezTo>
                  <a:cubicBezTo>
                    <a:pt x="64" y="1392"/>
                    <a:pt x="32" y="1392"/>
                    <a:pt x="0" y="1392"/>
                  </a:cubicBezTo>
                </a:path>
              </a:pathLst>
            </a:custGeom>
            <a:noFill/>
            <a:ln w="76320">
              <a:solidFill>
                <a:srgbClr val="e1e1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17"/>
            <p:cNvSpPr/>
            <p:nvPr/>
          </p:nvSpPr>
          <p:spPr>
            <a:xfrm>
              <a:off x="1536480" y="4955040"/>
              <a:ext cx="4546440" cy="1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18"/>
            <p:cNvSpPr/>
            <p:nvPr/>
          </p:nvSpPr>
          <p:spPr>
            <a:xfrm flipV="1">
              <a:off x="1536480" y="1284840"/>
              <a:ext cx="1440" cy="3669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19"/>
            <p:cNvSpPr/>
            <p:nvPr/>
          </p:nvSpPr>
          <p:spPr>
            <a:xfrm rot="16214400">
              <a:off x="-150120" y="3017880"/>
              <a:ext cx="25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Number of fib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20"/>
            <p:cNvSpPr/>
            <p:nvPr/>
          </p:nvSpPr>
          <p:spPr>
            <a:xfrm>
              <a:off x="2812320" y="5040360"/>
              <a:ext cx="207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Fibre leng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21"/>
            <p:cNvSpPr/>
            <p:nvPr/>
          </p:nvSpPr>
          <p:spPr>
            <a:xfrm>
              <a:off x="5046120" y="5040360"/>
              <a:ext cx="71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LO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22"/>
            <p:cNvSpPr/>
            <p:nvPr/>
          </p:nvSpPr>
          <p:spPr>
            <a:xfrm>
              <a:off x="2014920" y="5040360"/>
              <a:ext cx="87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H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C8DA-5AD8-4230-AE36-3271F48D0A39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001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Length and strength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380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orsted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ound, long wools preferred otherwise reduced yield, inferior ya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ombing removes short fibres but at expense of yield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oollen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Handles shorter wools (provided not extre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Very long wools cause problems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emiworsted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No combing so long, sound wools ess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3B2E-7D0C-44BB-982F-E2E808302B7B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0010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4000" y="980640"/>
            <a:ext cx="8235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hite and bright wools preferred for most products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Yellow wools limit dyeing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lso may indicate microbial damage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Pigmented fibres to be avoided for apparel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pecified by X, Y, Z tristimulus valu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Brightness: Y (the higher the bet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Yellowness: Y – Z (the lower the bet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C50D-C9C5-41B9-867F-FFD0789D6143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749628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Effect of colour on dye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Wool colour samples"/>
          <p:cNvPicPr/>
          <p:nvPr/>
        </p:nvPicPr>
        <p:blipFill>
          <a:blip r:embed="rId1"/>
          <a:stretch/>
        </p:blipFill>
        <p:spPr>
          <a:xfrm>
            <a:off x="826920" y="907920"/>
            <a:ext cx="7272360" cy="457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0DBF-A452-45DA-9448-3B211ED3F1E9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0010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Crimp and its effe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8001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rimp has an important influence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Bulk (the ability of wool to fill sp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Resistance to Compression (compressibility of fib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Lustre (level of shininess of fib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826920" y="4003560"/>
            <a:ext cx="777744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1116000" y="3500280"/>
            <a:ext cx="19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Low cri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6659640" y="350028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High cri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682560" y="414828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 Narrow"/>
              </a:rPr>
              <a:t>Low bulk, low resistance to compression, high lustre, generally coarser w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6156360" y="414828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 Narrow"/>
              </a:rPr>
              <a:t>High bulk, high resistance to compression, lower lustre, generally finer w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5D42-7A5C-493B-8939-8CA9548530C0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0010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Crimp in wool produ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9280" y="90756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s beneficial in knitwear and carp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pringy handle and warmth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Low crimp (ie, high lustre) less desirable in machine-made carpets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Higher crimp frequency is disadvantageous in worsted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produces shorter t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yarns weaker and more irre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low crimp better for smoother, soft-handling fab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3D45-F74A-49E4-9BA9-7EC1DCFBDEC0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010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Vegetable mat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26560" y="1135080"/>
            <a:ext cx="741708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ellulosic contaminant: burrs, grass seeds, thistles, hard heads, chaff, twigs,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ome types (eg, shive) more of a problem for removal in processing, hence discou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High levels may necessitate carbon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easured as part of Yield Test (NaOH diges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Report VM level (%) and typ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B6CA-1FD0-486C-8098-F47311930A16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4920" y="44280"/>
            <a:ext cx="4103640" cy="5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Medul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4920" y="620280"/>
            <a:ext cx="82090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Hollow core (medulla) in some coarser wool fi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Remnant of outer coat of primitive sheep breeds, go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Bred out of finer breeds to eliminate in appar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cceptable in carpet blends – unique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edullated fibres w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 take dye as ordinary fibres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Medullation examples"/>
          <p:cNvPicPr/>
          <p:nvPr/>
        </p:nvPicPr>
        <p:blipFill>
          <a:blip r:embed="rId1"/>
          <a:stretch/>
        </p:blipFill>
        <p:spPr>
          <a:xfrm>
            <a:off x="2916360" y="2565360"/>
            <a:ext cx="4895640" cy="29448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6"/>
          <p:cNvSpPr/>
          <p:nvPr/>
        </p:nvSpPr>
        <p:spPr>
          <a:xfrm>
            <a:off x="826920" y="328464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 Narrow"/>
              </a:rPr>
              <a:t>Types of medu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80F7-6D34-4226-9BD9-1E4DE13DD2DF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001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Wool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s competi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568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Regenerated fi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Rayon (1900) – from wood pulp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ynthetic fibres – from petrochemical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Polyamide (ie, Nylon) (193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Polyester (194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crylic (194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Polypropylene (1960)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otton complementary rather than a compet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Antron fibres"/>
          <p:cNvPicPr/>
          <p:nvPr/>
        </p:nvPicPr>
        <p:blipFill>
          <a:blip r:embed="rId1"/>
          <a:stretch/>
        </p:blipFill>
        <p:spPr>
          <a:xfrm>
            <a:off x="6156360" y="549360"/>
            <a:ext cx="234792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ED0C-20BF-49C7-AE08-9CB40CA9DDE3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01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Wool ble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9280" y="1279080"/>
            <a:ext cx="80010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Blending different w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o produce a yarn meeting a specification at cheapest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o add special features, eg, bulk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oollen spinning – more diverse types combined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orsted and semiworsted spinning – more uniform, better quality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084F-EF33-4D07-86DE-F6E104B08171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59140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Commercially important properties of wo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ibre di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ibre length and str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rimp/bulk/lu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Vegetable matter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edullation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7F2C-7A20-4E0F-AFE9-360096C3436A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010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lends of wool with other fib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8640" y="907560"/>
            <a:ext cx="80010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ombine best features of the fibres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Produce wool-like properties similar to 100% wool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ome common combin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ool/cotton (Viyella) – light-weight appar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100% Wool/ 80% nylon – for abrasion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ool/polyester – easy-care fab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ool-Lycra – to add stre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B107-EA1C-4182-A656-974320AE3898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1CA3-3374-475A-96C9-A9D0C7A58116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0010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Fibre diame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105228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  most important textile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Determines suitability of wool for end-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ontrols fineness to which a yarn can be sp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ine wools produce fine, soft-handling fab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Unit: micron – 1 micron = 1/1,000,000 me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D823-A6F8-456A-8CFD-F0190DCDBC75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4920" y="177480"/>
            <a:ext cx="80010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Fibre diameter requirements for wool produ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Product requirements - fibre diameter"/>
          <p:cNvPicPr/>
          <p:nvPr/>
        </p:nvPicPr>
        <p:blipFill>
          <a:blip r:embed="rId1"/>
          <a:stretch/>
        </p:blipFill>
        <p:spPr>
          <a:xfrm>
            <a:off x="1187280" y="1125360"/>
            <a:ext cx="6480360" cy="42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8322-F861-4067-AA62-F72B3A84C352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010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Fibre diameter distrib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280" y="105228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ide variation in fibre diameter in a flock or individual fleece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ibre diameter distribution depicts diameter range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Mean Fibre Diameter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used as fineness indicator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oefficient of variation of fibre diameter CV</a:t>
            </a:r>
            <a:r>
              <a:rPr b="0" lang="en-NZ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measures range of diameters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odern instruments OFDA and Laserscan provide complete fibre diameter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2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6B90-67B7-4A37-BCBE-52109D7A6078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69"/>
          <p:cNvGrpSpPr/>
          <p:nvPr/>
        </p:nvGrpSpPr>
        <p:grpSpPr>
          <a:xfrm>
            <a:off x="900000" y="1481040"/>
            <a:ext cx="7416720" cy="4179600"/>
            <a:chOff x="900000" y="1481040"/>
            <a:chExt cx="7416720" cy="4179600"/>
          </a:xfrm>
        </p:grpSpPr>
        <p:grpSp>
          <p:nvGrpSpPr>
            <p:cNvPr id="108" name="Group 4"/>
            <p:cNvGrpSpPr/>
            <p:nvPr/>
          </p:nvGrpSpPr>
          <p:grpSpPr>
            <a:xfrm>
              <a:off x="900000" y="2562120"/>
              <a:ext cx="5832360" cy="3098520"/>
              <a:chOff x="900000" y="2562120"/>
              <a:chExt cx="5832360" cy="3098520"/>
            </a:xfrm>
          </p:grpSpPr>
          <p:sp>
            <p:nvSpPr>
              <p:cNvPr id="109" name="Line 5"/>
              <p:cNvSpPr/>
              <p:nvPr/>
            </p:nvSpPr>
            <p:spPr>
              <a:xfrm>
                <a:off x="2141280" y="4893120"/>
                <a:ext cx="0" cy="14724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6"/>
              <p:cNvSpPr/>
              <p:nvPr/>
            </p:nvSpPr>
            <p:spPr>
              <a:xfrm>
                <a:off x="2963520" y="4367880"/>
                <a:ext cx="0" cy="6724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7"/>
              <p:cNvSpPr/>
              <p:nvPr/>
            </p:nvSpPr>
            <p:spPr>
              <a:xfrm>
                <a:off x="3055680" y="4279680"/>
                <a:ext cx="0" cy="7603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Line 8"/>
              <p:cNvSpPr/>
              <p:nvPr/>
            </p:nvSpPr>
            <p:spPr>
              <a:xfrm>
                <a:off x="2414520" y="4804920"/>
                <a:ext cx="0" cy="2350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9"/>
              <p:cNvSpPr/>
              <p:nvPr/>
            </p:nvSpPr>
            <p:spPr>
              <a:xfrm>
                <a:off x="2323800" y="4893120"/>
                <a:ext cx="0" cy="14724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10"/>
              <p:cNvSpPr/>
              <p:nvPr/>
            </p:nvSpPr>
            <p:spPr>
              <a:xfrm>
                <a:off x="2232000" y="4979520"/>
                <a:ext cx="0" cy="6084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11"/>
              <p:cNvSpPr/>
              <p:nvPr/>
            </p:nvSpPr>
            <p:spPr>
              <a:xfrm>
                <a:off x="2049120" y="4979520"/>
                <a:ext cx="0" cy="6084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12"/>
              <p:cNvSpPr/>
              <p:nvPr/>
            </p:nvSpPr>
            <p:spPr>
              <a:xfrm>
                <a:off x="2506320" y="4804920"/>
                <a:ext cx="0" cy="2350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13"/>
              <p:cNvSpPr/>
              <p:nvPr/>
            </p:nvSpPr>
            <p:spPr>
              <a:xfrm>
                <a:off x="2598480" y="4893120"/>
                <a:ext cx="0" cy="14724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14"/>
              <p:cNvSpPr/>
              <p:nvPr/>
            </p:nvSpPr>
            <p:spPr>
              <a:xfrm>
                <a:off x="2689200" y="4716720"/>
                <a:ext cx="0" cy="3232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15"/>
              <p:cNvSpPr/>
              <p:nvPr/>
            </p:nvSpPr>
            <p:spPr>
              <a:xfrm>
                <a:off x="3146400" y="4105080"/>
                <a:ext cx="0" cy="9349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16"/>
              <p:cNvSpPr/>
              <p:nvPr/>
            </p:nvSpPr>
            <p:spPr>
              <a:xfrm>
                <a:off x="3238200" y="3930840"/>
                <a:ext cx="0" cy="11095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17"/>
              <p:cNvSpPr/>
              <p:nvPr/>
            </p:nvSpPr>
            <p:spPr>
              <a:xfrm>
                <a:off x="3328920" y="3842640"/>
                <a:ext cx="0" cy="119736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18"/>
              <p:cNvSpPr/>
              <p:nvPr/>
            </p:nvSpPr>
            <p:spPr>
              <a:xfrm>
                <a:off x="3420720" y="3668040"/>
                <a:ext cx="0" cy="137196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19"/>
              <p:cNvSpPr/>
              <p:nvPr/>
            </p:nvSpPr>
            <p:spPr>
              <a:xfrm>
                <a:off x="3512880" y="3405600"/>
                <a:ext cx="0" cy="163476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20"/>
              <p:cNvSpPr/>
              <p:nvPr/>
            </p:nvSpPr>
            <p:spPr>
              <a:xfrm>
                <a:off x="3603600" y="3319200"/>
                <a:ext cx="0" cy="172116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21"/>
              <p:cNvSpPr/>
              <p:nvPr/>
            </p:nvSpPr>
            <p:spPr>
              <a:xfrm>
                <a:off x="3695400" y="3405600"/>
                <a:ext cx="0" cy="163476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22"/>
              <p:cNvSpPr/>
              <p:nvPr/>
            </p:nvSpPr>
            <p:spPr>
              <a:xfrm>
                <a:off x="3786120" y="3231000"/>
                <a:ext cx="0" cy="180900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23"/>
              <p:cNvSpPr/>
              <p:nvPr/>
            </p:nvSpPr>
            <p:spPr>
              <a:xfrm>
                <a:off x="3877920" y="3142800"/>
                <a:ext cx="0" cy="189720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24"/>
              <p:cNvSpPr/>
              <p:nvPr/>
            </p:nvSpPr>
            <p:spPr>
              <a:xfrm>
                <a:off x="3970080" y="3319200"/>
                <a:ext cx="0" cy="172116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25"/>
              <p:cNvSpPr/>
              <p:nvPr/>
            </p:nvSpPr>
            <p:spPr>
              <a:xfrm>
                <a:off x="4060800" y="3405600"/>
                <a:ext cx="0" cy="163476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26"/>
              <p:cNvSpPr/>
              <p:nvPr/>
            </p:nvSpPr>
            <p:spPr>
              <a:xfrm>
                <a:off x="4152600" y="3493440"/>
                <a:ext cx="0" cy="154656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27"/>
              <p:cNvSpPr/>
              <p:nvPr/>
            </p:nvSpPr>
            <p:spPr>
              <a:xfrm>
                <a:off x="4243320" y="3493440"/>
                <a:ext cx="0" cy="154656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28"/>
              <p:cNvSpPr/>
              <p:nvPr/>
            </p:nvSpPr>
            <p:spPr>
              <a:xfrm>
                <a:off x="4335120" y="3579840"/>
                <a:ext cx="0" cy="146016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29"/>
              <p:cNvSpPr/>
              <p:nvPr/>
            </p:nvSpPr>
            <p:spPr>
              <a:xfrm>
                <a:off x="4425840" y="3756240"/>
                <a:ext cx="0" cy="128376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Line 30"/>
              <p:cNvSpPr/>
              <p:nvPr/>
            </p:nvSpPr>
            <p:spPr>
              <a:xfrm>
                <a:off x="4518000" y="3930840"/>
                <a:ext cx="0" cy="11095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Line 31"/>
              <p:cNvSpPr/>
              <p:nvPr/>
            </p:nvSpPr>
            <p:spPr>
              <a:xfrm>
                <a:off x="4609800" y="4105080"/>
                <a:ext cx="0" cy="9349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Line 32"/>
              <p:cNvSpPr/>
              <p:nvPr/>
            </p:nvSpPr>
            <p:spPr>
              <a:xfrm>
                <a:off x="4700520" y="4279680"/>
                <a:ext cx="0" cy="7603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Line 33"/>
              <p:cNvSpPr/>
              <p:nvPr/>
            </p:nvSpPr>
            <p:spPr>
              <a:xfrm>
                <a:off x="4792320" y="4542120"/>
                <a:ext cx="0" cy="4978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Line 34"/>
              <p:cNvSpPr/>
              <p:nvPr/>
            </p:nvSpPr>
            <p:spPr>
              <a:xfrm>
                <a:off x="4883040" y="4630320"/>
                <a:ext cx="0" cy="4096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Line 35"/>
              <p:cNvSpPr/>
              <p:nvPr/>
            </p:nvSpPr>
            <p:spPr>
              <a:xfrm>
                <a:off x="4975200" y="4804920"/>
                <a:ext cx="0" cy="2350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Line 36"/>
              <p:cNvSpPr/>
              <p:nvPr/>
            </p:nvSpPr>
            <p:spPr>
              <a:xfrm>
                <a:off x="5067000" y="4716720"/>
                <a:ext cx="0" cy="3232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37"/>
              <p:cNvSpPr/>
              <p:nvPr/>
            </p:nvSpPr>
            <p:spPr>
              <a:xfrm>
                <a:off x="5157720" y="4804920"/>
                <a:ext cx="0" cy="2350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38"/>
              <p:cNvSpPr/>
              <p:nvPr/>
            </p:nvSpPr>
            <p:spPr>
              <a:xfrm>
                <a:off x="5249520" y="4893120"/>
                <a:ext cx="0" cy="14724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39"/>
              <p:cNvSpPr/>
              <p:nvPr/>
            </p:nvSpPr>
            <p:spPr>
              <a:xfrm>
                <a:off x="2049120" y="4979520"/>
                <a:ext cx="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40"/>
              <p:cNvSpPr/>
              <p:nvPr/>
            </p:nvSpPr>
            <p:spPr>
              <a:xfrm>
                <a:off x="4792320" y="4893120"/>
                <a:ext cx="0" cy="17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41"/>
              <p:cNvSpPr/>
              <p:nvPr/>
            </p:nvSpPr>
            <p:spPr>
              <a:xfrm>
                <a:off x="3877920" y="4893120"/>
                <a:ext cx="0" cy="17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42"/>
              <p:cNvSpPr/>
              <p:nvPr/>
            </p:nvSpPr>
            <p:spPr>
              <a:xfrm>
                <a:off x="2963520" y="4893120"/>
                <a:ext cx="0" cy="17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43"/>
              <p:cNvSpPr/>
              <p:nvPr/>
            </p:nvSpPr>
            <p:spPr>
              <a:xfrm>
                <a:off x="2049120" y="4893120"/>
                <a:ext cx="0" cy="17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44"/>
              <p:cNvSpPr/>
              <p:nvPr/>
            </p:nvSpPr>
            <p:spPr>
              <a:xfrm>
                <a:off x="2781000" y="4630320"/>
                <a:ext cx="0" cy="4096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45"/>
              <p:cNvSpPr/>
              <p:nvPr/>
            </p:nvSpPr>
            <p:spPr>
              <a:xfrm>
                <a:off x="2871720" y="4456080"/>
                <a:ext cx="0" cy="5842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46"/>
              <p:cNvSpPr/>
              <p:nvPr/>
            </p:nvSpPr>
            <p:spPr>
              <a:xfrm>
                <a:off x="1957320" y="5067360"/>
                <a:ext cx="3657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47"/>
              <p:cNvSpPr/>
              <p:nvPr/>
            </p:nvSpPr>
            <p:spPr>
              <a:xfrm flipV="1">
                <a:off x="1957320" y="2975760"/>
                <a:ext cx="0" cy="209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48"/>
              <p:cNvSpPr/>
              <p:nvPr/>
            </p:nvSpPr>
            <p:spPr>
              <a:xfrm>
                <a:off x="5340240" y="4979520"/>
                <a:ext cx="0" cy="6084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49"/>
              <p:cNvSpPr/>
              <p:nvPr/>
            </p:nvSpPr>
            <p:spPr>
              <a:xfrm>
                <a:off x="5432400" y="4979520"/>
                <a:ext cx="0" cy="6084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50"/>
              <p:cNvSpPr/>
              <p:nvPr/>
            </p:nvSpPr>
            <p:spPr>
              <a:xfrm>
                <a:off x="5524200" y="4979520"/>
                <a:ext cx="0" cy="6084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Text Box 51"/>
              <p:cNvSpPr/>
              <p:nvPr/>
            </p:nvSpPr>
            <p:spPr>
              <a:xfrm>
                <a:off x="3695400" y="5155560"/>
                <a:ext cx="365400" cy="26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2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Text Box 52"/>
              <p:cNvSpPr/>
              <p:nvPr/>
            </p:nvSpPr>
            <p:spPr>
              <a:xfrm>
                <a:off x="4609800" y="5155560"/>
                <a:ext cx="365400" cy="26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2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Text Box 53"/>
              <p:cNvSpPr/>
              <p:nvPr/>
            </p:nvSpPr>
            <p:spPr>
              <a:xfrm>
                <a:off x="1866600" y="5161320"/>
                <a:ext cx="36540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Text Box 54"/>
              <p:cNvSpPr/>
              <p:nvPr/>
            </p:nvSpPr>
            <p:spPr>
              <a:xfrm>
                <a:off x="2781000" y="5155560"/>
                <a:ext cx="365400" cy="26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340240" y="5155560"/>
                <a:ext cx="139212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400" spc="-1" strike="noStrike">
                    <a:solidFill>
                      <a:srgbClr val="000000"/>
                    </a:solidFill>
                    <a:latin typeface="Arial"/>
                  </a:rPr>
                  <a:t>Fibre diameter (</a:t>
                </a:r>
                <a:r>
                  <a:rPr b="0" lang="en-NZ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NZ" sz="1400" spc="-1" strike="noStrike">
                    <a:solidFill>
                      <a:srgbClr val="000000"/>
                    </a:solidFill>
                    <a:latin typeface="Arial"/>
                  </a:rPr>
                  <a:t>m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56"/>
              <p:cNvSpPr/>
              <p:nvPr/>
            </p:nvSpPr>
            <p:spPr>
              <a:xfrm>
                <a:off x="1957320" y="4456080"/>
                <a:ext cx="183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57"/>
              <p:cNvSpPr/>
              <p:nvPr/>
            </p:nvSpPr>
            <p:spPr>
              <a:xfrm>
                <a:off x="1957320" y="3842640"/>
                <a:ext cx="183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Line 58"/>
              <p:cNvSpPr/>
              <p:nvPr/>
            </p:nvSpPr>
            <p:spPr>
              <a:xfrm>
                <a:off x="1957320" y="3231000"/>
                <a:ext cx="183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Text Box 59"/>
              <p:cNvSpPr/>
              <p:nvPr/>
            </p:nvSpPr>
            <p:spPr>
              <a:xfrm>
                <a:off x="1500120" y="3063960"/>
                <a:ext cx="3664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2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Text Box 60"/>
              <p:cNvSpPr/>
              <p:nvPr/>
            </p:nvSpPr>
            <p:spPr>
              <a:xfrm>
                <a:off x="1500120" y="3668040"/>
                <a:ext cx="3664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Text Box 61"/>
              <p:cNvSpPr/>
              <p:nvPr/>
            </p:nvSpPr>
            <p:spPr>
              <a:xfrm>
                <a:off x="1500120" y="4279680"/>
                <a:ext cx="3664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Text Box 62"/>
              <p:cNvSpPr/>
              <p:nvPr/>
            </p:nvSpPr>
            <p:spPr>
              <a:xfrm>
                <a:off x="900000" y="2562120"/>
                <a:ext cx="9604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400" spc="-1" strike="noStrike">
                    <a:solidFill>
                      <a:srgbClr val="000000"/>
                    </a:solidFill>
                    <a:latin typeface="Arial"/>
                  </a:rPr>
                  <a:t>Number of fibr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Line 63"/>
            <p:cNvSpPr/>
            <p:nvPr/>
          </p:nvSpPr>
          <p:spPr>
            <a:xfrm>
              <a:off x="3851280" y="2346480"/>
              <a:ext cx="0" cy="64764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64"/>
            <p:cNvSpPr/>
            <p:nvPr/>
          </p:nvSpPr>
          <p:spPr>
            <a:xfrm>
              <a:off x="2555640" y="1481040"/>
              <a:ext cx="2808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3366"/>
                  </a:solidFill>
                  <a:latin typeface="Arial Narrow"/>
                </a:rPr>
                <a:t>Mean fibre diameter             = 25 micr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65"/>
            <p:cNvSpPr/>
            <p:nvPr/>
          </p:nvSpPr>
          <p:spPr>
            <a:xfrm>
              <a:off x="2916000" y="4362480"/>
              <a:ext cx="194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66"/>
            <p:cNvSpPr/>
            <p:nvPr/>
          </p:nvSpPr>
          <p:spPr>
            <a:xfrm>
              <a:off x="4716360" y="3137040"/>
              <a:ext cx="360036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Arial Narrow"/>
                </a:rPr>
                <a:t>Standard deviation of 10 microns gives CV</a:t>
              </a:r>
              <a:r>
                <a:rPr b="1" lang="en-NZ" sz="2000" spc="-1" strike="noStrike" baseline="-25000">
                  <a:solidFill>
                    <a:srgbClr val="000000"/>
                  </a:solidFill>
                  <a:latin typeface="Arial Narrow"/>
                </a:rPr>
                <a:t>D</a:t>
              </a:r>
              <a:r>
                <a:rPr b="1" lang="en-NZ" sz="2000" spc="-1" strike="noStrike">
                  <a:solidFill>
                    <a:srgbClr val="000000"/>
                  </a:solidFill>
                  <a:latin typeface="Arial Narrow"/>
                </a:rPr>
                <a:t> of 40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67"/>
            <p:cNvSpPr/>
            <p:nvPr/>
          </p:nvSpPr>
          <p:spPr>
            <a:xfrm flipV="1">
              <a:off x="3851280" y="3497040"/>
              <a:ext cx="86508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001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Typical fibre diameter distrib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7371-B12F-475F-A00C-563957040F6E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6858000" cy="4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Fibre diameter and fibre bend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280" y="9810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onsider fibre as a flexible rod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orce required to bend varies as square of di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g, a 20 micron fibre is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4 times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more flexible than a 40 micron fibre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Reason for diameter effect on fabric handle and drape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abric prickle explained by Eule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8474-6832-46BE-9E56-FCC61FDFAF3B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61786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Physics of prick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Eulers buckling theory"/>
          <p:cNvPicPr/>
          <p:nvPr/>
        </p:nvPicPr>
        <p:blipFill>
          <a:blip r:embed="rId1"/>
          <a:stretch/>
        </p:blipFill>
        <p:spPr>
          <a:xfrm>
            <a:off x="1332000" y="836640"/>
            <a:ext cx="5400720" cy="451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0CA5-B2D9-4FDF-B8B5-B741DC993B04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0010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Fibre length and streng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36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Determines most suitable processing system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s important as fibre diameter for coarser wools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Because of fibre breakage in carding (mostly) fibre length can change significantly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Longer/stronger wools easier to spin and better yarns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taple length and strength measurements used to assess these fibre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4:52:09Z</dcterms:created>
  <dc:creator>ES</dc:creator>
  <dc:description/>
  <dc:language>en-US</dc:language>
  <cp:lastModifiedBy>Peter Sommerville</cp:lastModifiedBy>
  <dcterms:modified xsi:type="dcterms:W3CDTF">2014-07-12T05:24:10Z</dcterms:modified>
  <cp:revision>70</cp:revision>
  <dc:subject/>
  <dc:title>PowerPoint Presentation</dc:title>
</cp:coreProperties>
</file>