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33AC-A413-4336-9913-85A84C2E7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89301-E545-4B84-89CB-AD4C2EF9DA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11280" y="3428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34400-746B-4D0C-A4D6-E8913F23AB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3960" y="1557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1280" y="3428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3960" y="3428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40579-79EC-459D-9CF0-CB9D4479A7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557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6920" y="1557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11280" y="3428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428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6920" y="3428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7C952-3C4D-4280-9855-4D3EBFA6ED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CCA3C-AA0D-4BA6-83C6-50805AB401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280" y="155736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F6F69-4C1C-4574-971A-FEF8AC5D91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3141E-0386-49CF-BBEC-1D8267DF90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3960" y="155736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56843-868B-4EB5-98ED-A85F61BFEC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B5589-B0E8-4A1C-BBBF-1C92569545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6BC30-9E0E-4FF4-9E68-8AA112FCBA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3960" y="155736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11280" y="3428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4BB3D-58EB-46CB-95D7-A8337FC313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11280" y="155736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0A235-9E45-488D-99F2-6BCF170B71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3960" y="1557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3960" y="3428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F4313-7835-41A2-84C4-84C90F391A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3960" y="1557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11280" y="3428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0B8AA-57E6-4D96-B9BA-A3138E10F1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11280" y="3428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B48B5-60A3-4FE1-A95C-419E0300C7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3960" y="1557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1280" y="3428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3960" y="3428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11630-80B1-4488-AD59-4F2F861F0F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280" y="1557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66920" y="1557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11280" y="3428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280" y="3428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66920" y="3428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FD934-B20C-4FF0-A3DA-38F7B76C76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9E90C-3C55-4737-8019-B0BAB09827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3960" y="155736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74232-70A5-46DA-8648-25D999B970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E0385-DB83-4158-B617-9C70CABB42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2EE9B-4B86-4102-A081-2B8A648015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3960" y="155736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11280" y="3428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4AC10-3D88-42EE-9CAD-937D313D4F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3960" y="1557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3960" y="3428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EA9F4-BD6B-415E-BC02-9E679B64AD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557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11280" y="3428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1E846-A765-4F66-B117-858B966DD5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55736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5B7B-DBF6-4E61-97D4-76C161388797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49644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7CCE-DC45-41BE-88B0-3F1C839F2769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0000" y="633600"/>
            <a:ext cx="770256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ternative Shearing Practices</a:t>
            </a:r>
            <a:br>
              <a:rPr sz="48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43280" y="450864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4 – Lectur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B03AE-CD11-4A66-B43F-11A93AC4933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8680" y="-27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botic Shea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26920" y="1125360"/>
            <a:ext cx="7345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referred to as Automated Mechanical Shearing (A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WA was successful in developing the Shear Magic robot and SLAMP (simplified loading and manipulation platform) to shear the entire she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stopped when industry entered a period of financial hardship in the early 1990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has never recommen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ED0D5-2CA7-493A-BB33-7F9316FEEDC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03240" y="126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of Summary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B199E-B2F4-4E01-97E9-EFA8A1FC98DB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68580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ditional Shear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01280" y="1611000"/>
            <a:ext cx="6854760" cy="35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little development since 1887 when mechanically driven shears were intro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shortage of skilled shearing lab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34827-0919-4C23-B67E-A30B91435E7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ments in Wool Harves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cl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started in the 1970’s by CS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natural protein to induce a break in the w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arEx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tralian Wool Innovation initi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Production Lin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otic She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during the 1970’s and 1980’s by U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no longer continu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E4107-D0E9-4AF5-8F4C-87085F5CC86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4680" y="11556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ocl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ep are vaccinated with natural pro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bre temporarily stops being produced after approximately 28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fibre reaches the skin after approximately 14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ol is harvested after 28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5985E-60A3-42AA-AEBB-F1170C242E6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ocl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981000"/>
            <a:ext cx="800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148360" y="292428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066680" y="357336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ted La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2421000"/>
            <a:ext cx="33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vested la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11280" y="1052640"/>
            <a:ext cx="3581280" cy="2435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39640" y="69228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ource: BCS Agribusiness &amp; The McKinnon Project (200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7E72C-32E5-4834-B94C-100ABB885FA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8680" y="115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nefits of Biolc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anim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wool quality and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processing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animal husband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3D011-D786-4300-A1B1-13B96FCDEC9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9960" y="115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earExpr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125360"/>
            <a:ext cx="6696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sed within a mobile, expandable B double tra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specialised stations with defined blow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ep travel along a conveyor system, held by leg cuffs and positioned by manipulator arms for each b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removed, fleece is prepared, classed and tested if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is 120 sheep per h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747F6-57BA-484F-8107-4706E965739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earExpr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7120" y="331956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side of ShearEx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249228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ide of ShearEx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4537080" cy="26514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500720" y="2997360"/>
            <a:ext cx="4427280" cy="2644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39640" y="69228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ource: AWI (200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A7D9C-2821-4ED5-B660-2C327BFF623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8680" y="11592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nefits of ShearExpr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igher productivity in wool harv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igher consistency of clip quality and preparation with less damage to flee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mproved Occupational Health and Safety and air-conditioned working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mployment opportunities for rural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duced requirements for capital intensive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B3F88-753D-4E8C-932B-98416B4B265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7T03:33:41Z</dcterms:created>
  <dc:creator>AWEX</dc:creator>
  <dc:description/>
  <dc:language>en-US</dc:language>
  <cp:lastModifiedBy>Sally Mahony</cp:lastModifiedBy>
  <dcterms:modified xsi:type="dcterms:W3CDTF">2005-06-03T02:19:03Z</dcterms:modified>
  <cp:revision>20</cp:revision>
  <dc:subject/>
  <dc:title>PowerPoint Presentation</dc:title>
</cp:coreProperties>
</file>