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0FBF-283C-497F-B39F-38770A2EC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A947-3212-4423-B4CF-6AE3F3F49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5C4C-97E1-4338-90DA-BA248D9A2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113C-B356-4AF1-B72B-FBD8E2CEB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6131-3381-41E1-AB3E-1CA4DCE58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987C-1A05-4B1A-B5C6-E7153ECEEA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A3D8-2D13-43D1-80C7-17009099E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0DF2-84FE-4860-B625-D1EBF9840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2695-5943-439A-B8B0-7B27ABB97C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0D4B-AE7D-4199-9C5B-34C5D6639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FBD1-86CE-4DD7-8585-A3AC27CB21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A073-0BE8-4E37-9B0F-723450A21A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7D00-9E85-49B0-95ED-F11E55337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7A9A-6F56-464D-B4B1-2174F89815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F109-BE39-4388-8763-0E5EA96ECF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A4F2-E8C0-4E50-AD65-B252E48D06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E9FA-4936-4E92-A121-547C4D13D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E153-0587-4B49-9D37-7898721D6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E4DF-36D4-42D1-9B78-6D6F11924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F136-72EA-44BA-B172-CD0B9780F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762B-9E7F-42C4-965C-293A2374A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7DCE-F11D-46AA-AEB5-056D83735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507A-97B1-466E-B2E5-6AECF6713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3E19-88D0-4D44-9839-582FA286E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8E86-8999-471D-8E1E-A5E090AA5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70D-86E5-4014-BE78-E8D62DC2BB8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732E-459B-4989-AF19-C4AA8229D33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475560"/>
            <a:ext cx="755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Frequency of Shearing, Preparation for She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443700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4 – 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2BCC-378E-408F-AF5D-D3F46F0759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Shear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064280" cy="35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ly once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ine wools are becoming too long for end 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can be increased to 3 times in 2 years to combat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ffect other wool characteristics (eg micron, staple strength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ls currently being undertaken to assess this iss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D453-F6AD-47EB-B6D8-A61CB678D7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of S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052640"/>
            <a:ext cx="6772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anagement events (eg lamb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ple Strength and Position of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ble Matter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ep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b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C405-00B3-4805-9FDB-0AF11981158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mb S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6981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place in Australia to shear lambs with less the 12 months growth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in line with grown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se the effects of grass s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lead to significant economic disadvantage when compared to carrying out first shearing as hog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C1A5-AB55-4B6A-B491-F7DD721C34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for S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6920" y="1052640"/>
            <a:ext cx="6350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into m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sheep with Dark Fibr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 for s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shearing crutching should be considered to remove stain and dag. Crutching is also essential for the good health of animals and supplies shorter wool to the woollen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B7F0-68B7-47BD-B809-F8E97CD413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for S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6772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Shearing 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tential contaminates are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lighting and equipment i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pack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bins, butts and baskets are clearly identified with the line of wool they are to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al Health and Safety requirements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AE99-5558-4698-99A9-FA92D764EB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EA75-37A3-4974-8E53-EDE42697751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33:41Z</dcterms:created>
  <dc:creator>AWEX</dc:creator>
  <dc:description/>
  <dc:language>en-US</dc:language>
  <cp:lastModifiedBy>Sally Mahony</cp:lastModifiedBy>
  <dcterms:modified xsi:type="dcterms:W3CDTF">2005-06-03T02:19:05Z</dcterms:modified>
  <cp:revision>14</cp:revision>
  <dc:subject/>
  <dc:title>PowerPoint Presentation</dc:title>
</cp:coreProperties>
</file>