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5D35-EF97-44A5-8817-25D01D512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6882-8D67-4DBB-9E86-597E2B0DE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3C898-81B4-4307-B23D-971DB10B7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35DF-F8CE-4B0C-BC37-56E6487E0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DFAC-651D-4180-937D-79D50735A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E9606-58DA-4930-A6DA-24102CBBEF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D24C-8128-49FE-803E-276CA041D7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EC96-29A1-4EE2-9B39-A64E17A04B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F3EE-494D-415D-A9FB-DF19E10D81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DE7B6-4D87-4356-A9A5-6BE7D80D8E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58D79-84C4-4461-AB58-2A07A11C80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9FAEE-E1F0-4B9E-B4FB-C3CC5534AF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3163-0046-4488-8334-29E52394C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01A84-FB3E-43FA-93E0-C30C6619D5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83181-E42B-4B69-9E1E-DE46B37907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99B3B-F5BA-49E2-B809-B6D8EE53A5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F5894-043C-470A-997D-F41C31BDD6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DD7DC-262C-48BB-B443-24604587A7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9E7A-8D02-4443-8879-32CB24BF4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ABA3-EF7C-4A92-8E4F-773457FEA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BFE3-6F92-4BCC-BA27-3918D00CD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8CC2-FCF5-47B5-864A-B7F8CC977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6D959-31C5-4411-A63D-20889A654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4AB6-5E7F-43C4-89A1-18AA1E2FA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ED42-8B1C-4867-9E8D-DB9A31671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106B-087F-4810-8AB7-D25ED3E7C11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92AC-2A92-4F9A-8861-94B48CBF902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691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lassing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87640" y="4437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0152B-3E81-4584-A51A-127E4A2B7F4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WEX Code of Practice -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426320"/>
            <a:ext cx="797256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code describes the 3 key principles in preparation of wool for sale: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need for even lines of wool suitable for 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need to eliminate contamination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appropriate identification and documentation of the wo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n-farm and at the point of s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78125-A05A-4AAE-AA5F-25D4B4CD73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920" y="112500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D106-1F67-4999-BCCC-B052C6054977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640" y="-75600"/>
            <a:ext cx="67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1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 to Micron Conve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4360" y="404640"/>
          <a:ext cx="7704000" cy="5186520"/>
        </p:xfrm>
        <a:graphic>
          <a:graphicData uri="http://schemas.openxmlformats.org/drawingml/2006/table">
            <a:tbl>
              <a:tblPr/>
              <a:tblGrid>
                <a:gridCol w="1555560"/>
                <a:gridCol w="1627200"/>
                <a:gridCol w="4521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meter (u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/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/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             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Comeback (Polwart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/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             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       “                 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             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       “                 “           / Corried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/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eback – Corried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                     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/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                     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                      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ssbre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/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6734160" y="5358600"/>
            <a:ext cx="203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e 1um = 1,000,000 of a me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3DF78-E307-4B38-B11D-67EA539C3C3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1879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00000" y="1192320"/>
          <a:ext cx="7559640" cy="3531960"/>
        </p:xfrm>
        <a:graphic>
          <a:graphicData uri="http://schemas.openxmlformats.org/drawingml/2006/table">
            <a:tbl>
              <a:tblPr/>
              <a:tblGrid>
                <a:gridCol w="3489480"/>
                <a:gridCol w="2022480"/>
                <a:gridCol w="2047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e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rted Flee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-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-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ll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FA5D2-0AB9-4B72-A662-77E47157753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3040" y="79200"/>
            <a:ext cx="70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4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s of Variation for Dia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ple Length in Objectively Classed Clip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1280" y="1716120"/>
          <a:ext cx="7864560" cy="3008160"/>
        </p:xfrm>
        <a:graphic>
          <a:graphicData uri="http://schemas.openxmlformats.org/drawingml/2006/table">
            <a:tbl>
              <a:tblPr/>
              <a:tblGrid>
                <a:gridCol w="2620800"/>
                <a:gridCol w="2622600"/>
                <a:gridCol w="2621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meter # % Var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le Length * % Var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ween &amp; Along Fib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ween Sta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ween Flee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ween L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5076000" y="5292000"/>
            <a:ext cx="391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ureces: # Andrews et.al. (1979) * Rottenbury &amp; Andrews  (197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A3C3-C525-4E4F-909C-C7A8FD47FA6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01040" y="158040"/>
            <a:ext cx="84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5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vity of Processing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765000"/>
          <a:ext cx="8569440" cy="4465800"/>
        </p:xfrm>
        <a:graphic>
          <a:graphicData uri="http://schemas.openxmlformats.org/drawingml/2006/table">
            <a:tbl>
              <a:tblPr/>
              <a:tblGrid>
                <a:gridCol w="1712880"/>
                <a:gridCol w="1714680"/>
                <a:gridCol w="1712880"/>
                <a:gridCol w="1712880"/>
                <a:gridCol w="171612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Losses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uteur (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cul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cul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bi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7448400" y="53618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Rottenbury 19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F084-5939-40A3-81C0-9E3A212FC07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12672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6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ces in Processing Attributes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 Traditional Main Line &amp; Mob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9640" y="1657440"/>
          <a:ext cx="8209080" cy="2373120"/>
        </p:xfrm>
        <a:graphic>
          <a:graphicData uri="http://schemas.openxmlformats.org/drawingml/2006/table">
            <a:tbl>
              <a:tblPr/>
              <a:tblGrid>
                <a:gridCol w="1728720"/>
                <a:gridCol w="1554480"/>
                <a:gridCol w="1641240"/>
                <a:gridCol w="1703520"/>
                <a:gridCol w="158112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tribu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p Diame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p 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meter (u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Vd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uteur (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V Ha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A 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b Un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5293440" y="5299920"/>
            <a:ext cx="382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e: these differences are not practically or statistically differ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C274-557D-42D0-9525-BF2BB5F380D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62880" y="726120"/>
            <a:ext cx="571284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lass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raditional – On-Far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Lot Building &amp; Bulk Cla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bjective Bulk Classi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duced Skirting Systems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Fleece Sepa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bjective Classing Systems – On-Farm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E51E-EA4A-468D-8656-7E79F0312F5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eter and Curvilinear Price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B52B-76A7-4E1A-A0D8-D2656564CA9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1468800"/>
            <a:ext cx="567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NZ Pac Con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.Africa &amp; 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.Ameri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UK/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Central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11592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Overseas Develop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2C3C-DB69-42E6-9A65-88D02EE19F8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02:54:28Z</dcterms:created>
  <dc:creator>Bob Couchman</dc:creator>
  <dc:description/>
  <dc:language>en-US</dc:language>
  <cp:lastModifiedBy>Sally Mahony</cp:lastModifiedBy>
  <dcterms:modified xsi:type="dcterms:W3CDTF">2005-06-06T01:16:26Z</dcterms:modified>
  <cp:revision>11</cp:revision>
  <dc:subject/>
  <dc:title>Slide 1</dc:title>
</cp:coreProperties>
</file>