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FD85-62AD-4B6F-93CE-1FBDDFD67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7FA8-F98B-482E-8F06-4FCF082D0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3592-D1EE-442E-9049-71C3C330D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95C5-29E7-497A-AC9C-8044CA2D9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1E42-DAFD-4B0C-8C6D-75EAFBD5AE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BAEB-87F4-40D6-B80C-1A4534EB5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7C7C-0CBB-4A2A-829F-E7A4750D70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7DDD-5A53-40B9-89A7-5096E0580D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921F-2BA5-4B8B-A4F5-18E6F4C922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1815-7FC5-44CD-9C6E-9AF46AC5C5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09CE-9798-4371-89C4-EB0AC7FBC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E683-4AD9-46B4-96DA-4D826AE9B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E693-096E-4FE7-842A-F4D77B10E0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9B0A-DA94-4AEE-9EDC-71D1A5976C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7B9C-8D87-4D07-A1A0-F7CE06E6AA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5D80-6A10-4643-B0CC-D556D47A65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3AE8-0F60-4C5A-AB5B-5ACFD9081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6CFD-D157-452C-B443-61D7AF447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C8A6-2F03-4A6E-99A4-52A00B711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C46D-4413-477C-980D-32AC176E1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DD69-7309-4B9B-BFBA-CAA41FA15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451A-51DD-4917-9038-8C3B550BE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BA55-315B-40AD-AB18-F95A80CC7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F422-901C-4EAA-BA9E-F750F3257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0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1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2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C388-A363-4AC9-B71E-88B2D3D3740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1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0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2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501B-6719-4D57-BAC6-D08C3C3CBC8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156A-CA0B-4900-988F-3A24EC45ECD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5400" y="12078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e Markets for Australian Woo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76320" y="4060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1BE7-A64D-4173-B1C6-5A33AAF6887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ustralian Wool Expor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rong lift in export demand for Australian fine and superfine merino wool in the past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rresponding fall in export demand for medium-fine and other wools from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F24-E5E7-4ADD-9F67-1A271AD87D1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6868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nds in Wool Exports by Micron Category, Australia</a:t>
            </a:r>
            <a:br>
              <a:rPr sz="3200"/>
            </a:br>
            <a:br>
              <a:rPr sz="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BS (2005). Data for calendar years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306360" y="1295280"/>
          <a:ext cx="4348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95280"/>
                    <a:ext cx="4348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Group 4"/>
          <p:cNvGrpSpPr/>
          <p:nvPr/>
        </p:nvGrpSpPr>
        <p:grpSpPr>
          <a:xfrm>
            <a:off x="1471680" y="5181480"/>
            <a:ext cx="6605280" cy="381240"/>
            <a:chOff x="1471680" y="5181480"/>
            <a:chExt cx="6605280" cy="381240"/>
          </a:xfrm>
        </p:grpSpPr>
        <p:sp>
          <p:nvSpPr>
            <p:cNvPr id="95" name="Rectangle 5"/>
            <p:cNvSpPr/>
            <p:nvPr/>
          </p:nvSpPr>
          <p:spPr>
            <a:xfrm>
              <a:off x="1471680" y="5195880"/>
              <a:ext cx="6605280" cy="36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6"/>
            <p:cNvSpPr/>
            <p:nvPr/>
          </p:nvSpPr>
          <p:spPr>
            <a:xfrm>
              <a:off x="3321000" y="5389560"/>
              <a:ext cx="2174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4651200" y="5394240"/>
              <a:ext cx="33336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6065640" y="5381640"/>
              <a:ext cx="4176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9"/>
            <p:cNvGrpSpPr/>
            <p:nvPr/>
          </p:nvGrpSpPr>
          <p:grpSpPr>
            <a:xfrm>
              <a:off x="1663560" y="5321160"/>
              <a:ext cx="398520" cy="115920"/>
              <a:chOff x="1663560" y="5321160"/>
              <a:chExt cx="398520" cy="115920"/>
            </a:xfrm>
          </p:grpSpPr>
          <p:sp>
            <p:nvSpPr>
              <p:cNvPr id="100" name="Line 10"/>
              <p:cNvSpPr/>
              <p:nvPr/>
            </p:nvSpPr>
            <p:spPr>
              <a:xfrm>
                <a:off x="1663560" y="5370480"/>
                <a:ext cx="3985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830240" y="5321160"/>
                <a:ext cx="98640" cy="1159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Text Box 12"/>
            <p:cNvSpPr/>
            <p:nvPr/>
          </p:nvSpPr>
          <p:spPr>
            <a:xfrm>
              <a:off x="2032920" y="519444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um &amp; f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613680" y="520380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-23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4"/>
            <p:cNvSpPr/>
            <p:nvPr/>
          </p:nvSpPr>
          <p:spPr>
            <a:xfrm>
              <a:off x="5036040" y="51814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-27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6427800" y="5191200"/>
              <a:ext cx="163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7um &amp; bro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Object 16"/>
          <p:cNvGraphicFramePr/>
          <p:nvPr/>
        </p:nvGraphicFramePr>
        <p:xfrm>
          <a:off x="4718160" y="1295280"/>
          <a:ext cx="432756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8160" y="1295280"/>
                    <a:ext cx="43275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7"/>
          <p:cNvSpPr/>
          <p:nvPr/>
        </p:nvSpPr>
        <p:spPr>
          <a:xfrm>
            <a:off x="2087640" y="12193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6313320" y="12193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A58A-B79F-4175-B0B7-75B53B79A68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ustralian Wool Export Dest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na and India have increased share as processors of Australian wool, with China expanding as a processor of fine/superfine wool to first place ahead of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pan and North America have lost share as export destinations for Australian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8C12-4352-4417-8F29-9F8FC737840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446040" y="1406520"/>
          <a:ext cx="843300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406520"/>
                    <a:ext cx="8433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4240" y="68400"/>
            <a:ext cx="869940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Fine Wool Expor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China &amp; Italy - 19 Micron &amp; Finer</a:t>
            </a:r>
            <a:br>
              <a:rPr sz="32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ABS, Woolmark (2005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 Data are rolling 12 monthly totals. 2004 data are understated due to the confidentiality restrictions on top export destinations from September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518800" y="2180160"/>
            <a:ext cx="59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56ac"/>
                </a:solidFill>
                <a:latin typeface="Arial"/>
              </a:rPr>
              <a:t>It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575320" y="402660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FF99-BE65-43B3-A50E-576AB6C1B69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Relocation of Woo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in apparel wool availability in the pipeline mirrors declining raw wool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location of wool processing in the past 10 years sees China and Western Europe dominating the spinning of Australian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ased competition at retail is bringing further relocation of spinning and weaving from Western Europe, Japan and Korea to China, India and Ea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bour costs have been the major driver of this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B62-E093-4C7F-BA5A-BC42DCA0F3D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998640" y="1341360"/>
          <a:ext cx="6931080" cy="44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1341360"/>
                    <a:ext cx="693108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71240" y="85320"/>
            <a:ext cx="80499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abour Costs in the Textile Industry 2004 (US$/hour)</a:t>
            </a:r>
            <a:br>
              <a:rPr sz="32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Werner 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FBD1-BAB1-4CB2-BEE7-D7B0779BB84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Retail Demand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lobal wool demand has declined in the past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knitwear, the decline is due to competition from other fibres in price-sensitive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ool maintains a dominant share in m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 suiting, but its position in jackets and trousers is sta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 position has weakened in wom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 wear due to a greater emphasis on price, fashion, fabric handle, fluidity and col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B1C4-90F7-41B4-A58E-DA3EF65EEF6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Peter Sommerville</cp:lastModifiedBy>
  <dcterms:modified xsi:type="dcterms:W3CDTF">2014-07-12T05:22:32Z</dcterms:modified>
  <cp:revision>130</cp:revision>
  <dc:subject/>
  <dc:title>PowerPoint Presentation</dc:title>
</cp:coreProperties>
</file>