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E3C4-C33F-4217-B6C6-DE11D2C4D0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F04E-6537-4D28-97A5-9647678AF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0F31-9A87-4F79-B036-51F926956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2C84-F8D8-4BDB-B051-A1068BECE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2010-7370-4556-A0CA-B0D60F4C1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B89F-B176-4541-9425-CA913E29D5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F49C-05D8-40DD-AB25-FC7A78CF8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1851-1032-4C5C-8043-DD41C43376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97CA-D8D4-4F41-B99D-C5A531DF7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7A02-5FA6-4EFC-B8DF-A38ECC1E4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AD62-F322-4410-BE1C-9DE15241A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BA5E-635D-47D1-95A2-42A6C9C0E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C6FA-32D3-486C-AEC8-216F09A1D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0C63-83B6-4E57-8C3F-C5954C507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F48D-66DE-4912-B4C2-7ACBE6F378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5849-6B9F-4F22-B55F-939860DD6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DC1F-CF1F-4EE0-BC99-BA28698F7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A830-D8B3-493A-BF16-5FEB9884F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C413-3860-4676-BDA4-A4595A93D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CE3A-D701-464C-984A-91C0F32D2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D133-CE2C-411E-951B-3873FAFF0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F0A7-9DE6-4563-9567-3304A588E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4FAA-E38F-4A80-91C8-0A205FC27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AF06-462E-4D64-A875-FF19C38E5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0744-2F28-49BC-96A1-89E1DC535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A01-4B33-4240-A7B8-765BCF6B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343-DE41-461D-9217-955CF867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3240" y="24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ure and Management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84280" y="4437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 – 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15BA-DE4F-49E4-B64A-4760B687E0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463D-62E9-4F77-91B5-59768186DB0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64520" cy="39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C227-5DA2-40FD-9BC2-7D4FD739B5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wool price risk ar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hanges in the balanc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, which is a fun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fitability of producing alternative good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inpu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, which is a fun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s and wants of consum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 and spending power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of alterna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4C75-8149-4E15-BD61-2401006347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price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ducers and end-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exposed to large amounts of price risk (by waiting to be “given” a price once a year when their clip is offered at auction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rgely accept this risk as part of being i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ders and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attempt to structure business activities to avoid risk, others embrace it with a view to making a profit from its managemen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atter play a valuable role in the market by evening out short term supply and demand fluc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wool reserve price scheme was designed to reduce risk but failed due to lack of commeric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0B7B-6EEC-452E-96ED-16F1E8E889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Price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pri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market prices rising or f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risk (basis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changing price differentials between different quality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spread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changing price differentials between different maturity 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764B-BFEB-4A40-BCAB-0D0E3A8558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Pro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45480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D36F-6985-429D-B6CF-A3D207AC1B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Risk Management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physical purchase and sale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ra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Counter (OTC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contracts (exchange traded and O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590A-2891-4089-8D70-A6EF3A91F7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440" y="44280"/>
            <a:ext cx="3336840" cy="271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24600" y="44280"/>
            <a:ext cx="3408120" cy="277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068640"/>
            <a:ext cx="3097080" cy="252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58800" y="2997360"/>
            <a:ext cx="3192480" cy="260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F7AC-C84F-479C-A691-66379B1821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Management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duce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ple products that negat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physical contracts and some O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ders and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 types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contracts if risk to be n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tures contracts used to create products for other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0853-3919-4A1C-A047-B20B0C4A29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5-23T05:11:07Z</dcterms:modified>
  <cp:revision>16</cp:revision>
  <dc:subject/>
  <dc:title>Participants in the Wool Marketing Chain</dc:title>
</cp:coreProperties>
</file>