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CE17-5901-41BE-B13C-3626D1BD069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3040"/>
            <a:ext cx="4952880" cy="3714840"/>
          </a:xfrm>
          <a:prstGeom prst="rect">
            <a:avLst/>
          </a:prstGeom>
          <a:ln w="0">
            <a:noFill/>
          </a:ln>
        </p:spPr>
      </p:sp>
      <p:sp>
        <p:nvSpPr>
          <p:cNvPr id="13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is dominated by the family farm as the production un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8% of wool enterprises are family farms. Again, it I important to remember that the outlook of the family farm can impact on farming viability and profitabi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ackground to the consideration of wool growing as a business, we need to consider the issues that are impacting on wool farmers.  Farmers’ terms of trade are declining. Generating efficiency and productivity gains are key ways to respond to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post stockpile and during the stockpile in the 1990s has been extremely difficult because of its depressing effect on price and this has led to declining sheep numbers and wool production in Australia and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significant competitive pressure on wool as a textile fibre. It is inherently contaminated and variable and these are problems that synthetic competitors do not have.  The question is how can the wool industry survive and prosper going into the fu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4400" y="743040"/>
            <a:ext cx="4952880" cy="3714840"/>
          </a:xfrm>
          <a:prstGeom prst="rect">
            <a:avLst/>
          </a:prstGeom>
          <a:ln w="0">
            <a:noFill/>
          </a:ln>
        </p:spPr>
      </p:sp>
      <p:sp>
        <p:nvSpPr>
          <p:cNvPr id="12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ponse could be that wool growing needs to be a business. But what influences wool demand? Businesses need to understand demand for their produc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4400" y="743040"/>
            <a:ext cx="4952880" cy="3714840"/>
          </a:xfrm>
          <a:prstGeom prst="rect">
            <a:avLst/>
          </a:prstGeom>
          <a:ln w="0">
            <a:noFill/>
          </a:ln>
        </p:spPr>
      </p:sp>
      <p:sp>
        <p:nvSpPr>
          <p:cNvPr id="12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data we see that wool is a decreasing proportion of the world textile trade; from 10% 20-30 years ago, to 2.6% today, and declining.  Synthetic and man-made fibres are performing better and getting cheaper, which is putting significant competitive pressure on w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style and fashion changes have also led to lower demand for wool. These include increased central heating, environmental control in buildings, casualisation of fashion, decreased % of earnings being spent on clothing and more being spent on holidays, electronic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care garments are more in demand. New technologies allow these to be used in wool garments, but poor perceptions of wool remain in the minds of many consumers such as; hard to care for, itchy, prickl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needs to be through the individual focus of wool growing businesses. This is a key issue identified by the Wool Industry Directions Task Force 1999 (last major review into the Australian wool indus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4400" y="743040"/>
            <a:ext cx="4952880" cy="3714840"/>
          </a:xfrm>
          <a:prstGeom prst="rect">
            <a:avLst/>
          </a:prstGeom>
          <a:ln w="0">
            <a:noFill/>
          </a:ln>
        </p:spPr>
      </p:sp>
      <p:sp>
        <p:nvSpPr>
          <p:cNvPr id="12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dividual farms are going to respond to the challenges which have been set for them, we need to understand what creates high performing farms and high performing farmers from a financial perspective.  This group appears to have certain characteristics. One of these is that there is a clear separation of those that have a business outlook and those that have a lifestyle/occupation outlook to farming practice (further information in 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look in to this further we see that wool growing is a social practice. Therefore, we need to see wool growing from the social, as well as the financial and technical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growers are embedded in a social network and link into a number of individuals and groups.  This social aspect therefore needs to be understood to enable change and ensure effective service and technology provision. But we also need to be aware that every grower is different with respect to their networks, farm management practic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 holistic approach provide opportunity for the industry to increase rates of innovation and rates of productivit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1E386-249E-4238-A13F-10F8DF36D4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02561-D5A6-44D6-99B6-C1E4606C0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CC454-2E04-4836-A4E4-0CC012540F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84ECF-18A8-4C9E-A3F5-8168F16ED5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905CB9-70BE-4CCD-8227-348A6D55A6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DFBA42AF-7E1C-428D-81EF-5C48F35B2E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7FBF1-88A9-4C47-9ED6-CE6CBD3175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EE4A30-568C-41C3-A38C-284E0EEC31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7A6FD796-0DD7-4F20-AE0A-BCF180A9FE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D7B1E7E-DDE3-4BEB-A633-DD52BC8BD1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816AB6-97E4-41B1-9541-38C6E85596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29740AF1-9198-4DAE-9F0B-9C116EC3D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D4750B-DCB3-494D-B231-9FAECA09F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D1E699-D2A2-4606-A15F-A1426FD077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8DC08CC-46AC-4EC7-B7A0-80029495E2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E10824B-F20C-439D-8033-C430CFACDF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277508C-282E-4C5F-91BA-26AD9AF3A4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F6726-7382-4FD4-87E3-3B95C9396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0F9F5-9FF2-4001-BBBB-B9406FF45B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1D64D826-F657-44D3-A341-E182B29453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0CC837B7-A045-4B3F-8D41-C67425411B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BBA0F-8833-4E22-AE65-32563F17D9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E41E0-B249-4696-BF0F-C9E823C03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92CB0-12FC-4C15-9A40-41009CC8D7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FD31-C766-477B-A947-45146CC65CE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BE2C-E7C8-472F-A677-C73F413FB50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8805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Growing as a Business</a:t>
            </a:r>
            <a:endParaRPr b="0" lang="en-US" sz="3600" spc="-1" strike="noStrike">
              <a:solidFill>
                <a:srgbClr val="000000"/>
              </a:solidFill>
              <a:latin typeface="Arial"/>
            </a:endParaRPr>
          </a:p>
        </p:txBody>
      </p:sp>
      <p:sp>
        <p:nvSpPr>
          <p:cNvPr id="92" name="PlaceHolder 2"/>
          <p:cNvSpPr>
            <a:spLocks noGrp="1"/>
          </p:cNvSpPr>
          <p:nvPr>
            <p:ph type="subTitle"/>
          </p:nvPr>
        </p:nvSpPr>
        <p:spPr>
          <a:xfrm>
            <a:off x="126684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2-Lecture 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60E888-06B5-40F4-B1F1-0589E9088D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8640"/>
            <a:ext cx="77724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amily farm</a:t>
            </a:r>
            <a:endParaRPr b="0" lang="en-US" sz="2800" spc="-1" strike="noStrike">
              <a:solidFill>
                <a:srgbClr val="000000"/>
              </a:solidFill>
              <a:latin typeface="Arial"/>
            </a:endParaRPr>
          </a:p>
        </p:txBody>
      </p:sp>
      <p:sp>
        <p:nvSpPr>
          <p:cNvPr id="113" name="PlaceHolder 2"/>
          <p:cNvSpPr>
            <a:spLocks noGrp="1"/>
          </p:cNvSpPr>
          <p:nvPr>
            <p:ph/>
          </p:nvPr>
        </p:nvSpPr>
        <p:spPr>
          <a:xfrm>
            <a:off x="971280" y="1267920"/>
            <a:ext cx="604836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wool production is dominated by the family far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business uni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ook of the family farm ‘unit’ can impact on farming viability/profitabil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D5020-2DDA-4193-97C5-32C22438AF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42920" y="76464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E8EC6B-2259-4534-ACC2-4B7EA43C19BA}"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826920" y="980640"/>
            <a:ext cx="7772400" cy="3581640"/>
          </a:xfrm>
          <a:prstGeom prst="rect">
            <a:avLst/>
          </a:prstGeom>
          <a:noFill/>
          <a:ln w="0">
            <a:noFill/>
          </a:ln>
        </p:spPr>
        <p:txBody>
          <a:bodyPr lIns="90000" rIns="90000" tIns="46800" bIns="46800" anchor="t">
            <a:normAutofit fontScale="85000"/>
          </a:bodyPr>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farmers’ ‘terms of trade’ are declin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period post-stockpil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ing sheep numbers and wool production</a:t>
            </a:r>
            <a:endParaRPr b="0" lang="en-US" sz="2000" spc="-1" strike="noStrike">
              <a:solidFill>
                <a:srgbClr val="000000"/>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ce of wool growing businesses as part of mixed farming enterprises</a:t>
            </a: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competitive pressures on wool as a textile fib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ool growing survive and prosp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0D0A1-2662-4F44-BBF9-AC5A9E2AF63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89000"/>
            <a:ext cx="7561440" cy="2232000"/>
          </a:xfrm>
          <a:prstGeom prst="rect">
            <a:avLst/>
          </a:prstGeom>
          <a:noFill/>
          <a:ln w="0">
            <a:noFill/>
          </a:ln>
        </p:spPr>
        <p:txBody>
          <a:bodyPr lIns="90000" rIns="90000" tIns="46800" bIns="46800" anchor="t">
            <a:normAutofit/>
          </a:bodyPr>
          <a:p>
            <a:pPr marL="6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growing needs to be a ‘business’!</a:t>
            </a:r>
            <a:endParaRPr b="0" lang="en-US" sz="3600" spc="-1" strike="noStrike">
              <a:solidFill>
                <a:srgbClr val="000000"/>
              </a:solidFill>
              <a:latin typeface="Arial"/>
            </a:endParaRPr>
          </a:p>
        </p:txBody>
      </p:sp>
      <p:pic>
        <p:nvPicPr>
          <p:cNvPr id="96" name="" descr=""/>
          <p:cNvPicPr/>
          <p:nvPr/>
        </p:nvPicPr>
        <p:blipFill>
          <a:blip r:embed="rId1"/>
          <a:stretch/>
        </p:blipFill>
        <p:spPr>
          <a:xfrm>
            <a:off x="2627280" y="1413000"/>
            <a:ext cx="4932360" cy="3984480"/>
          </a:xfrm>
          <a:prstGeom prst="rect">
            <a:avLst/>
          </a:prstGeom>
          <a:ln w="0">
            <a:noFill/>
          </a:ln>
        </p:spPr>
      </p:pic>
      <p:sp>
        <p:nvSpPr>
          <p:cNvPr id="3" name="PlaceHolder 2"/>
          <p:cNvSpPr>
            <a:spLocks noGrp="1"/>
          </p:cNvSpPr>
          <p:nvPr>
            <p:ph type="sldNum" idx="1"/>
          </p:nvPr>
        </p:nvSpPr>
        <p:spPr/>
        <p:txBody>
          <a:bodyPr/>
          <a:p>
            <a:fld id="{8AF7F603-B6A0-463C-B53E-9E1C552D55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nfluences wool demand?</a:t>
            </a:r>
            <a:endParaRPr b="0" lang="en-US" sz="3200" spc="-1" strike="noStrike">
              <a:solidFill>
                <a:srgbClr val="000000"/>
              </a:solidFill>
              <a:latin typeface="Arial"/>
            </a:endParaRPr>
          </a:p>
        </p:txBody>
      </p:sp>
      <p:sp>
        <p:nvSpPr>
          <p:cNvPr id="98" name="PlaceHolder 2"/>
          <p:cNvSpPr>
            <a:spLocks noGrp="1"/>
          </p:cNvSpPr>
          <p:nvPr>
            <p:ph/>
          </p:nvPr>
        </p:nvSpPr>
        <p:spPr>
          <a:xfrm>
            <a:off x="1186920" y="1267920"/>
            <a:ext cx="537084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s a decreasing proportion of the world textile trad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tics/man-mades are performing better and getting cheaper over 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4226C-1D0C-4928-B54A-3BC94617E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nfluences wool demand?</a:t>
            </a:r>
            <a:endParaRPr b="0" lang="en-US" sz="3200" spc="-1" strike="noStrike">
              <a:solidFill>
                <a:srgbClr val="000000"/>
              </a:solidFill>
              <a:latin typeface="Arial"/>
            </a:endParaRPr>
          </a:p>
        </p:txBody>
      </p:sp>
      <p:sp>
        <p:nvSpPr>
          <p:cNvPr id="100" name="PlaceHolder 2"/>
          <p:cNvSpPr>
            <a:spLocks noGrp="1"/>
          </p:cNvSpPr>
          <p:nvPr>
            <p:ph/>
          </p:nvPr>
        </p:nvSpPr>
        <p:spPr>
          <a:xfrm>
            <a:off x="468000" y="1628640"/>
            <a:ext cx="5381640" cy="37339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Lifestyle’ and fashion chang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creased central-heating and environmental control in buildi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sualis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creasing proportions of disposable income spent on apparel</a:t>
            </a:r>
            <a:endParaRPr b="0" lang="en-US" sz="2000" spc="-1" strike="noStrike">
              <a:solidFill>
                <a:srgbClr val="000000"/>
              </a:solidFill>
              <a:latin typeface="Arial"/>
            </a:endParaRPr>
          </a:p>
        </p:txBody>
      </p:sp>
      <p:pic>
        <p:nvPicPr>
          <p:cNvPr id="101" name="" descr=""/>
          <p:cNvPicPr/>
          <p:nvPr/>
        </p:nvPicPr>
        <p:blipFill>
          <a:blip r:embed="rId1"/>
          <a:stretch/>
        </p:blipFill>
        <p:spPr>
          <a:xfrm>
            <a:off x="6372360" y="3860640"/>
            <a:ext cx="1873080" cy="1202040"/>
          </a:xfrm>
          <a:prstGeom prst="rect">
            <a:avLst/>
          </a:prstGeom>
          <a:ln w="0">
            <a:noFill/>
          </a:ln>
        </p:spPr>
      </p:pic>
      <p:pic>
        <p:nvPicPr>
          <p:cNvPr id="102" name="" descr=""/>
          <p:cNvPicPr/>
          <p:nvPr/>
        </p:nvPicPr>
        <p:blipFill>
          <a:blip r:embed="rId2"/>
          <a:stretch/>
        </p:blipFill>
        <p:spPr>
          <a:xfrm>
            <a:off x="6372360" y="1700280"/>
            <a:ext cx="1898640" cy="1574640"/>
          </a:xfrm>
          <a:prstGeom prst="rect">
            <a:avLst/>
          </a:prstGeom>
          <a:ln w="0">
            <a:noFill/>
          </a:ln>
        </p:spPr>
      </p:pic>
      <p:sp>
        <p:nvSpPr>
          <p:cNvPr id="4" name="PlaceHolder 3"/>
          <p:cNvSpPr>
            <a:spLocks noGrp="1"/>
          </p:cNvSpPr>
          <p:nvPr>
            <p:ph type="sldNum" idx="1"/>
          </p:nvPr>
        </p:nvSpPr>
        <p:spPr/>
        <p:txBody>
          <a:bodyPr/>
          <a:p>
            <a:fld id="{6871F193-8940-47E3-B119-65C16C755D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nfluences wool demand?</a:t>
            </a:r>
            <a:endParaRPr b="0" lang="en-US" sz="2800" spc="-1" strike="noStrike">
              <a:solidFill>
                <a:srgbClr val="000000"/>
              </a:solidFill>
              <a:latin typeface="Arial"/>
            </a:endParaRPr>
          </a:p>
        </p:txBody>
      </p:sp>
      <p:sp>
        <p:nvSpPr>
          <p:cNvPr id="104" name="PlaceHolder 2"/>
          <p:cNvSpPr>
            <a:spLocks noGrp="1"/>
          </p:cNvSpPr>
          <p:nvPr>
            <p:ph/>
          </p:nvPr>
        </p:nvSpPr>
        <p:spPr>
          <a:xfrm>
            <a:off x="971280" y="1125000"/>
            <a:ext cx="607212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demand and supply of ‘easy-care’ garm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perceptions of wool remain:</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to care fo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chy/prick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86466-ABC4-4497-992D-983611DA02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an the wool industry respond?</a:t>
            </a:r>
            <a:endParaRPr b="0" lang="en-US" sz="3200" spc="-1" strike="noStrike">
              <a:solidFill>
                <a:srgbClr val="000000"/>
              </a:solidFill>
              <a:latin typeface="Arial"/>
            </a:endParaRPr>
          </a:p>
        </p:txBody>
      </p:sp>
      <p:sp>
        <p:nvSpPr>
          <p:cNvPr id="106" name="PlaceHolder 2"/>
          <p:cNvSpPr>
            <a:spLocks noGrp="1"/>
          </p:cNvSpPr>
          <p:nvPr>
            <p:ph/>
          </p:nvPr>
        </p:nvSpPr>
        <p:spPr>
          <a:xfrm>
            <a:off x="1115640" y="1413000"/>
            <a:ext cx="62118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focus of the wool growing ‘busines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mprovement in manag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issue identified by the Wool Industry Future Directions Taskforce (1999)</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005D2-A602-4BF2-BDDB-F36673ED9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cus of the wool growing business</a:t>
            </a:r>
            <a:endParaRPr b="0" lang="en-US" sz="3200" spc="-1" strike="noStrike">
              <a:solidFill>
                <a:srgbClr val="000000"/>
              </a:solidFill>
              <a:latin typeface="Arial"/>
            </a:endParaRPr>
          </a:p>
        </p:txBody>
      </p:sp>
      <p:sp>
        <p:nvSpPr>
          <p:cNvPr id="108" name="PlaceHolder 2"/>
          <p:cNvSpPr>
            <a:spLocks noGrp="1"/>
          </p:cNvSpPr>
          <p:nvPr>
            <p:ph/>
          </p:nvPr>
        </p:nvSpPr>
        <p:spPr>
          <a:xfrm>
            <a:off x="1042560" y="1341000"/>
            <a:ext cx="579276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ing farms and farmers appear to have certain characteristic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 between those with a ‘business’ outlook and those with a ‘lifestyle’ or ‘occupation’ outloo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A334A-C866-4DF7-89BC-F495AA9465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36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growing from a ‘social’ perspective</a:t>
            </a:r>
            <a:endParaRPr b="0" lang="en-US" sz="3200" spc="-1" strike="noStrike">
              <a:solidFill>
                <a:srgbClr val="000000"/>
              </a:solidFill>
              <a:latin typeface="Arial"/>
            </a:endParaRPr>
          </a:p>
        </p:txBody>
      </p:sp>
      <p:sp>
        <p:nvSpPr>
          <p:cNvPr id="110" name="PlaceHolder 2"/>
          <p:cNvSpPr>
            <a:spLocks noGrp="1"/>
          </p:cNvSpPr>
          <p:nvPr>
            <p:ph/>
          </p:nvPr>
        </p:nvSpPr>
        <p:spPr>
          <a:xfrm>
            <a:off x="610920" y="1495440"/>
            <a:ext cx="3924360" cy="37339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growers are embedded in a social network</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to be understood to enable change and service/technology provis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grower is different</a:t>
            </a:r>
            <a:endParaRPr b="0" lang="en-US" sz="2000" spc="-1" strike="noStrike">
              <a:solidFill>
                <a:srgbClr val="000000"/>
              </a:solidFill>
              <a:latin typeface="Arial"/>
            </a:endParaRPr>
          </a:p>
        </p:txBody>
      </p:sp>
      <p:pic>
        <p:nvPicPr>
          <p:cNvPr id="111" name="" descr=""/>
          <p:cNvPicPr/>
          <p:nvPr/>
        </p:nvPicPr>
        <p:blipFill>
          <a:blip r:embed="rId1"/>
          <a:stretch/>
        </p:blipFill>
        <p:spPr>
          <a:xfrm>
            <a:off x="4572000" y="1557360"/>
            <a:ext cx="3951360" cy="2925720"/>
          </a:xfrm>
          <a:prstGeom prst="rect">
            <a:avLst/>
          </a:prstGeom>
          <a:ln w="0">
            <a:noFill/>
          </a:ln>
        </p:spPr>
      </p:pic>
      <p:sp>
        <p:nvSpPr>
          <p:cNvPr id="4" name="PlaceHolder 3"/>
          <p:cNvSpPr>
            <a:spLocks noGrp="1"/>
          </p:cNvSpPr>
          <p:nvPr>
            <p:ph type="sldNum" idx="1"/>
          </p:nvPr>
        </p:nvSpPr>
        <p:spPr/>
        <p:txBody>
          <a:bodyPr/>
          <a:p>
            <a:fld id="{56272505-29A6-4749-B908-0B2700489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0:51Z</dcterms:modified>
  <cp:revision>23</cp:revision>
  <dc:subject/>
  <dc:title>Slide 1</dc:title>
</cp:coreProperties>
</file>