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4336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7BD-C83B-4229-9E08-A1C9A5411FA0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BBD0-41D0-4F24-8916-98DF1877F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9B77-0D8F-4CE5-9CD9-BD616470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0A18-44AD-41D0-8B6A-93002E12B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B071-8551-4266-BD35-2AD6ACFBC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9B54-2E38-43B0-A0B4-D9F5868C5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5B8C-6AC0-45AD-907E-A1AF086D4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4B68-2FDD-4C52-A1F1-37E58EABD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57CC-C710-416A-B4BD-CC5E74CD4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6DCA-FE90-402C-B759-9F2FD7EF79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89F6-5D3F-4DF4-91B5-A982871D6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753D-41DF-4454-BAA2-D0D60F15D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1CDF-6570-4BAB-9564-048B8C34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3280-01C7-4057-9E04-8F940FA39F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EC8E-1A85-4868-8D38-78BC0A7B48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97EA-5F0E-4079-80DA-0FFB0087C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E05A-33D0-4FCA-8D39-844E87FD31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D262-9481-4828-B0C6-C2D91B751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4AD6-6494-499E-9C94-09BB3F6D4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3AAB-5AB8-47C6-8C5D-E727A57D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E44C-A36A-4BE1-93F9-18E342F2D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A042-26EE-4856-ABB6-16B9399BA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C890-B024-41AC-94F0-843630358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4F71-92CE-4E3B-AA5F-0DE61186C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40A0-2275-4B63-AD75-A3B425103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CA4-4DA8-4689-A114-A9710BB24B3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859-7D9E-4DF5-B3D3-1C3A413A8F9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880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Growing as a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11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2 - Lectur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3B66-78C4-438C-BC0E-762B6AA73E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ing ‘outlook’ and the family farm (re: lecture 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s for high performance wool p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the wool produ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A7D6-E97E-4455-B61E-7A2DA145A3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ability and Management Le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‘outlook’ of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link to far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 and poorly performing farms have definabl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also linked cumulatively to farm managemen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ing rate is the ke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9366-1D23-4CA5-B3A1-EFAE7E76A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6897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independent of farming reg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ariability between farms for the following efficiency meas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ur (dse/labour un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(wool cut/d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(wool production cost/k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dse/ha); 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 ($income/d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CBD3-4BDB-4280-A2C1-B1DCF0C5F0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6105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 (Samson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decile = 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decile  = -1.1%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25% producers have rates of return x3 the industry average (Martin, 199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25% producers have disposable income x2 the industry average (Martin,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8A96-FC05-4CA3-8ABF-0B7F38CCB2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ing farmers h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business vision or go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external information sources; 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taken training in the recent pa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n discussion groups appears to improve productivity, but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ing farmers tend to participate in discussion grou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chicken or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07EB-6C25-4C39-82C7-DF1410E692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fting to another enterpr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6350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ecessarily the answ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arms tend to be more focussed, not less focussed on woo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not as strong in the pastoral z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practices are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170D-CA2D-4005-8EE7-B12095F487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of the wool production un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25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and sheep farm numbers have dec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farm size between th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08240" y="2276640"/>
            <a:ext cx="7483320" cy="25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5CC9-A784-423D-B553-694AAEC002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1344-0C12-4AE8-9089-2D10E2574C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1:20:30Z</dcterms:created>
  <dc:creator>SChampion</dc:creator>
  <dc:description/>
  <dc:language>en-US</dc:language>
  <cp:lastModifiedBy>Sally Mahony</cp:lastModifiedBy>
  <dcterms:modified xsi:type="dcterms:W3CDTF">2005-05-23T05:10:44Z</dcterms:modified>
  <cp:revision>26</cp:revision>
  <dc:subject/>
  <dc:title>Slide 1</dc:title>
</cp:coreProperties>
</file>