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499532-005C-4678-86E4-C19D165D838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636244-50D0-4299-9E72-2CB8B6BDEA0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75F2-EE9F-4BCC-9F5F-91C4C9140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2A1C-2CD6-4461-80B7-47CE60DAC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21C3-BB5B-408B-8035-7AEE7E46D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90CB-84C6-4B49-9A72-FF742BD5D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CDFC-5CB9-4614-8778-374CCD2D2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911B-D4D7-46CE-9B18-74599E8D6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3159-003C-4242-951A-D46255487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6432-E65E-44F0-8C3A-261C98EC91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EB7F-6E4B-4803-BAD4-A9C9CBD508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B203-385A-455B-AEBD-1E5ECC011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21CD-0ECE-4B62-AE4E-80D6FEB45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BE4F-F662-4B32-BB6A-D0C7FA09D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1FA2-6A33-4659-A54F-39C7922BB2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98F8-1A3A-46BE-9F7C-A8995E9A6F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617A-DD3A-4F2C-AC57-3F51D78C3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31B2-2C93-4513-A4FA-02D9DFC47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F949-A5D9-47F8-A76F-8238B2404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E34F-F927-45C0-B948-EF674CF31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CB3F-6FA5-42A6-89EB-78E148361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2302-22C7-4BF0-B179-1CE2E7210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A32D-758E-46FA-B4A5-CED6D0578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08F2-B6A2-4367-B83F-4114873C4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220-1FB0-4050-95F1-4B4AD8C50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287C-8503-4A16-8F1C-DAD8A6E18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7078-C3F1-4ED4-A46D-BEEE877E4EB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057F-3631-49E4-B878-D16FDCC4B96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73E-AED4-4759-AA7B-56EF4570189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Global View of the Apparel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556000" y="4292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6 -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4F2-BA50-4770-9287-79A1CD8FBA4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World Wool Production 2001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enerally wool is produced in the Southern Hemisphere countries of Australia, New Zealand, South Africa, Uruguay and Argentina and exported to the Northern Hemisphere processing centres. However, China is also a major wool produc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55640" y="544500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IWTO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fig 15"/>
          <p:cNvPicPr/>
          <p:nvPr/>
        </p:nvPicPr>
        <p:blipFill>
          <a:blip r:embed="rId1"/>
          <a:stretch/>
        </p:blipFill>
        <p:spPr>
          <a:xfrm>
            <a:off x="4122720" y="3102120"/>
            <a:ext cx="900000" cy="65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fig 15"/>
          <p:cNvPicPr/>
          <p:nvPr/>
        </p:nvPicPr>
        <p:blipFill>
          <a:blip r:embed="rId2"/>
          <a:stretch/>
        </p:blipFill>
        <p:spPr>
          <a:xfrm>
            <a:off x="4140360" y="3068640"/>
            <a:ext cx="900000" cy="65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fig 15"/>
          <p:cNvPicPr/>
          <p:nvPr/>
        </p:nvPicPr>
        <p:blipFill>
          <a:blip r:embed="rId3"/>
          <a:stretch/>
        </p:blipFill>
        <p:spPr>
          <a:xfrm>
            <a:off x="1908000" y="1490760"/>
            <a:ext cx="5362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CF5-4F3B-43EE-9A4E-A2CAE61F104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Australian Share of Southern Hemisphere Wool Production by Fibre Di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 wool production as a share of the main exporter (Australia, New Zealand, South Africa, Uruguay and Argentina as well as China and the former USSR) production varies according to micron categ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fig 15"/>
          <p:cNvPicPr/>
          <p:nvPr/>
        </p:nvPicPr>
        <p:blipFill>
          <a:blip r:embed="rId1"/>
          <a:stretch/>
        </p:blipFill>
        <p:spPr>
          <a:xfrm>
            <a:off x="1403280" y="1630440"/>
            <a:ext cx="6337440" cy="359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755640" y="544500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Independent Commodity Services P/L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9FC2-D988-4BBB-A58E-083AD9F56D3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Final Demand of Wool by Countr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 terms of wool consumption, Western Europe remains the major market, with China growing in importance. For Australian wool, Japan and then North America are the next most important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55640" y="54450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PCI Fibres and Raw Materials Textile Pip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fig 15"/>
          <p:cNvPicPr/>
          <p:nvPr/>
        </p:nvPicPr>
        <p:blipFill>
          <a:blip r:embed="rId1"/>
          <a:stretch/>
        </p:blipFill>
        <p:spPr>
          <a:xfrm>
            <a:off x="971640" y="1441440"/>
            <a:ext cx="720072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A23-D656-4DF7-87A2-45E8173E357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End-use Share for W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 terms of apparel use, the market share is evenly spread between menswear, womens wear and knitwear. Interior textiles account for largets end-use with a 38% sh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fig 15"/>
          <p:cNvPicPr/>
          <p:nvPr/>
        </p:nvPicPr>
        <p:blipFill>
          <a:blip r:embed="rId1"/>
          <a:stretch/>
        </p:blipFill>
        <p:spPr>
          <a:xfrm>
            <a:off x="826920" y="1649520"/>
            <a:ext cx="7490160" cy="3558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755640" y="54450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The Woolmark Company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6C9-A4DB-4B4E-99D6-F2755815813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sumer preferences have driven fabric weights down in recent decades causing wool producers to respond by increasing fine wool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Average Fabric Weights in the Italian Wool Textil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4724280" y="1184400"/>
          <a:ext cx="439740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84400"/>
                    <a:ext cx="439740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1"/>
          <p:cNvGraphicFramePr/>
          <p:nvPr/>
        </p:nvGraphicFramePr>
        <p:xfrm>
          <a:off x="345960" y="1217520"/>
          <a:ext cx="4389480" cy="441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1217520"/>
                    <a:ext cx="43894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12"/>
          <p:cNvSpPr/>
          <p:nvPr/>
        </p:nvSpPr>
        <p:spPr>
          <a:xfrm>
            <a:off x="755640" y="54450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The Woolmark Company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1F0-FC31-4578-9BA7-0D310235589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7:43:18Z</dcterms:created>
  <dc:creator>Andrew Woods</dc:creator>
  <dc:description/>
  <dc:language>en-US</dc:language>
  <cp:lastModifiedBy>Peter Sommerville</cp:lastModifiedBy>
  <cp:lastPrinted>2003-09-02T08:07:53Z</cp:lastPrinted>
  <dcterms:modified xsi:type="dcterms:W3CDTF">2014-07-12T05:21:49Z</dcterms:modified>
  <cp:revision>26</cp:revision>
  <dc:subject/>
  <dc:title>Global View of the Apparel Market</dc:title>
</cp:coreProperties>
</file>