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D23D8-D14B-4AA5-AE15-16C1808D50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0ECD27-2B55-4A40-AFCB-7DA7E1DB34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78FDC5-1433-4A6B-A6C4-0CC0A4BC1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585F0B-F9B1-4B71-A8D0-3ABF235150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DE88EF-B741-41DE-80D8-5A257F9DE2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A75C06-10FA-4233-885B-544237E7E3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5D49AE-0DF2-4066-A806-2CF5E92476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2472C991-7552-4848-86EB-1B81F09F82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A6112CCA-1BAE-47C0-BE60-886AADA6B3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B6ED7A3-4BD7-4F87-9DA3-2D516F155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0885B9E-C618-4ED3-B313-6F2EA43B04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C042-F572-471D-B00C-85F2511E6C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2E551B0-1078-48D7-AAFF-A2A5C487A3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0DC418E-9813-4249-9DA3-74DA96FCE6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ACFC9EB-C7BB-4D80-8137-3F3EF9A9F1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09ED3452-AD7E-4E65-837D-44B56D949A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8825518B-3FB7-4CC4-A5DF-FEAD6F9AC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4F624-3375-4876-B58E-0D2A9D2A9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C47E32-AB5D-458A-A6B4-ED07183CA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D3D2ABB7-A0CC-4ABD-B9E2-BF2C1865C0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713F3D-0DA4-41B9-A977-B19BCB7D4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E35330-B292-42DD-8F5A-A562B25D7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9F59B9-D413-4FAF-92E0-C81B1D25C0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F224EB-5575-4341-919B-2FF7C72394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CD38-4CB1-4063-BE66-569E3407D9A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1761-8B06-43C9-A37A-1DEAAEE6546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64512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 Farm Fibre Measurement (OFFM)</a:t>
            </a:r>
            <a:endParaRPr b="1" lang="en-US" sz="3600" spc="-1" strike="noStrike">
              <a:solidFill>
                <a:srgbClr val="000000"/>
              </a:solidFill>
              <a:latin typeface="Arial"/>
            </a:endParaRPr>
          </a:p>
        </p:txBody>
      </p:sp>
      <p:sp>
        <p:nvSpPr>
          <p:cNvPr id="85" name="PlaceHolder 2"/>
          <p:cNvSpPr>
            <a:spLocks noGrp="1"/>
          </p:cNvSpPr>
          <p:nvPr>
            <p:ph type="subTitle"/>
          </p:nvPr>
        </p:nvSpPr>
        <p:spPr>
          <a:xfrm>
            <a:off x="1258920" y="4220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D30271-D591-4678-915D-67C83D0023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2736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 differences achieved using OFFM with a high micron premium at low, medium and high level price levels compared to selling wool in one single lot.  The heavy horizontal line represents the extra cost of using OFFM</a:t>
            </a:r>
            <a:endParaRPr b="1" lang="en-US" sz="1800" spc="-1" strike="noStrike">
              <a:solidFill>
                <a:srgbClr val="000000"/>
              </a:solidFill>
              <a:latin typeface="Arial"/>
            </a:endParaRPr>
          </a:p>
        </p:txBody>
      </p:sp>
      <p:pic>
        <p:nvPicPr>
          <p:cNvPr id="101" name="" descr=""/>
          <p:cNvPicPr/>
          <p:nvPr/>
        </p:nvPicPr>
        <p:blipFill>
          <a:blip r:embed="rId1"/>
          <a:stretch/>
        </p:blipFill>
        <p:spPr>
          <a:xfrm>
            <a:off x="395280" y="907920"/>
            <a:ext cx="8280360" cy="4560840"/>
          </a:xfrm>
          <a:prstGeom prst="rect">
            <a:avLst/>
          </a:prstGeom>
          <a:ln w="0">
            <a:noFill/>
          </a:ln>
        </p:spPr>
      </p:pic>
      <p:sp>
        <p:nvSpPr>
          <p:cNvPr id="102" name=""/>
          <p:cNvSpPr/>
          <p:nvPr/>
        </p:nvSpPr>
        <p:spPr>
          <a:xfrm>
            <a:off x="5796000" y="90792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Dominik &amp; Pop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BB3B6B2-CE1E-411F-9DD4-C871D94114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26920" y="83664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following figure demonstrates the situation when the micron premium is at a medium leve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Profit levels are greatly reduced and only 2 clips (3 and 11) clear costs at all price lev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Five clips produce a loss at all price level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4638E86-4427-4BBC-B071-1F71CBD18D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 differences achieved using OFFM with a medium micron premium at low, medium and high price levels compared to selling wool in one single lot.  The heavy horizontal line represents the extra cost of using OFFM</a:t>
            </a:r>
            <a:endParaRPr b="1" lang="en-US" sz="1800" spc="-1" strike="noStrike">
              <a:solidFill>
                <a:srgbClr val="000000"/>
              </a:solidFill>
              <a:latin typeface="Arial"/>
            </a:endParaRPr>
          </a:p>
        </p:txBody>
      </p:sp>
      <p:pic>
        <p:nvPicPr>
          <p:cNvPr id="105" name="" descr=""/>
          <p:cNvPicPr/>
          <p:nvPr/>
        </p:nvPicPr>
        <p:blipFill>
          <a:blip r:embed="rId1"/>
          <a:stretch/>
        </p:blipFill>
        <p:spPr>
          <a:xfrm>
            <a:off x="755640" y="981000"/>
            <a:ext cx="7920000" cy="4635720"/>
          </a:xfrm>
          <a:prstGeom prst="rect">
            <a:avLst/>
          </a:prstGeom>
          <a:ln w="0">
            <a:noFill/>
          </a:ln>
        </p:spPr>
      </p:pic>
      <p:sp>
        <p:nvSpPr>
          <p:cNvPr id="106" name=""/>
          <p:cNvSpPr/>
          <p:nvPr/>
        </p:nvSpPr>
        <p:spPr>
          <a:xfrm>
            <a:off x="5796000" y="90792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Dominik &amp; Pop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ED74D57-F82B-465A-BFCA-EB6CE84C1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280" y="549360"/>
            <a:ext cx="8001000" cy="4852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previous two figures present a clear demonstration of the importance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average diameter of the mob 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high premium for fine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Even in flocks that have a high fibre diameter, say 23um, the young sheep may still have a mean fibre diameter close to the inflexion point and make clip preparation using OFFM profit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Further, if the sheep are identified, it is only necessary to measure them once.  This measurement can be used at subsequent shearings as it is a good guide to their relative performance as adult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977A13C-B01B-425A-86A3-ACE0AE716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000" y="0"/>
            <a:ext cx="8001000" cy="4968720"/>
          </a:xfrm>
          <a:prstGeom prst="rect">
            <a:avLst/>
          </a:prstGeom>
          <a:noFill/>
          <a:ln w="0">
            <a:noFill/>
          </a:ln>
        </p:spPr>
        <p:txBody>
          <a:bodyPr lIns="90000" rIns="90000" tIns="46800" bIns="46800" anchor="t">
            <a:normAutofit fontScale="94000"/>
          </a:bodyPr>
          <a:p>
            <a:pPr marL="429480" indent="-42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 can also be used profitably for sheep selection in two ways:</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rstly it can be used to select replacements for the adult flock in order to reduce its mean diameter and increase the value of the wool</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condly, by using the measurement to select replacements, their offspring will also be finer further improving returns</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owever, buyers will/should not rely on growers’ fibre measurements as there is too much variation and lack of reliability in grower testing. Also, buyers need an independent authority to “guarantee” ALL of the characteristics of greasy wool, to justify the purchase</a:t>
            </a:r>
            <a:r>
              <a:rPr b="0" lang="en-US" sz="2000" spc="-1" strike="noStrike">
                <a:solidFill>
                  <a:srgbClr val="000000"/>
                </a:solidFill>
                <a:latin typeface="Arial"/>
              </a:rPr>
              <a:t> </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f advantage is taken of OFFM or flock testing for both clip preparation, sheep selection and other aspects of farm management, the outcome is likely to be profitable over most of the merino range (see the following figur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9AC0D49-7C2A-4859-8425-B582C93F58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erm economic benefits of OFFM for clip preparation and sheep selection in a flock comprising 2000 breeding ewes and 1000 adult wethers</a:t>
            </a:r>
            <a:endParaRPr b="1" lang="en-US" sz="2400" spc="-1" strike="noStrike">
              <a:solidFill>
                <a:srgbClr val="000000"/>
              </a:solidFill>
              <a:latin typeface="Arial"/>
            </a:endParaRPr>
          </a:p>
        </p:txBody>
      </p:sp>
      <p:pic>
        <p:nvPicPr>
          <p:cNvPr id="110" name="" descr=""/>
          <p:cNvPicPr/>
          <p:nvPr/>
        </p:nvPicPr>
        <p:blipFill>
          <a:blip r:embed="rId1"/>
          <a:stretch/>
        </p:blipFill>
        <p:spPr>
          <a:xfrm>
            <a:off x="1258920" y="1170000"/>
            <a:ext cx="6337440" cy="4707000"/>
          </a:xfrm>
          <a:prstGeom prst="rect">
            <a:avLst/>
          </a:prstGeom>
          <a:ln w="0">
            <a:noFill/>
          </a:ln>
        </p:spPr>
      </p:pic>
      <p:sp>
        <p:nvSpPr>
          <p:cNvPr id="111" name=""/>
          <p:cNvSpPr/>
          <p:nvPr/>
        </p:nvSpPr>
        <p:spPr>
          <a:xfrm>
            <a:off x="5796000" y="112536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Atkins &amp; Sempl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D18EB7E-8B30-4194-AFF4-8DAA05BE4A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26560" y="620640"/>
            <a:ext cx="720108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Topic 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8E2D0F-8B7B-44BB-A3B4-F9146FA38ECD}"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404280"/>
            <a:ext cx="8001000" cy="518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introduction of pre-sale testing revealed two major anomal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erences in fibre diameter achieved by classing skirted fleeces from the same mob were much smaller than expe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erences among classed lines having the same quality number but from different mobs/farms were much larger than expe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OCP procedure was for the classer to ignore the small differences in fibre diameter achieved by classing for fineness and produce one major fleece line.  The buyer could use the presale test results to remove variations between these large lines from different mobs/farm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844D484-E549-4F60-9FAB-0153BA2D3B3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280" y="333360"/>
            <a:ext cx="8001000" cy="49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price/diameter relationship is reasonably linear for merino wool broader than 21u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At about 20um there is an inflexion point or “elbow” below which prices rise sharply for finer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If the average fibre diameter of the fleeces of a mob lie near this inflexion point then the separation of fleeces into lines based on micron categories may result in better returns than would be obtained by selling all fleeces in one large line as proposed under OC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e shape of the relationship is very volatile.  When prices are high the premium for fine wools is also high and vice versa</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94FC6BD-C611-4F25-81A7-9EC6FD9E25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3640" y="-360"/>
            <a:ext cx="83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lationship between fibre diameter and clean price of wool</a:t>
            </a:r>
            <a:endParaRPr b="1" lang="en-US" sz="3200" spc="-1" strike="noStrike">
              <a:solidFill>
                <a:srgbClr val="000000"/>
              </a:solidFill>
              <a:latin typeface="Arial"/>
            </a:endParaRPr>
          </a:p>
        </p:txBody>
      </p:sp>
      <p:pic>
        <p:nvPicPr>
          <p:cNvPr id="89" name="" descr=""/>
          <p:cNvPicPr/>
          <p:nvPr/>
        </p:nvPicPr>
        <p:blipFill>
          <a:blip r:embed="rId1"/>
          <a:stretch/>
        </p:blipFill>
        <p:spPr>
          <a:xfrm>
            <a:off x="1835280" y="1125360"/>
            <a:ext cx="5976720" cy="4538880"/>
          </a:xfrm>
          <a:prstGeom prst="rect">
            <a:avLst/>
          </a:prstGeom>
          <a:ln w="0">
            <a:noFill/>
          </a:ln>
        </p:spPr>
      </p:pic>
      <p:sp>
        <p:nvSpPr>
          <p:cNvPr id="90" name=""/>
          <p:cNvSpPr/>
          <p:nvPr/>
        </p:nvSpPr>
        <p:spPr>
          <a:xfrm>
            <a:off x="5796000" y="112536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Atkins &amp; Semple (200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95FDF01-A7BD-40B0-9381-69D882AE04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259920"/>
            <a:ext cx="8001000" cy="496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invention of very rapid methods for measuring fibre diameter, such as the laserscan and the OFDA 100, made it feasible to adapt these technologies for use during the shearing ope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Alternatively, flock testing operations could be managed so that the mid-side results were available at the time of shear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Using either procedure fleeces could be measured and grouped into diameter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able 1 illustrates a profitable example of on farm fibre measuremen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4B8106C-C646-42DD-89AF-525E6F49C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53640"/>
            <a:ext cx="84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the average fibre diameter of sale lots that could be achieved using OFFM based on the inputs listed.  The prices and potential profit compared with selling the wool in one major line are based on prices received in Sale Week 10 2000/2001</a:t>
            </a:r>
            <a:endParaRPr b="1" lang="en-US" sz="1800" spc="-1" strike="noStrike">
              <a:solidFill>
                <a:srgbClr val="000000"/>
              </a:solidFill>
              <a:latin typeface="Arial"/>
            </a:endParaRPr>
          </a:p>
        </p:txBody>
      </p:sp>
      <p:graphicFrame>
        <p:nvGraphicFramePr>
          <p:cNvPr id="93" name=""/>
          <p:cNvGraphicFramePr/>
          <p:nvPr/>
        </p:nvGraphicFramePr>
        <p:xfrm>
          <a:off x="826920" y="1197000"/>
          <a:ext cx="7561440" cy="4451400"/>
        </p:xfrm>
        <a:graphic>
          <a:graphicData uri="http://schemas.openxmlformats.org/drawingml/2006/table">
            <a:tbl>
              <a:tblPr/>
              <a:tblGrid>
                <a:gridCol w="1081080"/>
                <a:gridCol w="1078200"/>
                <a:gridCol w="1081080"/>
                <a:gridCol w="1081080"/>
                <a:gridCol w="1081080"/>
                <a:gridCol w="1077840"/>
                <a:gridCol w="1081080"/>
              </a:tblGrid>
              <a:tr h="27648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 Quarter used was: Week 10 2000/2001                                              Potential Gain was: $7401.85</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33960">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heep                           15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 GFW (kg/hd)                               5.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 FD (um)                                    20.5</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 Yld (%)                                     75.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 number of bales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Deviation                         1.44</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eece Skirting Ration                    8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e Weight (kg)                              20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F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 k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of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60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ed Averag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4716360" y="907920"/>
            <a:ext cx="302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Semple &amp; Atkins </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4E8672D-8209-420D-840F-D5E54FD37C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9280" y="475920"/>
            <a:ext cx="8001000" cy="5040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 table 2 some practical results are reported for the use of OFFM in clip prepa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Particular notice should be taken of the average fibre diameter of the clip and whether the OFFM classed lines fall on either side of the inflexion point in the curves shown in the first grap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Clips 1 and 9 represent clips where the mean diameters lie away from the inflexion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Clips 5 and 11 lie close to the inflexion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Examine the spread of the OFFM classed lines about the inflexion poin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AE963F1-F12B-45BB-B673-300E234C5E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736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the average fibre diameter of sale lots achieved using OFFM for 11 South Australian mobs.  SE=South Eastern, P=Pastoral, MN=Mid North and WC=West Coast.  Number of bales are shown in brackets</a:t>
            </a:r>
            <a:endParaRPr b="1" lang="en-US" sz="1800" spc="-1" strike="noStrike">
              <a:solidFill>
                <a:srgbClr val="000000"/>
              </a:solidFill>
              <a:latin typeface="Arial"/>
            </a:endParaRPr>
          </a:p>
        </p:txBody>
      </p:sp>
      <p:graphicFrame>
        <p:nvGraphicFramePr>
          <p:cNvPr id="97" name=""/>
          <p:cNvGraphicFramePr/>
          <p:nvPr/>
        </p:nvGraphicFramePr>
        <p:xfrm>
          <a:off x="395280" y="1125360"/>
          <a:ext cx="8640720" cy="4398840"/>
        </p:xfrm>
        <a:graphic>
          <a:graphicData uri="http://schemas.openxmlformats.org/drawingml/2006/table">
            <a:tbl>
              <a:tblPr/>
              <a:tblGrid>
                <a:gridCol w="960480"/>
                <a:gridCol w="960480"/>
                <a:gridCol w="1319040"/>
                <a:gridCol w="1008000"/>
                <a:gridCol w="936720"/>
                <a:gridCol w="934920"/>
                <a:gridCol w="865440"/>
                <a:gridCol w="863280"/>
                <a:gridCol w="792360"/>
              </a:tblGrid>
              <a:tr h="41544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er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FD of clip (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FD of multiple sale lots (micron) and number of ba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3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3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 (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5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1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4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3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4 (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8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1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3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1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5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2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3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8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6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1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6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1 (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5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
          <p:cNvSpPr/>
          <p:nvPr/>
        </p:nvSpPr>
        <p:spPr>
          <a:xfrm>
            <a:off x="5796000" y="90792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Dominik &amp; Pop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57B756C-4A74-44FF-82AA-DEE8744975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259920"/>
            <a:ext cx="8001000" cy="496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 the following two figures the profit or loss from this method of preparation is demonstrated under two different sets of pricing condi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second of the two following figures illustrates a situation in which there is a high micron premium at three different price lev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n clips 1 and 9 OFFM produces a loss at all price lev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Clips 5 and 11 reveal a substantial profit/sheep at all three price levels and 7 out of the 11 clips either make a profit or clear the extra costs of OFFM at all price level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DC953BE-010C-47A9-93B7-35BEDCB585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6T21:35:55Z</dcterms:created>
  <dc:creator>mwatson2</dc:creator>
  <dc:description/>
  <dc:language>en-US</dc:language>
  <cp:lastModifiedBy>Sally Mahony</cp:lastModifiedBy>
  <dcterms:modified xsi:type="dcterms:W3CDTF">2005-06-03T02:07:19Z</dcterms:modified>
  <cp:revision>18</cp:revision>
  <dc:subject/>
  <dc:title>Slide 1</dc:title>
</cp:coreProperties>
</file>