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36A1-92D7-4B71-B584-D8D1FC726A1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BB45-D7B2-476C-BA51-642524F20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00CC-8B4D-4FE0-923A-9D491C823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947A-0AC5-480B-AD87-0F5D97821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28BC-1691-4EB1-9A4E-7FEC8DF39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6E6C-366D-4A56-A236-27EDFB74A8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F180D-C1F4-4ED0-B081-3068AF316E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D337-6AF1-481C-AE04-11223046D7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75A0-AD16-4600-B511-0FC0E1A2FE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054DC-0548-4810-B7C9-7253D65B5C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5F328-2D44-4F0F-AE9B-0965F0329F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6D47-37EE-4B03-AECF-83813AB292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FAB0-5EF3-4E29-8B44-DD2C89206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815DB-7515-45C8-ABD6-5D6ECC2DA9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58E34-CDDD-41BF-8A2A-19E41EEC53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52B16-122A-4177-9D29-3D64B4564A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7C579-94F3-410D-AAA7-AC37DAC8DF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DA86-408D-4ABF-A42E-4016D095C6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B772-1A43-4A54-8744-585B636A8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7F86-FBD0-496F-AEA0-382570FFB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5D99-B0D2-44D8-B41C-973C1862F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066E-CEFB-43EE-8265-90062EC51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6294-24F7-4F21-9A1F-6CEFD24CB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AD02-03D5-4F88-A8D3-B83A5ADDC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01CE-6D35-49C9-A76A-7E71C469A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22ED-9E69-43D7-AF05-6C8712FC1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2487-E476-4435-81C6-B078CC680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ce Risk Management 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Wool Indu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88920" y="501804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cture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0 – Lectur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8F1F5-6AE4-4F64-82B9-0FB3F89B1D0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tent of price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2736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will generally move by up to 35-40% over twelve month peri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ly this figure has been &gt;5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564000" y="1268280"/>
            <a:ext cx="5435640" cy="3834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5640" y="5229360"/>
            <a:ext cx="33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Man Financial (unpub.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14E9-1D45-4005-9BB3-303CD6F678A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ce Risk Management Products in the Wool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1558800"/>
            <a:ext cx="2016000" cy="287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h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2855880"/>
            <a:ext cx="2016000" cy="287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For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4008600"/>
            <a:ext cx="2016000" cy="287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5280" y="5016600"/>
            <a:ext cx="2016000" cy="287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s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1197000"/>
            <a:ext cx="309564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1919160"/>
            <a:ext cx="309564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te Nego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1558800"/>
            <a:ext cx="309564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ction Alternatives (Electronic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495520"/>
            <a:ext cx="309564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r / Processor Supply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3214800"/>
            <a:ext cx="3095640" cy="288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 Based Forward 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2854440"/>
            <a:ext cx="3095640" cy="288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r Forward 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3792600"/>
            <a:ext cx="3095640" cy="288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 Traded (SF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4151160"/>
            <a:ext cx="309564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C (Macquarie Bank and N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4800600"/>
            <a:ext cx="309564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 Traded (SF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3280" y="5159520"/>
            <a:ext cx="3095640" cy="288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C (Macquarie Ba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99" idx="3"/>
            <a:endCxn id="103" idx="1"/>
          </p:cNvCxnSpPr>
          <p:nvPr/>
        </p:nvCxnSpPr>
        <p:spPr>
          <a:xfrm flipV="1">
            <a:off x="3851280" y="1341360"/>
            <a:ext cx="792720" cy="3625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9" idx="3"/>
            <a:endCxn id="105" idx="1"/>
          </p:cNvCxnSpPr>
          <p:nvPr/>
        </p:nvCxnSpPr>
        <p:spPr>
          <a:xfrm>
            <a:off x="3851280" y="1703160"/>
            <a:ext cx="7927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99" idx="3"/>
            <a:endCxn id="104" idx="1"/>
          </p:cNvCxnSpPr>
          <p:nvPr/>
        </p:nvCxnSpPr>
        <p:spPr>
          <a:xfrm>
            <a:off x="3851280" y="1703160"/>
            <a:ext cx="792720" cy="36108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0" idx="3"/>
            <a:endCxn id="106" idx="1"/>
          </p:cNvCxnSpPr>
          <p:nvPr/>
        </p:nvCxnSpPr>
        <p:spPr>
          <a:xfrm flipV="1">
            <a:off x="3851280" y="2639160"/>
            <a:ext cx="792720" cy="36108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0" idx="3"/>
            <a:endCxn id="108" idx="1"/>
          </p:cNvCxnSpPr>
          <p:nvPr/>
        </p:nvCxnSpPr>
        <p:spPr>
          <a:xfrm flipV="1">
            <a:off x="3851280" y="2998440"/>
            <a:ext cx="792720" cy="216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0" idx="3"/>
            <a:endCxn id="107" idx="1"/>
          </p:cNvCxnSpPr>
          <p:nvPr/>
        </p:nvCxnSpPr>
        <p:spPr>
          <a:xfrm>
            <a:off x="3851280" y="2999880"/>
            <a:ext cx="792720" cy="35964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3"/>
            <a:endCxn id="109" idx="1"/>
          </p:cNvCxnSpPr>
          <p:nvPr/>
        </p:nvCxnSpPr>
        <p:spPr>
          <a:xfrm flipV="1">
            <a:off x="3851280" y="3936600"/>
            <a:ext cx="792720" cy="2167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1" idx="3"/>
            <a:endCxn id="110" idx="1"/>
          </p:cNvCxnSpPr>
          <p:nvPr/>
        </p:nvCxnSpPr>
        <p:spPr>
          <a:xfrm>
            <a:off x="3851280" y="4152600"/>
            <a:ext cx="792720" cy="14364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2" idx="3"/>
            <a:endCxn id="111" idx="1"/>
          </p:cNvCxnSpPr>
          <p:nvPr/>
        </p:nvCxnSpPr>
        <p:spPr>
          <a:xfrm flipV="1">
            <a:off x="3851280" y="4944600"/>
            <a:ext cx="792720" cy="2167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3"/>
            <a:endCxn id="112" idx="1"/>
          </p:cNvCxnSpPr>
          <p:nvPr/>
        </p:nvCxnSpPr>
        <p:spPr>
          <a:xfrm>
            <a:off x="3851280" y="5160600"/>
            <a:ext cx="792720" cy="14364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7D7D-89F4-4573-AEF8-79E4C5AE477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ward Physical Contracts Typical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44520" y="1341360"/>
            <a:ext cx="6999480" cy="397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54DD-D574-4AFF-82A2-96C215D2037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l Futures Volumes by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272360" cy="3962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9079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Sydney Futures Exchange (1995-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395A-DF78-4C0D-BE97-C7464CE4C14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Wool Risk Management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ly Index Based Contracts and Forward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lso managed internally through expenditur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rs and Expor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iest users of futures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se to construct contracts for producers and end-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rs and End-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forward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53D8-0D55-4301-91BE-8F1CCA6F804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920" y="9075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67C7-B2D1-4B50-9BB6-7251DEB65BBC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2:07:57Z</dcterms:created>
  <dc:creator>Bill Mitchell</dc:creator>
  <dc:description/>
  <dc:language>en-US</dc:language>
  <cp:lastModifiedBy>Sally Mahony</cp:lastModifiedBy>
  <dcterms:modified xsi:type="dcterms:W3CDTF">2005-06-06T02:03:32Z</dcterms:modified>
  <cp:revision>16</cp:revision>
  <dc:subject/>
  <dc:title>Participants in the Wool Marketing Chain</dc:title>
</cp:coreProperties>
</file>