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BF76-784C-464F-AF8C-A3A705AC482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8824-78BD-4C72-B838-9F2702C93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34992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82A7-2700-4ABF-BFE3-F14D9F0DA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832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3145-E589-4BB3-A9FE-B2B5BF44F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364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128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364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128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8F78-1254-407A-8F5C-7B59861C3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7DB8-046D-4E85-B87A-E212059388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FE68-C4BF-406B-9300-91EE073506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FFE9-03F2-4E1E-AA68-FE4956ED97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18C9-1482-4617-BCFC-55316C04A6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62F4-1C15-497E-A0D5-F520427CFA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D99B-0913-4441-AA6C-7E01C32C2E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1E3C-CA9C-4098-88D4-1196D24441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0319-E0EA-439C-ABDB-BAED4E472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832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EDC2-9E68-4477-8CC5-A1AE2B94A9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9C11-AE41-4248-94D2-5B35243B3D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55640" y="34992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B778-8AE6-45AF-8CF4-4827552F8E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832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51CB-4227-4413-B7AA-C7D84DADD5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8364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128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5564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8364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128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2C84-DD3C-44E4-A254-55A97D77F3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B3F9-F76F-4140-9589-2E50DE646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0B2F-D7CE-4E5C-8719-1D5B7E7C2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AC62-AE3D-4A1D-B43E-FC2025D87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D139-6BE2-4660-8D8A-DC80B21CC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E8E5-1C47-4169-B49B-A5901655F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832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93EC-B145-43DE-BB6C-E4A17EEDD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8294-D7F7-4682-AF1B-2FD5F64D0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1DF1-179E-4ACD-8064-1D6AD5E7E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A3AC-5534-40F5-A9A2-0049B4BBF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91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ments in Wool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8E08-C32F-4746-9D09-F6A4EE32BD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smanian Quality W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d to attract a price premium for an industry-wide quality assurance sche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eded in supplying branded product through a supply chain up to retail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costs and delivered premium pri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upply chain opportunities being s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71D1-D633-4F1B-A609-78C40ED25E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ooginook Wool Initiative /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atural Instinct Wool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66308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sed on the Pooginook merino stud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Quality assurance that has evolved to include wool marketing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ludes direct marketing and branding of wool sold through traditional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C383-94DE-486B-AEA6-A184B175187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Zealand Me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0372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Zealand Merino acts as broker and marke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ntracts account for 28% of turn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ontracts requiring supply of specific wool typ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ed with key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53E6-7596-4E8A-B8A9-234F076DCD9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30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lternative marketing solutions to growers both as broker and exporter/process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desk, Elite wool and Direct-to-m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Fibre to Fashion chart"/>
          <p:cNvPicPr/>
          <p:nvPr/>
        </p:nvPicPr>
        <p:blipFill>
          <a:blip r:embed="rId1"/>
          <a:stretch/>
        </p:blipFill>
        <p:spPr>
          <a:xfrm>
            <a:off x="4572000" y="44280"/>
            <a:ext cx="4321080" cy="59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3354-D76C-4F30-93A7-8579016ED5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513B-AE49-429D-B44A-0FA2AC4A604D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0"/>
            <a:ext cx="8317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‘Traditional’ Wool Marketing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7800" y="727200"/>
            <a:ext cx="1155600" cy="1123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8200" y="4349880"/>
            <a:ext cx="963720" cy="1311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040520" y="936720"/>
            <a:ext cx="1812960" cy="66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64080" y="804960"/>
            <a:ext cx="1519200" cy="506160"/>
          </a:xfrm>
          <a:prstGeom prst="flowChartPreparation">
            <a:avLst/>
          </a:prstGeom>
          <a:solidFill>
            <a:srgbClr val="690d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90720" y="121140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850000">
            <a:off x="3778200" y="1128240"/>
            <a:ext cx="585720" cy="1954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736720" y="809640"/>
            <a:ext cx="868320" cy="119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0560" y="1857240"/>
            <a:ext cx="1519200" cy="506520"/>
          </a:xfrm>
          <a:prstGeom prst="flowChartPreparation">
            <a:avLst/>
          </a:prstGeom>
          <a:solidFill>
            <a:srgbClr val="690d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7800" y="1000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A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72400">
            <a:off x="3754080" y="159876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64360" y="100332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726800">
            <a:off x="6224760" y="2359080"/>
            <a:ext cx="585720" cy="1936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464600">
            <a:off x="6216480" y="1695600"/>
            <a:ext cx="586080" cy="193680"/>
          </a:xfrm>
          <a:custGeom>
            <a:avLst/>
            <a:gdLst>
              <a:gd name="textAreaLeft" fmla="*/ 91440 w 586080"/>
              <a:gd name="textAreaRight" fmla="*/ 513000 w 58608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67680" y="2386080"/>
            <a:ext cx="1377720" cy="58104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7648200" y="1879560"/>
            <a:ext cx="585720" cy="1954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2960" y="3591000"/>
            <a:ext cx="1406520" cy="522360"/>
          </a:xfrm>
          <a:prstGeom prst="flowChartManualInpu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Top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6201600">
            <a:off x="7567560" y="323352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7960" y="4722840"/>
            <a:ext cx="1060200" cy="739800"/>
          </a:xfrm>
          <a:prstGeom prst="flowChartDocumen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Spi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6987600">
            <a:off x="7165800" y="432900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9560" y="4869000"/>
            <a:ext cx="1320840" cy="37764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Wea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89320" y="4722840"/>
            <a:ext cx="900000" cy="784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Ga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821200" y="4915080"/>
            <a:ext cx="586080" cy="195120"/>
          </a:xfrm>
          <a:custGeom>
            <a:avLst/>
            <a:gdLst>
              <a:gd name="textAreaLeft" fmla="*/ 91440 w 586080"/>
              <a:gd name="textAreaRight" fmla="*/ 513000 w 58608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3395520" y="4941360"/>
            <a:ext cx="586080" cy="195480"/>
          </a:xfrm>
          <a:custGeom>
            <a:avLst/>
            <a:gdLst>
              <a:gd name="textAreaLeft" fmla="*/ 91440 w 586080"/>
              <a:gd name="textAreaRight" fmla="*/ 513000 w 58608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1655640" y="4930920"/>
            <a:ext cx="586080" cy="195120"/>
          </a:xfrm>
          <a:custGeom>
            <a:avLst/>
            <a:gdLst>
              <a:gd name="textAreaLeft" fmla="*/ 91440 w 586080"/>
              <a:gd name="textAreaRight" fmla="*/ 513000 w 58608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5960" y="7635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5040" y="1843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794400">
            <a:off x="8399520" y="2966760"/>
            <a:ext cx="493560" cy="2438280"/>
          </a:xfrm>
          <a:custGeom>
            <a:avLst/>
            <a:gdLst>
              <a:gd name="textAreaLeft" fmla="*/ 65880 w 493560"/>
              <a:gd name="textAreaRight" fmla="*/ 427680 w 493560"/>
              <a:gd name="textAreaTop" fmla="*/ 459000 h 2438280"/>
              <a:gd name="textAreaBottom" fmla="*/ 16063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33" stAng="-5400000" swAng="5400000"/>
                <a:lnTo>
                  <a:pt x="21600" y="10163"/>
                </a:lnTo>
                <a:arcTo wR="21600" hR="8133" stAng="0" swAng="2650410"/>
                <a:lnTo>
                  <a:pt x="7805" y="21051"/>
                </a:lnTo>
                <a:lnTo>
                  <a:pt x="0" y="17280"/>
                </a:lnTo>
                <a:lnTo>
                  <a:pt x="7805" y="12411"/>
                </a:lnTo>
                <a:lnTo>
                  <a:pt x="7805" y="15716"/>
                </a:lnTo>
                <a:arcTo wR="21600" hR="8133" stAng="2650410" swAng="-2487717"/>
                <a:lnTo>
                  <a:pt x="21431" y="9148"/>
                </a:lnTo>
                <a:arcTo wR="21600" hR="8133" stAng="-162694" swAng="-5237306"/>
                <a:close/>
              </a:path>
              <a:path fill="darkenLess" w="21600" h="21600">
                <a:moveTo>
                  <a:pt x="0" y="0"/>
                </a:moveTo>
                <a:arcTo wR="21600" hR="8133" stAng="-5400000" swAng="5400000"/>
                <a:lnTo>
                  <a:pt x="21600" y="10163"/>
                </a:lnTo>
                <a:arcTo wR="21600" hR="8133" stAng="0" swAng="-162694"/>
                <a:lnTo>
                  <a:pt x="21431" y="9148"/>
                </a:lnTo>
                <a:arcTo wR="21600" hR="8133" stAng="-162694" swAng="-5237306"/>
                <a:close/>
              </a:path>
            </a:pathLst>
          </a:cu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64DE-37E9-40A6-B042-30ECD2862E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363920" y="4724280"/>
          <a:ext cx="928800" cy="9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3920" y="4724280"/>
                    <a:ext cx="92880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68360" y="1484280"/>
            <a:ext cx="2389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numbers of growers producing small amounts of variable qua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987640" y="1341360"/>
            <a:ext cx="3587760" cy="2903040"/>
            <a:chOff x="2987640" y="1341360"/>
            <a:chExt cx="3587760" cy="2903040"/>
          </a:xfrm>
        </p:grpSpPr>
        <p:grpSp>
          <p:nvGrpSpPr>
            <p:cNvPr id="125" name=""/>
            <p:cNvGrpSpPr/>
            <p:nvPr/>
          </p:nvGrpSpPr>
          <p:grpSpPr>
            <a:xfrm>
              <a:off x="2987640" y="3261960"/>
              <a:ext cx="816120" cy="951120"/>
              <a:chOff x="2987640" y="3261960"/>
              <a:chExt cx="816120" cy="951120"/>
            </a:xfrm>
          </p:grpSpPr>
          <p:pic>
            <p:nvPicPr>
              <p:cNvPr id="12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87640" y="326196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21560" y="339300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255840" y="352440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90480" y="365616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" name=""/>
            <p:cNvGrpSpPr/>
            <p:nvPr/>
          </p:nvGrpSpPr>
          <p:grpSpPr>
            <a:xfrm>
              <a:off x="3824280" y="3295440"/>
              <a:ext cx="785880" cy="948960"/>
              <a:chOff x="3824280" y="3295440"/>
              <a:chExt cx="785880" cy="948960"/>
            </a:xfrm>
          </p:grpSpPr>
          <p:pic>
            <p:nvPicPr>
              <p:cNvPr id="13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824280" y="3295440"/>
                <a:ext cx="398160" cy="55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953520" y="3426480"/>
                <a:ext cx="39780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82760" y="3557520"/>
                <a:ext cx="39816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12000" y="3688560"/>
                <a:ext cx="398160" cy="55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"/>
            <p:cNvGrpSpPr/>
            <p:nvPr/>
          </p:nvGrpSpPr>
          <p:grpSpPr>
            <a:xfrm>
              <a:off x="3252600" y="1407960"/>
              <a:ext cx="1037880" cy="1001160"/>
              <a:chOff x="3252600" y="1407960"/>
              <a:chExt cx="1037880" cy="1001160"/>
            </a:xfrm>
          </p:grpSpPr>
          <p:graphicFrame>
            <p:nvGraphicFramePr>
              <p:cNvPr id="136" name=""/>
              <p:cNvGraphicFramePr/>
              <p:nvPr/>
            </p:nvGraphicFramePr>
            <p:xfrm>
              <a:off x="3252600" y="1741680"/>
              <a:ext cx="457560" cy="331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3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252600" y="1741680"/>
                        <a:ext cx="457560" cy="33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3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80040" y="2077920"/>
                <a:ext cx="45756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832560" y="2015280"/>
                <a:ext cx="457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72920" y="1407960"/>
                <a:ext cx="457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06200" y="1736280"/>
                <a:ext cx="45756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" name=""/>
            <p:cNvGrpSpPr/>
            <p:nvPr/>
          </p:nvGrpSpPr>
          <p:grpSpPr>
            <a:xfrm>
              <a:off x="4970520" y="1341360"/>
              <a:ext cx="1037880" cy="1001160"/>
              <a:chOff x="4970520" y="1341360"/>
              <a:chExt cx="1037880" cy="1001160"/>
            </a:xfrm>
          </p:grpSpPr>
          <p:graphicFrame>
            <p:nvGraphicFramePr>
              <p:cNvPr id="143" name=""/>
              <p:cNvGraphicFramePr/>
              <p:nvPr/>
            </p:nvGraphicFramePr>
            <p:xfrm>
              <a:off x="4970520" y="1675080"/>
              <a:ext cx="457560" cy="3312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44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970520" y="1675080"/>
                        <a:ext cx="457560" cy="33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45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97960" y="2011320"/>
                <a:ext cx="45756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50480" y="1948680"/>
                <a:ext cx="457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190840" y="1341360"/>
                <a:ext cx="457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424120" y="1669680"/>
                <a:ext cx="45756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"/>
            <p:cNvGrpSpPr/>
            <p:nvPr/>
          </p:nvGrpSpPr>
          <p:grpSpPr>
            <a:xfrm>
              <a:off x="4995720" y="3281040"/>
              <a:ext cx="816120" cy="951120"/>
              <a:chOff x="4995720" y="3281040"/>
              <a:chExt cx="816120" cy="951120"/>
            </a:xfrm>
          </p:grpSpPr>
          <p:pic>
            <p:nvPicPr>
              <p:cNvPr id="15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995720" y="328104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129640" y="341208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263920" y="354348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398560" y="367524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"/>
            <p:cNvGrpSpPr/>
            <p:nvPr/>
          </p:nvGrpSpPr>
          <p:grpSpPr>
            <a:xfrm>
              <a:off x="5789520" y="3257280"/>
              <a:ext cx="785880" cy="948960"/>
              <a:chOff x="5789520" y="3257280"/>
              <a:chExt cx="785880" cy="948960"/>
            </a:xfrm>
          </p:grpSpPr>
          <p:pic>
            <p:nvPicPr>
              <p:cNvPr id="15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789520" y="3257280"/>
                <a:ext cx="398160" cy="55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918760" y="3388320"/>
                <a:ext cx="39780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48000" y="3519360"/>
                <a:ext cx="39816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177240" y="3650400"/>
                <a:ext cx="398160" cy="55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"/>
            <p:cNvSpPr/>
            <p:nvPr/>
          </p:nvSpPr>
          <p:spPr>
            <a:xfrm flipH="1">
              <a:off x="3354120" y="2498400"/>
              <a:ext cx="34740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00520" y="2522520"/>
              <a:ext cx="11592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097240" y="2455560"/>
              <a:ext cx="34740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91160" y="2455560"/>
              <a:ext cx="20304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49560" y="2484360"/>
              <a:ext cx="362160" cy="49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11840" y="2460600"/>
              <a:ext cx="361800" cy="49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09480" y="4044960"/>
            <a:ext cx="238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ment for tight product specifications is managed through extensive blending and avera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4149720"/>
            <a:ext cx="248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Comb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62520" y="44146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5160" y="1322280"/>
            <a:ext cx="2058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ystem works, but is cost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ol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06880" y="36450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.00 per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06880" y="5300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3.00 per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6867360" y="4302000"/>
            <a:ext cx="1160280" cy="566640"/>
          </a:xfrm>
          <a:custGeom>
            <a:avLst/>
            <a:gdLst>
              <a:gd name="textAreaLeft" fmla="*/ 181080 w 1160280"/>
              <a:gd name="textAreaRight" fmla="*/ 1015560 w 1160280"/>
              <a:gd name="textAreaTop" fmla="*/ 141480 h 566640"/>
              <a:gd name="textAreaBottom" fmla="*/ 425160 h 566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ol Supply System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urrent model works, but is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DE74-599A-42AF-B69B-15D3B84226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 sought from alternativ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s and time associated with getting wool from the sheep’s back to the processing mi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ent of communication between producers and processors / users of wo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to differentiate product based on quality contr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for demand to be increased through the supply of superior produc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to gain premium prices through brand name marketing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to reduce price risk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6D80-A70D-45CF-9E96-F0288656218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42920" y="1413000"/>
          <a:ext cx="7416720" cy="3024000"/>
        </p:xfrm>
        <a:graphic>
          <a:graphicData uri="http://schemas.openxmlformats.org/drawingml/2006/table">
            <a:tbl>
              <a:tblPr/>
              <a:tblGrid>
                <a:gridCol w="4284720"/>
                <a:gridCol w="1484280"/>
                <a:gridCol w="164772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er price $A per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/ Insurance / Trader Margins e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rly stage processing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to Spin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centage 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ive Cost Comparison –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to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868280"/>
            <a:ext cx="77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In the cotton industry early stage processing costs are offset by the proceeds of cotton seed s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677C-0C7E-4959-A861-9F8CB7FA65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lternative Marke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er init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linked to quality assurance differenti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 initi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init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A0E8-14C6-4A18-861F-4DF0262964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ly developed by grow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ly sold to Landma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improve grower returns through reduced supply chain costs and improved marke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ing features - unique quality assurance / wool preparati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8AEB-3035-4837-95C5-4EE28C367C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tralian Wool Network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120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contracts for fine and superfine wo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manage price risk and improve commun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(up to 3 year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ers must purchase wool to fill contract if their own production does not meet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89E5-5EC1-4A22-B9E1-DD4EE8504A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259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ian Government initia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demonstrate the feasibility and value of strategic relationships between growers and thei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consignments with a total value exceeding $500,000 were facilita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ers cited numerous indirect benefits including education a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AD12-4AD7-4B01-BF0E-40E74F25BC3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2:07:57Z</dcterms:created>
  <dc:creator>Bill Mitchell</dc:creator>
  <dc:description/>
  <dc:language>en-US</dc:language>
  <cp:lastModifiedBy>Sally Mahony</cp:lastModifiedBy>
  <dcterms:modified xsi:type="dcterms:W3CDTF">2005-06-06T02:17:54Z</dcterms:modified>
  <cp:revision>15</cp:revision>
  <dc:subject/>
  <dc:title>Participants in the Wool Marketing Chain</dc:title>
</cp:coreProperties>
</file>