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C960-E19E-400F-9AE1-4F579B11D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C543-0A0F-4380-BC12-CCE7BE3BF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9089-22A0-41D4-8A53-70A7E0C8A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31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3B17-809A-47B7-B5F3-8119674DB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57A1-8EEE-4FE4-8914-DD67914A6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31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31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31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FEFA-C601-48B4-A615-F408ACCB2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6469-3BDA-4323-9DAB-A67C8F376E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671B0-75BE-4089-88AB-6EA68DD6F8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B250-07F4-477D-BFAE-3C52FFE098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9EB4-7792-4A48-8DB4-C29A6FF7CC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5385-EC5D-47A4-AB1D-FD8DCC52D3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93EA-6506-4F82-AC53-70D00B4012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5035-8F19-42F9-ACFA-10753C9986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8763-80ED-4DE1-BF82-5E12E17D7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1739-5B7B-4BA8-8BF7-4BA247AC5C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31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1D19-1A3C-4806-8640-4CD7D9D752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720" y="331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9601-7890-4248-AE1C-2DB4AB94DC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79EE-7127-413E-8AC2-92F630C575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720" y="331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18720" y="331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6360" y="331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8233-D290-4A8F-AF10-FE28E2C82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3297-DDDF-470A-BE6A-40440BDB9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5D9C-E6C2-42B7-BC6F-94A43B6A6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AAF9-4A04-4401-A06F-AAF3F7845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115A-58D1-4E57-A549-BB289D9A6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192A-B983-4011-921C-B1803047F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44B6-9938-4E05-87A6-30531D82F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31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B7A3-C233-4C3E-B3D7-AA60C5C15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FBED-A00F-4967-951F-0D19CAE1BA0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2DB7-51CF-4F93-932C-0F0F2DF51D4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woolwise.com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2963-B7D4-4368-8DC4-AE015CC505A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8222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and for Australian Wo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002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CF71-D93A-42A4-979A-829F86CAEAA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chematic diagram of the language change for diameter in the wool textile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Object 4"/>
          <p:cNvGraphicFramePr/>
          <p:nvPr/>
        </p:nvGraphicFramePr>
        <p:xfrm>
          <a:off x="380880" y="1600200"/>
          <a:ext cx="8610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610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4C96-321A-489C-8554-76C3C00EA88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Mid-micron production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20-30um)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by major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roducers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mkg Cle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85800" y="1600200"/>
          <a:ext cx="7924680" cy="2514600"/>
        </p:xfrm>
        <a:graphic>
          <a:graphicData uri="http://schemas.openxmlformats.org/drawingml/2006/table">
            <a:tbl>
              <a:tblPr/>
              <a:tblGrid>
                <a:gridCol w="1706400"/>
                <a:gridCol w="966960"/>
                <a:gridCol w="1289160"/>
                <a:gridCol w="1066680"/>
                <a:gridCol w="990720"/>
                <a:gridCol w="1066680"/>
                <a:gridCol w="8380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 of Tot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/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/02 Estim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/03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Rectangle 185"/>
          <p:cNvSpPr/>
          <p:nvPr/>
        </p:nvSpPr>
        <p:spPr>
          <a:xfrm>
            <a:off x="3703680" y="5393520"/>
            <a:ext cx="513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urce: Review and Outlook for Mid-Micron Wool – 2003. The Woolmar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B171-ABC0-4FA1-951F-F2F4DC57F68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iameter profile of Australian fine wool sold at auction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bales)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1993/94 season to 2001/02 sea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447920"/>
          <a:ext cx="7620120" cy="3276360"/>
        </p:xfrm>
        <a:graphic>
          <a:graphicData uri="http://schemas.openxmlformats.org/drawingml/2006/table">
            <a:tbl>
              <a:tblPr/>
              <a:tblGrid>
                <a:gridCol w="1908360"/>
                <a:gridCol w="1969920"/>
                <a:gridCol w="1971720"/>
                <a:gridCol w="177012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3/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/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Ch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6 – 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,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6 – 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,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,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6 – 1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7,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4,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4,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,7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Text Box 162"/>
          <p:cNvSpPr/>
          <p:nvPr/>
        </p:nvSpPr>
        <p:spPr>
          <a:xfrm>
            <a:off x="4459680" y="5410080"/>
            <a:ext cx="468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urce: Review and Outlook for Fine Wool – 2002 The Woolmar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CD4F-75F6-475E-91A4-17066C9B8BD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ypical Diameter and Hauteur Ranges for Worsted Ya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685800" y="1447920"/>
          <a:ext cx="7848720" cy="356076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 (Nm)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meter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es in the Yarn Cross-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uteur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0-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-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0-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-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5-2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-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-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0-2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-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0-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-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0-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-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0-2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-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-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Rectangle 211"/>
          <p:cNvSpPr/>
          <p:nvPr/>
        </p:nvSpPr>
        <p:spPr>
          <a:xfrm>
            <a:off x="1144800" y="5630040"/>
            <a:ext cx="141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ote tex = 1000/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A06F-A169-482D-9776-4BFCCBFC548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xample Top Specification for Yar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Main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Quantity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5,000 Kg of 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2.0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p Length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72mm Haute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ength Distributio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&lt;48% CV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hort Fibre Content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% &lt;30mm or %&lt;25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tal Fatty Matter (TFM)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ckage type &amp; siz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upplementary specifications may include limits for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ark fibres/100 g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. VM Spe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. N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ome spinners will also seek supplementary specifications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majority of spinners demand as many measurements as possible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lour measurement (tristimulus values of X, Y and Z or  Y-Z (yellownes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Vd (coefficient of variation of di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% fibres &gt;30um (comfort facto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E682-B42F-4EC9-8505-F2833BAD795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Greasy Wool Specification for T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ain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0,000 Kg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1.5 um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aple Length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95mm ±12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aple Strength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35N/Ktex, min. 30N/K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5%, max component 2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edicted Hauteur (TEAM 2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0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upplementary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ceptable wool types eg 100% fleece wool or 10% Pieces/ 90% Fle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 sh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F94D-6387-4660-AE23-C28422030AE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964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cation of Comber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and R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3 basi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ertically integr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rt of a vertical processing operation, scourer, comber, and spinner and even up to weaver and retailer in some extreme cases. These operations are typically found in non-European environments such as India and Ch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ber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bers that make tops for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mission comber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bers who make tops for topmaker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levels and attitudes to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A71A-2B9A-4F2D-AC3B-D3DD5160BE1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8580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actors affecting Topm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st of topmaking in Australia (Chinese top maker costs are approximately 25% of world top maker costs and are equal in quality of prod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asonality of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mand from sp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east cost” solution to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6095520" y="5393520"/>
            <a:ext cx="278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Michael Blake  www.woolwi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4541-A211-46E9-B0B1-57BF1215AA4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ost of Topmaking in Austral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cro-economic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chang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w margin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gh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aff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6284520" y="5409360"/>
            <a:ext cx="278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Michael Blake  www.woolwi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B94E-DE8F-4A71-8B54-0EE34DB4A30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85800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w Wool Supp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6854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aw Wool Supply -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ivate trea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ockpile forwar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le by descri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lectronic selling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versea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n-measured w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gher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 predi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er estimates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ill staff estimates of processing ability of those w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5853-6380-43E7-8D17-1D99AD43B45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77724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Diameter, Country of Origin and Product Ran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533520" y="1309680"/>
            <a:ext cx="8610480" cy="2790720"/>
            <a:chOff x="533520" y="1309680"/>
            <a:chExt cx="8610480" cy="2790720"/>
          </a:xfrm>
        </p:grpSpPr>
        <p:sp>
          <p:nvSpPr>
            <p:cNvPr id="97" name="Rectangle 16"/>
            <p:cNvSpPr/>
            <p:nvPr/>
          </p:nvSpPr>
          <p:spPr>
            <a:xfrm>
              <a:off x="533520" y="1357200"/>
              <a:ext cx="86104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17"/>
            <p:cNvSpPr/>
            <p:nvPr/>
          </p:nvSpPr>
          <p:spPr>
            <a:xfrm>
              <a:off x="2666880" y="2255760"/>
              <a:ext cx="533520" cy="982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8"/>
            <p:cNvSpPr/>
            <p:nvPr/>
          </p:nvSpPr>
          <p:spPr>
            <a:xfrm>
              <a:off x="5332320" y="1954080"/>
              <a:ext cx="227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women’s woven outerwea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9"/>
            <p:cNvSpPr/>
            <p:nvPr/>
          </p:nvSpPr>
          <p:spPr>
            <a:xfrm>
              <a:off x="7975800" y="37414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carp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AutoShape 20"/>
            <p:cNvSpPr/>
            <p:nvPr/>
          </p:nvSpPr>
          <p:spPr>
            <a:xfrm>
              <a:off x="914400" y="2055600"/>
              <a:ext cx="990720" cy="100080"/>
            </a:xfrm>
            <a:prstGeom prst="flowChartProcess">
              <a:avLst/>
            </a:prstGeom>
            <a:solidFill>
              <a:srgbClr val="ff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21"/>
            <p:cNvGrpSpPr/>
            <p:nvPr/>
          </p:nvGrpSpPr>
          <p:grpSpPr>
            <a:xfrm>
              <a:off x="533520" y="1309680"/>
              <a:ext cx="7390800" cy="458280"/>
              <a:chOff x="533520" y="1309680"/>
              <a:chExt cx="7390800" cy="458280"/>
            </a:xfrm>
          </p:grpSpPr>
          <p:sp>
            <p:nvSpPr>
              <p:cNvPr id="103" name="AutoShape 22"/>
              <p:cNvSpPr/>
              <p:nvPr/>
            </p:nvSpPr>
            <p:spPr>
              <a:xfrm>
                <a:off x="533520" y="1309680"/>
                <a:ext cx="1371240" cy="458280"/>
              </a:xfrm>
              <a:prstGeom prst="flowChartProcess">
                <a:avLst/>
              </a:prstGeom>
              <a:solidFill>
                <a:srgbClr val="0bf5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Superfine merin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19 um and fin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utoShape 23"/>
              <p:cNvSpPr/>
              <p:nvPr/>
            </p:nvSpPr>
            <p:spPr>
              <a:xfrm>
                <a:off x="1904760" y="1309680"/>
                <a:ext cx="1142640" cy="458280"/>
              </a:xfrm>
              <a:prstGeom prst="flowChartProcess">
                <a:avLst/>
              </a:prstGeom>
              <a:solidFill>
                <a:srgbClr val="0bf5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Merin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20 - 24 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24"/>
              <p:cNvSpPr/>
              <p:nvPr/>
            </p:nvSpPr>
            <p:spPr>
              <a:xfrm>
                <a:off x="4419360" y="1309680"/>
                <a:ext cx="1828440" cy="458280"/>
              </a:xfrm>
              <a:prstGeom prst="flowChartProcess">
                <a:avLst/>
              </a:prstGeom>
              <a:solidFill>
                <a:srgbClr val="0bf5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Medium crossbr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29- 32 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AutoShape 25"/>
              <p:cNvSpPr/>
              <p:nvPr/>
            </p:nvSpPr>
            <p:spPr>
              <a:xfrm>
                <a:off x="3047760" y="1309680"/>
                <a:ext cx="1371240" cy="458280"/>
              </a:xfrm>
              <a:prstGeom prst="flowChartProcess">
                <a:avLst/>
              </a:prstGeom>
              <a:solidFill>
                <a:srgbClr val="0bf5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Fine crossbr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25-28 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26"/>
              <p:cNvSpPr/>
              <p:nvPr/>
            </p:nvSpPr>
            <p:spPr>
              <a:xfrm>
                <a:off x="6248160" y="1309680"/>
                <a:ext cx="1676160" cy="458280"/>
              </a:xfrm>
              <a:prstGeom prst="flowChartProcess">
                <a:avLst/>
              </a:prstGeom>
              <a:solidFill>
                <a:srgbClr val="0bf5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Broad woo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32 um and broad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AutoShape 27"/>
            <p:cNvSpPr/>
            <p:nvPr/>
          </p:nvSpPr>
          <p:spPr>
            <a:xfrm>
              <a:off x="1752480" y="1855800"/>
              <a:ext cx="1371600" cy="99720"/>
            </a:xfrm>
            <a:prstGeom prst="flowChartProcess">
              <a:avLst/>
            </a:prstGeom>
            <a:solidFill>
              <a:srgbClr val="ff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28"/>
            <p:cNvSpPr/>
            <p:nvPr/>
          </p:nvSpPr>
          <p:spPr>
            <a:xfrm>
              <a:off x="3124080" y="1855800"/>
              <a:ext cx="2590920" cy="9972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29"/>
            <p:cNvSpPr/>
            <p:nvPr/>
          </p:nvSpPr>
          <p:spPr>
            <a:xfrm>
              <a:off x="1523880" y="2055600"/>
              <a:ext cx="1447920" cy="100080"/>
            </a:xfrm>
            <a:prstGeom prst="flowChartProcess">
              <a:avLst/>
            </a:prstGeom>
            <a:solidFill>
              <a:srgbClr val="ff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30"/>
            <p:cNvSpPr/>
            <p:nvPr/>
          </p:nvSpPr>
          <p:spPr>
            <a:xfrm>
              <a:off x="2971800" y="2055600"/>
              <a:ext cx="2286000" cy="1000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31"/>
            <p:cNvSpPr/>
            <p:nvPr/>
          </p:nvSpPr>
          <p:spPr>
            <a:xfrm>
              <a:off x="1447920" y="2255760"/>
              <a:ext cx="1218960" cy="98280"/>
            </a:xfrm>
            <a:prstGeom prst="flowChartProcess">
              <a:avLst/>
            </a:prstGeom>
            <a:solidFill>
              <a:srgbClr val="ff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32"/>
            <p:cNvSpPr/>
            <p:nvPr/>
          </p:nvSpPr>
          <p:spPr>
            <a:xfrm>
              <a:off x="3200400" y="2255760"/>
              <a:ext cx="1447920" cy="98280"/>
            </a:xfrm>
            <a:prstGeom prst="flowChartProcess">
              <a:avLst/>
            </a:prstGeom>
            <a:solidFill>
              <a:srgbClr val="ff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33"/>
            <p:cNvSpPr/>
            <p:nvPr/>
          </p:nvSpPr>
          <p:spPr>
            <a:xfrm>
              <a:off x="4648320" y="2255760"/>
              <a:ext cx="1600200" cy="982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34"/>
            <p:cNvSpPr/>
            <p:nvPr/>
          </p:nvSpPr>
          <p:spPr>
            <a:xfrm>
              <a:off x="762120" y="2504880"/>
              <a:ext cx="1295280" cy="98640"/>
            </a:xfrm>
            <a:prstGeom prst="flowChartProcess">
              <a:avLst/>
            </a:prstGeom>
            <a:solidFill>
              <a:srgbClr val="ff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35"/>
            <p:cNvSpPr/>
            <p:nvPr/>
          </p:nvSpPr>
          <p:spPr>
            <a:xfrm>
              <a:off x="1981080" y="2504880"/>
              <a:ext cx="685800" cy="9864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36"/>
            <p:cNvSpPr/>
            <p:nvPr/>
          </p:nvSpPr>
          <p:spPr>
            <a:xfrm>
              <a:off x="1066680" y="2703240"/>
              <a:ext cx="1067040" cy="1000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37"/>
            <p:cNvSpPr/>
            <p:nvPr/>
          </p:nvSpPr>
          <p:spPr>
            <a:xfrm>
              <a:off x="2133720" y="2703240"/>
              <a:ext cx="1295280" cy="100080"/>
            </a:xfrm>
            <a:prstGeom prst="flowChartProcess">
              <a:avLst/>
            </a:prstGeom>
            <a:solidFill>
              <a:srgbClr val="ff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AutoShape 38"/>
            <p:cNvSpPr/>
            <p:nvPr/>
          </p:nvSpPr>
          <p:spPr>
            <a:xfrm>
              <a:off x="3429000" y="2703240"/>
              <a:ext cx="2971800" cy="1000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AutoShape 39"/>
            <p:cNvSpPr/>
            <p:nvPr/>
          </p:nvSpPr>
          <p:spPr>
            <a:xfrm>
              <a:off x="838080" y="2952720"/>
              <a:ext cx="1447920" cy="100080"/>
            </a:xfrm>
            <a:prstGeom prst="flowChartProcess">
              <a:avLst/>
            </a:prstGeom>
            <a:solidFill>
              <a:srgbClr val="2f16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40"/>
            <p:cNvSpPr/>
            <p:nvPr/>
          </p:nvSpPr>
          <p:spPr>
            <a:xfrm>
              <a:off x="2286000" y="2952720"/>
              <a:ext cx="914400" cy="10008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41"/>
            <p:cNvSpPr/>
            <p:nvPr/>
          </p:nvSpPr>
          <p:spPr>
            <a:xfrm>
              <a:off x="3124080" y="2952720"/>
              <a:ext cx="1219320" cy="100080"/>
            </a:xfrm>
            <a:prstGeom prst="flowChartProcess">
              <a:avLst/>
            </a:prstGeom>
            <a:solidFill>
              <a:srgbClr val="2f16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42"/>
            <p:cNvSpPr/>
            <p:nvPr/>
          </p:nvSpPr>
          <p:spPr>
            <a:xfrm>
              <a:off x="4267080" y="2952720"/>
              <a:ext cx="914400" cy="10008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43"/>
            <p:cNvSpPr/>
            <p:nvPr/>
          </p:nvSpPr>
          <p:spPr>
            <a:xfrm>
              <a:off x="2362320" y="3201840"/>
              <a:ext cx="761760" cy="10008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44"/>
            <p:cNvSpPr/>
            <p:nvPr/>
          </p:nvSpPr>
          <p:spPr>
            <a:xfrm flipV="1">
              <a:off x="3124080" y="3201840"/>
              <a:ext cx="914400" cy="100080"/>
            </a:xfrm>
            <a:prstGeom prst="flowChartProcess">
              <a:avLst/>
            </a:prstGeom>
            <a:solidFill>
              <a:srgbClr val="2f16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45"/>
            <p:cNvSpPr/>
            <p:nvPr/>
          </p:nvSpPr>
          <p:spPr>
            <a:xfrm>
              <a:off x="4038480" y="3201840"/>
              <a:ext cx="914400" cy="10008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46"/>
            <p:cNvSpPr/>
            <p:nvPr/>
          </p:nvSpPr>
          <p:spPr>
            <a:xfrm>
              <a:off x="3048120" y="3452760"/>
              <a:ext cx="1295280" cy="9828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utoShape 47"/>
            <p:cNvSpPr/>
            <p:nvPr/>
          </p:nvSpPr>
          <p:spPr>
            <a:xfrm>
              <a:off x="4343400" y="3452760"/>
              <a:ext cx="3124080" cy="98280"/>
            </a:xfrm>
            <a:prstGeom prst="flowChartProcess">
              <a:avLst/>
            </a:prstGeom>
            <a:solidFill>
              <a:srgbClr val="2f16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48"/>
            <p:cNvSpPr/>
            <p:nvPr/>
          </p:nvSpPr>
          <p:spPr>
            <a:xfrm>
              <a:off x="2514600" y="3651120"/>
              <a:ext cx="914400" cy="10008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49"/>
            <p:cNvSpPr/>
            <p:nvPr/>
          </p:nvSpPr>
          <p:spPr>
            <a:xfrm>
              <a:off x="3429000" y="3651120"/>
              <a:ext cx="1752480" cy="100080"/>
            </a:xfrm>
            <a:prstGeom prst="flowChartProcess">
              <a:avLst/>
            </a:prstGeom>
            <a:solidFill>
              <a:srgbClr val="2f16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50"/>
            <p:cNvSpPr/>
            <p:nvPr/>
          </p:nvSpPr>
          <p:spPr>
            <a:xfrm>
              <a:off x="2895480" y="3851280"/>
              <a:ext cx="3353040" cy="9972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51"/>
            <p:cNvSpPr/>
            <p:nvPr/>
          </p:nvSpPr>
          <p:spPr>
            <a:xfrm>
              <a:off x="6172200" y="3851280"/>
              <a:ext cx="1752480" cy="99720"/>
            </a:xfrm>
            <a:prstGeom prst="flowChartProcess">
              <a:avLst/>
            </a:prstGeom>
            <a:solidFill>
              <a:srgbClr val="2f16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2"/>
            <p:cNvSpPr/>
            <p:nvPr/>
          </p:nvSpPr>
          <p:spPr>
            <a:xfrm>
              <a:off x="5807880" y="1743120"/>
              <a:ext cx="2046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men’s woven outerwea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53"/>
            <p:cNvSpPr/>
            <p:nvPr/>
          </p:nvSpPr>
          <p:spPr>
            <a:xfrm>
              <a:off x="6324480" y="2149200"/>
              <a:ext cx="874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knitwea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4"/>
            <p:cNvSpPr/>
            <p:nvPr/>
          </p:nvSpPr>
          <p:spPr>
            <a:xfrm>
              <a:off x="2737440" y="2409840"/>
              <a:ext cx="1012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underwea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55"/>
            <p:cNvSpPr/>
            <p:nvPr/>
          </p:nvSpPr>
          <p:spPr>
            <a:xfrm>
              <a:off x="6490080" y="2609640"/>
              <a:ext cx="646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ock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56"/>
            <p:cNvSpPr/>
            <p:nvPr/>
          </p:nvSpPr>
          <p:spPr>
            <a:xfrm>
              <a:off x="5252760" y="2832120"/>
              <a:ext cx="848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blank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57"/>
            <p:cNvSpPr/>
            <p:nvPr/>
          </p:nvSpPr>
          <p:spPr>
            <a:xfrm>
              <a:off x="5014800" y="3098520"/>
              <a:ext cx="1022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upholste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58"/>
            <p:cNvSpPr/>
            <p:nvPr/>
          </p:nvSpPr>
          <p:spPr>
            <a:xfrm>
              <a:off x="7521840" y="3340080"/>
              <a:ext cx="1250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filled bedd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59"/>
            <p:cNvSpPr/>
            <p:nvPr/>
          </p:nvSpPr>
          <p:spPr>
            <a:xfrm>
              <a:off x="5241240" y="3539880"/>
              <a:ext cx="537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rug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60"/>
            <p:cNvSpPr/>
            <p:nvPr/>
          </p:nvSpPr>
          <p:spPr>
            <a:xfrm>
              <a:off x="609480" y="1855800"/>
              <a:ext cx="1143000" cy="9972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61"/>
            <p:cNvSpPr/>
            <p:nvPr/>
          </p:nvSpPr>
          <p:spPr>
            <a:xfrm>
              <a:off x="609480" y="2255760"/>
              <a:ext cx="838440" cy="982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62"/>
            <p:cNvSpPr/>
            <p:nvPr/>
          </p:nvSpPr>
          <p:spPr>
            <a:xfrm>
              <a:off x="609480" y="2055600"/>
              <a:ext cx="990720" cy="1000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63"/>
            <p:cNvSpPr/>
            <p:nvPr/>
          </p:nvSpPr>
          <p:spPr>
            <a:xfrm>
              <a:off x="609480" y="2504880"/>
              <a:ext cx="228600" cy="9864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5" name="Object 64"/>
          <p:cNvGraphicFramePr/>
          <p:nvPr/>
        </p:nvGraphicFramePr>
        <p:xfrm>
          <a:off x="592200" y="3643200"/>
          <a:ext cx="762300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6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643200"/>
                    <a:ext cx="762300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Picture 65" descr="Woolmark symbol for PP"/>
          <p:cNvPicPr/>
          <p:nvPr/>
        </p:nvPicPr>
        <p:blipFill>
          <a:blip r:embed="rId3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6"/>
          <p:cNvSpPr/>
          <p:nvPr/>
        </p:nvSpPr>
        <p:spPr>
          <a:xfrm>
            <a:off x="535680" y="990720"/>
            <a:ext cx="24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The Woolmark Company (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4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B210-A27D-4EBB-B087-68C1A884EE9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2388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eep’s Back to Mill Co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Object 8"/>
          <p:cNvGraphicFramePr/>
          <p:nvPr/>
        </p:nvGraphicFramePr>
        <p:xfrm>
          <a:off x="1066680" y="1143000"/>
          <a:ext cx="6705720" cy="395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670572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7633-C5B0-42F8-B65A-68CC43FE919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329760"/>
            <a:ext cx="80010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ool Innovation’s </a:t>
            </a: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Futurefleece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C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39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04D5-1A09-45C5-B139-68613BB10FA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2895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el, B. (1997), Consumer Demand, Wool Marketing, CRC for PQW lecture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n. (2002).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view and Outlook for Fine Wool – 2002 publ.The Woolmark Company, Melbour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on (2003). Review and Outlook for Mid-Micron Wool – 2003 publ. The Woolmark Company, Melbour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er, P. (1999), CRC for Premium Wool, Woolwise Powerpoint Presen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lake, M. (1997), The Customers of the Wool Industry - The Topmaker, Access to the Experts Wool Marketing module, CRC for Premium Quality W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lake, M. (1998), Demand: A Processor’s Perspective, Wool Marketing lecture series, CRC for Premium Quality W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nor, S. (1997) The Modern Consumer, Access to the Experts Wool Marketing module, CRC for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remium Quality W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brys, M. Shee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Back to Mill Year Book - 2000-2001 (2002) Publ. AWEX, Sydn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son, N. (1998), The Drivers of Apparel Innovation, Wool Technology &amp; Sheep Breeding, 46 (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urt Salmon &amp; Associates (1999), Woolmark 2005, publ. The Woolmark Company, Melbour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cLachlan, I. (1991). Diversity &amp; Innovation for Australian Wool – Report of The Wool Task Force Report (1991) publ. Commonwealth of Aus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anton, J. &amp; Senior, A. (1994), Wool Market Awareness, Curti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xtile Terms and Definitions (1995) 3rd Edition – ed. Prof.J E McIntyre &amp; P N Daniels - The Textile Institute – Manchester, U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ter, H (1997), Consumer Demand Factors in Apparel, Wool Marketing, CRC for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remium Quality Woo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cture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olmarket Research Group (1998), various material, The Woolmark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C2DB-7C4E-46E4-84B2-0EA25F80F46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9CD1-ADEC-4A66-A653-E7B293C49EC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thing Business Cy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6172200" cy="4543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5"/>
          <p:cNvSpPr/>
          <p:nvPr/>
        </p:nvSpPr>
        <p:spPr>
          <a:xfrm>
            <a:off x="6936840" y="5410080"/>
            <a:ext cx="212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 The Woolmar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8391-7038-4FA2-BF4E-D00D747D44F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Demand Dri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1066680" y="1219320"/>
            <a:ext cx="6311880" cy="3429000"/>
            <a:chOff x="1066680" y="1219320"/>
            <a:chExt cx="6311880" cy="3429000"/>
          </a:xfrm>
        </p:grpSpPr>
        <p:sp>
          <p:nvSpPr>
            <p:cNvPr id="156" name="AutoShape 5"/>
            <p:cNvSpPr/>
            <p:nvPr/>
          </p:nvSpPr>
          <p:spPr>
            <a:xfrm>
              <a:off x="1066680" y="1219320"/>
              <a:ext cx="631188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2428560" y="2844360"/>
              <a:ext cx="2704320" cy="58176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Demand for wool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the processing ch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2731320" y="1637640"/>
              <a:ext cx="2281680" cy="589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64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Consumer de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for clot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2974680" y="4062240"/>
              <a:ext cx="1551240" cy="58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Demand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raw w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5814360" y="1219320"/>
              <a:ext cx="586800" cy="23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64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0"/>
            <p:cNvSpPr/>
            <p:nvPr/>
          </p:nvSpPr>
          <p:spPr>
            <a:xfrm>
              <a:off x="5814360" y="1567800"/>
              <a:ext cx="1563840" cy="29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64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shion/tas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814360" y="2090880"/>
              <a:ext cx="1563840" cy="2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64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ason/cl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5814360" y="2556000"/>
              <a:ext cx="1139040" cy="291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64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ov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1066680" y="1451160"/>
              <a:ext cx="1577880" cy="23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64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Arial"/>
                </a:rPr>
                <a:t>Population/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4"/>
            <p:cNvSpPr/>
            <p:nvPr/>
          </p:nvSpPr>
          <p:spPr>
            <a:xfrm>
              <a:off x="3737160" y="2306160"/>
              <a:ext cx="0" cy="438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>
              <a:off x="2087280" y="1705680"/>
              <a:ext cx="555840" cy="2955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1711440" y="2187360"/>
              <a:ext cx="960480" cy="3387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H="1">
              <a:off x="5074200" y="1319760"/>
              <a:ext cx="706320" cy="227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>
              <a:off x="5074200" y="1756440"/>
              <a:ext cx="7250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9"/>
            <p:cNvSpPr/>
            <p:nvPr/>
          </p:nvSpPr>
          <p:spPr>
            <a:xfrm flipH="1" flipV="1">
              <a:off x="5017680" y="1957680"/>
              <a:ext cx="799200" cy="359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0"/>
            <p:cNvSpPr/>
            <p:nvPr/>
          </p:nvSpPr>
          <p:spPr>
            <a:xfrm flipH="1" flipV="1">
              <a:off x="5019480" y="2214720"/>
              <a:ext cx="709920" cy="494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3737160" y="3485880"/>
              <a:ext cx="0" cy="522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Rectangle 22"/>
          <p:cNvSpPr/>
          <p:nvPr/>
        </p:nvSpPr>
        <p:spPr>
          <a:xfrm>
            <a:off x="5872320" y="5409360"/>
            <a:ext cx="31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.  Auer. P – CRC for Premium Quality Wool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A105-41E8-4A79-88C1-62051816AA7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are of Household Expenditure Spent on Clothing in 4 Marke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1295280" y="1523880"/>
            <a:ext cx="6400800" cy="3434040"/>
            <a:chOff x="1295280" y="1523880"/>
            <a:chExt cx="6400800" cy="3434040"/>
          </a:xfrm>
        </p:grpSpPr>
        <p:sp>
          <p:nvSpPr>
            <p:cNvPr id="177" name="Rectangle 5"/>
            <p:cNvSpPr/>
            <p:nvPr/>
          </p:nvSpPr>
          <p:spPr>
            <a:xfrm>
              <a:off x="1295280" y="1523880"/>
              <a:ext cx="6400800" cy="343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Group 6"/>
            <p:cNvGrpSpPr/>
            <p:nvPr/>
          </p:nvGrpSpPr>
          <p:grpSpPr>
            <a:xfrm>
              <a:off x="1409400" y="1596600"/>
              <a:ext cx="5932800" cy="3170880"/>
              <a:chOff x="1409400" y="1596600"/>
              <a:chExt cx="5932800" cy="3170880"/>
            </a:xfrm>
          </p:grpSpPr>
          <p:grpSp>
            <p:nvGrpSpPr>
              <p:cNvPr id="179" name="Group 7"/>
              <p:cNvGrpSpPr/>
              <p:nvPr/>
            </p:nvGrpSpPr>
            <p:grpSpPr>
              <a:xfrm>
                <a:off x="1525680" y="1689120"/>
                <a:ext cx="2550960" cy="1415520"/>
                <a:chOff x="1525680" y="1689120"/>
                <a:chExt cx="2550960" cy="1415520"/>
              </a:xfrm>
            </p:grpSpPr>
            <p:sp>
              <p:nvSpPr>
                <p:cNvPr id="180" name="Rectangle 8"/>
                <p:cNvSpPr/>
                <p:nvPr/>
              </p:nvSpPr>
              <p:spPr>
                <a:xfrm>
                  <a:off x="2372400" y="2260080"/>
                  <a:ext cx="216000" cy="604800"/>
                </a:xfrm>
                <a:prstGeom prst="rect">
                  <a:avLst/>
                </a:prstGeom>
                <a:solidFill>
                  <a:srgbClr val="cc00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9"/>
                <p:cNvSpPr/>
                <p:nvPr/>
              </p:nvSpPr>
              <p:spPr>
                <a:xfrm>
                  <a:off x="2721960" y="2293920"/>
                  <a:ext cx="217080" cy="570600"/>
                </a:xfrm>
                <a:prstGeom prst="rect">
                  <a:avLst/>
                </a:prstGeom>
                <a:solidFill>
                  <a:srgbClr val="cc00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"/>
                <p:cNvSpPr/>
                <p:nvPr/>
              </p:nvSpPr>
              <p:spPr>
                <a:xfrm>
                  <a:off x="3072600" y="2420640"/>
                  <a:ext cx="216000" cy="444240"/>
                </a:xfrm>
                <a:prstGeom prst="rect">
                  <a:avLst/>
                </a:prstGeom>
                <a:solidFill>
                  <a:srgbClr val="cc00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1"/>
                <p:cNvSpPr/>
                <p:nvPr/>
              </p:nvSpPr>
              <p:spPr>
                <a:xfrm>
                  <a:off x="3422160" y="2447280"/>
                  <a:ext cx="216000" cy="417600"/>
                </a:xfrm>
                <a:prstGeom prst="rect">
                  <a:avLst/>
                </a:prstGeom>
                <a:solidFill>
                  <a:srgbClr val="cc00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2"/>
                <p:cNvSpPr/>
                <p:nvPr/>
              </p:nvSpPr>
              <p:spPr>
                <a:xfrm>
                  <a:off x="3772800" y="2526120"/>
                  <a:ext cx="216000" cy="338400"/>
                </a:xfrm>
                <a:prstGeom prst="rect">
                  <a:avLst/>
                </a:prstGeom>
                <a:solidFill>
                  <a:srgbClr val="cc00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3"/>
                <p:cNvSpPr/>
                <p:nvPr/>
              </p:nvSpPr>
              <p:spPr>
                <a:xfrm>
                  <a:off x="2308680" y="2221200"/>
                  <a:ext cx="1080" cy="643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14"/>
                <p:cNvSpPr/>
                <p:nvPr/>
              </p:nvSpPr>
              <p:spPr>
                <a:xfrm>
                  <a:off x="2308680" y="2864880"/>
                  <a:ext cx="5004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15"/>
                <p:cNvSpPr/>
                <p:nvPr/>
              </p:nvSpPr>
              <p:spPr>
                <a:xfrm>
                  <a:off x="2308680" y="2572560"/>
                  <a:ext cx="5004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16"/>
                <p:cNvSpPr/>
                <p:nvPr/>
              </p:nvSpPr>
              <p:spPr>
                <a:xfrm>
                  <a:off x="2308680" y="2280240"/>
                  <a:ext cx="5004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17"/>
                <p:cNvSpPr/>
                <p:nvPr/>
              </p:nvSpPr>
              <p:spPr>
                <a:xfrm>
                  <a:off x="2308680" y="2864880"/>
                  <a:ext cx="174996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18"/>
                <p:cNvSpPr/>
                <p:nvPr/>
              </p:nvSpPr>
              <p:spPr>
                <a:xfrm flipV="1">
                  <a:off x="2308680" y="28324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19"/>
                <p:cNvSpPr/>
                <p:nvPr/>
              </p:nvSpPr>
              <p:spPr>
                <a:xfrm flipV="1">
                  <a:off x="2658240" y="28324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20"/>
                <p:cNvSpPr/>
                <p:nvPr/>
              </p:nvSpPr>
              <p:spPr>
                <a:xfrm flipV="1">
                  <a:off x="3008880" y="28324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21"/>
                <p:cNvSpPr/>
                <p:nvPr/>
              </p:nvSpPr>
              <p:spPr>
                <a:xfrm flipV="1">
                  <a:off x="3358440" y="28324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22"/>
                <p:cNvSpPr/>
                <p:nvPr/>
              </p:nvSpPr>
              <p:spPr>
                <a:xfrm flipV="1">
                  <a:off x="3709440" y="28324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23"/>
                <p:cNvSpPr/>
                <p:nvPr/>
              </p:nvSpPr>
              <p:spPr>
                <a:xfrm flipV="1">
                  <a:off x="4059000" y="28324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24"/>
                <p:cNvSpPr/>
                <p:nvPr/>
              </p:nvSpPr>
              <p:spPr>
                <a:xfrm>
                  <a:off x="2373480" y="1689120"/>
                  <a:ext cx="870840" cy="22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25"/>
                <p:cNvSpPr/>
                <p:nvPr/>
              </p:nvSpPr>
              <p:spPr>
                <a:xfrm>
                  <a:off x="2092320" y="2765880"/>
                  <a:ext cx="993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26"/>
                <p:cNvSpPr/>
                <p:nvPr/>
              </p:nvSpPr>
              <p:spPr>
                <a:xfrm>
                  <a:off x="2092320" y="2473200"/>
                  <a:ext cx="993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27"/>
                <p:cNvSpPr/>
                <p:nvPr/>
              </p:nvSpPr>
              <p:spPr>
                <a:xfrm>
                  <a:off x="2003760" y="2184840"/>
                  <a:ext cx="200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28"/>
                <p:cNvSpPr/>
                <p:nvPr/>
              </p:nvSpPr>
              <p:spPr>
                <a:xfrm>
                  <a:off x="2373480" y="2965320"/>
                  <a:ext cx="279720" cy="13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29"/>
                <p:cNvSpPr/>
                <p:nvPr/>
              </p:nvSpPr>
              <p:spPr>
                <a:xfrm>
                  <a:off x="2721960" y="2965320"/>
                  <a:ext cx="279720" cy="13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30"/>
                <p:cNvSpPr/>
                <p:nvPr/>
              </p:nvSpPr>
              <p:spPr>
                <a:xfrm>
                  <a:off x="3072600" y="2965320"/>
                  <a:ext cx="279720" cy="13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31"/>
                <p:cNvSpPr/>
                <p:nvPr/>
              </p:nvSpPr>
              <p:spPr>
                <a:xfrm>
                  <a:off x="3423240" y="2965320"/>
                  <a:ext cx="279720" cy="13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32"/>
                <p:cNvSpPr/>
                <p:nvPr/>
              </p:nvSpPr>
              <p:spPr>
                <a:xfrm>
                  <a:off x="3760920" y="2965320"/>
                  <a:ext cx="315720" cy="13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10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33"/>
                <p:cNvSpPr/>
                <p:nvPr/>
              </p:nvSpPr>
              <p:spPr>
                <a:xfrm>
                  <a:off x="1686600" y="2334240"/>
                  <a:ext cx="2098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34"/>
                <p:cNvSpPr/>
                <p:nvPr/>
              </p:nvSpPr>
              <p:spPr>
                <a:xfrm>
                  <a:off x="1525680" y="2546280"/>
                  <a:ext cx="480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h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Group 35"/>
              <p:cNvGrpSpPr/>
              <p:nvPr/>
            </p:nvGrpSpPr>
            <p:grpSpPr>
              <a:xfrm>
                <a:off x="4800600" y="1596600"/>
                <a:ext cx="2541600" cy="1555920"/>
                <a:chOff x="4800600" y="1596600"/>
                <a:chExt cx="2541600" cy="1555920"/>
              </a:xfrm>
            </p:grpSpPr>
            <p:sp>
              <p:nvSpPr>
                <p:cNvPr id="208" name="Rectangle 36"/>
                <p:cNvSpPr/>
                <p:nvPr/>
              </p:nvSpPr>
              <p:spPr>
                <a:xfrm>
                  <a:off x="5494680" y="2301840"/>
                  <a:ext cx="235440" cy="612360"/>
                </a:xfrm>
                <a:prstGeom prst="rect">
                  <a:avLst/>
                </a:prstGeom>
                <a:solidFill>
                  <a:srgbClr val="66cc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37"/>
                <p:cNvSpPr/>
                <p:nvPr/>
              </p:nvSpPr>
              <p:spPr>
                <a:xfrm>
                  <a:off x="5876640" y="2408400"/>
                  <a:ext cx="235080" cy="505440"/>
                </a:xfrm>
                <a:prstGeom prst="rect">
                  <a:avLst/>
                </a:prstGeom>
                <a:solidFill>
                  <a:srgbClr val="66cc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38"/>
                <p:cNvSpPr/>
                <p:nvPr/>
              </p:nvSpPr>
              <p:spPr>
                <a:xfrm>
                  <a:off x="6258600" y="2435040"/>
                  <a:ext cx="241200" cy="479160"/>
                </a:xfrm>
                <a:prstGeom prst="rect">
                  <a:avLst/>
                </a:prstGeom>
                <a:solidFill>
                  <a:srgbClr val="66cc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39"/>
                <p:cNvSpPr/>
                <p:nvPr/>
              </p:nvSpPr>
              <p:spPr>
                <a:xfrm>
                  <a:off x="6646680" y="2521440"/>
                  <a:ext cx="235440" cy="392760"/>
                </a:xfrm>
                <a:prstGeom prst="rect">
                  <a:avLst/>
                </a:prstGeom>
                <a:solidFill>
                  <a:srgbClr val="66cc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40"/>
                <p:cNvSpPr/>
                <p:nvPr/>
              </p:nvSpPr>
              <p:spPr>
                <a:xfrm>
                  <a:off x="7029000" y="2601720"/>
                  <a:ext cx="235080" cy="312480"/>
                </a:xfrm>
                <a:prstGeom prst="rect">
                  <a:avLst/>
                </a:prstGeom>
                <a:solidFill>
                  <a:srgbClr val="66cc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41"/>
                <p:cNvSpPr/>
                <p:nvPr/>
              </p:nvSpPr>
              <p:spPr>
                <a:xfrm>
                  <a:off x="5423760" y="2142360"/>
                  <a:ext cx="1080" cy="771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42"/>
                <p:cNvSpPr/>
                <p:nvPr/>
              </p:nvSpPr>
              <p:spPr>
                <a:xfrm>
                  <a:off x="5423760" y="2914200"/>
                  <a:ext cx="514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Line 43"/>
                <p:cNvSpPr/>
                <p:nvPr/>
              </p:nvSpPr>
              <p:spPr>
                <a:xfrm>
                  <a:off x="5423760" y="2594160"/>
                  <a:ext cx="514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Line 44"/>
                <p:cNvSpPr/>
                <p:nvPr/>
              </p:nvSpPr>
              <p:spPr>
                <a:xfrm>
                  <a:off x="5423760" y="2269440"/>
                  <a:ext cx="514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45"/>
                <p:cNvSpPr/>
                <p:nvPr/>
              </p:nvSpPr>
              <p:spPr>
                <a:xfrm>
                  <a:off x="5423760" y="2914200"/>
                  <a:ext cx="191736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Line 46"/>
                <p:cNvSpPr/>
                <p:nvPr/>
              </p:nvSpPr>
              <p:spPr>
                <a:xfrm flipV="1">
                  <a:off x="5423760" y="2880360"/>
                  <a:ext cx="1080" cy="33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47"/>
                <p:cNvSpPr/>
                <p:nvPr/>
              </p:nvSpPr>
              <p:spPr>
                <a:xfrm flipV="1">
                  <a:off x="5806080" y="2880360"/>
                  <a:ext cx="1080" cy="33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Line 48"/>
                <p:cNvSpPr/>
                <p:nvPr/>
              </p:nvSpPr>
              <p:spPr>
                <a:xfrm flipV="1">
                  <a:off x="6189120" y="2880360"/>
                  <a:ext cx="1080" cy="33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49"/>
                <p:cNvSpPr/>
                <p:nvPr/>
              </p:nvSpPr>
              <p:spPr>
                <a:xfrm flipV="1">
                  <a:off x="6577200" y="2880360"/>
                  <a:ext cx="1080" cy="33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50"/>
                <p:cNvSpPr/>
                <p:nvPr/>
              </p:nvSpPr>
              <p:spPr>
                <a:xfrm flipV="1">
                  <a:off x="6959160" y="2880360"/>
                  <a:ext cx="1080" cy="33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51"/>
                <p:cNvSpPr/>
                <p:nvPr/>
              </p:nvSpPr>
              <p:spPr>
                <a:xfrm flipV="1">
                  <a:off x="7341120" y="2880360"/>
                  <a:ext cx="1080" cy="33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52"/>
                <p:cNvSpPr/>
                <p:nvPr/>
              </p:nvSpPr>
              <p:spPr>
                <a:xfrm>
                  <a:off x="5711040" y="1596600"/>
                  <a:ext cx="582480" cy="2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Japa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53"/>
                <p:cNvSpPr/>
                <p:nvPr/>
              </p:nvSpPr>
              <p:spPr>
                <a:xfrm>
                  <a:off x="5205240" y="2814120"/>
                  <a:ext cx="10044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54"/>
                <p:cNvSpPr/>
                <p:nvPr/>
              </p:nvSpPr>
              <p:spPr>
                <a:xfrm>
                  <a:off x="5205240" y="2495160"/>
                  <a:ext cx="10044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55"/>
                <p:cNvSpPr/>
                <p:nvPr/>
              </p:nvSpPr>
              <p:spPr>
                <a:xfrm>
                  <a:off x="5118480" y="2168640"/>
                  <a:ext cx="200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56"/>
                <p:cNvSpPr/>
                <p:nvPr/>
              </p:nvSpPr>
              <p:spPr>
                <a:xfrm>
                  <a:off x="5499360" y="301356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57"/>
                <p:cNvSpPr/>
                <p:nvPr/>
              </p:nvSpPr>
              <p:spPr>
                <a:xfrm>
                  <a:off x="5881320" y="301356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58"/>
                <p:cNvSpPr/>
                <p:nvPr/>
              </p:nvSpPr>
              <p:spPr>
                <a:xfrm>
                  <a:off x="6270840" y="301356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59"/>
                <p:cNvSpPr/>
                <p:nvPr/>
              </p:nvSpPr>
              <p:spPr>
                <a:xfrm>
                  <a:off x="6652800" y="301356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60"/>
                <p:cNvSpPr/>
                <p:nvPr/>
              </p:nvSpPr>
              <p:spPr>
                <a:xfrm>
                  <a:off x="7022880" y="3013560"/>
                  <a:ext cx="31464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10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61"/>
                <p:cNvSpPr/>
                <p:nvPr/>
              </p:nvSpPr>
              <p:spPr>
                <a:xfrm>
                  <a:off x="4800600" y="2328120"/>
                  <a:ext cx="209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62"/>
              <p:cNvGrpSpPr/>
              <p:nvPr/>
            </p:nvGrpSpPr>
            <p:grpSpPr>
              <a:xfrm>
                <a:off x="1409400" y="3351240"/>
                <a:ext cx="2698920" cy="1416240"/>
                <a:chOff x="1409400" y="3351240"/>
                <a:chExt cx="2698920" cy="1416240"/>
              </a:xfrm>
            </p:grpSpPr>
            <p:sp>
              <p:nvSpPr>
                <p:cNvPr id="235" name="Rectangle 63"/>
                <p:cNvSpPr/>
                <p:nvPr/>
              </p:nvSpPr>
              <p:spPr>
                <a:xfrm>
                  <a:off x="2280240" y="4010040"/>
                  <a:ext cx="298800" cy="518040"/>
                </a:xfrm>
                <a:prstGeom prst="rect">
                  <a:avLst/>
                </a:prstGeom>
                <a:solidFill>
                  <a:srgbClr val="000099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Rectangle 64"/>
                <p:cNvSpPr/>
                <p:nvPr/>
              </p:nvSpPr>
              <p:spPr>
                <a:xfrm>
                  <a:off x="2758320" y="4135320"/>
                  <a:ext cx="304920" cy="392400"/>
                </a:xfrm>
                <a:prstGeom prst="rect">
                  <a:avLst/>
                </a:prstGeom>
                <a:solidFill>
                  <a:srgbClr val="000099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65"/>
                <p:cNvSpPr/>
                <p:nvPr/>
              </p:nvSpPr>
              <p:spPr>
                <a:xfrm>
                  <a:off x="3241080" y="4195800"/>
                  <a:ext cx="298800" cy="332280"/>
                </a:xfrm>
                <a:prstGeom prst="rect">
                  <a:avLst/>
                </a:prstGeom>
                <a:solidFill>
                  <a:srgbClr val="000099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66"/>
                <p:cNvSpPr/>
                <p:nvPr/>
              </p:nvSpPr>
              <p:spPr>
                <a:xfrm>
                  <a:off x="3719160" y="4295880"/>
                  <a:ext cx="298800" cy="232200"/>
                </a:xfrm>
                <a:prstGeom prst="rect">
                  <a:avLst/>
                </a:prstGeom>
                <a:solidFill>
                  <a:srgbClr val="000099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Line 67"/>
                <p:cNvSpPr/>
                <p:nvPr/>
              </p:nvSpPr>
              <p:spPr>
                <a:xfrm>
                  <a:off x="2191320" y="3883320"/>
                  <a:ext cx="1080" cy="644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68"/>
                <p:cNvSpPr/>
                <p:nvPr/>
              </p:nvSpPr>
              <p:spPr>
                <a:xfrm>
                  <a:off x="2191320" y="4528080"/>
                  <a:ext cx="514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69"/>
                <p:cNvSpPr/>
                <p:nvPr/>
              </p:nvSpPr>
              <p:spPr>
                <a:xfrm>
                  <a:off x="2191320" y="4262040"/>
                  <a:ext cx="514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Line 70"/>
                <p:cNvSpPr/>
                <p:nvPr/>
              </p:nvSpPr>
              <p:spPr>
                <a:xfrm>
                  <a:off x="2191320" y="3989520"/>
                  <a:ext cx="514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71"/>
                <p:cNvSpPr/>
                <p:nvPr/>
              </p:nvSpPr>
              <p:spPr>
                <a:xfrm>
                  <a:off x="2191320" y="4528080"/>
                  <a:ext cx="191556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Line 72"/>
                <p:cNvSpPr/>
                <p:nvPr/>
              </p:nvSpPr>
              <p:spPr>
                <a:xfrm flipV="1">
                  <a:off x="2191320" y="44956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73"/>
                <p:cNvSpPr/>
                <p:nvPr/>
              </p:nvSpPr>
              <p:spPr>
                <a:xfrm flipV="1">
                  <a:off x="2669400" y="44956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74"/>
                <p:cNvSpPr/>
                <p:nvPr/>
              </p:nvSpPr>
              <p:spPr>
                <a:xfrm flipV="1">
                  <a:off x="3152160" y="44956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75"/>
                <p:cNvSpPr/>
                <p:nvPr/>
              </p:nvSpPr>
              <p:spPr>
                <a:xfrm flipV="1">
                  <a:off x="3630600" y="44956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76"/>
                <p:cNvSpPr/>
                <p:nvPr/>
              </p:nvSpPr>
              <p:spPr>
                <a:xfrm flipV="1">
                  <a:off x="4107240" y="44956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Rectangle 77"/>
                <p:cNvSpPr/>
                <p:nvPr/>
              </p:nvSpPr>
              <p:spPr>
                <a:xfrm>
                  <a:off x="2439720" y="3351240"/>
                  <a:ext cx="659160" cy="2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78"/>
                <p:cNvSpPr/>
                <p:nvPr/>
              </p:nvSpPr>
              <p:spPr>
                <a:xfrm>
                  <a:off x="1974960" y="4429080"/>
                  <a:ext cx="10044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79"/>
                <p:cNvSpPr/>
                <p:nvPr/>
              </p:nvSpPr>
              <p:spPr>
                <a:xfrm>
                  <a:off x="1974960" y="4163040"/>
                  <a:ext cx="10044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Rectangle 80"/>
                <p:cNvSpPr/>
                <p:nvPr/>
              </p:nvSpPr>
              <p:spPr>
                <a:xfrm>
                  <a:off x="1886040" y="3889440"/>
                  <a:ext cx="20016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81"/>
                <p:cNvSpPr/>
                <p:nvPr/>
              </p:nvSpPr>
              <p:spPr>
                <a:xfrm>
                  <a:off x="2319480" y="46285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Rectangle 82"/>
                <p:cNvSpPr/>
                <p:nvPr/>
              </p:nvSpPr>
              <p:spPr>
                <a:xfrm>
                  <a:off x="2794320" y="46285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83"/>
                <p:cNvSpPr/>
                <p:nvPr/>
              </p:nvSpPr>
              <p:spPr>
                <a:xfrm>
                  <a:off x="3272400" y="46285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84"/>
                <p:cNvSpPr/>
                <p:nvPr/>
              </p:nvSpPr>
              <p:spPr>
                <a:xfrm>
                  <a:off x="3738240" y="4628520"/>
                  <a:ext cx="315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10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Rectangle 85"/>
                <p:cNvSpPr/>
                <p:nvPr/>
              </p:nvSpPr>
              <p:spPr>
                <a:xfrm>
                  <a:off x="1567800" y="3996000"/>
                  <a:ext cx="21024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Rectangle 86"/>
                <p:cNvSpPr/>
                <p:nvPr/>
              </p:nvSpPr>
              <p:spPr>
                <a:xfrm>
                  <a:off x="1409400" y="4209480"/>
                  <a:ext cx="48024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h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Group 87"/>
              <p:cNvGrpSpPr/>
              <p:nvPr/>
            </p:nvGrpSpPr>
            <p:grpSpPr>
              <a:xfrm>
                <a:off x="4491720" y="3343680"/>
                <a:ext cx="2847960" cy="1416600"/>
                <a:chOff x="4491720" y="3343680"/>
                <a:chExt cx="2847960" cy="1416600"/>
              </a:xfrm>
            </p:grpSpPr>
            <p:sp>
              <p:nvSpPr>
                <p:cNvPr id="260" name="Rectangle 88"/>
                <p:cNvSpPr/>
                <p:nvPr/>
              </p:nvSpPr>
              <p:spPr>
                <a:xfrm>
                  <a:off x="5350320" y="4055400"/>
                  <a:ext cx="261720" cy="465480"/>
                </a:xfrm>
                <a:prstGeom prst="rect">
                  <a:avLst/>
                </a:prstGeom>
                <a:solidFill>
                  <a:srgbClr val="99ff33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Rectangle 89"/>
                <p:cNvSpPr/>
                <p:nvPr/>
              </p:nvSpPr>
              <p:spPr>
                <a:xfrm>
                  <a:off x="5765040" y="4161960"/>
                  <a:ext cx="261720" cy="358560"/>
                </a:xfrm>
                <a:prstGeom prst="rect">
                  <a:avLst/>
                </a:prstGeom>
                <a:solidFill>
                  <a:srgbClr val="99ff33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90"/>
                <p:cNvSpPr/>
                <p:nvPr/>
              </p:nvSpPr>
              <p:spPr>
                <a:xfrm>
                  <a:off x="6179400" y="4268520"/>
                  <a:ext cx="254520" cy="252360"/>
                </a:xfrm>
                <a:prstGeom prst="rect">
                  <a:avLst/>
                </a:prstGeom>
                <a:solidFill>
                  <a:srgbClr val="99ff33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91"/>
                <p:cNvSpPr/>
                <p:nvPr/>
              </p:nvSpPr>
              <p:spPr>
                <a:xfrm>
                  <a:off x="6586560" y="4308840"/>
                  <a:ext cx="261720" cy="211680"/>
                </a:xfrm>
                <a:prstGeom prst="rect">
                  <a:avLst/>
                </a:prstGeom>
                <a:solidFill>
                  <a:srgbClr val="99ff33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92"/>
                <p:cNvSpPr/>
                <p:nvPr/>
              </p:nvSpPr>
              <p:spPr>
                <a:xfrm>
                  <a:off x="7000920" y="4341240"/>
                  <a:ext cx="260640" cy="179280"/>
                </a:xfrm>
                <a:prstGeom prst="rect">
                  <a:avLst/>
                </a:prstGeom>
                <a:solidFill>
                  <a:srgbClr val="99ff33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93"/>
                <p:cNvSpPr/>
                <p:nvPr/>
              </p:nvSpPr>
              <p:spPr>
                <a:xfrm>
                  <a:off x="5274720" y="3875760"/>
                  <a:ext cx="1080" cy="645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94"/>
                <p:cNvSpPr/>
                <p:nvPr/>
              </p:nvSpPr>
              <p:spPr>
                <a:xfrm>
                  <a:off x="5274720" y="4520880"/>
                  <a:ext cx="5040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95"/>
                <p:cNvSpPr/>
                <p:nvPr/>
              </p:nvSpPr>
              <p:spPr>
                <a:xfrm>
                  <a:off x="5274720" y="4254840"/>
                  <a:ext cx="5040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96"/>
                <p:cNvSpPr/>
                <p:nvPr/>
              </p:nvSpPr>
              <p:spPr>
                <a:xfrm>
                  <a:off x="5274720" y="3982320"/>
                  <a:ext cx="5040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97"/>
                <p:cNvSpPr/>
                <p:nvPr/>
              </p:nvSpPr>
              <p:spPr>
                <a:xfrm>
                  <a:off x="5274720" y="4520880"/>
                  <a:ext cx="206352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98"/>
                <p:cNvSpPr/>
                <p:nvPr/>
              </p:nvSpPr>
              <p:spPr>
                <a:xfrm flipV="1">
                  <a:off x="5478120" y="449424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99"/>
                <p:cNvSpPr/>
                <p:nvPr/>
              </p:nvSpPr>
              <p:spPr>
                <a:xfrm flipV="1">
                  <a:off x="5892480" y="449424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00"/>
                <p:cNvSpPr/>
                <p:nvPr/>
              </p:nvSpPr>
              <p:spPr>
                <a:xfrm flipV="1">
                  <a:off x="6306840" y="449424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01"/>
                <p:cNvSpPr/>
                <p:nvPr/>
              </p:nvSpPr>
              <p:spPr>
                <a:xfrm flipV="1">
                  <a:off x="6719760" y="449424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02"/>
                <p:cNvSpPr/>
                <p:nvPr/>
              </p:nvSpPr>
              <p:spPr>
                <a:xfrm flipV="1">
                  <a:off x="7134480" y="449424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03"/>
                <p:cNvSpPr/>
                <p:nvPr/>
              </p:nvSpPr>
              <p:spPr>
                <a:xfrm flipV="1">
                  <a:off x="5274720" y="448812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04"/>
                <p:cNvSpPr/>
                <p:nvPr/>
              </p:nvSpPr>
              <p:spPr>
                <a:xfrm flipV="1">
                  <a:off x="5688000" y="448812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05"/>
                <p:cNvSpPr/>
                <p:nvPr/>
              </p:nvSpPr>
              <p:spPr>
                <a:xfrm flipV="1">
                  <a:off x="6102720" y="448812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06"/>
                <p:cNvSpPr/>
                <p:nvPr/>
              </p:nvSpPr>
              <p:spPr>
                <a:xfrm flipV="1">
                  <a:off x="6510960" y="448812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07"/>
                <p:cNvSpPr/>
                <p:nvPr/>
              </p:nvSpPr>
              <p:spPr>
                <a:xfrm flipV="1">
                  <a:off x="6924240" y="448812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08"/>
                <p:cNvSpPr/>
                <p:nvPr/>
              </p:nvSpPr>
              <p:spPr>
                <a:xfrm flipV="1">
                  <a:off x="7338600" y="448812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109"/>
                <p:cNvSpPr/>
                <p:nvPr/>
              </p:nvSpPr>
              <p:spPr>
                <a:xfrm>
                  <a:off x="5629320" y="3343680"/>
                  <a:ext cx="570600" cy="22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Kore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110"/>
                <p:cNvSpPr/>
                <p:nvPr/>
              </p:nvSpPr>
              <p:spPr>
                <a:xfrm>
                  <a:off x="5056200" y="4421520"/>
                  <a:ext cx="10044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111"/>
                <p:cNvSpPr/>
                <p:nvPr/>
              </p:nvSpPr>
              <p:spPr>
                <a:xfrm>
                  <a:off x="5056200" y="4155840"/>
                  <a:ext cx="10044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112"/>
                <p:cNvSpPr/>
                <p:nvPr/>
              </p:nvSpPr>
              <p:spPr>
                <a:xfrm>
                  <a:off x="4965120" y="3881880"/>
                  <a:ext cx="200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Rectangle 113"/>
                <p:cNvSpPr/>
                <p:nvPr/>
              </p:nvSpPr>
              <p:spPr>
                <a:xfrm>
                  <a:off x="5362560" y="46213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114"/>
                <p:cNvSpPr/>
                <p:nvPr/>
              </p:nvSpPr>
              <p:spPr>
                <a:xfrm>
                  <a:off x="5776920" y="46213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15"/>
                <p:cNvSpPr/>
                <p:nvPr/>
              </p:nvSpPr>
              <p:spPr>
                <a:xfrm>
                  <a:off x="6190200" y="46213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Rectangle 116"/>
                <p:cNvSpPr/>
                <p:nvPr/>
              </p:nvSpPr>
              <p:spPr>
                <a:xfrm>
                  <a:off x="6604560" y="46213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117"/>
                <p:cNvSpPr/>
                <p:nvPr/>
              </p:nvSpPr>
              <p:spPr>
                <a:xfrm>
                  <a:off x="7005960" y="4621320"/>
                  <a:ext cx="315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10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18"/>
                <p:cNvSpPr/>
                <p:nvPr/>
              </p:nvSpPr>
              <p:spPr>
                <a:xfrm>
                  <a:off x="4650120" y="3988800"/>
                  <a:ext cx="209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Rectangle 119"/>
                <p:cNvSpPr/>
                <p:nvPr/>
              </p:nvSpPr>
              <p:spPr>
                <a:xfrm>
                  <a:off x="4491720" y="4202280"/>
                  <a:ext cx="48024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h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2" name="Rectangle 120"/>
          <p:cNvSpPr/>
          <p:nvPr/>
        </p:nvSpPr>
        <p:spPr>
          <a:xfrm>
            <a:off x="3281040" y="5409360"/>
            <a:ext cx="579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Eurostat, Annual Report on the Family, BOK ref: Auer, P. CRC Premium Quality W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43A7-E8CF-42CF-B131-BF7EF93312D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40080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ition for the Textile $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"/>
          <p:cNvGrpSpPr/>
          <p:nvPr/>
        </p:nvGrpSpPr>
        <p:grpSpPr>
          <a:xfrm>
            <a:off x="2819520" y="1589040"/>
            <a:ext cx="2268000" cy="2178000"/>
            <a:chOff x="2819520" y="1589040"/>
            <a:chExt cx="2268000" cy="2178000"/>
          </a:xfrm>
        </p:grpSpPr>
        <p:sp>
          <p:nvSpPr>
            <p:cNvPr id="296" name="Arc 5"/>
            <p:cNvSpPr/>
            <p:nvPr/>
          </p:nvSpPr>
          <p:spPr>
            <a:xfrm>
              <a:off x="3953520" y="2678040"/>
              <a:ext cx="1134000" cy="223920"/>
            </a:xfrm>
            <a:custGeom>
              <a:avLst/>
              <a:gdLst/>
              <a:ahLst/>
              <a:rect l="l" t="t" r="r" b="b"/>
              <a:pathLst>
                <a:path fill="none" w="21600" h="4434">
                  <a:moveTo>
                    <a:pt x="21600" y="0"/>
                  </a:moveTo>
                  <a:cubicBezTo>
                    <a:pt x="21600" y="1489"/>
                    <a:pt x="21445" y="2975"/>
                    <a:pt x="21140" y="4434"/>
                  </a:cubicBezTo>
                </a:path>
                <a:path stroke="0" w="21600" h="4434">
                  <a:moveTo>
                    <a:pt x="21600" y="0"/>
                  </a:moveTo>
                  <a:cubicBezTo>
                    <a:pt x="21600" y="1489"/>
                    <a:pt x="21445" y="2975"/>
                    <a:pt x="21140" y="4434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rc 6"/>
            <p:cNvSpPr/>
            <p:nvPr/>
          </p:nvSpPr>
          <p:spPr>
            <a:xfrm>
              <a:off x="3953520" y="2678040"/>
              <a:ext cx="1110600" cy="687240"/>
            </a:xfrm>
            <a:custGeom>
              <a:avLst/>
              <a:gdLst/>
              <a:ahLst/>
              <a:rect l="l" t="t" r="r" b="b"/>
              <a:pathLst>
                <a:path fill="none" w="21140" h="13637">
                  <a:moveTo>
                    <a:pt x="21140" y="4434"/>
                  </a:moveTo>
                  <a:cubicBezTo>
                    <a:pt x="20432" y="7807"/>
                    <a:pt x="18927" y="10963"/>
                    <a:pt x="16750" y="13636"/>
                  </a:cubicBezTo>
                </a:path>
                <a:path stroke="0" w="21140" h="13637">
                  <a:moveTo>
                    <a:pt x="21140" y="4434"/>
                  </a:moveTo>
                  <a:cubicBezTo>
                    <a:pt x="20432" y="7807"/>
                    <a:pt x="18927" y="10963"/>
                    <a:pt x="16750" y="13636"/>
                  </a:cubicBezTo>
                  <a:lnTo>
                    <a:pt x="0" y="0"/>
                  </a:lnTo>
                  <a:lnTo>
                    <a:pt x="21140" y="4434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Arc 7"/>
            <p:cNvSpPr/>
            <p:nvPr/>
          </p:nvSpPr>
          <p:spPr>
            <a:xfrm>
              <a:off x="3953520" y="2678040"/>
              <a:ext cx="879120" cy="933840"/>
            </a:xfrm>
            <a:custGeom>
              <a:avLst/>
              <a:gdLst/>
              <a:ahLst/>
              <a:rect l="l" t="t" r="r" b="b"/>
              <a:pathLst>
                <a:path fill="none" w="16751" h="18518">
                  <a:moveTo>
                    <a:pt x="16750" y="13636"/>
                  </a:moveTo>
                  <a:cubicBezTo>
                    <a:pt x="15170" y="15578"/>
                    <a:pt x="13265" y="17229"/>
                    <a:pt x="11119" y="18518"/>
                  </a:cubicBezTo>
                </a:path>
                <a:path stroke="0" w="16751" h="18518">
                  <a:moveTo>
                    <a:pt x="16750" y="13636"/>
                  </a:moveTo>
                  <a:cubicBezTo>
                    <a:pt x="15170" y="15578"/>
                    <a:pt x="13265" y="17229"/>
                    <a:pt x="11119" y="18518"/>
                  </a:cubicBezTo>
                  <a:lnTo>
                    <a:pt x="0" y="0"/>
                  </a:lnTo>
                  <a:lnTo>
                    <a:pt x="16750" y="13636"/>
                  </a:lnTo>
                  <a:close/>
                </a:path>
              </a:pathLst>
            </a:custGeom>
            <a:solidFill>
              <a:srgbClr val="bf7411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Arc 8"/>
            <p:cNvSpPr/>
            <p:nvPr/>
          </p:nvSpPr>
          <p:spPr>
            <a:xfrm>
              <a:off x="3509640" y="2678040"/>
              <a:ext cx="1027080" cy="1089000"/>
            </a:xfrm>
            <a:custGeom>
              <a:avLst/>
              <a:gdLst/>
              <a:ahLst/>
              <a:rect l="l" t="t" r="r" b="b"/>
              <a:pathLst>
                <a:path fill="none" w="19564" h="21600">
                  <a:moveTo>
                    <a:pt x="19564" y="18518"/>
                  </a:moveTo>
                  <a:cubicBezTo>
                    <a:pt x="16205" y="20534"/>
                    <a:pt x="12362" y="21599"/>
                    <a:pt x="8445" y="21599"/>
                  </a:cubicBezTo>
                  <a:cubicBezTo>
                    <a:pt x="5543" y="21599"/>
                    <a:pt x="2671" y="21015"/>
                    <a:pt x="0" y="19880"/>
                  </a:cubicBezTo>
                </a:path>
                <a:path stroke="0" w="19564" h="21600">
                  <a:moveTo>
                    <a:pt x="19564" y="18518"/>
                  </a:moveTo>
                  <a:cubicBezTo>
                    <a:pt x="16205" y="20534"/>
                    <a:pt x="12362" y="21599"/>
                    <a:pt x="8445" y="21599"/>
                  </a:cubicBezTo>
                  <a:cubicBezTo>
                    <a:pt x="5543" y="21599"/>
                    <a:pt x="2671" y="21015"/>
                    <a:pt x="0" y="19880"/>
                  </a:cubicBezTo>
                  <a:lnTo>
                    <a:pt x="8445" y="0"/>
                  </a:lnTo>
                  <a:lnTo>
                    <a:pt x="19564" y="18518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Arc 9"/>
            <p:cNvSpPr/>
            <p:nvPr/>
          </p:nvSpPr>
          <p:spPr>
            <a:xfrm>
              <a:off x="2823840" y="2678040"/>
              <a:ext cx="1129680" cy="1001160"/>
            </a:xfrm>
            <a:custGeom>
              <a:avLst/>
              <a:gdLst/>
              <a:ahLst/>
              <a:rect l="l" t="t" r="r" b="b"/>
              <a:pathLst>
                <a:path fill="none" w="21513" h="19881">
                  <a:moveTo>
                    <a:pt x="13068" y="19880"/>
                  </a:moveTo>
                  <a:cubicBezTo>
                    <a:pt x="5736" y="16766"/>
                    <a:pt x="713" y="9869"/>
                    <a:pt x="-1" y="1935"/>
                  </a:cubicBezTo>
                </a:path>
                <a:path stroke="0" w="21513" h="19881">
                  <a:moveTo>
                    <a:pt x="13068" y="19880"/>
                  </a:moveTo>
                  <a:cubicBezTo>
                    <a:pt x="5736" y="16766"/>
                    <a:pt x="713" y="9869"/>
                    <a:pt x="-1" y="1935"/>
                  </a:cubicBezTo>
                  <a:lnTo>
                    <a:pt x="21513" y="0"/>
                  </a:lnTo>
                  <a:lnTo>
                    <a:pt x="13068" y="19880"/>
                  </a:lnTo>
                  <a:close/>
                </a:path>
              </a:pathLst>
            </a:custGeom>
            <a:solidFill>
              <a:srgbClr val="cc0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rc 10"/>
            <p:cNvSpPr/>
            <p:nvPr/>
          </p:nvSpPr>
          <p:spPr>
            <a:xfrm>
              <a:off x="2819520" y="1591560"/>
              <a:ext cx="1134000" cy="1182960"/>
            </a:xfrm>
            <a:custGeom>
              <a:avLst/>
              <a:gdLst/>
              <a:ahLst/>
              <a:rect l="l" t="t" r="r" b="b"/>
              <a:pathLst>
                <a:path fill="none" w="21600" h="23485">
                  <a:moveTo>
                    <a:pt x="86" y="23485"/>
                  </a:moveTo>
                  <a:cubicBezTo>
                    <a:pt x="28" y="22841"/>
                    <a:pt x="0" y="22195"/>
                    <a:pt x="0" y="21550"/>
                  </a:cubicBezTo>
                  <a:cubicBezTo>
                    <a:pt x="0" y="10193"/>
                    <a:pt x="8794" y="776"/>
                    <a:pt x="20124" y="0"/>
                  </a:cubicBezTo>
                </a:path>
                <a:path stroke="0" w="21600" h="23485">
                  <a:moveTo>
                    <a:pt x="86" y="23485"/>
                  </a:moveTo>
                  <a:cubicBezTo>
                    <a:pt x="28" y="22841"/>
                    <a:pt x="0" y="22195"/>
                    <a:pt x="0" y="21550"/>
                  </a:cubicBezTo>
                  <a:cubicBezTo>
                    <a:pt x="0" y="10193"/>
                    <a:pt x="8794" y="776"/>
                    <a:pt x="20124" y="0"/>
                  </a:cubicBezTo>
                  <a:lnTo>
                    <a:pt x="21600" y="21550"/>
                  </a:lnTo>
                  <a:lnTo>
                    <a:pt x="86" y="23485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rc 11"/>
            <p:cNvSpPr/>
            <p:nvPr/>
          </p:nvSpPr>
          <p:spPr>
            <a:xfrm>
              <a:off x="3875760" y="1589040"/>
              <a:ext cx="389520" cy="1089000"/>
            </a:xfrm>
            <a:custGeom>
              <a:avLst/>
              <a:gdLst/>
              <a:ahLst/>
              <a:rect l="l" t="t" r="r" b="b"/>
              <a:pathLst>
                <a:path fill="none" w="7410" h="21600">
                  <a:moveTo>
                    <a:pt x="0" y="50"/>
                  </a:moveTo>
                  <a:cubicBezTo>
                    <a:pt x="491" y="16"/>
                    <a:pt x="983" y="-1"/>
                    <a:pt x="1476" y="-1"/>
                  </a:cubicBezTo>
                  <a:cubicBezTo>
                    <a:pt x="3482" y="-1"/>
                    <a:pt x="5480" y="279"/>
                    <a:pt x="7409" y="831"/>
                  </a:cubicBezTo>
                </a:path>
                <a:path stroke="0" w="7410" h="21600">
                  <a:moveTo>
                    <a:pt x="0" y="50"/>
                  </a:moveTo>
                  <a:cubicBezTo>
                    <a:pt x="491" y="16"/>
                    <a:pt x="983" y="-1"/>
                    <a:pt x="1476" y="-1"/>
                  </a:cubicBezTo>
                  <a:cubicBezTo>
                    <a:pt x="3482" y="-1"/>
                    <a:pt x="5480" y="279"/>
                    <a:pt x="7409" y="831"/>
                  </a:cubicBezTo>
                  <a:lnTo>
                    <a:pt x="1476" y="2160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Arc 12"/>
            <p:cNvSpPr/>
            <p:nvPr/>
          </p:nvSpPr>
          <p:spPr>
            <a:xfrm>
              <a:off x="3953520" y="1631520"/>
              <a:ext cx="1134000" cy="1046520"/>
            </a:xfrm>
            <a:custGeom>
              <a:avLst/>
              <a:gdLst/>
              <a:ahLst/>
              <a:rect l="l" t="t" r="r" b="b"/>
              <a:pathLst>
                <a:path fill="none" w="21600" h="20769">
                  <a:moveTo>
                    <a:pt x="5933" y="0"/>
                  </a:moveTo>
                  <a:cubicBezTo>
                    <a:pt x="15206" y="2649"/>
                    <a:pt x="21600" y="11125"/>
                    <a:pt x="21600" y="20769"/>
                  </a:cubicBezTo>
                </a:path>
                <a:path stroke="0" w="21600" h="20769">
                  <a:moveTo>
                    <a:pt x="5933" y="0"/>
                  </a:moveTo>
                  <a:cubicBezTo>
                    <a:pt x="15206" y="2649"/>
                    <a:pt x="21600" y="11125"/>
                    <a:pt x="21600" y="20769"/>
                  </a:cubicBezTo>
                  <a:lnTo>
                    <a:pt x="0" y="20769"/>
                  </a:lnTo>
                  <a:lnTo>
                    <a:pt x="5933" y="0"/>
                  </a:lnTo>
                  <a:close/>
                </a:path>
              </a:pathLst>
            </a:custGeom>
            <a:solidFill>
              <a:srgbClr val="fafd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14"/>
          <p:cNvSpPr/>
          <p:nvPr/>
        </p:nvSpPr>
        <p:spPr>
          <a:xfrm>
            <a:off x="3942360" y="114300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thing &amp; Footwear 5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5027760" y="181764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od 20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5257800" y="2655720"/>
            <a:ext cx="272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ncial Services 3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29"/>
          <p:cNvSpPr/>
          <p:nvPr/>
        </p:nvSpPr>
        <p:spPr>
          <a:xfrm>
            <a:off x="5318280" y="948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5101920" y="31129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&amp; Personal Goods 7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4873680" y="357012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ertainment 5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3428280" y="38750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15.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1369080" y="318924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 17.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1062720" y="181764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ing &amp; Energy 20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5"/>
          <p:cNvSpPr/>
          <p:nvPr/>
        </p:nvSpPr>
        <p:spPr>
          <a:xfrm>
            <a:off x="6966720" y="5333400"/>
            <a:ext cx="209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ter Auer   Source: ABS (1996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413F-6B6B-45A9-A8E5-0418D629F4B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ffect of Age on Fibre selection and use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stralian Womenswe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weaters, cardigans, sweatshir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1582560" y="1143000"/>
            <a:ext cx="6240600" cy="32893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8"/>
          <p:cNvSpPr/>
          <p:nvPr/>
        </p:nvSpPr>
        <p:spPr>
          <a:xfrm>
            <a:off x="3054240" y="1676520"/>
            <a:ext cx="19134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rn post-World War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5143320" y="5257800"/>
            <a:ext cx="39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f: Auer, P. </a:t>
            </a:r>
            <a:r>
              <a:rPr b="0" lang="en-US" sz="10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www.woolwise.com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... CRC for Premium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Quality Wool. 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urce: IWS: Consumer Purchase Research (199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ABAC-577A-4A87-B233-A1E587F1E79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fort, Performance and Fashion as Drivers for Purchasing Decisions of Apparel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427800" cy="37339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7"/>
          <p:cNvSpPr/>
          <p:nvPr/>
        </p:nvSpPr>
        <p:spPr>
          <a:xfrm>
            <a:off x="4500360" y="5256720"/>
            <a:ext cx="47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f: Auer, P.    CRC for Premium Quality Wool.  Source: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ohnson, N. (1998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6639-7AF4-4B26-B062-2D3A0FC9380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4" descr="Forw4_2R"/>
          <p:cNvPicPr/>
          <p:nvPr/>
        </p:nvPicPr>
        <p:blipFill>
          <a:blip r:embed="rId1"/>
          <a:srcRect l="1893" t="0" r="1893" b="0"/>
          <a:stretch/>
        </p:blipFill>
        <p:spPr>
          <a:xfrm>
            <a:off x="533520" y="1143000"/>
            <a:ext cx="6737400" cy="44719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7"/>
          <p:cNvSpPr/>
          <p:nvPr/>
        </p:nvSpPr>
        <p:spPr>
          <a:xfrm>
            <a:off x="6629400" y="540936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Morris, D. &amp; Stogdon, A. (199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380880" y="-76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of distribution and processing stages for northern hemisphere purchases of Australian wool, 1996-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1:16:18Z</dcterms:created>
  <dc:creator>Bob Couchman</dc:creator>
  <dc:description/>
  <dc:language>en-US</dc:language>
  <cp:lastModifiedBy>Peter Sommerville</cp:lastModifiedBy>
  <dcterms:modified xsi:type="dcterms:W3CDTF">2014-07-12T05:22:19Z</dcterms:modified>
  <cp:revision>26</cp:revision>
  <dc:subject/>
  <dc:title>Lecture 17.</dc:title>
</cp:coreProperties>
</file>