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A376E8-DA2E-44EC-8DCE-E2D6C862E7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971640" y="162828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971640" y="3499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860833D-02BF-48AC-A20A-CD67C6A955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97164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95432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971640" y="3499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954320" y="3499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9C0D2639-3FED-40A8-A00A-561E7D4478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971640" y="1628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599640" y="1628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227280" y="1628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971640" y="3499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599640" y="3499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227280" y="3499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C060A385-E07A-43A3-8F38-E8574803E6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0FBDE6-7215-42AB-ACC6-DD61B6CBC4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971640" y="1628280"/>
            <a:ext cx="7772400" cy="35816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6D9EBC9-DEE5-45D9-A4C0-CE2C061DCF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971640" y="162828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BC58DF-A91C-4557-9774-B0366E6D1A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971640" y="162828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954320" y="162828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23DFF51D-EA6B-4DCD-9173-F5D991B6FD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2BA14063-4B95-4A89-9AB3-020C487F31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360" y="11556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DBDDD843-E680-44F5-A520-385D248914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97164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954320" y="162828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971640" y="3499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673787A0-CE36-4567-903A-1976D6795E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971640" y="1628280"/>
            <a:ext cx="7772400" cy="35816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7072D-AEA6-4B73-86FD-08CE6445EF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971640" y="162828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95432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954320" y="3499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F0F95722-6A2A-4ECC-B354-9A794D30C4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97164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95432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971640" y="3499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153B2EEE-59CA-4034-95A4-3D49C1B657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971640" y="162828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971640" y="3499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33A16A59-A3D8-49AE-A2CE-279598A591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97164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95432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971640" y="3499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954320" y="3499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0AFDC947-43FA-4C75-868F-1CE80228B7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971640" y="1628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599640" y="1628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227280" y="1628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971640" y="3499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599640" y="3499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227280" y="3499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4A5F7A9A-4E10-49AD-8B2B-93AC9DF494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971640" y="162828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AE307-593C-4632-9CED-02F9593DB5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971640" y="162828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954320" y="162828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3A1CEC50-0E8B-4481-B9BD-C897AF15E8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4756C279-5A01-4AC5-A8A5-F1D20F308D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11556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C752AA03-D3A8-4E51-A3CA-4913D950EF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97164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954320" y="162828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971640" y="3499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84D08C5-F335-45BA-A587-4DED91A0AC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971640" y="162828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95432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954320" y="3499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3CF3B6E-F956-458A-9F69-212BAB643F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97164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95432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971640" y="3499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9CC7CEE-7382-4716-B896-923CE99650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971640" y="1628280"/>
            <a:ext cx="7772400" cy="3581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2F0B6-6E8A-4C67-8CC7-F6FBE0344C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61812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07692-EEA7-47FE-97D5-897B22D4DF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188640"/>
            <a:ext cx="7991280" cy="173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fluence of Clip Preparation Methods on Fibre Diameter, Length and Processing Performance</a:t>
            </a:r>
            <a:endParaRPr b="1" lang="en-US" sz="3600" spc="-1" strike="noStrike">
              <a:solidFill>
                <a:srgbClr val="000000"/>
              </a:solidFill>
              <a:latin typeface="Arial"/>
            </a:endParaRPr>
          </a:p>
        </p:txBody>
      </p:sp>
      <p:sp>
        <p:nvSpPr>
          <p:cNvPr id="85" name="PlaceHolder 2"/>
          <p:cNvSpPr>
            <a:spLocks noGrp="1"/>
          </p:cNvSpPr>
          <p:nvPr>
            <p:ph type="subTitle"/>
          </p:nvPr>
        </p:nvSpPr>
        <p:spPr>
          <a:xfrm>
            <a:off x="1476360" y="458100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2 – Lecture 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4EC5EE5-94D2-4267-BEE9-9ED74AE36D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1592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urces of variation in fibre length</a:t>
            </a:r>
            <a:endParaRPr b="1" lang="en-US" sz="3200" spc="-1" strike="noStrike">
              <a:solidFill>
                <a:srgbClr val="000000"/>
              </a:solidFill>
              <a:latin typeface="Arial"/>
            </a:endParaRPr>
          </a:p>
        </p:txBody>
      </p:sp>
      <p:pic>
        <p:nvPicPr>
          <p:cNvPr id="101" name="" descr=""/>
          <p:cNvPicPr/>
          <p:nvPr/>
        </p:nvPicPr>
        <p:blipFill>
          <a:blip r:embed="rId1"/>
          <a:stretch/>
        </p:blipFill>
        <p:spPr>
          <a:xfrm>
            <a:off x="1547640" y="692280"/>
            <a:ext cx="4053240" cy="4824360"/>
          </a:xfrm>
          <a:prstGeom prst="rect">
            <a:avLst/>
          </a:prstGeom>
          <a:ln w="0">
            <a:noFill/>
          </a:ln>
        </p:spPr>
      </p:pic>
      <p:sp>
        <p:nvSpPr>
          <p:cNvPr id="102" name=""/>
          <p:cNvSpPr/>
          <p:nvPr/>
        </p:nvSpPr>
        <p:spPr>
          <a:xfrm>
            <a:off x="6407280" y="5300640"/>
            <a:ext cx="27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ndrews, 1974</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C49EB3FC-B8FC-4509-B695-8DAD3B8FDC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68360" y="189000"/>
            <a:ext cx="6858000" cy="396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bre Length variation</a:t>
            </a:r>
            <a:endParaRPr b="0" lang="en-US" sz="3200" spc="-1" strike="noStrike">
              <a:solidFill>
                <a:srgbClr val="000000"/>
              </a:solidFill>
              <a:latin typeface="Arial"/>
            </a:endParaRPr>
          </a:p>
        </p:txBody>
      </p:sp>
      <p:graphicFrame>
        <p:nvGraphicFramePr>
          <p:cNvPr id="104" name=""/>
          <p:cNvGraphicFramePr/>
          <p:nvPr/>
        </p:nvGraphicFramePr>
        <p:xfrm>
          <a:off x="611280" y="1557360"/>
          <a:ext cx="8001000" cy="3348000"/>
        </p:xfrm>
        <a:graphic>
          <a:graphicData uri="http://schemas.openxmlformats.org/drawingml/2006/table">
            <a:tbl>
              <a:tblPr/>
              <a:tblGrid>
                <a:gridCol w="4000680"/>
                <a:gridCol w="4000320"/>
              </a:tblGrid>
              <a:tr h="3603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of Vari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77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in the stapl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the flee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ween fleec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6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
          <p:cNvSpPr/>
          <p:nvPr/>
        </p:nvSpPr>
        <p:spPr>
          <a:xfrm>
            <a:off x="5724360" y="5373720"/>
            <a:ext cx="324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ndrews, 1974</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C602CE43-1476-49FC-BD1E-DEE49A12E2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5560"/>
            <a:ext cx="77724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ple Length in Classed Lines</a:t>
            </a:r>
            <a:endParaRPr b="1" lang="en-US" sz="3200" spc="-1" strike="noStrike">
              <a:solidFill>
                <a:srgbClr val="000000"/>
              </a:solidFill>
              <a:latin typeface="Arial"/>
            </a:endParaRPr>
          </a:p>
        </p:txBody>
      </p:sp>
      <p:graphicFrame>
        <p:nvGraphicFramePr>
          <p:cNvPr id="107" name=""/>
          <p:cNvGraphicFramePr/>
          <p:nvPr/>
        </p:nvGraphicFramePr>
        <p:xfrm>
          <a:off x="539640" y="1557360"/>
          <a:ext cx="8001000" cy="3178080"/>
        </p:xfrm>
        <a:graphic>
          <a:graphicData uri="http://schemas.openxmlformats.org/drawingml/2006/table">
            <a:tbl>
              <a:tblPr/>
              <a:tblGrid>
                <a:gridCol w="2667240"/>
                <a:gridCol w="2666880"/>
                <a:gridCol w="2666880"/>
              </a:tblGrid>
              <a:tr h="576360">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ple Length in Classed Li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ple Length              Mean (mm  CV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90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A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ACO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CO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lass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KN FL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
          <p:cNvSpPr/>
          <p:nvPr/>
        </p:nvSpPr>
        <p:spPr>
          <a:xfrm>
            <a:off x="5724360" y="5373720"/>
            <a:ext cx="324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ndres 1974</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1A513319-C193-4294-A324-AAB7282D8B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0" y="189000"/>
            <a:ext cx="9144000" cy="54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results show that the differences in length between classed lines are small.  Although the AAM and AACOM are comprised mainly of wools of “heavier condition and/or shorter” the differences of these lines from the AAAM and AAACOM lines are only 1mm-2mm. However, a top maker may have his 100ton lot rejected if it is 1-2mm shorter than that specified on the sales contract. </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The AM line, reserved for very short fleeces, is 10mm shorter but is usually only very small</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The most significant feature is that if the fleeces were unclassed the mean length of this line (88.4mm) would be very close to that of the major classed line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he CV of fibre length of the unclassed line does not differ from the classed lines.  Classing had little or no effect on reducing the variability of staple length within lines unless classers mix tender and sound wool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5.</a:t>
            </a:r>
            <a:r>
              <a:rPr b="0" lang="en-AU" sz="2000" spc="-1" strike="noStrike">
                <a:solidFill>
                  <a:srgbClr val="000000"/>
                </a:solidFill>
                <a:latin typeface="Arial"/>
              </a:rPr>
              <a:t>	</a:t>
            </a:r>
            <a:r>
              <a:rPr b="0" lang="en-AU" sz="2000" spc="-1" strike="noStrike">
                <a:solidFill>
                  <a:srgbClr val="000000"/>
                </a:solidFill>
                <a:latin typeface="Arial"/>
              </a:rPr>
              <a:t>Wools from lower lines (eg. AM, AAACOM, AACOM, BKNFLC) are more difficult to predict their processing performance. They require more opening, better burr removal and as a consequence more fibres are broken during carding</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A9192D2D-3F98-4F08-86B6-22526E2DBD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15560"/>
            <a:ext cx="813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riation in staple length among fleeces within a mob of sheep</a:t>
            </a:r>
            <a:endParaRPr b="1" lang="en-US" sz="3200" spc="-1" strike="noStrike">
              <a:solidFill>
                <a:srgbClr val="000000"/>
              </a:solidFill>
              <a:latin typeface="Arial"/>
            </a:endParaRPr>
          </a:p>
        </p:txBody>
      </p:sp>
      <p:pic>
        <p:nvPicPr>
          <p:cNvPr id="111" name="" descr=""/>
          <p:cNvPicPr/>
          <p:nvPr/>
        </p:nvPicPr>
        <p:blipFill>
          <a:blip r:embed="rId1"/>
          <a:stretch/>
        </p:blipFill>
        <p:spPr>
          <a:xfrm>
            <a:off x="755640" y="1197000"/>
            <a:ext cx="5400720" cy="4451400"/>
          </a:xfrm>
          <a:prstGeom prst="rect">
            <a:avLst/>
          </a:prstGeom>
          <a:ln w="0">
            <a:noFill/>
          </a:ln>
        </p:spPr>
      </p:pic>
      <p:sp>
        <p:nvSpPr>
          <p:cNvPr id="112" name=""/>
          <p:cNvSpPr/>
          <p:nvPr/>
        </p:nvSpPr>
        <p:spPr>
          <a:xfrm>
            <a:off x="6948360" y="5300640"/>
            <a:ext cx="2195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ndrews, 1974</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3436811A-C569-42B1-A15F-B07CCF3B4C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9280" y="549000"/>
            <a:ext cx="8001000" cy="4895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It was still considered necessary to demonstrate that the processing performance of fleeces that were unclassed for staple length was satisfacto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To do this, fleeces from individual mobs were sorted into three categories namely long (L), medium (M) and short (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Comparisons were made between these lines and various combinations of them</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CD2AE95-84C4-4328-8BEA-2572718E8D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68360" y="549360"/>
            <a:ext cx="7920000" cy="530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arison of Staple Lengths – </a:t>
            </a:r>
            <a:br>
              <a:rPr sz="3200"/>
            </a:br>
            <a:r>
              <a:rPr b="1" lang="en-US" sz="3200" spc="-1" strike="noStrike">
                <a:solidFill>
                  <a:srgbClr val="000000"/>
                </a:solidFill>
                <a:latin typeface="Arial"/>
              </a:rPr>
              <a:t>Greasy Wool and Top</a:t>
            </a:r>
            <a:endParaRPr b="0" lang="en-US" sz="3200" spc="-1" strike="noStrike">
              <a:solidFill>
                <a:srgbClr val="000000"/>
              </a:solidFill>
              <a:latin typeface="Arial"/>
            </a:endParaRPr>
          </a:p>
        </p:txBody>
      </p:sp>
      <p:graphicFrame>
        <p:nvGraphicFramePr>
          <p:cNvPr id="115" name=""/>
          <p:cNvGraphicFramePr/>
          <p:nvPr/>
        </p:nvGraphicFramePr>
        <p:xfrm>
          <a:off x="755640" y="1341360"/>
          <a:ext cx="8001000" cy="3906720"/>
        </p:xfrm>
        <a:graphic>
          <a:graphicData uri="http://schemas.openxmlformats.org/drawingml/2006/table">
            <a:tbl>
              <a:tblPr/>
              <a:tblGrid>
                <a:gridCol w="1144440"/>
                <a:gridCol w="1141560"/>
                <a:gridCol w="1143000"/>
                <a:gridCol w="1143000"/>
                <a:gridCol w="1143000"/>
                <a:gridCol w="1141560"/>
                <a:gridCol w="1144440"/>
              </a:tblGrid>
              <a:tr h="418680">
                <a:tc row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as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ple Leng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Leng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Lengt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1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 (m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V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 (m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V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 (m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V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 (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86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 (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M+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5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 + 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
          <p:cNvSpPr/>
          <p:nvPr/>
        </p:nvSpPr>
        <p:spPr>
          <a:xfrm>
            <a:off x="5724360" y="5373720"/>
            <a:ext cx="324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Rottenbury and Smith 1979</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153D3EED-7FFE-4B9F-97E5-36902C3073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280" y="125280"/>
            <a:ext cx="842472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ation in staple length within lines comprising the long, medium and short fleeces from a single mob of sheep</a:t>
            </a:r>
            <a:endParaRPr b="0" lang="en-US" sz="2800" spc="-1" strike="noStrike">
              <a:solidFill>
                <a:srgbClr val="000000"/>
              </a:solidFill>
              <a:latin typeface="Arial"/>
            </a:endParaRPr>
          </a:p>
        </p:txBody>
      </p:sp>
      <p:pic>
        <p:nvPicPr>
          <p:cNvPr id="118" name="" descr=""/>
          <p:cNvPicPr/>
          <p:nvPr/>
        </p:nvPicPr>
        <p:blipFill>
          <a:blip r:embed="rId1"/>
          <a:stretch/>
        </p:blipFill>
        <p:spPr>
          <a:xfrm>
            <a:off x="684360" y="1197000"/>
            <a:ext cx="5832360" cy="5394240"/>
          </a:xfrm>
          <a:prstGeom prst="rect">
            <a:avLst/>
          </a:prstGeom>
          <a:ln w="0">
            <a:noFill/>
          </a:ln>
        </p:spPr>
      </p:pic>
      <p:sp>
        <p:nvSpPr>
          <p:cNvPr id="119" name=""/>
          <p:cNvSpPr/>
          <p:nvPr/>
        </p:nvSpPr>
        <p:spPr>
          <a:xfrm>
            <a:off x="6948360" y="5300640"/>
            <a:ext cx="2195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ndrews, 1974</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FFCB723F-5788-453D-AA00-285DF19A73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39280" y="333000"/>
            <a:ext cx="8425080" cy="5373720"/>
          </a:xfrm>
          <a:prstGeom prst="rect">
            <a:avLst/>
          </a:prstGeom>
          <a:noFill/>
          <a:ln w="0">
            <a:noFill/>
          </a:ln>
        </p:spPr>
        <p:txBody>
          <a:bodyPr lIns="90000" rIns="90000" tIns="46800" bIns="4680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As expected the three length groups differ by about 10mm in staple length and this order is maintained in the fibre length of the resulting tops</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bre length differences in the top are quite small, the long and the short lines differing by only 7mm.  This is due to the levelling action of the carding operation</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Differences in CV staple length are small and are reflected in the CV fibre length in the top</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CV fibre length is very much greater than CV staple length because, as was the case with fibre diameter, most of the variation in fibre length occurs within the staple.  The variation is increased during carding due to fibre breakage</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Classing has very little effect on the CV fibre length in the top</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9B532121-AB17-4B7B-9CD2-A532ACDC6E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68360" y="189000"/>
            <a:ext cx="8424720" cy="4968720"/>
          </a:xfrm>
          <a:prstGeom prst="rect">
            <a:avLst/>
          </a:prstGeom>
          <a:noFill/>
          <a:ln w="0">
            <a:noFill/>
          </a:ln>
        </p:spPr>
        <p:txBody>
          <a:bodyPr lIns="90000" rIns="90000" tIns="46800" bIns="46800" anchor="t">
            <a:normAutofit fontScale="96000"/>
          </a:bodyPr>
          <a:p>
            <a:pPr marL="36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In the Comparison of Staple Lengths table, the L+M+S group represents a line unclassed for staple length so that its mean would be expected to match that of the M group but it would have a greater CV staple length</a:t>
            </a:r>
            <a:endParaRPr b="0" lang="en-US" sz="2000" spc="-1" strike="noStrike">
              <a:solidFill>
                <a:srgbClr val="000000"/>
              </a:solidFill>
              <a:latin typeface="Arial"/>
            </a:endParaRPr>
          </a:p>
          <a:p>
            <a:pPr marL="36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The mean values are identical and the CV values differ by only 1% point</a:t>
            </a:r>
            <a:endParaRPr b="0" lang="en-US" sz="2000" spc="-1" strike="noStrike">
              <a:solidFill>
                <a:srgbClr val="000000"/>
              </a:solidFill>
              <a:latin typeface="Arial"/>
            </a:endParaRPr>
          </a:p>
          <a:p>
            <a:pPr marL="36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The mean fibre lengths in the top differ by only 1mm and the CV fibre length is identical for both lots</a:t>
            </a:r>
            <a:endParaRPr b="0" lang="en-US" sz="2000" spc="-1" strike="noStrike">
              <a:solidFill>
                <a:srgbClr val="000000"/>
              </a:solidFill>
              <a:latin typeface="Arial"/>
            </a:endParaRPr>
          </a:p>
          <a:p>
            <a:pPr marL="36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400" indent="-36540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when the long and short lots are mixed to increase variability the mean fibre length and CV fibre length in the top show very little effect</a:t>
            </a:r>
            <a:endParaRPr b="0" lang="en-US" sz="2000" spc="-1" strike="noStrike">
              <a:solidFill>
                <a:srgbClr val="000000"/>
              </a:solidFill>
              <a:latin typeface="Arial"/>
            </a:endParaRPr>
          </a:p>
          <a:p>
            <a:pPr marL="36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4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NB: </a:t>
            </a:r>
            <a:r>
              <a:rPr b="0" lang="en-US" sz="1400" spc="-1" strike="noStrike">
                <a:solidFill>
                  <a:srgbClr val="000000"/>
                </a:solidFill>
                <a:latin typeface="Arial"/>
              </a:rPr>
              <a:t>From a processing point of view the provision of presale test results for fibre diameter yield, and staple length remove the requirement to class skirted fleeces from the same mob into separate lines on the basis of quality number, condition and staple length. </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D9015174-AC0B-4FD2-B10F-81CDAA7CC8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280" y="404280"/>
            <a:ext cx="8001000" cy="4967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small differences achieved in fibre diameter between lines cast doubts on the value of fleece classing, whilst the large differences among lots appraised as being of the same fineness, yield and length required further explan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It was also established the classing did little to improve the uniformity of the important measured characteristics of sale lots despite the fact that the classer produced fleece lines of high visual uniform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The answer to these apparent anomalies lay in the components of variation of important characteristics together with the correlations between them and the characteristics, such as crimp frequency, that the classer used to estimate them</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ACE9704-3895-4041-927F-AC9E5CA2B4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99640" y="1052640"/>
            <a:ext cx="8001000" cy="262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Topic Summa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CA0856B-0559-4907-8797-29FFF7E156DD}" type="slidenum">
              <a:t>20</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755280" y="260280"/>
            <a:ext cx="8001000" cy="5184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bulk of the variation in fibre diameter, 70% - 80%, lies within the single stap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It is composed of two pa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ariation among fibres due to the complex structure of the </a:t>
            </a:r>
            <a:r>
              <a:rPr b="0" lang="en-US" sz="2000" spc="-1" strike="noStrike">
                <a:solidFill>
                  <a:srgbClr val="000000"/>
                </a:solidFill>
                <a:latin typeface="Arial"/>
              </a:rPr>
              <a:t>	</a:t>
            </a:r>
            <a:r>
              <a:rPr b="0" lang="en-US" sz="2000" spc="-1" strike="noStrike">
                <a:solidFill>
                  <a:srgbClr val="000000"/>
                </a:solidFill>
                <a:latin typeface="Arial"/>
              </a:rPr>
              <a:t>follicle population an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ariation along the fibres due to nutritional conditions throughout the growing seas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The classer is not able to influence these components as he/she is limited mainly to the variation in fibre diameter that exists among fleec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This component of variation is only equal to ¼ of the variation that exists within the staple in sound wool and even less in tender woo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However the classes can only influence the among-fleece component of variation indirectly through the correlation between crimp frequency and fibre diameter, which is not strong</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8408DD27-357B-483A-855E-D4C6984A0B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611280" y="981000"/>
          <a:ext cx="8001000" cy="3678120"/>
        </p:xfrm>
        <a:graphic>
          <a:graphicData uri="http://schemas.openxmlformats.org/drawingml/2006/table">
            <a:tbl>
              <a:tblPr/>
              <a:tblGrid>
                <a:gridCol w="4000320"/>
                <a:gridCol w="4000680"/>
              </a:tblGrid>
              <a:tr h="48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of Vari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nce (um 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4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ng fibres within a stapl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ong fibres within a stap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und woo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nder woo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ng staples within the flee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png fleeces within a mo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ng fleeces within a classed lin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 – 3.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ng classed lines within a mo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 – 0.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 name=""/>
          <p:cNvSpPr/>
          <p:nvPr/>
        </p:nvSpPr>
        <p:spPr>
          <a:xfrm>
            <a:off x="5724360" y="5373720"/>
            <a:ext cx="324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Whiteley, 1974</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581BA3BD-F12C-4FC7-B4DD-E5702DD469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3000" y="259920"/>
            <a:ext cx="8001000" cy="5373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Previous table shows that the classer has to operate on a variance component of 4um</a:t>
            </a:r>
            <a:r>
              <a:rPr b="0" lang="en-US" sz="2000" spc="-1" strike="noStrike" baseline="30000">
                <a:solidFill>
                  <a:srgbClr val="000000"/>
                </a:solidFill>
                <a:latin typeface="Arial"/>
              </a:rPr>
              <a:t>2</a:t>
            </a:r>
            <a:r>
              <a:rPr b="0" lang="en-US" sz="2000" spc="-1" strike="noStrike">
                <a:solidFill>
                  <a:srgbClr val="000000"/>
                </a:solidFill>
                <a:latin typeface="Arial"/>
              </a:rPr>
              <a:t> and can only reduce this figure to 3.9um</a:t>
            </a:r>
            <a:r>
              <a:rPr b="0" lang="en-US" sz="2000" spc="-1" strike="noStrike" baseline="30000">
                <a:solidFill>
                  <a:srgbClr val="000000"/>
                </a:solidFill>
                <a:latin typeface="Arial"/>
              </a:rPr>
              <a:t>2</a:t>
            </a:r>
            <a:r>
              <a:rPr b="0" lang="en-US" sz="2000" spc="-1" strike="noStrike">
                <a:solidFill>
                  <a:srgbClr val="000000"/>
                </a:solidFill>
                <a:latin typeface="Arial"/>
              </a:rPr>
              <a:t> by separating fleeces on the basis of quality numb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Presale testing came too late in the sequence to help the classer but it did provide the buyer with the ability to reduce the large differences that occurred among sale lots of the same apparent finen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This led to the concept of objective clip preparation (OCP) under which fleeces from the same mob were kept together in one major line but then tested presale for matching purposes by the buy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There was still concern that this large line exhibiting a range of up to three quality numbers would not process as well as the classed line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B87BC3A6-4F4B-4C85-8425-842680F971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360" y="260280"/>
            <a:ext cx="8424720" cy="530064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o validate the OCP procedure, trials were undertaken to demonstrate the characteristics of the OCP line and its processing performance</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For these trials the skirted fleeces from single mobs were split into three groups comprising the traditional fine and coarse lines and one group of unclassed fleec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Note that the diameter of the lines does not change significantly during processing and the OCP line lies in an intermediate position between the fine and coarse lines in terms of both average fibre diameter and its variability</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Note also that the crimp frequency varies as would be expected when selection is based on quality number</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Further, the OCP line performed as expected in worsted spinning performance and in yarn quality</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F5FC3ABA-2350-43A2-8DE6-FE0E29D3FE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10920" y="476280"/>
            <a:ext cx="8001000" cy="4968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Staple length differs from fibre diameter in that there is very extensive breakage of fibres during processing so that length is substantially reduc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Nevertheless there is a strong relationship between staple length and fibre length in the top</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Staple strength does cause deviations from this relationship but staple length remains the dominant factor in determining fibre length in the top.  The length of staples can be more easily appraised by the classer and the buyer than was the case with fibre diamet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However, the variation in staple length over the fleece and among fleeces makes the task difficult</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912A6FCA-31B4-4C7A-B688-46780C7B7E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7360"/>
            <a:ext cx="820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lationship between mean fibre and staple length in greasy wool</a:t>
            </a:r>
            <a:endParaRPr b="1" lang="en-US" sz="2800" spc="-1" strike="noStrike">
              <a:solidFill>
                <a:srgbClr val="000000"/>
              </a:solidFill>
              <a:latin typeface="Arial"/>
            </a:endParaRPr>
          </a:p>
        </p:txBody>
      </p:sp>
      <p:pic>
        <p:nvPicPr>
          <p:cNvPr id="94" name="" descr=""/>
          <p:cNvPicPr/>
          <p:nvPr/>
        </p:nvPicPr>
        <p:blipFill>
          <a:blip r:embed="rId1"/>
          <a:stretch/>
        </p:blipFill>
        <p:spPr>
          <a:xfrm>
            <a:off x="755640" y="981000"/>
            <a:ext cx="5400720" cy="4568760"/>
          </a:xfrm>
          <a:prstGeom prst="rect">
            <a:avLst/>
          </a:prstGeom>
          <a:ln w="0">
            <a:noFill/>
          </a:ln>
        </p:spPr>
      </p:pic>
      <p:sp>
        <p:nvSpPr>
          <p:cNvPr id="95" name=""/>
          <p:cNvSpPr/>
          <p:nvPr/>
        </p:nvSpPr>
        <p:spPr>
          <a:xfrm>
            <a:off x="6443640" y="6021360"/>
            <a:ext cx="23400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6694560" y="5373720"/>
            <a:ext cx="2449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Bow, 1979</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925CFF01-3DFA-4606-8F24-D0D631611E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43920"/>
            <a:ext cx="8352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inear relationship between fibre length in the top and mean staple length of the greasy wool</a:t>
            </a:r>
            <a:endParaRPr b="1" lang="en-US" sz="2800" spc="-1" strike="noStrike">
              <a:solidFill>
                <a:srgbClr val="000000"/>
              </a:solidFill>
              <a:latin typeface="Arial"/>
            </a:endParaRPr>
          </a:p>
        </p:txBody>
      </p:sp>
      <p:pic>
        <p:nvPicPr>
          <p:cNvPr id="98" name="" descr=""/>
          <p:cNvPicPr/>
          <p:nvPr/>
        </p:nvPicPr>
        <p:blipFill>
          <a:blip r:embed="rId1"/>
          <a:stretch/>
        </p:blipFill>
        <p:spPr>
          <a:xfrm>
            <a:off x="1332000" y="1052640"/>
            <a:ext cx="5184720" cy="4546440"/>
          </a:xfrm>
          <a:prstGeom prst="rect">
            <a:avLst/>
          </a:prstGeom>
          <a:ln w="0">
            <a:noFill/>
          </a:ln>
        </p:spPr>
      </p:pic>
      <p:sp>
        <p:nvSpPr>
          <p:cNvPr id="99" name=""/>
          <p:cNvSpPr/>
          <p:nvPr/>
        </p:nvSpPr>
        <p:spPr>
          <a:xfrm>
            <a:off x="6983280" y="5373720"/>
            <a:ext cx="216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Bow, 1979</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9A624F2D-5280-4345-AD09-F5AA76B225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5T22:50:13Z</dcterms:created>
  <dc:creator>mwatson2</dc:creator>
  <dc:description/>
  <dc:language>en-US</dc:language>
  <cp:lastModifiedBy>Sally Mahony</cp:lastModifiedBy>
  <dcterms:modified xsi:type="dcterms:W3CDTF">2005-06-03T01:58:53Z</dcterms:modified>
  <cp:revision>17</cp:revision>
  <dc:subject/>
  <dc:title>Influence of Clip Preparation Methods on Fibre Diameter, Length and Processing Performance</dc:title>
</cp:coreProperties>
</file>