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32EF-545F-4259-A8EA-0A6C143D9F1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56F8-9293-4E57-B285-73421B038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728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D7E9-9ABF-437C-BC64-7B24C1502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99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D88C-E1BA-4E05-B336-3EB344874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528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292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728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528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292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8E29-B8DE-4CA0-A3C4-BA3302D2F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721D-CF92-4F0C-A020-E7DC065A46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FA73-00FA-4507-8966-A978927B6A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0E77-D55C-4FF8-9466-E7604B9728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D137-97A4-4DFA-B87B-03024523A6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5912-CB0A-48C0-9489-2941C26CB5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BC16-75F6-4D28-AD50-AC1D0FB353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2850-66A9-4292-BEFB-290BE6A3D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B639-29CE-46C2-8A23-9465AF498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99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F19B-4A41-4812-A81F-D295B6B212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14C7-D36E-4253-B5CA-B99FD65167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728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0AB7-5675-4544-B244-D664194220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99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5E84-A085-4FFC-B659-550948E734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528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292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728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528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292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E7EF-846E-406A-AFDB-3C9FE3AD51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1CA4-B78D-433B-9ABE-50FA8E943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AB93-12D4-4FCF-A3CD-CB88D8158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4728-A36C-4726-824C-BA9E2592B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EFE0-A15B-49DE-83A5-80323CD5F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F64E-FAC6-47D7-B145-2BCB2A693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99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D492-A90C-4632-BEB2-D4838C32F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0922-BF4D-4ACA-9F58-F48430E78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A54B-A6A9-4FB3-BCBD-BDAEA4089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496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A37D-2864-42F8-9CA4-94D43C19D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58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cipants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ol Marketing Ch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A13F-2EF8-400E-9184-966184BAA5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001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of the Wool Marketing Ch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880" y="692280"/>
            <a:ext cx="1155960" cy="1123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4314960"/>
            <a:ext cx="963720" cy="1311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897600" y="901800"/>
            <a:ext cx="1812960" cy="66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21160" y="770040"/>
            <a:ext cx="1519200" cy="506160"/>
          </a:xfrm>
          <a:prstGeom prst="flowChartPreparation">
            <a:avLst/>
          </a:prstGeom>
          <a:solidFill>
            <a:srgbClr val="690d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7800" y="117648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850000">
            <a:off x="3635280" y="109332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593800" y="774720"/>
            <a:ext cx="868680" cy="119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7640" y="1822320"/>
            <a:ext cx="1519200" cy="506520"/>
          </a:xfrm>
          <a:prstGeom prst="flowChartPreparation">
            <a:avLst/>
          </a:prstGeom>
          <a:solidFill>
            <a:srgbClr val="690d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74880" y="965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A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72400">
            <a:off x="3611160" y="156384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21440" y="96840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26800">
            <a:off x="6081840" y="2324160"/>
            <a:ext cx="585720" cy="1936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464600">
            <a:off x="6073560" y="1660320"/>
            <a:ext cx="585720" cy="1936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4760" y="2351160"/>
            <a:ext cx="1377720" cy="58104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7505640" y="184464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80400" y="3556080"/>
            <a:ext cx="1406520" cy="522360"/>
          </a:xfrm>
          <a:prstGeom prst="flowChartManualInpu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Top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6201600">
            <a:off x="7424640" y="319860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5040" y="4687920"/>
            <a:ext cx="1060200" cy="739800"/>
          </a:xfrm>
          <a:prstGeom prst="flowChartDocumen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Spi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6987600">
            <a:off x="7022880" y="429408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4834080"/>
            <a:ext cx="1320840" cy="3776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Wea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6400" y="4687920"/>
            <a:ext cx="900000" cy="784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Ga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678280" y="487944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3252600" y="490644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512720" y="4896000"/>
            <a:ext cx="586080" cy="195120"/>
          </a:xfrm>
          <a:custGeom>
            <a:avLst/>
            <a:gdLst>
              <a:gd name="textAreaLeft" fmla="*/ 91440 w 586080"/>
              <a:gd name="textAreaRight" fmla="*/ 513000 w 58608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3400" y="728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42120" y="180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794400">
            <a:off x="8256600" y="2931840"/>
            <a:ext cx="493560" cy="2438280"/>
          </a:xfrm>
          <a:custGeom>
            <a:avLst/>
            <a:gdLst>
              <a:gd name="textAreaLeft" fmla="*/ 65880 w 493560"/>
              <a:gd name="textAreaRight" fmla="*/ 427680 w 493560"/>
              <a:gd name="textAreaTop" fmla="*/ 459000 h 2438280"/>
              <a:gd name="textAreaBottom" fmla="*/ 16063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33" stAng="-5400000" swAng="5400000"/>
                <a:lnTo>
                  <a:pt x="21600" y="10163"/>
                </a:lnTo>
                <a:arcTo wR="21600" hR="8133" stAng="0" swAng="2650410"/>
                <a:lnTo>
                  <a:pt x="7805" y="21051"/>
                </a:lnTo>
                <a:lnTo>
                  <a:pt x="0" y="17280"/>
                </a:lnTo>
                <a:lnTo>
                  <a:pt x="7805" y="12411"/>
                </a:lnTo>
                <a:lnTo>
                  <a:pt x="7805" y="15716"/>
                </a:lnTo>
                <a:arcTo wR="21600" hR="8133" stAng="2650410" swAng="-2487717"/>
                <a:lnTo>
                  <a:pt x="21431" y="9148"/>
                </a:lnTo>
                <a:arcTo wR="21600" hR="8133" stAng="-162694" swAng="-5237306"/>
                <a:close/>
              </a:path>
              <a:path fill="darkenLess" w="21600" h="21600">
                <a:moveTo>
                  <a:pt x="0" y="0"/>
                </a:moveTo>
                <a:arcTo wR="21600" hR="8133" stAng="-5400000" swAng="5400000"/>
                <a:lnTo>
                  <a:pt x="21600" y="10163"/>
                </a:lnTo>
                <a:arcTo wR="21600" hR="8133" stAng="0" swAng="-162694"/>
                <a:lnTo>
                  <a:pt x="21431" y="9148"/>
                </a:lnTo>
                <a:arcTo wR="21600" hR="8133" stAng="-162694" swAng="-5237306"/>
                <a:close/>
              </a:path>
            </a:pathLst>
          </a:cu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FFC8-7823-422A-A10C-624AD0810C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Bro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125000"/>
            <a:ext cx="8001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ceival and storage of wo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ranging for testing and sampling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ducting of auction 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itional services to support busin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-farm preparation and marketing adv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Quality assurance syste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nance and risk management products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rket information and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6888-0320-4639-AED6-D9B98902F9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vate Buy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urchasing direct from the gro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ceival, storing and testing of the wool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-sale back through auction or direct to expor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ypes of purchase arrang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ce in the sh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ce on result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ward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F67F-3E8F-4F94-AD7F-7B2950149A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r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100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customer require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wool at au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ing shipping, documentation and foreign exchange cover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finance via extended payment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trans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nt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07A6-A95A-4E93-8962-1628D2593F6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ly Stage P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uring – removal of grease and di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ng – removal of vegetable matter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g – aligning fibres in preparation for spi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early stage process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stage processor on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ly integrated (also involved in export and/or later stage proc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arly stage processors will purchase wool directly from growers if the lots are large enough and been tested by AW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9392-6FCF-48B3-9F0C-2ECD44AC98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 Stage P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v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ing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ment M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later stage process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fibre, single process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fibre, vertically integr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79D2-BBB3-45DB-8578-EE88A03FA8F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 of the Wool Marketing Chain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ucture of the chain and profitability of participants has been challenged by the halving of production over the past 20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developments are likely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ion (fewer, larger players)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rect relationships (fewer intermediari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AB22-80FA-49BA-82AE-D4F495B44B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CB1E-5DB9-4413-80A1-1874FFFB19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07:57Z</dcterms:created>
  <dc:creator>Bill Mitchell</dc:creator>
  <dc:description/>
  <dc:language>en-US</dc:language>
  <cp:lastModifiedBy>Sally Mahony</cp:lastModifiedBy>
  <dcterms:modified xsi:type="dcterms:W3CDTF">2005-05-23T02:17:19Z</dcterms:modified>
  <cp:revision>10</cp:revision>
  <dc:subject/>
  <dc:title>Participants in the Wool Marketing Chain</dc:title>
</cp:coreProperties>
</file>