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37103A-F301-4397-AD74-7AE73DE4FDC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902DED-CE82-4798-A2C3-920FBC5FCBF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3748-31F7-4067-957B-7BB0ECB1E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8936-A21D-4132-A485-161EEE3C1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18C2-9D00-4641-B8E1-CE9C95C75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9021-1116-4DB3-80FA-CF41FCA2F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2014-50A4-4950-A408-95887F201C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5C68-E68F-4147-9E74-F9C23F988E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96BD-7D7B-4E39-B50D-698E3602BC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37B2-8373-4F76-80CB-061FEB784C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0255-8050-471C-95FA-E5CE5CA77A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D529-0435-4318-B8EB-B74E57E645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EFAA-9A1C-4F28-8188-6A025F95B4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2A6F-7915-473C-B7BE-4837F5C76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05E4-EDCF-4B5E-835A-45A8B8F3B8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D265-59B9-4A87-8E50-A0070B36E5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21A6-AD5E-4E0A-9988-F3CF27D04E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121C-2597-43F0-8F14-197E509363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67D1-CEAC-4768-8E2F-88C4F7636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CC0B-82DB-43A2-A0FC-A968936B1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6F12-54DB-45F3-AAB4-D8A287359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4749-E85B-494D-B9B9-B23E0B35E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CD7F-48AE-4CB3-B8C3-46238484A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80EC-F720-4F60-BA64-E1D635EB5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338F-5BE6-4EF9-A8D9-FF94E5057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CFAC-BA66-4386-AEC5-4A4ED01F0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D78F-B58C-4821-939C-450653B31CE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86C4-8F9E-4D3A-AFDD-D60D54DF90A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E10F-8C10-4940-9475-AA86B1794C8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Global View of the Apparel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556000" y="4292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6 - Lectu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2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9B22-3AEF-4257-90D4-B6708391C17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4724280" y="1184400"/>
          <a:ext cx="439740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84400"/>
                    <a:ext cx="439740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9656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nsumer preferences have driven fabric weights down in recent dec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345960" y="1217520"/>
          <a:ext cx="4389480" cy="441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60" y="1217520"/>
                    <a:ext cx="43894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7"/>
          <p:cNvSpPr/>
          <p:nvPr/>
        </p:nvSpPr>
        <p:spPr>
          <a:xfrm>
            <a:off x="574560" y="641520"/>
            <a:ext cx="83901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Average Fabric Weights in the Italian Wool Textile Industr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70880" y="6497640"/>
            <a:ext cx="28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s: SMI, The Woolmark Company (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9" descr="Woolmark symbol for PP"/>
          <p:cNvPicPr/>
          <p:nvPr/>
        </p:nvPicPr>
        <p:blipFill>
          <a:blip r:embed="rId5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E2D6-C4D7-47EF-AAAF-6BAC646BC48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963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ausing wool producers to respond by increasing fine wool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468360" y="1197000"/>
          <a:ext cx="792144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792144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6013440" y="5445000"/>
            <a:ext cx="295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urce: Independent Commodity Services P/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FB48-1F9F-4F46-9E91-3BFE52266A5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FCE4-F3C9-4ACE-AA6C-AC4660B3862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06436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 the fibre, textiles, end use and distribution industrie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Fig1"/>
          <p:cNvPicPr/>
          <p:nvPr/>
        </p:nvPicPr>
        <p:blipFill>
          <a:blip r:embed="rId1"/>
          <a:stretch/>
        </p:blipFill>
        <p:spPr>
          <a:xfrm>
            <a:off x="611280" y="1268280"/>
            <a:ext cx="7489800" cy="4094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5629320" y="5445000"/>
            <a:ext cx="169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urce: Dickerson (199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F949-85C3-4D91-A1D2-71E7D11FC6E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ool makes up 2% of the total fibr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5320" y="5157720"/>
            <a:ext cx="73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: The Woolmark Company (200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wool and cotton production on a seasonal basis (i2003 = 2002/03), man-made fibres exclude olefin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7"/>
          <p:cNvGraphicFramePr/>
          <p:nvPr/>
        </p:nvGraphicFramePr>
        <p:xfrm>
          <a:off x="1476360" y="1628640"/>
          <a:ext cx="610236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6102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9" descr="Woolmark symbol for PP"/>
          <p:cNvPicPr/>
          <p:nvPr/>
        </p:nvPicPr>
        <p:blipFill>
          <a:blip r:embed="rId3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7DD2-1477-4B54-89E9-7F9CAB6AB4F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 the wool is mainly used for apparel and home furnis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971640" y="1071720"/>
          <a:ext cx="74674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71720"/>
                    <a:ext cx="74674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7"/>
          <p:cNvSpPr/>
          <p:nvPr/>
        </p:nvSpPr>
        <p:spPr>
          <a:xfrm>
            <a:off x="614520" y="5226120"/>
            <a:ext cx="361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Sources: The Woolmark Company (2005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 Man-made fibre includes oil based and cellulosic fibre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Woolmark symbol for PP"/>
          <p:cNvPicPr/>
          <p:nvPr/>
        </p:nvPicPr>
        <p:blipFill>
          <a:blip r:embed="rId3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B5ED-A4E8-4D0B-A58F-4A5BC94577C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160" y="198000"/>
            <a:ext cx="79470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nd so the share of apparel markets held by wool is mode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ibre Shares of Imports of Men’s Outerwear (Value Basis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4603680" y="1208160"/>
          <a:ext cx="416556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3680" y="1208160"/>
                    <a:ext cx="416556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4"/>
          <p:cNvGraphicFramePr/>
          <p:nvPr/>
        </p:nvGraphicFramePr>
        <p:xfrm>
          <a:off x="276120" y="1209600"/>
          <a:ext cx="4240440" cy="447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6120" y="1209600"/>
                    <a:ext cx="42404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5" descr="Woolmark symbol for PP"/>
          <p:cNvPicPr/>
          <p:nvPr/>
        </p:nvPicPr>
        <p:blipFill>
          <a:blip r:embed="rId5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142560" y="6453360"/>
            <a:ext cx="6628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ources: The Woolmark Company (2005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otes: Suits incl. ensembles; coats excl. anorak/parka /windbreakers; trousers of cotton excl. corduroy and deni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CA50-0FD9-42B3-BF91-21DD28E1E4F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6520" y="-135000"/>
            <a:ext cx="8307360" cy="16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ibre Shares of Imports of Women’s Outerwear (Value Basis)</a:t>
            </a:r>
            <a:br>
              <a:rPr sz="18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ources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oolmark Company (2005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otes: Suits incl. ensembles; coats excl. anorak/parka /windbreakers; trousers of cotton excl. corduroy and deni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431640" y="1052640"/>
          <a:ext cx="4240440" cy="44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052640"/>
                    <a:ext cx="4240440" cy="44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5"/>
          <p:cNvGraphicFramePr/>
          <p:nvPr/>
        </p:nvGraphicFramePr>
        <p:xfrm>
          <a:off x="4622760" y="1066680"/>
          <a:ext cx="4192560" cy="446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2760" y="1066680"/>
                    <a:ext cx="41925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6" descr="Woolmark symbol for PP"/>
          <p:cNvPicPr/>
          <p:nvPr/>
        </p:nvPicPr>
        <p:blipFill>
          <a:blip r:embed="rId5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D2E-131C-40E7-BADE-C15049307BD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3560" y="209520"/>
            <a:ext cx="83916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ibre Shares of Imports of Knitwear (Value Basis)</a:t>
            </a:r>
            <a:br>
              <a:rPr sz="1800"/>
            </a:br>
            <a:br>
              <a:rPr sz="1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ources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oolmark Company (2005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ote:  Knitwear = sweaters/cardigans &amp; excludes vests &amp; sweatshi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338040" y="1162080"/>
          <a:ext cx="422460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162080"/>
                    <a:ext cx="422460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4"/>
          <p:cNvGraphicFramePr/>
          <p:nvPr/>
        </p:nvGraphicFramePr>
        <p:xfrm>
          <a:off x="4735440" y="1158840"/>
          <a:ext cx="4232520" cy="447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5440" y="1158840"/>
                    <a:ext cx="423252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Picture 5" descr="Woolmark symbol for PP"/>
          <p:cNvPicPr/>
          <p:nvPr/>
        </p:nvPicPr>
        <p:blipFill>
          <a:blip r:embed="rId5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FAEA-7DFD-4A33-8A48-01C5E6FD107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25280"/>
            <a:ext cx="76327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geographic location of processing and retail demand i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55640" y="1197000"/>
          <a:ext cx="7416720" cy="40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41672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6"/>
          <p:cNvSpPr/>
          <p:nvPr/>
        </p:nvSpPr>
        <p:spPr>
          <a:xfrm>
            <a:off x="6734880" y="5373720"/>
            <a:ext cx="24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urce: PCI Fibres and Raw Materi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2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838F-5484-4E68-B01B-5E99734A5DE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978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t the same time that technology is causing change to continue in the textil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547640" y="1341360"/>
          <a:ext cx="590400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590400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5528160" y="5445000"/>
            <a:ext cx="343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urce: David Buck and PCI Fibres and Raw Materi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7:43:18Z</dcterms:created>
  <dc:creator>Andrew Woods</dc:creator>
  <dc:description/>
  <dc:language>en-US</dc:language>
  <cp:lastModifiedBy>Peter Sommerville</cp:lastModifiedBy>
  <cp:lastPrinted>2003-09-02T08:07:53Z</cp:lastPrinted>
  <dcterms:modified xsi:type="dcterms:W3CDTF">2014-07-12T05:21:29Z</dcterms:modified>
  <cp:revision>27</cp:revision>
  <dc:subject/>
  <dc:title>Global View of the Apparel Market</dc:title>
</cp:coreProperties>
</file>