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media/image6.wmf" ContentType="image/x-wmf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225B6-AD72-4278-B397-DE913AFC6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 Chai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the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ies and Gentle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5FA7E-6CCC-48E6-86D0-D94811D42E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FB727-50E6-424B-8692-664415EB3C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91961-D64F-4F63-A562-1B8DE18D55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CFE89-88F2-4448-B7B5-6B1909082C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AB569-824D-48ED-A03C-51F102E4DF1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700EB-6070-4677-B470-ED51CA57835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2F609-7D0D-4697-8DF9-F83AC4EC34D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7B551-CB1F-4801-BA4A-2E148753E3E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23DF1-99CA-49AA-8128-3A44D1128E8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DAC04-DDC3-4D57-A194-ED5AC6E5805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82578-58B5-4043-B9AC-5587BBBAA6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11875-EA57-4C21-A457-B8ECB8DD79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BB8DA-ED9B-42F0-B60C-7E1A9111D3B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DB113-4AEA-436A-B8A8-210736FF218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90F0E-A068-4C16-AD03-52CCDF6A593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1BF6B-9378-42F3-A1E3-5488367659F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E7A9E-F380-4FA7-AACE-0244558A75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ECA05-FF50-4745-B631-20369A5B40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B6751-42CF-4B1F-BCDA-8A592D7572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DBD0B-ECB5-4001-B8F6-7233EC11E9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17CE9-B8DE-4672-BEC7-881CFB02E7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9FB0A-3D03-48F9-B853-8CD40B6312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BEB55-4310-4564-9CD7-4D7CDD9EA0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07A92-F903-44B2-80F4-7F406A2472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65164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350040" y="527040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EFCD-CE4F-400B-809C-3256B12F1B09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8F53F-220C-4820-8C07-05D312FCAA3F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213372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74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479760"/>
            <a:ext cx="380880" cy="337824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wool.com/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46332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pic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03280" y="764640"/>
            <a:ext cx="64008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yle and Ty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5BD5A-8581-4AD8-8A03-A93AA7150AB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F3 – Spinners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979640" y="1484280"/>
            <a:ext cx="5516640" cy="4110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73FAA-FB67-40F3-8FB7-0D1ADF99E6A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F4- Best Topmakers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08000" y="1557360"/>
            <a:ext cx="5378760" cy="3998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ECB4A-8FAD-45F7-AA99-2ADF3FCF725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5280" y="-27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F5 Style – Good Topmakers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268360" y="1413000"/>
            <a:ext cx="5643720" cy="4171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CA328-E028-4951-8B22-A9E1785196C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F6 – Average Topmakers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195640" y="1557360"/>
            <a:ext cx="5356080" cy="397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10F39-0C16-4798-9D20-AD522A10317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F7 – Inferior Topmakers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908000" y="1484280"/>
            <a:ext cx="5499360" cy="4083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EDE19-B650-4D63-8BD7-241212B5918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900000" y="11970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d of Summary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ose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D4A29-C0E8-4A77-A317-B8DB934619D1}" type="slidenum">
              <a:t>15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yle Descriptors and AWEX-ID Nu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45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258920" y="1341360"/>
          <a:ext cx="6913440" cy="4033800"/>
        </p:xfrm>
        <a:graphic>
          <a:graphicData uri="http://schemas.openxmlformats.org/drawingml/2006/table">
            <a:tbl>
              <a:tblPr/>
              <a:tblGrid>
                <a:gridCol w="4201920"/>
                <a:gridCol w="27115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ditional Descrip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WEX ID Num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o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F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peri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F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inn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F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st Topmakers (BT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F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ood Topmakers (GT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F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verage Topmakers  (AT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F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feri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F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0" y="44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49B5E-9BC7-4C86-B525-48F6A9DFBAA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245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44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98640" y="264600"/>
            <a:ext cx="3418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mportance of Raw Wool Characterist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96000" y="907920"/>
            <a:ext cx="273528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****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jor Impa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***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econdary Impa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**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inor Impa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*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o Significant Impa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a)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ean Fibre Streng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b)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ean Fibre Leng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c)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ffects on dye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inor effect on spin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0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66560" y="163440"/>
          <a:ext cx="4897440" cy="5281560"/>
        </p:xfrm>
        <a:graphic>
          <a:graphicData uri="http://schemas.openxmlformats.org/drawingml/2006/table">
            <a:tbl>
              <a:tblPr/>
              <a:tblGrid>
                <a:gridCol w="1924200"/>
                <a:gridCol w="1033560"/>
                <a:gridCol w="1033200"/>
                <a:gridCol w="9064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w Wool Attribu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pmak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in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 Diame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ie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ple Streng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** (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* (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sition of Break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** (b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* (b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ple Leng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ean Colo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M Ty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M 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loured Fib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ple Length Varia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 (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V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 (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mp/Resistance to Compres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t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ple T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Style/Type… Hand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eed/Age/Fleece Por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6589440" y="508320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Source: Plate (1978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5B800-3CC1-4A47-948B-8FD7F48F1F3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17440" y="1596960"/>
            <a:ext cx="936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icr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727680" y="1596960"/>
            <a:ext cx="918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treng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38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585120" y="4567320"/>
            <a:ext cx="1153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id breaks 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26080" y="4819680"/>
            <a:ext cx="738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7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37880" y="5051520"/>
            <a:ext cx="738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ol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&lt;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42040" y="4809960"/>
            <a:ext cx="1065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tyle 1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68360" y="1295280"/>
            <a:ext cx="2492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tap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easurement 2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01520" y="4572000"/>
            <a:ext cx="10767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8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201600"/>
            <a:ext cx="868680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Value Determining Characteristics 2003/04: 17.0-18.5 Micron Merino Fleece Wool</a:t>
            </a:r>
            <a:br>
              <a:rPr sz="2800"/>
            </a:br>
            <a:r>
              <a:rPr b="1" i="1" lang="en-AU" sz="1000" spc="-1" strike="noStrike">
                <a:solidFill>
                  <a:srgbClr val="000000"/>
                </a:solidFill>
                <a:latin typeface="Arial"/>
              </a:rPr>
              <a:t>Source: The Woolmark Company (200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95640" y="4809960"/>
            <a:ext cx="1298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VM 4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28680" y="1568520"/>
          <a:ext cx="8413560" cy="357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8680" y="1568520"/>
                    <a:ext cx="8413560" cy="35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8077320" y="4724280"/>
            <a:ext cx="1066680" cy="941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C3127-841E-47E0-8911-B70A50772BE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24000" y="404640"/>
            <a:ext cx="287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390600"/>
            <a:ext cx="876312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Value Determining Characteristics 2003/04: 18.6-24.5 Micron Merino Fleece Wool</a:t>
            </a:r>
            <a:br>
              <a:rPr sz="2800"/>
            </a:br>
            <a:r>
              <a:rPr b="0" i="1" lang="en-AU" sz="1000" spc="-1" strike="noStrike">
                <a:solidFill>
                  <a:srgbClr val="000000"/>
                </a:solidFill>
                <a:latin typeface="Arial"/>
              </a:rPr>
              <a:t>Source: The Woolmark Company (200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077320" y="4724280"/>
            <a:ext cx="1066680" cy="941400"/>
          </a:xfrm>
          <a:prstGeom prst="rect">
            <a:avLst/>
          </a:prstGeom>
          <a:ln w="0">
            <a:noFill/>
          </a:ln>
        </p:spPr>
      </p:pic>
      <p:grpSp>
        <p:nvGrpSpPr>
          <p:cNvPr id="121" name=""/>
          <p:cNvGrpSpPr/>
          <p:nvPr/>
        </p:nvGrpSpPr>
        <p:grpSpPr>
          <a:xfrm>
            <a:off x="252360" y="1371600"/>
            <a:ext cx="8413920" cy="4189320"/>
            <a:chOff x="252360" y="1371600"/>
            <a:chExt cx="8413920" cy="4189320"/>
          </a:xfrm>
        </p:grpSpPr>
        <p:graphicFrame>
          <p:nvGraphicFramePr>
            <p:cNvPr id="122" name=""/>
            <p:cNvGraphicFramePr/>
            <p:nvPr/>
          </p:nvGraphicFramePr>
          <p:xfrm>
            <a:off x="252360" y="1492200"/>
            <a:ext cx="8413920" cy="3578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2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52360" y="1492200"/>
                      <a:ext cx="8413920" cy="357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4" name=""/>
            <p:cNvSpPr/>
            <p:nvPr/>
          </p:nvSpPr>
          <p:spPr>
            <a:xfrm>
              <a:off x="1390320" y="1519200"/>
              <a:ext cx="7945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"/>
                </a:rPr>
                <a:t>micr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AU" sz="1600" spc="-1" strike="noStrike">
                  <a:solidFill>
                    <a:srgbClr val="000000"/>
                  </a:solidFill>
                  <a:latin typeface="Arial"/>
                </a:rPr>
                <a:t>49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477200" y="1851120"/>
              <a:ext cx="9180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"/>
                </a:rPr>
                <a:t>streng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"/>
                </a:rPr>
                <a:t>15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50080" y="3909960"/>
              <a:ext cx="85428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"/>
                </a:rPr>
                <a:t>mid break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"/>
                </a:rPr>
                <a:t>3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003440" y="4443480"/>
              <a:ext cx="7383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"/>
                </a:rPr>
                <a:t>leng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"/>
                </a:rPr>
                <a:t>8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728520" y="5022720"/>
              <a:ext cx="1087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"/>
                </a:rPr>
                <a:t>colour 3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87720" y="4735440"/>
              <a:ext cx="1292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"/>
                </a:rPr>
                <a:t>style 1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46560" y="1371600"/>
              <a:ext cx="25923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"/>
                </a:rPr>
                <a:t>staple measur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"/>
                </a:rPr>
                <a:t>6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76520" y="4981680"/>
              <a:ext cx="21128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"/>
                </a:rPr>
                <a:t>marketing factors*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"/>
                </a:rPr>
                <a:t>5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626800" y="4734000"/>
              <a:ext cx="5904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"/>
                </a:rPr>
                <a:t>V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DC47A-4B9F-4A13-9AF1-D7BE06B0CF3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 Site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245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44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27040" y="2133720"/>
            <a:ext cx="490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99ccff"/>
                </a:solidFill>
                <a:uFillTx/>
                <a:latin typeface="Times New Roman"/>
                <a:hlinkClick r:id="rId1"/>
              </a:rPr>
              <a:t>www.wool.com</a:t>
            </a:r>
            <a:r>
              <a:rPr b="1" i="1" lang="en-AU" sz="3200" spc="-1" strike="noStrike">
                <a:solidFill>
                  <a:srgbClr val="99ccff"/>
                </a:solidFill>
                <a:latin typeface="Times New Roman"/>
              </a:rPr>
              <a:t> </a:t>
            </a:r>
            <a:r>
              <a:rPr b="1" i="1" lang="en-AU" sz="3200" spc="-1" strike="noStrike" u="sng">
                <a:solidFill>
                  <a:srgbClr val="99ccff"/>
                </a:solidFill>
                <a:uFillTx/>
                <a:latin typeface="Times New Roman"/>
              </a:rPr>
              <a:t>/pricemak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3200" spc="-1" strike="noStrike" u="sng">
                <a:solidFill>
                  <a:srgbClr val="99ccff"/>
                </a:solidFill>
                <a:uFillTx/>
                <a:latin typeface="Times New Roman"/>
              </a:rPr>
              <a:t>www.awex.com.a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D703E-CA0D-4E23-9E03-2FEAD048738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ggested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245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44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62200" y="1314360"/>
            <a:ext cx="76071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WEX – ID ...Description of the Non-Measured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of Greasy Wool –Appraisal Guidelines., V2.0,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ubl. Aust. Wool Exchange, Sydne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oolspec 94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pecification of Australian Wool &amp; its Im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for Marketing and Processing, 1994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ubl. CSIRO (Division of Wool Technology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ternational Wool Secretariat) Syd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pecific papers a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- Crowe &amp; Steve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- Ford &amp; Jack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- Stevens &amp; Cro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826F5-F636-4096-A913-1C62FCEAA1B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-38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F1 – Spinners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537000" y="1125360"/>
            <a:ext cx="5499000" cy="41086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95280" y="279360"/>
            <a:ext cx="568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ollowing images show the 7 style grades. The grades differ 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907920"/>
            <a:ext cx="3097080" cy="48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ple d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p dust penet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gree of staple weath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ularity &amp; consistency of the appraisal s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imp character, regularity &amp; defin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ple tip structure (if wean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ib content (if piec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sual appea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56166-EE99-426D-8299-F160649CAEA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F2 – Superior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908000" y="1484280"/>
            <a:ext cx="5499360" cy="406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2567D-D92D-4332-B69C-1CFAE6EC124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8T00:49:24Z</dcterms:created>
  <dc:creator>Bob Couchman</dc:creator>
  <dc:description/>
  <dc:language>en-US</dc:language>
  <cp:lastModifiedBy>Sally Mahony</cp:lastModifiedBy>
  <dcterms:modified xsi:type="dcterms:W3CDTF">2005-06-06T01:08:22Z</dcterms:modified>
  <cp:revision>14</cp:revision>
  <dc:subject/>
  <dc:title>Lecture 6</dc:title>
</cp:coreProperties>
</file>