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6EC53-A796-41CB-8A6D-2C711B80B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337E8B7-AF14-4853-AE8B-ECF6E32BC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47E9F05-12AB-4479-8E56-7CE6A1C6FD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25CCEAF-CDE1-457A-A8F8-3E70724A3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966D5C-3147-4C4A-B285-2752EC5865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3C0996-2ACB-4CB4-BB1D-1FDABE6D9F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7CABC4-C8BE-4B84-99A4-58126AA11F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96D9BEF-D598-4A0D-A80D-EC85D2B3C9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9E3C9136-8EB5-43E0-ABDE-AFA78AAF2C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94391A6-6098-4176-9F53-0E729B6602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2E743A5-E6CB-4E19-B93D-0D9DC0B979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59D67-1835-4BF6-9CD6-C6B29E138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0993BEF-5C8B-4C8B-BBE2-FF589EB84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A4BF9BA-72C8-483A-8E92-26DEA29ACB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6B551CF-1DE8-4C51-B62D-291AEC0D7B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8857D5E7-6DB7-4421-9201-0ED188F8B5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412E1DA-AF83-48A8-8F7E-EC0D6E12B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AE94F-1EDA-4DBC-9676-7B87E21FC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9373A0A-0EDC-4135-BF39-38F99287C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87C25EA9-70FB-484B-B4FF-95A4E2BC21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1940CE0-9707-42AC-BAF8-A47BB11AF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FC7B65E-1F9A-4887-8EB1-71E3ACCDC5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80312C7-3217-4626-BB37-A1831DC52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89D1174-E6B0-4FD9-A652-AFA838709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BDED-39A4-4766-AFBF-8CC0F8647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08B7-3207-41A4-ACB6-8E0200B78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0000" y="69120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itional Classing and the Impact of Pre-sale Testing</a:t>
            </a:r>
            <a:endParaRPr b="1" lang="en-US" sz="3600" spc="-1" strike="noStrike">
              <a:solidFill>
                <a:srgbClr val="000000"/>
              </a:solidFill>
              <a:latin typeface="Arial"/>
            </a:endParaRPr>
          </a:p>
        </p:txBody>
      </p:sp>
      <p:sp>
        <p:nvSpPr>
          <p:cNvPr id="85" name="PlaceHolder 2"/>
          <p:cNvSpPr>
            <a:spLocks noGrp="1"/>
          </p:cNvSpPr>
          <p:nvPr>
            <p:ph type="subTitle"/>
          </p:nvPr>
        </p:nvSpPr>
        <p:spPr>
          <a:xfrm>
            <a:off x="140328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408"/>
                </a:solidFill>
                <a:latin typeface="Arial"/>
              </a:rPr>
              <a:t>Topic 2 – Lecture 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0059C8-8A61-40B2-9FF7-41FD301A9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a portion, </a:t>
            </a:r>
            <a:r>
              <a:rPr b="1" lang="en-US" sz="2800" spc="-1" strike="noStrike">
                <a:solidFill>
                  <a:srgbClr val="000000"/>
                </a:solidFill>
                <a:latin typeface="Symbol"/>
                <a:ea typeface="Symbol"/>
              </a:rPr>
              <a:t></a:t>
            </a:r>
            <a:r>
              <a:rPr b="1" lang="en-US" sz="2800" spc="-1" strike="noStrike">
                <a:solidFill>
                  <a:srgbClr val="000000"/>
                </a:solidFill>
                <a:latin typeface="Arial"/>
              </a:rPr>
              <a:t> (mean diameter d) from a population (mean diameter D)</a:t>
            </a:r>
            <a:endParaRPr b="1" lang="en-US" sz="2800" spc="-1" strike="noStrike">
              <a:solidFill>
                <a:srgbClr val="000000"/>
              </a:solidFill>
              <a:latin typeface="Arial"/>
            </a:endParaRPr>
          </a:p>
        </p:txBody>
      </p:sp>
      <p:pic>
        <p:nvPicPr>
          <p:cNvPr id="98" name="" descr=""/>
          <p:cNvPicPr/>
          <p:nvPr/>
        </p:nvPicPr>
        <p:blipFill>
          <a:blip r:embed="rId1"/>
          <a:stretch/>
        </p:blipFill>
        <p:spPr>
          <a:xfrm>
            <a:off x="1587600" y="1050840"/>
            <a:ext cx="4084560" cy="4465800"/>
          </a:xfrm>
          <a:prstGeom prst="rect">
            <a:avLst/>
          </a:prstGeom>
          <a:ln w="0">
            <a:noFill/>
          </a:ln>
        </p:spPr>
      </p:pic>
      <p:sp>
        <p:nvSpPr>
          <p:cNvPr id="99" name=""/>
          <p:cNvSpPr/>
          <p:nvPr/>
        </p:nvSpPr>
        <p:spPr>
          <a:xfrm>
            <a:off x="6445080" y="530064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7ED1021-6BB7-4107-B3D5-2A56EDBF50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155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 between correlation of crimp with diameter and the variation in diameter among fleeces within a mob</a:t>
            </a:r>
            <a:endParaRPr b="1" lang="en-US" sz="2800" spc="-1" strike="noStrike">
              <a:solidFill>
                <a:srgbClr val="000000"/>
              </a:solidFill>
              <a:latin typeface="Arial"/>
            </a:endParaRPr>
          </a:p>
        </p:txBody>
      </p:sp>
      <p:pic>
        <p:nvPicPr>
          <p:cNvPr id="101" name="" descr=""/>
          <p:cNvPicPr/>
          <p:nvPr/>
        </p:nvPicPr>
        <p:blipFill>
          <a:blip r:embed="rId1"/>
          <a:stretch/>
        </p:blipFill>
        <p:spPr>
          <a:xfrm>
            <a:off x="395280" y="1268280"/>
            <a:ext cx="4897440" cy="5400720"/>
          </a:xfrm>
          <a:prstGeom prst="rect">
            <a:avLst/>
          </a:prstGeom>
          <a:ln w="0">
            <a:noFill/>
          </a:ln>
        </p:spPr>
      </p:pic>
      <p:sp>
        <p:nvSpPr>
          <p:cNvPr id="102" name=""/>
          <p:cNvSpPr/>
          <p:nvPr/>
        </p:nvSpPr>
        <p:spPr>
          <a:xfrm>
            <a:off x="6408720" y="522936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1294E48-D49F-47B3-98A1-D1F7A60385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55520"/>
            <a:ext cx="8748720" cy="8971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2800" spc="-1" strike="noStrike">
                <a:solidFill>
                  <a:srgbClr val="000000"/>
                </a:solidFill>
                <a:latin typeface="Arial"/>
              </a:rPr>
              <a:t>Expected differences between the fibre diameters of the fine and coarse halves of the fleeces from a mob</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4" name=""/>
          <p:cNvGraphicFramePr/>
          <p:nvPr/>
        </p:nvGraphicFramePr>
        <p:xfrm>
          <a:off x="1042920" y="1557360"/>
          <a:ext cx="6840360" cy="3724200"/>
        </p:xfrm>
        <a:graphic>
          <a:graphicData uri="http://schemas.openxmlformats.org/drawingml/2006/table">
            <a:tbl>
              <a:tblPr/>
              <a:tblGrid>
                <a:gridCol w="1655640"/>
                <a:gridCol w="865080"/>
                <a:gridCol w="792360"/>
                <a:gridCol w="718920"/>
                <a:gridCol w="792360"/>
                <a:gridCol w="720720"/>
                <a:gridCol w="719280"/>
                <a:gridCol w="576000"/>
              </a:tblGrid>
              <a:tr h="339480">
                <a:tc gridSpan="8">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 in Fibre Diameter (um)</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High</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6</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rowSpan="5">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Correlation between crimp and fibre diame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Low</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gridSpan="8">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Variance (um</a:t>
                      </a:r>
                      <a:r>
                        <a:rPr b="0" lang="en-US" sz="700" spc="-1" strike="noStrike" baseline="30000">
                          <a:solidFill>
                            <a:srgbClr val="000408"/>
                          </a:solidFill>
                          <a:latin typeface="Arial"/>
                        </a:rPr>
                        <a:t>2</a:t>
                      </a:r>
                      <a:r>
                        <a:rPr b="0" lang="en-US" sz="900" spc="-1" strike="noStrike">
                          <a:solidFill>
                            <a:srgbClr val="000408"/>
                          </a:solidFill>
                          <a:latin typeface="Arial"/>
                        </a:rPr>
                        <a:t>)</a:t>
                      </a:r>
                      <a:endParaRPr b="0" lang="en-US" sz="9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5" name=""/>
          <p:cNvSpPr/>
          <p:nvPr/>
        </p:nvSpPr>
        <p:spPr>
          <a:xfrm>
            <a:off x="6408720" y="534528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7546E31-ADEA-4733-B169-824567C63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55280" y="475920"/>
            <a:ext cx="8001000" cy="49244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Table 1 shows how the correlation between fibre diameter and crimp frequency influences the magnitude of the difference in fibre diameter when the separation of the fleeces is based on staple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he differences are related to the average fibre diameter of the mob, the coarser the mob the greater the variation among fleeces and the higher the correlation between fibre diameter and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n contrast, the superfine mobs tend to have reduced variation among fleeces in fibre diameter and a very poor correlation between fibre diameter and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For superfine mobs the correlation may be zero or even positive.  This would indicate that the fleeces with a higher crimp frequency would have a larger fibre diameter.  In other words, the “fine” lines would have a larger fibre diameter than the “coarse” lin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ale catalogues should be examined to confirm these observations for traditionally classed cli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2BB899-A613-4473-842D-482A68F71D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5280" y="691920"/>
            <a:ext cx="6630840" cy="244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A54430-8AF5-4AE5-A7A1-E9BD606AEDC4}"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4360" y="549360"/>
            <a:ext cx="7772400" cy="3581280"/>
          </a:xfrm>
          <a:prstGeom prst="rect">
            <a:avLst/>
          </a:prstGeom>
          <a:noFill/>
          <a:ln w="0">
            <a:noFill/>
          </a:ln>
        </p:spPr>
        <p:txBody>
          <a:bodyPr lIns="90000" rIns="90000" tIns="46800" bIns="46800" anchor="t">
            <a:normAutofit fontScale="97000"/>
          </a:bodyPr>
          <a:p>
            <a:pPr marL="517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Traditional clip preparation procedures emphasised visual uniformity to:</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ist valuation and</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e wool for particular processing pathways</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Preparation consisted of two major steps:</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eparation of fleece wool and belly wool during shearing and</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paration of pieces, locks and stains during skirting</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66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2306159-61FA-4908-B9B3-DDE479B874D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333360"/>
            <a:ext cx="7056360" cy="12240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rtions by weight of the wool components of the fleeces from a single mob ar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000" spc="-1" strike="noStrike">
                <a:solidFill>
                  <a:srgbClr val="000000"/>
                </a:solidFill>
                <a:latin typeface="Arial"/>
              </a:rPr>
              <a:t>Source: Charlton (198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88" name=""/>
          <p:cNvGraphicFramePr/>
          <p:nvPr/>
        </p:nvGraphicFramePr>
        <p:xfrm>
          <a:off x="1763640" y="1557360"/>
          <a:ext cx="5543640" cy="2273400"/>
        </p:xfrm>
        <a:graphic>
          <a:graphicData uri="http://schemas.openxmlformats.org/drawingml/2006/table">
            <a:tbl>
              <a:tblPr/>
              <a:tblGrid>
                <a:gridCol w="1847880"/>
                <a:gridCol w="1847880"/>
                <a:gridCol w="1847880"/>
              </a:tblGrid>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rted Fle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8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l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i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AF76A57-7086-49F8-B0C5-52EBB6C8E0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31960" y="476280"/>
            <a:ext cx="7772400" cy="489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 clip preparation paid most attention to the “classing” of the skirted flee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fine from coarse fleeces for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A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high yielding and/or longer fleeces from lower yielding and/or shorter fleeces for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COM</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short, very coarse, tender, cotted or other faulty fleeces if they occu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842EE4C-44EF-4729-9A9E-5A2DB2AFD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404280"/>
            <a:ext cx="8001000" cy="4781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esting of mill consignments for yield and average fibre diameter (post-sale testing) increased rapidly after 196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s the sale lots comprising these consignments were still appraised subjectively the woolgrowers had little indication of the true yield, vegetable fault content and fibre diameter of his/her sale lo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introduction, after 1970, of pre-sale testing, firstly for yield, vegetable fault and fibre diameter and, later, for staple length, staple strength and colour provided the essential linkage between grower and processor based on the measured characteristics that determine processing performance and, consequently, valu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5B26BE2-DD1E-4515-A74B-A552637CF2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26920" y="83664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ield and fibre diameter were the major factors determining the clean price of wool and research revealed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chieved by classing skirted fleeces for fibre diameter, yield and staple length were small</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mong sale lots from different mobs/farms appraised as having the same fibre diameter, yield and staple length were very larg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B875514-1869-47CD-9D58-E85099864D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10920" y="475920"/>
            <a:ext cx="8001000" cy="442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The reason for these results was the poor relationships between subjective and objective appraisal.  It was demonstrated that:</a:t>
            </a:r>
            <a:br>
              <a:rPr sz="2000"/>
            </a:b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lots having the same subjectively appraised yield varied by </a:t>
            </a:r>
            <a:r>
              <a:rPr b="0" lang="en-US" sz="2000" spc="-1" strike="noStrike" u="sng">
                <a:solidFill>
                  <a:srgbClr val="000000"/>
                </a:solidFill>
                <a:uFillTx/>
                <a:latin typeface="Arial"/>
              </a:rPr>
              <a:t>+ </a:t>
            </a:r>
            <a:r>
              <a:rPr b="0" lang="en-US" sz="2000" spc="-1" strike="noStrike">
                <a:solidFill>
                  <a:srgbClr val="000000"/>
                </a:solidFill>
                <a:latin typeface="Arial"/>
              </a:rPr>
              <a:t>6% (95% conf.int.) about the measured valu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lots having the same quality number of “visual micron” varied by </a:t>
            </a:r>
            <a:r>
              <a:rPr b="0" lang="en-US" sz="2000" spc="-1" strike="noStrike" u="sng">
                <a:solidFill>
                  <a:srgbClr val="000000"/>
                </a:solidFill>
                <a:uFillTx/>
                <a:latin typeface="Arial"/>
              </a:rPr>
              <a:t>+</a:t>
            </a:r>
            <a:r>
              <a:rPr b="0" lang="en-US" sz="2000" spc="-1" strike="noStrike">
                <a:solidFill>
                  <a:srgbClr val="000000"/>
                </a:solidFill>
                <a:latin typeface="Arial"/>
              </a:rPr>
              <a:t>  2.5um about the measured fibre diamet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large variations between measured and appraised characteristics were observed for vegetable fault, staple length, staple strength and colou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6883FA4-14A2-43D8-A294-48D9199C1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189000"/>
            <a:ext cx="820908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 between fibre diameter and crimps/inch among fleeces from the same mob</a:t>
            </a:r>
            <a:br>
              <a:rPr sz="1800"/>
            </a:br>
            <a:r>
              <a:rPr b="1" lang="en-US" sz="1200" spc="-1" strike="noStrike">
                <a:solidFill>
                  <a:srgbClr val="000000"/>
                </a:solidFill>
                <a:latin typeface="Arial"/>
              </a:rPr>
              <a:t>(number of fleeces in circles)</a:t>
            </a:r>
            <a:br>
              <a:rPr sz="1200"/>
            </a:br>
            <a:endParaRPr b="1" lang="en-US" sz="1200" spc="-1" strike="noStrike">
              <a:solidFill>
                <a:srgbClr val="000000"/>
              </a:solidFill>
              <a:latin typeface="Arial"/>
            </a:endParaRPr>
          </a:p>
        </p:txBody>
      </p:sp>
      <p:pic>
        <p:nvPicPr>
          <p:cNvPr id="94" name="" descr=""/>
          <p:cNvPicPr/>
          <p:nvPr/>
        </p:nvPicPr>
        <p:blipFill>
          <a:blip r:embed="rId1"/>
          <a:stretch/>
        </p:blipFill>
        <p:spPr>
          <a:xfrm>
            <a:off x="611280" y="1211400"/>
            <a:ext cx="6408720" cy="4522680"/>
          </a:xfrm>
          <a:prstGeom prst="rect">
            <a:avLst/>
          </a:prstGeom>
          <a:ln w="0">
            <a:noFill/>
          </a:ln>
        </p:spPr>
      </p:pic>
      <p:sp>
        <p:nvSpPr>
          <p:cNvPr id="95" name=""/>
          <p:cNvSpPr/>
          <p:nvPr/>
        </p:nvSpPr>
        <p:spPr>
          <a:xfrm>
            <a:off x="6480000" y="537372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5CF5AA6-623A-4CEC-9140-66DF7F5A32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424720" cy="5113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Due to its significance throughout processing and in the end use of wool textiles the issue of fibre diameter deserves special consideration</a:t>
            </a:r>
            <a:br>
              <a:rPr sz="2000"/>
            </a:b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classer uses quality number to class for fineness and the estimate is based primarily on staple crimp frequenc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As the aim is to produce differences in fibre diameter the procedure can be described as indirect selecti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 success of the classer in producing classed lines that differ in fibre diameter depends up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correlation between crimp frequency and fibre diameter a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variation in fibre diameter among fleeces in the mo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3B4B3D3-EA58-422D-B507-E16C8C6A2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03:59:40Z</dcterms:created>
  <dc:creator>mwatson2</dc:creator>
  <dc:description/>
  <dc:language>en-US</dc:language>
  <cp:lastModifiedBy>Sally Mahony</cp:lastModifiedBy>
  <dcterms:modified xsi:type="dcterms:W3CDTF">2005-06-03T01:52:08Z</dcterms:modified>
  <cp:revision>15</cp:revision>
  <dc:subject/>
  <dc:title>Traditional Classing and the Impact of Pre-sale Testing</dc:title>
</cp:coreProperties>
</file>