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519-F16F-4ABE-9C6D-4792A02906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305C-3FEB-49D1-9E23-FAF57AA78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7C42-F1ED-4008-9212-C45F7CE8B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728E-67B1-42F8-88CB-A2CACFF86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8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64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8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64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E414-5FB5-4177-8C3B-7645E56A6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E1BA-0B86-42D3-96BE-14DE27C9A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15B6-AD70-4C17-B132-A5E95CEA9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C349-6BCE-421E-8AC7-F6FAA317D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1387-B136-43A2-AAB4-CDE42037E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9A31-4597-4472-9E00-3A85430E09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4596-DF38-4462-9DAE-FF92D7A6E9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BB58-AE61-4C58-9189-E88E1049D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2289-5755-4AFD-A97B-C17AB54A9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99AD-D53B-470C-94CF-3068F620A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DA21-E30C-4EA1-BA08-E2C0A5439E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0DFA-E546-4DF0-81F3-5DA1FE3782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BC39-4A68-438B-AF5E-3901EA02C6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28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64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28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64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C5BB-AA2E-4BC7-96CB-13EEC23AB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5A51-D9A2-45CF-A29B-ABDA3B821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7424-25BA-4CD4-B749-94E976423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5809-25FF-4B8C-A220-D27B72421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A944-2628-4D93-ABCD-17DCB3825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B006-8AA6-4917-997E-4350F6695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D136-2EFA-4F82-B1AD-484AB7DE8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7052-8140-4216-8856-28FBE1CC3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9A78-AA92-4A25-BA04-6BF98BFC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8D2-2DD4-48D3-969C-8C350198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83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ing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55920" y="405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DAB2-3E94-4306-9185-DE4F39F434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n Selling Methods (% Sh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ry Auction  (75-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Treaty (10-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 (2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to Processor (up to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/Portfolio (&lt;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tion Dominant and feed by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EFEB-DE54-4AC9-8B97-F7BEB74549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A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, many buyers/sellers/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by AWEX (industry self reg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entres across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inflex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industry infrastructure based around thes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price setter for 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AB7C-21A3-485E-A097-53E554E9E4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PRIVATE TREA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transfer mechanism (between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ries due to market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eeds back into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forward/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ing in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 gate basis moving to electronic access (provided lots are weighed and tested by AW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661B-F649-45F1-862F-FBA7A3F3CE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DIRECT TO M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not transparent, less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access method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part of a private treaty or vertically integrate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ing can be post gr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se as supply dec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more grower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40CE-A251-48CF-8AFE-3CC7BBED0D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ELECTRO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systems op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s an adjunct to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use could transform industry if accepted by all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 capability allowing access to any authorised buyer in the world, &gt;single lot purchase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is not the limi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F718-5921-4E0E-B00E-14065453AC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ut specialise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selling of wool clip via a variety of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linked with futures contracts or private/auction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growers “protection of inco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growers selling forward 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good marke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0989-1EE7-4A3F-BBAC-A9AE9B1FA2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AF6F-27EB-46DC-ADE8-50C8502CE1E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0:26:20Z</dcterms:created>
  <dc:creator>Australian Wool Exchange</dc:creator>
  <dc:description/>
  <dc:language>en-US</dc:language>
  <cp:lastModifiedBy>Sally Mahony</cp:lastModifiedBy>
  <dcterms:modified xsi:type="dcterms:W3CDTF">2005-05-30T23:26:51Z</dcterms:modified>
  <cp:revision>10</cp:revision>
  <dc:subject/>
  <dc:title>No Slide Title</dc:title>
</cp:coreProperties>
</file>