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86D9-EB42-4E8C-AD57-4FD59A5B8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2CC7-21DE-4D6D-A79F-72D78BD63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FA3E-2B68-4AC8-979C-86C8704A1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12ED-7E19-4A06-B490-89EE1985A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B30F-12C8-48B5-A4C0-F0C5582621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1F8C-18E2-49EB-91FF-605F0C45C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F18D-BCD4-46DE-B778-C3CAF97CE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1F8F-3742-4FD3-8074-C4D267048A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B7F7-A31C-426B-BAED-B8E56C261D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FCA0-0F5D-49F4-976B-5B47D07A88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5FDC-DDCC-41FE-850E-273C4CB64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84A-8373-4584-B05A-5BD10ECBA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8E51-BBA4-4873-AC33-C36A69104A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A824-4D28-420D-BC61-62C0854D70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62BC-2F11-48D9-AB64-07687817F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1A0E-47F1-4AFC-AC70-17CD3937AA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77ED-5DAE-49CC-8BF0-BC74CA8AE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5444-61B5-4274-8A07-4F52F8443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55CF-22D5-4A20-8F3B-80E380EE9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5A77-CF2D-4683-BB6D-67C1556BE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B39D-9425-4F7D-8E4A-373CED5AF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7893-CCEE-41A4-8E69-17A1341F7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631C-B4CB-40A8-8F53-056DF407D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20E1-A1EA-4876-A46D-75B987B1D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5E2-7320-4928-BA74-0F488773B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D3EB-D438-440A-B1FC-FBFB7F56A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ney B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C06D-D390-49DE-9A84-A8B8C3DD8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3 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ALE IN A LOT IS SAM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PECIMENS ARE TAKEN FROM EACH SUB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WTO CERTIFICATES SHOW WB TO 2 DP AND VMB TO 1 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IN IWTO-19 ENSURE THAT REPEATABLE VALUES FOR COMMERCIAL YIELD ARE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7D4A-D388-4B92-9341-6FD878844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 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14CF-A4C4-4D8F-9404-E0C6A6445B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 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ING BOWL (+ SI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 (+ CRUCI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 RESISTANT CONTAINER (+ SI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XHLET APPARATUS (OR NIR MACH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7E19-2484-4998-8667-FAA0BDCCF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 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B2DF-9921-47F2-9BFD-460D8D1422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 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 1000g OF CORE SAMPLE IS OB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23432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0330-0B2A-49D4-98A8-3B1723146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5  PROCED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IS WEIGHED, BLENDED AND WEIGHED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3120" y="4602240"/>
            <a:ext cx="13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458136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3432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8E63-8B72-4CEC-88E8-D301578126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5  PROCED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IS SCOURED, CENTRIFUGED, DRIED &amp; WEIG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43120" y="4602240"/>
            <a:ext cx="13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458136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01336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8360" y="23432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BC4C-3C02-431E-89A5-46C65C5F77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5  PROCED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 MEASURED FOR GREASE CONTENT USING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SOXHLET METHO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NI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43120" y="4602240"/>
            <a:ext cx="13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58136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4149720"/>
            <a:ext cx="1603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23432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6BE7-164F-4567-95AB-F94E44C28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5  PROCED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IS ASHED TO DETERMINE MINER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43120" y="4602240"/>
            <a:ext cx="13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58136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8360" y="23432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FD9F-7E91-49BB-A8D3-536B562C49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5  PROCED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IS  DISSOLVED, TO ENABLE ASSESSMENT OF 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45813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58136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48360" y="23432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1B8B-988F-4F0C-B7A0-300F3E6D1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IMPORTANCE OF YIELD TO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ROCESSES USED TO PRODUCE ESTIMATE OF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COMPONENTS LEADING TO ESTIMATES OF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DIFFERENT YIELD ESTIMAT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51A-1063-4EC7-9581-0C519F458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5  PROCED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 CALCULATED BY DEDUCTING % IMPURITIES FROM OVEN DRY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WB CONVERTED TO % YIELD BY USING APPROPRIATE CONVERSION FACTOR AND PROC.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43120" y="4602240"/>
            <a:ext cx="13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58136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14972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3080" y="41497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8520" y="41497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DE19-D45F-411E-A37A-6EFA301577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6 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B981-755A-4EBA-A41E-9F0411EA4B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6 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’L STANDARDS MUST BE MET TO ISSUE CERTIFICATES FOR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TO-19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D TO DETERMINE WB, VMB AND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TO CORE TEST REG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D FOR CALCULATION OF COMM.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/NZS 4492.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D TO DETERMINE WASHING YIELD OF FLE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B8DA-90F9-43BE-AA4F-FF198E2709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7  DERIVED Y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F9A2-A3CB-4D93-84F8-CCE704B34D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7  DERIVED YIELD ESTIM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 TOP &amp; NOIL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TOP &amp; NOIL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TO SCHLUMBERGER DRY TOP &amp; NOIL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 CARD SLIVER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. COMM. CARD SLIVER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81C9-3959-4B4D-A76E-9A9D501225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7  DERIVED YIELD ESTIMAT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TO SCOURED YIELD, 17% RE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CLEAN SCOURED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CARBONISING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M CLEAN WOOL FIBR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512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5002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3586-AA30-4124-9B4C-DADC66031B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8  YIELD TESTING OF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E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8532-5D65-474A-95FB-DED0B95E41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8  YIELD TESTING OF FLE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LECTION OF RAMS &amp; EW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OOL CL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SAMPLE TAKEN FROM RIGHT MID SIDE OF FL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 SIDE PRODUCES YIELD CLOSE TO AVERAGE OF FL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512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35002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B6FD-042C-441D-8F92-C35DB25DF8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8  YIELD TESTING OF FLEEC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SIDE SAMPLES TAKEN TO TEST   HOUSE AND YIELD TES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CO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NTRIFU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512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35002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9384-241D-4B52-B828-4B416B8071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5C3A-E25A-4C96-A61D-AAD825F181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114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6575-EDC0-4F27-83E9-3286FF2E50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YIELD DEPENDS ON   TYPE OF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IS IMPORT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RTIES BUYING &amp; SELLING W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P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512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002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6717-0036-43A0-BF22-F5CECAC9E8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CTURE FOCUSE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URPOSE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ONENTS OF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RIVED YIELD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IELD TESTING OF FLEE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83B8-03A4-4FBB-A98E-BA5065C9AB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5400" y="114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  PURPOSE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26F0-C653-4FF5-85DC-9438510A06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  PURPOSE OF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USABLE WOOL FIBRE IS OF VITAL INTEREST TO TEXTIL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ROCESSING PERFORMANCE OF WOOL CAN BE CALC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 OBJECTIONS TO HIGH AND LOW YIEL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0FEE-E81E-42B4-96EC-1FE6C399D1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6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2  COMPONENT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BD33-1B41-43B4-8834-04FABC82C6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2  COMPONENTS OF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ING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S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WASHE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5737-4983-47FD-B6C3-C19A641FBD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5400" y="11358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3 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ACE0-25DC-4A70-A1B2-6CCC757949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2:02:53Z</dcterms:modified>
  <cp:revision>178</cp:revision>
  <dc:subject/>
  <dc:title>PowerPoint Presentation</dc:title>
</cp:coreProperties>
</file>