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2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9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17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ED20-AF85-4C2C-A059-C29FFF2FD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A41E-3687-43A2-A15D-3064CB1E3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62B9-DE2D-4B94-8CF3-A47A40602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C974-019F-4154-9384-E10653FD3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91E4-51BB-4951-9BE5-4C6690C629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EE65-4B27-4DC1-AC7C-BA851C4A78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037D-E62B-4F91-962A-E1DDC980CD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E6E4-EBC0-40F9-A447-0CC058BB0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06F0-9738-4C3F-84E5-3DAEC324C2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95C1-7229-4F36-9A90-9CBC98C23B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7C1A-84AF-4A60-BC81-83EB1C7B3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8199-FE5F-4A66-80C6-CB151448F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F022-DB81-47FE-8B3C-211563D2BC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4032-A648-49AE-AB08-94D3A5FC44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30B0-1E21-48A9-8123-651BF41CB5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3364-8549-45D0-BB61-60BFB74A61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79B0-C4EF-412E-A1FD-05E52F564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BE25-7845-4D52-A488-2DE1CDA84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EC6F-8F0F-485B-A4C7-7662EBF73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F032-470F-4B4F-8A97-C9CD89C71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9F45-FD6C-41FD-9E57-3720F99CD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A226-8094-42A2-A05E-81C2A6A47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C706-0AC6-4875-852E-073BA9443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C761-B487-4CDF-98E0-58E57442D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5AA2-BE64-4647-9B27-647082EB4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97A7-67AE-42E4-B6C2-793F92CBB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536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372/472/572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Biology/Met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pic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bre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evor Ma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15C3-6229-4234-B106-16A39640DA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911160"/>
            <a:ext cx="6912000" cy="4505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333360"/>
            <a:ext cx="90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M relatively imprecise in between laboratory (Interwoollabs)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F6D9-36B9-4480-ADF6-DCAE43780E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tandard Deviation is a measure of the spread of a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65400" y="1981080"/>
            <a:ext cx="581328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3E4D-21B5-4131-B973-6E1C85AEF6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456840"/>
            <a:ext cx="840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ources of Variation in Fibre Dia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bre cross-sectional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long f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mongst fibres in a sta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mongst staples on a 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mongst sheep in a m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mongst Sale Lots in a Processing Con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63E2-B2C1-4AA0-B1BD-B15A157265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Irregular wool fibre cross sectional shape contributes to variation in measured fibre dia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3100680" cy="22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5003640" cy="3217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84400" y="198756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ffect of ellipticity of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9696-6AA1-4E27-AD4F-8AE29BDCF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862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ple of along-fibre variation in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2276640"/>
          <a:ext cx="4884840" cy="299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276640"/>
                    <a:ext cx="4884840" cy="29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AFD7-32CE-4648-934A-8D670A9862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6985080" cy="530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153C-84A4-4D0A-85DE-098F2AC632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826920" y="1052640"/>
            <a:ext cx="7500960" cy="4464000"/>
            <a:chOff x="826920" y="1052640"/>
            <a:chExt cx="7500960" cy="446400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826920" y="1052640"/>
              <a:ext cx="750096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896920" y="206784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9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7800" y="207504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9.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73800" y="207504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9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44720" y="266724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8.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44720" y="325908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8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17800" y="266724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8.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3800" y="266724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9.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7800" y="325908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8.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3800" y="325908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9.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42920" y="333360"/>
            <a:ext cx="73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Variation amongst sites on a 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0ED9-93B4-4AD2-BBF2-7B573D57D3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7236000" cy="561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AF2A-9EE4-431F-A6B9-9B6236CD74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Relationship between MFD &amp; SD for individual fle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38280" y="1995480"/>
            <a:ext cx="526752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FED7-BC0C-474D-9B6C-39D2E76B75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Relationship between MFD &amp; SD for individual Sale Lots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(&amp; individual fleeces, for re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30280" y="2114640"/>
            <a:ext cx="548352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F678-049B-4902-8F74-79BA0B8469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ibre Diameter is the most important Raw Wool para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84520" y="1803240"/>
            <a:ext cx="477504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5AE5-D5D2-46C7-8FAD-F7F69DC5FE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Relationship between MFD &amp; SD for individual consignments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(&amp; individual Sale Lots, for re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335640" cy="374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411B-295E-441C-9821-8C3BF6B07B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easurement of individual sh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serscan or OFDA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n-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eece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FDA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35D6-6E81-47BE-BEEF-D7F77F67CA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leecescan</a:t>
            </a:r>
            <a:br>
              <a:rPr sz="36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“portable” Laserscan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Minicore each fleece, clean &amp; measure snipp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654360" cy="343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67280" y="2133720"/>
            <a:ext cx="5076720" cy="34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9AD0-161E-46DD-A7FA-DF41CAC93A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4753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FDA2000</a:t>
            </a:r>
            <a:br>
              <a:rPr sz="3600"/>
            </a:br>
            <a:br>
              <a:rPr sz="36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portable instrument mounted in custom-built cas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measures individual fibres within “microstaples”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measures greasy or clean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1 “microstaple” per sheep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produces diameter profile of sta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405400" y="765000"/>
            <a:ext cx="335916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F9EB-049C-4919-AC28-331204BF10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45684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arison of Precision - Fleece Testing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bsolute value of 95%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26920" y="1557360"/>
          <a:ext cx="8317080" cy="3895560"/>
        </p:xfrm>
        <a:graphic>
          <a:graphicData uri="http://schemas.openxmlformats.org/drawingml/2006/table">
            <a:tbl>
              <a:tblPr/>
              <a:tblGrid>
                <a:gridCol w="1663920"/>
                <a:gridCol w="2009880"/>
                <a:gridCol w="1315800"/>
                <a:gridCol w="1492200"/>
                <a:gridCol w="183528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e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s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eces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s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D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µ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µ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D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CA15-FB2C-46D0-8719-CE949B875A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803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3600"/>
            </a:br>
            <a:br>
              <a:rPr sz="36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Fibre Diameter most important property of wool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4 standard methods available for measurement: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Projection Microscop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Airflow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Laserscan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OFDA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sources of variation in measurement have been identified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sampling schedules established to provide precise &amp; accurate measurements of Mean &amp; variation in Fibre Diamet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727B-1F4A-4418-B2EC-1A939FED7F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ner wool is more expen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01080" cy="432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BA56-C9AD-4297-BBD7-9A1FEA6A4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aditional assessment of fibre fineness was based on quality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95672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8424-A844-4EEE-A9B0-EEC2C4D3E6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bjective Measurement has replaced subjective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bjective measur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d an independent basis for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proved reliability of specification, especially for wool 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4 major method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jection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ser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3066-C5CF-4446-B762-197E420DC4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550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Projection Microscop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the fundamental, direct method for measurement of Fibre Diameter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IWTO-8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relatively slow &amp; operator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2500200" cy="270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2978280" cy="25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F8E2-FD86-431D-8C35-B3F506FA5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Airflow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most common measurement system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- air flow through a fibre mass is related to surface area of fibre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- relies on calibration from PM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- IWTO-6 (tops) &amp; IWTO-28 (Raw W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>
            <a:lum contrast="12000"/>
          </a:blip>
          <a:srcRect l="0" t="0" r="0" b="8451"/>
          <a:stretch/>
        </p:blipFill>
        <p:spPr>
          <a:xfrm>
            <a:off x="5219640" y="2421000"/>
            <a:ext cx="3548160" cy="293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0920" y="2492280"/>
            <a:ext cx="2016360" cy="286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4EDC-350C-497A-AC57-B8D5141DC6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asersca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– sophisticated opto-electronic devic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measures approx. 2mm fibre snippet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reports mean &amp; distribution data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calibrated from PM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IWTO-12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operator independent, precise, accurate &amp; qu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42916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F649-7DCC-4067-9EBA-E0921D41E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OFD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– sophisticated opto-electronic devic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measures approx. 2mm fibre snippet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reports mean &amp; distribution data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calibrated from PM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IWTO-47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operator independent, precise, accurate &amp; qu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63720" y="2768760"/>
            <a:ext cx="3463920" cy="27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2481-E99C-4E2B-A789-7B5315A09D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sbrent</cp:lastModifiedBy>
  <dcterms:modified xsi:type="dcterms:W3CDTF">2006-09-19T02:11:30Z</dcterms:modified>
  <cp:revision>128</cp:revision>
  <dc:subject/>
  <dc:title>PowerPoint Presentation</dc:title>
</cp:coreProperties>
</file>