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AF7A-3418-4E90-BE90-9E3DEA7DC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945B6-1F68-4A46-B977-4F26A08DC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DEC63-66B2-4E55-8413-06179BAAC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1094-601F-4D6D-8147-D2435B8A6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56C52-36FD-401E-910C-D8C3D10990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8AD00-8683-4023-BD60-F41CAB2C28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C2D1D-F1BB-42C3-AA03-70885A126D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CEB40-86DE-420B-9AA9-8EB886DD62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0A2E5-0540-4EC8-8D04-2805D026C1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2CC83-C7A0-4A47-B1A9-47BE1ED3F6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17CAA-E2EE-4065-90EA-1C6BECB723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02C04-8EDC-4AB4-A307-CFCABEBCC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C67D5-F0D5-4824-BCB9-F026172AE2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1477A-0523-4DEF-8107-978BC1E6FC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DC0C6-3C8D-4A37-BC59-9C8AC2844B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EA98B-CE0C-4A11-BE5E-2A8C8AAF56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41FE2-A111-4A08-866F-5D539DF37A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1748D-9B88-426C-BA50-06BC34882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BC4E-E80F-490F-AE73-7C0D1AFEE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9BBB4-8DBF-46F0-AE12-24A8272B3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CC3CD-9985-4A5C-9AD1-B44B1DF19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A4F85-340F-4B4C-8ACA-6ABCD22B4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A606-18DC-4BE9-905F-0EA4DBE3A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7FBB6-57CB-4E15-9197-24D745CAC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0128-0A40-4ED5-92D3-D4605B211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C04A-08F7-4361-A6AC-FB136EF13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5400" y="3225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OOL 372/472/572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ool Biology/Metrology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88560" y="4229280"/>
            <a:ext cx="7774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to Wool Metr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Sommervill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32473-E956-4BCB-AC20-2C38DB403A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uracy &amp; Pr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6012000" y="1413000"/>
                <a:ext cx="13078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900000" y="1628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lute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2421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012000" y="2436840"/>
                <a:ext cx="6807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S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900000" y="30924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tandard Deviation of the M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012000" y="3108240"/>
                <a:ext cx="6886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012000" y="3700440"/>
                <a:ext cx="9396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900000" y="36846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efficient of Var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012000" y="4300560"/>
                <a:ext cx="1936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900000" y="418932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Variance of the m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012000" y="4888080"/>
                <a:ext cx="116820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L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900000" y="48038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nfidence Level (95%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79FC-B0AD-4AD3-B315-B5734C89E8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or indeterminate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atic or determinate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fferences in fundamental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ersonal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strumental Err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ethod Err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fere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DF214-8EF1-4452-B1AD-25F805135B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uracy, Precision &amp; B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3951360" cy="395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6426B-4568-4464-9E14-4D294059E9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Development of Standard Test Metho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Role of IW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n Introduction to IWTO Specific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pplication of IWTO Test Specifications for Greasy Wo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Farm Fibre Measur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uture Develop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1C191-750C-445A-84AA-04A76A77DD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le of IW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03640" y="189000"/>
            <a:ext cx="3981600" cy="53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C3DA-0AB9-4977-8ADF-556A6E0531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7324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WTO Specif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7159680" cy="461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6193B-46CF-40EB-BAFA-654BC02E43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echnical Limitations of Wool Metrology System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etween-Core/Between-Grab Var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ithin-Laboratory Var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etween-Laboratory Var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ests &amp; Rete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69CA-450B-4781-A635-4D1DE89A7A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5840" y="18028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history of wool metr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essential technical requirements of wool measuremen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nderstand the sources of variation within wool metrolog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rocedures by which metrology standards are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the technical limitation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2052-5E63-4AFD-A618-FDA0561905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bout Wool Metr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5840" y="18028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is Wool Metrology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y Measure Wool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Brief History of Raw Wool Metro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Measurable Quality Characteristics of Wool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scribing W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Can Be Measured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53580-8064-4CBB-8965-4659B735CC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hat is Wool Metro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etrology is the science of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cussed upon developing (evaluating) technologies and systems for objectively measuring the quality attributes of raw materials and manufactured produ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18577-2F46-4495-A5C8-7B593EC7ED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hy Measure W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nes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Con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CE0F-32C7-49A7-AAEC-F464EFEE30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A Brief History of Raw Wool Metr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auben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77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ion of IWTO (192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the Airflow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&amp; Grab Sampl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n Objective Measur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242DC-210D-4B99-ABDB-20A94AB1E6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Measurable Quality Characteristics of W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Fibre Di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ple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FC88C-7DCB-4783-935B-3716094AAA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echnical Requirements of Metrology System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Basic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ampling - the Number One Iss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ccuracy &amp; Prec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ensi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tection Li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elec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DF69E-F635-4736-93C7-A9E6FE2FD5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87280" y="1413000"/>
          <a:ext cx="7772400" cy="39560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3.1: Objective Criteria for Evaluating Testing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er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erical Meas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Prec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lute Standard Dev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ive Standard Dev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ficient of Var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B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lute Systematic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ive Systematic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Sensi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ibration Sensi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ytical Sensi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Detection Lim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ank plus 3 times the standard deviation of the bl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mit of quantitation (LOQ) to limit of linearity (LO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Selec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ficient of Sele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rce: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.J. Sommerville, </a:t>
                      </a: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&amp; Commercial Requirements of Wool Testing Systems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AWTA Ltd Newsletter, September 2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F7978-36F6-4115-BAE4-0F149850B8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sbrent</cp:lastModifiedBy>
  <dcterms:modified xsi:type="dcterms:W3CDTF">2006-09-19T01:59:29Z</dcterms:modified>
  <cp:revision>124</cp:revision>
  <dc:subject/>
  <dc:title>PowerPoint Presentation</dc:title>
</cp:coreProperties>
</file>