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C4174-9E44-40A1-A756-E6FA0EAFA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1285C-6282-4704-8967-976E600D2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6861-1FA2-48E3-83B9-A3858A5BC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8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1720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8892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8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1720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FD12A-FF9C-4D32-98F8-86B5FBF697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51F8E-90D4-4E10-8535-DA7FED1ED7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EFE2E-EA06-4048-898B-DD1FDE6BB5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3BB32-4274-4DFD-8D0A-E01B358D92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AF988-5F3C-4A10-A9B2-4049546B0C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F442C-F007-45C0-BE6B-AA6395F082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5400" y="312840"/>
            <a:ext cx="7772400" cy="80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78621-CBD7-4DA9-A16A-03F02D6D48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D1CF2-931F-45C1-A234-5F1725AB1E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5374D-FF7E-4E06-B863-D5C8ADCBF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C0338-D6FD-43C0-8EC1-9DCDAA6CF9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30AFC-4ED9-48F7-AFD3-6AEF7569D3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16C32-47C1-4EE1-9C29-D75A10DA31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4AB57-D826-4E83-BC30-B5D0515F76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8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1720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8892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8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1720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26A88-178D-487B-8D3A-8FA66ACDE0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BF710-3998-444D-ABBF-021536F15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67766-37E5-47C9-99FC-38E87FA52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1FCF8-F724-40D1-B89B-B74449C53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5400" y="312840"/>
            <a:ext cx="7772400" cy="80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0092-C8AB-46D8-AC4B-2CBC145E8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38AD-8EFA-49EF-A362-BB2662A1E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6057E-B6EF-4B21-A4C2-FA40A0D161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5BF7C-8492-46BD-A2F7-B523B2347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6802-B54B-48C7-8DFF-642BCE0CF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F765-9E8C-4A53-AF40-71AA18412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5400" y="5364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OL 372/472/57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ol Biology/Metr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88560" y="4229280"/>
            <a:ext cx="7774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pic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ampling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im Ste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939CC-A28D-46CD-854B-74634DE8BE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ing Mach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562720" y="1802880"/>
            <a:ext cx="33955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b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e weig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4241520" cy="39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F01AC-2851-4F3E-B405-7F5A437EBB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b Sampling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20 grabs per sale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number of grabs from each b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b taken through slits on side of b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ts in random 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of two grabs from same sl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h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d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3EA3-BD4E-4B76-97FC-AA9EB9F02C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b Samp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5790960" cy="386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0FA02-C190-43A6-AD4A-04777C88A5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b Sample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b is use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 sampling for average staple length &amp; streng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ai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usal by buyers on show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76C66-868E-404E-BB49-F951F3C066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w Flo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3F408-E0DE-468B-8B39-BC2FC8CB70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e Sampling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20 cores per sale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750 gram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number of cores from each b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position random and va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penetrates 93% of bal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 bales at time of c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l samples airtight for period between sampling and tes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9076C-48DC-465A-AF37-68FD308F43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e Samp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2880" y="1447920"/>
            <a:ext cx="4005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e tips off scales into core cha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e compressed against roof of cha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tube penetrates b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evacuated into collection b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2892240" cy="386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B967E-1F46-4C8C-BE13-93FC4072EC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5400" y="3160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4EDB5-CF74-48DF-8DF2-6F98640D83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sbrent</cp:lastModifiedBy>
  <dcterms:modified xsi:type="dcterms:W3CDTF">2006-09-19T02:01:35Z</dcterms:modified>
  <cp:revision>123</cp:revision>
  <dc:subject/>
  <dc:title>PowerPoint Presentation</dc:title>
</cp:coreProperties>
</file>