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A889-3CED-4E57-8C85-F8F2F9874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B48EE-FFE2-490E-BDF2-C4CECC0F9C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CBE88-99C6-4383-8849-3CEF9A077C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B8215-B36F-476D-A4FF-45EBB61DE9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1128E-9A18-42AA-B039-B2DBCB2BDA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007CF-660B-4370-A96F-0A6FCF980F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CF950-8CC0-4565-A458-A1D2137745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FCB10-F219-49A5-9349-712AF0CAEF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48FA2-95F1-413F-B928-30B41885E6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64DE3-EE53-4E87-A891-56AD4E7C12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786A7-6614-4EF6-A7DA-F24DE0121F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A6015-0BF7-4F1D-A136-5AE4626A9E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61876-DE84-427B-B0DB-6A2CF95BD9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9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1333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4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4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59436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0"/>
            <a:ext cx="749160" cy="10666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480" y="5943600"/>
            <a:ext cx="9137520" cy="914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534520" y="6248520"/>
            <a:ext cx="380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1A2E-60CC-4BF1-9FFC-B21AE40A6D7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9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59436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40" y="5943600"/>
            <a:ext cx="913752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843360" y="0"/>
            <a:ext cx="1457280" cy="2577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4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9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OOL 372/472/572</a:t>
            </a:r>
            <a:br>
              <a:rPr sz="3600"/>
            </a:b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ool Biology/Metrolo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pic 15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Use of Measurement in Sheep Production, Greasy Wool Commerce &amp; Commercial use of Prediction Technology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Bob Couchman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9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3520" y="907560"/>
            <a:ext cx="852012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Example of TEAM used as a Quality Management To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496000" cy="400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6C1BA-824A-420A-BC1E-CDFB6635C4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9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EAM 3 Formula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4920" y="2133360"/>
            <a:ext cx="85964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uteur =   0.43L + 0.35S + 1.38D – 0.15M – 0.45V – 0.59CVD – 0.32CVL + 21.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8 + 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01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V Hauteur  =   0.30L – 0.37S – 0.88D + 0.17M + 0.38CVL + 35.6 +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01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Romaine =   – 0.13L – 0.18S – 0.63D + 0.78V + 38.6 +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A374C-D710-4741-BC48-761FF20F48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9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9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TEAM Trials (1,2 &amp; 3) 1980 - 200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21333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ed formulae to predict from greasy wo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SzPct val="4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uteu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average length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SzPct val="4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efficient of Variation of Hauteu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SzPct val="4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omain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no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SzPct val="4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AU" sz="2400" spc="-1" strike="noStrike">
                <a:solidFill>
                  <a:srgbClr val="969696"/>
                </a:solidFill>
                <a:latin typeface="Arial"/>
              </a:rPr>
              <a:t>Barbe (TEAM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esents world averages in processing performa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08D4E-7BA0-4CB9-943D-16ADD9DAA7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9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EAM 2 - Hauteu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21333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uteur = 0.52L + 0.47S + 0.95 D - 0.45 V - 0.19 M* - 3.5 (+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 =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ength (millimet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 =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rength (N/kt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 =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ibre diameter (micr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 =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egetable matter bas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*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= percentage of middle breaks(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f between 0-45% use 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f greater use actual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5 =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52D31-2679-4331-9C4D-153BF1934B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9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TEAM 2 – CVHa &amp; Romaine (noil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667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VHa = 0.12 L - 0.41 S - 0.35 D + 0.20 M * + 49.3 (+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maine%  = - 0.11 L - 0.14 S - 0.35 D + 0.94 V + 27.7 (+MA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Romaine = quantity of noil expressed as a percentage, of the combined quantity of top and noi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F8B71-6BAE-40B5-A4E9-0D6CC0463A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9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EAM 2 - Bar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21333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f9f8"/>
                </a:solidFill>
                <a:latin typeface="Arial"/>
              </a:rPr>
              <a:t>B = 0.73 L+ 0.32 S + 0.96 D -0.51 V-0.086 M*- 5.3 </a:t>
            </a:r>
            <a:r>
              <a:rPr b="1" lang="en-US" sz="2000" spc="-1" strike="noStrike">
                <a:solidFill>
                  <a:srgbClr val="f5f9f8"/>
                </a:solidFill>
                <a:latin typeface="Arial"/>
              </a:rPr>
              <a:t>(+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f9f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5f9f8"/>
                </a:solidFill>
                <a:latin typeface="Arial"/>
              </a:rPr>
              <a:t>L = </a:t>
            </a:r>
            <a:r>
              <a:rPr b="1" i="1" lang="en-US" sz="2000" spc="-1" strike="noStrike">
                <a:solidFill>
                  <a:srgbClr val="f5f9f8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5f9f8"/>
                </a:solidFill>
                <a:latin typeface="Arial"/>
              </a:rPr>
              <a:t>length (millimet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f9f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5f9f8"/>
                </a:solidFill>
                <a:latin typeface="Arial"/>
              </a:rPr>
              <a:t>S = </a:t>
            </a:r>
            <a:r>
              <a:rPr b="1" i="1" lang="en-US" sz="2000" spc="-1" strike="noStrike">
                <a:solidFill>
                  <a:srgbClr val="f5f9f8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5f9f8"/>
                </a:solidFill>
                <a:latin typeface="Arial"/>
              </a:rPr>
              <a:t>strength (N/kt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f9f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5f9f8"/>
                </a:solidFill>
                <a:latin typeface="Arial"/>
              </a:rPr>
              <a:t>D = </a:t>
            </a:r>
            <a:r>
              <a:rPr b="1" i="1" lang="en-US" sz="2000" spc="-1" strike="noStrike">
                <a:solidFill>
                  <a:srgbClr val="f5f9f8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5f9f8"/>
                </a:solidFill>
                <a:latin typeface="Arial"/>
              </a:rPr>
              <a:t>fibre diameter (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f9f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5f9f8"/>
                </a:solidFill>
                <a:latin typeface="Arial"/>
              </a:rPr>
              <a:t>V =</a:t>
            </a:r>
            <a:r>
              <a:rPr b="1" i="1" lang="en-US" sz="2000" spc="-1" strike="noStrike">
                <a:solidFill>
                  <a:srgbClr val="f5f9f8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5f9f8"/>
                </a:solidFill>
                <a:latin typeface="Arial"/>
              </a:rPr>
              <a:t>vegetable matter base</a:t>
            </a:r>
            <a:r>
              <a:rPr b="1" lang="en-US" sz="2000" spc="-1" strike="noStrike">
                <a:solidFill>
                  <a:srgbClr val="f5f9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f9f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5f9f8"/>
                </a:solidFill>
                <a:latin typeface="Arial"/>
              </a:rPr>
              <a:t>M* </a:t>
            </a:r>
            <a:r>
              <a:rPr b="1" i="1" lang="en-US" sz="2000" spc="-1" strike="noStrike">
                <a:solidFill>
                  <a:srgbClr val="f5f9f8"/>
                </a:solidFill>
                <a:latin typeface="Arial"/>
              </a:rPr>
              <a:t>= percentage of middle breaks(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5f9f8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5f9f8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5f9f8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5f9f8"/>
                </a:solidFill>
                <a:latin typeface="Arial"/>
              </a:rPr>
              <a:t>if between 0-45% use 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5f9f8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5f9f8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5f9f8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5f9f8"/>
                </a:solidFill>
                <a:latin typeface="Arial"/>
              </a:rPr>
              <a:t>if greater use actual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f9f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5f9f8"/>
                </a:solidFill>
                <a:latin typeface="Arial"/>
              </a:rPr>
              <a:t>5.3=</a:t>
            </a:r>
            <a:r>
              <a:rPr b="1" i="1" lang="en-US" sz="2000" spc="-1" strike="noStrike">
                <a:solidFill>
                  <a:srgbClr val="f5f9f8"/>
                </a:solidFill>
                <a:latin typeface="Arial"/>
              </a:rPr>
              <a:t> constant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f9f8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f9f8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5f9f8"/>
                </a:solidFill>
                <a:latin typeface="Arial"/>
              </a:rPr>
              <a:t>Barbe ---&gt; Hauteur:   B = Ha (1+ CVHa</a:t>
            </a:r>
            <a:r>
              <a:rPr b="1" lang="en-US" sz="2000" spc="-1" strike="noStrike" baseline="30000">
                <a:solidFill>
                  <a:srgbClr val="f5f9f8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f5f9f8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28C2F-8D1C-4142-8B55-629A545E2F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9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Mill Adjustment Fact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21333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SzPct val="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termined by differences i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chinery processing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tions in wool being proc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termined for individual m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C2DA8-2AA9-4CC4-A51B-51E5E17D19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9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1432800" y="981000"/>
            <a:ext cx="7250040" cy="4802400"/>
            <a:chOff x="1432800" y="981000"/>
            <a:chExt cx="7250040" cy="4802400"/>
          </a:xfrm>
        </p:grpSpPr>
        <p:sp>
          <p:nvSpPr>
            <p:cNvPr id="104" name=""/>
            <p:cNvSpPr/>
            <p:nvPr/>
          </p:nvSpPr>
          <p:spPr>
            <a:xfrm>
              <a:off x="1432800" y="981000"/>
              <a:ext cx="4092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n Example Of Calculating A Mill Correction Factor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38200" y="1170000"/>
              <a:ext cx="43992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80600" y="9810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94600" y="1197000"/>
              <a:ext cx="500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                         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904800" y="11970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38160" y="1417680"/>
              <a:ext cx="1358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ctual Hauteur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50080" y="141768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53640" y="1417680"/>
              <a:ext cx="1619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Predicted Hauteur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10080" y="1417680"/>
              <a:ext cx="2187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Difference   Between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85640" y="141768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44920" y="1633680"/>
              <a:ext cx="506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ch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30640" y="163368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ie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89760" y="1633680"/>
              <a:ext cx="892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ved by Mill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37640" y="163368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55160" y="1633680"/>
              <a:ext cx="4103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Using the  TEAM            Actual and Predicted      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99920" y="163368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256960" y="1633680"/>
              <a:ext cx="425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55240" y="1852560"/>
              <a:ext cx="2443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Formula                        Hauteur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5960" y="18525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86960" y="18525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862320" y="1852560"/>
              <a:ext cx="614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493760" y="18525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08160" y="2068560"/>
              <a:ext cx="518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(mm) 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51760" y="20685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50840" y="2068560"/>
              <a:ext cx="3162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(mm)                              (mm)         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52720" y="2257560"/>
              <a:ext cx="43941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015320" y="2068560"/>
              <a:ext cx="18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214400" y="20685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25200" y="2289240"/>
              <a:ext cx="523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73.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69520" y="2289240"/>
              <a:ext cx="14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9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16760" y="22892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31000" y="2289240"/>
              <a:ext cx="335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73.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77320" y="22892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86960" y="22892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36280" y="22892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100200" y="2289240"/>
              <a:ext cx="381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0.8 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498360" y="22892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28080" y="2505240"/>
              <a:ext cx="619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73.6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64560" y="25052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31000" y="2505240"/>
              <a:ext cx="335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73.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477320" y="25052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286960" y="25052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03800" y="2505240"/>
              <a:ext cx="428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0.6  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547320" y="25052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28080" y="2724120"/>
              <a:ext cx="619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57.3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64560" y="27241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31000" y="2724120"/>
              <a:ext cx="335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55.5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77320" y="27241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86960" y="27241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09560" y="2724120"/>
              <a:ext cx="523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1.8    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0640" y="27241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28080" y="2940120"/>
              <a:ext cx="619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59.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64560" y="29401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31000" y="2940120"/>
              <a:ext cx="335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58.4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77320" y="29401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86960" y="29401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09560" y="2940120"/>
              <a:ext cx="523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0.6    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50640" y="29401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28080" y="3160800"/>
              <a:ext cx="619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66.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64560" y="31608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48640" y="3160800"/>
              <a:ext cx="61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66.9     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83680" y="31608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86960" y="31608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84720" y="316080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79400" y="3160800"/>
              <a:ext cx="523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0.9     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20480" y="31608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8080" y="3376440"/>
              <a:ext cx="619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58.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64560" y="33764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31000" y="3376440"/>
              <a:ext cx="335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55.8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77320" y="33764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286960" y="33764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09560" y="3376440"/>
              <a:ext cx="523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2.3    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50640" y="33764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828080" y="3595680"/>
              <a:ext cx="619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58.7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64560" y="359568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31000" y="3595680"/>
              <a:ext cx="335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57.7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77320" y="359568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09560" y="3595680"/>
              <a:ext cx="523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1.0    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650640" y="359568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28080" y="3811680"/>
              <a:ext cx="619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61.2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464560" y="381168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31000" y="3811680"/>
              <a:ext cx="335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58.8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77320" y="381168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286960" y="381168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09560" y="3811680"/>
              <a:ext cx="523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2.4    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50640" y="381168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28080" y="4032360"/>
              <a:ext cx="619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58.3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64560" y="4032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31000" y="4032360"/>
              <a:ext cx="335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54.3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77320" y="4032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86960" y="4032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09560" y="4032360"/>
              <a:ext cx="523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4.0    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50640" y="4032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828080" y="4248000"/>
              <a:ext cx="619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59.4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64560" y="42480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31000" y="4248000"/>
              <a:ext cx="335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57.9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477320" y="42480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86960" y="42480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89040" y="4248000"/>
              <a:ext cx="14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58960" y="4248000"/>
              <a:ext cx="380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.5    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50640" y="42480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28080" y="4467240"/>
              <a:ext cx="619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65.1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64560" y="44672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61240" y="4467240"/>
              <a:ext cx="808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67.2         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88520" y="44672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86960" y="44672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36280" y="44672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84720" y="446724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176880" y="4467240"/>
              <a:ext cx="476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2.1    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71160" y="44672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28080" y="4683240"/>
              <a:ext cx="619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71.4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64560" y="46832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54760" y="4683240"/>
              <a:ext cx="713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77.7       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87000" y="46832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86960" y="46832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36280" y="46832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084720" y="468324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76880" y="4683240"/>
              <a:ext cx="476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6.3    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671160" y="46832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828080" y="4903920"/>
              <a:ext cx="619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60.6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64560" y="4903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31000" y="4903920"/>
              <a:ext cx="335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60.0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77320" y="4903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86960" y="4903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09560" y="4903920"/>
              <a:ext cx="523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0.6    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50640" y="4903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28080" y="5119560"/>
              <a:ext cx="619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67.6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64560" y="51195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31000" y="5119560"/>
              <a:ext cx="335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66.9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77320" y="51195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86960" y="51195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09560" y="5119560"/>
              <a:ext cx="523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0.7    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50640" y="51195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828080" y="5338800"/>
              <a:ext cx="619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72.9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64560" y="53388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31000" y="5338800"/>
              <a:ext cx="335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72.4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77320" y="53388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86960" y="53388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09560" y="5338800"/>
              <a:ext cx="523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0.5    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50640" y="53388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00720" y="55548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21640" y="55548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05680" y="55548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MEAN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42520" y="55548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103800" y="5554800"/>
              <a:ext cx="428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0.5  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47320" y="55548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DD071-49EC-4447-964C-267D66BD07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9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26560" y="980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Information for Prediction is Obtained from Post Sale Test Certifica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54040" y="2421360"/>
            <a:ext cx="7767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bined Certificates:-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WTO COMBINED CERTIFICATE (Core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cron, yield and vegetable matt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WTO COMBINED STAPLE TEST CERTIFICA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ngth, strength and position of brea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6DEAD-DECB-4632-B3F1-9F9E8300CF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9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5917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Using Prediction in Buying Specific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1564560"/>
            <a:ext cx="889308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quirement TEAM (Ha) prediction = 70mm,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MAF = +4.0 mm),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quired Risk Level = 1 in 40,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.d. of Prediction:Processing = 5.7 mm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lculation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quired Ha - MAF + (2 x s.d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= 70 - 4 + (2 x 5.7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=  77.4 m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The Mill must purchase wool that predicts as:-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77.4 mm Ha to have a 1:40 chance of failing to meet 70mm in the processed top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7D021-FC58-4D17-89C5-B40ABAAF66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9T23:39:21Z</dcterms:created>
  <dc:creator>Bob Couchman</dc:creator>
  <dc:description/>
  <dc:language>en-US</dc:language>
  <cp:lastModifiedBy>sbrent</cp:lastModifiedBy>
  <dcterms:modified xsi:type="dcterms:W3CDTF">2006-09-19T02:32:02Z</dcterms:modified>
  <cp:revision>3</cp:revision>
  <dc:subject/>
  <dc:title>Lecture 12</dc:title>
</cp:coreProperties>
</file>