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BA894-0BD0-47D2-A853-7458213DAE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D6E46-164F-49D2-9CA4-21272342B8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1E9B0-69F2-4FB3-BEF7-CA1652D835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53682-FAD9-4AEC-8F2F-D7ACE25B0D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EA358-88AD-433D-A79F-4FCDB4E5EFE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30E1F-931A-4D73-8659-B4D48CC559D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69D0B-7787-4594-A599-5B89CC053B5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243B4-B4DA-4D9D-A621-01270A67383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07924-909C-4290-BBF2-B036C38C797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E0DB9-4C3F-4167-8E40-01346625BC9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273B9-D24B-47A1-AF28-77062C4284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30C76-6200-40DD-B658-B641B512D5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2D582-890E-4EC1-A4E7-662711CFF06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76684-D9B5-4D68-AF62-B974EF003AE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0D7E8-D415-4334-B055-BF7F80A8FE7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26424-18C9-425D-8280-5C8050BA96A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8AC63-AFFF-4715-8829-EE51FAD421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32BFE-08EE-4643-BB27-7CC63A4C32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A462C-A4ED-43CB-AD45-A9DBC840D2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40803-0522-4665-A749-C94D790E52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B5031-CBCC-4E79-A442-B7234F2ED7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FB709-4BC9-40E6-B6E3-1601D4A453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D92BE-A298-4D78-AB92-20B6B2EDC6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F1081-3F9A-4603-9A98-DC2C1413A6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65164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350040" y="527040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EA19F-EF85-4E39-B229-4F9144553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1BDC1-0132-443E-AC05-57675B2C7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213372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74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479760"/>
            <a:ext cx="380880" cy="337824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5400" y="32256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WOOL 372/472/572</a:t>
            </a:r>
            <a:br>
              <a:rPr sz="4000"/>
            </a:b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Wool Biology/Metrology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88560" y="4229280"/>
            <a:ext cx="7774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Development in Wool Metr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vor Mahar &amp; Peter Sommerv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D37C2-E0C6-49AD-88E5-92A7906DB01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5840" y="180288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n appreciation of  the factors which drive developments in wool metrolog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 guide to possible future developments in wool metrolog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46FDE-0690-4985-827A-7C1A6FDC8B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Brief Histor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5840" y="180288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&amp; Grab Samp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ield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e By S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ple Length &amp; Str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meter Distribution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WTO Test Spec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ECF57-97D0-4B02-9163-79021E0341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Available measurement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187280" y="1413000"/>
          <a:ext cx="7772400" cy="4000320"/>
        </p:xfrm>
        <a:graphic>
          <a:graphicData uri="http://schemas.openxmlformats.org/drawingml/2006/table">
            <a:tbl>
              <a:tblPr/>
              <a:tblGrid>
                <a:gridCol w="5113440"/>
                <a:gridCol w="2658960"/>
              </a:tblGrid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ool Proper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lative Import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ie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# # # #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F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# # # #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getable Matter 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# # # #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bre Leng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# # #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ength and position of Weakn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# # #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lour/coloured fi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# # #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bre diameter varia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# #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bre length varia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# #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gree of cottedn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# #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mp and resistance to compres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# #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ple T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#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ge and bre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#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yle, character, hand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#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A6DAC-1520-42F6-BF0E-25238215DDB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Areas of current usag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rad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Performance Monitor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Predi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Product and Process Develop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Marke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24A3F-2375-4DB0-9F9E-6756667D5AF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Future Developments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riven by trends in Wool Production, Trading and Process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New Measurement Technolog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pectroscopic measurem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mage Analy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lectronic Inform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Refinement of Existing Measurem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dividual Fleece Tes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resale Tes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op Tes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5AEA3-CCE8-41F9-B51C-EF02D7C7E4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2T01:53:08Z</dcterms:created>
  <dc:creator>mcleisw</dc:creator>
  <dc:description/>
  <dc:language>en-US</dc:language>
  <cp:lastModifiedBy>sbrent</cp:lastModifiedBy>
  <dcterms:modified xsi:type="dcterms:W3CDTF">2006-09-19T02:34:16Z</dcterms:modified>
  <cp:revision>123</cp:revision>
  <dc:subject/>
  <dc:title>PowerPoint Presentation</dc:title>
</cp:coreProperties>
</file>