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8A8C-BC82-4409-8B3C-9DF06851E24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A4EC-10A5-45C5-9038-A8BB83490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E66B-3F39-44D1-90D6-195749887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4DB3-BF50-4B91-8798-C7EA76898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A91E-B508-4AE2-A04C-CEAD33046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C64C-DFBF-4D56-BDFF-96D9248C8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34DD-A76C-441F-A018-3794E3A4E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0F5C-31A0-4A5F-BBDB-4623925E4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F2DE-5FDB-4914-9AAB-9BD41D2B1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C7C2-08D9-49A1-BD86-431E767C1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BB84-2BF3-436A-A654-0861CCF5E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18AC-8913-471A-9FB7-B62137F2B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0391-AFFE-4D12-A5E9-79DF66D4B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59436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749160" cy="10666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480" y="5943600"/>
            <a:ext cx="913752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34520" y="624852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8AB5-9A9B-481C-9D16-DC27804838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9436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" y="5943600"/>
            <a:ext cx="913752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43360" y="0"/>
            <a:ext cx="1457280" cy="257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924280"/>
            <a:ext cx="79898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WOOL 372/472/572</a:t>
            </a:r>
            <a:br>
              <a:rPr sz="3600"/>
            </a:b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Wool Biology/Metrology</a:t>
            </a:r>
            <a:br>
              <a:rPr sz="3600"/>
            </a:br>
            <a:br>
              <a:rPr sz="3600"/>
            </a:b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Topic 16</a:t>
            </a:r>
            <a:br>
              <a:rPr sz="2000"/>
            </a:b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Fibre Diameter Measurement of Slivers and Tops</a:t>
            </a:r>
            <a:br>
              <a:rPr sz="2000"/>
            </a:b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Errol Wo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32040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Lasersc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897960" cy="3426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64000" y="4365720"/>
            <a:ext cx="216000" cy="287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722920" y="3699000"/>
            <a:ext cx="3313080" cy="2487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495600" y="4653000"/>
            <a:ext cx="1220760" cy="1224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5400000">
            <a:off x="7164360" y="2852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5f9f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8F84-6A43-4B38-BB84-6CB8E94250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OFDA40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001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1137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new instrument for measuring slivers/t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37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epares beard of aligned fibres,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easures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Fibre length, curv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Fibre diameter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omfort factor (fibre 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964"/>
              </a:spcAft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Diameter profile along be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9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32360" y="2870280"/>
            <a:ext cx="4032360" cy="2873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43280" y="5229360"/>
            <a:ext cx="50508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4A61-79B1-40AD-9D28-E065C167F1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40920"/>
            <a:ext cx="64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Instruments for fibre diamet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rojection mic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nual method for calibrating oth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Ai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mple, now obsolet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Optical Fibre Diameter Analyser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(O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pplies digital image                                    process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aser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pplies laser detection                              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80000" y="4076640"/>
            <a:ext cx="2849760" cy="2122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71640" y="4869000"/>
            <a:ext cx="244800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C790-8148-4C2F-8282-8DE5465356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9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evant IWTO test methods for wool fibre diameter measu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4608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2276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WTO 6  - Projection    Microsc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276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WTO 12 – Lasersc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276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WTO 47 - OF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32360" y="2690640"/>
            <a:ext cx="368784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DB4E-BFF9-474E-8C57-F680A817E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01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Projection Microsco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0920" y="1474920"/>
            <a:ext cx="5545080" cy="4475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2330280"/>
            <a:ext cx="2735280" cy="2049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448452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Snippet cut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AD5B-88FA-4C98-A279-ECCD560FA6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331920"/>
            <a:ext cx="8001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Data from Projection Microsco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63800" y="1052640"/>
          <a:ext cx="6821280" cy="4894200"/>
        </p:xfrm>
        <a:graphic>
          <a:graphicData uri="http://schemas.openxmlformats.org/drawingml/2006/table">
            <a:tbl>
              <a:tblPr/>
              <a:tblGrid>
                <a:gridCol w="1136520"/>
                <a:gridCol w="1136520"/>
                <a:gridCol w="1138320"/>
                <a:gridCol w="1136520"/>
                <a:gridCol w="1136880"/>
                <a:gridCol w="113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lass interval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μm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id-point 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μm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o. of snippet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% of snippets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 x 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1" lang="en-GB" sz="1000" spc="-1" strike="noStrike" baseline="30000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GB" sz="1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x 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-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-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-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-1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-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-1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.57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9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88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4-1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6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24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6-1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1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.97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22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779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8-2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3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4.1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93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927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-2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99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.9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9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3967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2-2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9.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74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102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-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9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.9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9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31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6-2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8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706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-3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3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45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0-3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.47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8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82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2-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6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4-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2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6-3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8-4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otals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0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015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640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FF7D-F68B-4FD8-84C8-6BDA7944A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Fibre diameter distrib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48560" cy="44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24D8-B371-4064-B82F-4781440B48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01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Calculations of key stat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0360" y="1413000"/>
            <a:ext cx="3600360" cy="612720"/>
            <a:chOff x="2700360" y="1413000"/>
            <a:chExt cx="3600360" cy="612720"/>
          </a:xfrm>
        </p:grpSpPr>
        <p:sp>
          <p:nvSpPr>
            <p:cNvPr id="109" name=""/>
            <p:cNvSpPr/>
            <p:nvPr/>
          </p:nvSpPr>
          <p:spPr>
            <a:xfrm>
              <a:off x="2700360" y="1546200"/>
              <a:ext cx="1008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300" spc="-1" strike="noStrike">
                  <a:solidFill>
                    <a:srgbClr val="003366"/>
                  </a:solidFill>
                  <a:latin typeface="Arial"/>
                </a:rPr>
                <a:t>MFD</a:t>
              </a: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  =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19280" y="1413000"/>
              <a:ext cx="10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Σ</a:t>
              </a:r>
              <a:r>
                <a:rPr b="0" lang="en-NZ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 d x 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2360" y="1741320"/>
              <a:ext cx="503280" cy="7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62200" y="1690560"/>
              <a:ext cx="5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8560" y="1546200"/>
              <a:ext cx="43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56000" y="146052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8015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1749240"/>
              <a:ext cx="4316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492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15397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64000" y="153360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3366"/>
                  </a:solidFill>
                  <a:latin typeface="Arial"/>
                </a:rPr>
                <a:t>20.03 </a:t>
              </a:r>
              <a:r>
                <a:rPr b="1" lang="el-GR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μ</a:t>
              </a:r>
              <a:r>
                <a:rPr b="1" lang="en-NZ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m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698920" y="2349360"/>
            <a:ext cx="3240720" cy="2610360"/>
            <a:chOff x="2698920" y="2349360"/>
            <a:chExt cx="3240720" cy="2610360"/>
          </a:xfrm>
        </p:grpSpPr>
        <p:grpSp>
          <p:nvGrpSpPr>
            <p:cNvPr id="120" name=""/>
            <p:cNvGrpSpPr/>
            <p:nvPr/>
          </p:nvGrpSpPr>
          <p:grpSpPr>
            <a:xfrm>
              <a:off x="3562200" y="2349360"/>
              <a:ext cx="2377440" cy="1009440"/>
              <a:chOff x="3562200" y="2349360"/>
              <a:chExt cx="2377440" cy="1009440"/>
            </a:xfrm>
          </p:grpSpPr>
          <p:sp>
            <p:nvSpPr>
              <p:cNvPr id="121" name=""/>
              <p:cNvSpPr/>
              <p:nvPr/>
            </p:nvSpPr>
            <p:spPr>
              <a:xfrm>
                <a:off x="4787640" y="2709720"/>
                <a:ext cx="7916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16000" y="2349360"/>
                <a:ext cx="122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(</a:t>
                </a:r>
                <a:r>
                  <a:rPr b="0" lang="el-GR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Σ</a:t>
                </a:r>
                <a:r>
                  <a:rPr b="0" lang="en-NZ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 </a:t>
                </a:r>
                <a:r>
                  <a:rPr b="0" lang="en-NZ" sz="12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 x d</a:t>
                </a:r>
                <a:r>
                  <a:rPr b="0" lang="en-NZ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)</a:t>
                </a:r>
                <a:r>
                  <a:rPr b="0" lang="en-NZ" sz="1400" spc="-1" strike="noStrike" baseline="30000">
                    <a:solidFill>
                      <a:srgbClr val="003366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30200" y="270972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Σ</a:t>
                </a:r>
                <a:r>
                  <a:rPr b="0" lang="en-NZ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 </a:t>
                </a:r>
                <a:r>
                  <a:rPr b="0" lang="en-NZ" sz="12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00000" y="248580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3366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9280" y="249372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Σ</a:t>
                </a:r>
                <a:r>
                  <a:rPr b="0" lang="en-NZ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 </a:t>
                </a:r>
                <a:r>
                  <a:rPr b="0" lang="en-NZ" sz="12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 x d</a:t>
                </a:r>
                <a:r>
                  <a:rPr b="0" lang="en-NZ" sz="1400" spc="-1" strike="noStrike" baseline="30000">
                    <a:solidFill>
                      <a:srgbClr val="003366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22200" y="2997000"/>
                <a:ext cx="1657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11280" y="2990520"/>
                <a:ext cx="136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Σ</a:t>
                </a:r>
                <a:r>
                  <a:rPr b="0" lang="en-NZ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 </a:t>
                </a:r>
                <a:r>
                  <a:rPr b="0" lang="en-NZ" sz="12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n</a:t>
                </a:r>
                <a:r>
                  <a:rPr b="0" lang="en-NZ" sz="14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   </a:t>
                </a:r>
                <a:r>
                  <a:rPr b="0" lang="en-NZ" sz="18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 - </a:t>
                </a:r>
                <a:r>
                  <a:rPr b="0" lang="en-NZ" sz="14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   </a:t>
                </a:r>
                <a:r>
                  <a:rPr b="0" lang="en-NZ" sz="1200" spc="-1" strike="noStrike">
                    <a:solidFill>
                      <a:srgbClr val="003366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779280" y="2420640"/>
                <a:ext cx="142560" cy="865080"/>
              </a:xfrm>
              <a:custGeom>
                <a:avLst/>
                <a:gdLst>
                  <a:gd name="textAreaLeft" fmla="*/ 41760 w 142560"/>
                  <a:gd name="textAreaRight" fmla="*/ 142920 w 142560"/>
                  <a:gd name="textAreaTop" fmla="*/ 36000 h 865080"/>
                  <a:gd name="textAreaBottom" fmla="*/ 82908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579640" y="2420640"/>
                <a:ext cx="142560" cy="865080"/>
              </a:xfrm>
              <a:custGeom>
                <a:avLst/>
                <a:gdLst>
                  <a:gd name="textAreaLeft" fmla="*/ 42120 w 142560"/>
                  <a:gd name="textAreaRight" fmla="*/ 143280 w 142560"/>
                  <a:gd name="textAreaTop" fmla="*/ 36000 h 865080"/>
                  <a:gd name="textAreaBottom" fmla="*/ 82908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06560" y="2349360"/>
                <a:ext cx="208872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633480" y="2349360"/>
                <a:ext cx="72720" cy="9363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562200" y="2925000"/>
                <a:ext cx="71280" cy="3603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788000" y="3862080"/>
              <a:ext cx="7916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60720" y="358740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(80150)</a:t>
              </a:r>
              <a:r>
                <a:rPr b="0" lang="en-NZ" sz="1400" spc="-1" strike="noStrike" baseline="30000">
                  <a:solidFill>
                    <a:srgbClr val="003366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30560" y="386208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4000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00360" y="363852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3366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79640" y="371772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1640744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22560" y="4149360"/>
              <a:ext cx="16570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11640" y="414324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4000</a:t>
              </a:r>
              <a:r>
                <a:rPr b="0" lang="en-NZ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  </a:t>
              </a:r>
              <a:r>
                <a:rPr b="0" lang="en-NZ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 - </a:t>
              </a:r>
              <a:r>
                <a:rPr b="0" lang="en-NZ" sz="1400" spc="-1" strike="noStrike">
                  <a:solidFill>
                    <a:srgbClr val="003366"/>
                  </a:solidFill>
                  <a:latin typeface="Arial"/>
                  <a:ea typeface="Arial"/>
                </a:rPr>
                <a:t>   </a:t>
              </a:r>
              <a:r>
                <a:rPr b="0" lang="en-NZ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79640" y="3573360"/>
              <a:ext cx="142560" cy="865080"/>
            </a:xfrm>
            <a:custGeom>
              <a:avLst/>
              <a:gdLst>
                <a:gd name="textAreaLeft" fmla="*/ 41760 w 142560"/>
                <a:gd name="textAreaRight" fmla="*/ 142920 w 142560"/>
                <a:gd name="textAreaTop" fmla="*/ 36000 h 865080"/>
                <a:gd name="textAreaBottom" fmla="*/ 8290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580000" y="3573360"/>
              <a:ext cx="142560" cy="865080"/>
            </a:xfrm>
            <a:custGeom>
              <a:avLst/>
              <a:gdLst>
                <a:gd name="textAreaLeft" fmla="*/ 42120 w 142560"/>
                <a:gd name="textAreaRight" fmla="*/ 143280 w 142560"/>
                <a:gd name="textAreaTop" fmla="*/ 36000 h 865080"/>
                <a:gd name="textAreaBottom" fmla="*/ 82908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6920" y="3501720"/>
              <a:ext cx="20887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633840" y="3501720"/>
              <a:ext cx="72720" cy="9367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3562200" y="4077720"/>
              <a:ext cx="71280" cy="360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98920" y="2660400"/>
              <a:ext cx="86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3366"/>
                  </a:solidFill>
                  <a:latin typeface="Arial"/>
                </a:rPr>
                <a:t>SD  =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8760" y="3916080"/>
              <a:ext cx="3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3366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30560" y="4652640"/>
              <a:ext cx="25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3366"/>
                  </a:solidFill>
                  <a:latin typeface="Arial"/>
                </a:rPr>
                <a:t>=     </a:t>
              </a:r>
              <a:r>
                <a:rPr b="1" lang="en-NZ" sz="1200" spc="-1" strike="noStrike">
                  <a:solidFill>
                    <a:srgbClr val="003366"/>
                  </a:solidFill>
                  <a:latin typeface="Arial"/>
                </a:rPr>
                <a:t>2.95 </a:t>
              </a:r>
              <a:r>
                <a:rPr b="1" lang="el-GR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μ</a:t>
              </a:r>
              <a:r>
                <a:rPr b="1" lang="en-NZ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m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700360" y="5229360"/>
            <a:ext cx="4608000" cy="577800"/>
            <a:chOff x="2700360" y="5229360"/>
            <a:chExt cx="4608000" cy="577800"/>
          </a:xfrm>
        </p:grpSpPr>
        <p:grpSp>
          <p:nvGrpSpPr>
            <p:cNvPr id="149" name=""/>
            <p:cNvGrpSpPr/>
            <p:nvPr/>
          </p:nvGrpSpPr>
          <p:grpSpPr>
            <a:xfrm>
              <a:off x="3490560" y="5229360"/>
              <a:ext cx="720360" cy="577800"/>
              <a:chOff x="3490560" y="5229360"/>
              <a:chExt cx="720360" cy="577800"/>
            </a:xfrm>
          </p:grpSpPr>
          <p:sp>
            <p:nvSpPr>
              <p:cNvPr id="150" name=""/>
              <p:cNvSpPr/>
              <p:nvPr/>
            </p:nvSpPr>
            <p:spPr>
              <a:xfrm>
                <a:off x="3561840" y="5229360"/>
                <a:ext cx="50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3366"/>
                    </a:solidFill>
                    <a:latin typeface="Arial"/>
                  </a:rPr>
                  <a:t>SD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90560" y="5530680"/>
                <a:ext cx="72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200" spc="-1" strike="noStrike">
                    <a:solidFill>
                      <a:srgbClr val="003366"/>
                    </a:solidFill>
                    <a:latin typeface="Arial"/>
                  </a:rPr>
                  <a:t>MFD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61840" y="5518080"/>
                <a:ext cx="2883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922560" y="5373720"/>
              <a:ext cx="107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0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  100    =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360" y="53737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3366"/>
                  </a:solidFill>
                  <a:latin typeface="Arial"/>
                </a:rPr>
                <a:t>CVD  =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29120" y="5229360"/>
              <a:ext cx="50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2.95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57480" y="553068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20.03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0400" y="5518080"/>
              <a:ext cx="2887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35280" y="5373720"/>
              <a:ext cx="187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0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0" lang="en-NZ" sz="1200" spc="-1" strike="noStrike">
                  <a:solidFill>
                    <a:srgbClr val="003366"/>
                  </a:solidFill>
                  <a:latin typeface="Arial"/>
                </a:rPr>
                <a:t>  100    =   </a:t>
              </a:r>
              <a:r>
                <a:rPr b="1" lang="en-NZ" sz="1200" spc="-1" strike="noStrike">
                  <a:solidFill>
                    <a:srgbClr val="003366"/>
                  </a:solidFill>
                  <a:latin typeface="Arial"/>
                </a:rPr>
                <a:t>14.7%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3A03-36B3-4118-B80E-EE0D1A745E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759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OFDA slide prepa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368880" cy="4672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03720" y="1268280"/>
            <a:ext cx="2853000" cy="468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F270-5519-4F82-8D79-1398EF9ADB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OFDA100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976720" cy="4349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520720" cy="178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076720" y="1844640"/>
            <a:ext cx="1366920" cy="432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F6DA-4FDB-4E24-AC3A-88AC21CA2F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42:33Z</dcterms:created>
  <dc:creator>WRONZ User</dc:creator>
  <dc:description/>
  <dc:language>en-US</dc:language>
  <cp:lastModifiedBy>sbrent</cp:lastModifiedBy>
  <dcterms:modified xsi:type="dcterms:W3CDTF">2006-09-19T02:33:11Z</dcterms:modified>
  <cp:revision>6</cp:revision>
  <dc:subject/>
  <dc:title>Wool Coloration</dc:title>
</cp:coreProperties>
</file>