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FFCF5-D9CA-4126-B648-C400AA9C2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0F46-E826-4F31-B140-FB7DF8DA5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037A-37FE-459D-8238-26C46F21D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172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8892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172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A822-320A-4F0D-ACF4-D3F05792B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63172-DE1E-4C1D-A762-9E6CD84E34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2AD24-1A23-494F-8048-29B2FBF49D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BA234-7D07-429E-80AB-6B03A4CBC6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BF008-5F6B-40BA-A6E1-B37CEF94DA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5C0CB-DBCF-469C-AB68-EF18135FA2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5400" y="312840"/>
            <a:ext cx="7772400" cy="80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90436-6744-4CB4-9210-5FD753A661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61976-8CC4-4AE5-A121-93037E27EC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B5940-B3B2-42D9-BF66-F84F5DF32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AE0E9-CF73-41EE-9459-290E1DA3D6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A1EC-0F16-42C7-93CA-3616A6A3E0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5D4B1-D136-4C90-A287-5D73110329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93AED-A6F1-4136-8AA1-9ECF62E1CC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88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17200" y="3962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8892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88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17200" y="4878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E729E-FDDA-4B77-804E-073C6939A1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0FE5-A3AE-4633-91E9-600315A10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2ADE-9E86-4D7E-A1BB-2E5789702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E8EB-66A0-48F1-B148-5063D367C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5400" y="312840"/>
            <a:ext cx="7772400" cy="80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A403-8CCE-4F72-AB51-27B2AD9E8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5406-7194-4503-A85D-DCEF9DBE1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68880" y="4878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B733-C3A3-4997-9EA6-D34AFAAC0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8892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68880" y="3962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88920" y="4878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A5768-8529-488F-8ABE-D38BB8F46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12E7-C27B-4EDB-BAEB-AAE71592A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85C4-F419-41CA-A102-F388C67A6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400" y="5364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OL 372/472/57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ol Biology/Metr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560" y="4229280"/>
            <a:ext cx="7774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pic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aple Length, Strength &amp; Position of Br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avid Crowe &amp; Trevor Maha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83A5F-F87C-441C-845C-BE16E6F72E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85840" y="1981080"/>
          <a:ext cx="7772040" cy="3580920"/>
        </p:xfrm>
        <a:graphic>
          <a:graphicData uri="http://schemas.openxmlformats.org/drawingml/2006/table">
            <a:tbl>
              <a:tblPr/>
              <a:tblGrid>
                <a:gridCol w="1554120"/>
                <a:gridCol w="1554840"/>
                <a:gridCol w="1554480"/>
                <a:gridCol w="1554120"/>
                <a:gridCol w="1554480"/>
              </a:tblGrid>
              <a:tr h="81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ol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per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Opera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Opera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le Length (m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ee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le Length (m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-Flee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ngt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/kte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eece &amp; Non-Flee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5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5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3E70-843B-45FD-8528-5733224281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 of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85840" y="1981080"/>
          <a:ext cx="7771680" cy="3581280"/>
        </p:xfrm>
        <a:graphic>
          <a:graphicData uri="http://schemas.openxmlformats.org/drawingml/2006/table">
            <a:tbl>
              <a:tblPr/>
              <a:tblGrid>
                <a:gridCol w="3756240"/>
                <a:gridCol w="2008080"/>
                <a:gridCol w="2007360"/>
              </a:tblGrid>
              <a:tr h="76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rces of Var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le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le Str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ween Sta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7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5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ween Gra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ween Opera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ween Laborato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ween Instr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Vari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7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4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F4C0-737B-4BEC-B2B8-72B7ED1316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w Measureme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8920" y="1980720"/>
            <a:ext cx="4176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-crimped Staple Length (DS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-crimping Ratio (DR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 Work of Rup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580000" y="2205000"/>
                <a:ext cx="25909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L</m:t>
                        </m:r>
                      </m:e>
                      <m: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a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tension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a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580000" y="3141720"/>
                <a:ext cx="23241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crimping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S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580000" y="4149720"/>
                <a:ext cx="33242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cifi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Work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upture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C393-BEF5-4492-BDB2-8A8305261B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5400" y="316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88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D362C-CC4A-4EBC-9179-71E2786FE1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5840" y="1802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nderstanding of the limitations associated with subjective apprais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f thes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 understanding of the relationship between Staple and Fibre proper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 understanding of the principles of objective measurement on an ATLAS instru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BF0A-D26E-486C-8025-B2292876D9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Subjective Appraisal- Staple Streng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5840" y="1802880"/>
            <a:ext cx="468144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Perce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1e1b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Bi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04000" y="2060640"/>
            <a:ext cx="1838520" cy="3533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32000" y="3141720"/>
            <a:ext cx="3314520" cy="24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1E26-2CFC-4B77-9F11-D9950D370C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Subjective Appraisal- Stapl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5480" y="1980720"/>
            <a:ext cx="4249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force exerted by the apprais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thickness of staples sel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number of staples evalu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588000" y="1916280"/>
            <a:ext cx="2381400" cy="34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4AD6-AB0B-417B-B96D-8DED86A97E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Relationship between Staple &amp; Fibre Propert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5480" y="1980720"/>
            <a:ext cx="4033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aple Length &amp; Fibre Leng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aple Strength &amp; Fibre Tena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trinsic fibre streng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148360" y="2060640"/>
            <a:ext cx="3657600" cy="30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E5C3-B305-4C0D-AC88-4ED349335B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he Principles of Objective Measure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aple Length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ement of Peak Force to Break and Staple M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D87B-F448-4192-8CBA-6C0C0C8EF2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taple Length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162680" cy="276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A696-2A0A-46E1-841D-132E37D283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easurement of Peak Force to Break and Staple 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162680" cy="2762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88000" y="2421000"/>
            <a:ext cx="4171680" cy="277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711A-E0EC-45BC-B7FB-3E1418A140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050920" y="1557360"/>
                <a:ext cx="4372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eas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inear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ensity</m:t>
                        </m:r>
                      </m:e>
                      <m: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e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reas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apl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  <m:r>
                              <m:t xml:space="preserve">)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tapl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050920" y="2421000"/>
                <a:ext cx="37054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corrected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tex</m:t>
                            </m:r>
                          </m:den>
                        </m:f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ak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ce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reas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inear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nsity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tex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050920" y="3213000"/>
                <a:ext cx="42958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rrected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e>
                      <m: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tex</m:t>
                            </m:r>
                          </m:den>
                        </m:f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ncorrected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S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ex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trength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ctor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aple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den>
                        </m:f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050920" y="4365720"/>
                <a:ext cx="24670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B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ss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i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s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as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ss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6D5E-22D3-40F3-99A6-AFAD685CE7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sbrent</cp:lastModifiedBy>
  <dcterms:modified xsi:type="dcterms:W3CDTF">2006-09-19T02:25:14Z</dcterms:modified>
  <cp:revision>124</cp:revision>
  <dc:subject/>
  <dc:title>PowerPoint Presentation</dc:title>
</cp:coreProperties>
</file>