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2E7A-E552-4818-8533-C755BA68CC3E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8DE7-EAF4-4772-A6C2-FCAC0F6E8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090D-D862-477F-9322-BC5403F6D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3567-94C6-45CD-84B1-502C6C2BB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156D-71C7-45A7-9451-723A0EBB2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1268-2040-4C1F-9588-F21FE7941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CCBB-2191-4435-8741-140DD1159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F489-22DC-404E-A5BA-9A41A8954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8FAE-9B9A-4BFB-93F4-840E0E34B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99CD-9110-4CA2-A250-041D94B57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0508-2022-4A40-9CE1-FFDCCF3F7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2786-24C7-44A3-92A5-951A9E06E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7828-44B3-42F7-AA90-694AF89AA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59436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749160" cy="10666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480" y="5943600"/>
            <a:ext cx="9137520" cy="914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534520" y="6248520"/>
            <a:ext cx="380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E692-F1B6-4057-9A8F-D951A225E83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9436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" y="5943600"/>
            <a:ext cx="913752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43360" y="0"/>
            <a:ext cx="1457280" cy="2577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WOOL 372/472/572</a:t>
            </a:r>
            <a:br>
              <a:rPr sz="3600"/>
            </a:b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Wool Biology/Metrology</a:t>
            </a:r>
            <a:br>
              <a:rPr sz="3600"/>
            </a:br>
            <a:br>
              <a:rPr sz="3600"/>
            </a:b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Topic 11</a:t>
            </a:r>
            <a:br>
              <a:rPr sz="2000"/>
            </a:b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Wool Colour Measurement</a:t>
            </a:r>
            <a:br>
              <a:rPr sz="2000"/>
            </a:b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Errol Wo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320760" y="1518120"/>
            <a:ext cx="8643600" cy="4329360"/>
            <a:chOff x="320760" y="1518120"/>
            <a:chExt cx="8643600" cy="4329360"/>
          </a:xfrm>
        </p:grpSpPr>
        <p:sp>
          <p:nvSpPr>
            <p:cNvPr id="249" name=""/>
            <p:cNvSpPr/>
            <p:nvPr/>
          </p:nvSpPr>
          <p:spPr>
            <a:xfrm>
              <a:off x="658440" y="2519640"/>
              <a:ext cx="2286000" cy="1523520"/>
            </a:xfrm>
            <a:custGeom>
              <a:avLst/>
              <a:gdLst/>
              <a:ahLst/>
              <a:rect l="l" t="t" r="r" b="b"/>
              <a:pathLst>
                <a:path w="1488" h="1104">
                  <a:moveTo>
                    <a:pt x="912" y="960"/>
                  </a:moveTo>
                  <a:lnTo>
                    <a:pt x="768" y="1056"/>
                  </a:lnTo>
                  <a:lnTo>
                    <a:pt x="624" y="1104"/>
                  </a:lnTo>
                  <a:lnTo>
                    <a:pt x="480" y="1104"/>
                  </a:lnTo>
                  <a:lnTo>
                    <a:pt x="432" y="1008"/>
                  </a:lnTo>
                  <a:lnTo>
                    <a:pt x="288" y="960"/>
                  </a:lnTo>
                  <a:lnTo>
                    <a:pt x="96" y="912"/>
                  </a:lnTo>
                  <a:lnTo>
                    <a:pt x="0" y="720"/>
                  </a:lnTo>
                  <a:lnTo>
                    <a:pt x="0" y="480"/>
                  </a:lnTo>
                  <a:lnTo>
                    <a:pt x="144" y="288"/>
                  </a:lnTo>
                  <a:lnTo>
                    <a:pt x="240" y="144"/>
                  </a:lnTo>
                  <a:lnTo>
                    <a:pt x="432" y="96"/>
                  </a:lnTo>
                  <a:lnTo>
                    <a:pt x="624" y="96"/>
                  </a:lnTo>
                  <a:lnTo>
                    <a:pt x="720" y="96"/>
                  </a:lnTo>
                  <a:lnTo>
                    <a:pt x="912" y="0"/>
                  </a:lnTo>
                  <a:lnTo>
                    <a:pt x="1104" y="0"/>
                  </a:lnTo>
                  <a:lnTo>
                    <a:pt x="1200" y="0"/>
                  </a:lnTo>
                  <a:lnTo>
                    <a:pt x="1296" y="96"/>
                  </a:lnTo>
                  <a:lnTo>
                    <a:pt x="1440" y="240"/>
                  </a:lnTo>
                  <a:lnTo>
                    <a:pt x="1488" y="336"/>
                  </a:lnTo>
                  <a:lnTo>
                    <a:pt x="1488" y="432"/>
                  </a:lnTo>
                  <a:lnTo>
                    <a:pt x="1488" y="624"/>
                  </a:lnTo>
                  <a:lnTo>
                    <a:pt x="1488" y="768"/>
                  </a:lnTo>
                  <a:lnTo>
                    <a:pt x="1392" y="912"/>
                  </a:lnTo>
                  <a:lnTo>
                    <a:pt x="1152" y="960"/>
                  </a:lnTo>
                  <a:lnTo>
                    <a:pt x="1008" y="1008"/>
                  </a:lnTo>
                  <a:lnTo>
                    <a:pt x="912" y="96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9156800">
              <a:off x="734400" y="1557000"/>
              <a:ext cx="685800" cy="1523520"/>
            </a:xfrm>
            <a:prstGeom prst="downArrow">
              <a:avLst>
                <a:gd name="adj1" fmla="val 50000"/>
                <a:gd name="adj2" fmla="val 55538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1801440" y="2118240"/>
              <a:ext cx="1067040" cy="8020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954080" y="2278800"/>
              <a:ext cx="1066680" cy="8017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106360" y="2840400"/>
              <a:ext cx="609480" cy="40104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77960" y="2519640"/>
              <a:ext cx="2286000" cy="1523520"/>
            </a:xfrm>
            <a:custGeom>
              <a:avLst/>
              <a:gdLst/>
              <a:ahLst/>
              <a:rect l="l" t="t" r="r" b="b"/>
              <a:pathLst>
                <a:path w="1488" h="1104">
                  <a:moveTo>
                    <a:pt x="912" y="960"/>
                  </a:moveTo>
                  <a:lnTo>
                    <a:pt x="768" y="1056"/>
                  </a:lnTo>
                  <a:lnTo>
                    <a:pt x="624" y="1104"/>
                  </a:lnTo>
                  <a:lnTo>
                    <a:pt x="480" y="1104"/>
                  </a:lnTo>
                  <a:lnTo>
                    <a:pt x="432" y="1008"/>
                  </a:lnTo>
                  <a:lnTo>
                    <a:pt x="288" y="960"/>
                  </a:lnTo>
                  <a:lnTo>
                    <a:pt x="96" y="912"/>
                  </a:lnTo>
                  <a:lnTo>
                    <a:pt x="0" y="720"/>
                  </a:lnTo>
                  <a:lnTo>
                    <a:pt x="0" y="480"/>
                  </a:lnTo>
                  <a:lnTo>
                    <a:pt x="144" y="288"/>
                  </a:lnTo>
                  <a:lnTo>
                    <a:pt x="240" y="144"/>
                  </a:lnTo>
                  <a:lnTo>
                    <a:pt x="432" y="96"/>
                  </a:lnTo>
                  <a:lnTo>
                    <a:pt x="624" y="96"/>
                  </a:lnTo>
                  <a:lnTo>
                    <a:pt x="720" y="96"/>
                  </a:lnTo>
                  <a:lnTo>
                    <a:pt x="912" y="0"/>
                  </a:lnTo>
                  <a:lnTo>
                    <a:pt x="1104" y="0"/>
                  </a:lnTo>
                  <a:lnTo>
                    <a:pt x="1200" y="0"/>
                  </a:lnTo>
                  <a:lnTo>
                    <a:pt x="1296" y="96"/>
                  </a:lnTo>
                  <a:lnTo>
                    <a:pt x="1440" y="240"/>
                  </a:lnTo>
                  <a:lnTo>
                    <a:pt x="1488" y="336"/>
                  </a:lnTo>
                  <a:lnTo>
                    <a:pt x="1488" y="432"/>
                  </a:lnTo>
                  <a:lnTo>
                    <a:pt x="1488" y="624"/>
                  </a:lnTo>
                  <a:lnTo>
                    <a:pt x="1488" y="768"/>
                  </a:lnTo>
                  <a:lnTo>
                    <a:pt x="1392" y="912"/>
                  </a:lnTo>
                  <a:lnTo>
                    <a:pt x="1152" y="960"/>
                  </a:lnTo>
                  <a:lnTo>
                    <a:pt x="1008" y="1008"/>
                  </a:lnTo>
                  <a:lnTo>
                    <a:pt x="912" y="96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9156800">
              <a:off x="3553920" y="1557000"/>
              <a:ext cx="685800" cy="1523520"/>
            </a:xfrm>
            <a:prstGeom prst="downArrow">
              <a:avLst>
                <a:gd name="adj1" fmla="val 50000"/>
                <a:gd name="adj2" fmla="val 55538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544640" y="2359080"/>
              <a:ext cx="762120" cy="561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697280" y="2519640"/>
              <a:ext cx="761760" cy="5608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849560" y="2680200"/>
              <a:ext cx="762120" cy="56160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49680" y="2541240"/>
              <a:ext cx="2286000" cy="1523880"/>
            </a:xfrm>
            <a:custGeom>
              <a:avLst/>
              <a:gdLst/>
              <a:ahLst/>
              <a:rect l="l" t="t" r="r" b="b"/>
              <a:pathLst>
                <a:path w="1488" h="1104">
                  <a:moveTo>
                    <a:pt x="912" y="960"/>
                  </a:moveTo>
                  <a:lnTo>
                    <a:pt x="768" y="1056"/>
                  </a:lnTo>
                  <a:lnTo>
                    <a:pt x="624" y="1104"/>
                  </a:lnTo>
                  <a:lnTo>
                    <a:pt x="480" y="1104"/>
                  </a:lnTo>
                  <a:lnTo>
                    <a:pt x="432" y="1008"/>
                  </a:lnTo>
                  <a:lnTo>
                    <a:pt x="288" y="960"/>
                  </a:lnTo>
                  <a:lnTo>
                    <a:pt x="96" y="912"/>
                  </a:lnTo>
                  <a:lnTo>
                    <a:pt x="0" y="720"/>
                  </a:lnTo>
                  <a:lnTo>
                    <a:pt x="0" y="480"/>
                  </a:lnTo>
                  <a:lnTo>
                    <a:pt x="144" y="288"/>
                  </a:lnTo>
                  <a:lnTo>
                    <a:pt x="240" y="144"/>
                  </a:lnTo>
                  <a:lnTo>
                    <a:pt x="432" y="96"/>
                  </a:lnTo>
                  <a:lnTo>
                    <a:pt x="624" y="96"/>
                  </a:lnTo>
                  <a:lnTo>
                    <a:pt x="720" y="96"/>
                  </a:lnTo>
                  <a:lnTo>
                    <a:pt x="912" y="0"/>
                  </a:lnTo>
                  <a:lnTo>
                    <a:pt x="1104" y="0"/>
                  </a:lnTo>
                  <a:lnTo>
                    <a:pt x="1200" y="0"/>
                  </a:lnTo>
                  <a:lnTo>
                    <a:pt x="1296" y="96"/>
                  </a:lnTo>
                  <a:lnTo>
                    <a:pt x="1440" y="240"/>
                  </a:lnTo>
                  <a:lnTo>
                    <a:pt x="1488" y="336"/>
                  </a:lnTo>
                  <a:lnTo>
                    <a:pt x="1488" y="432"/>
                  </a:lnTo>
                  <a:lnTo>
                    <a:pt x="1488" y="624"/>
                  </a:lnTo>
                  <a:lnTo>
                    <a:pt x="1488" y="768"/>
                  </a:lnTo>
                  <a:lnTo>
                    <a:pt x="1392" y="912"/>
                  </a:lnTo>
                  <a:lnTo>
                    <a:pt x="1152" y="960"/>
                  </a:lnTo>
                  <a:lnTo>
                    <a:pt x="1008" y="1008"/>
                  </a:lnTo>
                  <a:lnTo>
                    <a:pt x="912" y="9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9156800">
              <a:off x="6449400" y="1557000"/>
              <a:ext cx="685800" cy="1523520"/>
            </a:xfrm>
            <a:prstGeom prst="downArrow">
              <a:avLst>
                <a:gd name="adj1" fmla="val 50000"/>
                <a:gd name="adj2" fmla="val 55538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7440480" y="2118240"/>
              <a:ext cx="1066680" cy="8020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7592760" y="2278800"/>
              <a:ext cx="1066680" cy="8017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7745040" y="2439360"/>
              <a:ext cx="1067040" cy="80208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73040" y="404352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3366"/>
                  </a:solidFill>
                  <a:latin typeface="Arial Narrow"/>
                </a:rPr>
                <a:t>A dull grey wool absorbs similar amounts of red, green and blu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3880" y="4043520"/>
              <a:ext cx="266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3366"/>
                  </a:solidFill>
                  <a:latin typeface="Arial Narrow"/>
                </a:rPr>
                <a:t>A yellow wool absorbs more blue than red and gree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97480" y="4043520"/>
              <a:ext cx="2666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3366"/>
                  </a:solidFill>
                  <a:latin typeface="Arial Narrow"/>
                </a:rPr>
                <a:t>A white wool absorbs only a small amount of red, green, blu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6160" y="532692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r>
                <a:rPr b="1" lang="en-NZ" sz="2800" spc="-1" strike="noStrike">
                  <a:solidFill>
                    <a:srgbClr val="003366"/>
                  </a:solidFill>
                  <a:latin typeface="Arial"/>
                </a:rPr>
                <a:t> ~ </a:t>
              </a:r>
              <a:r>
                <a:rPr b="1" lang="en-NZ" sz="2800" spc="-1" strike="noStrike">
                  <a:solidFill>
                    <a:srgbClr val="00ff00"/>
                  </a:solidFill>
                  <a:latin typeface="Arial"/>
                </a:rPr>
                <a:t>Y</a:t>
              </a:r>
              <a:r>
                <a:rPr b="1" lang="en-NZ" sz="2800" spc="-1" strike="noStrike">
                  <a:solidFill>
                    <a:srgbClr val="003366"/>
                  </a:solidFill>
                  <a:latin typeface="Arial"/>
                </a:rPr>
                <a:t> &gt; </a:t>
              </a:r>
              <a:r>
                <a:rPr b="1" lang="en-NZ" sz="2800" spc="-1" strike="noStrike">
                  <a:solidFill>
                    <a:srgbClr val="3366ff"/>
                  </a:solidFill>
                  <a:latin typeface="Arial"/>
                </a:rPr>
                <a:t>Z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44440" y="53269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r>
                <a:rPr b="1" lang="en-NZ" sz="2800" spc="-1" strike="noStrike">
                  <a:solidFill>
                    <a:srgbClr val="003366"/>
                  </a:solidFill>
                  <a:latin typeface="Arial"/>
                </a:rPr>
                <a:t> ~ </a:t>
              </a:r>
              <a:r>
                <a:rPr b="1" lang="en-NZ" sz="2800" spc="-1" strike="noStrike">
                  <a:solidFill>
                    <a:srgbClr val="00ff00"/>
                  </a:solidFill>
                  <a:latin typeface="Arial"/>
                </a:rPr>
                <a:t>Y</a:t>
              </a:r>
              <a:r>
                <a:rPr b="1" lang="en-NZ" sz="2800" spc="-1" strike="noStrike">
                  <a:solidFill>
                    <a:srgbClr val="003366"/>
                  </a:solidFill>
                  <a:latin typeface="Arial"/>
                </a:rPr>
                <a:t> ~ </a:t>
              </a:r>
              <a:r>
                <a:rPr b="1" lang="en-NZ" sz="2800" spc="-1" strike="noStrike">
                  <a:solidFill>
                    <a:srgbClr val="3366ff"/>
                  </a:solidFill>
                  <a:latin typeface="Arial"/>
                </a:rPr>
                <a:t>Z </a:t>
              </a:r>
              <a:r>
                <a:rPr b="0" lang="en-NZ" sz="2400" spc="-1" strike="noStrike">
                  <a:solidFill>
                    <a:srgbClr val="003366"/>
                  </a:solidFill>
                  <a:latin typeface="Arial Narrow"/>
                </a:rPr>
                <a:t>(all low)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4840" y="532692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r>
                <a:rPr b="1" lang="en-NZ" sz="2800" spc="-1" strike="noStrike">
                  <a:solidFill>
                    <a:srgbClr val="003366"/>
                  </a:solidFill>
                  <a:latin typeface="Arial"/>
                </a:rPr>
                <a:t> ~ </a:t>
              </a:r>
              <a:r>
                <a:rPr b="1" lang="en-NZ" sz="2800" spc="-1" strike="noStrike">
                  <a:solidFill>
                    <a:srgbClr val="00ff00"/>
                  </a:solidFill>
                  <a:latin typeface="Arial"/>
                </a:rPr>
                <a:t>Y</a:t>
              </a:r>
              <a:r>
                <a:rPr b="1" lang="en-NZ" sz="2800" spc="-1" strike="noStrike">
                  <a:solidFill>
                    <a:srgbClr val="003366"/>
                  </a:solidFill>
                  <a:latin typeface="Arial"/>
                </a:rPr>
                <a:t> ~ </a:t>
              </a:r>
              <a:r>
                <a:rPr b="1" lang="en-NZ" sz="2800" spc="-1" strike="noStrike">
                  <a:solidFill>
                    <a:srgbClr val="3366ff"/>
                  </a:solidFill>
                  <a:latin typeface="Arial"/>
                </a:rPr>
                <a:t>Z </a:t>
              </a:r>
              <a:r>
                <a:rPr b="0" lang="en-NZ" sz="2400" spc="-1" strike="noStrike">
                  <a:solidFill>
                    <a:srgbClr val="003366"/>
                  </a:solidFill>
                  <a:latin typeface="Arial Narrow"/>
                </a:rPr>
                <a:t>(all high)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How X, Y and  Z describe wool colo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23D3-5B5C-4D89-9931-38B3146417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001000" cy="6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Specifying wool colour *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24000" y="1339920"/>
            <a:ext cx="8640720" cy="4116240"/>
            <a:chOff x="324000" y="1339920"/>
            <a:chExt cx="8640720" cy="4116240"/>
          </a:xfrm>
        </p:grpSpPr>
        <p:sp>
          <p:nvSpPr>
            <p:cNvPr id="273" name=""/>
            <p:cNvSpPr/>
            <p:nvPr/>
          </p:nvSpPr>
          <p:spPr>
            <a:xfrm>
              <a:off x="1546200" y="1555920"/>
              <a:ext cx="1008000" cy="57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19640" y="1555920"/>
              <a:ext cx="1008000" cy="5760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19640" y="1555920"/>
              <a:ext cx="1008000" cy="576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63640" y="15559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35280" y="15559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35640" y="15559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19640" y="3500280"/>
              <a:ext cx="1079280" cy="576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37080" y="350028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19640" y="3500280"/>
              <a:ext cx="1081080" cy="576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76720" y="3500280"/>
              <a:ext cx="12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</a:rPr>
                <a:t>Y-Z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24360" y="2276640"/>
              <a:ext cx="0" cy="107928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27640" y="2276640"/>
              <a:ext cx="865080" cy="107928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96000" y="2276640"/>
              <a:ext cx="0" cy="107928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4000" y="4435560"/>
              <a:ext cx="4032000" cy="1015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Brightness Y</a:t>
              </a: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60 (dull) to 70+ (very bright)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72000" y="4440240"/>
              <a:ext cx="4392720" cy="1015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Yellowness Y-Z</a:t>
              </a: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&lt;9 (white) to &gt;16 (very yellow)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48360" y="1339920"/>
              <a:ext cx="1584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3366"/>
                  </a:solidFill>
                  <a:latin typeface="Arial"/>
                </a:rPr>
                <a:t>(Tristimulus results from instrument)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95280" y="5613480"/>
            <a:ext cx="41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ffff"/>
                </a:solidFill>
                <a:latin typeface="Arial"/>
              </a:rPr>
              <a:t>*  D65/10</a:t>
            </a:r>
            <a:r>
              <a:rPr b="1" lang="en-NZ" sz="1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NZ" sz="1600" spc="-1" strike="noStrike">
                <a:solidFill>
                  <a:srgbClr val="ffffff"/>
                </a:solidFill>
                <a:latin typeface="Arial"/>
              </a:rPr>
              <a:t> colour spac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8B3E-A8E8-41A6-8C07-1C7E38D6A5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Importance of wool colour</a:t>
            </a:r>
            <a:br>
              <a:rPr sz="3200"/>
            </a:b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(Y-Z values in C/2</a:t>
            </a:r>
            <a:r>
              <a:rPr b="0" lang="en-NZ" sz="2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colour spa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114560" y="1413000"/>
            <a:ext cx="698652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BD5F-1E33-45AE-B1DF-740C0494A2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Key factors in wool colour measur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001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alibration for agreement between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ference wools now replaced by ceramic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cent change in illuminant in IWTO 56-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bsolete C/2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replaced by D65/10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omogenous, clean sampl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lending, scouring, drying, removal of 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resentation of sample to instr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ressed against glass window at constant density o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AFAD-7BF6-4B56-BC3A-89E35D3F0B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Colour and wool scou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626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livery of wool with acceptable colour is a key objective of process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coured wool colour ‘as-is’ colour result cannot match base colour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ifferenc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Arial"/>
              </a:rPr>
              <a:t>Y = Y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ase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Arial"/>
              </a:rPr>
              <a:t> – Y 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s-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measures effectiveness of scouring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300720" y="2462040"/>
            <a:ext cx="2502000" cy="19544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300720" y="450864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Effect of different scouring efficiency on yarn colou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F0C6-9612-4890-BCA1-59CB6FAA32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400" spc="-1" strike="noStrike">
                <a:solidFill>
                  <a:srgbClr val="ffffff"/>
                </a:solidFill>
                <a:latin typeface="Arial"/>
              </a:rPr>
              <a:t>Near infrared reflectance</a:t>
            </a:r>
            <a:br>
              <a:rPr sz="3400"/>
            </a:br>
            <a:r>
              <a:rPr b="1" lang="en-NZ" sz="3400" spc="-1" strike="noStrike">
                <a:solidFill>
                  <a:srgbClr val="ffffff"/>
                </a:solidFill>
                <a:latin typeface="Arial"/>
              </a:rPr>
              <a:t>for in-scour colour measureme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084720" y="3645000"/>
            <a:ext cx="719280" cy="431640"/>
          </a:xfrm>
          <a:prstGeom prst="rightArrow">
            <a:avLst>
              <a:gd name="adj1" fmla="val 50000"/>
              <a:gd name="adj2" fmla="val 41660"/>
            </a:avLst>
          </a:prstGeom>
          <a:solidFill>
            <a:srgbClr val="f5f9f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997680" y="1557360"/>
            <a:ext cx="167796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8FA1-35DD-4956-ADDB-BCCC72DA43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3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lour perception involv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5400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urce of light (illumin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oured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tector (eye or instru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00000" y="3573360"/>
            <a:ext cx="7391520" cy="2364120"/>
            <a:chOff x="900000" y="3573360"/>
            <a:chExt cx="7391520" cy="2364120"/>
          </a:xfrm>
        </p:grpSpPr>
        <p:grpSp>
          <p:nvGrpSpPr>
            <p:cNvPr id="95" name=""/>
            <p:cNvGrpSpPr/>
            <p:nvPr/>
          </p:nvGrpSpPr>
          <p:grpSpPr>
            <a:xfrm>
              <a:off x="976320" y="3573360"/>
              <a:ext cx="7315200" cy="1523520"/>
              <a:chOff x="976320" y="3573360"/>
              <a:chExt cx="7315200" cy="152352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4856400" y="3957480"/>
                <a:ext cx="1112760" cy="850680"/>
                <a:chOff x="4856400" y="3957480"/>
                <a:chExt cx="1112760" cy="850680"/>
              </a:xfrm>
            </p:grpSpPr>
            <p:sp>
              <p:nvSpPr>
                <p:cNvPr id="97" name=""/>
                <p:cNvSpPr/>
                <p:nvPr/>
              </p:nvSpPr>
              <p:spPr>
                <a:xfrm rot="20077200">
                  <a:off x="5171040" y="4014000"/>
                  <a:ext cx="151920" cy="587160"/>
                </a:xfrm>
                <a:prstGeom prst="ellipse">
                  <a:avLst/>
                </a:prstGeom>
                <a:solidFill>
                  <a:srgbClr val="f5f9f8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rot="18756000">
                  <a:off x="5046480" y="4351680"/>
                  <a:ext cx="1066680" cy="75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rot="25800">
                  <a:off x="4856760" y="3961440"/>
                  <a:ext cx="1066680" cy="756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2347920" y="4792320"/>
                <a:ext cx="2514600" cy="3045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615000" y="3573360"/>
                <a:ext cx="1676520" cy="914040"/>
              </a:xfrm>
              <a:prstGeom prst="roundRect">
                <a:avLst>
                  <a:gd name="adj" fmla="val 16667"/>
                </a:avLst>
              </a:prstGeom>
              <a:solidFill>
                <a:srgbClr val="ff99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691320" y="3649320"/>
                <a:ext cx="152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2400" spc="-1" strike="noStrike">
                    <a:solidFill>
                      <a:srgbClr val="006666"/>
                    </a:solidFill>
                    <a:latin typeface="Arial Narrow"/>
                  </a:rPr>
                  <a:t>BRAIN </a:t>
                </a:r>
                <a:r>
                  <a:rPr b="1" lang="en-NZ" sz="3600" spc="-1" strike="noStrike">
                    <a:solidFill>
                      <a:srgbClr val="ff0000"/>
                    </a:solidFill>
                    <a:latin typeface="Arial Narrow"/>
                  </a:rPr>
                  <a:t>!!</a:t>
                </a:r>
                <a:endParaRPr b="0" lang="en-US" sz="3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929200" y="4030200"/>
                <a:ext cx="685800" cy="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976320" y="3725640"/>
                <a:ext cx="1143000" cy="1066320"/>
                <a:chOff x="976320" y="3725640"/>
                <a:chExt cx="1143000" cy="10663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509840" y="3725640"/>
                  <a:ext cx="0" cy="1066320"/>
                </a:xfrm>
                <a:prstGeom prst="line">
                  <a:avLst/>
                </a:prstGeom>
                <a:ln w="7632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976320" y="4258440"/>
                  <a:ext cx="1143000" cy="0"/>
                </a:xfrm>
                <a:prstGeom prst="line">
                  <a:avLst/>
                </a:prstGeom>
                <a:ln w="7632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128600" y="3877560"/>
                  <a:ext cx="762120" cy="761760"/>
                </a:xfrm>
                <a:prstGeom prst="line">
                  <a:avLst/>
                </a:prstGeom>
                <a:ln w="7632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1128600" y="3877560"/>
                  <a:ext cx="762120" cy="761760"/>
                </a:xfrm>
                <a:prstGeom prst="line">
                  <a:avLst/>
                </a:prstGeom>
                <a:ln w="7632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204920" y="3953880"/>
                  <a:ext cx="609480" cy="609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 rot="739200">
                <a:off x="2118960" y="4335120"/>
                <a:ext cx="1143000" cy="380520"/>
              </a:xfrm>
              <a:prstGeom prst="rightArrow">
                <a:avLst>
                  <a:gd name="adj1" fmla="val 50000"/>
                  <a:gd name="adj2" fmla="val 75095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 rot="20860800">
                <a:off x="3719160" y="4335120"/>
                <a:ext cx="1143000" cy="380520"/>
              </a:xfrm>
              <a:prstGeom prst="rightArrow">
                <a:avLst>
                  <a:gd name="adj1" fmla="val 50000"/>
                  <a:gd name="adj2" fmla="val 75095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900000" y="5233680"/>
              <a:ext cx="7010280" cy="703800"/>
              <a:chOff x="900000" y="5233680"/>
              <a:chExt cx="7010280" cy="703800"/>
            </a:xfrm>
          </p:grpSpPr>
          <p:sp>
            <p:nvSpPr>
              <p:cNvPr id="113" name=""/>
              <p:cNvSpPr/>
              <p:nvPr/>
            </p:nvSpPr>
            <p:spPr>
              <a:xfrm>
                <a:off x="6843600" y="5310000"/>
                <a:ext cx="106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000" spc="-1" strike="noStrike">
                    <a:solidFill>
                      <a:srgbClr val="003366"/>
                    </a:solidFill>
                    <a:latin typeface="Arial Narrow"/>
                  </a:rPr>
                  <a:t>Bra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05320" y="5554440"/>
                <a:ext cx="609480" cy="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310080" y="5554440"/>
                <a:ext cx="609840" cy="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00000" y="5233680"/>
                <a:ext cx="1523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000" spc="-1" strike="noStrike">
                    <a:solidFill>
                      <a:srgbClr val="003366"/>
                    </a:solidFill>
                    <a:latin typeface="Arial Narrow"/>
                  </a:rPr>
                  <a:t>Light source (sun or lamp)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57400" y="531000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000" spc="-1" strike="noStrike">
                    <a:solidFill>
                      <a:srgbClr val="003366"/>
                    </a:solidFill>
                    <a:latin typeface="Arial Narrow"/>
                  </a:rPr>
                  <a:t>Material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86200" y="531000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000" spc="-1" strike="noStrike">
                    <a:solidFill>
                      <a:srgbClr val="003366"/>
                    </a:solidFill>
                    <a:latin typeface="Arial Narrow"/>
                  </a:rPr>
                  <a:t>Eye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500200" y="5554440"/>
                <a:ext cx="609480" cy="0"/>
              </a:xfrm>
              <a:prstGeom prst="line">
                <a:avLst/>
              </a:prstGeom>
              <a:ln w="7632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E5F3-6DAA-4F2E-A353-DC14760655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360" y="333000"/>
            <a:ext cx="80010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Colour matching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0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eye’s light receptors are the rods and c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three types of cones are sensitive to different wavelength ranges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ir responses are represented by three colour matching functions (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) – ‘the standard observe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68360" y="3645000"/>
            <a:ext cx="4751280" cy="2304720"/>
            <a:chOff x="2268360" y="3645000"/>
            <a:chExt cx="4751280" cy="23047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2268360" y="3645000"/>
              <a:ext cx="4751280" cy="23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653800" y="4606920"/>
              <a:ext cx="48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r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87960" y="3935160"/>
              <a:ext cx="48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g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58720" y="3852000"/>
              <a:ext cx="48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b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BBB3-2E80-45A8-B747-20E140C890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322200"/>
            <a:ext cx="8001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Colour involves 3 attribu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4537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aturation (or chro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ightness (or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82960" y="2133720"/>
            <a:ext cx="5010120" cy="38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B413-F5C9-4E45-899B-4471B35AFA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Effects of lightness and saturation on ‘redness’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94040" y="1700280"/>
            <a:ext cx="5241960" cy="404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6875-3200-46BE-A69A-20CA8D1DBF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Calculation of tristimulus val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352908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cc00"/>
                </a:solidFill>
                <a:latin typeface="Arial"/>
              </a:rPr>
              <a:t>R = reflectance spectrum of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6699"/>
                </a:solidFill>
                <a:latin typeface="Arial"/>
              </a:rPr>
              <a:t>E = spectral energy function of illu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ff"/>
                </a:solidFill>
                <a:latin typeface="Arial"/>
              </a:rPr>
              <a:t>b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9900"/>
                </a:solidFill>
                <a:latin typeface="Arial"/>
              </a:rPr>
              <a:t>g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= colour matching functions for the standard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4680000" cy="525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071F-B550-45FD-96AE-46D8F487A3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177480"/>
            <a:ext cx="80010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CIELAB colour sp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001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pponent colour space with 3 ax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* - lightness (or value) black-grey-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* - green-red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4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* - blue-yellow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ost widely used                                          today in indu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11680" y="2141640"/>
            <a:ext cx="5081400" cy="387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D609-90CA-459C-8831-D4B4023E2B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10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Instrumentation - colorime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971640" y="1484280"/>
            <a:ext cx="7467480" cy="4285440"/>
            <a:chOff x="971640" y="1484280"/>
            <a:chExt cx="7467480" cy="4285440"/>
          </a:xfrm>
        </p:grpSpPr>
        <p:grpSp>
          <p:nvGrpSpPr>
            <p:cNvPr id="140" name=""/>
            <p:cNvGrpSpPr/>
            <p:nvPr/>
          </p:nvGrpSpPr>
          <p:grpSpPr>
            <a:xfrm>
              <a:off x="2571840" y="1484280"/>
              <a:ext cx="5181480" cy="459720"/>
              <a:chOff x="2571840" y="1484280"/>
              <a:chExt cx="5181480" cy="459720"/>
            </a:xfrm>
          </p:grpSpPr>
          <p:sp>
            <p:nvSpPr>
              <p:cNvPr id="141" name=""/>
              <p:cNvSpPr/>
              <p:nvPr/>
            </p:nvSpPr>
            <p:spPr>
              <a:xfrm>
                <a:off x="2571840" y="148428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2400" spc="-1" strike="noStrike">
                    <a:solidFill>
                      <a:srgbClr val="ff3300"/>
                    </a:solidFill>
                    <a:latin typeface="Arial"/>
                  </a:rPr>
                  <a:t>X = RED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095720" y="148428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2400" spc="-1" strike="noStrike">
                    <a:solidFill>
                      <a:srgbClr val="00ff00"/>
                    </a:solidFill>
                    <a:latin typeface="Arial"/>
                  </a:rPr>
                  <a:t>Y = GREEN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77160" y="1484280"/>
                <a:ext cx="167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2400" spc="-1" strike="noStrike">
                    <a:solidFill>
                      <a:srgbClr val="3366ff"/>
                    </a:solidFill>
                    <a:latin typeface="Arial"/>
                  </a:rPr>
                  <a:t>Z = BLU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971640" y="3297240"/>
              <a:ext cx="6324480" cy="1616040"/>
              <a:chOff x="971640" y="3297240"/>
              <a:chExt cx="6324480" cy="1616040"/>
            </a:xfrm>
          </p:grpSpPr>
          <p:sp>
            <p:nvSpPr>
              <p:cNvPr id="145" name=""/>
              <p:cNvSpPr/>
              <p:nvPr/>
            </p:nvSpPr>
            <p:spPr>
              <a:xfrm>
                <a:off x="2648160" y="3694320"/>
                <a:ext cx="1752480" cy="1218960"/>
              </a:xfrm>
              <a:prstGeom prst="line">
                <a:avLst/>
              </a:prstGeom>
              <a:ln w="76320">
                <a:solidFill>
                  <a:srgbClr val="cc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5543640" y="3694320"/>
                <a:ext cx="1752480" cy="1218960"/>
              </a:xfrm>
              <a:prstGeom prst="line">
                <a:avLst/>
              </a:prstGeom>
              <a:ln w="76320">
                <a:solidFill>
                  <a:srgbClr val="cc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71640" y="329724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2000" spc="-1" strike="noStrike">
                    <a:solidFill>
                      <a:srgbClr val="003366"/>
                    </a:solidFill>
                    <a:latin typeface="Arial Narrow"/>
                  </a:rPr>
                  <a:t>Incident ligh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047960" y="2246400"/>
              <a:ext cx="2818800" cy="685800"/>
              <a:chOff x="1047960" y="2246400"/>
              <a:chExt cx="2818800" cy="685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047960" y="2246400"/>
                <a:ext cx="21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2000" spc="-1" strike="noStrike">
                    <a:solidFill>
                      <a:srgbClr val="009900"/>
                    </a:solidFill>
                    <a:latin typeface="Arial Narrow"/>
                  </a:rPr>
                  <a:t>Photodetector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47800" y="2551320"/>
                <a:ext cx="1218960" cy="380880"/>
              </a:xfrm>
              <a:prstGeom prst="line">
                <a:avLst/>
              </a:prstGeom>
              <a:ln w="9360">
                <a:solidFill>
                  <a:srgbClr val="f5f9f8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714840" y="1941480"/>
              <a:ext cx="2590920" cy="3733920"/>
              <a:chOff x="3714840" y="1941480"/>
              <a:chExt cx="2590920" cy="37339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3867120" y="2398680"/>
                <a:ext cx="609840" cy="1295280"/>
                <a:chOff x="3867120" y="2398680"/>
                <a:chExt cx="609840" cy="12952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3943440" y="2779560"/>
                  <a:ext cx="457200" cy="457200"/>
                </a:xfrm>
                <a:prstGeom prst="ellipse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943440" y="3008160"/>
                  <a:ext cx="4572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172040" y="2398680"/>
                  <a:ext cx="0" cy="60948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867120" y="3236760"/>
                  <a:ext cx="609840" cy="2286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867120" y="3465360"/>
                  <a:ext cx="609840" cy="2286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781520" y="277992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81520" y="3008520"/>
                <a:ext cx="4572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10120" y="2398680"/>
                <a:ext cx="0" cy="6098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05560" y="3237120"/>
                <a:ext cx="60948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05560" y="3465720"/>
                <a:ext cx="60948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19960" y="277992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19960" y="3008520"/>
                <a:ext cx="4572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48560" y="2398680"/>
                <a:ext cx="0" cy="6098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43640" y="3237120"/>
                <a:ext cx="609480" cy="228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543640" y="3465720"/>
                <a:ext cx="609480" cy="228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5010120" y="1941480"/>
                <a:ext cx="0" cy="533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>
                <a:off x="3714840" y="1941480"/>
                <a:ext cx="457200" cy="4572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5848560" y="1941480"/>
                <a:ext cx="457200" cy="4572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172040" y="4151520"/>
                <a:ext cx="1676520" cy="3045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5010120" y="3770280"/>
                <a:ext cx="0" cy="457200"/>
              </a:xfrm>
              <a:prstGeom prst="line">
                <a:avLst/>
              </a:prstGeom>
              <a:ln w="38160">
                <a:solidFill>
                  <a:srgbClr val="cc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4324320" y="3769920"/>
                <a:ext cx="152640" cy="381240"/>
              </a:xfrm>
              <a:prstGeom prst="line">
                <a:avLst/>
              </a:prstGeom>
              <a:ln w="38160">
                <a:solidFill>
                  <a:srgbClr val="cc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5543640" y="3769920"/>
                <a:ext cx="152280" cy="381240"/>
              </a:xfrm>
              <a:prstGeom prst="line">
                <a:avLst/>
              </a:prstGeom>
              <a:ln w="38160">
                <a:solidFill>
                  <a:srgbClr val="cc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943440" y="5599080"/>
                <a:ext cx="2133720" cy="763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43440" y="4989600"/>
                <a:ext cx="76320" cy="6858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00840" y="4989600"/>
                <a:ext cx="76320" cy="6858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19760" y="4989600"/>
                <a:ext cx="228600" cy="763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72240" y="4989600"/>
                <a:ext cx="228600" cy="763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19760" y="5065920"/>
                <a:ext cx="1981080" cy="5331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5010120" y="4532400"/>
                <a:ext cx="0" cy="380880"/>
              </a:xfrm>
              <a:prstGeom prst="line">
                <a:avLst/>
              </a:prstGeom>
              <a:ln w="38160">
                <a:solidFill>
                  <a:srgbClr val="cc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>
                <a:off x="4629240" y="4532400"/>
                <a:ext cx="76320" cy="380880"/>
              </a:xfrm>
              <a:prstGeom prst="line">
                <a:avLst/>
              </a:prstGeom>
              <a:ln w="38160">
                <a:solidFill>
                  <a:srgbClr val="cc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5315040" y="4532400"/>
                <a:ext cx="76320" cy="380880"/>
              </a:xfrm>
              <a:prstGeom prst="line">
                <a:avLst/>
              </a:prstGeom>
              <a:ln w="38160">
                <a:solidFill>
                  <a:srgbClr val="ccff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867120" y="2094120"/>
                <a:ext cx="228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2000" spc="-1" strike="noStrike">
                    <a:solidFill>
                      <a:srgbClr val="777777"/>
                    </a:solidFill>
                    <a:latin typeface="Arial Narrow"/>
                  </a:rPr>
                  <a:t>SIGNAL OUTPUT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248360" y="4989600"/>
                <a:ext cx="1523880" cy="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48360" y="5065920"/>
                <a:ext cx="1523880" cy="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971640" y="4456080"/>
              <a:ext cx="3048120" cy="1313640"/>
              <a:chOff x="971640" y="4456080"/>
              <a:chExt cx="3048120" cy="1313640"/>
            </a:xfrm>
          </p:grpSpPr>
          <p:sp>
            <p:nvSpPr>
              <p:cNvPr id="188" name=""/>
              <p:cNvSpPr/>
              <p:nvPr/>
            </p:nvSpPr>
            <p:spPr>
              <a:xfrm>
                <a:off x="971640" y="4456080"/>
                <a:ext cx="17524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2000" spc="-1" strike="noStrike">
                    <a:solidFill>
                      <a:srgbClr val="006666"/>
                    </a:solidFill>
                    <a:latin typeface="Arial Narrow"/>
                  </a:rPr>
                  <a:t>Wool sample compressed against glass window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19560" y="5141880"/>
                <a:ext cx="1600200" cy="152640"/>
              </a:xfrm>
              <a:prstGeom prst="line">
                <a:avLst/>
              </a:prstGeom>
              <a:ln w="28440">
                <a:solidFill>
                  <a:srgbClr val="0066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077160" y="3084480"/>
              <a:ext cx="2361960" cy="383400"/>
              <a:chOff x="6077160" y="3084480"/>
              <a:chExt cx="2361960" cy="383400"/>
            </a:xfrm>
          </p:grpSpPr>
          <p:sp>
            <p:nvSpPr>
              <p:cNvPr id="191" name=""/>
              <p:cNvSpPr/>
              <p:nvPr/>
            </p:nvSpPr>
            <p:spPr>
              <a:xfrm>
                <a:off x="6991560" y="3084480"/>
                <a:ext cx="144756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1900" spc="-1" strike="noStrike">
                    <a:solidFill>
                      <a:srgbClr val="ff0066"/>
                    </a:solidFill>
                    <a:latin typeface="Arial Narrow"/>
                  </a:rPr>
                  <a:t>Colour filters</a:t>
                </a:r>
                <a:endParaRPr b="0" lang="en-US" sz="19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6077160" y="3313080"/>
                <a:ext cx="914400" cy="763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07E1-1DA1-4EB1-99F4-EE89792D28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9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Arial"/>
              </a:rPr>
              <a:t>Instrumentation - spectrophotome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5640" y="1959120"/>
            <a:ext cx="7772040" cy="3965040"/>
            <a:chOff x="755640" y="1959120"/>
            <a:chExt cx="7772040" cy="3965040"/>
          </a:xfrm>
        </p:grpSpPr>
        <p:grpSp>
          <p:nvGrpSpPr>
            <p:cNvPr id="195" name=""/>
            <p:cNvGrpSpPr/>
            <p:nvPr/>
          </p:nvGrpSpPr>
          <p:grpSpPr>
            <a:xfrm>
              <a:off x="755640" y="2264040"/>
              <a:ext cx="1904760" cy="2133000"/>
              <a:chOff x="755640" y="2264040"/>
              <a:chExt cx="1904760" cy="21330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755640" y="2720880"/>
                <a:ext cx="990360" cy="990360"/>
                <a:chOff x="755640" y="2720880"/>
                <a:chExt cx="990360" cy="9903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038600" y="3003480"/>
                  <a:ext cx="424440" cy="4244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51000" y="2720880"/>
                  <a:ext cx="0" cy="99036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55640" y="3215880"/>
                  <a:ext cx="99036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882720" y="2885400"/>
                  <a:ext cx="735480" cy="66276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882360" y="2885400"/>
                  <a:ext cx="735480" cy="66276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1746000" y="3635280"/>
                <a:ext cx="609840" cy="761760"/>
              </a:xfrm>
              <a:prstGeom prst="line">
                <a:avLst/>
              </a:prstGeom>
              <a:ln w="127080">
                <a:solidFill>
                  <a:srgbClr val="ff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60200" y="226404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ffff00"/>
                    </a:solidFill>
                    <a:latin typeface="Arial Narrow"/>
                  </a:rPr>
                  <a:t>Light sourc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flipV="1">
              <a:off x="2813040" y="3635640"/>
              <a:ext cx="609480" cy="761760"/>
            </a:xfrm>
            <a:prstGeom prst="line">
              <a:avLst/>
            </a:prstGeom>
            <a:ln w="127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2584440" y="2035440"/>
              <a:ext cx="2286000" cy="1523880"/>
              <a:chOff x="2584440" y="2035440"/>
              <a:chExt cx="2286000" cy="1523880"/>
            </a:xfrm>
          </p:grpSpPr>
          <p:sp>
            <p:nvSpPr>
              <p:cNvPr id="206" name=""/>
              <p:cNvSpPr/>
              <p:nvPr/>
            </p:nvSpPr>
            <p:spPr>
              <a:xfrm>
                <a:off x="2660760" y="3330720"/>
                <a:ext cx="1981080" cy="2282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660760" y="3559320"/>
                <a:ext cx="198108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584440" y="2035440"/>
                <a:ext cx="228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9900cc"/>
                    </a:solidFill>
                    <a:latin typeface="Arial Narrow"/>
                  </a:rPr>
                  <a:t>Reflection grating disperses light into its component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575160" y="3635640"/>
              <a:ext cx="2971800" cy="2288520"/>
              <a:chOff x="3575160" y="3635640"/>
              <a:chExt cx="2971800" cy="2288520"/>
            </a:xfrm>
          </p:grpSpPr>
          <p:sp>
            <p:nvSpPr>
              <p:cNvPr id="210" name=""/>
              <p:cNvSpPr/>
              <p:nvPr/>
            </p:nvSpPr>
            <p:spPr>
              <a:xfrm>
                <a:off x="3956400" y="3635640"/>
                <a:ext cx="1600200" cy="99072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80080" y="3711960"/>
                <a:ext cx="1523880" cy="10666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03760" y="3788280"/>
                <a:ext cx="1447920" cy="11430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27800" y="3864240"/>
                <a:ext cx="1371600" cy="12956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51480" y="3940560"/>
                <a:ext cx="1295280" cy="137160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75160" y="4016880"/>
                <a:ext cx="1219320" cy="144756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794480" y="4474080"/>
                <a:ext cx="990720" cy="1371600"/>
              </a:xfrm>
              <a:prstGeom prst="line">
                <a:avLst/>
              </a:prstGeom>
              <a:ln w="38160">
                <a:solidFill>
                  <a:srgbClr val="0033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8399000">
                <a:off x="5289840" y="4968720"/>
                <a:ext cx="152280" cy="381240"/>
              </a:xfrm>
              <a:prstGeom prst="rect">
                <a:avLst/>
              </a:prstGeom>
              <a:solidFill>
                <a:srgbClr val="969696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328000" y="546444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003366"/>
                    </a:solidFill>
                    <a:latin typeface="Arial Narrow"/>
                  </a:rPr>
                  <a:t>Detector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394320" y="5464440"/>
              <a:ext cx="2133360" cy="459720"/>
              <a:chOff x="6394320" y="5464440"/>
              <a:chExt cx="2133360" cy="459720"/>
            </a:xfrm>
          </p:grpSpPr>
          <p:sp>
            <p:nvSpPr>
              <p:cNvPr id="220" name=""/>
              <p:cNvSpPr/>
              <p:nvPr/>
            </p:nvSpPr>
            <p:spPr>
              <a:xfrm>
                <a:off x="6775200" y="5464440"/>
                <a:ext cx="1752480" cy="459720"/>
              </a:xfrm>
              <a:prstGeom prst="rect">
                <a:avLst/>
              </a:prstGeom>
              <a:solidFill>
                <a:srgbClr val="cc00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003366"/>
                    </a:solidFill>
                    <a:latin typeface="Arial Narrow"/>
                  </a:rPr>
                  <a:t>AMPLIFIER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394320" y="5692680"/>
                <a:ext cx="38088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927840" y="3787920"/>
              <a:ext cx="1371600" cy="1676160"/>
              <a:chOff x="6927840" y="3787920"/>
              <a:chExt cx="1371600" cy="167616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6927840" y="3787920"/>
                <a:ext cx="1371600" cy="1218960"/>
                <a:chOff x="6927840" y="3787920"/>
                <a:chExt cx="1371600" cy="12189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6927840" y="3787920"/>
                  <a:ext cx="1371600" cy="1218960"/>
                </a:xfrm>
                <a:prstGeom prst="rect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927840" y="4336200"/>
                  <a:ext cx="228600" cy="670320"/>
                </a:xfrm>
                <a:prstGeom prst="rect">
                  <a:avLst/>
                </a:prstGeom>
                <a:solidFill>
                  <a:srgbClr val="80008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156440" y="4214160"/>
                  <a:ext cx="228600" cy="7923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85040" y="4092480"/>
                  <a:ext cx="228600" cy="914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3640" y="3909600"/>
                  <a:ext cx="228600" cy="1096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842240" y="4031280"/>
                  <a:ext cx="228600" cy="97524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70840" y="4153320"/>
                  <a:ext cx="228600" cy="8532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927840" y="3899520"/>
                  <a:ext cx="1371600" cy="558360"/>
                </a:xfrm>
                <a:custGeom>
                  <a:avLst/>
                  <a:gdLst/>
                  <a:ahLst/>
                  <a:rect l="l" t="t" r="r" b="b"/>
                  <a:pathLst>
                    <a:path w="864" h="440">
                      <a:moveTo>
                        <a:pt x="0" y="440"/>
                      </a:moveTo>
                      <a:cubicBezTo>
                        <a:pt x="28" y="408"/>
                        <a:pt x="56" y="376"/>
                        <a:pt x="96" y="344"/>
                      </a:cubicBezTo>
                      <a:cubicBezTo>
                        <a:pt x="136" y="312"/>
                        <a:pt x="200" y="280"/>
                        <a:pt x="240" y="248"/>
                      </a:cubicBezTo>
                      <a:cubicBezTo>
                        <a:pt x="280" y="216"/>
                        <a:pt x="296" y="192"/>
                        <a:pt x="336" y="152"/>
                      </a:cubicBezTo>
                      <a:cubicBezTo>
                        <a:pt x="376" y="112"/>
                        <a:pt x="432" y="16"/>
                        <a:pt x="480" y="8"/>
                      </a:cubicBezTo>
                      <a:cubicBezTo>
                        <a:pt x="528" y="0"/>
                        <a:pt x="576" y="72"/>
                        <a:pt x="624" y="104"/>
                      </a:cubicBezTo>
                      <a:cubicBezTo>
                        <a:pt x="672" y="136"/>
                        <a:pt x="728" y="168"/>
                        <a:pt x="768" y="200"/>
                      </a:cubicBezTo>
                      <a:cubicBezTo>
                        <a:pt x="808" y="232"/>
                        <a:pt x="836" y="264"/>
                        <a:pt x="864" y="296"/>
                      </a:cubicBezTo>
                    </a:path>
                  </a:pathLst>
                </a:custGeom>
                <a:noFill/>
                <a:ln w="284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 flipV="1">
                <a:off x="7613640" y="500688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699240" y="1959120"/>
              <a:ext cx="1752480" cy="1752480"/>
              <a:chOff x="6699240" y="1959120"/>
              <a:chExt cx="1752480" cy="1752480"/>
            </a:xfrm>
          </p:grpSpPr>
          <p:sp>
            <p:nvSpPr>
              <p:cNvPr id="234" name=""/>
              <p:cNvSpPr/>
              <p:nvPr/>
            </p:nvSpPr>
            <p:spPr>
              <a:xfrm>
                <a:off x="6699240" y="2720880"/>
                <a:ext cx="1752480" cy="459720"/>
              </a:xfrm>
              <a:prstGeom prst="rect">
                <a:avLst/>
              </a:prstGeom>
              <a:solidFill>
                <a:srgbClr val="3333cc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003366"/>
                    </a:solidFill>
                    <a:latin typeface="Arial Narrow"/>
                  </a:rPr>
                  <a:t>COMPUTER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7613280" y="3254400"/>
                <a:ext cx="0" cy="4572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613280" y="2340000"/>
                <a:ext cx="0" cy="3808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003800" y="195912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2400" spc="-1" strike="noStrike">
                    <a:solidFill>
                      <a:srgbClr val="cc0000"/>
                    </a:solidFill>
                    <a:latin typeface="Arial"/>
                  </a:rPr>
                  <a:t>X </a:t>
                </a:r>
                <a:r>
                  <a:rPr b="1" lang="en-NZ" sz="2400" spc="-1" strike="noStrike">
                    <a:solidFill>
                      <a:srgbClr val="003366"/>
                    </a:solidFill>
                    <a:latin typeface="Arial"/>
                  </a:rPr>
                  <a:t> </a:t>
                </a:r>
                <a:r>
                  <a:rPr b="1" lang="en-NZ" sz="2400" spc="-1" strike="noStrike">
                    <a:solidFill>
                      <a:srgbClr val="00ff00"/>
                    </a:solidFill>
                    <a:latin typeface="Arial"/>
                  </a:rPr>
                  <a:t>Y</a:t>
                </a:r>
                <a:r>
                  <a:rPr b="1" lang="en-NZ" sz="2400" spc="-1" strike="noStrike">
                    <a:solidFill>
                      <a:srgbClr val="003366"/>
                    </a:solidFill>
                    <a:latin typeface="Arial"/>
                  </a:rPr>
                  <a:t>  </a:t>
                </a:r>
                <a:r>
                  <a:rPr b="1" lang="en-NZ" sz="2400" spc="-1" strike="noStrike">
                    <a:solidFill>
                      <a:srgbClr val="3333cc"/>
                    </a:solidFill>
                    <a:latin typeface="Arial"/>
                  </a:rPr>
                  <a:t>Z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365120" y="4549680"/>
              <a:ext cx="2514600" cy="1069560"/>
              <a:chOff x="1365120" y="4549680"/>
              <a:chExt cx="2514600" cy="1069560"/>
            </a:xfrm>
          </p:grpSpPr>
          <p:sp>
            <p:nvSpPr>
              <p:cNvPr id="239" name=""/>
              <p:cNvSpPr/>
              <p:nvPr/>
            </p:nvSpPr>
            <p:spPr>
              <a:xfrm>
                <a:off x="1898640" y="4626000"/>
                <a:ext cx="1447560" cy="456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98640" y="5083200"/>
                <a:ext cx="1447560" cy="0"/>
              </a:xfrm>
              <a:prstGeom prst="line">
                <a:avLst/>
              </a:prstGeom>
              <a:ln w="763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1898640" y="4549680"/>
                <a:ext cx="0" cy="533160"/>
              </a:xfrm>
              <a:prstGeom prst="line">
                <a:avLst/>
              </a:prstGeom>
              <a:ln w="763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3346200" y="4549680"/>
                <a:ext cx="0" cy="533160"/>
              </a:xfrm>
              <a:prstGeom prst="line">
                <a:avLst/>
              </a:prstGeom>
              <a:ln w="763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898640" y="4550040"/>
                <a:ext cx="152280" cy="0"/>
              </a:xfrm>
              <a:prstGeom prst="line">
                <a:avLst/>
              </a:prstGeom>
              <a:ln w="763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93920" y="4550040"/>
                <a:ext cx="152280" cy="0"/>
              </a:xfrm>
              <a:prstGeom prst="line">
                <a:avLst/>
              </a:prstGeom>
              <a:ln w="763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365120" y="515952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003366"/>
                    </a:solidFill>
                    <a:latin typeface="Arial Narrow"/>
                  </a:rPr>
                  <a:t>Wool sample in cel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50920" y="4550040"/>
                <a:ext cx="1143000" cy="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050920" y="4626000"/>
                <a:ext cx="1143000" cy="0"/>
              </a:xfrm>
              <a:prstGeom prst="line">
                <a:avLst/>
              </a:prstGeom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F86F-EBA7-427C-ACCA-24EDB79622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42:33Z</dcterms:created>
  <dc:creator>WRONZ User</dc:creator>
  <dc:description/>
  <dc:language>en-US</dc:language>
  <cp:lastModifiedBy>sbrent</cp:lastModifiedBy>
  <dcterms:modified xsi:type="dcterms:W3CDTF">2006-09-19T02:27:31Z</dcterms:modified>
  <cp:revision>5</cp:revision>
  <dc:subject/>
  <dc:title>Wool Coloration</dc:title>
</cp:coreProperties>
</file>