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B076-5711-4B1D-886A-0784DC1D3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A97B-818B-4F57-928A-3A952D094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B407-6F25-44AB-B4BF-495BFC27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BA2E-74FB-438B-B79C-1E1BD5343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4D74-BC21-4FE8-8CD0-E59C2666EA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6938-56EF-4EE0-890E-06ADF1EAD4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3A8E-A44C-4978-9D02-204671780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6DBE-91A8-47CB-8B5F-866DB9253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91CB8-C9F9-4B68-8B96-BE75D78E60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0D43-39A9-4734-A27B-897F8D05E0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8617-76C9-4907-A68A-6F07B1FB4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5249-C58C-4693-A7FE-65DBD301F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80DD-CBA2-4C33-9714-7E55B7B33C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DFDC-C92A-4C9F-8F51-B83F507956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8A41-78CB-4746-878D-DD48C5B171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F2D9-4511-45D0-9C5B-9FB99F2B1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DAC9-3DE9-4BC2-9EAF-814D62FC3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C255-B5A0-43A7-8372-5FA6894B8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7831-398F-48D6-A190-0E9713A9F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B457-1DC0-411E-85AE-8087EC74E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6003-C63A-4F4F-9186-50C653F19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5352-420D-4360-8A5A-7D6F0900F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73EB-A840-4E9B-AF31-2938D1F98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96A5-A683-4F96-BCE4-4A3D2F36F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F0EA-A402-4B94-91B3-EA7BAD5F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A888-1E41-465C-90D9-3FB5C5C3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pic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bre Curvature, Crimp Frequency, Resistance to Compression and Bu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ctoria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F111-B685-4B38-B3F5-ED7CB198BC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6920" y="457200"/>
            <a:ext cx="775836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Effects on Fibre Curvature Measurement of Different Aspects of Preparation &amp;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5840" y="2420640"/>
            <a:ext cx="77724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y introduction of fibre strains or hygral absorption, the following characteristics affect the value of measured fibre curv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Preparation process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broken fibre or fibre snippet; fleece, core or top sample; Shirley Analysed or not; minicore versus guillotine; number of minicorings &amp; size of subsample (for snippet testing); aqueous or non-aqueous sc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. Measur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sting in air, isopropanol/water mixture or water; choice of test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36CA-AA94-419A-A2C8-654D3B125E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st direct measurement of fibre shape is Mean Fibre Curv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ever, there are a number of factors which limit the usability of Fibre Curvature Measur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utomatic measurement of Staple Crimp Frequency might offer the best solution to shape measurement for greasy w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7D09-EA7A-475D-99C6-561A42E914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bre Curvature, Staple Crimp, Resistance to Compression &amp; Bulk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re each related to fibre sha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influence breeding decis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affect processing &amp; produc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0599-E234-4904-8F74-DBC80B7C9B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sistance to Compression (Rt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7640" y="1557360"/>
            <a:ext cx="5465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tC is the pressure required to compress 2.5g of Shirley Analysed wool to a volume of 23.56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cylindrical chamber of 50mm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Merino wool, the expected range of values is between 8kPa and 12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ustralian Standard 3535-1988 was developed for R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1976400" cy="421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2F38-1DBC-4D0A-B2DF-CB948B30C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ULK – New Zealand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76720" y="1557360"/>
            <a:ext cx="568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lk is the volume occupied by 2.5g of carded wool under a pressure of 1kPa in a cylinder of 50mm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asurement is preceded by 2 precompression steps using a pressure of 3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ZS 8716:1994 was developed in New Zealand for testing the Bulk of cor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2436840" cy="32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5FB0-1F25-4908-A494-5CD8D7BD70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lationship between RtC &amp;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65440" cy="444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A4D0-63EE-4370-8342-BF133E7155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rimp Frequ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324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rimp Frequency refers to the generally regular, or wavy pattern of ripples along the staple &amp; is defined as the number of waves, or crimps, per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be measured manually though automatic measurement is being developed – Refer Style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nual measurement has some operator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133640" cy="422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111600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FD22-3B02-4488-B4BE-D46E08F03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bre Curva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40200" y="1936800"/>
            <a:ext cx="36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1479960"/>
            <a:ext cx="439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mathematical definition of curvature, K, is the inverse radius of a circle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K = 1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easured as a by product of diameter measurement of snippets or single fibres (OFDA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units for measurement of fibre curvature in the wool industry (IWTO) are degrees per millimetr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/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860920" cy="24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202E-F29A-4A4C-84A3-4305DF3310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bre Curvature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oth Laserscan &amp; OFDA measure curvature as a 2 dimensional projection of the 3 dimensional shape of a snippet or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OFDA Curvature is measured in a 2-stage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rc is formed from a trace along the edge of a fibre or snippet for a predetermined dist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ngle subtended by the arc at the centre of its circle is meas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Laserscan Curvature is determined by a projection of a fibre snippet impinging on a circular ring of optical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FD41-F504-4D6D-A276-540B9FDC6C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ibre Curvature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5840" y="177336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re is current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means of calibration for fibre curvature measuremen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standardised preparation system for Fibre Curvature measurement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e1e1b7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IWTO Standard for the measurement of Fibre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3B92-9CD3-41CB-92D9-0E97EEE405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2:29:47Z</dcterms:modified>
  <cp:revision>127</cp:revision>
  <dc:subject/>
  <dc:title>PowerPoint Presentation</dc:title>
</cp:coreProperties>
</file>