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0FA0-5CE5-4595-BB26-3C2F21BA8097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C19E7-B837-49D5-83D4-A4BC997F05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0752B-DE53-43D2-BCA5-D125E79DBA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EFC79-3646-4608-A61C-9818FFADCC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3C213-78D6-4AFD-8B0B-19975793F3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22F24-3B88-4ECF-BDD8-F73D5FEE66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D50B6-3634-4DFB-83C4-008E303F37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B92DD-2D3C-4A4B-9763-74A80F467F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D193C-9488-4039-AE94-14816F106B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F301F-C4A1-45CE-962B-536EE6B64E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0A90C-8F01-4CD9-A5E1-BABAC3F22A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B1582-A3F7-4591-A4BF-4A208A3B19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BEC87-8CA8-461E-A5AD-575C2BAC3B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C6E11-BA35-47CA-B439-6892857AB3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4032B-D294-4406-8DB0-CD30009057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EA383-7466-4529-BB13-0B33EE2F54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9D930-695A-4461-BCAD-FF18D7B1DA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B4A34-C70D-4DB6-8E92-EFAD4251A0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01ED0-7C3A-4D8B-AD39-FB86BC8811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0DD81-BD9E-43BA-B588-1D54B62EA0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95262-4CFB-49C2-A453-CA4DE29F90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AA1C0-916B-4DEB-824F-697986BFF3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1472D-2A01-46B7-9F68-565752599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0F367-1F76-42EA-8255-E267CBD064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9F19A-059C-4634-818F-0EC48D368B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418A-C724-4B2F-9EB1-FD709E3A6CB2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6181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3573-CCF4-406B-A469-42EF840F27DE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536760"/>
            <a:ext cx="77724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ol and Instrumentation Systems for Wool Scou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03280" y="479736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D1A17-9A57-4B0E-969B-A5FFB42D3AB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s of controllers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1066680"/>
            <a:ext cx="7921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rtional control with res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ype combines both proportional and integral (or reset)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rivative contr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r Rate)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er action depends on the rate at which the controlled variable is chan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ype of control anticipates the effect of large load changes and reduces the maximum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D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provides basic control (wit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eliminates error between steady-state conditions and set point (wit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ti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reduces overshoot and noise (throug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ivative ti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90213-D87E-4728-94D9-2CE25C6C28D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ol systems in the woolscou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ing and computerised bl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belt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of wool in the feed h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toelectric sen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ltrasonic sen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uring bowl temperatur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back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down of heavy liquors (FLO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ol dr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ory control and data acquisition systems (SCOUR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49620-1FAF-4BC0-82AD-EE20B56B919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-76680"/>
            <a:ext cx="8001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ol of opening and blend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764640"/>
            <a:ext cx="392436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hopper weighbelt system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nd components loaded into feed hop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hopper drops contents onto common conve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controls amounts of each component a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43280" y="1143000"/>
            <a:ext cx="3886200" cy="26398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219320" y="12193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185840" y="4319640"/>
            <a:ext cx="7105680" cy="109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7FB6A-37C9-4881-B3AE-9D064851E08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belt feed contr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97960" y="2895480"/>
            <a:ext cx="80773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es with feed hopper to maintain constant flow of w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 cell senses mass of wool on short convey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er receives signal to controller and belt speed from tachometer, calculates flow rate, compares with set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s signal to motor to speed up or down according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11280" y="533520"/>
            <a:ext cx="7467480" cy="2286000"/>
            <a:chOff x="611280" y="533520"/>
            <a:chExt cx="7467480" cy="2286000"/>
          </a:xfrm>
        </p:grpSpPr>
        <p:grpSp>
          <p:nvGrpSpPr>
            <p:cNvPr id="161" name=""/>
            <p:cNvGrpSpPr/>
            <p:nvPr/>
          </p:nvGrpSpPr>
          <p:grpSpPr>
            <a:xfrm>
              <a:off x="1144800" y="533520"/>
              <a:ext cx="6684480" cy="2286000"/>
              <a:chOff x="1144800" y="533520"/>
              <a:chExt cx="6684480" cy="228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5095800" y="1410120"/>
                <a:ext cx="0" cy="43812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026040" y="2438640"/>
                <a:ext cx="1803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99cc"/>
                    </a:solidFill>
                    <a:latin typeface="Arial"/>
                  </a:rPr>
                  <a:t>TACHOMET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983120" y="1229040"/>
                <a:ext cx="334440" cy="218880"/>
              </a:xfrm>
              <a:prstGeom prst="rect">
                <a:avLst/>
              </a:prstGeom>
              <a:solidFill>
                <a:srgbClr val="00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860560" y="838440"/>
                <a:ext cx="4244760" cy="0"/>
              </a:xfrm>
              <a:prstGeom prst="line">
                <a:avLst/>
              </a:prstGeom>
              <a:ln w="2541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638440" y="1738440"/>
                <a:ext cx="556920" cy="547920"/>
              </a:xfrm>
              <a:prstGeom prst="rect">
                <a:avLst/>
              </a:prstGeom>
              <a:solidFill>
                <a:srgbClr val="00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419280" y="971640"/>
                <a:ext cx="223560" cy="219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530520" y="990720"/>
                <a:ext cx="29048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530520" y="1143360"/>
                <a:ext cx="29048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084480" y="971640"/>
                <a:ext cx="223560" cy="219240"/>
              </a:xfrm>
              <a:prstGeom prst="ellipse">
                <a:avLst/>
              </a:prstGeom>
              <a:solidFill>
                <a:srgbClr val="ff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657840" y="971640"/>
                <a:ext cx="223560" cy="219240"/>
              </a:xfrm>
              <a:prstGeom prst="ellipse">
                <a:avLst/>
              </a:prstGeom>
              <a:solidFill>
                <a:srgbClr val="ff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2860560" y="990720"/>
                <a:ext cx="33480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2860560" y="1143360"/>
                <a:ext cx="33480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770520" y="990720"/>
                <a:ext cx="33480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770520" y="1143360"/>
                <a:ext cx="33480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653080" y="1410120"/>
                <a:ext cx="223560" cy="21888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190600" y="643320"/>
                <a:ext cx="669600" cy="1423800"/>
              </a:xfrm>
              <a:prstGeom prst="line">
                <a:avLst/>
              </a:prstGeom>
              <a:ln w="1260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414520" y="533520"/>
                <a:ext cx="669600" cy="1424160"/>
              </a:xfrm>
              <a:prstGeom prst="line">
                <a:avLst/>
              </a:prstGeom>
              <a:ln w="936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60560" y="1848240"/>
                <a:ext cx="223560" cy="218880"/>
              </a:xfrm>
              <a:prstGeom prst="ellipse">
                <a:avLst/>
              </a:prstGeom>
              <a:solidFill>
                <a:srgbClr val="009900"/>
              </a:solidFill>
              <a:ln w="28440">
                <a:solidFill>
                  <a:srgbClr val="549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765760" y="1081440"/>
                <a:ext cx="0" cy="32868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400640" y="838440"/>
                <a:ext cx="1117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333600" y="686160"/>
                <a:ext cx="0" cy="32832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6610320" y="643320"/>
                <a:ext cx="0" cy="32832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562200" y="2057760"/>
                <a:ext cx="1676160" cy="380880"/>
              </a:xfrm>
              <a:prstGeom prst="rect">
                <a:avLst/>
              </a:prstGeom>
              <a:solidFill>
                <a:srgbClr val="ff7c80"/>
              </a:solidFill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66cc"/>
                    </a:solidFill>
                    <a:latin typeface="Arial"/>
                  </a:rPr>
                  <a:t>CONTROLL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181320" y="2210040"/>
                <a:ext cx="38052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5238360" y="2210040"/>
                <a:ext cx="53316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987880" y="1410120"/>
                <a:ext cx="107928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99cc"/>
                    </a:solidFill>
                    <a:latin typeface="Arial"/>
                  </a:rPr>
                  <a:t>LOAD CEL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643200" y="1676520"/>
                <a:ext cx="445680" cy="1098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549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643200" y="1629000"/>
                <a:ext cx="44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541840" y="1629000"/>
                <a:ext cx="445680" cy="1094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549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541840" y="1629000"/>
                <a:ext cx="44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772240" y="1600560"/>
                <a:ext cx="0" cy="60948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419280" y="971640"/>
                <a:ext cx="223560" cy="219240"/>
              </a:xfrm>
              <a:prstGeom prst="ellipse">
                <a:avLst/>
              </a:prstGeom>
              <a:solidFill>
                <a:srgbClr val="ff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689120" y="2395800"/>
                <a:ext cx="1949040" cy="42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99cc"/>
                    </a:solidFill>
                    <a:latin typeface="Arial"/>
                  </a:rPr>
                  <a:t>FEED HOPPER DRIVE MOT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537080" y="1848240"/>
                <a:ext cx="0" cy="21888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144800" y="1447920"/>
                <a:ext cx="13507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99cc"/>
                    </a:solidFill>
                    <a:latin typeface="Arial"/>
                  </a:rPr>
                  <a:t>FULCRU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2266920" y="1190880"/>
                <a:ext cx="1599840" cy="3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086440" y="1143360"/>
                <a:ext cx="151920" cy="15228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4536720" y="1848240"/>
                <a:ext cx="55836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flipV="1">
                <a:off x="5238360" y="1371600"/>
                <a:ext cx="8377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90800" y="1067040"/>
                <a:ext cx="152280" cy="609480"/>
              </a:xfrm>
              <a:prstGeom prst="triangle">
                <a:avLst>
                  <a:gd name="adj" fmla="val 50000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324480" y="971640"/>
                <a:ext cx="222120" cy="219240"/>
              </a:xfrm>
              <a:prstGeom prst="ellipse">
                <a:avLst/>
              </a:prstGeom>
              <a:solidFill>
                <a:srgbClr val="ff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530520" y="1067040"/>
                <a:ext cx="2904840" cy="0"/>
              </a:xfrm>
              <a:prstGeom prst="line">
                <a:avLst/>
              </a:prstGeom>
              <a:ln w="284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6554880" y="1400400"/>
              <a:ext cx="1523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Conveyor rests  on load ce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1280" y="167652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Conveyor pivots on fulcr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C05A0-D228-462F-8E2F-BEE0C2981B2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520" y="-76320"/>
            <a:ext cx="80010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olling level of wool in hopp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94920" y="3123720"/>
            <a:ext cx="8280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PERMATIC system uses hopper and weighbelt arrangement to control fee to sc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ultrasonic sensor uses high-frequency waves to measure amount of wool in hopper and PID controller adjusts speed of motor on spiked lattice of first feed h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systems use photoelectric sens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258920" y="457200"/>
            <a:ext cx="6408720" cy="25351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732720" y="2708280"/>
            <a:ext cx="20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ource: Andar Holdings Lt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02450-2951-4552-ADBF-C76E5F6EAB7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wback contr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3809520"/>
            <a:ext cx="8223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back controlled by float control valve or diaphra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control only is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f the liquor from bowl 2 flows in just before the feed rollers of bowl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278000" y="542880"/>
            <a:ext cx="6265800" cy="296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E49E8-562D-48F8-8630-FCF274D3A53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6960" y="76320"/>
            <a:ext cx="55929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wdown of heavy liqu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44320" y="1066680"/>
            <a:ext cx="3951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COM system measures relative density of liqu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harges heavy liquor from balance tank to maintain liquor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cal sensors may be used to monitor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ids may increase through increased wool flow or change in wool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724280" y="762120"/>
            <a:ext cx="3816360" cy="473220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C5EA5-BFF6-4705-A3C6-0107A1391C0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5975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ol dryer contr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4000" y="847800"/>
            <a:ext cx="77040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s can provide information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ain of wool leaving dr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 inside dr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idity inside dr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ol flow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ers can adju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t supply to dr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of dryer exhaust dam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 rate of wool to dr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a well-controlled dryer needs even f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regain variability into dryer ensures more uniformly dried wool leaving dr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22651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E9C02-148A-48E0-B3E5-051916BB4C2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ol dryer control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651200" y="609480"/>
            <a:ext cx="4152960" cy="498024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3353040" cy="200952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838080" y="3657600"/>
            <a:ext cx="3353040" cy="194796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223" name=""/>
          <p:cNvSpPr/>
          <p:nvPr/>
        </p:nvSpPr>
        <p:spPr>
          <a:xfrm>
            <a:off x="1258920" y="28195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oisture probes at end of dr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4360" y="5661000"/>
            <a:ext cx="36716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ource: Streat Instru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38CCE-50B2-4064-9E1C-0F607A7D695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17680" y="188640"/>
            <a:ext cx="49687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YCOM 2000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40920" y="1066320"/>
            <a:ext cx="45356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PID controllers are used, with the control signal of one being the set point of the sec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controller uses regain value from moisture meter and outputs a control signal which is the temperature required to achieve the set point re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PID loop uses temperature probe and adjusts heat input to give required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cts quickly, handles stop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716360" y="880920"/>
            <a:ext cx="4103640" cy="4681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5472000" y="5661000"/>
            <a:ext cx="36720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ource: Streat Instru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BDB5B-0797-4BBC-8203-4BC4E5F8E49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353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quirements for modern wool scou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5640" y="1447920"/>
            <a:ext cx="808344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quality control of scoured w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efficiency – minimum usage of labour, water, energy, detergent, chemic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um productivity – highest possible production from plant and lab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ent effluent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24AC3-6DC8-4E3E-81C1-4DB389EB3DB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rehensive control in scou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6360" y="2971440"/>
            <a:ext cx="84963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OUR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ystem (Streats) provides all functions of control and monito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programmable logic controllers (PLC) to carry out control and data acquisition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network reports current production and quality information communicated continuously to staff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116000" y="685800"/>
            <a:ext cx="6624720" cy="214488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232" name=""/>
          <p:cNvSpPr/>
          <p:nvPr/>
        </p:nvSpPr>
        <p:spPr>
          <a:xfrm>
            <a:off x="5472000" y="2781360"/>
            <a:ext cx="36720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ource: Streat Instru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B3D5E-6776-4928-B3D2-FB0C77710DA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116000" y="105264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 of Summary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e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62D05-A246-4BB6-86E6-BFBC3FCF3095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nefits of C&amp;I technolo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691920"/>
            <a:ext cx="78422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s reduce expenditure on labour, maintenance, energy, detergent, chemic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information to management for good decision 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operators to be better informed on operating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s to produce a more consistently scoured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ituations in plant where C&amp;I us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 systems u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ic sensors to acquire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ic signals transmit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electric motors to actuate control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EE2A6-69FC-49D5-B0D9-C9296149F36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&amp;I Defini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609480"/>
            <a:ext cx="77724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CONTR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manual or automatic control to maintain right conditions, give best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VARI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ny property that can change or v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LED VARI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process variable to be controlled –e.g. temperature inside wool dr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IPULATED VARI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process variable to be altered by the controller to change the controlled variable – e.g. damper setting to change humidity inside dr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D VARI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 variable part of the process that upset controlled variable – e.g. wool throughput in dr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95719-EA03-4B6E-BAF5-6D4070641B6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8280" y="-15228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ments of process control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57200" y="457200"/>
            <a:ext cx="8610480" cy="5160600"/>
            <a:chOff x="457200" y="457200"/>
            <a:chExt cx="8610480" cy="5160600"/>
          </a:xfrm>
        </p:grpSpPr>
        <p:sp>
          <p:nvSpPr>
            <p:cNvPr id="101" name=""/>
            <p:cNvSpPr/>
            <p:nvPr/>
          </p:nvSpPr>
          <p:spPr>
            <a:xfrm>
              <a:off x="6934320" y="2743200"/>
              <a:ext cx="1828800" cy="106668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457200" y="457200"/>
              <a:ext cx="8610480" cy="5160600"/>
              <a:chOff x="457200" y="457200"/>
              <a:chExt cx="8610480" cy="516060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2361960" y="2867040"/>
                <a:ext cx="2286000" cy="838080"/>
                <a:chOff x="2361960" y="2867040"/>
                <a:chExt cx="2286000" cy="8380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361960" y="2867040"/>
                  <a:ext cx="2286000" cy="838080"/>
                </a:xfrm>
                <a:prstGeom prst="rect">
                  <a:avLst/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2514240" y="3095640"/>
                  <a:ext cx="2133720" cy="459720"/>
                </a:xfrm>
                <a:prstGeom prst="rect">
                  <a:avLst/>
                </a:pr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1f4081"/>
                      </a:solidFill>
                      <a:latin typeface="Arial Narrow"/>
                    </a:rPr>
                    <a:t>CONTROLLE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2590560" y="1724040"/>
                <a:ext cx="1752840" cy="761760"/>
                <a:chOff x="2590560" y="1724040"/>
                <a:chExt cx="1752840" cy="76176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2590560" y="1724040"/>
                  <a:ext cx="1752840" cy="761760"/>
                </a:xfrm>
                <a:prstGeom prst="rect">
                  <a:avLst/>
                </a:prstGeom>
                <a:solidFill>
                  <a:srgbClr val="0033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590560" y="1952640"/>
                  <a:ext cx="1752840" cy="459720"/>
                </a:xfrm>
                <a:prstGeom prst="rect">
                  <a:avLst/>
                </a:prstGeom>
                <a:solidFill>
                  <a:srgbClr val="00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cc0000"/>
                      </a:solidFill>
                      <a:latin typeface="Arial Narrow"/>
                    </a:rPr>
                    <a:t>SET POIN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2590560" y="4086000"/>
                <a:ext cx="1905120" cy="762120"/>
                <a:chOff x="2590560" y="4086000"/>
                <a:chExt cx="1905120" cy="76212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2590560" y="4086000"/>
                  <a:ext cx="1828800" cy="762120"/>
                </a:xfrm>
                <a:prstGeom prst="rect">
                  <a:avLst/>
                </a:prstGeom>
                <a:solidFill>
                  <a:srgbClr val="99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2590560" y="4238280"/>
                  <a:ext cx="1905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cc0000"/>
                      </a:solidFill>
                      <a:latin typeface="Arial Narrow"/>
                    </a:rPr>
                    <a:t>INDICA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5029200" y="2943000"/>
                <a:ext cx="1523880" cy="685800"/>
                <a:chOff x="5029200" y="2943000"/>
                <a:chExt cx="1523880" cy="68580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5029200" y="2943000"/>
                  <a:ext cx="1523880" cy="685800"/>
                </a:xfrm>
                <a:prstGeom prst="rect">
                  <a:avLst/>
                </a:prstGeom>
                <a:solidFill>
                  <a:srgbClr val="66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029200" y="3095640"/>
                  <a:ext cx="15238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cc0000"/>
                      </a:solidFill>
                      <a:latin typeface="Arial Narrow"/>
                    </a:rPr>
                    <a:t>ACTUATOR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" name=""/>
              <p:cNvSpPr/>
              <p:nvPr/>
            </p:nvSpPr>
            <p:spPr>
              <a:xfrm>
                <a:off x="6858000" y="2943000"/>
                <a:ext cx="19810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cc0000"/>
                    </a:solidFill>
                    <a:latin typeface="Arial Narrow"/>
                  </a:rPr>
                  <a:t>CONTROLLING ELEMENT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61760" y="3628800"/>
                <a:ext cx="1447920" cy="19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93366"/>
                    </a:solidFill>
                    <a:latin typeface="Arial Narrow"/>
                  </a:rPr>
                  <a:t>Measures controlled variable, transmits value to controll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057400" y="3247920"/>
                <a:ext cx="30456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724280" y="3247920"/>
                <a:ext cx="30492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629400" y="3247920"/>
                <a:ext cx="30456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504960" y="3781440"/>
                <a:ext cx="0" cy="30456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3504960" y="2485440"/>
                <a:ext cx="0" cy="30492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590560" y="4848120"/>
                <a:ext cx="18288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9ffcc"/>
                    </a:solidFill>
                    <a:latin typeface="Arial Narrow"/>
                  </a:rPr>
                  <a:t>Shows the measured valu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90560" y="457200"/>
                <a:ext cx="182880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66"/>
                    </a:solidFill>
                    <a:latin typeface="Arial Narrow"/>
                  </a:rPr>
                  <a:t>Shows desired value of controlled variab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876560" y="4060800"/>
                <a:ext cx="38862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cc"/>
                    </a:solidFill>
                    <a:latin typeface="Arial Narrow"/>
                  </a:rPr>
                  <a:t>Compares measured value with set point, takes action to make them the same by sending a signal to actua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572000" y="3552840"/>
                <a:ext cx="380880" cy="60948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876560" y="1495440"/>
                <a:ext cx="190512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66ff99"/>
                    </a:solidFill>
                    <a:latin typeface="Arial Narrow"/>
                  </a:rPr>
                  <a:t>Receives signal from controller to move controlling el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858000" y="1403280"/>
                <a:ext cx="220968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7c80"/>
                    </a:solidFill>
                    <a:latin typeface="Arial Narrow"/>
                  </a:rPr>
                  <a:t>Adjusts manipulated variable to achieve control of controlled variab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57200" y="3047760"/>
                <a:ext cx="1523880" cy="45972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2400" spc="-1" strike="noStrike">
                    <a:solidFill>
                      <a:srgbClr val="993366"/>
                    </a:solidFill>
                    <a:latin typeface="Arial Narrow"/>
                  </a:rPr>
                  <a:t>SENS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06B67-0D4C-4FB5-8AB6-8C5AF7365B8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000" y="2282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example – water heating tan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87280" y="1219320"/>
            <a:ext cx="6477120" cy="424152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D8FCC-8180-47C9-AC36-748418EDF9A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g and response ti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685800"/>
            <a:ext cx="770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full effect of action by the controller does not immediately affect the controlled variable – there is a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a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or delay in respon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403280" y="1828800"/>
            <a:ext cx="6183360" cy="3581280"/>
            <a:chOff x="1403280" y="1828800"/>
            <a:chExt cx="6183360" cy="358128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1403280" y="1828800"/>
              <a:ext cx="6183360" cy="3581280"/>
            </a:xfrm>
            <a:prstGeom prst="rect">
              <a:avLst/>
            </a:prstGeom>
            <a:ln w="38160">
              <a:solidFill>
                <a:srgbClr val="003366"/>
              </a:solidFill>
              <a:miter/>
            </a:ln>
          </p:spPr>
        </p:pic>
        <p:sp>
          <p:nvSpPr>
            <p:cNvPr id="135" name=""/>
            <p:cNvSpPr/>
            <p:nvPr/>
          </p:nvSpPr>
          <p:spPr>
            <a:xfrm>
              <a:off x="4659120" y="4041360"/>
              <a:ext cx="2666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081"/>
                  </a:solidFill>
                  <a:latin typeface="Arial Narrow"/>
                </a:rPr>
                <a:t>Warmed water begins to be detected h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896640" y="4498560"/>
              <a:ext cx="762120" cy="0"/>
            </a:xfrm>
            <a:prstGeom prst="line">
              <a:avLst/>
            </a:prstGeom>
            <a:ln w="57240">
              <a:solidFill>
                <a:srgbClr val="1f4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25800" y="1908000"/>
              <a:ext cx="160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081"/>
                  </a:solidFill>
                  <a:latin typeface="Arial Narrow"/>
                </a:rPr>
                <a:t>Temperature stabilis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496840" y="2288880"/>
              <a:ext cx="228600" cy="380520"/>
            </a:xfrm>
            <a:prstGeom prst="line">
              <a:avLst/>
            </a:prstGeom>
            <a:ln w="57240">
              <a:solidFill>
                <a:srgbClr val="1f4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63640" y="40413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081"/>
                  </a:solidFill>
                  <a:latin typeface="Arial Narrow"/>
                </a:rPr>
                <a:t>Element 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25400" y="4498560"/>
              <a:ext cx="609840" cy="0"/>
            </a:xfrm>
            <a:prstGeom prst="line">
              <a:avLst/>
            </a:prstGeom>
            <a:ln w="57240">
              <a:solidFill>
                <a:srgbClr val="1f4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614D9-7DDB-4692-8719-592426779EA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8305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shoot and cycling about a set poi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640" y="6091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n-off switch set to operate at a temperature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element is switched off, its residual heat continues to warm the water producing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sh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element is switched on there is a lag before the element begins heating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55640" y="2666880"/>
            <a:ext cx="7315200" cy="2865240"/>
            <a:chOff x="755640" y="2666880"/>
            <a:chExt cx="7315200" cy="286524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1365120" y="2666880"/>
              <a:ext cx="6705720" cy="2865240"/>
            </a:xfrm>
            <a:prstGeom prst="rect">
              <a:avLst/>
            </a:prstGeom>
            <a:ln w="38160">
              <a:solidFill>
                <a:srgbClr val="003366"/>
              </a:solidFill>
              <a:miter/>
            </a:ln>
          </p:spPr>
        </p:pic>
        <p:sp>
          <p:nvSpPr>
            <p:cNvPr id="145" name=""/>
            <p:cNvSpPr/>
            <p:nvPr/>
          </p:nvSpPr>
          <p:spPr>
            <a:xfrm>
              <a:off x="755640" y="35812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Arial Narrow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50920" y="3809880"/>
              <a:ext cx="5181480" cy="0"/>
            </a:xfrm>
            <a:prstGeom prst="line">
              <a:avLst/>
            </a:prstGeom>
            <a:ln w="936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6DC2C-455F-4B87-BA98-321C2F0CF75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s of automatic controller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609120"/>
            <a:ext cx="8367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-OFF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implest and cheap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cillates between fully on and fully 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normally suitable for process control but OK for hot water heating, hot plates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rtional contr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signal changes in proportion to difference between set point and measured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loser the measured value to the set point the smaller the control signal – overshoot is minimi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l contr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er takes action only if the set point and measured value remain different for a prese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s an ‘offset’ error inherent in P controll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68B5A-1AB1-4236-99E1-162613B7276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4:52:09Z</dcterms:created>
  <dc:creator>ES</dc:creator>
  <dc:description/>
  <dc:language>en-US</dc:language>
  <cp:lastModifiedBy>rroberts</cp:lastModifiedBy>
  <dcterms:modified xsi:type="dcterms:W3CDTF">2006-08-11T02:18:24Z</dcterms:modified>
  <cp:revision>66</cp:revision>
  <dc:subject/>
  <dc:title>PowerPoint Presentation</dc:title>
</cp:coreProperties>
</file>