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3BB1-D1C1-4F0F-BE81-E5083BF8F2B1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A4F5B-5D64-4BF8-B5CE-80736388F6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A16DF-2A49-4E12-A06E-0647A50E79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7405F-6B49-440F-813F-AD06770F47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48B73-C0EF-4FE2-8EAC-6DF58F6870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26685-9353-432D-825F-E55E04A157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C6C84-5AAA-4593-8250-6CC7A00A1E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2C264-6626-48E4-9841-C056C2892D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32474-650E-4A55-A9A3-D1AD98BDDA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4EC1D-C4F9-4BC7-9C52-073B8B94F8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FAB34-ADDE-49F9-8639-950D06A8E3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8B489-6260-4F87-B1EE-50E24DA25B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60B19-A013-4958-9311-1AF75F41CF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CE88C-B9F6-4CD7-A44E-8204C7FCCB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619F3-837C-4B93-AF1F-298C0A3DAC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CAF26-1784-4FFC-8477-1D52017D0C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CFC08-CD39-465C-9C04-AF31AA9D9F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2CAE3-0979-43D3-8044-074103381F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5C954-9EEE-4E9F-B936-FAAF9D7424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881B8-53A6-4DFF-910D-275B127A25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3D284-5C47-46AB-AE88-E5EDDCBC56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113B9-4765-486A-A834-5964FA69DE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0B294-0D9D-45F6-8D51-E485C774B4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89AC3-10E8-4C3C-B14D-DE803E9EF5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A98B5-1001-4ECF-85F2-98E3F80D9F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2E65-B2B1-4CE0-93DC-C20131619C66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6181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669C-DF2C-4E5B-9730-A5B6D22D14FA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724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ening, Cleaning and Blend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03280" y="443700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E1462-B871-46EF-AE39-C3022D34C35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2360" y="404640"/>
            <a:ext cx="431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mated blend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fore scou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292720" y="1143000"/>
            <a:ext cx="3251160" cy="2151000"/>
          </a:xfrm>
          <a:prstGeom prst="rect">
            <a:avLst/>
          </a:prstGeom>
          <a:ln w="28440">
            <a:solidFill>
              <a:srgbClr val="0099cc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12720" y="3733920"/>
            <a:ext cx="7920000" cy="18777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300720" y="5445000"/>
            <a:ext cx="28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ource: Andar Holdings Ltd. (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5D790-02BF-4AA3-BA7B-09428F0D38E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-7668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opener blend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5028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nding and dust removal after sco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16000" y="838080"/>
            <a:ext cx="4876920" cy="3811680"/>
          </a:xfrm>
          <a:prstGeom prst="rect">
            <a:avLst/>
          </a:prstGeom>
          <a:ln w="28440">
            <a:solidFill>
              <a:srgbClr val="0099cc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435640" y="2362320"/>
            <a:ext cx="3079800" cy="2303280"/>
          </a:xfrm>
          <a:prstGeom prst="rect">
            <a:avLst/>
          </a:prstGeom>
          <a:ln w="28440">
            <a:solidFill>
              <a:srgbClr val="99ccff"/>
            </a:solidFill>
            <a:miter/>
          </a:ln>
        </p:spPr>
      </p:pic>
      <p:sp>
        <p:nvSpPr>
          <p:cNvPr id="133" name=""/>
          <p:cNvSpPr/>
          <p:nvPr/>
        </p:nvSpPr>
        <p:spPr>
          <a:xfrm>
            <a:off x="5867280" y="4724280"/>
            <a:ext cx="28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ource: Andar Holdings Ltd. (b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16000" y="4653000"/>
            <a:ext cx="28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ource: Stewart (1988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E4778-1797-4937-B01A-59A0017EB03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0920" y="76320"/>
            <a:ext cx="6481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tch blending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1066680"/>
            <a:ext cx="5472360" cy="3889440"/>
          </a:xfrm>
          <a:prstGeom prst="rect">
            <a:avLst/>
          </a:prstGeom>
          <a:ln w="28440">
            <a:solidFill>
              <a:srgbClr val="0099cc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395280" y="518148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blending of carpet wools for woollen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27640" y="4941720"/>
            <a:ext cx="28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ource: Houget Duesberg Bos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323E3-4B55-466A-9067-386280EC699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25480" y="689040"/>
            <a:ext cx="58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n blendi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23960" y="2492280"/>
            <a:ext cx="7808760" cy="13114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971640" y="4484520"/>
            <a:ext cx="75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ous system for fine wool scou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84720" y="3860640"/>
            <a:ext cx="28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ource: Andar Holdings Ltd. (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2FD37-A829-4F99-BAE5-605F01D5DF2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116000" y="105264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 of Summary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C3896-2677-4BE4-AA18-4DF679CD738F}" type="slidenum">
              <a:t>14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-1522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sons for opening and clea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0560" y="685440"/>
            <a:ext cx="8299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nding combines diverse wool types to maintain quality and meet pric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ing enables liquor to more easily penetrate all wools; cotted wools required special 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t, dust etc. best removed when d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ing amount of dirt entering scour liquor reduces effluent disposal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ured wools opened and cleaned to improve appea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A510B-8920-4B24-A7B5-EB51E1C9A4B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569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opening proc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4572000"/>
            <a:ext cx="851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ethods of opening:  direct, interference, inh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4360" y="685800"/>
            <a:ext cx="7848360" cy="3076560"/>
          </a:xfrm>
          <a:prstGeom prst="rect">
            <a:avLst/>
          </a:prstGeom>
          <a:ln w="28440">
            <a:solidFill>
              <a:srgbClr val="0099cc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3124080" y="38098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Arial Narrow"/>
              </a:rPr>
              <a:t>DOUBLE DRUM OPE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404640"/>
            <a:ext cx="28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ource: Taylor (198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AA2C5-9A70-4AD9-B9A6-D7AEA2E044F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-76680"/>
            <a:ext cx="5761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f-cleaning scree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3640" y="4952880"/>
            <a:ext cx="856908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actable bar screens collect and remove dirt and fibre build-up from op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58920" y="609480"/>
            <a:ext cx="6624720" cy="4110120"/>
          </a:xfrm>
          <a:prstGeom prst="rect">
            <a:avLst/>
          </a:prstGeom>
          <a:ln w="28440">
            <a:solidFill>
              <a:srgbClr val="0099cc"/>
            </a:solidFill>
            <a:miter/>
          </a:ln>
        </p:spPr>
      </p:pic>
      <p:sp>
        <p:nvSpPr>
          <p:cNvPr id="103" name=""/>
          <p:cNvSpPr/>
          <p:nvPr/>
        </p:nvSpPr>
        <p:spPr>
          <a:xfrm flipV="1">
            <a:off x="2556000" y="3885840"/>
            <a:ext cx="0" cy="1066680"/>
          </a:xfrm>
          <a:prstGeom prst="line">
            <a:avLst/>
          </a:prstGeom>
          <a:ln w="7632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692360" y="3505320"/>
            <a:ext cx="0" cy="1295280"/>
          </a:xfrm>
          <a:prstGeom prst="line">
            <a:avLst/>
          </a:prstGeom>
          <a:ln w="7632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00720" y="4797360"/>
            <a:ext cx="28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ource: Andar Holdings Ltd. (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9B490-BCA9-4A56-AAAA-A1D6C750413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439092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yclic open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3640" y="4495320"/>
            <a:ext cx="82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s: versatile, card-like action, intermittent operation, 1000-2000 kg/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5280" y="1295280"/>
            <a:ext cx="8282160" cy="2827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580000" y="393372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ource: Taylor (198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4826F-CD18-46AB-8F9C-BB4F3A057C6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300996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ot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374508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heavily matted or felted fleeces, fed separ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ontrol over severity of op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s about 250 kg/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140360" y="1773360"/>
            <a:ext cx="4465440" cy="31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7DC2D-4CEC-4F69-83E4-25D02AEEBB3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-2700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ed hopper / opener combin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4149360"/>
            <a:ext cx="820908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feed hoppers operating in tandem with a double drum op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feed control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s opening and dirt removal before sc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57080" y="836640"/>
            <a:ext cx="7560000" cy="3208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300720" y="3933720"/>
            <a:ext cx="28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ource: Andar Holdings Ltd. (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95650-06B2-4339-AA1D-6856FC801EC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5021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rt Wool Process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280" y="4495680"/>
            <a:ext cx="8223480" cy="12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s and cleans short wools &lt;100mm with maximum removal of VM, dirt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ity of action controlled by cycle time (3-15 s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68360" y="762120"/>
            <a:ext cx="4289760" cy="3554280"/>
          </a:xfrm>
          <a:prstGeom prst="rect">
            <a:avLst/>
          </a:prstGeom>
          <a:ln w="28440">
            <a:solidFill>
              <a:srgbClr val="0099cc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6300720" y="4005360"/>
            <a:ext cx="28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ource: Andar Holdings Ltd. (b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F539B-CBC5-4B72-82E0-62F74CD383E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151920"/>
            <a:ext cx="5021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oured Wool Cleaner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5640" y="4800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WRONZ axial flow continuous dag crus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ols of all length processed; up to 2,500 kg/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066680"/>
            <a:ext cx="4983120" cy="3632400"/>
          </a:xfrm>
          <a:prstGeom prst="rect">
            <a:avLst/>
          </a:prstGeom>
          <a:ln w="28440">
            <a:solidFill>
              <a:srgbClr val="0099cc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6300720" y="4581360"/>
            <a:ext cx="28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ource: Andar Holdings Ltd. (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6CEFF-04DA-475A-BD40-8DA14C68BC6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2T04:57:04Z</dcterms:created>
  <dc:creator>WRONZ User</dc:creator>
  <dc:description/>
  <dc:language>en-US</dc:language>
  <cp:lastModifiedBy>Sally Mahony</cp:lastModifiedBy>
  <dcterms:modified xsi:type="dcterms:W3CDTF">2005-08-19T02:29:28Z</dcterms:modified>
  <cp:revision>7</cp:revision>
  <dc:subject/>
  <dc:title>Opening, Cleaning and Blending</dc:title>
</cp:coreProperties>
</file>