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A35F-A4F6-4226-B726-5BAF553F756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B922-7087-48D7-89F1-FF4E52A77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5773-A034-4C5F-B4C6-E944144DD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A2E2-2844-4AEF-A460-20DF6C515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73E7-DC7C-4B7F-873B-226241E66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5280-9E30-4E05-9405-A5368A272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AC00-188D-429A-AEE6-FB669AC2D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B729-68AD-45C5-A10D-CBD5FA3BA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836A-87CA-497D-9961-D4030B503D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55F6-E1DB-4861-B301-FE7341A504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F8C8-D2DC-4E5D-9EAC-2623DD340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32D1-8D6F-4E1D-B048-2143AA013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A95D-71A5-467C-82CE-53DE144CF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0AB1-0B14-4B54-BBEA-72D62E7F5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73E6-89AD-400C-939A-E325C0EA4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F682-4441-4190-9316-6FFEB4C142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8237-5FE4-4F9E-B0DD-BD31064BB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C287-4521-40B9-81F4-6FACEEDCA1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F53F-C237-49D3-90BC-FB037E9DD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0A40-871B-4F49-A0D3-658AD042D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A4DE-882F-4749-9AB9-B91FFF0B9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D16A-ED29-4959-9DC5-41E696858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0B5B-8435-4C62-A069-7CA721091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DBBE-3054-43F3-AA30-D13D76CD0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CC0C-2272-41A0-9641-C91FFAB55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73DE-4B9C-4B7A-9477-5CEC0131F95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E49D-D1DC-4984-B857-6511E857AC2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2595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Chemical Treatments in Woolsco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4724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72CD-30C3-48C2-9D1E-859DDE68CA6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chemical pract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7192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, sulphuric acid need to be treated with resp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and handle chemicals with 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rrect concen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chemicals in the recommended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tective clothing, gloves and goggles as dir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first aid and fire-fighting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location of first aid and safety equi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metering equipment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rrect testing procedures to check 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vent of a chemical accident  - WATE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4A45-26ED-443D-BC7A-50B6A9FD10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0ED1-E351-4073-A28B-21D79EA8225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onsid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517680"/>
            <a:ext cx="80755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treatments almost always involve water – energy required to d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plied in scouring, take advantage of wetting out, squeezing and dry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nts can reduce effectiveness of trea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emical treatments require high concentrations and temperatures and may be corrosive – also may be hazard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rsion time short (~ 1 minute)  and high liquor ratio – conditions may be unsui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in scour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to loose stock for blending later, continuous process, energy saving (only dry o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B1A7-DA48-491E-BA80-C0FAC28F47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e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83664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ching improves whiteness of w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carried out on loose stock, sliver, top, yarn or fab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kinds of bleaching 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agents and oxidising agents – chemically alter natural colouring in fib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orescent brightening agents – make a fibre appear white, but may revert to original colour especially when wet (not used in wool sco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4F2D-0F17-446D-83CD-7411F8ED1C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ble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741240"/>
            <a:ext cx="77724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method involves solution of sodium metabisulph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in last, scouring bowl (0.4% solution, pH 6, temperature &lt; 5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erman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over of contaminants from previous bowls can affect bleaching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 of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s may corrode plant and buildings (to avoid gas escaping, the pH must be control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424A-9BD8-4CE0-93D3-88D2915837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ation ble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27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more frequently than bisulphite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idising agent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eaching effect more permanent – colour of natural pigments rem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wools do not bleach well unless treatment is severe (but may damage fibr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oxide bleaching usually carried out under acid conditions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l feels the same or even sof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l dyes better because acid dyeing is normal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A98E-62FB-4DA9-A789-95C2E37E5B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oxide bleaching in scour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596520"/>
            <a:ext cx="799956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cours for ~30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carried out in last bowl before dr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dding or ‘dry-in’ process – no colour change in bowl, but wool colour improves in dr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ur improvement: wool becomes lighter (Increased Y) and less yellow (reduced Y-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 charged with dilute solution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– strength 0.55 – 1.1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 depends on wool type, level of bleaching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kept acidic (pH 4-6) with formic 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xide concentration monitored by ti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7B70-0F37-45B1-95C1-1CDEC43516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ect-resist treat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79153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to provide protection to wool against moths and beet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protection depends on product and where it will b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s involve agents that are fixed permanently to the wool (resist washing, dry cleaning, ligh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ypes of agents are available, especial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tic pyrethroids such as ‘Permethri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ct growth regulators (IG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 liquid form in final rinse bowl or specialised treatment bowl, usually under acid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depends on agent, level of trea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77BF-9633-4422-A1B0-AFB78444FB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27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601200"/>
            <a:ext cx="867564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a 0 –14 scale indicating the acidity or alkalinity of a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: 0-1 = strongly acidic; 5-6 = weakly acidic; 7 = neutral; 8-9 = weakly alkaline; 13-14 = strongly alka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asured by immersing wool sample in water for a period, then test solution for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no wools tend to be neutral or slightly acidic; crossbred wools are slightly alka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lightly acid pH helps in dye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by metering a weak acid such as acetic or formic into the last rinse bow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D9A4-E1A2-471E-8B62-C5AF89354F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1840" y="115920"/>
            <a:ext cx="89298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chemical treatments in the sco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lame-resist using borax, boric acid or phosphoric 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dour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tiphotobleaching using Lanalbin AP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ifferentiated fibre technologies from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anesi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Glaci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 whiter, brighter cleaner w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rike!: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rapid wettability and dye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uror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 for differential dy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ERNplus EP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 lustr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2312-316F-47E2-B2B7-36DD7A44C1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8-19T02:53:32Z</dcterms:modified>
  <cp:revision>63</cp:revision>
  <dc:subject/>
  <dc:title>PowerPoint Presentation</dc:title>
</cp:coreProperties>
</file>