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F7CD-FDCC-4993-8107-6F15D0F552C9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B590-9734-4B99-8394-FAA76E153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1653-B08F-4FA4-B330-49A49C817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00BC-01ED-43A7-90A1-4DBC3466A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B075-3431-4891-B48D-57EF5485F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1A85-AB37-4138-9606-C72C464281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D89A-B704-402C-9E03-B0A512F576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D7DA2-3E49-4D7A-8AEB-DFCEDB56E2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075D-E5F3-4F0D-A488-9EF634CE1E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246F4-99B6-4AB5-92CB-4DA9B79977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FDF52-C430-44CC-AA6A-813E3C67DC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E7778-5FF7-4164-B0B1-70B235EFFF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C3DC-3D2E-4AA7-9549-65158E1A3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8CF8-577D-4CB2-945B-680A44016B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D5BE6-6B79-45BD-8959-302DD3705D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F0C1-7244-4292-9F3C-4F1B06C1A0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838D-046B-49A6-A1FD-687B29CF9C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F5ACE-AECA-4342-AA15-3CEB0FA62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9CF2-528F-4841-B44B-536BC6E67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06C2-BFB0-47EB-83EF-DA54126DE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151E-FE45-499C-A3F6-5B5645464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F06D-E11F-4175-80F0-878E27ADC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728E-0A69-42D3-90FE-AE524B453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B240-157C-498A-8E7A-2DAE6650C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988B-D825-4BDC-82FA-3AFBCDC67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F765-E0F4-41BB-8CD5-04C54DF06D4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618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7F3C-2E2C-4220-A449-88772B10460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7240" y="62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oured Wool Quality and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46530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AF41-093A-493F-9E27-6044FB4EDDB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8680" y="43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 process control with NI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765000"/>
          <a:ext cx="764856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5000"/>
                    <a:ext cx="764856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1060-A0AB-4B0D-B4D5-604AE6A4E6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8680" y="-27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s and cons of NIRA in scou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809280"/>
            <a:ext cx="87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s well in challenging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produced rapidly on every bal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ve action to scouring conditions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quicker than test house services, which provide only average of entire consignment (after a day or tw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and precision levels generally compare well with test hous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ment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ion an exacting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can’t be certificated yet (not IWTO te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BC8D-2A17-4698-8973-FD21619C621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5080-7356-4D9E-BA89-CDA968933B90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ed testing of scoured w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675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representatives sample (core and full length) are taken in the scour using prescribe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d according to IWTO standards by test house for contractual (ie, trading) purpo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5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ield (especially residual grease cont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5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5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meter (identical to greasy wool test met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5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After Car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5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isture content (reg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BF90-0626-4C19-AE4C-CE000E73911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ing in the scou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57200" y="1052640"/>
            <a:ext cx="8229600" cy="4437720"/>
            <a:chOff x="457200" y="1052640"/>
            <a:chExt cx="8229600" cy="4437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4419720" y="1052640"/>
              <a:ext cx="4039920" cy="2716200"/>
            </a:xfrm>
            <a:prstGeom prst="rect">
              <a:avLst/>
            </a:prstGeom>
            <a:ln w="38160">
              <a:solidFill>
                <a:srgbClr val="003366"/>
              </a:solidFill>
              <a:miter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669960" y="3181320"/>
              <a:ext cx="2822400" cy="2222640"/>
            </a:xfrm>
            <a:prstGeom prst="rect">
              <a:avLst/>
            </a:prstGeom>
            <a:ln w="38160">
              <a:solidFill>
                <a:srgbClr val="003366"/>
              </a:solidFill>
              <a:miter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429912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 Narrow"/>
                </a:rPr>
                <a:t>Spear-head sampling probe to extract full-length sample for Length After Carding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1586160"/>
              <a:ext cx="350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 Narrow"/>
                </a:rPr>
                <a:t>Core sampling machine for dense b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5480" y="2271960"/>
              <a:ext cx="13716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708360" y="5054760"/>
              <a:ext cx="10080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84360" y="5445000"/>
            <a:ext cx="38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New Zealand Wool Services International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F103-12EF-41AC-87A1-0130BF0CB4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454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ing in the scou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820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scour testing carried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quality control purpo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intain consistent scouring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generally as for sample for test house, but hand samples may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 range of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ain (Weigh/Dry/Weigh or NI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 grease content (Rapid grease test or NI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-is colour (colorimeter or NI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9810-613F-49CD-AC8A-42A85885594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996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ield of scoured w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9075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uring removes most contaminants so yield results close to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ype of wool some contaminants re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0.5% residual g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1.5% mineral matter (di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 post-scour improves colour and reduces dust level of w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TO yield test also gives VM, residual grease (alcohol solvent) and ash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TO residual grease test uses dichloromethane (DCM) as the sol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D1EF-10D3-4C99-A39F-2DADA9D2362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7000" y="-171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ngth after Carding (LAC) Te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286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Z Standard test for scoured wool con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full length sample taken in scour by special sampling probe prior to dense b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(~ 1kg) forwarded to test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simulates actual processing, step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ding to open clumps of wool, blend f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lling to align fibres, form s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eter system: samples and measures f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 results relevant to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66F8-42EA-47C4-8F7E-242A9FA37F6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Colour of scoured w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320" y="475920"/>
            <a:ext cx="7149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se colour of wool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WTO test carried out by a test house on a thoroughly cleaned sample to give X, Y and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is test gives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bes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colour than can be achieved with a wool (an ‘ideal’ resu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s-is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-plant test on sample of scoured wool  after drying (without additional clea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variably the as-is colour results are poorer than base colour (presence of contamin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ifference in colour (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Delta Y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 is an indicator of scouring quality (the smaller the bet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29400" y="907920"/>
            <a:ext cx="1219320" cy="1600200"/>
          </a:xfrm>
          <a:prstGeom prst="rect">
            <a:avLst/>
          </a:prstGeom>
          <a:solidFill>
            <a:srgbClr val="f5f5ea"/>
          </a:solidFill>
          <a:ln w="3816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01040" y="3573360"/>
            <a:ext cx="1218960" cy="1600200"/>
          </a:xfrm>
          <a:prstGeom prst="rect">
            <a:avLst/>
          </a:prstGeom>
          <a:solidFill>
            <a:srgbClr val="eeeec5"/>
          </a:solidFill>
          <a:ln w="3816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07E1-A907-4F7A-A0AD-B85654515B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ar Infrared Reflectance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7775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RA is now a widely used measurement technology in NZ wool s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estimates of the following scoured wool quality parameters on every bale as it is produ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istur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 greas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-is 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fibre diameter and medullation content (if requi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BEDC-8C21-4C43-91C7-F9B883CE3C5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ear Infrare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5685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rared region of the electromagnetic radiation spectrum is just beyond the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red energy is emitted by hot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red energy is absorbed by molecules which vibrate at specific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pecific absorption enables NIRA techniques to be used to identify and measure the presence of particular substances in materials (eg water, grease in w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F846-3EB7-4AEB-8DC5-305D3FECAC7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rroberts</cp:lastModifiedBy>
  <dcterms:modified xsi:type="dcterms:W3CDTF">2006-08-11T02:18:33Z</dcterms:modified>
  <cp:revision>66</cp:revision>
  <dc:subject/>
  <dc:title>PowerPoint Presentation</dc:title>
</cp:coreProperties>
</file>