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BDB6-ED3B-462D-87F8-DCF2F65AE772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563A-7154-4E39-80FB-130894457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9570-2BE2-4962-BA63-776A8929B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0EF9-0DCF-4109-8AC9-BDD941F2C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39FF-4DCA-4D49-8E8D-C67C05715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C3C0-9E29-44AD-A49C-DD3A4FA179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AB0D2-37E5-4600-B432-62F86599CE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4DF0E-16DA-4CD9-BBE8-CDE22EC983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3D76-F674-4DC6-ACE7-459A9EDDAF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9D76-457C-4AA7-B959-19B7DFBAD0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17AB-5DB2-4233-98D5-E72807B845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427B1-2D3B-4F6E-A840-0BB3168CA4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9845-CDAB-4B0B-8F26-301D6E6F8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CB81-158B-43D7-A5EB-7CA6BB39CA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816D-B92A-4387-A6F1-8EC3347514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6EA2-1DB1-4682-8F68-5C55DCD040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D260A-6D37-43D1-97B5-59AAF14B6E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D4DE7-B085-49D3-83A0-080A47E671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35A2-E5A7-4622-B60F-E6057A6F8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DAC6-2764-427C-B203-FB8B9D0E5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78E9-7886-4E5F-AF49-882C1E4C2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D165-6536-4F75-AF03-DC07EA323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28C2-CD4E-422B-B984-EFD0F01F7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B42D-7FE0-4119-BFE4-C0D662CB9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9298-24F7-419F-8974-40790A2B3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AFD7-8811-414C-9588-943210EE49B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618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A8EC-0F3A-442A-86C2-E2B3863F686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76360" y="4652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536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queous Wool Scour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&amp; Deterg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34AEC-604D-4B31-8D92-3C5EF8305A5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Separation of grease dropl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43120" y="609480"/>
            <a:ext cx="792000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5ED5-B663-4B24-A787-E4F97E48C8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Particles of dirt are removed b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640" y="2133360"/>
            <a:ext cx="5021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gitation of the liqu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ashing away with the grease dro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utual repulsion between fibre and d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923080" y="2187720"/>
            <a:ext cx="2728800" cy="19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9780-A954-4CB0-88ED-A781B887426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-766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tability of the emul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0920" y="2349360"/>
            <a:ext cx="7770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f the detergent falls below a minimum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amount of woolgrease removed dro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roplets of emulsified grease my re-deposit on the f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Grease droplets may combine to form large m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is will break down the emulsion and form a layer of grease on the surface of the liqu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907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mulsion stability is maintained by having sufficient detergent present in the liquor to surround the surfaces of all fi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4DDA-CD7F-4E8A-8B6E-D5BD9C1188D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ynthetic scouring deterg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3276360"/>
            <a:ext cx="821844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ynthetic non-ionic detergents of alkylphenol / ethylene oxide type mostly used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ater seeking head made up of ethylene oxide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ze and number of hydrocarbon units in tail determines how well it seeks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sually 8-10 EO units make good scouring deter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619280" y="609480"/>
            <a:ext cx="6075360" cy="2667240"/>
            <a:chOff x="1619280" y="609480"/>
            <a:chExt cx="6075360" cy="2667240"/>
          </a:xfrm>
        </p:grpSpPr>
        <p:sp>
          <p:nvSpPr>
            <p:cNvPr id="224" name=""/>
            <p:cNvSpPr/>
            <p:nvPr/>
          </p:nvSpPr>
          <p:spPr>
            <a:xfrm>
              <a:off x="4591080" y="1320840"/>
              <a:ext cx="31035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99cc"/>
                  </a:solidFill>
                  <a:latin typeface="Arial"/>
                </a:rPr>
                <a:t>O – ( CH</a:t>
              </a:r>
              <a:r>
                <a:rPr b="0" lang="en-US" sz="1800" spc="-1" strike="noStrike" baseline="-25000">
                  <a:solidFill>
                    <a:srgbClr val="0099cc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99cc"/>
                  </a:solidFill>
                  <a:latin typeface="Arial"/>
                </a:rPr>
                <a:t> – CH</a:t>
              </a:r>
              <a:r>
                <a:rPr b="0" lang="en-US" sz="1800" spc="-1" strike="noStrike" baseline="-25000">
                  <a:solidFill>
                    <a:srgbClr val="0099cc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99cc"/>
                  </a:solidFill>
                  <a:latin typeface="Arial"/>
                </a:rPr>
                <a:t> – O)</a:t>
              </a:r>
              <a:r>
                <a:rPr b="0" lang="en-US" sz="1800" spc="-1" strike="noStrike" baseline="-25000">
                  <a:solidFill>
                    <a:srgbClr val="0099cc"/>
                  </a:solidFill>
                  <a:latin typeface="Arial"/>
                </a:rPr>
                <a:t>n</a:t>
              </a:r>
              <a:r>
                <a:rPr b="0" lang="en-US" sz="1800" spc="-1" strike="noStrike">
                  <a:solidFill>
                    <a:srgbClr val="0099cc"/>
                  </a:solidFill>
                  <a:latin typeface="Arial"/>
                </a:rPr>
                <a:t> 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619280" y="609480"/>
              <a:ext cx="5715000" cy="2667240"/>
              <a:chOff x="1619280" y="609480"/>
              <a:chExt cx="5715000" cy="2667240"/>
            </a:xfrm>
          </p:grpSpPr>
          <p:sp>
            <p:nvSpPr>
              <p:cNvPr id="226" name=""/>
              <p:cNvSpPr/>
              <p:nvPr/>
            </p:nvSpPr>
            <p:spPr>
              <a:xfrm>
                <a:off x="3576960" y="1143000"/>
                <a:ext cx="50292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079880" y="1143000"/>
                <a:ext cx="252720" cy="380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4079880" y="1523880"/>
                <a:ext cx="252720" cy="381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324240" y="1143000"/>
                <a:ext cx="252720" cy="3808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24240" y="1523880"/>
                <a:ext cx="252720" cy="381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576960" y="1905120"/>
                <a:ext cx="5029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46600" y="1523880"/>
                <a:ext cx="3776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332600" y="1523880"/>
                <a:ext cx="2523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80200" y="609480"/>
                <a:ext cx="0" cy="1778040"/>
              </a:xfrm>
              <a:prstGeom prst="line">
                <a:avLst/>
              </a:prstGeom>
              <a:ln w="9360">
                <a:solidFill>
                  <a:srgbClr val="f0efe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71920" y="1295280"/>
                <a:ext cx="117468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r>
                  <a:rPr b="0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9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H</a:t>
                </a:r>
                <a:r>
                  <a:rPr b="0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619280" y="1905120"/>
                <a:ext cx="177192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66"/>
                    </a:solidFill>
                    <a:latin typeface="Arial Narrow"/>
                  </a:rPr>
                  <a:t>nonyl grou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Arial Narrow"/>
                  </a:rPr>
                  <a:t>The ‘tail’ or oil-seeking end of the detergent molecu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24240" y="2031840"/>
                <a:ext cx="1008360" cy="63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 Narrow"/>
                  </a:rPr>
                  <a:t>phenol grou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37320" y="1905120"/>
                <a:ext cx="249696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99cc"/>
                    </a:solidFill>
                    <a:latin typeface="Arial Narrow"/>
                  </a:rPr>
                  <a:t>poly(ethylene oxide) grou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99cc"/>
                    </a:solidFill>
                    <a:latin typeface="Arial Narrow"/>
                  </a:rPr>
                  <a:t>(The ‘head’ or water-seeking end of the molecule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63E0-680E-4C6B-B698-091E4D69A4B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387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gent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000" y="914040"/>
            <a:ext cx="82947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detergent required depends on wool type (e.g. fleece wool versus dag bl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 detergent does not give better scouring, also leaves deposit on fi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check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gent added to bowls regul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gent tank doesn’t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cocks on pump are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mechanism is un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motor in good work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034A-1402-4801-B0A5-AD70B287714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0920" y="76320"/>
            <a:ext cx="408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ised gre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1143000"/>
            <a:ext cx="815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l grease is of two types – unoxidised and oxid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wool growth grease near tip of fibres becomes chemically degraded (oxidi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grease on fibres at base of staple is unoxid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ised grease is harder to re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al grease left on fibre after scouring is mostly oxidised g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3713-B124-4DAC-A59B-DCF906AE06B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3944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ing di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837720"/>
            <a:ext cx="82234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 harder to remove than woolg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vigorous mechanical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eezing important – pressure sufficient to en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dirt and grease remov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dirty liquor carried to next b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irt and impurities removed in first b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last bowl, virtually all impurities removed except for 0.1 – 0.4% g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t on scoured wool causes problem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0EB6-9EBF-4393-A6E9-783EFE6FAB6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1360" y="189000"/>
            <a:ext cx="8001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anglement and fe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uring provides right conditions for entanglement and felting to occur: (1) differential frictional effect, (2) moisture, (3) agi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632720" cy="378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2EB9-5D93-415F-B55E-CB7A387D639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763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ueezing effici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9280" y="1066680"/>
            <a:ext cx="837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important after first scouring b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fter final rinse bowl for efficient d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eeze roller efficiency determines amount of liquor (regain) on wool before d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controlling squeezing effici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er lapping in poor state (needs replacing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ueeze pressure too 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ol feed un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ers bowing under excess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B87A-5EAA-4F5A-9874-C8433830B0C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380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ller lap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31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lapping combinations affect amount of liquor squeezed out (hence dirt/grease remo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life varies with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not contaminate wool with loose fi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cost important, including amount of subsequent wool drying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important to avoid costly stop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ous 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ary in cost and durabilit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ol top over base rope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lon tow over wool top and base 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ol/nylon or nylon 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AC3D-FA52-44E8-8B6F-3718D997D99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xing and separating of liqui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640" y="1587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l and water do not m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king them forms an emulsion (this may be unstable, liquids will eventually sepa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ss dense liquid (oil) rises to the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295280" y="3657600"/>
            <a:ext cx="7086600" cy="1980720"/>
            <a:chOff x="1295280" y="3657600"/>
            <a:chExt cx="7086600" cy="1980720"/>
          </a:xfrm>
        </p:grpSpPr>
        <p:sp>
          <p:nvSpPr>
            <p:cNvPr id="96" name=""/>
            <p:cNvSpPr/>
            <p:nvPr/>
          </p:nvSpPr>
          <p:spPr>
            <a:xfrm>
              <a:off x="3429000" y="3809880"/>
              <a:ext cx="2438280" cy="18284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3816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9000" y="3733560"/>
              <a:ext cx="2438280" cy="761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480" y="44956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49528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40384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95280" y="419076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3080" y="365760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Less dense liquid (oi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53080" y="464796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cc"/>
                  </a:solidFill>
                  <a:latin typeface="Arial Narrow"/>
                </a:rPr>
                <a:t>Denser liquid (wat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6A2C-CF16-43BE-B560-08CF1B5DA4E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57FD-CC40-40CF-922B-4EDE6A950AF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Nature of the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67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boundary between the two liquids or around droplets of liquids is called th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f the tension at the interface is low, the liquids mix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f the tension at the interface is high the liquids will not mix – they remain sepa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 wool scouring a soap or detergent is used to wet the fibre, detach the grease and create interfacial tension around droplets of grease (so the grease is not redeposited on the fib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5ADE-14F1-4EA2-8CE8-9C9C6D7BB12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Nature of a deterg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848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tergents are cleansing agents containing surface acting agents (or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urfactant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surfactant can alter the interfacial tension between water and other liquids or so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surfac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preads water over the complete surface of the fib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oosens and removes grease and dir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uspends the molecules of grease and dirt in globules so they can be rinsed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1D94-F7E6-4E33-B8BE-0CFE6A5222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tructure of surfactant molec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360" y="2286000"/>
            <a:ext cx="79916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urfactant molecules are like tadpoles (head and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long tail is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hydrophobic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(an affinity for oil and grease, and repels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compact ‘head’ is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hydrophilic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(an affinity for water and repelled by oil and grea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447920" y="1022400"/>
            <a:ext cx="6858000" cy="1191240"/>
            <a:chOff x="1447920" y="1022400"/>
            <a:chExt cx="6858000" cy="1191240"/>
          </a:xfrm>
        </p:grpSpPr>
        <p:grpSp>
          <p:nvGrpSpPr>
            <p:cNvPr id="111" name=""/>
            <p:cNvGrpSpPr/>
            <p:nvPr/>
          </p:nvGrpSpPr>
          <p:grpSpPr>
            <a:xfrm>
              <a:off x="2666880" y="1403280"/>
              <a:ext cx="4191120" cy="609480"/>
              <a:chOff x="2666880" y="1403280"/>
              <a:chExt cx="4191120" cy="609480"/>
            </a:xfrm>
          </p:grpSpPr>
          <p:sp>
            <p:nvSpPr>
              <p:cNvPr id="112" name=""/>
              <p:cNvSpPr/>
              <p:nvPr/>
            </p:nvSpPr>
            <p:spPr>
              <a:xfrm>
                <a:off x="2666880" y="1631880"/>
                <a:ext cx="3124080" cy="1522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90960" y="1403280"/>
                <a:ext cx="1067040" cy="6094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7086600" y="10224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 Narrow"/>
                </a:rPr>
                <a:t>Water-seeking 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47920" y="102240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 Narrow"/>
                </a:rPr>
                <a:t>Grease-seeking t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EA75-C69B-4C19-8DB7-382336FB69B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Types of surfactants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3657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ATIONIC:  head carries a positiv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94920" y="1294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IONIC:  surfactant carries a negative charge, concentrated in its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07960" y="2209680"/>
            <a:ext cx="6477120" cy="1201680"/>
            <a:chOff x="1407960" y="2209680"/>
            <a:chExt cx="6477120" cy="1201680"/>
          </a:xfrm>
        </p:grpSpPr>
        <p:grpSp>
          <p:nvGrpSpPr>
            <p:cNvPr id="120" name=""/>
            <p:cNvGrpSpPr/>
            <p:nvPr/>
          </p:nvGrpSpPr>
          <p:grpSpPr>
            <a:xfrm>
              <a:off x="1407960" y="2491920"/>
              <a:ext cx="4266720" cy="212040"/>
              <a:chOff x="1407960" y="2491920"/>
              <a:chExt cx="4266720" cy="21204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1407960" y="2491920"/>
                <a:ext cx="1066320" cy="212040"/>
                <a:chOff x="1407960" y="2491920"/>
                <a:chExt cx="1066320" cy="212040"/>
              </a:xfrm>
            </p:grpSpPr>
            <p:sp>
              <p:nvSpPr>
                <p:cNvPr id="122" name=""/>
                <p:cNvSpPr/>
                <p:nvPr/>
              </p:nvSpPr>
              <p:spPr>
                <a:xfrm flipV="1">
                  <a:off x="1407960" y="2491920"/>
                  <a:ext cx="533520" cy="2120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 flipV="1">
                  <a:off x="1941120" y="2491920"/>
                  <a:ext cx="533160" cy="2120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474640" y="2491920"/>
                <a:ext cx="1066320" cy="212040"/>
                <a:chOff x="2474640" y="2491920"/>
                <a:chExt cx="1066320" cy="212040"/>
              </a:xfrm>
            </p:grpSpPr>
            <p:sp>
              <p:nvSpPr>
                <p:cNvPr id="125" name=""/>
                <p:cNvSpPr/>
                <p:nvPr/>
              </p:nvSpPr>
              <p:spPr>
                <a:xfrm flipV="1">
                  <a:off x="2474640" y="2491920"/>
                  <a:ext cx="533520" cy="2120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 flipV="1">
                  <a:off x="3007800" y="2491920"/>
                  <a:ext cx="533160" cy="2120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541680" y="2491920"/>
                <a:ext cx="1066320" cy="212040"/>
                <a:chOff x="3541680" y="2491920"/>
                <a:chExt cx="1066320" cy="212040"/>
              </a:xfrm>
            </p:grpSpPr>
            <p:sp>
              <p:nvSpPr>
                <p:cNvPr id="128" name=""/>
                <p:cNvSpPr/>
                <p:nvPr/>
              </p:nvSpPr>
              <p:spPr>
                <a:xfrm flipV="1">
                  <a:off x="3541680" y="2491920"/>
                  <a:ext cx="533520" cy="2120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 flipV="1">
                  <a:off x="4074840" y="2491920"/>
                  <a:ext cx="533160" cy="2120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608360" y="2491920"/>
                <a:ext cx="1066320" cy="212040"/>
                <a:chOff x="4608360" y="2491920"/>
                <a:chExt cx="1066320" cy="21204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4608360" y="2491920"/>
                  <a:ext cx="533520" cy="2120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 flipV="1">
                  <a:off x="5141520" y="2491920"/>
                  <a:ext cx="533160" cy="2120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5675400" y="2421720"/>
              <a:ext cx="609480" cy="565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75400" y="22096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600" spc="-1" strike="noStrike">
                  <a:solidFill>
                    <a:srgbClr val="5490a8"/>
                  </a:solidFill>
                  <a:latin typeface="Arial Narrow"/>
                </a:rPr>
                <a:t>_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65760" y="2209680"/>
              <a:ext cx="1219320" cy="12016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65760" y="24922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600" spc="-1" strike="noStrike">
                  <a:solidFill>
                    <a:srgbClr val="5490a8"/>
                  </a:solidFill>
                  <a:latin typeface="Arial Narrow"/>
                </a:rPr>
                <a:t>Na</a:t>
              </a:r>
              <a:r>
                <a:rPr b="1" lang="en-NZ" sz="3600" spc="-1" strike="noStrike" baseline="30000">
                  <a:solidFill>
                    <a:srgbClr val="5490a8"/>
                  </a:solidFill>
                  <a:latin typeface="Arial Narrow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476360" y="4343400"/>
            <a:ext cx="6477120" cy="1220760"/>
            <a:chOff x="1476360" y="4343400"/>
            <a:chExt cx="6477120" cy="1220760"/>
          </a:xfrm>
        </p:grpSpPr>
        <p:grpSp>
          <p:nvGrpSpPr>
            <p:cNvPr id="138" name=""/>
            <p:cNvGrpSpPr/>
            <p:nvPr/>
          </p:nvGrpSpPr>
          <p:grpSpPr>
            <a:xfrm>
              <a:off x="1476360" y="4647960"/>
              <a:ext cx="4266720" cy="228600"/>
              <a:chOff x="1476360" y="4647960"/>
              <a:chExt cx="4266720" cy="22860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1476360" y="4647960"/>
                <a:ext cx="1066320" cy="228600"/>
                <a:chOff x="1476360" y="4647960"/>
                <a:chExt cx="1066320" cy="228600"/>
              </a:xfrm>
            </p:grpSpPr>
            <p:sp>
              <p:nvSpPr>
                <p:cNvPr id="140" name=""/>
                <p:cNvSpPr/>
                <p:nvPr/>
              </p:nvSpPr>
              <p:spPr>
                <a:xfrm flipV="1">
                  <a:off x="1476360" y="4647960"/>
                  <a:ext cx="533520" cy="228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flipV="1">
                  <a:off x="2009520" y="4647960"/>
                  <a:ext cx="533160" cy="228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543040" y="4647960"/>
                <a:ext cx="1066320" cy="228600"/>
                <a:chOff x="2543040" y="4647960"/>
                <a:chExt cx="1066320" cy="228600"/>
              </a:xfrm>
            </p:grpSpPr>
            <p:sp>
              <p:nvSpPr>
                <p:cNvPr id="143" name=""/>
                <p:cNvSpPr/>
                <p:nvPr/>
              </p:nvSpPr>
              <p:spPr>
                <a:xfrm flipV="1">
                  <a:off x="2543040" y="4647960"/>
                  <a:ext cx="533520" cy="228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 flipV="1">
                  <a:off x="3076200" y="4647960"/>
                  <a:ext cx="533160" cy="228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610080" y="4647960"/>
                <a:ext cx="1066320" cy="228600"/>
                <a:chOff x="3610080" y="4647960"/>
                <a:chExt cx="1066320" cy="228600"/>
              </a:xfrm>
            </p:grpSpPr>
            <p:sp>
              <p:nvSpPr>
                <p:cNvPr id="146" name=""/>
                <p:cNvSpPr/>
                <p:nvPr/>
              </p:nvSpPr>
              <p:spPr>
                <a:xfrm flipV="1">
                  <a:off x="3610080" y="4647960"/>
                  <a:ext cx="533520" cy="228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4143240" y="4647960"/>
                  <a:ext cx="533160" cy="228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676760" y="4647960"/>
                <a:ext cx="1066320" cy="228600"/>
                <a:chOff x="4676760" y="4647960"/>
                <a:chExt cx="1066320" cy="228600"/>
              </a:xfrm>
            </p:grpSpPr>
            <p:sp>
              <p:nvSpPr>
                <p:cNvPr id="149" name=""/>
                <p:cNvSpPr/>
                <p:nvPr/>
              </p:nvSpPr>
              <p:spPr>
                <a:xfrm flipV="1">
                  <a:off x="4676760" y="4647960"/>
                  <a:ext cx="533520" cy="228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5209920" y="4647960"/>
                  <a:ext cx="533160" cy="2286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>
              <a:off x="5743440" y="4572000"/>
              <a:ext cx="60984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3440" y="45403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600" spc="-1" strike="noStrike">
                  <a:solidFill>
                    <a:srgbClr val="5490a8"/>
                  </a:solidFill>
                  <a:latin typeface="Arial Narrow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34160" y="4343400"/>
              <a:ext cx="1219320" cy="12207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4160" y="46483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600" spc="-1" strike="noStrike">
                  <a:solidFill>
                    <a:srgbClr val="5490a8"/>
                  </a:solidFill>
                  <a:latin typeface="Arial Narrow"/>
                </a:rPr>
                <a:t>Cl</a:t>
              </a:r>
              <a:r>
                <a:rPr b="1" lang="en-NZ" sz="3600" spc="-1" strike="noStrike" baseline="30000">
                  <a:solidFill>
                    <a:srgbClr val="5490a8"/>
                  </a:solidFill>
                  <a:latin typeface="Arial Narrow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406B-0C90-4D2C-8D5E-495647853EB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Types of surfactant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3499920"/>
            <a:ext cx="784872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MPHOTERIC: molecules carries positive and negative charge (may be anion or cation depending on pH of s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26560" y="12189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ON-IONIC:  molecule not charged, but hydrophilic group (polyethylene oxide) usually at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332000" y="2492280"/>
            <a:ext cx="6705000" cy="533520"/>
            <a:chOff x="1332000" y="2492280"/>
            <a:chExt cx="6705000" cy="533520"/>
          </a:xfrm>
        </p:grpSpPr>
        <p:grpSp>
          <p:nvGrpSpPr>
            <p:cNvPr id="159" name=""/>
            <p:cNvGrpSpPr/>
            <p:nvPr/>
          </p:nvGrpSpPr>
          <p:grpSpPr>
            <a:xfrm>
              <a:off x="2398320" y="2796840"/>
              <a:ext cx="1066320" cy="228600"/>
              <a:chOff x="2398320" y="2796840"/>
              <a:chExt cx="1066320" cy="2286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98320" y="2796840"/>
                <a:ext cx="53352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2931480" y="2796840"/>
                <a:ext cx="53316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3465360" y="2796840"/>
              <a:ext cx="1065960" cy="228600"/>
              <a:chOff x="3465360" y="2796840"/>
              <a:chExt cx="1065960" cy="228600"/>
            </a:xfrm>
          </p:grpSpPr>
          <p:sp>
            <p:nvSpPr>
              <p:cNvPr id="163" name=""/>
              <p:cNvSpPr/>
              <p:nvPr/>
            </p:nvSpPr>
            <p:spPr>
              <a:xfrm flipV="1">
                <a:off x="3465360" y="2796840"/>
                <a:ext cx="53316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3998520" y="2796840"/>
                <a:ext cx="53280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532040" y="2796840"/>
              <a:ext cx="1065960" cy="228600"/>
              <a:chOff x="4532040" y="2796840"/>
              <a:chExt cx="1065960" cy="228600"/>
            </a:xfrm>
          </p:grpSpPr>
          <p:sp>
            <p:nvSpPr>
              <p:cNvPr id="166" name=""/>
              <p:cNvSpPr/>
              <p:nvPr/>
            </p:nvSpPr>
            <p:spPr>
              <a:xfrm flipV="1">
                <a:off x="4532040" y="2796840"/>
                <a:ext cx="53316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5065200" y="2796840"/>
                <a:ext cx="53280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332000" y="2796840"/>
              <a:ext cx="1065960" cy="228600"/>
              <a:chOff x="1332000" y="2796840"/>
              <a:chExt cx="1065960" cy="228600"/>
            </a:xfrm>
          </p:grpSpPr>
          <p:sp>
            <p:nvSpPr>
              <p:cNvPr id="169" name=""/>
              <p:cNvSpPr/>
              <p:nvPr/>
            </p:nvSpPr>
            <p:spPr>
              <a:xfrm flipV="1">
                <a:off x="1332000" y="2796840"/>
                <a:ext cx="53316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1865160" y="2796840"/>
                <a:ext cx="53280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5598720" y="2796840"/>
              <a:ext cx="1066320" cy="228600"/>
              <a:chOff x="5598720" y="2796840"/>
              <a:chExt cx="1066320" cy="228600"/>
            </a:xfrm>
          </p:grpSpPr>
          <p:sp>
            <p:nvSpPr>
              <p:cNvPr id="172" name=""/>
              <p:cNvSpPr/>
              <p:nvPr/>
            </p:nvSpPr>
            <p:spPr>
              <a:xfrm flipV="1">
                <a:off x="5598720" y="2796840"/>
                <a:ext cx="53352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131880" y="2796840"/>
                <a:ext cx="53316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665760" y="2796840"/>
              <a:ext cx="1065960" cy="228600"/>
              <a:chOff x="6665760" y="2796840"/>
              <a:chExt cx="1065960" cy="228600"/>
            </a:xfrm>
          </p:grpSpPr>
          <p:sp>
            <p:nvSpPr>
              <p:cNvPr id="175" name=""/>
              <p:cNvSpPr/>
              <p:nvPr/>
            </p:nvSpPr>
            <p:spPr>
              <a:xfrm flipV="1">
                <a:off x="6665760" y="2796840"/>
                <a:ext cx="53316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7198920" y="2796840"/>
                <a:ext cx="53280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370120" y="2492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37160" y="2492280"/>
              <a:ext cx="53280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03840" y="2492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908000" y="4869000"/>
            <a:ext cx="5562720" cy="642600"/>
            <a:chOff x="1908000" y="4869000"/>
            <a:chExt cx="5562720" cy="642600"/>
          </a:xfrm>
        </p:grpSpPr>
        <p:grpSp>
          <p:nvGrpSpPr>
            <p:cNvPr id="181" name=""/>
            <p:cNvGrpSpPr/>
            <p:nvPr/>
          </p:nvGrpSpPr>
          <p:grpSpPr>
            <a:xfrm>
              <a:off x="2974680" y="5173560"/>
              <a:ext cx="1066320" cy="228240"/>
              <a:chOff x="2974680" y="5173560"/>
              <a:chExt cx="1066320" cy="228240"/>
            </a:xfrm>
          </p:grpSpPr>
          <p:sp>
            <p:nvSpPr>
              <p:cNvPr id="182" name=""/>
              <p:cNvSpPr/>
              <p:nvPr/>
            </p:nvSpPr>
            <p:spPr>
              <a:xfrm flipV="1">
                <a:off x="2974680" y="5173560"/>
                <a:ext cx="533520" cy="228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3507840" y="5173560"/>
                <a:ext cx="533160" cy="228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41720" y="5173560"/>
              <a:ext cx="1066320" cy="228240"/>
              <a:chOff x="4041720" y="5173560"/>
              <a:chExt cx="1066320" cy="22824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4041720" y="5173560"/>
                <a:ext cx="533520" cy="228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4574880" y="5173560"/>
                <a:ext cx="533160" cy="228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108400" y="5173560"/>
              <a:ext cx="1066320" cy="228240"/>
              <a:chOff x="5108400" y="5173560"/>
              <a:chExt cx="1066320" cy="22824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5108400" y="5173560"/>
                <a:ext cx="533520" cy="228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5641560" y="5173560"/>
                <a:ext cx="533160" cy="228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1908000" y="5173560"/>
              <a:ext cx="1066320" cy="228240"/>
              <a:chOff x="1908000" y="5173560"/>
              <a:chExt cx="1066320" cy="228240"/>
            </a:xfrm>
          </p:grpSpPr>
          <p:sp>
            <p:nvSpPr>
              <p:cNvPr id="191" name=""/>
              <p:cNvSpPr/>
              <p:nvPr/>
            </p:nvSpPr>
            <p:spPr>
              <a:xfrm flipV="1">
                <a:off x="1908000" y="5173560"/>
                <a:ext cx="533520" cy="228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2441160" y="5173560"/>
                <a:ext cx="533160" cy="228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175080" y="5173560"/>
              <a:ext cx="1066320" cy="228240"/>
              <a:chOff x="6175080" y="5173560"/>
              <a:chExt cx="1066320" cy="228240"/>
            </a:xfrm>
          </p:grpSpPr>
          <p:sp>
            <p:nvSpPr>
              <p:cNvPr id="194" name=""/>
              <p:cNvSpPr/>
              <p:nvPr/>
            </p:nvSpPr>
            <p:spPr>
              <a:xfrm flipV="1">
                <a:off x="6175080" y="5173560"/>
                <a:ext cx="533520" cy="228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>
                <a:off x="6708240" y="5173560"/>
                <a:ext cx="533160" cy="2282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5946480" y="4944960"/>
              <a:ext cx="533520" cy="532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37200" y="4944960"/>
              <a:ext cx="533520" cy="532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6480" y="48690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600" spc="-1" strike="noStrike">
                  <a:solidFill>
                    <a:srgbClr val="5490a8"/>
                  </a:solidFill>
                  <a:latin typeface="Arial Narrow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37200" y="48690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600" spc="-1" strike="noStrike">
                  <a:solidFill>
                    <a:srgbClr val="5490a8"/>
                  </a:solidFill>
                  <a:latin typeface="Arial Narrow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C01C-2521-49A6-AF67-603F60C09C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equence of grease remov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9944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tergent is added to water and becomes evenly distributed throug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tergent completely surrounds fibre, with oil-seeking end of molecule attaching to g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urfactant molecules get under the film of grease and dirt; grease rolls up into dro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rease droplet is detached from fibre, surrounded by layer of surfactant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ater-seeking end of surfactant molecules point outwards into water, so grease droplet less likely to be re-depo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gitation by the rakes and the liquor flow floats grease droplets away from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38C4-49D6-4AFF-A417-E769DD36264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2720" y="259920"/>
            <a:ext cx="669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Sequence of grease remov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067280" y="152280"/>
            <a:ext cx="4465440" cy="5280120"/>
            <a:chOff x="4067280" y="152280"/>
            <a:chExt cx="4465440" cy="528012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5029200" y="174600"/>
              <a:ext cx="1168560" cy="525780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sp>
          <p:nvSpPr>
            <p:cNvPr id="205" name=""/>
            <p:cNvSpPr/>
            <p:nvPr/>
          </p:nvSpPr>
          <p:spPr>
            <a:xfrm>
              <a:off x="6227640" y="15228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 Narrow"/>
                </a:rPr>
                <a:t>Surfactant molecu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49960" y="51264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 Narrow"/>
                </a:rPr>
                <a:t>Grease on f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23040" y="4289400"/>
              <a:ext cx="220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 Narrow"/>
                </a:rPr>
                <a:t>Grease droplet removed from f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67280" y="3146400"/>
              <a:ext cx="88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 Narrow"/>
                </a:rPr>
                <a:t>Grease drop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523880" y="304920"/>
            <a:ext cx="2976840" cy="5105160"/>
            <a:chOff x="1523880" y="304920"/>
            <a:chExt cx="2976840" cy="510516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1523880" y="304920"/>
              <a:ext cx="1737000" cy="510516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sp>
          <p:nvSpPr>
            <p:cNvPr id="211" name=""/>
            <p:cNvSpPr/>
            <p:nvPr/>
          </p:nvSpPr>
          <p:spPr>
            <a:xfrm>
              <a:off x="3716280" y="4167000"/>
              <a:ext cx="784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 Narrow"/>
                </a:rPr>
                <a:t>Clean wo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058920" y="4525920"/>
              <a:ext cx="6490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3DFE-719B-41A2-A98B-6EEE4603C1C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Sally Mahony</cp:lastModifiedBy>
  <dcterms:modified xsi:type="dcterms:W3CDTF">2005-08-19T01:49:34Z</dcterms:modified>
  <cp:revision>67</cp:revision>
  <dc:subject/>
  <dc:title>PowerPoint Presentation</dc:title>
</cp:coreProperties>
</file>