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59EB-697A-4AE2-BDD5-DF2279BCE44A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AD23-C047-4836-8B05-3874583CF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0E8C-B601-400C-A48E-FFDF7573F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1BB5-6F3D-4B3A-BF00-6D6FD4081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4FC0-BF86-4E26-B354-78BB0E728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BE5D-45C5-4471-8949-3AC554D942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BF56-A058-4001-87E3-26B738C8FF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06D1-6D47-4684-81A5-6D38A217CB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E58F-0FCA-4570-85D9-EC00CA684E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E7DAB-D70D-4EE3-979E-73CF55444D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6597-00BC-4656-94C9-3CC54058D3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14B4-740B-41B4-8294-8BE9588C3A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9CD1-08FD-4D9D-A7F8-48D0D8B21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70B7-BE52-40A4-ABF3-9E1F279D4B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6A6B-16DB-441A-9B42-C82DEA8C14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26C3-D5FA-4709-8E8B-B0B13F1C39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6F4A-7041-4D66-BDC1-0176AD4864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E315-8E49-4980-895C-82F31FEC8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E105-1C43-4117-886E-4BD67020F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1D21-965B-422C-A228-81C437669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29B1-F4CF-46C4-9BDD-2D5F7D6A1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1AA6-AB5C-4880-842F-4F6D00303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4674-7D49-425E-A778-AD742DCDB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E8A9-BB9E-4453-BEA4-0E81D989C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F1CC-218C-4497-9532-9EBD378DE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CCC6-5C8F-4E88-A31B-B1115C30D5A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0303-99E4-4DE2-BD7C-B231211CE8D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4374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 Utilisation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ervation in Wool Sco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479736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E8EE-827F-4F5D-89E2-66350282FD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-100440"/>
            <a:ext cx="727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late heat exch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4895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ries of closely-spaced metal plates clamped toge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lates corrugated to improve rigidity and heat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wo flows of fluid pass between alternate pl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mpact and space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asily inspected and 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de to variable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1967040" cy="3276720"/>
          </a:xfrm>
          <a:prstGeom prst="rect">
            <a:avLst/>
          </a:prstGeom>
          <a:ln w="38160">
            <a:solidFill>
              <a:srgbClr val="0099c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3097080" cy="2527560"/>
          </a:xfrm>
          <a:prstGeom prst="rect">
            <a:avLst/>
          </a:prstGeom>
          <a:ln w="38160">
            <a:solidFill>
              <a:srgbClr val="0099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F10B-539E-43BC-A8D8-BED33DF8E1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-1004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ryer exhaust hea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475920"/>
            <a:ext cx="806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ool dryer needs supply of hot air to replace air that is exhau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cover heat from exhaust – transferred to stream of fresh air entering dr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 moisture content of air increases its ability to evaporate moisture decre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resh air entering dr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s warm as possible with little moisture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ust be free from dust, fibre etc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uldn’t mix with exhaust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DA58-2B17-4E30-9F45-C48EEE913D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1004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at pipe heat exchange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57160" y="765000"/>
            <a:ext cx="7315200" cy="4818240"/>
          </a:xfrm>
          <a:prstGeom prst="rect">
            <a:avLst/>
          </a:prstGeom>
          <a:ln w="38160">
            <a:solidFill>
              <a:srgbClr val="0099cc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104292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5490a8"/>
                </a:solidFill>
                <a:latin typeface="Arial Narrow"/>
              </a:rPr>
              <a:t>Thermal recovery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FA23-5815-4223-B5CF-E061FEC3927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at pipe exchange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690480"/>
            <a:ext cx="79930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nk of pipes, finned to improve heat ex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ipe is an evacuated tube with porous lining, partly filled with refrigerant and sea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at exchange is indirect – refrigerant in heat pipes changes from liquid to vapour between cold and hot air str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 vapour condenses to form liquid at cold end it gives up its heat to fresh cold air, warming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densed liquid travels back to evaporating (warm) zone) by gravity or capillary action, to repeat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D200-F34E-4D45-8B44-67E7056694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at pipe exchanger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01000" cy="4078440"/>
          </a:xfrm>
          <a:prstGeom prst="rect">
            <a:avLst/>
          </a:prstGeom>
          <a:ln w="38160">
            <a:solidFill>
              <a:srgbClr val="0099cc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843280" y="5157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Narrow"/>
              </a:rPr>
              <a:t>Interior of a single heat 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1200-7411-43B1-AA10-6D0BB30F7B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0640" y="-1004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Heat recovery system for dr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96960" y="331920"/>
            <a:ext cx="7835400" cy="5184360"/>
            <a:chOff x="696960" y="331920"/>
            <a:chExt cx="7835400" cy="518436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96960" y="567720"/>
              <a:ext cx="7835400" cy="4948560"/>
            </a:xfrm>
            <a:prstGeom prst="rect">
              <a:avLst/>
            </a:prstGeom>
            <a:ln w="38160">
              <a:solidFill>
                <a:srgbClr val="0099cc"/>
              </a:solidFill>
              <a:miter/>
            </a:ln>
          </p:spPr>
        </p:pic>
        <p:sp>
          <p:nvSpPr>
            <p:cNvPr id="127" name=""/>
            <p:cNvSpPr/>
            <p:nvPr/>
          </p:nvSpPr>
          <p:spPr>
            <a:xfrm>
              <a:off x="5085000" y="3948840"/>
              <a:ext cx="234720" cy="785880"/>
            </a:xfrm>
            <a:prstGeom prst="line">
              <a:avLst/>
            </a:prstGeom>
            <a:ln w="5724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062560" y="3004920"/>
              <a:ext cx="0" cy="7074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103440" y="2218680"/>
              <a:ext cx="7048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2000" y="2847600"/>
              <a:ext cx="101844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9440" y="2847600"/>
              <a:ext cx="62640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92960" y="2847600"/>
              <a:ext cx="234720" cy="471600"/>
            </a:xfrm>
            <a:prstGeom prst="line">
              <a:avLst/>
            </a:prstGeom>
            <a:ln w="5724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010160" y="331920"/>
              <a:ext cx="0" cy="628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185560" y="2218680"/>
              <a:ext cx="62640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42F5-0E2A-4380-99B6-B25752FBD3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8E5F-33AE-4C71-BD5C-AA169794506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47512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in wool sco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ol scouring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ergy int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requires heating of water and heat for dry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ing motors, lighting etc, uses less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d mostly for motors, lighting, space hea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l 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d to produce direct heat or s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764160" cy="1920960"/>
          </a:xfrm>
          <a:prstGeom prst="rect">
            <a:avLst/>
          </a:prstGeom>
          <a:ln w="38160">
            <a:solidFill>
              <a:srgbClr val="0099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8A99-4EBF-4388-897E-FE5064E1F7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management should minimise the energy cost per unit of production (cents/k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hould ensure that energy is used effici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provide substitutes for expensive fu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management depends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on of all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funds to implemen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fficient check on energy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A2E4-4E17-46D5-8355-3F7E9FF7D7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ims of an energy management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dentify $ losses through energy wa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commend ways to reduce energy was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mproved maintenance of plant, 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difying existing plant and 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stalling new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ubstituting existing f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structing personnel on preventative maintenance and energy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eeds firm, realistic goals with time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gular checking of results, revise with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FEE6-1048-430C-9E79-6393E7B96A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nergy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54900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rst step in energy management progra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amines plant to check if most suitable energy sources are being used, and efficiently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records give data on energy consumption an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Quantities and each form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nual and seasonal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nergy coefficien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- energy use per unit of output (expressed in cents/M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alculate theoretical minimum energy use to compare with actual energy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F7CE-D4A8-4B3B-B1B0-E726DF8457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tandard energy co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14212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calculate the standard (or low fuel) coefficient it is necessary to kn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uel being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est possible efficiency of plant, incl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 efficient boiler and steam distribu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 efficient wool dr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re standard coefficient with present energy coe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unacceptable a plant survey should highlight waste and ineffici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lement energy conservation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F335-3330-418B-B9F7-B0E8344670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nergy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692280"/>
            <a:ext cx="80708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ood housekeeping of existing plant (usually low co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odifications to, or replacement of, plant (more costly measur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ange to cheaper fuel. Alternatives inclu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aste wood from timber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ixture of oil and low quality woolg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7A40-5AE9-440F-A477-3538DD730A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Good housekeep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orage of fu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oiler ho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eam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couring tr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C8CF-1D71-46BC-8B32-33EA58880B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aste heat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360" y="754200"/>
            <a:ext cx="770436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igh temperature waste water and air has recoverable heat energy (~60% is possib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nts to consider before implemen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s existing process efficie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erhaps improve efficiency of current system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lculate amount of heat that can be recovered – is this amount worthwh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n recovered heat be usefully u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n waste heat be used directly? No need to install costly heat recovery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AB06-DF7F-4215-84B2-B1DA90A2BD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Sally Mahony</cp:lastModifiedBy>
  <dcterms:modified xsi:type="dcterms:W3CDTF">2005-08-19T03:11:55Z</dcterms:modified>
  <cp:revision>64</cp:revision>
  <dc:subject/>
  <dc:title>PowerPoint Presentation</dc:title>
</cp:coreProperties>
</file>