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4AF0-A165-41BA-AE38-4BB1D87E90F3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DE7F-BED6-46E6-97A6-828D407D5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3AD4-F504-4E52-801F-CA750B936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F32F-D89D-478F-B5E5-C24F9F0DB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3F50-04A2-4971-88C2-95FF96EBE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88AC-7726-43FE-8A64-FDB2E25CBA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EB10-AEA1-45C6-A8F1-E8F7A09344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D838-5026-42E3-A694-17CD67591C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BAA35-3F4B-423D-B77C-38C4A00461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EEB5-FF3D-4307-84D6-620DFC5699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62100-CD5C-4D20-A14C-9761969DBA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794F-A439-4247-8EB0-AAF766D159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8FB0-9215-47F9-A8F9-DCA926E5C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18AD-5527-45EF-9F9C-B68FACE8FD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BB4A-7301-4817-80B9-9873E5EF5C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1921-B8E7-4796-9211-512EAE2D20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CC38-E9CB-4DF8-B7DD-C58CAE3F54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4BE8-3149-48B4-BBBD-61B1A6560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3628-A9F1-4D58-BB4A-50C0D38C5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F5B9-9898-4769-87D4-AA3E6F794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1F55-3D51-4C21-B3CE-94ED74F4D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8A8A-B381-436D-96CA-12003615E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D0AF-D5A3-4E6C-B4CA-33501FE54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BF79-F9BA-4858-948B-014E375BE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FA96-3B51-4951-A15D-AF5D93266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A649-4355-499D-AD00-5D0E781377C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2A5C-29B4-4548-97CA-4B5945D345C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4273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ying, Drying and Packaging of Scoured W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43657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FE7B-3D7E-426A-8023-E747DCD15EF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-1440"/>
            <a:ext cx="6264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dry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672840"/>
            <a:ext cx="78487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weight of moisture in wool, expressed as a percentage of the dry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ain(%) = 100 x weight of moisture / dry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 leaving final rinse bowl may have a regain of around 150%; needs to be dried to around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 drying occurs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extraction by squee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poration by heat in a dr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B52E-3F6B-41D8-BB81-86D44F48F3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4280"/>
            <a:ext cx="544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dry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779400"/>
            <a:ext cx="5943600" cy="4954680"/>
          </a:xfrm>
          <a:prstGeom prst="rect">
            <a:avLst/>
          </a:prstGeom>
          <a:ln w="193680">
            <a:solidFill>
              <a:srgbClr val="ffffff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7296120" y="1039680"/>
            <a:ext cx="152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ool is held on perforated drums by air  being sucked into d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400800" y="1755360"/>
            <a:ext cx="907920" cy="324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203640"/>
            <a:ext cx="1600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reens over which wool passes have low porosity. Pressure drop across wool is small, giving even dr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38320" y="4135320"/>
            <a:ext cx="1597320" cy="36360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52056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mdar Holding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1AF9-9997-40B2-AC1D-35D882B3C3D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21760"/>
            <a:ext cx="711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ations in wool dry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29476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isture absorbing capacity of air increased by rai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airflow is important (typically 3-4 metres per second used in dr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isture-laden air must be removed from dryer to admit fresh, dry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feed must be constant to ensure consistent re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 layer fed to dryer needs to have uniform thickness without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DDD5-2767-43A8-A6B6-434A37A2291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1600" y="43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aspects of wool dry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77058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iked brattice feed hopper between final squeeze press and dryer opens the fibres, gives constant feed and uniform thicknes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ed weighbelt, in conjunction with a double feed hopper, gives constant feed to the scour, with benefits in d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ontrol of dryer maintains required temperature –coupled to measurement of wool moisture as it leaves the dr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8BAE-230E-4FB7-A157-3FE88156B87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6160"/>
            <a:ext cx="554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sing and Packing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6200" y="1555920"/>
            <a:ext cx="5761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, greasy wool was shipped in bales of varying sizes and shapes – low densities (150-170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o costly to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ng bales into smaller volumes (dumping) gave increased densities (230-340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ut no transport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56360" y="1268280"/>
            <a:ext cx="2736720" cy="1771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5724360" y="3068640"/>
            <a:ext cx="648000" cy="50472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D849-96B8-4120-810D-DA0D5138947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1739880"/>
            <a:ext cx="63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e dum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ression of 2-3 bales) enables greasy wool to be packed to ~ 640 kg/m3; scoured wool – 510 kg/m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e ba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coured wool compressed to 400-450 kg/m3 with presses of up to 600 tonnes th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wed in shipping container, holding 18-20 t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720" y="290520"/>
            <a:ext cx="6839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sing and Packing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93080" y="1052640"/>
            <a:ext cx="1863720" cy="2376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6372360" y="1844280"/>
            <a:ext cx="718920" cy="14436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3392640"/>
            <a:ext cx="284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New Zealand Wool Services International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75C8-0BE3-4572-8876-FB84AFCB25D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1133-BEED-42FE-A743-5220C77850E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of moving w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81296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 or forklift (small bat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and double belt convey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atic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BBAA-32E6-485C-ACCF-65EA9377AA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t convey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3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brattices (or lattices)  in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onveyors for moving wool two and from the scour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queeze rollers steel wire mesh or plastic mats are su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l lattices are suitable for greasy 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belt conveyors are used for moving wool to a 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‘plough’ is used to deflect wool off a weigh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0BE0-871E-4B9B-9273-0BEADC918CE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re mesh m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71640" y="1125360"/>
            <a:ext cx="6481800" cy="4327560"/>
            <a:chOff x="971640" y="1125360"/>
            <a:chExt cx="6481800" cy="43275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332000" y="1125360"/>
              <a:ext cx="6121440" cy="2119320"/>
            </a:xfrm>
            <a:prstGeom prst="rect">
              <a:avLst/>
            </a:prstGeom>
            <a:ln w="28440">
              <a:solidFill>
                <a:srgbClr val="0099cc"/>
              </a:solidFill>
              <a:miter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3203640" y="3501720"/>
              <a:ext cx="3168720" cy="1951200"/>
            </a:xfrm>
            <a:prstGeom prst="rect">
              <a:avLst/>
            </a:prstGeom>
            <a:ln w="28440">
              <a:solidFill>
                <a:srgbClr val="0099cc"/>
              </a:solidFill>
              <a:miter/>
            </a:ln>
          </p:spPr>
        </p:pic>
        <p:sp>
          <p:nvSpPr>
            <p:cNvPr id="101" name=""/>
            <p:cNvSpPr/>
            <p:nvPr/>
          </p:nvSpPr>
          <p:spPr>
            <a:xfrm>
              <a:off x="1523880" y="1160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Arial Narrow"/>
                </a:rPr>
                <a:t>OPE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71640" y="407808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Arial Narrow"/>
                </a:rPr>
                <a:t>SQUEEZE ROLL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227640" y="836640"/>
            <a:ext cx="244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Taylor (198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522936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Taylor (198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93B9-BB5F-4FE2-B459-00F88346D8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7000" y="61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neumatic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745920"/>
            <a:ext cx="80024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 is blown or sucked through circular du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ured wool easier to move than greasy 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cting may be metal or pla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must be smooth, with rounded 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n creates air flow – placed at either of two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Blo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an before wool entry) – dust and fibres can find leaks and 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Su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an placed after wool leaves ducting) – no dust or fibre leave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ystems allow entry or discharge of wool at differen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2D3C-BE88-447B-8761-376DA8E61B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741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arating air and wool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422100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ated screen rotates and intersects the 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t laden air (white arrow) passes through the screen and goes forward free of 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258920" y="692280"/>
            <a:ext cx="6000840" cy="3232080"/>
            <a:chOff x="1258920" y="692280"/>
            <a:chExt cx="6000840" cy="323208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316320" y="692280"/>
              <a:ext cx="3943440" cy="3232080"/>
            </a:xfrm>
            <a:prstGeom prst="rect">
              <a:avLst/>
            </a:prstGeom>
            <a:ln w="28440">
              <a:solidFill>
                <a:srgbClr val="99ccff"/>
              </a:solidFill>
              <a:miter/>
            </a:ln>
          </p:spPr>
        </p:pic>
        <p:sp>
          <p:nvSpPr>
            <p:cNvPr id="111" name=""/>
            <p:cNvSpPr/>
            <p:nvPr/>
          </p:nvSpPr>
          <p:spPr>
            <a:xfrm>
              <a:off x="1258920" y="200196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Arial Narrow"/>
                </a:rPr>
                <a:t>SHIRLEY WHE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859280" y="393372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Stewart (1988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D16D-E90F-4F80-99C1-8420B5783D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748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arating air and wool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4005360"/>
            <a:ext cx="829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 held on rotating perforated drum by s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aching the baffle the wool falls off and through sealing 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usty air is drawn from the inside of the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16000" y="620640"/>
            <a:ext cx="7132680" cy="3313080"/>
            <a:chOff x="1116000" y="620640"/>
            <a:chExt cx="7132680" cy="331308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3348000" y="620640"/>
              <a:ext cx="4900680" cy="3313080"/>
            </a:xfrm>
            <a:prstGeom prst="rect">
              <a:avLst/>
            </a:prstGeom>
            <a:ln w="28440">
              <a:solidFill>
                <a:srgbClr val="99ccff"/>
              </a:solidFill>
              <a:miter/>
            </a:ln>
          </p:spPr>
        </p:pic>
        <p:sp>
          <p:nvSpPr>
            <p:cNvPr id="117" name=""/>
            <p:cNvSpPr/>
            <p:nvPr/>
          </p:nvSpPr>
          <p:spPr>
            <a:xfrm>
              <a:off x="1116000" y="15573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Arial Narrow"/>
                </a:rPr>
                <a:t>ROTATING DRUM CONDEN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516720" y="393372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Stewart (1988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E3A2-9575-43A0-A23B-7353D275C2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-27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r and dust sep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31640" y="549000"/>
            <a:ext cx="8748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bag fil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ps dust, but some fibres may work their way through to the 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eration of a 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cyclone gravity dis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embles a whirlpool – the outer (downward) vortex forces the dust out the bottom; the inner (upward) vortex exhausts clean air to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4360" y="2637000"/>
            <a:ext cx="7842240" cy="3076560"/>
            <a:chOff x="684360" y="2637000"/>
            <a:chExt cx="7842240" cy="307656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84360" y="2637000"/>
              <a:ext cx="4647960" cy="3076560"/>
            </a:xfrm>
            <a:prstGeom prst="rect">
              <a:avLst/>
            </a:prstGeom>
            <a:ln w="28440">
              <a:solidFill>
                <a:srgbClr val="99ccff"/>
              </a:solidFill>
              <a:miter/>
            </a:ln>
          </p:spPr>
        </p:pic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6012000" y="2853000"/>
              <a:ext cx="2514600" cy="2743200"/>
            </a:xfrm>
            <a:prstGeom prst="rect">
              <a:avLst/>
            </a:prstGeom>
            <a:ln w="28440">
              <a:solidFill>
                <a:srgbClr val="99ccff"/>
              </a:solidFill>
              <a:miter/>
            </a:ln>
          </p:spPr>
        </p:pic>
      </p:grpSp>
      <p:sp>
        <p:nvSpPr>
          <p:cNvPr id="124" name=""/>
          <p:cNvSpPr/>
          <p:nvPr/>
        </p:nvSpPr>
        <p:spPr>
          <a:xfrm>
            <a:off x="684360" y="537372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Stewart (1988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DBAF-2AFC-4ED4-990E-2089FDD5EDC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-scouring dust removal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6920" y="1887480"/>
            <a:ext cx="8080200" cy="3200040"/>
            <a:chOff x="826920" y="1887480"/>
            <a:chExt cx="8080200" cy="320004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826920" y="1887480"/>
              <a:ext cx="7958160" cy="2160360"/>
            </a:xfrm>
            <a:prstGeom prst="rect">
              <a:avLst/>
            </a:prstGeom>
            <a:ln w="38160">
              <a:solidFill>
                <a:srgbClr val="003366"/>
              </a:solidFill>
              <a:miter/>
            </a:ln>
          </p:spPr>
        </p:pic>
        <p:sp>
          <p:nvSpPr>
            <p:cNvPr id="128" name=""/>
            <p:cNvSpPr/>
            <p:nvPr/>
          </p:nvSpPr>
          <p:spPr>
            <a:xfrm>
              <a:off x="3490560" y="426204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Arial Narrow"/>
                </a:rPr>
                <a:t>Rotating Drum Conden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570200" y="3043080"/>
              <a:ext cx="533520" cy="106632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06920" y="4190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Arial Narrow"/>
                </a:rPr>
                <a:t>Filter b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4FC0-FAF0-4891-AB62-5CB821F2CF7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8:13:24Z</dcterms:created>
  <dc:creator>WRONZ User</dc:creator>
  <dc:description/>
  <dc:language>en-US</dc:language>
  <cp:lastModifiedBy>Sally Mahony</cp:lastModifiedBy>
  <dcterms:modified xsi:type="dcterms:W3CDTF">2005-08-19T02:39:24Z</dcterms:modified>
  <cp:revision>4</cp:revision>
  <dc:subject/>
  <dc:title>Conveying, Drying and Packaging of Scoured Wool</dc:title>
</cp:coreProperties>
</file>