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47B7-6B1C-4864-BBE2-23275FBC1F79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D9E4-8052-43CD-BD78-8EFD68026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69DA-38E1-4218-90B1-9F6AAE312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AC71-8828-4AB9-8408-039079F01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BA9D-3A07-45ED-888C-615CB791B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1C51-C3AA-453C-8B58-047A13D810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355C-BB81-4ABC-95CE-2FB4C9D275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FE96-DE1A-48D0-BF72-156D4C1B74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56CB-2C58-48B2-A619-3D826DBE6E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B95D-5B44-48E2-9402-A655661C05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2A8E-F2C2-4CB6-A7CB-6DC33B2B61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5F2C-20AB-4376-80AC-9EAD6C79E2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0AF8-7B7B-482D-A07E-371F26B32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5ADC8-CC93-4310-829A-3181FBBF02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CC8F-F0E5-41FA-9FCE-AC00B53119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4953-0E52-45B3-965E-AE261F52B3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2A0C-5B3D-4E5A-A402-F88646DA0D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21F9-68FF-4DAA-9A56-7F95131E1F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3560-BD38-446D-A341-3DF12D99D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B81A-30DA-4836-B91E-7B55A7ACB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3A83-4C43-451E-92A5-C2585CCC3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A0E6-AC33-4299-93F1-D4EBD344D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D9EC-DA40-48F3-9DB2-7C4E4C46C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50B5-2879-4486-A884-F6A92B7C0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250E-8C75-4F55-BE4B-1B5A30952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545E-646B-49BB-8A2F-9E05C7B6E40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496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DF68-5D27-4C39-AEA2-48BBD0FD874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5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Scour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43657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A19D-5F5F-4763-863F-F518193F93C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453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roscour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3644640"/>
            <a:ext cx="828036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more complex scouring system, developed in Australia specifically for fine w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an initial ‘suint bowl’ to remove dirt without the g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tages or three stages, depending on yield of 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93720" y="692280"/>
            <a:ext cx="4923000" cy="2993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0E24-FEC4-4204-9984-CEA0B79C0E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roscour – effluent trea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01000" cy="30877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4EA9-7A1F-4C97-B669-1E70B6C830A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4908-9FBF-4008-A650-339AC38CFFCF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-27360"/>
            <a:ext cx="80010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scour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2882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nt sco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eous scouring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 and soda scouring (obso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hamel process (suint scouring) – not com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NZ Comprehensive Scouring System (basis of modern coarse/carpet wool scou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-Flo, leading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oscour (basis of modern fine wool scou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3C70-28DB-426F-9A71-72FFE8B9B6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4360" y="609120"/>
            <a:ext cx="882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minant removal in solvent scou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5233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olg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adily dissolved in organic non-polar sol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sweat) – insoluble in organic solvents (soluble in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nsoluble, removed by sedi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E6CB-5587-4CC0-8A76-F9C7FEDBBF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 and Cons of Solvent Scou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777240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nly woolgrease removed, wool needs further treatment (emulsion scou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luent is less pol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 quality better because less entang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need in choosing safe sol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olvent lost through 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stly system to establish and 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84BE-E7D2-4D27-AAC1-D8B22C6A0FB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minant removal in aqueous scou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ing water-soluble is easily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olg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soluble in water, requires emulsification or sapo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 soi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ust, VM etc.) is removed by agitation in liquor and squee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A0DE-9F6A-4871-8BFD-A52908FA3B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ONZ Comprehensive Scouring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4076640"/>
            <a:ext cx="739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flow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wool flows in one direction through the bowls, liquor flows in revers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ur bowl temperatures – 60-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; Final rinse bowl – 5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2160" y="1341360"/>
            <a:ext cx="6316200" cy="2697120"/>
            <a:chOff x="992160" y="1341360"/>
            <a:chExt cx="6316200" cy="26971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992160" y="1341360"/>
              <a:ext cx="6316200" cy="2697120"/>
            </a:xfrm>
            <a:prstGeom prst="rect">
              <a:avLst/>
            </a:prstGeom>
            <a:ln w="38160">
              <a:solidFill>
                <a:srgbClr val="003366"/>
              </a:solidFill>
              <a:miter/>
            </a:ln>
          </p:spPr>
        </p:pic>
        <p:sp>
          <p:nvSpPr>
            <p:cNvPr id="105" name=""/>
            <p:cNvSpPr/>
            <p:nvPr/>
          </p:nvSpPr>
          <p:spPr>
            <a:xfrm>
              <a:off x="3570120" y="3070080"/>
              <a:ext cx="358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cc"/>
                  </a:solidFill>
                  <a:latin typeface="Arial Narrow"/>
                </a:rPr>
                <a:t>3 scouring bowls, 3 rinse bow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8400" y="1630080"/>
              <a:ext cx="18712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EF05-A3D1-4EA8-8481-46C38904773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-270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 of WRONZ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8001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woolgrease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exchanges recover heat from efflu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effluent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-bowls give reduced water utilisation,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energ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r scouring runs before 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quality and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924C-A644-41E8-82E3-16B25E7322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dvantages of Mini-Bow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 length of conventional bowls (scouring efficiency does not depend on immersion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 immersed for 1/6 of usu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 given greater agitation, but does not cause felting (short immersion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 thickness about half that of conventional bow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 completely immersed by perforated dunker 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BB05-2E31-4895-B118-EC68245419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488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ini-Bow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056360" cy="4370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372360" y="5229360"/>
            <a:ext cx="27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ndar Holdings Ltd 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B719-73B4-4C11-A6DD-05909CDE15E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rroberts</cp:lastModifiedBy>
  <dcterms:modified xsi:type="dcterms:W3CDTF">2006-08-11T02:18:47Z</dcterms:modified>
  <cp:revision>65</cp:revision>
  <dc:subject/>
  <dc:title>PowerPoint Presentation</dc:title>
</cp:coreProperties>
</file>