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1E6-813A-43F9-B325-613CD1C29D8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35CB-65B6-46DE-B316-4D8A5CEA8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B60C-662B-4115-ADED-69FE1CE21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2D92-1FC9-41C8-9E6F-53F8ED557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F344-FAB3-4D28-A879-3EE01C3E5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73DA-E041-4BC5-8B15-71E4F2D4F4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6BA0-115E-4B2E-9FEC-1F0405175D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063F-DBD5-4EBD-9BB5-A69B54B45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5F62-3657-4E96-AA92-78428202BE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E6F5-F785-4FF1-B80A-441942C914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FDEA-D915-40B7-A9FA-6D44593F3F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88DF-1FBC-4377-93E8-1ED200022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DE0E-85A5-463E-A333-05A1B563A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71A4-5701-4EF2-AED4-2ECCA0099E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B882-6849-4B98-8B0A-A6F8B05CBD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5259-4BBD-4F24-8E02-8519898E9D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CA4A-D53C-4EF4-B602-14ED3B959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F841-C347-473D-ABD7-34A7CB050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FCA3-D629-4BE2-94CC-2EC590672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AFD8-B49D-4D38-B7DD-7EE1E8FA3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7B39-3E78-4C7D-B64A-8CF6DE56C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7CF5-2355-4873-A3E2-A7BFFA04D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CCD5-CD75-4486-AC40-32A5AA042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C487-24BE-41DA-B84D-AAC83D1E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98E2-67F9-4A06-B5F1-9AF9A83FE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F885-C301-498A-A908-56D7D81E63B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A83-9790-4DE0-8A94-BF43010C30E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-spinning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CD35-25D3-4F8D-A655-520BB366A2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D7DE-61F1-44E8-A758-A9789E6858A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spinning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n spl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processing – not considered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6743-6F88-4954-BDA5-C9AB877CF1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4392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convenient to have yarn on larger pack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and structure of package important for unwinding, dye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rn faults can be cleared at sam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924360" cy="28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DECD-FFB5-4C92-AC06-864AB718D9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-10044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5113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Various types of clearing devices –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chanical, optical, capaci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pacitance devices det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rt thick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ng thick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ng thin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pl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d counts and removes them from the y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3503520" cy="46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6E58-94D5-495E-AE61-2CD56159B2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ng twisting – largely supersed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for-one twisting, involving a 3 stage 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twisting speed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75308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1CFF-14C4-491F-898C-055D4B2193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-for-one twisting mechanis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184720" cy="490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2C9F-80A1-41BA-A625-7AC99AFAC6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01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rn spl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x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spl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spl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pl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5990-59B4-4EE4-A891-E1FCD96E32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r splicing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909720"/>
            <a:ext cx="8209080" cy="47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7257-A513-4D22-8203-C2EC5C2047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01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ist migration in air spl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753080" cy="43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5E28-4A38-4819-B930-7D9F268846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4:16:47Z</dcterms:created>
  <dc:creator>WRONZ User</dc:creator>
  <dc:description/>
  <dc:language>en-US</dc:language>
  <cp:lastModifiedBy>Sally Mahony</cp:lastModifiedBy>
  <dcterms:modified xsi:type="dcterms:W3CDTF">2005-06-30T00:19:41Z</dcterms:modified>
  <cp:revision>4</cp:revision>
  <dc:subject/>
  <dc:title>Post-spinning processes</dc:title>
</cp:coreProperties>
</file>