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D51-38FD-4BC8-9FF6-E1CC1135EC5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7235-4949-4F3C-B597-6BA075170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47D0-6747-48F0-A237-59BD87AD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4AC6-2442-4D99-938A-371C5A543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EE0F-A68A-43AB-B89F-91B429113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6266-A864-4FE1-9530-F639259572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9EF4-518C-458C-877E-9CDFBF59C3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4726-699E-4A3E-86F2-3AD858A75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2924-478B-4329-ADD6-752FFCC50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F72E-80AE-4B23-83A1-832E4AF58C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4904-B9D4-4296-A604-BBD40795B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2A0E-33F1-4B68-9425-6FD60102F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D149-4DFE-477B-9821-23C09AD73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51E6-B0F0-48CC-AA9A-2A08D227BE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0767-B7EB-4CDC-88F4-B1C0F9BDF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37A6-E378-47A1-A041-894412503B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7C1B-785E-4B1F-A522-89398EA1E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F67A-671C-4F0B-8C08-F09B4ECDD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C6AF-A791-49E2-AB67-68D7521D9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5657-9763-4011-A1AC-10E614CEB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D62C-4059-4F19-B6AA-2D41ED532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73E-A933-4298-8FB4-96F6B425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467E-BC80-42D8-BDC9-6A70A3675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CD11-02EA-475B-842C-2A96DE953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7C33-50BE-4B8D-89B2-61B8C8BCE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35FA-236A-4002-A8BB-C3D4D6BC53E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7267-C6AE-4856-8688-906739E883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Col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50480" y="620640"/>
            <a:ext cx="719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nciples and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0BA4-0BC1-4FA7-B3D4-823FA2C27B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01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se stock dyeing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1640" y="1268280"/>
            <a:ext cx="8748720" cy="42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72C6-8787-49E8-A5D7-3C01B93B13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k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38044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51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arn suspended in skein form on rods, immersed in moving liqu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ore suitable for dyeing small amounts of yarn than loose stock dye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nables yarn twist to be set, residual lubricant to be removed, maximum yarn bulk to be achie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ccurate control of dyeing essential to achieve level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6D4-88B6-4905-8D0A-DD120CBEE6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0920" y="2637000"/>
            <a:ext cx="5042160" cy="28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k dyeing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26436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8661-9E26-473F-A492-38EED9C80F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age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80010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Less handling, large b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High rates of liquor circulation promote level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menable to automatic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Low liquor-goods ratio give savings in water, effluent and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High temperature dyeing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Totally enclosed machinery promotes good working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001F-A693-4316-A501-1D7ED1322A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rn package dyeing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761080" cy="464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>
            <a:off x="5219640" y="2238120"/>
            <a:ext cx="1152720" cy="43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17334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es of yarn mounted on perforated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4613-340A-4C83-AF99-F5DA5FCFD1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-17172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51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Reasons for dyeing wool in top form rather than ya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veral dye batches can be blended into a large batch by subsequent g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atches of different colours can be blended to make mixed colour y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hades that are difficult to dye evenly can be dyed then bl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carry stock of various shades in top form, for worsted spinning a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19ED-0A82-436C-A13D-99B62C27E0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dyeing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58327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BAD8-DE8A-4313-9217-F8554E1E0D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89F6-565F-4058-B841-CED5FBF25CE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eing of w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54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pplication of colour to fibres, tops, yarns and fab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occur at several alternative stages in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water dyes are soluble in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e molecule penetrates fibre and forms chemical bond with fi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81520" y="907920"/>
            <a:ext cx="306720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F6AF-EAEB-432B-8070-05C7173560A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dyes for w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4640" y="1052640"/>
          <a:ext cx="8145360" cy="4200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800"/>
                <a:gridCol w="1395360"/>
                <a:gridCol w="141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e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l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fast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 leve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ht past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 mi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ht past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leve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 metal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l, d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 metal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l, d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1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ht past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then 6-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32C7-A223-4BD5-B430-13DD1A60FD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eing assi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53989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51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These are chemicals that promo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yeing to the correct sh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Level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olour fas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conomical use of time, energy, d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inimal fibre dam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34160" y="1063800"/>
            <a:ext cx="291456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6D3C-E113-46C3-8427-98FD4428D5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-180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examples of dyeing assi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85720" y="909720"/>
            <a:ext cx="8307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tifoam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uffer agents – to maintain optimum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-aerating agents – releases air bub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spersing agents – smaller dye particles act more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haustion assistants – reduce time for dye to get ontl f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velling agents – promote level dyeings in 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AC1D-8850-48DB-B0BD-0A46542F53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5 phases of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348400" cy="4152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506088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e molecules move towards fi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506088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 attach to fibre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50608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 move into f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3280" y="50608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 move in fibre or to an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50608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nding of molec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98AE-123A-43A4-8065-0C7650A5BA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 s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to absorb water (and dy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 groups in fibres (as in wool, co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ye fixation by chemical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 liquor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goods and/or dye liqu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 af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electrolyte concentration, auxiliary agents (such as retarding ag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D23F-230B-486E-8B5D-F0E2CB3335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types of dye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8001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haust dy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ye moves from dyebath into fibre in se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: loose stock, hank, package dyeing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mall to medium batch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tinuous dy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oods pass through trough of liquor, sprayed, printed or foam dy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 fabrics, car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rge length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6740-3BE2-4217-B8AC-43DD057CAC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se stock dy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813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eing of scoured wool before ca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e liquor circulated through stationary pack of w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equent blending gives level dye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 suited to large lots of same sh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ibre damage reduces processing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wer response to 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ur spinning requires more productio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27AF-3530-452E-A335-2E553EFB58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42:33Z</dcterms:created>
  <dc:creator>WRONZ User</dc:creator>
  <dc:description/>
  <dc:language>en-US</dc:language>
  <cp:lastModifiedBy>Sally Mahony</cp:lastModifiedBy>
  <dcterms:modified xsi:type="dcterms:W3CDTF">2005-07-07T03:22:14Z</dcterms:modified>
  <cp:revision>3</cp:revision>
  <dc:subject/>
  <dc:title>Wool Coloration</dc:title>
</cp:coreProperties>
</file>