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C1D9-A970-4869-9AC9-385050C2B2B0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0A04-7356-4FA7-BA99-FD018FA84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0E38-5ACC-44A8-8AC4-4CCBCF671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C6AC-8A2D-401B-B49B-81283C598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763E-6034-49E1-9871-7AEEE7AAF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2280-5AF1-4D29-ADF2-A944F5B4FF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C4FC-50FB-484D-B8EC-C765D11B01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0C61-A641-4CE2-A23A-D45B162443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05FD-74D4-4363-9433-4E794E71AC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F262-8F26-400F-991C-C667A40ADF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2180-AEFE-45CB-BE24-04C7123D4D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FBDA-F3AB-4905-AB28-DD7B77E09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375A-7515-4486-9089-CE18E7D83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725C-0D21-44CE-B3C5-BB65A8AB3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34F0-A195-4437-9AD7-A10AFA0EC6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83E4-DA69-4B0F-A283-8B203AF3A5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D3AA-29E8-481B-B1EB-F39EC1F168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E629-9116-42EB-A267-D8EBF65E0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7083-7F1C-4835-AAB6-56CE945D7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F1DA-5360-4597-8DC9-D4ABF151A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5CB9-BA85-4549-8485-16B8D6106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685C-61E3-47FF-9C07-1DDA7D6E8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2393-0718-410B-8C94-16E053851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06C4-CC75-40C6-B38A-D02336CCC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E49D-FB2A-43F6-A69D-6970F76EE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C4D2-3ED4-4466-AA09-A25782EE2E3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E43-D3AD-4823-9C34-A750FB52FA2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259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4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110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l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91DF-CB60-47D2-BD6D-AD7555183F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720" y="44280"/>
            <a:ext cx="6336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inal stages of top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360" y="549000"/>
            <a:ext cx="8820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inisher gil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distribute fibres in sliver to promote uniform drafting and cohe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store maximum fibre alignment, paralle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ke linear density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ovide further 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ring moisture content to requir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ackaging – ball top or bump 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combing – used mostly for dyed worsted tops or high quality t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parate, align fibres, removes neps and short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s spinning and weaving efficiencies; yarn and fabric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4121-B144-4D4C-B694-123B19FC42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-243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g production and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6318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easures of combing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r ratio = mass of combed sliver/ mass of n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il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oisture content – re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mbing quality – short fibre content a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aw w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liver properties (fatty matter level, reg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uality of scouring, carding, com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mbient temperature and 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b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5C25-4E13-410D-84CE-62A13D2D9D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4661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ummary Slides - Clos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D381-894F-484E-8644-012A4E272363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5818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 of comb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9200" y="549360"/>
            <a:ext cx="8525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lnSpc>
                <a:spcPct val="70000"/>
              </a:lnSpc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ove short fibres from sliver before worste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70000"/>
              </a:lnSpc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move neps and vegetable matter fragments that will compromise yar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70000"/>
              </a:lnSpc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rrange fibres into parallel arr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70000"/>
              </a:lnSpc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chiev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eding sliver into c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lding fibres and combing free end to remove short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lding combed portion and combing previously uncombed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orming continuous sliver of combed fibres from combed tu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3E87-2007-40BD-A75A-C665C18E42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g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404280"/>
            <a:ext cx="4663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types used in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el (circular) – show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r (nip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en (square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ilinear combed mostly used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tten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260 nips per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7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: 24 – 36 kg/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960720" cy="37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474B-7255-45D5-A7AD-F3A0A36131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000"/>
            <a:ext cx="446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tilinear co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4920" y="765000"/>
            <a:ext cx="6121440" cy="478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35F7-E27D-42C4-A7AE-BD0B081519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80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g sequence - f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35985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rollers A and feed gill B feed a fringe of fibres through the open nippers C an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67280" y="2081160"/>
            <a:ext cx="4752720" cy="278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9B04-F460-433A-B17A-5C229887FB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4240" y="-1004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g sequence – initial comb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2920" y="1341000"/>
            <a:ext cx="4735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ppers C and D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nge of fibres lower into pins of cylinder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etration aided by brush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gill B moves back with feed grid R for next feeding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14800" y="2192400"/>
            <a:ext cx="3776760" cy="30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66D0-5F18-4AB6-92B7-B921EDD832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g sequence – final comb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560" y="1700280"/>
            <a:ext cx="444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ppers CD open and shovel plate H moves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supports fringe as top comb J descen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ching rollers K draw fringe of fibre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44960" y="1916280"/>
            <a:ext cx="3917880" cy="31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8570-C3EE-4969-9FA9-1C49DF424F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-27360"/>
            <a:ext cx="8820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g sequence - sliver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05400" y="2001960"/>
            <a:ext cx="3738600" cy="2395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631440"/>
            <a:ext cx="53114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fter drawing-off action complete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arriage moves towards nip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etaching rollers recoil to start feeding out tail ends of previous fri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s carriage apporaches nippers parallelisation controlled by air s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ew tuft of fibres overlapped over previous one by amount determined by desired thickness of delivered sl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liver condensed by funnel, delivered to c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6C87-862B-4FAF-A6ED-3E4AD9CE80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8343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g sequence -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650960"/>
            <a:ext cx="8208720" cy="32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AD73-B6FE-479F-9004-AC333857E8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9:31Z</dcterms:modified>
  <cp:revision>63</cp:revision>
  <dc:subject/>
  <dc:title>PowerPoint Presentation</dc:title>
</cp:coreProperties>
</file>