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wmf" ContentType="image/x-wmf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C32F1-F320-4D57-AE00-D37F9DAA8B41}" type="slidenum"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r Chair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bers of the Bo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dies and Gentlem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r Chair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bers of the Bo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dies and Gentlem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0916C-EC36-48C2-85E0-4F0AD3F104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88920" y="39625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88920" y="4878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11471-BD0E-4244-B1B1-ABB6A4EB14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88920" y="3962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268880" y="3962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88920" y="4878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268880" y="4878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806DE-E277-45CF-A3BD-60C0D309AD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88920" y="3962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52880" y="3962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17200" y="3962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88920" y="4878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52880" y="4878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317200" y="4878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88560-E1BA-44DC-BBCB-1624A57F3A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1F8E1A-B7FC-4A7D-92FA-33EDBBB6754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8892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D697EB-1A4B-40E8-A79C-553F4D21765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8892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B48299-DB5A-4CDB-A777-762ED8DDF81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88920" y="3962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268880" y="3962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848C98-409D-4AA7-8A10-5576C418BD2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C13641-B19F-4B28-88D9-61CD46852E3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995400" y="312840"/>
            <a:ext cx="7772400" cy="806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0E9A96-B029-4540-BD12-889604A8303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88920" y="3962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268880" y="3962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88920" y="4878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E492BD-26D8-4F73-A7D0-3E4A3187C50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8892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FF99F-8D14-4D20-828E-34639949B0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88920" y="3962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268880" y="3962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268880" y="4878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C4512-32CE-4624-9E91-6D2E60942B3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88920" y="3962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268880" y="3962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88920" y="4878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03E44F-24B5-4B06-A72F-14F158A88B2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88920" y="39625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988920" y="4878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944096-6FB3-4F7C-8683-EBA9AA216C6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88920" y="3962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68880" y="3962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88920" y="4878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268880" y="4878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9AA448-1AFD-4591-B160-A0643ADE868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88920" y="3962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52880" y="3962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17200" y="3962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988920" y="4878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52880" y="4878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317200" y="4878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3D6758-875D-431A-B87A-3060741BA77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8892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A2B07-4D48-49E4-8AC5-1098884110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88920" y="3962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268880" y="3962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84EA0-7F4F-43EA-98FA-FDE1C541CC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584BF-EF2C-4228-A468-456228D24F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95400" y="312840"/>
            <a:ext cx="7772400" cy="806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6DF48-7F7D-4FD1-9490-3280EFBE9A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88920" y="3962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68880" y="3962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88920" y="4878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0BBDB-0BF8-44FE-BC01-1CAE60EEFC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8920" y="3962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268880" y="3962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268880" y="4878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4E6C0-B4E5-48B0-BB38-A352B674B7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88920" y="3962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268880" y="3962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88920" y="4878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83C24-2210-4732-812D-5B5CA8E099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565164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6350040" y="5270400"/>
            <a:ext cx="1127160" cy="16002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477120" y="6477120"/>
            <a:ext cx="26668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49F3C-F935-4140-AAAD-1687D965B1EC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Num" idx="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D01F1-C36A-41D8-A15E-F0B9CE5C2780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380880" cy="213372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2133720"/>
            <a:ext cx="9144000" cy="17492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3479760"/>
            <a:ext cx="380880" cy="337824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7240" y="2599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ool Carding Technolog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71600" y="1374840"/>
            <a:ext cx="6400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pic 1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547640" y="411012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rrol Wo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FC6ABF-108D-400A-AD9F-E80CA434770E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4920" y="117000"/>
            <a:ext cx="80010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woollen c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41440" y="2852640"/>
            <a:ext cx="8351640" cy="18003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541440" y="1484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Uniform delivery of wo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44720" y="148428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Crushing of VM in we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73440" y="1484280"/>
            <a:ext cx="158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Transfer and side-to-side  mixing of we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805440" y="1484280"/>
            <a:ext cx="201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3399"/>
                </a:solidFill>
                <a:latin typeface="Arial"/>
              </a:rPr>
              <a:t>Consolidation of separated strands (slubbin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565440" y="4935600"/>
            <a:ext cx="30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Two carding s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117440" y="2421000"/>
            <a:ext cx="14292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65440" y="2133720"/>
            <a:ext cx="576360" cy="151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49800" y="2349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885080" y="2421000"/>
            <a:ext cx="50472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 flipV="1">
            <a:off x="3133800" y="4581000"/>
            <a:ext cx="5032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5797440" y="4653000"/>
            <a:ext cx="57636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0A0F9-8244-4AF0-8DE8-1B0275C230EF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690560" y="620640"/>
            <a:ext cx="7345440" cy="42325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393840" y="4062240"/>
            <a:ext cx="4176720" cy="19432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322200" y="2928960"/>
            <a:ext cx="158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Burr beaters for VM remov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26920" y="3916440"/>
            <a:ext cx="142920" cy="12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330200" y="3773520"/>
            <a:ext cx="100836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546200" y="3341520"/>
            <a:ext cx="1008000" cy="158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138560" y="6764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Feed hop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4066920" y="1036800"/>
            <a:ext cx="3603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594560" y="175752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Can coiler 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244000" y="2260440"/>
            <a:ext cx="71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552924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worsted c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E4D11-D281-4359-881B-13E376BCCC6C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000" y="-27360"/>
            <a:ext cx="4319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ed contr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96720" y="764640"/>
            <a:ext cx="51120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spcAft>
                <a:spcPts val="1225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ortant to control rate of fibre delivery to card, especially for woollen car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51"/>
              </a:spcBef>
              <a:spcAft>
                <a:spcPts val="1312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ly achieved by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5000"/>
              </a:lnSpc>
              <a:spcBef>
                <a:spcPts val="649"/>
              </a:spcBef>
              <a:spcAft>
                <a:spcPts val="1137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igh pa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5000"/>
              </a:lnSpc>
              <a:spcBef>
                <a:spcPts val="649"/>
              </a:spcBef>
              <a:spcAft>
                <a:spcPts val="1137"/>
              </a:spcAft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Volumetric fee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controlled b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75000"/>
              </a:lnSpc>
              <a:spcBef>
                <a:spcPts val="601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igh belt, 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75000"/>
              </a:lnSpc>
              <a:spcBef>
                <a:spcPts val="601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am of rad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796000" y="836640"/>
            <a:ext cx="2967120" cy="37339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 flipV="1">
            <a:off x="3492360" y="2781000"/>
            <a:ext cx="2374920" cy="576360"/>
          </a:xfrm>
          <a:prstGeom prst="line">
            <a:avLst/>
          </a:prstGeom>
          <a:ln w="5724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E17E1-D59B-499F-A71C-5C3FC7135129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95280" y="-39960"/>
            <a:ext cx="417672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rd cloth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96360" y="476280"/>
            <a:ext cx="53276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4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690d5a"/>
                </a:solidFill>
                <a:latin typeface="Arial"/>
              </a:rPr>
              <a:t>Flexible wire</a:t>
            </a:r>
            <a:r>
              <a:rPr b="0" lang="en-NZ" sz="2600" spc="-1" strike="noStrike">
                <a:solidFill>
                  <a:srgbClr val="690d5a"/>
                </a:solidFill>
                <a:latin typeface="Arial"/>
              </a:rPr>
              <a:t> (fillet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690d5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690d5a"/>
                </a:solidFill>
                <a:latin typeface="Arial"/>
              </a:rPr>
              <a:t>Wire staples inserted in flexible laminated bac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690d5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690d5a"/>
                </a:solidFill>
                <a:latin typeface="Arial"/>
              </a:rPr>
              <a:t>Mostly used in woollen c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690d5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690d5a"/>
                </a:solidFill>
                <a:latin typeface="Arial"/>
              </a:rPr>
              <a:t>Requires fettling and gri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4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3366"/>
                </a:solidFill>
                <a:latin typeface="Arial"/>
              </a:rPr>
              <a:t>Rigid metallic wi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3366"/>
                </a:solidFill>
                <a:latin typeface="Arial"/>
              </a:rPr>
              <a:t>Continuous length of pressed ste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3366"/>
                </a:solidFill>
                <a:latin typeface="Arial"/>
              </a:rPr>
              <a:t>Mostly used in worsted and semiworsted cards, also opening rollers of woollen c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3366"/>
                </a:solidFill>
                <a:latin typeface="Arial"/>
              </a:rPr>
              <a:t>No fettling or grinding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875640" y="476280"/>
            <a:ext cx="1584000" cy="12430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6948360" y="2151000"/>
            <a:ext cx="1440000" cy="331164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sp>
        <p:nvSpPr>
          <p:cNvPr id="126" name=""/>
          <p:cNvSpPr/>
          <p:nvPr/>
        </p:nvSpPr>
        <p:spPr>
          <a:xfrm>
            <a:off x="5869080" y="1071720"/>
            <a:ext cx="431640" cy="287280"/>
          </a:xfrm>
          <a:prstGeom prst="rightArrow">
            <a:avLst>
              <a:gd name="adj1" fmla="val 50000"/>
              <a:gd name="adj2" fmla="val 37563"/>
            </a:avLst>
          </a:prstGeom>
          <a:solidFill>
            <a:srgbClr val="690d5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867280" y="3662280"/>
            <a:ext cx="433440" cy="289080"/>
          </a:xfrm>
          <a:prstGeom prst="rightArrow">
            <a:avLst>
              <a:gd name="adj1" fmla="val 50000"/>
              <a:gd name="adj2" fmla="val 37484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9761A-926F-4F3C-8444-D299B4F9BDEF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000" y="-100080"/>
            <a:ext cx="8001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ding p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11280" y="406080"/>
            <a:ext cx="754200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Maximise machine width (up to 3.5 metr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Used for woollen cards (condenser is bottlenec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Increase overall machine sp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Used for worsted c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Thibeau CA7 c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2.5 metre wide, up to 220 kg/h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Other innovations included to optimise p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116000" y="3384720"/>
            <a:ext cx="6985080" cy="2205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547640" y="2781360"/>
            <a:ext cx="0" cy="792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B9FB2-A6A4-4A9F-81FF-D0361E31AEF7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9280" y="340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ther factors effecting production and sliver qua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10920" y="1771200"/>
            <a:ext cx="80010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49"/>
              </a:spcBef>
              <a:spcAft>
                <a:spcPts val="649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Carding yields – many factors (blend, settings,.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49"/>
              </a:spcBef>
              <a:spcAft>
                <a:spcPts val="649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Nep formation – fibre properties, card condi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49"/>
              </a:spcBef>
              <a:spcAft>
                <a:spcPts val="649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Use of automatic control syste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49"/>
              </a:spcBef>
              <a:spcAft>
                <a:spcPts val="649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Maintenance requirement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Fettling – regular, only for woollen cards with fillet clo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Grinding – occasional, only for fillet clo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Cleaning, lubricating, check settings etc. - re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3510B-5A3C-4D52-8F0B-37ECBC62E7A9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685800" y="466164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of Summary Slides - Close Wind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4B7A22-6945-42FB-B7C6-EE6656998EC5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8T04:52:09Z</dcterms:created>
  <dc:creator>ES</dc:creator>
  <dc:description/>
  <dc:language>en-US</dc:language>
  <cp:lastModifiedBy>Sally Mahony</cp:lastModifiedBy>
  <dcterms:modified xsi:type="dcterms:W3CDTF">2005-06-29T01:31:13Z</dcterms:modified>
  <cp:revision>61</cp:revision>
  <dc:subject/>
  <dc:title>PowerPoint Presentation</dc:title>
</cp:coreProperties>
</file>