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1.png" ContentType="image/png"/>
  <Override PartName="/ppt/media/image17.jpeg" ContentType="image/jpeg"/>
  <Override PartName="/ppt/media/image16.jpeg" ContentType="image/jpeg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E94B-7857-49C2-9829-E5CF890C6E23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A1F18-B236-48E4-97AD-6B9245FE06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7C338-BB96-45BA-B81A-E4DFE5B7DD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DAA76-2018-435C-A167-02F9A8FADA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525F8-FFE6-41DB-A069-389D03925E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C01D8-1A0E-418A-B072-42262C0460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DA930-DECA-49A4-AE74-51082E1A6A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B00A8-2E2D-49BB-A677-FA8091CF3E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7D7A0-C221-4635-A2D5-187078DEAA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A80C8-7567-4783-99B9-85CEA66642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1BEC7-2E19-4F02-BEF9-BBD9CC1EC9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024E1-3A9D-40A1-8C95-BCB5FA34B2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157BF-9FF8-4100-B5CF-045A2B3902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FBE93-99D7-4532-83D7-19068F2C4C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5FD81-E063-4B01-82F0-115BD317B5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5C727-150D-4054-9514-268F2044EF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16E29-A493-410B-815F-B4E0BE56B9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4EDAA-EDF0-4A18-A3B8-EF02301ADD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D155C-D253-45CE-905B-FAD69094D6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BB687-1905-457B-A2BC-728A07F963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AC28A-D120-4CB7-9F4D-2D6686F654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F58C3-EDF3-453E-BAEB-A9FFD13AC5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20136-8319-425C-A13E-2694DCAB9B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3E7C3-D80A-4C48-B48D-E6CBC0AF01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1E2CE-6701-4147-B6F7-979126BE51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259C-FE16-405F-BD15-B16A90BAC283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6181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DE5A-E500-447D-9463-B5859C76EFE0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8355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inciples of Wool Card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47640" y="46530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BB960-E735-47F6-8D2C-56774B6FA3D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4920" y="44280"/>
            <a:ext cx="778356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bre breakage on the c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94920" y="2636640"/>
            <a:ext cx="84200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orce is required to separate each fibre from its cl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force applied exceeds the fibre strength it will 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ssive fibre breakage causes numerous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or y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nning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k and uneven ya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lling in fabrics; shedding in carp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116000" y="776160"/>
            <a:ext cx="2590920" cy="1622880"/>
            <a:chOff x="1116000" y="776160"/>
            <a:chExt cx="2590920" cy="1622880"/>
          </a:xfrm>
        </p:grpSpPr>
        <p:sp>
          <p:nvSpPr>
            <p:cNvPr id="249" name=""/>
            <p:cNvSpPr/>
            <p:nvPr/>
          </p:nvSpPr>
          <p:spPr>
            <a:xfrm>
              <a:off x="1332000" y="776160"/>
              <a:ext cx="2374920" cy="1152360"/>
            </a:xfrm>
            <a:custGeom>
              <a:avLst/>
              <a:gdLst/>
              <a:ahLst/>
              <a:rect l="l" t="t" r="r" b="b"/>
              <a:pathLst>
                <a:path w="1496" h="726">
                  <a:moveTo>
                    <a:pt x="0" y="317"/>
                  </a:moveTo>
                  <a:lnTo>
                    <a:pt x="136" y="181"/>
                  </a:lnTo>
                  <a:lnTo>
                    <a:pt x="408" y="45"/>
                  </a:lnTo>
                  <a:lnTo>
                    <a:pt x="635" y="45"/>
                  </a:lnTo>
                  <a:lnTo>
                    <a:pt x="816" y="91"/>
                  </a:lnTo>
                  <a:lnTo>
                    <a:pt x="907" y="45"/>
                  </a:lnTo>
                  <a:lnTo>
                    <a:pt x="1043" y="0"/>
                  </a:lnTo>
                  <a:lnTo>
                    <a:pt x="1179" y="45"/>
                  </a:lnTo>
                  <a:lnTo>
                    <a:pt x="1315" y="91"/>
                  </a:lnTo>
                  <a:lnTo>
                    <a:pt x="1451" y="227"/>
                  </a:lnTo>
                  <a:lnTo>
                    <a:pt x="1496" y="317"/>
                  </a:lnTo>
                  <a:lnTo>
                    <a:pt x="1451" y="408"/>
                  </a:lnTo>
                  <a:lnTo>
                    <a:pt x="1224" y="453"/>
                  </a:lnTo>
                  <a:lnTo>
                    <a:pt x="998" y="590"/>
                  </a:lnTo>
                  <a:lnTo>
                    <a:pt x="907" y="726"/>
                  </a:lnTo>
                  <a:lnTo>
                    <a:pt x="635" y="680"/>
                  </a:lnTo>
                  <a:lnTo>
                    <a:pt x="453" y="590"/>
                  </a:lnTo>
                  <a:lnTo>
                    <a:pt x="363" y="499"/>
                  </a:lnTo>
                  <a:lnTo>
                    <a:pt x="136" y="590"/>
                  </a:lnTo>
                  <a:lnTo>
                    <a:pt x="90" y="544"/>
                  </a:lnTo>
                  <a:lnTo>
                    <a:pt x="0" y="453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20992200">
              <a:off x="1331640" y="1142640"/>
              <a:ext cx="2158920" cy="358560"/>
            </a:xfrm>
            <a:custGeom>
              <a:avLst/>
              <a:gdLst/>
              <a:ahLst/>
              <a:rect l="l" t="t" r="r" b="b"/>
              <a:pathLst>
                <a:path w="1187" h="196">
                  <a:moveTo>
                    <a:pt x="99" y="136"/>
                  </a:moveTo>
                  <a:cubicBezTo>
                    <a:pt x="83" y="120"/>
                    <a:pt x="68" y="105"/>
                    <a:pt x="53" y="90"/>
                  </a:cubicBezTo>
                  <a:cubicBezTo>
                    <a:pt x="38" y="75"/>
                    <a:pt x="0" y="60"/>
                    <a:pt x="8" y="45"/>
                  </a:cubicBezTo>
                  <a:cubicBezTo>
                    <a:pt x="16" y="30"/>
                    <a:pt x="69" y="0"/>
                    <a:pt x="99" y="0"/>
                  </a:cubicBezTo>
                  <a:cubicBezTo>
                    <a:pt x="129" y="0"/>
                    <a:pt x="159" y="30"/>
                    <a:pt x="189" y="45"/>
                  </a:cubicBezTo>
                  <a:cubicBezTo>
                    <a:pt x="219" y="60"/>
                    <a:pt x="250" y="90"/>
                    <a:pt x="280" y="90"/>
                  </a:cubicBezTo>
                  <a:cubicBezTo>
                    <a:pt x="310" y="90"/>
                    <a:pt x="341" y="52"/>
                    <a:pt x="371" y="45"/>
                  </a:cubicBezTo>
                  <a:cubicBezTo>
                    <a:pt x="401" y="38"/>
                    <a:pt x="432" y="45"/>
                    <a:pt x="462" y="45"/>
                  </a:cubicBezTo>
                  <a:cubicBezTo>
                    <a:pt x="492" y="45"/>
                    <a:pt x="522" y="45"/>
                    <a:pt x="552" y="45"/>
                  </a:cubicBezTo>
                  <a:cubicBezTo>
                    <a:pt x="582" y="45"/>
                    <a:pt x="620" y="38"/>
                    <a:pt x="643" y="45"/>
                  </a:cubicBezTo>
                  <a:cubicBezTo>
                    <a:pt x="666" y="52"/>
                    <a:pt x="665" y="75"/>
                    <a:pt x="688" y="90"/>
                  </a:cubicBezTo>
                  <a:cubicBezTo>
                    <a:pt x="711" y="105"/>
                    <a:pt x="756" y="121"/>
                    <a:pt x="779" y="136"/>
                  </a:cubicBezTo>
                  <a:cubicBezTo>
                    <a:pt x="802" y="151"/>
                    <a:pt x="801" y="174"/>
                    <a:pt x="824" y="181"/>
                  </a:cubicBezTo>
                  <a:cubicBezTo>
                    <a:pt x="847" y="188"/>
                    <a:pt x="892" y="196"/>
                    <a:pt x="915" y="181"/>
                  </a:cubicBezTo>
                  <a:cubicBezTo>
                    <a:pt x="938" y="166"/>
                    <a:pt x="938" y="113"/>
                    <a:pt x="961" y="90"/>
                  </a:cubicBezTo>
                  <a:cubicBezTo>
                    <a:pt x="984" y="67"/>
                    <a:pt x="1013" y="53"/>
                    <a:pt x="1051" y="45"/>
                  </a:cubicBezTo>
                  <a:cubicBezTo>
                    <a:pt x="1089" y="37"/>
                    <a:pt x="1138" y="41"/>
                    <a:pt x="1187" y="45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16000" y="2000160"/>
              <a:ext cx="259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Fibre embedded in tu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859280" y="408240"/>
            <a:ext cx="3024360" cy="1991160"/>
            <a:chOff x="4859280" y="408240"/>
            <a:chExt cx="3024360" cy="1991160"/>
          </a:xfrm>
        </p:grpSpPr>
        <p:sp>
          <p:nvSpPr>
            <p:cNvPr id="253" name=""/>
            <p:cNvSpPr/>
            <p:nvPr/>
          </p:nvSpPr>
          <p:spPr>
            <a:xfrm>
              <a:off x="5364000" y="920880"/>
              <a:ext cx="2233800" cy="239760"/>
            </a:xfrm>
            <a:custGeom>
              <a:avLst/>
              <a:gdLst/>
              <a:ahLst/>
              <a:rect l="l" t="t" r="r" b="b"/>
              <a:pathLst>
                <a:path w="1407" h="151">
                  <a:moveTo>
                    <a:pt x="0" y="143"/>
                  </a:moveTo>
                  <a:cubicBezTo>
                    <a:pt x="42" y="128"/>
                    <a:pt x="84" y="113"/>
                    <a:pt x="137" y="98"/>
                  </a:cubicBezTo>
                  <a:cubicBezTo>
                    <a:pt x="190" y="83"/>
                    <a:pt x="265" y="52"/>
                    <a:pt x="318" y="52"/>
                  </a:cubicBezTo>
                  <a:cubicBezTo>
                    <a:pt x="371" y="52"/>
                    <a:pt x="416" y="90"/>
                    <a:pt x="454" y="98"/>
                  </a:cubicBezTo>
                  <a:cubicBezTo>
                    <a:pt x="492" y="106"/>
                    <a:pt x="507" y="91"/>
                    <a:pt x="545" y="98"/>
                  </a:cubicBezTo>
                  <a:cubicBezTo>
                    <a:pt x="583" y="105"/>
                    <a:pt x="643" y="151"/>
                    <a:pt x="681" y="143"/>
                  </a:cubicBezTo>
                  <a:cubicBezTo>
                    <a:pt x="719" y="135"/>
                    <a:pt x="742" y="75"/>
                    <a:pt x="772" y="52"/>
                  </a:cubicBezTo>
                  <a:cubicBezTo>
                    <a:pt x="802" y="29"/>
                    <a:pt x="832" y="14"/>
                    <a:pt x="862" y="7"/>
                  </a:cubicBezTo>
                  <a:cubicBezTo>
                    <a:pt x="892" y="0"/>
                    <a:pt x="915" y="7"/>
                    <a:pt x="953" y="7"/>
                  </a:cubicBezTo>
                  <a:cubicBezTo>
                    <a:pt x="991" y="7"/>
                    <a:pt x="1051" y="0"/>
                    <a:pt x="1089" y="7"/>
                  </a:cubicBezTo>
                  <a:cubicBezTo>
                    <a:pt x="1127" y="14"/>
                    <a:pt x="1142" y="45"/>
                    <a:pt x="1180" y="52"/>
                  </a:cubicBezTo>
                  <a:cubicBezTo>
                    <a:pt x="1218" y="59"/>
                    <a:pt x="1278" y="59"/>
                    <a:pt x="1316" y="52"/>
                  </a:cubicBezTo>
                  <a:cubicBezTo>
                    <a:pt x="1354" y="45"/>
                    <a:pt x="1380" y="26"/>
                    <a:pt x="1407" y="7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291280" y="847800"/>
              <a:ext cx="1441440" cy="505080"/>
            </a:xfrm>
            <a:custGeom>
              <a:avLst/>
              <a:gdLst/>
              <a:ahLst/>
              <a:rect l="l" t="t" r="r" b="b"/>
              <a:pathLst>
                <a:path w="590" h="318">
                  <a:moveTo>
                    <a:pt x="0" y="0"/>
                  </a:moveTo>
                  <a:cubicBezTo>
                    <a:pt x="30" y="11"/>
                    <a:pt x="61" y="23"/>
                    <a:pt x="91" y="46"/>
                  </a:cubicBezTo>
                  <a:cubicBezTo>
                    <a:pt x="121" y="69"/>
                    <a:pt x="152" y="106"/>
                    <a:pt x="182" y="136"/>
                  </a:cubicBezTo>
                  <a:cubicBezTo>
                    <a:pt x="212" y="166"/>
                    <a:pt x="243" y="204"/>
                    <a:pt x="273" y="227"/>
                  </a:cubicBezTo>
                  <a:cubicBezTo>
                    <a:pt x="303" y="250"/>
                    <a:pt x="333" y="257"/>
                    <a:pt x="363" y="272"/>
                  </a:cubicBezTo>
                  <a:cubicBezTo>
                    <a:pt x="393" y="287"/>
                    <a:pt x="431" y="318"/>
                    <a:pt x="454" y="318"/>
                  </a:cubicBezTo>
                  <a:cubicBezTo>
                    <a:pt x="477" y="318"/>
                    <a:pt x="476" y="287"/>
                    <a:pt x="499" y="272"/>
                  </a:cubicBezTo>
                  <a:cubicBezTo>
                    <a:pt x="522" y="257"/>
                    <a:pt x="556" y="242"/>
                    <a:pt x="590" y="227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20617800">
              <a:off x="5075280" y="920520"/>
              <a:ext cx="2521080" cy="358920"/>
            </a:xfrm>
            <a:custGeom>
              <a:avLst/>
              <a:gdLst/>
              <a:ahLst/>
              <a:rect l="l" t="t" r="r" b="b"/>
              <a:pathLst>
                <a:path w="1588" h="226">
                  <a:moveTo>
                    <a:pt x="0" y="226"/>
                  </a:moveTo>
                  <a:cubicBezTo>
                    <a:pt x="102" y="147"/>
                    <a:pt x="204" y="68"/>
                    <a:pt x="272" y="45"/>
                  </a:cubicBezTo>
                  <a:cubicBezTo>
                    <a:pt x="340" y="22"/>
                    <a:pt x="355" y="75"/>
                    <a:pt x="408" y="90"/>
                  </a:cubicBezTo>
                  <a:cubicBezTo>
                    <a:pt x="461" y="105"/>
                    <a:pt x="537" y="121"/>
                    <a:pt x="590" y="136"/>
                  </a:cubicBezTo>
                  <a:cubicBezTo>
                    <a:pt x="643" y="151"/>
                    <a:pt x="681" y="189"/>
                    <a:pt x="726" y="181"/>
                  </a:cubicBezTo>
                  <a:cubicBezTo>
                    <a:pt x="771" y="173"/>
                    <a:pt x="824" y="113"/>
                    <a:pt x="862" y="90"/>
                  </a:cubicBezTo>
                  <a:cubicBezTo>
                    <a:pt x="900" y="67"/>
                    <a:pt x="930" y="45"/>
                    <a:pt x="953" y="45"/>
                  </a:cubicBezTo>
                  <a:cubicBezTo>
                    <a:pt x="976" y="45"/>
                    <a:pt x="968" y="90"/>
                    <a:pt x="998" y="90"/>
                  </a:cubicBezTo>
                  <a:cubicBezTo>
                    <a:pt x="1028" y="90"/>
                    <a:pt x="1089" y="60"/>
                    <a:pt x="1134" y="45"/>
                  </a:cubicBezTo>
                  <a:cubicBezTo>
                    <a:pt x="1179" y="30"/>
                    <a:pt x="1240" y="0"/>
                    <a:pt x="1270" y="0"/>
                  </a:cubicBezTo>
                  <a:cubicBezTo>
                    <a:pt x="1300" y="0"/>
                    <a:pt x="1293" y="30"/>
                    <a:pt x="1316" y="45"/>
                  </a:cubicBezTo>
                  <a:cubicBezTo>
                    <a:pt x="1339" y="60"/>
                    <a:pt x="1376" y="83"/>
                    <a:pt x="1406" y="90"/>
                  </a:cubicBezTo>
                  <a:cubicBezTo>
                    <a:pt x="1436" y="97"/>
                    <a:pt x="1467" y="82"/>
                    <a:pt x="1497" y="90"/>
                  </a:cubicBezTo>
                  <a:cubicBezTo>
                    <a:pt x="1527" y="98"/>
                    <a:pt x="1557" y="117"/>
                    <a:pt x="1588" y="136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2580000">
              <a:off x="6300360" y="847440"/>
              <a:ext cx="1440000" cy="384480"/>
            </a:xfrm>
            <a:custGeom>
              <a:avLst/>
              <a:gdLst/>
              <a:ahLst/>
              <a:rect l="l" t="t" r="r" b="b"/>
              <a:pathLst>
                <a:path w="816" h="242">
                  <a:moveTo>
                    <a:pt x="0" y="136"/>
                  </a:moveTo>
                  <a:cubicBezTo>
                    <a:pt x="60" y="174"/>
                    <a:pt x="121" y="212"/>
                    <a:pt x="181" y="227"/>
                  </a:cubicBezTo>
                  <a:cubicBezTo>
                    <a:pt x="241" y="242"/>
                    <a:pt x="310" y="235"/>
                    <a:pt x="363" y="227"/>
                  </a:cubicBezTo>
                  <a:cubicBezTo>
                    <a:pt x="416" y="219"/>
                    <a:pt x="454" y="189"/>
                    <a:pt x="499" y="181"/>
                  </a:cubicBezTo>
                  <a:cubicBezTo>
                    <a:pt x="544" y="173"/>
                    <a:pt x="605" y="173"/>
                    <a:pt x="635" y="181"/>
                  </a:cubicBezTo>
                  <a:cubicBezTo>
                    <a:pt x="665" y="189"/>
                    <a:pt x="657" y="219"/>
                    <a:pt x="680" y="227"/>
                  </a:cubicBezTo>
                  <a:cubicBezTo>
                    <a:pt x="703" y="235"/>
                    <a:pt x="748" y="235"/>
                    <a:pt x="771" y="227"/>
                  </a:cubicBezTo>
                  <a:cubicBezTo>
                    <a:pt x="794" y="219"/>
                    <a:pt x="816" y="204"/>
                    <a:pt x="816" y="181"/>
                  </a:cubicBezTo>
                  <a:cubicBezTo>
                    <a:pt x="816" y="158"/>
                    <a:pt x="794" y="114"/>
                    <a:pt x="771" y="91"/>
                  </a:cubicBezTo>
                  <a:cubicBezTo>
                    <a:pt x="748" y="68"/>
                    <a:pt x="703" y="60"/>
                    <a:pt x="680" y="45"/>
                  </a:cubicBezTo>
                  <a:cubicBezTo>
                    <a:pt x="657" y="30"/>
                    <a:pt x="642" y="7"/>
                    <a:pt x="635" y="0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75280" y="632160"/>
              <a:ext cx="1152360" cy="1081080"/>
            </a:xfrm>
            <a:custGeom>
              <a:avLst/>
              <a:gdLst/>
              <a:ahLst/>
              <a:rect l="l" t="t" r="r" b="b"/>
              <a:pathLst>
                <a:path w="499" h="499">
                  <a:moveTo>
                    <a:pt x="499" y="0"/>
                  </a:moveTo>
                  <a:cubicBezTo>
                    <a:pt x="442" y="11"/>
                    <a:pt x="386" y="22"/>
                    <a:pt x="363" y="45"/>
                  </a:cubicBezTo>
                  <a:cubicBezTo>
                    <a:pt x="340" y="68"/>
                    <a:pt x="378" y="91"/>
                    <a:pt x="363" y="136"/>
                  </a:cubicBezTo>
                  <a:cubicBezTo>
                    <a:pt x="348" y="181"/>
                    <a:pt x="303" y="287"/>
                    <a:pt x="273" y="317"/>
                  </a:cubicBezTo>
                  <a:cubicBezTo>
                    <a:pt x="243" y="347"/>
                    <a:pt x="212" y="317"/>
                    <a:pt x="182" y="317"/>
                  </a:cubicBezTo>
                  <a:cubicBezTo>
                    <a:pt x="152" y="317"/>
                    <a:pt x="114" y="302"/>
                    <a:pt x="91" y="317"/>
                  </a:cubicBezTo>
                  <a:cubicBezTo>
                    <a:pt x="68" y="332"/>
                    <a:pt x="61" y="378"/>
                    <a:pt x="46" y="408"/>
                  </a:cubicBezTo>
                  <a:cubicBezTo>
                    <a:pt x="31" y="438"/>
                    <a:pt x="15" y="468"/>
                    <a:pt x="0" y="499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3502800">
              <a:off x="6655680" y="708840"/>
              <a:ext cx="874440" cy="720720"/>
            </a:xfrm>
            <a:custGeom>
              <a:avLst/>
              <a:gdLst/>
              <a:ahLst/>
              <a:rect l="l" t="t" r="r" b="b"/>
              <a:pathLst>
                <a:path w="279" h="317">
                  <a:moveTo>
                    <a:pt x="279" y="317"/>
                  </a:moveTo>
                  <a:cubicBezTo>
                    <a:pt x="271" y="264"/>
                    <a:pt x="263" y="211"/>
                    <a:pt x="233" y="181"/>
                  </a:cubicBezTo>
                  <a:cubicBezTo>
                    <a:pt x="203" y="151"/>
                    <a:pt x="135" y="151"/>
                    <a:pt x="97" y="136"/>
                  </a:cubicBezTo>
                  <a:cubicBezTo>
                    <a:pt x="59" y="121"/>
                    <a:pt x="14" y="105"/>
                    <a:pt x="7" y="90"/>
                  </a:cubicBezTo>
                  <a:cubicBezTo>
                    <a:pt x="0" y="75"/>
                    <a:pt x="37" y="60"/>
                    <a:pt x="52" y="45"/>
                  </a:cubicBezTo>
                  <a:cubicBezTo>
                    <a:pt x="67" y="30"/>
                    <a:pt x="82" y="7"/>
                    <a:pt x="9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48360" y="1424160"/>
              <a:ext cx="2087640" cy="479520"/>
            </a:xfrm>
            <a:custGeom>
              <a:avLst/>
              <a:gdLst/>
              <a:ahLst/>
              <a:rect l="l" t="t" r="r" b="b"/>
              <a:pathLst>
                <a:path w="1315" h="302">
                  <a:moveTo>
                    <a:pt x="0" y="287"/>
                  </a:moveTo>
                  <a:cubicBezTo>
                    <a:pt x="41" y="272"/>
                    <a:pt x="83" y="257"/>
                    <a:pt x="136" y="242"/>
                  </a:cubicBezTo>
                  <a:cubicBezTo>
                    <a:pt x="189" y="227"/>
                    <a:pt x="272" y="196"/>
                    <a:pt x="317" y="196"/>
                  </a:cubicBezTo>
                  <a:cubicBezTo>
                    <a:pt x="362" y="196"/>
                    <a:pt x="378" y="227"/>
                    <a:pt x="408" y="242"/>
                  </a:cubicBezTo>
                  <a:cubicBezTo>
                    <a:pt x="438" y="257"/>
                    <a:pt x="469" y="280"/>
                    <a:pt x="499" y="287"/>
                  </a:cubicBezTo>
                  <a:cubicBezTo>
                    <a:pt x="529" y="294"/>
                    <a:pt x="559" y="302"/>
                    <a:pt x="589" y="287"/>
                  </a:cubicBezTo>
                  <a:cubicBezTo>
                    <a:pt x="619" y="272"/>
                    <a:pt x="650" y="226"/>
                    <a:pt x="680" y="196"/>
                  </a:cubicBezTo>
                  <a:cubicBezTo>
                    <a:pt x="710" y="166"/>
                    <a:pt x="756" y="136"/>
                    <a:pt x="771" y="106"/>
                  </a:cubicBezTo>
                  <a:cubicBezTo>
                    <a:pt x="786" y="76"/>
                    <a:pt x="756" y="30"/>
                    <a:pt x="771" y="15"/>
                  </a:cubicBezTo>
                  <a:cubicBezTo>
                    <a:pt x="786" y="0"/>
                    <a:pt x="832" y="0"/>
                    <a:pt x="862" y="15"/>
                  </a:cubicBezTo>
                  <a:cubicBezTo>
                    <a:pt x="892" y="30"/>
                    <a:pt x="929" y="83"/>
                    <a:pt x="952" y="106"/>
                  </a:cubicBezTo>
                  <a:cubicBezTo>
                    <a:pt x="975" y="129"/>
                    <a:pt x="983" y="136"/>
                    <a:pt x="998" y="151"/>
                  </a:cubicBezTo>
                  <a:cubicBezTo>
                    <a:pt x="1013" y="166"/>
                    <a:pt x="1020" y="181"/>
                    <a:pt x="1043" y="196"/>
                  </a:cubicBezTo>
                  <a:cubicBezTo>
                    <a:pt x="1066" y="211"/>
                    <a:pt x="1089" y="234"/>
                    <a:pt x="1134" y="242"/>
                  </a:cubicBezTo>
                  <a:cubicBezTo>
                    <a:pt x="1179" y="250"/>
                    <a:pt x="1277" y="242"/>
                    <a:pt x="1315" y="24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145200" y="704880"/>
              <a:ext cx="371520" cy="1366920"/>
            </a:xfrm>
            <a:custGeom>
              <a:avLst/>
              <a:gdLst/>
              <a:ahLst/>
              <a:rect l="l" t="t" r="r" b="b"/>
              <a:pathLst>
                <a:path w="234" h="861">
                  <a:moveTo>
                    <a:pt x="234" y="861"/>
                  </a:moveTo>
                  <a:cubicBezTo>
                    <a:pt x="226" y="793"/>
                    <a:pt x="218" y="725"/>
                    <a:pt x="188" y="680"/>
                  </a:cubicBezTo>
                  <a:cubicBezTo>
                    <a:pt x="158" y="635"/>
                    <a:pt x="82" y="619"/>
                    <a:pt x="52" y="589"/>
                  </a:cubicBezTo>
                  <a:cubicBezTo>
                    <a:pt x="22" y="559"/>
                    <a:pt x="14" y="528"/>
                    <a:pt x="7" y="498"/>
                  </a:cubicBezTo>
                  <a:cubicBezTo>
                    <a:pt x="0" y="468"/>
                    <a:pt x="7" y="438"/>
                    <a:pt x="7" y="408"/>
                  </a:cubicBezTo>
                  <a:cubicBezTo>
                    <a:pt x="7" y="378"/>
                    <a:pt x="0" y="355"/>
                    <a:pt x="7" y="317"/>
                  </a:cubicBezTo>
                  <a:cubicBezTo>
                    <a:pt x="14" y="279"/>
                    <a:pt x="37" y="219"/>
                    <a:pt x="52" y="181"/>
                  </a:cubicBezTo>
                  <a:cubicBezTo>
                    <a:pt x="67" y="143"/>
                    <a:pt x="82" y="120"/>
                    <a:pt x="97" y="90"/>
                  </a:cubicBezTo>
                  <a:cubicBezTo>
                    <a:pt x="112" y="60"/>
                    <a:pt x="135" y="23"/>
                    <a:pt x="143" y="0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91280" y="704880"/>
              <a:ext cx="685800" cy="1366920"/>
            </a:xfrm>
            <a:custGeom>
              <a:avLst/>
              <a:gdLst/>
              <a:ahLst/>
              <a:rect l="l" t="t" r="r" b="b"/>
              <a:pathLst>
                <a:path w="432" h="861">
                  <a:moveTo>
                    <a:pt x="273" y="861"/>
                  </a:moveTo>
                  <a:cubicBezTo>
                    <a:pt x="329" y="797"/>
                    <a:pt x="386" y="733"/>
                    <a:pt x="409" y="680"/>
                  </a:cubicBezTo>
                  <a:cubicBezTo>
                    <a:pt x="432" y="627"/>
                    <a:pt x="432" y="589"/>
                    <a:pt x="409" y="544"/>
                  </a:cubicBezTo>
                  <a:cubicBezTo>
                    <a:pt x="386" y="499"/>
                    <a:pt x="333" y="446"/>
                    <a:pt x="273" y="408"/>
                  </a:cubicBezTo>
                  <a:cubicBezTo>
                    <a:pt x="213" y="370"/>
                    <a:pt x="92" y="347"/>
                    <a:pt x="46" y="317"/>
                  </a:cubicBezTo>
                  <a:cubicBezTo>
                    <a:pt x="0" y="287"/>
                    <a:pt x="0" y="256"/>
                    <a:pt x="0" y="226"/>
                  </a:cubicBezTo>
                  <a:cubicBezTo>
                    <a:pt x="0" y="196"/>
                    <a:pt x="23" y="173"/>
                    <a:pt x="46" y="136"/>
                  </a:cubicBezTo>
                  <a:cubicBezTo>
                    <a:pt x="69" y="99"/>
                    <a:pt x="102" y="49"/>
                    <a:pt x="136" y="0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32360" y="1279800"/>
              <a:ext cx="2879640" cy="360360"/>
            </a:xfrm>
            <a:custGeom>
              <a:avLst/>
              <a:gdLst/>
              <a:ahLst/>
              <a:rect l="l" t="t" r="r" b="b"/>
              <a:pathLst>
                <a:path w="1814" h="227">
                  <a:moveTo>
                    <a:pt x="0" y="46"/>
                  </a:moveTo>
                  <a:cubicBezTo>
                    <a:pt x="94" y="79"/>
                    <a:pt x="189" y="113"/>
                    <a:pt x="272" y="136"/>
                  </a:cubicBezTo>
                  <a:cubicBezTo>
                    <a:pt x="355" y="159"/>
                    <a:pt x="454" y="182"/>
                    <a:pt x="499" y="182"/>
                  </a:cubicBezTo>
                  <a:cubicBezTo>
                    <a:pt x="544" y="182"/>
                    <a:pt x="499" y="151"/>
                    <a:pt x="544" y="136"/>
                  </a:cubicBezTo>
                  <a:cubicBezTo>
                    <a:pt x="589" y="121"/>
                    <a:pt x="711" y="91"/>
                    <a:pt x="771" y="91"/>
                  </a:cubicBezTo>
                  <a:cubicBezTo>
                    <a:pt x="831" y="91"/>
                    <a:pt x="854" y="113"/>
                    <a:pt x="907" y="136"/>
                  </a:cubicBezTo>
                  <a:cubicBezTo>
                    <a:pt x="960" y="159"/>
                    <a:pt x="1035" y="227"/>
                    <a:pt x="1088" y="227"/>
                  </a:cubicBezTo>
                  <a:cubicBezTo>
                    <a:pt x="1141" y="227"/>
                    <a:pt x="1194" y="159"/>
                    <a:pt x="1224" y="136"/>
                  </a:cubicBezTo>
                  <a:cubicBezTo>
                    <a:pt x="1254" y="113"/>
                    <a:pt x="1247" y="106"/>
                    <a:pt x="1270" y="91"/>
                  </a:cubicBezTo>
                  <a:cubicBezTo>
                    <a:pt x="1293" y="76"/>
                    <a:pt x="1330" y="61"/>
                    <a:pt x="1360" y="46"/>
                  </a:cubicBezTo>
                  <a:cubicBezTo>
                    <a:pt x="1390" y="31"/>
                    <a:pt x="1398" y="0"/>
                    <a:pt x="1451" y="0"/>
                  </a:cubicBezTo>
                  <a:cubicBezTo>
                    <a:pt x="1504" y="0"/>
                    <a:pt x="1625" y="38"/>
                    <a:pt x="1678" y="46"/>
                  </a:cubicBezTo>
                  <a:cubicBezTo>
                    <a:pt x="1731" y="54"/>
                    <a:pt x="1746" y="54"/>
                    <a:pt x="1769" y="46"/>
                  </a:cubicBezTo>
                  <a:cubicBezTo>
                    <a:pt x="1792" y="38"/>
                    <a:pt x="1799" y="8"/>
                    <a:pt x="1814" y="0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59280" y="549360"/>
              <a:ext cx="2881440" cy="587520"/>
            </a:xfrm>
            <a:custGeom>
              <a:avLst/>
              <a:gdLst/>
              <a:ahLst/>
              <a:rect l="l" t="t" r="r" b="b"/>
              <a:pathLst>
                <a:path w="1815" h="370">
                  <a:moveTo>
                    <a:pt x="0" y="370"/>
                  </a:moveTo>
                  <a:cubicBezTo>
                    <a:pt x="57" y="354"/>
                    <a:pt x="114" y="339"/>
                    <a:pt x="182" y="324"/>
                  </a:cubicBezTo>
                  <a:cubicBezTo>
                    <a:pt x="250" y="309"/>
                    <a:pt x="355" y="302"/>
                    <a:pt x="408" y="279"/>
                  </a:cubicBezTo>
                  <a:cubicBezTo>
                    <a:pt x="461" y="256"/>
                    <a:pt x="469" y="211"/>
                    <a:pt x="499" y="188"/>
                  </a:cubicBezTo>
                  <a:cubicBezTo>
                    <a:pt x="529" y="165"/>
                    <a:pt x="545" y="158"/>
                    <a:pt x="590" y="143"/>
                  </a:cubicBezTo>
                  <a:cubicBezTo>
                    <a:pt x="635" y="128"/>
                    <a:pt x="726" y="98"/>
                    <a:pt x="771" y="98"/>
                  </a:cubicBezTo>
                  <a:cubicBezTo>
                    <a:pt x="816" y="98"/>
                    <a:pt x="824" y="136"/>
                    <a:pt x="862" y="143"/>
                  </a:cubicBezTo>
                  <a:cubicBezTo>
                    <a:pt x="900" y="150"/>
                    <a:pt x="953" y="150"/>
                    <a:pt x="998" y="143"/>
                  </a:cubicBezTo>
                  <a:cubicBezTo>
                    <a:pt x="1043" y="136"/>
                    <a:pt x="1089" y="113"/>
                    <a:pt x="1134" y="98"/>
                  </a:cubicBezTo>
                  <a:cubicBezTo>
                    <a:pt x="1179" y="83"/>
                    <a:pt x="1225" y="60"/>
                    <a:pt x="1270" y="52"/>
                  </a:cubicBezTo>
                  <a:cubicBezTo>
                    <a:pt x="1315" y="44"/>
                    <a:pt x="1368" y="59"/>
                    <a:pt x="1406" y="52"/>
                  </a:cubicBezTo>
                  <a:cubicBezTo>
                    <a:pt x="1444" y="45"/>
                    <a:pt x="1459" y="14"/>
                    <a:pt x="1497" y="7"/>
                  </a:cubicBezTo>
                  <a:cubicBezTo>
                    <a:pt x="1535" y="0"/>
                    <a:pt x="1595" y="0"/>
                    <a:pt x="1633" y="7"/>
                  </a:cubicBezTo>
                  <a:cubicBezTo>
                    <a:pt x="1671" y="14"/>
                    <a:pt x="1694" y="29"/>
                    <a:pt x="1724" y="52"/>
                  </a:cubicBezTo>
                  <a:cubicBezTo>
                    <a:pt x="1754" y="75"/>
                    <a:pt x="1784" y="109"/>
                    <a:pt x="1815" y="143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30920" y="2000520"/>
              <a:ext cx="295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eparated fibre in 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4067280" y="1208160"/>
            <a:ext cx="649080" cy="43164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0099cc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146A6-9263-421A-9A26-36194A845C9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280" y="-27360"/>
            <a:ext cx="7412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uft opening at the licker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55640" y="907560"/>
            <a:ext cx="8083440" cy="16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lose-up view of the feed-roller/lickerin zone where initial tuft opening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ast-moving teeth of the lickerin tear away at the tuft as it is presented by the feed rol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195640" y="2417760"/>
            <a:ext cx="4537080" cy="306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8801D-FC93-4EE1-A2B3-06B51A744F0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bre capture by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ckerin tee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71640" y="3440160"/>
            <a:ext cx="74865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bre is pulled by the lickerin tooth un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end is pulled free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bre breaks into two sections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tire clump of fibres is pulled across onto the licke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209680" y="536760"/>
            <a:ext cx="4876560" cy="2522160"/>
            <a:chOff x="2209680" y="536760"/>
            <a:chExt cx="4876560" cy="2522160"/>
          </a:xfrm>
        </p:grpSpPr>
        <p:sp>
          <p:nvSpPr>
            <p:cNvPr id="272" name=""/>
            <p:cNvSpPr/>
            <p:nvPr/>
          </p:nvSpPr>
          <p:spPr>
            <a:xfrm flipH="1" flipV="1" rot="20481600">
              <a:off x="5104080" y="619920"/>
              <a:ext cx="685800" cy="990720"/>
            </a:xfrm>
            <a:prstGeom prst="rtTriangle">
              <a:avLst/>
            </a:prstGeom>
            <a:solidFill>
              <a:srgbClr val="99ffcc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61960" y="1763640"/>
              <a:ext cx="4267080" cy="1219320"/>
            </a:xfrm>
            <a:custGeom>
              <a:avLst/>
              <a:gdLst/>
              <a:ahLst/>
              <a:rect l="l" t="t" r="r" b="b"/>
              <a:pathLst>
                <a:path w="2688" h="768">
                  <a:moveTo>
                    <a:pt x="240" y="192"/>
                  </a:moveTo>
                  <a:lnTo>
                    <a:pt x="768" y="48"/>
                  </a:lnTo>
                  <a:lnTo>
                    <a:pt x="912" y="144"/>
                  </a:lnTo>
                  <a:lnTo>
                    <a:pt x="1152" y="96"/>
                  </a:lnTo>
                  <a:lnTo>
                    <a:pt x="1392" y="0"/>
                  </a:lnTo>
                  <a:lnTo>
                    <a:pt x="1728" y="48"/>
                  </a:lnTo>
                  <a:lnTo>
                    <a:pt x="1920" y="240"/>
                  </a:lnTo>
                  <a:lnTo>
                    <a:pt x="2208" y="240"/>
                  </a:lnTo>
                  <a:lnTo>
                    <a:pt x="2352" y="192"/>
                  </a:lnTo>
                  <a:lnTo>
                    <a:pt x="2544" y="192"/>
                  </a:lnTo>
                  <a:lnTo>
                    <a:pt x="2640" y="288"/>
                  </a:lnTo>
                  <a:lnTo>
                    <a:pt x="2688" y="480"/>
                  </a:lnTo>
                  <a:lnTo>
                    <a:pt x="2544" y="624"/>
                  </a:lnTo>
                  <a:lnTo>
                    <a:pt x="2304" y="768"/>
                  </a:lnTo>
                  <a:lnTo>
                    <a:pt x="2016" y="672"/>
                  </a:lnTo>
                  <a:lnTo>
                    <a:pt x="1872" y="720"/>
                  </a:lnTo>
                  <a:lnTo>
                    <a:pt x="1584" y="768"/>
                  </a:lnTo>
                  <a:lnTo>
                    <a:pt x="1392" y="672"/>
                  </a:lnTo>
                  <a:lnTo>
                    <a:pt x="1200" y="624"/>
                  </a:lnTo>
                  <a:lnTo>
                    <a:pt x="1008" y="672"/>
                  </a:lnTo>
                  <a:lnTo>
                    <a:pt x="768" y="720"/>
                  </a:lnTo>
                  <a:lnTo>
                    <a:pt x="576" y="624"/>
                  </a:lnTo>
                  <a:lnTo>
                    <a:pt x="192" y="672"/>
                  </a:lnTo>
                  <a:lnTo>
                    <a:pt x="96" y="720"/>
                  </a:lnTo>
                  <a:lnTo>
                    <a:pt x="0" y="624"/>
                  </a:lnTo>
                  <a:lnTo>
                    <a:pt x="0" y="288"/>
                  </a:lnTo>
                  <a:lnTo>
                    <a:pt x="96" y="288"/>
                  </a:lnTo>
                  <a:lnTo>
                    <a:pt x="240" y="19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66880" y="2208240"/>
              <a:ext cx="3657600" cy="558720"/>
            </a:xfrm>
            <a:custGeom>
              <a:avLst/>
              <a:gdLst/>
              <a:ahLst/>
              <a:rect l="l" t="t" r="r" b="b"/>
              <a:pathLst>
                <a:path w="2304" h="352">
                  <a:moveTo>
                    <a:pt x="0" y="8"/>
                  </a:moveTo>
                  <a:cubicBezTo>
                    <a:pt x="48" y="72"/>
                    <a:pt x="96" y="136"/>
                    <a:pt x="144" y="152"/>
                  </a:cubicBezTo>
                  <a:cubicBezTo>
                    <a:pt x="192" y="168"/>
                    <a:pt x="248" y="128"/>
                    <a:pt x="288" y="104"/>
                  </a:cubicBezTo>
                  <a:cubicBezTo>
                    <a:pt x="328" y="80"/>
                    <a:pt x="352" y="16"/>
                    <a:pt x="384" y="8"/>
                  </a:cubicBezTo>
                  <a:cubicBezTo>
                    <a:pt x="416" y="0"/>
                    <a:pt x="440" y="32"/>
                    <a:pt x="480" y="56"/>
                  </a:cubicBezTo>
                  <a:cubicBezTo>
                    <a:pt x="520" y="80"/>
                    <a:pt x="568" y="144"/>
                    <a:pt x="624" y="152"/>
                  </a:cubicBezTo>
                  <a:cubicBezTo>
                    <a:pt x="680" y="160"/>
                    <a:pt x="760" y="112"/>
                    <a:pt x="816" y="104"/>
                  </a:cubicBezTo>
                  <a:cubicBezTo>
                    <a:pt x="872" y="96"/>
                    <a:pt x="912" y="88"/>
                    <a:pt x="960" y="104"/>
                  </a:cubicBezTo>
                  <a:cubicBezTo>
                    <a:pt x="1008" y="120"/>
                    <a:pt x="1056" y="184"/>
                    <a:pt x="1104" y="200"/>
                  </a:cubicBezTo>
                  <a:cubicBezTo>
                    <a:pt x="1152" y="216"/>
                    <a:pt x="1200" y="200"/>
                    <a:pt x="1248" y="200"/>
                  </a:cubicBezTo>
                  <a:cubicBezTo>
                    <a:pt x="1296" y="200"/>
                    <a:pt x="1336" y="216"/>
                    <a:pt x="1392" y="200"/>
                  </a:cubicBezTo>
                  <a:cubicBezTo>
                    <a:pt x="1448" y="184"/>
                    <a:pt x="1520" y="120"/>
                    <a:pt x="1584" y="104"/>
                  </a:cubicBezTo>
                  <a:cubicBezTo>
                    <a:pt x="1648" y="88"/>
                    <a:pt x="1720" y="88"/>
                    <a:pt x="1776" y="104"/>
                  </a:cubicBezTo>
                  <a:cubicBezTo>
                    <a:pt x="1832" y="120"/>
                    <a:pt x="1872" y="176"/>
                    <a:pt x="1920" y="200"/>
                  </a:cubicBezTo>
                  <a:cubicBezTo>
                    <a:pt x="1968" y="224"/>
                    <a:pt x="2032" y="224"/>
                    <a:pt x="2064" y="248"/>
                  </a:cubicBezTo>
                  <a:cubicBezTo>
                    <a:pt x="2096" y="272"/>
                    <a:pt x="2072" y="336"/>
                    <a:pt x="2112" y="344"/>
                  </a:cubicBezTo>
                  <a:cubicBezTo>
                    <a:pt x="2152" y="352"/>
                    <a:pt x="2228" y="324"/>
                    <a:pt x="2304" y="296"/>
                  </a:cubicBezTo>
                </a:path>
              </a:pathLst>
            </a:custGeom>
            <a:noFill/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438280" y="1992240"/>
              <a:ext cx="4038480" cy="762120"/>
            </a:xfrm>
            <a:custGeom>
              <a:avLst/>
              <a:gdLst/>
              <a:ahLst/>
              <a:rect l="l" t="t" r="r" b="b"/>
              <a:pathLst>
                <a:path w="2544" h="480">
                  <a:moveTo>
                    <a:pt x="0" y="432"/>
                  </a:moveTo>
                  <a:cubicBezTo>
                    <a:pt x="68" y="408"/>
                    <a:pt x="136" y="384"/>
                    <a:pt x="192" y="336"/>
                  </a:cubicBezTo>
                  <a:cubicBezTo>
                    <a:pt x="248" y="288"/>
                    <a:pt x="280" y="168"/>
                    <a:pt x="336" y="144"/>
                  </a:cubicBezTo>
                  <a:cubicBezTo>
                    <a:pt x="392" y="120"/>
                    <a:pt x="480" y="152"/>
                    <a:pt x="528" y="192"/>
                  </a:cubicBezTo>
                  <a:cubicBezTo>
                    <a:pt x="576" y="232"/>
                    <a:pt x="568" y="344"/>
                    <a:pt x="624" y="384"/>
                  </a:cubicBezTo>
                  <a:cubicBezTo>
                    <a:pt x="680" y="424"/>
                    <a:pt x="784" y="480"/>
                    <a:pt x="864" y="432"/>
                  </a:cubicBezTo>
                  <a:cubicBezTo>
                    <a:pt x="944" y="384"/>
                    <a:pt x="1040" y="168"/>
                    <a:pt x="1104" y="96"/>
                  </a:cubicBezTo>
                  <a:cubicBezTo>
                    <a:pt x="1168" y="24"/>
                    <a:pt x="1200" y="0"/>
                    <a:pt x="1248" y="0"/>
                  </a:cubicBezTo>
                  <a:cubicBezTo>
                    <a:pt x="1296" y="0"/>
                    <a:pt x="1336" y="64"/>
                    <a:pt x="1392" y="96"/>
                  </a:cubicBezTo>
                  <a:cubicBezTo>
                    <a:pt x="1448" y="128"/>
                    <a:pt x="1528" y="152"/>
                    <a:pt x="1584" y="192"/>
                  </a:cubicBezTo>
                  <a:cubicBezTo>
                    <a:pt x="1640" y="232"/>
                    <a:pt x="1688" y="296"/>
                    <a:pt x="1728" y="336"/>
                  </a:cubicBezTo>
                  <a:cubicBezTo>
                    <a:pt x="1768" y="376"/>
                    <a:pt x="1792" y="440"/>
                    <a:pt x="1824" y="432"/>
                  </a:cubicBezTo>
                  <a:cubicBezTo>
                    <a:pt x="1856" y="424"/>
                    <a:pt x="1888" y="328"/>
                    <a:pt x="1920" y="288"/>
                  </a:cubicBezTo>
                  <a:cubicBezTo>
                    <a:pt x="1952" y="248"/>
                    <a:pt x="1968" y="208"/>
                    <a:pt x="2016" y="192"/>
                  </a:cubicBezTo>
                  <a:cubicBezTo>
                    <a:pt x="2064" y="176"/>
                    <a:pt x="2144" y="184"/>
                    <a:pt x="2208" y="192"/>
                  </a:cubicBezTo>
                  <a:cubicBezTo>
                    <a:pt x="2272" y="200"/>
                    <a:pt x="2344" y="224"/>
                    <a:pt x="2400" y="240"/>
                  </a:cubicBezTo>
                  <a:cubicBezTo>
                    <a:pt x="2456" y="256"/>
                    <a:pt x="2500" y="272"/>
                    <a:pt x="2544" y="288"/>
                  </a:cubicBezTo>
                </a:path>
              </a:pathLst>
            </a:custGeom>
            <a:noFill/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71440" y="1878120"/>
              <a:ext cx="2425680" cy="876240"/>
            </a:xfrm>
            <a:custGeom>
              <a:avLst/>
              <a:gdLst/>
              <a:ahLst/>
              <a:rect l="l" t="t" r="r" b="b"/>
              <a:pathLst>
                <a:path w="1528" h="552">
                  <a:moveTo>
                    <a:pt x="0" y="552"/>
                  </a:moveTo>
                  <a:cubicBezTo>
                    <a:pt x="16" y="492"/>
                    <a:pt x="32" y="432"/>
                    <a:pt x="48" y="360"/>
                  </a:cubicBezTo>
                  <a:cubicBezTo>
                    <a:pt x="64" y="288"/>
                    <a:pt x="48" y="160"/>
                    <a:pt x="96" y="120"/>
                  </a:cubicBezTo>
                  <a:cubicBezTo>
                    <a:pt x="144" y="80"/>
                    <a:pt x="272" y="112"/>
                    <a:pt x="336" y="120"/>
                  </a:cubicBezTo>
                  <a:cubicBezTo>
                    <a:pt x="400" y="128"/>
                    <a:pt x="432" y="144"/>
                    <a:pt x="480" y="168"/>
                  </a:cubicBezTo>
                  <a:cubicBezTo>
                    <a:pt x="528" y="192"/>
                    <a:pt x="584" y="224"/>
                    <a:pt x="624" y="264"/>
                  </a:cubicBezTo>
                  <a:cubicBezTo>
                    <a:pt x="664" y="304"/>
                    <a:pt x="672" y="400"/>
                    <a:pt x="720" y="408"/>
                  </a:cubicBezTo>
                  <a:cubicBezTo>
                    <a:pt x="768" y="416"/>
                    <a:pt x="856" y="360"/>
                    <a:pt x="912" y="312"/>
                  </a:cubicBezTo>
                  <a:cubicBezTo>
                    <a:pt x="968" y="264"/>
                    <a:pt x="1016" y="168"/>
                    <a:pt x="1056" y="120"/>
                  </a:cubicBezTo>
                  <a:cubicBezTo>
                    <a:pt x="1096" y="72"/>
                    <a:pt x="1120" y="40"/>
                    <a:pt x="1152" y="24"/>
                  </a:cubicBezTo>
                  <a:cubicBezTo>
                    <a:pt x="1184" y="8"/>
                    <a:pt x="1224" y="0"/>
                    <a:pt x="1248" y="24"/>
                  </a:cubicBezTo>
                  <a:cubicBezTo>
                    <a:pt x="1272" y="48"/>
                    <a:pt x="1264" y="120"/>
                    <a:pt x="1296" y="168"/>
                  </a:cubicBezTo>
                  <a:cubicBezTo>
                    <a:pt x="1328" y="216"/>
                    <a:pt x="1408" y="264"/>
                    <a:pt x="1440" y="312"/>
                  </a:cubicBezTo>
                  <a:cubicBezTo>
                    <a:pt x="1472" y="360"/>
                    <a:pt x="1528" y="416"/>
                    <a:pt x="1488" y="456"/>
                  </a:cubicBezTo>
                  <a:cubicBezTo>
                    <a:pt x="1448" y="496"/>
                    <a:pt x="1248" y="528"/>
                    <a:pt x="1200" y="552"/>
                  </a:cubicBezTo>
                </a:path>
              </a:pathLst>
            </a:custGeom>
            <a:noFill/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209680" y="1915920"/>
              <a:ext cx="3886200" cy="800280"/>
            </a:xfrm>
            <a:custGeom>
              <a:avLst/>
              <a:gdLst/>
              <a:ahLst/>
              <a:rect l="l" t="t" r="r" b="b"/>
              <a:pathLst>
                <a:path w="2448" h="504">
                  <a:moveTo>
                    <a:pt x="0" y="336"/>
                  </a:moveTo>
                  <a:cubicBezTo>
                    <a:pt x="80" y="396"/>
                    <a:pt x="160" y="456"/>
                    <a:pt x="240" y="480"/>
                  </a:cubicBezTo>
                  <a:cubicBezTo>
                    <a:pt x="320" y="504"/>
                    <a:pt x="416" y="488"/>
                    <a:pt x="480" y="480"/>
                  </a:cubicBezTo>
                  <a:cubicBezTo>
                    <a:pt x="544" y="472"/>
                    <a:pt x="568" y="456"/>
                    <a:pt x="624" y="432"/>
                  </a:cubicBezTo>
                  <a:cubicBezTo>
                    <a:pt x="680" y="408"/>
                    <a:pt x="736" y="336"/>
                    <a:pt x="816" y="336"/>
                  </a:cubicBezTo>
                  <a:cubicBezTo>
                    <a:pt x="896" y="336"/>
                    <a:pt x="1032" y="416"/>
                    <a:pt x="1104" y="432"/>
                  </a:cubicBezTo>
                  <a:cubicBezTo>
                    <a:pt x="1176" y="448"/>
                    <a:pt x="1184" y="432"/>
                    <a:pt x="1248" y="432"/>
                  </a:cubicBezTo>
                  <a:cubicBezTo>
                    <a:pt x="1312" y="432"/>
                    <a:pt x="1416" y="456"/>
                    <a:pt x="1488" y="432"/>
                  </a:cubicBezTo>
                  <a:cubicBezTo>
                    <a:pt x="1560" y="408"/>
                    <a:pt x="1624" y="288"/>
                    <a:pt x="1680" y="288"/>
                  </a:cubicBezTo>
                  <a:cubicBezTo>
                    <a:pt x="1736" y="288"/>
                    <a:pt x="1768" y="400"/>
                    <a:pt x="1824" y="432"/>
                  </a:cubicBezTo>
                  <a:cubicBezTo>
                    <a:pt x="1880" y="464"/>
                    <a:pt x="1952" y="496"/>
                    <a:pt x="2016" y="480"/>
                  </a:cubicBezTo>
                  <a:cubicBezTo>
                    <a:pt x="2080" y="464"/>
                    <a:pt x="2152" y="400"/>
                    <a:pt x="2208" y="336"/>
                  </a:cubicBezTo>
                  <a:cubicBezTo>
                    <a:pt x="2264" y="272"/>
                    <a:pt x="2312" y="152"/>
                    <a:pt x="2352" y="96"/>
                  </a:cubicBezTo>
                  <a:cubicBezTo>
                    <a:pt x="2392" y="40"/>
                    <a:pt x="2420" y="20"/>
                    <a:pt x="2448" y="0"/>
                  </a:cubicBezTo>
                </a:path>
              </a:pathLst>
            </a:custGeom>
            <a:noFill/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819160" y="1789200"/>
              <a:ext cx="2857680" cy="1269720"/>
            </a:xfrm>
            <a:custGeom>
              <a:avLst/>
              <a:gdLst/>
              <a:ahLst/>
              <a:rect l="l" t="t" r="r" b="b"/>
              <a:pathLst>
                <a:path w="1800" h="800">
                  <a:moveTo>
                    <a:pt x="0" y="80"/>
                  </a:moveTo>
                  <a:cubicBezTo>
                    <a:pt x="52" y="164"/>
                    <a:pt x="104" y="248"/>
                    <a:pt x="144" y="320"/>
                  </a:cubicBezTo>
                  <a:cubicBezTo>
                    <a:pt x="184" y="392"/>
                    <a:pt x="176" y="504"/>
                    <a:pt x="240" y="512"/>
                  </a:cubicBezTo>
                  <a:cubicBezTo>
                    <a:pt x="304" y="520"/>
                    <a:pt x="448" y="424"/>
                    <a:pt x="528" y="368"/>
                  </a:cubicBezTo>
                  <a:cubicBezTo>
                    <a:pt x="608" y="312"/>
                    <a:pt x="672" y="232"/>
                    <a:pt x="720" y="176"/>
                  </a:cubicBezTo>
                  <a:cubicBezTo>
                    <a:pt x="768" y="120"/>
                    <a:pt x="784" y="56"/>
                    <a:pt x="816" y="32"/>
                  </a:cubicBezTo>
                  <a:cubicBezTo>
                    <a:pt x="848" y="8"/>
                    <a:pt x="880" y="0"/>
                    <a:pt x="912" y="32"/>
                  </a:cubicBezTo>
                  <a:cubicBezTo>
                    <a:pt x="944" y="64"/>
                    <a:pt x="968" y="168"/>
                    <a:pt x="1008" y="224"/>
                  </a:cubicBezTo>
                  <a:cubicBezTo>
                    <a:pt x="1048" y="280"/>
                    <a:pt x="1120" y="312"/>
                    <a:pt x="1152" y="368"/>
                  </a:cubicBezTo>
                  <a:cubicBezTo>
                    <a:pt x="1184" y="424"/>
                    <a:pt x="1176" y="504"/>
                    <a:pt x="1200" y="560"/>
                  </a:cubicBezTo>
                  <a:cubicBezTo>
                    <a:pt x="1224" y="616"/>
                    <a:pt x="1248" y="688"/>
                    <a:pt x="1296" y="704"/>
                  </a:cubicBezTo>
                  <a:cubicBezTo>
                    <a:pt x="1344" y="720"/>
                    <a:pt x="1432" y="672"/>
                    <a:pt x="1488" y="656"/>
                  </a:cubicBezTo>
                  <a:cubicBezTo>
                    <a:pt x="1544" y="640"/>
                    <a:pt x="1584" y="600"/>
                    <a:pt x="1632" y="608"/>
                  </a:cubicBezTo>
                  <a:cubicBezTo>
                    <a:pt x="1680" y="616"/>
                    <a:pt x="1752" y="672"/>
                    <a:pt x="1776" y="704"/>
                  </a:cubicBezTo>
                  <a:cubicBezTo>
                    <a:pt x="1800" y="736"/>
                    <a:pt x="1788" y="768"/>
                    <a:pt x="1776" y="800"/>
                  </a:cubicBezTo>
                </a:path>
              </a:pathLst>
            </a:custGeom>
            <a:noFill/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90560" y="2030400"/>
              <a:ext cx="3962520" cy="965160"/>
            </a:xfrm>
            <a:custGeom>
              <a:avLst/>
              <a:gdLst/>
              <a:ahLst/>
              <a:rect l="l" t="t" r="r" b="b"/>
              <a:pathLst>
                <a:path w="2496" h="608">
                  <a:moveTo>
                    <a:pt x="2496" y="456"/>
                  </a:moveTo>
                  <a:cubicBezTo>
                    <a:pt x="2420" y="404"/>
                    <a:pt x="2344" y="352"/>
                    <a:pt x="2304" y="312"/>
                  </a:cubicBezTo>
                  <a:cubicBezTo>
                    <a:pt x="2264" y="272"/>
                    <a:pt x="2264" y="248"/>
                    <a:pt x="2256" y="216"/>
                  </a:cubicBezTo>
                  <a:cubicBezTo>
                    <a:pt x="2248" y="184"/>
                    <a:pt x="2288" y="136"/>
                    <a:pt x="2256" y="120"/>
                  </a:cubicBezTo>
                  <a:cubicBezTo>
                    <a:pt x="2224" y="104"/>
                    <a:pt x="2128" y="88"/>
                    <a:pt x="2064" y="120"/>
                  </a:cubicBezTo>
                  <a:cubicBezTo>
                    <a:pt x="2000" y="152"/>
                    <a:pt x="1928" y="312"/>
                    <a:pt x="1872" y="312"/>
                  </a:cubicBezTo>
                  <a:cubicBezTo>
                    <a:pt x="1816" y="312"/>
                    <a:pt x="1768" y="168"/>
                    <a:pt x="1728" y="120"/>
                  </a:cubicBezTo>
                  <a:cubicBezTo>
                    <a:pt x="1688" y="72"/>
                    <a:pt x="1672" y="40"/>
                    <a:pt x="1632" y="24"/>
                  </a:cubicBezTo>
                  <a:cubicBezTo>
                    <a:pt x="1592" y="8"/>
                    <a:pt x="1544" y="16"/>
                    <a:pt x="1488" y="24"/>
                  </a:cubicBezTo>
                  <a:cubicBezTo>
                    <a:pt x="1432" y="32"/>
                    <a:pt x="1376" y="24"/>
                    <a:pt x="1296" y="72"/>
                  </a:cubicBezTo>
                  <a:cubicBezTo>
                    <a:pt x="1216" y="120"/>
                    <a:pt x="1072" y="264"/>
                    <a:pt x="1008" y="312"/>
                  </a:cubicBezTo>
                  <a:cubicBezTo>
                    <a:pt x="944" y="360"/>
                    <a:pt x="952" y="328"/>
                    <a:pt x="912" y="360"/>
                  </a:cubicBezTo>
                  <a:cubicBezTo>
                    <a:pt x="872" y="392"/>
                    <a:pt x="816" y="464"/>
                    <a:pt x="768" y="504"/>
                  </a:cubicBezTo>
                  <a:cubicBezTo>
                    <a:pt x="720" y="544"/>
                    <a:pt x="664" y="592"/>
                    <a:pt x="624" y="600"/>
                  </a:cubicBezTo>
                  <a:cubicBezTo>
                    <a:pt x="584" y="608"/>
                    <a:pt x="552" y="592"/>
                    <a:pt x="528" y="552"/>
                  </a:cubicBezTo>
                  <a:cubicBezTo>
                    <a:pt x="504" y="512"/>
                    <a:pt x="504" y="424"/>
                    <a:pt x="480" y="360"/>
                  </a:cubicBezTo>
                  <a:cubicBezTo>
                    <a:pt x="456" y="296"/>
                    <a:pt x="432" y="224"/>
                    <a:pt x="384" y="168"/>
                  </a:cubicBezTo>
                  <a:cubicBezTo>
                    <a:pt x="336" y="112"/>
                    <a:pt x="256" y="48"/>
                    <a:pt x="192" y="24"/>
                  </a:cubicBezTo>
                  <a:cubicBezTo>
                    <a:pt x="128" y="0"/>
                    <a:pt x="64" y="12"/>
                    <a:pt x="0" y="24"/>
                  </a:cubicBezTo>
                </a:path>
              </a:pathLst>
            </a:custGeom>
            <a:noFill/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85640" y="1903320"/>
              <a:ext cx="1994040" cy="927000"/>
            </a:xfrm>
            <a:custGeom>
              <a:avLst/>
              <a:gdLst/>
              <a:ahLst/>
              <a:rect l="l" t="t" r="r" b="b"/>
              <a:pathLst>
                <a:path w="1256" h="584">
                  <a:moveTo>
                    <a:pt x="0" y="200"/>
                  </a:moveTo>
                  <a:cubicBezTo>
                    <a:pt x="60" y="240"/>
                    <a:pt x="120" y="280"/>
                    <a:pt x="192" y="296"/>
                  </a:cubicBezTo>
                  <a:cubicBezTo>
                    <a:pt x="264" y="312"/>
                    <a:pt x="328" y="328"/>
                    <a:pt x="432" y="296"/>
                  </a:cubicBezTo>
                  <a:cubicBezTo>
                    <a:pt x="536" y="264"/>
                    <a:pt x="728" y="152"/>
                    <a:pt x="816" y="104"/>
                  </a:cubicBezTo>
                  <a:cubicBezTo>
                    <a:pt x="904" y="56"/>
                    <a:pt x="896" y="0"/>
                    <a:pt x="960" y="8"/>
                  </a:cubicBezTo>
                  <a:cubicBezTo>
                    <a:pt x="1024" y="16"/>
                    <a:pt x="1152" y="104"/>
                    <a:pt x="1200" y="152"/>
                  </a:cubicBezTo>
                  <a:cubicBezTo>
                    <a:pt x="1248" y="200"/>
                    <a:pt x="1240" y="224"/>
                    <a:pt x="1248" y="296"/>
                  </a:cubicBezTo>
                  <a:cubicBezTo>
                    <a:pt x="1256" y="368"/>
                    <a:pt x="1248" y="528"/>
                    <a:pt x="1248" y="584"/>
                  </a:cubicBezTo>
                </a:path>
              </a:pathLst>
            </a:custGeom>
            <a:noFill/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705040" y="1814400"/>
              <a:ext cx="3466800" cy="1168560"/>
            </a:xfrm>
            <a:custGeom>
              <a:avLst/>
              <a:gdLst/>
              <a:ahLst/>
              <a:rect l="l" t="t" r="r" b="b"/>
              <a:pathLst>
                <a:path w="2184" h="736">
                  <a:moveTo>
                    <a:pt x="2184" y="736"/>
                  </a:moveTo>
                  <a:cubicBezTo>
                    <a:pt x="2120" y="724"/>
                    <a:pt x="2056" y="712"/>
                    <a:pt x="1992" y="640"/>
                  </a:cubicBezTo>
                  <a:cubicBezTo>
                    <a:pt x="1928" y="568"/>
                    <a:pt x="1856" y="376"/>
                    <a:pt x="1800" y="304"/>
                  </a:cubicBezTo>
                  <a:cubicBezTo>
                    <a:pt x="1744" y="232"/>
                    <a:pt x="1728" y="200"/>
                    <a:pt x="1656" y="208"/>
                  </a:cubicBezTo>
                  <a:cubicBezTo>
                    <a:pt x="1584" y="216"/>
                    <a:pt x="1472" y="288"/>
                    <a:pt x="1368" y="352"/>
                  </a:cubicBezTo>
                  <a:cubicBezTo>
                    <a:pt x="1264" y="416"/>
                    <a:pt x="1104" y="536"/>
                    <a:pt x="1032" y="592"/>
                  </a:cubicBezTo>
                  <a:cubicBezTo>
                    <a:pt x="960" y="648"/>
                    <a:pt x="976" y="688"/>
                    <a:pt x="936" y="688"/>
                  </a:cubicBezTo>
                  <a:cubicBezTo>
                    <a:pt x="896" y="688"/>
                    <a:pt x="848" y="640"/>
                    <a:pt x="792" y="592"/>
                  </a:cubicBezTo>
                  <a:cubicBezTo>
                    <a:pt x="736" y="544"/>
                    <a:pt x="648" y="456"/>
                    <a:pt x="600" y="400"/>
                  </a:cubicBezTo>
                  <a:cubicBezTo>
                    <a:pt x="552" y="344"/>
                    <a:pt x="536" y="304"/>
                    <a:pt x="504" y="256"/>
                  </a:cubicBezTo>
                  <a:cubicBezTo>
                    <a:pt x="472" y="208"/>
                    <a:pt x="432" y="152"/>
                    <a:pt x="408" y="112"/>
                  </a:cubicBezTo>
                  <a:cubicBezTo>
                    <a:pt x="384" y="72"/>
                    <a:pt x="400" y="0"/>
                    <a:pt x="360" y="16"/>
                  </a:cubicBezTo>
                  <a:cubicBezTo>
                    <a:pt x="320" y="32"/>
                    <a:pt x="224" y="136"/>
                    <a:pt x="168" y="208"/>
                  </a:cubicBezTo>
                  <a:cubicBezTo>
                    <a:pt x="112" y="280"/>
                    <a:pt x="48" y="376"/>
                    <a:pt x="24" y="448"/>
                  </a:cubicBezTo>
                  <a:cubicBezTo>
                    <a:pt x="0" y="520"/>
                    <a:pt x="32" y="600"/>
                    <a:pt x="24" y="6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276360" y="849240"/>
              <a:ext cx="2514600" cy="1536840"/>
            </a:xfrm>
            <a:custGeom>
              <a:avLst/>
              <a:gdLst/>
              <a:ahLst/>
              <a:rect l="l" t="t" r="r" b="b"/>
              <a:pathLst>
                <a:path w="1440" h="680">
                  <a:moveTo>
                    <a:pt x="0" y="432"/>
                  </a:moveTo>
                  <a:cubicBezTo>
                    <a:pt x="8" y="464"/>
                    <a:pt x="16" y="496"/>
                    <a:pt x="48" y="528"/>
                  </a:cubicBezTo>
                  <a:cubicBezTo>
                    <a:pt x="80" y="560"/>
                    <a:pt x="144" y="600"/>
                    <a:pt x="192" y="624"/>
                  </a:cubicBezTo>
                  <a:cubicBezTo>
                    <a:pt x="240" y="648"/>
                    <a:pt x="288" y="680"/>
                    <a:pt x="336" y="672"/>
                  </a:cubicBezTo>
                  <a:cubicBezTo>
                    <a:pt x="384" y="664"/>
                    <a:pt x="408" y="584"/>
                    <a:pt x="480" y="576"/>
                  </a:cubicBezTo>
                  <a:cubicBezTo>
                    <a:pt x="552" y="568"/>
                    <a:pt x="688" y="632"/>
                    <a:pt x="768" y="624"/>
                  </a:cubicBezTo>
                  <a:cubicBezTo>
                    <a:pt x="848" y="616"/>
                    <a:pt x="848" y="632"/>
                    <a:pt x="960" y="528"/>
                  </a:cubicBezTo>
                  <a:cubicBezTo>
                    <a:pt x="1072" y="424"/>
                    <a:pt x="1256" y="212"/>
                    <a:pt x="1440" y="0"/>
                  </a:cubicBezTo>
                </a:path>
              </a:pathLst>
            </a:custGeom>
            <a:noFill/>
            <a:ln w="57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295600" y="1306440"/>
              <a:ext cx="1028880" cy="1308240"/>
            </a:xfrm>
            <a:custGeom>
              <a:avLst/>
              <a:gdLst/>
              <a:ahLst/>
              <a:rect l="l" t="t" r="r" b="b"/>
              <a:pathLst>
                <a:path w="648" h="824">
                  <a:moveTo>
                    <a:pt x="264" y="0"/>
                  </a:moveTo>
                  <a:cubicBezTo>
                    <a:pt x="156" y="252"/>
                    <a:pt x="48" y="504"/>
                    <a:pt x="24" y="624"/>
                  </a:cubicBezTo>
                  <a:cubicBezTo>
                    <a:pt x="0" y="744"/>
                    <a:pt x="72" y="704"/>
                    <a:pt x="120" y="720"/>
                  </a:cubicBezTo>
                  <a:cubicBezTo>
                    <a:pt x="168" y="736"/>
                    <a:pt x="248" y="720"/>
                    <a:pt x="312" y="720"/>
                  </a:cubicBezTo>
                  <a:cubicBezTo>
                    <a:pt x="376" y="720"/>
                    <a:pt x="464" y="704"/>
                    <a:pt x="504" y="720"/>
                  </a:cubicBezTo>
                  <a:cubicBezTo>
                    <a:pt x="544" y="736"/>
                    <a:pt x="528" y="808"/>
                    <a:pt x="552" y="816"/>
                  </a:cubicBezTo>
                  <a:cubicBezTo>
                    <a:pt x="576" y="824"/>
                    <a:pt x="612" y="796"/>
                    <a:pt x="648" y="768"/>
                  </a:cubicBezTo>
                </a:path>
              </a:pathLst>
            </a:custGeom>
            <a:noFill/>
            <a:ln w="57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19560" y="925560"/>
              <a:ext cx="1066680" cy="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92092-A44D-4C1B-94A4-BA50DC953FE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4920" y="-27360"/>
            <a:ext cx="676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bre breakage at the licker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000" y="475920"/>
            <a:ext cx="820908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What determines which case occurs (free one end, break fibre or transfer entire clump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spcAft>
                <a:spcPts val="1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re strength : how much tension can the fibre take before it brea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spcAft>
                <a:spcPts val="1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required to withdraw fibre from clump: depends on (a) degree of fibre entanglement, (b) fibre length and (c) friction between fib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spcAft>
                <a:spcPts val="1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firmly the clump is held by the feed rol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spcAft>
                <a:spcPts val="1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factors also have some effect: roller speeds, tooth sharpness and angle, clearance between lickerin and feed rollers, fibre lubricant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3233E-AF1A-48B0-B28C-0EBB0D40E8A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50920" y="-27360"/>
            <a:ext cx="6842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 of carding on fibre leng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55640" y="549000"/>
            <a:ext cx="7561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ors affecting fibre break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bre str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epends on blend of fibres used, moisture content / exte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gree of entangl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troduced in sco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-fibre fri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ntrolled by lubricant 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training forces on fibre clum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ntrolled by     (a) feed roller clearances and                                        (b) feed rate (thickness of mat of wool passing through feed roll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E3177-2510-4E78-AABE-86A0069439B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280" y="-2736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 of original fibre length on fibre break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5973840" cy="44071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6877080" y="5229360"/>
            <a:ext cx="226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ource: Aldrich, Kruger and Turpie (197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403EA-A6A4-4A54-9934-30B6CA4E1F4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001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ok formation in card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387440" y="1052640"/>
            <a:ext cx="6569280" cy="455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CC222-FF0C-4CB7-BDA5-B752326D44C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76294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Nep formation in card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280" y="765000"/>
            <a:ext cx="77533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eps are tiny clumps of fibre produced by inadequate carding (eg, clothing wire too coarse to handle fib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roduce a thickness fault in the yarn unless removed by comb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187280" y="2421000"/>
            <a:ext cx="6848640" cy="3024000"/>
            <a:chOff x="1187280" y="2421000"/>
            <a:chExt cx="6848640" cy="3024000"/>
          </a:xfrm>
        </p:grpSpPr>
        <p:pic>
          <p:nvPicPr>
            <p:cNvPr id="297" name="" descr=""/>
            <p:cNvPicPr/>
            <p:nvPr/>
          </p:nvPicPr>
          <p:blipFill>
            <a:blip r:embed="rId1"/>
            <a:stretch/>
          </p:blipFill>
          <p:spPr>
            <a:xfrm>
              <a:off x="1187280" y="2427120"/>
              <a:ext cx="3600720" cy="3016440"/>
            </a:xfrm>
            <a:prstGeom prst="rect">
              <a:avLst/>
            </a:prstGeom>
            <a:ln w="28440">
              <a:solidFill>
                <a:srgbClr val="003366"/>
              </a:solidFill>
              <a:miter/>
            </a:ln>
          </p:spPr>
        </p:pic>
        <p:sp>
          <p:nvSpPr>
            <p:cNvPr id="298" name=""/>
            <p:cNvSpPr/>
            <p:nvPr/>
          </p:nvSpPr>
          <p:spPr>
            <a:xfrm>
              <a:off x="2195640" y="3502080"/>
              <a:ext cx="2297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99cc"/>
                  </a:solidFill>
                  <a:latin typeface="Arial"/>
                </a:rPr>
                <a:t>Neps in card sli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9" name="" descr=""/>
            <p:cNvPicPr/>
            <p:nvPr/>
          </p:nvPicPr>
          <p:blipFill>
            <a:blip r:embed="rId2"/>
            <a:stretch/>
          </p:blipFill>
          <p:spPr>
            <a:xfrm>
              <a:off x="5076720" y="2421000"/>
              <a:ext cx="2959200" cy="3024000"/>
            </a:xfrm>
            <a:prstGeom prst="rect">
              <a:avLst/>
            </a:prstGeom>
            <a:ln w="28440">
              <a:solidFill>
                <a:srgbClr val="003366"/>
              </a:solidFill>
              <a:miter/>
            </a:ln>
          </p:spPr>
        </p:pic>
        <p:sp>
          <p:nvSpPr>
            <p:cNvPr id="300" name=""/>
            <p:cNvSpPr/>
            <p:nvPr/>
          </p:nvSpPr>
          <p:spPr>
            <a:xfrm>
              <a:off x="5634000" y="3681360"/>
              <a:ext cx="232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99cc"/>
                  </a:solidFill>
                  <a:latin typeface="Arial"/>
                </a:rPr>
                <a:t>Neps in card 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144B3-9367-4234-B5BB-ABDA6947600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C4796-17AB-48DB-9BFA-2779439012A6}" type="slidenum">
              <a:t>18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7000" y="-100080"/>
            <a:ext cx="8001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in functions of the c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880560"/>
            <a:ext cx="837072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19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nd disentangle the blend to a single fibre state,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99"/>
              </a:spcBef>
              <a:spcAft>
                <a:spcPts val="1624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nim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bre breakage and nep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99"/>
              </a:spcBef>
              <a:spcAft>
                <a:spcPts val="1624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xim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ield and produ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19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 the fibres to produce a very thin, even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19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impurities (dirt, dust, vegetable matte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27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iver the fibres in an appropriate form to the next stage of yarn manufa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499"/>
              </a:spcBef>
              <a:spcAft>
                <a:spcPts val="2251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.e. slubbing for woollen yarn, card sliver for worsted and semiwors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DCAC9-CA4E-420C-9DA4-A91B42323A6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93880" y="1415880"/>
            <a:ext cx="145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39640" y="115920"/>
            <a:ext cx="7848720" cy="3652560"/>
            <a:chOff x="539640" y="115920"/>
            <a:chExt cx="7848720" cy="365256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539640" y="466560"/>
              <a:ext cx="7848720" cy="33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4900680" y="1834920"/>
              <a:ext cx="7920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490a8"/>
                  </a:solidFill>
                  <a:latin typeface="Arial Narrow"/>
                </a:rPr>
                <a:t>Swi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81960" y="1963800"/>
              <a:ext cx="8586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490a8"/>
                  </a:solidFill>
                  <a:latin typeface="Arial Narrow"/>
                </a:rPr>
                <a:t>Do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84880" y="280800"/>
              <a:ext cx="8589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490a8"/>
                  </a:solidFill>
                  <a:latin typeface="Arial Narrow"/>
                </a:rPr>
                <a:t>Fan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42080" y="1376280"/>
              <a:ext cx="72720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490a8"/>
                  </a:solidFill>
                  <a:latin typeface="Arial Narrow"/>
                </a:rPr>
                <a:t>Doffer com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30640" y="179280"/>
              <a:ext cx="6606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490a8"/>
                  </a:solidFill>
                  <a:latin typeface="Arial Narrow"/>
                </a:rPr>
                <a:t>Work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06720" y="115920"/>
              <a:ext cx="8604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490a8"/>
                  </a:solidFill>
                  <a:latin typeface="Arial Narrow"/>
                </a:rPr>
                <a:t>Stripp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55760" y="853920"/>
              <a:ext cx="99216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490a8"/>
                  </a:solidFill>
                  <a:latin typeface="Arial Narrow"/>
                </a:rPr>
                <a:t>Feed roller stripp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67160" y="662040"/>
              <a:ext cx="72684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490a8"/>
                  </a:solidFill>
                  <a:latin typeface="Arial Narrow"/>
                </a:rPr>
                <a:t>Angle stripp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00240" y="1708200"/>
              <a:ext cx="1387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490a8"/>
                  </a:solidFill>
                  <a:latin typeface="Arial Narrow"/>
                </a:rPr>
                <a:t>Feed roll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01880" y="2409840"/>
              <a:ext cx="1253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490a8"/>
                  </a:solidFill>
                  <a:latin typeface="Arial Narrow"/>
                </a:rPr>
                <a:t>Feed she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14720" y="2382840"/>
              <a:ext cx="7365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490a8"/>
                  </a:solidFill>
                  <a:latin typeface="Arial Narrow"/>
                </a:rPr>
                <a:t>Licker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196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imple c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3429000"/>
            <a:ext cx="8153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roller is covered with special teeth, 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oth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designed to fulfill a particular function (working, stripping, rais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iagram is a simplification of a full-size commercial card, which comprises two or more of these units placed end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51853-42A6-4673-B944-02E0200113E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-100080"/>
            <a:ext cx="7485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ctions of the card roll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547560"/>
            <a:ext cx="81360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99cc"/>
                </a:solidFill>
                <a:latin typeface="Arial"/>
              </a:rPr>
              <a:t>feed she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livers the fibre to the </a:t>
            </a:r>
            <a:r>
              <a:rPr b="1" i="1" lang="en-US" sz="2400" spc="-1" strike="noStrike">
                <a:solidFill>
                  <a:srgbClr val="0099cc"/>
                </a:solidFill>
                <a:latin typeface="Arial"/>
              </a:rPr>
              <a:t>feed rol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99cc"/>
                </a:solidFill>
                <a:latin typeface="Arial"/>
              </a:rPr>
              <a:t>licker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ars at the clumps of fibre leaving the feed rollers and there is some fibre breakage as partial separation of the fibre clumps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ulting tufts are carried to the fast rotating large cylinder, the </a:t>
            </a:r>
            <a:r>
              <a:rPr b="1" i="1" lang="en-US" sz="2400" spc="-1" strike="noStrike">
                <a:solidFill>
                  <a:srgbClr val="0099cc"/>
                </a:solidFill>
                <a:latin typeface="Arial"/>
              </a:rPr>
              <a:t>swif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ia a </a:t>
            </a:r>
            <a:r>
              <a:rPr b="1" i="1" lang="en-US" sz="2400" spc="-1" strike="noStrike">
                <a:solidFill>
                  <a:srgbClr val="0099cc"/>
                </a:solidFill>
                <a:latin typeface="Arial"/>
              </a:rPr>
              <a:t>transfer 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portion of the fibre load on the swift is collected by  a slowly-rotating </a:t>
            </a:r>
            <a:r>
              <a:rPr b="1" i="1" lang="en-US" sz="2400" spc="-1" strike="noStrike">
                <a:solidFill>
                  <a:srgbClr val="0099cc"/>
                </a:solidFill>
                <a:latin typeface="Arial"/>
              </a:rPr>
              <a:t>work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eventually returned to the swift via a </a:t>
            </a:r>
            <a:r>
              <a:rPr b="1" i="1" lang="en-US" sz="2400" spc="-1" strike="noStrike">
                <a:solidFill>
                  <a:srgbClr val="0099cc"/>
                </a:solidFill>
                <a:latin typeface="Arial"/>
              </a:rPr>
              <a:t>strippe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99cc"/>
                </a:solidFill>
                <a:latin typeface="Arial"/>
              </a:rPr>
              <a:t>fa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ises embedded fibres above the swift surface so that they may be caught by the </a:t>
            </a:r>
            <a:r>
              <a:rPr b="1" i="1" lang="en-US" sz="2400" spc="-1" strike="noStrike">
                <a:solidFill>
                  <a:srgbClr val="0099cc"/>
                </a:solidFill>
                <a:latin typeface="Arial"/>
              </a:rPr>
              <a:t>doff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ransported to the next stage of the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26972-FE3D-4498-95B5-EDC6D137D32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ing action – ‘Point-to-point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2637000"/>
            <a:ext cx="829944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uft of fibre  is divided into 2 portions at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orking 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etween swift B and worker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portion is captured by the worker, the other is retained by the sw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bres on the worker are returned to the swift (via the stripper) several seconds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elay provides a mixing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71640" y="549360"/>
            <a:ext cx="7010280" cy="2133000"/>
            <a:chOff x="971640" y="549360"/>
            <a:chExt cx="7010280" cy="2133000"/>
          </a:xfrm>
        </p:grpSpPr>
        <p:grpSp>
          <p:nvGrpSpPr>
            <p:cNvPr id="116" name=""/>
            <p:cNvGrpSpPr/>
            <p:nvPr/>
          </p:nvGrpSpPr>
          <p:grpSpPr>
            <a:xfrm>
              <a:off x="971640" y="549360"/>
              <a:ext cx="7010280" cy="2118960"/>
              <a:chOff x="971640" y="549360"/>
              <a:chExt cx="7010280" cy="2118960"/>
            </a:xfrm>
          </p:grpSpPr>
          <p:pic>
            <p:nvPicPr>
              <p:cNvPr id="11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71640" y="576000"/>
                <a:ext cx="3657600" cy="20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552920" y="549360"/>
                <a:ext cx="3429000" cy="2118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" name=""/>
            <p:cNvSpPr/>
            <p:nvPr/>
          </p:nvSpPr>
          <p:spPr>
            <a:xfrm>
              <a:off x="7981920" y="625320"/>
              <a:ext cx="0" cy="2057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143840" y="6854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 Narro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67120" y="609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 Narro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57640" y="16761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 Narro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43640" y="22093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 Narro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5DE3C-8D63-4501-806C-7ED7221C67E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-27360"/>
            <a:ext cx="3095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a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1840" y="480960"/>
            <a:ext cx="4249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2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int to back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on  – all the fibres are removed from one surface by a faster roller, as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ipping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negligible fibre br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2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Back to back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on  –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s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of the fancy 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2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Point to point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on  – some fibres are retained by each surface, as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ff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04000" y="476280"/>
            <a:ext cx="2016000" cy="1544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781680" y="2205000"/>
            <a:ext cx="2038320" cy="1457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377120" y="3860640"/>
            <a:ext cx="1442880" cy="180036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4645080" y="3865680"/>
            <a:ext cx="1655640" cy="1512720"/>
            <a:chOff x="4645080" y="3865680"/>
            <a:chExt cx="1655640" cy="1512720"/>
          </a:xfrm>
        </p:grpSpPr>
        <p:sp>
          <p:nvSpPr>
            <p:cNvPr id="130" name=""/>
            <p:cNvSpPr/>
            <p:nvPr/>
          </p:nvSpPr>
          <p:spPr>
            <a:xfrm rot="5400000">
              <a:off x="4830480" y="4388760"/>
              <a:ext cx="1284120" cy="381960"/>
            </a:xfrm>
            <a:custGeom>
              <a:avLst/>
              <a:gdLst/>
              <a:ahLst/>
              <a:rect l="l" t="t" r="r" b="b"/>
              <a:pathLst>
                <a:path w="1208" h="272">
                  <a:moveTo>
                    <a:pt x="808" y="8"/>
                  </a:moveTo>
                  <a:cubicBezTo>
                    <a:pt x="720" y="16"/>
                    <a:pt x="608" y="80"/>
                    <a:pt x="520" y="104"/>
                  </a:cubicBezTo>
                  <a:cubicBezTo>
                    <a:pt x="432" y="128"/>
                    <a:pt x="344" y="152"/>
                    <a:pt x="280" y="152"/>
                  </a:cubicBezTo>
                  <a:cubicBezTo>
                    <a:pt x="216" y="152"/>
                    <a:pt x="176" y="88"/>
                    <a:pt x="136" y="104"/>
                  </a:cubicBezTo>
                  <a:cubicBezTo>
                    <a:pt x="96" y="120"/>
                    <a:pt x="0" y="224"/>
                    <a:pt x="40" y="248"/>
                  </a:cubicBezTo>
                  <a:cubicBezTo>
                    <a:pt x="80" y="272"/>
                    <a:pt x="272" y="256"/>
                    <a:pt x="376" y="248"/>
                  </a:cubicBezTo>
                  <a:cubicBezTo>
                    <a:pt x="480" y="240"/>
                    <a:pt x="592" y="208"/>
                    <a:pt x="664" y="200"/>
                  </a:cubicBezTo>
                  <a:cubicBezTo>
                    <a:pt x="736" y="192"/>
                    <a:pt x="752" y="200"/>
                    <a:pt x="808" y="200"/>
                  </a:cubicBezTo>
                  <a:cubicBezTo>
                    <a:pt x="864" y="200"/>
                    <a:pt x="944" y="192"/>
                    <a:pt x="1000" y="200"/>
                  </a:cubicBezTo>
                  <a:cubicBezTo>
                    <a:pt x="1056" y="208"/>
                    <a:pt x="1112" y="264"/>
                    <a:pt x="1144" y="248"/>
                  </a:cubicBezTo>
                  <a:cubicBezTo>
                    <a:pt x="1176" y="232"/>
                    <a:pt x="1208" y="136"/>
                    <a:pt x="1192" y="104"/>
                  </a:cubicBezTo>
                  <a:cubicBezTo>
                    <a:pt x="1176" y="72"/>
                    <a:pt x="1112" y="72"/>
                    <a:pt x="1048" y="56"/>
                  </a:cubicBezTo>
                  <a:cubicBezTo>
                    <a:pt x="984" y="40"/>
                    <a:pt x="896" y="0"/>
                    <a:pt x="808" y="8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4772160" y="4441680"/>
              <a:ext cx="636480" cy="504360"/>
              <a:chOff x="4772160" y="4441680"/>
              <a:chExt cx="636480" cy="50436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4817160" y="4492080"/>
                <a:ext cx="591480" cy="151200"/>
                <a:chOff x="4817160" y="4492080"/>
                <a:chExt cx="591480" cy="151200"/>
              </a:xfrm>
            </p:grpSpPr>
            <p:sp>
              <p:nvSpPr>
                <p:cNvPr id="133" name=""/>
                <p:cNvSpPr/>
                <p:nvPr/>
              </p:nvSpPr>
              <p:spPr>
                <a:xfrm flipH="1">
                  <a:off x="5135760" y="4492080"/>
                  <a:ext cx="272880" cy="151200"/>
                </a:xfrm>
                <a:prstGeom prst="line">
                  <a:avLst/>
                </a:prstGeom>
                <a:ln w="2844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H="1" flipV="1">
                  <a:off x="4817160" y="4492080"/>
                  <a:ext cx="318600" cy="151200"/>
                </a:xfrm>
                <a:prstGeom prst="line">
                  <a:avLst/>
                </a:prstGeom>
                <a:ln w="2844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817160" y="4592880"/>
                <a:ext cx="591480" cy="151200"/>
                <a:chOff x="4817160" y="4592880"/>
                <a:chExt cx="591480" cy="151200"/>
              </a:xfrm>
            </p:grpSpPr>
            <p:sp>
              <p:nvSpPr>
                <p:cNvPr id="136" name=""/>
                <p:cNvSpPr/>
                <p:nvPr/>
              </p:nvSpPr>
              <p:spPr>
                <a:xfrm flipH="1">
                  <a:off x="5135760" y="4592880"/>
                  <a:ext cx="272880" cy="151200"/>
                </a:xfrm>
                <a:prstGeom prst="line">
                  <a:avLst/>
                </a:prstGeom>
                <a:ln w="2844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H="1" flipV="1">
                  <a:off x="4817160" y="4592880"/>
                  <a:ext cx="318600" cy="151200"/>
                </a:xfrm>
                <a:prstGeom prst="line">
                  <a:avLst/>
                </a:prstGeom>
                <a:ln w="2844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4817160" y="4694040"/>
                <a:ext cx="591480" cy="151200"/>
                <a:chOff x="4817160" y="4694040"/>
                <a:chExt cx="591480" cy="151200"/>
              </a:xfrm>
            </p:grpSpPr>
            <p:sp>
              <p:nvSpPr>
                <p:cNvPr id="139" name=""/>
                <p:cNvSpPr/>
                <p:nvPr/>
              </p:nvSpPr>
              <p:spPr>
                <a:xfrm flipH="1">
                  <a:off x="5135760" y="4694040"/>
                  <a:ext cx="272880" cy="151200"/>
                </a:xfrm>
                <a:prstGeom prst="line">
                  <a:avLst/>
                </a:prstGeom>
                <a:ln w="2844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 flipV="1">
                  <a:off x="4817160" y="4694040"/>
                  <a:ext cx="318600" cy="151200"/>
                </a:xfrm>
                <a:prstGeom prst="line">
                  <a:avLst/>
                </a:prstGeom>
                <a:ln w="2844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817160" y="4794840"/>
                <a:ext cx="591480" cy="151200"/>
                <a:chOff x="4817160" y="4794840"/>
                <a:chExt cx="591480" cy="151200"/>
              </a:xfrm>
            </p:grpSpPr>
            <p:sp>
              <p:nvSpPr>
                <p:cNvPr id="142" name=""/>
                <p:cNvSpPr/>
                <p:nvPr/>
              </p:nvSpPr>
              <p:spPr>
                <a:xfrm flipH="1">
                  <a:off x="5135760" y="4794840"/>
                  <a:ext cx="272880" cy="151200"/>
                </a:xfrm>
                <a:prstGeom prst="line">
                  <a:avLst/>
                </a:prstGeom>
                <a:ln w="2844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flipV="1">
                  <a:off x="4817160" y="4794840"/>
                  <a:ext cx="318600" cy="151200"/>
                </a:xfrm>
                <a:prstGeom prst="line">
                  <a:avLst/>
                </a:prstGeom>
                <a:ln w="2844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 rot="5400000">
                <a:off x="4590360" y="4623120"/>
                <a:ext cx="453960" cy="9072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4645080" y="4513680"/>
              <a:ext cx="0" cy="5760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00720" y="3865680"/>
              <a:ext cx="0" cy="15127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5536440" y="4297320"/>
              <a:ext cx="636480" cy="504360"/>
              <a:chOff x="5536440" y="4297320"/>
              <a:chExt cx="636480" cy="50436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5536440" y="4600080"/>
                <a:ext cx="591480" cy="151200"/>
                <a:chOff x="5536440" y="4600080"/>
                <a:chExt cx="591480" cy="151200"/>
              </a:xfrm>
            </p:grpSpPr>
            <p:sp>
              <p:nvSpPr>
                <p:cNvPr id="149" name=""/>
                <p:cNvSpPr/>
                <p:nvPr/>
              </p:nvSpPr>
              <p:spPr>
                <a:xfrm flipV="1">
                  <a:off x="5536440" y="4600080"/>
                  <a:ext cx="272880" cy="151200"/>
                </a:xfrm>
                <a:prstGeom prst="line">
                  <a:avLst/>
                </a:prstGeom>
                <a:ln w="2844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809320" y="4600080"/>
                  <a:ext cx="318600" cy="151200"/>
                </a:xfrm>
                <a:prstGeom prst="line">
                  <a:avLst/>
                </a:prstGeom>
                <a:ln w="2844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536440" y="4499280"/>
                <a:ext cx="591480" cy="151200"/>
                <a:chOff x="5536440" y="4499280"/>
                <a:chExt cx="591480" cy="151200"/>
              </a:xfrm>
            </p:grpSpPr>
            <p:sp>
              <p:nvSpPr>
                <p:cNvPr id="152" name=""/>
                <p:cNvSpPr/>
                <p:nvPr/>
              </p:nvSpPr>
              <p:spPr>
                <a:xfrm flipV="1">
                  <a:off x="5536440" y="4499280"/>
                  <a:ext cx="272880" cy="151200"/>
                </a:xfrm>
                <a:prstGeom prst="line">
                  <a:avLst/>
                </a:prstGeom>
                <a:ln w="2844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809320" y="4499280"/>
                  <a:ext cx="318600" cy="151200"/>
                </a:xfrm>
                <a:prstGeom prst="line">
                  <a:avLst/>
                </a:prstGeom>
                <a:ln w="2844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5536440" y="4398120"/>
                <a:ext cx="591480" cy="151200"/>
                <a:chOff x="5536440" y="4398120"/>
                <a:chExt cx="591480" cy="151200"/>
              </a:xfrm>
            </p:grpSpPr>
            <p:sp>
              <p:nvSpPr>
                <p:cNvPr id="155" name=""/>
                <p:cNvSpPr/>
                <p:nvPr/>
              </p:nvSpPr>
              <p:spPr>
                <a:xfrm flipV="1">
                  <a:off x="5536440" y="4398120"/>
                  <a:ext cx="272880" cy="151200"/>
                </a:xfrm>
                <a:prstGeom prst="line">
                  <a:avLst/>
                </a:prstGeom>
                <a:ln w="2844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809320" y="4398120"/>
                  <a:ext cx="318600" cy="151200"/>
                </a:xfrm>
                <a:prstGeom prst="line">
                  <a:avLst/>
                </a:prstGeom>
                <a:ln w="2844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5536440" y="4297320"/>
                <a:ext cx="591480" cy="151200"/>
                <a:chOff x="5536440" y="4297320"/>
                <a:chExt cx="591480" cy="151200"/>
              </a:xfrm>
            </p:grpSpPr>
            <p:sp>
              <p:nvSpPr>
                <p:cNvPr id="158" name=""/>
                <p:cNvSpPr/>
                <p:nvPr/>
              </p:nvSpPr>
              <p:spPr>
                <a:xfrm flipV="1">
                  <a:off x="5536440" y="4297320"/>
                  <a:ext cx="272880" cy="151200"/>
                </a:xfrm>
                <a:prstGeom prst="line">
                  <a:avLst/>
                </a:prstGeom>
                <a:ln w="2844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809320" y="4297320"/>
                  <a:ext cx="318600" cy="151200"/>
                </a:xfrm>
                <a:prstGeom prst="line">
                  <a:avLst/>
                </a:prstGeom>
                <a:ln w="2844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" name=""/>
              <p:cNvSpPr/>
              <p:nvPr/>
            </p:nvSpPr>
            <p:spPr>
              <a:xfrm rot="16200000">
                <a:off x="5900400" y="4529160"/>
                <a:ext cx="453960" cy="9072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5003640" y="404640"/>
            <a:ext cx="1168560" cy="1517760"/>
            <a:chOff x="5003640" y="404640"/>
            <a:chExt cx="1168560" cy="1517760"/>
          </a:xfrm>
        </p:grpSpPr>
        <p:sp>
          <p:nvSpPr>
            <p:cNvPr id="162" name=""/>
            <p:cNvSpPr/>
            <p:nvPr/>
          </p:nvSpPr>
          <p:spPr>
            <a:xfrm flipV="1">
              <a:off x="5003640" y="950040"/>
              <a:ext cx="906120" cy="363960"/>
            </a:xfrm>
            <a:custGeom>
              <a:avLst/>
              <a:gdLst/>
              <a:ahLst/>
              <a:rect l="l" t="t" r="r" b="b"/>
              <a:pathLst>
                <a:path w="1208" h="272">
                  <a:moveTo>
                    <a:pt x="808" y="8"/>
                  </a:moveTo>
                  <a:cubicBezTo>
                    <a:pt x="720" y="16"/>
                    <a:pt x="608" y="80"/>
                    <a:pt x="520" y="104"/>
                  </a:cubicBezTo>
                  <a:cubicBezTo>
                    <a:pt x="432" y="128"/>
                    <a:pt x="344" y="152"/>
                    <a:pt x="280" y="152"/>
                  </a:cubicBezTo>
                  <a:cubicBezTo>
                    <a:pt x="216" y="152"/>
                    <a:pt x="176" y="88"/>
                    <a:pt x="136" y="104"/>
                  </a:cubicBezTo>
                  <a:cubicBezTo>
                    <a:pt x="96" y="120"/>
                    <a:pt x="0" y="224"/>
                    <a:pt x="40" y="248"/>
                  </a:cubicBezTo>
                  <a:cubicBezTo>
                    <a:pt x="80" y="272"/>
                    <a:pt x="272" y="256"/>
                    <a:pt x="376" y="248"/>
                  </a:cubicBezTo>
                  <a:cubicBezTo>
                    <a:pt x="480" y="240"/>
                    <a:pt x="592" y="208"/>
                    <a:pt x="664" y="200"/>
                  </a:cubicBezTo>
                  <a:cubicBezTo>
                    <a:pt x="736" y="192"/>
                    <a:pt x="752" y="200"/>
                    <a:pt x="808" y="200"/>
                  </a:cubicBezTo>
                  <a:cubicBezTo>
                    <a:pt x="864" y="200"/>
                    <a:pt x="944" y="192"/>
                    <a:pt x="1000" y="200"/>
                  </a:cubicBezTo>
                  <a:cubicBezTo>
                    <a:pt x="1056" y="208"/>
                    <a:pt x="1112" y="264"/>
                    <a:pt x="1144" y="248"/>
                  </a:cubicBezTo>
                  <a:cubicBezTo>
                    <a:pt x="1176" y="232"/>
                    <a:pt x="1208" y="136"/>
                    <a:pt x="1192" y="104"/>
                  </a:cubicBezTo>
                  <a:cubicBezTo>
                    <a:pt x="1176" y="72"/>
                    <a:pt x="1112" y="72"/>
                    <a:pt x="1048" y="56"/>
                  </a:cubicBezTo>
                  <a:cubicBezTo>
                    <a:pt x="984" y="40"/>
                    <a:pt x="896" y="0"/>
                    <a:pt x="808" y="8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5410080" y="1193760"/>
              <a:ext cx="355680" cy="606600"/>
              <a:chOff x="5410080" y="1193760"/>
              <a:chExt cx="355680" cy="606600"/>
            </a:xfrm>
          </p:grpSpPr>
          <p:grpSp>
            <p:nvGrpSpPr>
              <p:cNvPr id="164" name=""/>
              <p:cNvGrpSpPr/>
              <p:nvPr/>
            </p:nvGrpSpPr>
            <p:grpSpPr>
              <a:xfrm>
                <a:off x="5623920" y="1193760"/>
                <a:ext cx="106560" cy="563400"/>
                <a:chOff x="5623920" y="1193760"/>
                <a:chExt cx="106560" cy="563400"/>
              </a:xfrm>
            </p:grpSpPr>
            <p:sp>
              <p:nvSpPr>
                <p:cNvPr id="165" name=""/>
                <p:cNvSpPr/>
                <p:nvPr/>
              </p:nvSpPr>
              <p:spPr>
                <a:xfrm flipH="1">
                  <a:off x="5623920" y="1193760"/>
                  <a:ext cx="106560" cy="259920"/>
                </a:xfrm>
                <a:prstGeom prst="line">
                  <a:avLst/>
                </a:prstGeom>
                <a:ln w="2844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623920" y="1453680"/>
                  <a:ext cx="106560" cy="303480"/>
                </a:xfrm>
                <a:prstGeom prst="line">
                  <a:avLst/>
                </a:prstGeom>
                <a:ln w="2844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5552640" y="1193760"/>
                <a:ext cx="106560" cy="563400"/>
                <a:chOff x="5552640" y="1193760"/>
                <a:chExt cx="106560" cy="563400"/>
              </a:xfrm>
            </p:grpSpPr>
            <p:sp>
              <p:nvSpPr>
                <p:cNvPr id="168" name=""/>
                <p:cNvSpPr/>
                <p:nvPr/>
              </p:nvSpPr>
              <p:spPr>
                <a:xfrm flipH="1">
                  <a:off x="5552640" y="1193760"/>
                  <a:ext cx="106560" cy="259920"/>
                </a:xfrm>
                <a:prstGeom prst="line">
                  <a:avLst/>
                </a:prstGeom>
                <a:ln w="2844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552640" y="1453680"/>
                  <a:ext cx="106560" cy="303480"/>
                </a:xfrm>
                <a:prstGeom prst="line">
                  <a:avLst/>
                </a:prstGeom>
                <a:ln w="2844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5481360" y="1193760"/>
                <a:ext cx="106560" cy="563400"/>
                <a:chOff x="5481360" y="1193760"/>
                <a:chExt cx="106560" cy="563400"/>
              </a:xfrm>
            </p:grpSpPr>
            <p:sp>
              <p:nvSpPr>
                <p:cNvPr id="171" name=""/>
                <p:cNvSpPr/>
                <p:nvPr/>
              </p:nvSpPr>
              <p:spPr>
                <a:xfrm flipH="1">
                  <a:off x="5481360" y="1193760"/>
                  <a:ext cx="106560" cy="259920"/>
                </a:xfrm>
                <a:prstGeom prst="line">
                  <a:avLst/>
                </a:prstGeom>
                <a:ln w="2844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481360" y="1453680"/>
                  <a:ext cx="106560" cy="303480"/>
                </a:xfrm>
                <a:prstGeom prst="line">
                  <a:avLst/>
                </a:prstGeom>
                <a:ln w="2844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410080" y="1193760"/>
                <a:ext cx="106560" cy="563400"/>
                <a:chOff x="5410080" y="1193760"/>
                <a:chExt cx="106560" cy="563400"/>
              </a:xfrm>
            </p:grpSpPr>
            <p:sp>
              <p:nvSpPr>
                <p:cNvPr id="174" name=""/>
                <p:cNvSpPr/>
                <p:nvPr/>
              </p:nvSpPr>
              <p:spPr>
                <a:xfrm flipH="1">
                  <a:off x="5410080" y="1193760"/>
                  <a:ext cx="106560" cy="259920"/>
                </a:xfrm>
                <a:prstGeom prst="line">
                  <a:avLst/>
                </a:prstGeom>
                <a:ln w="2844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410080" y="1453680"/>
                  <a:ext cx="106560" cy="303480"/>
                </a:xfrm>
                <a:prstGeom prst="line">
                  <a:avLst/>
                </a:prstGeom>
                <a:ln w="2844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 flipV="1" rot="10800000">
                <a:off x="5445720" y="1713960"/>
                <a:ext cx="320040" cy="8640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5410080" y="525960"/>
              <a:ext cx="355680" cy="606240"/>
              <a:chOff x="5410080" y="525960"/>
              <a:chExt cx="355680" cy="60624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5623920" y="568800"/>
                <a:ext cx="106560" cy="563400"/>
                <a:chOff x="5623920" y="568800"/>
                <a:chExt cx="106560" cy="563400"/>
              </a:xfrm>
            </p:grpSpPr>
            <p:sp>
              <p:nvSpPr>
                <p:cNvPr id="179" name=""/>
                <p:cNvSpPr/>
                <p:nvPr/>
              </p:nvSpPr>
              <p:spPr>
                <a:xfrm flipH="1" flipV="1">
                  <a:off x="5623920" y="872280"/>
                  <a:ext cx="106560" cy="259920"/>
                </a:xfrm>
                <a:prstGeom prst="line">
                  <a:avLst/>
                </a:prstGeom>
                <a:ln w="2844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V="1">
                  <a:off x="5623920" y="568800"/>
                  <a:ext cx="106560" cy="303480"/>
                </a:xfrm>
                <a:prstGeom prst="line">
                  <a:avLst/>
                </a:prstGeom>
                <a:ln w="2844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5552640" y="568800"/>
                <a:ext cx="106560" cy="563400"/>
                <a:chOff x="5552640" y="568800"/>
                <a:chExt cx="106560" cy="563400"/>
              </a:xfrm>
            </p:grpSpPr>
            <p:sp>
              <p:nvSpPr>
                <p:cNvPr id="182" name=""/>
                <p:cNvSpPr/>
                <p:nvPr/>
              </p:nvSpPr>
              <p:spPr>
                <a:xfrm flipH="1" flipV="1">
                  <a:off x="5552640" y="872280"/>
                  <a:ext cx="106560" cy="259920"/>
                </a:xfrm>
                <a:prstGeom prst="line">
                  <a:avLst/>
                </a:prstGeom>
                <a:ln w="2844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V="1">
                  <a:off x="5552640" y="568800"/>
                  <a:ext cx="106560" cy="303480"/>
                </a:xfrm>
                <a:prstGeom prst="line">
                  <a:avLst/>
                </a:prstGeom>
                <a:ln w="2844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5481360" y="568800"/>
                <a:ext cx="106560" cy="563400"/>
                <a:chOff x="5481360" y="568800"/>
                <a:chExt cx="106560" cy="563400"/>
              </a:xfrm>
            </p:grpSpPr>
            <p:sp>
              <p:nvSpPr>
                <p:cNvPr id="185" name=""/>
                <p:cNvSpPr/>
                <p:nvPr/>
              </p:nvSpPr>
              <p:spPr>
                <a:xfrm flipH="1" flipV="1">
                  <a:off x="5481360" y="872280"/>
                  <a:ext cx="106560" cy="259920"/>
                </a:xfrm>
                <a:prstGeom prst="line">
                  <a:avLst/>
                </a:prstGeom>
                <a:ln w="2844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V="1">
                  <a:off x="5481360" y="568800"/>
                  <a:ext cx="106560" cy="303480"/>
                </a:xfrm>
                <a:prstGeom prst="line">
                  <a:avLst/>
                </a:prstGeom>
                <a:ln w="2844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5410080" y="568800"/>
                <a:ext cx="106560" cy="563400"/>
                <a:chOff x="5410080" y="568800"/>
                <a:chExt cx="106560" cy="563400"/>
              </a:xfrm>
            </p:grpSpPr>
            <p:sp>
              <p:nvSpPr>
                <p:cNvPr id="188" name=""/>
                <p:cNvSpPr/>
                <p:nvPr/>
              </p:nvSpPr>
              <p:spPr>
                <a:xfrm flipH="1" flipV="1">
                  <a:off x="5410080" y="872280"/>
                  <a:ext cx="106560" cy="259920"/>
                </a:xfrm>
                <a:prstGeom prst="line">
                  <a:avLst/>
                </a:prstGeom>
                <a:ln w="2844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V="1">
                  <a:off x="5410080" y="568800"/>
                  <a:ext cx="106560" cy="303480"/>
                </a:xfrm>
                <a:prstGeom prst="line">
                  <a:avLst/>
                </a:prstGeom>
                <a:ln w="2844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 rot="10800000">
                <a:off x="5445720" y="525960"/>
                <a:ext cx="320040" cy="8640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5105160" y="404640"/>
              <a:ext cx="106704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60840" y="1922400"/>
              <a:ext cx="40644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788000" y="2282760"/>
            <a:ext cx="1231920" cy="1333440"/>
            <a:chOff x="4788000" y="2282760"/>
            <a:chExt cx="1231920" cy="1333440"/>
          </a:xfrm>
        </p:grpSpPr>
        <p:grpSp>
          <p:nvGrpSpPr>
            <p:cNvPr id="194" name=""/>
            <p:cNvGrpSpPr/>
            <p:nvPr/>
          </p:nvGrpSpPr>
          <p:grpSpPr>
            <a:xfrm>
              <a:off x="5403960" y="2815920"/>
              <a:ext cx="478800" cy="666360"/>
              <a:chOff x="5403960" y="2815920"/>
              <a:chExt cx="478800" cy="66636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5451480" y="2815920"/>
                <a:ext cx="144000" cy="618840"/>
                <a:chOff x="5451480" y="2815920"/>
                <a:chExt cx="144000" cy="61884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5451840" y="2815920"/>
                  <a:ext cx="143640" cy="285480"/>
                </a:xfrm>
                <a:prstGeom prst="line">
                  <a:avLst/>
                </a:prstGeom>
                <a:ln w="2844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>
                  <a:off x="5451480" y="3101400"/>
                  <a:ext cx="143640" cy="333360"/>
                </a:xfrm>
                <a:prstGeom prst="line">
                  <a:avLst/>
                </a:prstGeom>
                <a:ln w="2844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547240" y="2815920"/>
                <a:ext cx="144000" cy="618840"/>
                <a:chOff x="5547240" y="2815920"/>
                <a:chExt cx="144000" cy="6188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547600" y="2815920"/>
                  <a:ext cx="143640" cy="285480"/>
                </a:xfrm>
                <a:prstGeom prst="line">
                  <a:avLst/>
                </a:prstGeom>
                <a:ln w="2844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H="1">
                  <a:off x="5547240" y="3101400"/>
                  <a:ext cx="143640" cy="333360"/>
                </a:xfrm>
                <a:prstGeom prst="line">
                  <a:avLst/>
                </a:prstGeom>
                <a:ln w="2844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5643000" y="2815920"/>
                <a:ext cx="144000" cy="618840"/>
                <a:chOff x="5643000" y="2815920"/>
                <a:chExt cx="144000" cy="6188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643360" y="2815920"/>
                  <a:ext cx="143640" cy="285480"/>
                </a:xfrm>
                <a:prstGeom prst="line">
                  <a:avLst/>
                </a:prstGeom>
                <a:ln w="2844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>
                  <a:off x="5643000" y="3101400"/>
                  <a:ext cx="143640" cy="333360"/>
                </a:xfrm>
                <a:prstGeom prst="line">
                  <a:avLst/>
                </a:prstGeom>
                <a:ln w="2844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5738760" y="2815920"/>
                <a:ext cx="144000" cy="618840"/>
                <a:chOff x="5738760" y="2815920"/>
                <a:chExt cx="144000" cy="6188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5739120" y="2815920"/>
                  <a:ext cx="143640" cy="285480"/>
                </a:xfrm>
                <a:prstGeom prst="line">
                  <a:avLst/>
                </a:prstGeom>
                <a:ln w="2844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>
                  <a:off x="5738760" y="3101400"/>
                  <a:ext cx="143640" cy="333360"/>
                </a:xfrm>
                <a:prstGeom prst="line">
                  <a:avLst/>
                </a:prstGeom>
                <a:ln w="2844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 flipH="1" flipV="1" rot="10800000">
                <a:off x="5403600" y="3387240"/>
                <a:ext cx="430920" cy="950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5677200" y="2415960"/>
              <a:ext cx="205200" cy="53316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09160" y="2415960"/>
              <a:ext cx="205200" cy="53316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40400" y="2415960"/>
              <a:ext cx="205200" cy="53316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2000" y="2415960"/>
              <a:ext cx="205200" cy="53316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03960" y="2415960"/>
              <a:ext cx="205200" cy="53316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35200" y="2415960"/>
              <a:ext cx="205200" cy="53316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66800" y="2415960"/>
              <a:ext cx="205200" cy="53316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5198400" y="2415960"/>
              <a:ext cx="547200" cy="6660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198400" y="3616200"/>
              <a:ext cx="75240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4788000" y="2282760"/>
              <a:ext cx="123192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334480" y="2949120"/>
              <a:ext cx="684360" cy="133560"/>
            </a:xfrm>
            <a:custGeom>
              <a:avLst/>
              <a:gdLst/>
              <a:ahLst/>
              <a:rect l="l" t="t" r="r" b="b"/>
              <a:pathLst>
                <a:path w="480" h="96">
                  <a:moveTo>
                    <a:pt x="0" y="48"/>
                  </a:moveTo>
                  <a:cubicBezTo>
                    <a:pt x="72" y="44"/>
                    <a:pt x="144" y="40"/>
                    <a:pt x="192" y="48"/>
                  </a:cubicBezTo>
                  <a:cubicBezTo>
                    <a:pt x="240" y="56"/>
                    <a:pt x="256" y="96"/>
                    <a:pt x="288" y="96"/>
                  </a:cubicBezTo>
                  <a:cubicBezTo>
                    <a:pt x="320" y="96"/>
                    <a:pt x="352" y="64"/>
                    <a:pt x="384" y="48"/>
                  </a:cubicBezTo>
                  <a:cubicBezTo>
                    <a:pt x="416" y="32"/>
                    <a:pt x="456" y="8"/>
                    <a:pt x="480" y="0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5198400" y="2927160"/>
              <a:ext cx="752400" cy="155520"/>
            </a:xfrm>
            <a:custGeom>
              <a:avLst/>
              <a:gdLst/>
              <a:ahLst/>
              <a:rect l="l" t="t" r="r" b="b"/>
              <a:pathLst>
                <a:path w="528" h="112">
                  <a:moveTo>
                    <a:pt x="0" y="112"/>
                  </a:moveTo>
                  <a:cubicBezTo>
                    <a:pt x="28" y="72"/>
                    <a:pt x="56" y="32"/>
                    <a:pt x="96" y="16"/>
                  </a:cubicBezTo>
                  <a:cubicBezTo>
                    <a:pt x="136" y="0"/>
                    <a:pt x="200" y="8"/>
                    <a:pt x="240" y="16"/>
                  </a:cubicBezTo>
                  <a:cubicBezTo>
                    <a:pt x="280" y="24"/>
                    <a:pt x="304" y="56"/>
                    <a:pt x="336" y="64"/>
                  </a:cubicBezTo>
                  <a:cubicBezTo>
                    <a:pt x="368" y="72"/>
                    <a:pt x="400" y="64"/>
                    <a:pt x="432" y="64"/>
                  </a:cubicBezTo>
                  <a:cubicBezTo>
                    <a:pt x="464" y="64"/>
                    <a:pt x="496" y="64"/>
                    <a:pt x="528" y="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197680" y="2793600"/>
              <a:ext cx="821160" cy="155520"/>
            </a:xfrm>
            <a:custGeom>
              <a:avLst/>
              <a:gdLst/>
              <a:ahLst/>
              <a:rect l="l" t="t" r="r" b="b"/>
              <a:pathLst>
                <a:path w="576" h="112">
                  <a:moveTo>
                    <a:pt x="0" y="112"/>
                  </a:moveTo>
                  <a:cubicBezTo>
                    <a:pt x="8" y="72"/>
                    <a:pt x="16" y="32"/>
                    <a:pt x="48" y="16"/>
                  </a:cubicBezTo>
                  <a:cubicBezTo>
                    <a:pt x="80" y="0"/>
                    <a:pt x="152" y="8"/>
                    <a:pt x="192" y="16"/>
                  </a:cubicBezTo>
                  <a:cubicBezTo>
                    <a:pt x="232" y="24"/>
                    <a:pt x="256" y="56"/>
                    <a:pt x="288" y="64"/>
                  </a:cubicBezTo>
                  <a:cubicBezTo>
                    <a:pt x="320" y="72"/>
                    <a:pt x="352" y="64"/>
                    <a:pt x="384" y="64"/>
                  </a:cubicBezTo>
                  <a:cubicBezTo>
                    <a:pt x="416" y="64"/>
                    <a:pt x="448" y="64"/>
                    <a:pt x="480" y="64"/>
                  </a:cubicBezTo>
                  <a:cubicBezTo>
                    <a:pt x="512" y="64"/>
                    <a:pt x="560" y="72"/>
                    <a:pt x="576" y="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295D3-2B10-474F-A4B4-5BA80E82BAD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 flipH="1" rot="20730000">
            <a:off x="2555640" y="1125000"/>
            <a:ext cx="1871640" cy="1944720"/>
          </a:xfrm>
          <a:custGeom>
            <a:avLst/>
            <a:gdLst>
              <a:gd name="textAreaLeft" fmla="*/ -360 w 1871640"/>
              <a:gd name="textAreaRight" fmla="*/ 1871640 w 187164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w="21600" h="21600">
                <a:moveTo>
                  <a:pt x="3637" y="10995"/>
                </a:moveTo>
                <a:arcTo wR="-7166" hR="-7166" stAng="10706450" swAng="-15236136"/>
                <a:lnTo>
                  <a:pt x="8095" y="21256"/>
                </a:lnTo>
                <a:arcTo wR="10800" hR="10800" stAng="6270314" swAng="15236136"/>
                <a:lnTo>
                  <a:pt x="24295" y="10433"/>
                </a:lnTo>
                <a:lnTo>
                  <a:pt x="19903" y="15071"/>
                </a:lnTo>
                <a:lnTo>
                  <a:pt x="15264" y="10678"/>
                </a:lnTo>
                <a:close/>
              </a:path>
            </a:pathLst>
          </a:custGeom>
          <a:solidFill>
            <a:srgbClr val="0099cc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xing on the c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69840" y="2637000"/>
            <a:ext cx="7489800" cy="1942920"/>
          </a:xfrm>
          <a:prstGeom prst="rightArrow">
            <a:avLst>
              <a:gd name="adj1" fmla="val 67648"/>
              <a:gd name="adj2" fmla="val 97069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8360" y="436572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The swift roller is the highway for wool travelling through a 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89440" y="765000"/>
            <a:ext cx="31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Narrow"/>
              </a:rPr>
              <a:t>The worker roller diverts part of the wool flow and eventually returns it to the hig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A9602-8713-49A9-817F-2C351639F70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6300720" y="3094200"/>
            <a:ext cx="2737080" cy="1583640"/>
            <a:chOff x="6300720" y="3094200"/>
            <a:chExt cx="2737080" cy="1583640"/>
          </a:xfrm>
        </p:grpSpPr>
        <p:sp>
          <p:nvSpPr>
            <p:cNvPr id="227" name=""/>
            <p:cNvSpPr/>
            <p:nvPr/>
          </p:nvSpPr>
          <p:spPr>
            <a:xfrm flipV="1">
              <a:off x="6300720" y="3309840"/>
              <a:ext cx="1513080" cy="1368000"/>
            </a:xfrm>
            <a:custGeom>
              <a:avLst/>
              <a:gdLst>
                <a:gd name="textAreaLeft" fmla="*/ 0 w 1513080"/>
                <a:gd name="textAreaRight" fmla="*/ 1513440 w 1513080"/>
                <a:gd name="textAreaTop" fmla="*/ 360 h 1368000"/>
                <a:gd name="textAreaBottom" fmla="*/ 1368720 h 136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359" y="11377"/>
                  </a:moveTo>
                  <a:arcTo wR="-8461" hR="-8461" stAng="10565399" swAng="-10565399"/>
                  <a:lnTo>
                    <a:pt x="0" y="10800"/>
                  </a:lnTo>
                  <a:arcTo wR="10800" hR="10800" stAng="10800000" swAng="10565399"/>
                  <a:lnTo>
                    <a:pt x="24269" y="9879"/>
                  </a:lnTo>
                  <a:lnTo>
                    <a:pt x="20672" y="14004"/>
                  </a:lnTo>
                  <a:lnTo>
                    <a:pt x="16548" y="10407"/>
                  </a:lnTo>
                  <a:close/>
                </a:path>
              </a:pathLst>
            </a:custGeom>
            <a:solidFill>
              <a:srgbClr val="0099cc"/>
            </a:solidFill>
            <a:ln w="2844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32720" y="3094200"/>
              <a:ext cx="2305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The doffer removes part of the f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801520" y="1346760"/>
            <a:ext cx="3884040" cy="1646280"/>
            <a:chOff x="2801520" y="1346760"/>
            <a:chExt cx="3884040" cy="1646280"/>
          </a:xfrm>
        </p:grpSpPr>
        <p:sp>
          <p:nvSpPr>
            <p:cNvPr id="230" name=""/>
            <p:cNvSpPr/>
            <p:nvPr/>
          </p:nvSpPr>
          <p:spPr>
            <a:xfrm flipH="1" rot="988200">
              <a:off x="5796360" y="2085840"/>
              <a:ext cx="792360" cy="792000"/>
            </a:xfrm>
            <a:custGeom>
              <a:avLst/>
              <a:gdLst>
                <a:gd name="textAreaLeft" fmla="*/ -360 w 792360"/>
                <a:gd name="textAreaRight" fmla="*/ 792360 w 79236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53" y="11558"/>
                  </a:moveTo>
                  <a:arcTo wR="-6988" hR="-6988" stAng="10426379" swAng="-16762627"/>
                  <a:lnTo>
                    <a:pt x="13705" y="21202"/>
                  </a:lnTo>
                  <a:arcTo wR="10800" hR="10800" stAng="4463752" swAng="16762627"/>
                  <a:lnTo>
                    <a:pt x="24220" y="9336"/>
                  </a:lnTo>
                  <a:lnTo>
                    <a:pt x="20141" y="14414"/>
                  </a:lnTo>
                  <a:lnTo>
                    <a:pt x="15063" y="10335"/>
                  </a:lnTo>
                  <a:close/>
                </a:path>
              </a:pathLst>
            </a:custGeom>
            <a:solidFill>
              <a:srgbClr val="0099cc"/>
            </a:solidFill>
            <a:ln w="2844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rot="20888400">
              <a:off x="4860360" y="1509480"/>
              <a:ext cx="792000" cy="792360"/>
            </a:xfrm>
            <a:custGeom>
              <a:avLst/>
              <a:gdLst>
                <a:gd name="textAreaLeft" fmla="*/ 360 w 792000"/>
                <a:gd name="textAreaRight" fmla="*/ 792720 w 792000"/>
                <a:gd name="textAreaTop" fmla="*/ 0 h 792360"/>
                <a:gd name="textAreaBottom" fmla="*/ 79272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53" y="11558"/>
                  </a:moveTo>
                  <a:arcTo wR="-6988" hR="-6988" stAng="10426379" swAng="-16762627"/>
                  <a:lnTo>
                    <a:pt x="13705" y="21202"/>
                  </a:lnTo>
                  <a:arcTo wR="10800" hR="10800" stAng="4463752" swAng="16762627"/>
                  <a:lnTo>
                    <a:pt x="24220" y="9336"/>
                  </a:lnTo>
                  <a:lnTo>
                    <a:pt x="20141" y="14414"/>
                  </a:lnTo>
                  <a:lnTo>
                    <a:pt x="15063" y="10335"/>
                  </a:lnTo>
                  <a:close/>
                </a:path>
              </a:pathLst>
            </a:custGeom>
            <a:solidFill>
              <a:srgbClr val="0099cc"/>
            </a:solidFill>
            <a:ln w="2844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rot="18691200">
              <a:off x="3781080" y="1509840"/>
              <a:ext cx="792360" cy="792000"/>
            </a:xfrm>
            <a:custGeom>
              <a:avLst/>
              <a:gdLst>
                <a:gd name="textAreaLeft" fmla="*/ -360 w 792360"/>
                <a:gd name="textAreaRight" fmla="*/ 792360 w 79236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53" y="11558"/>
                  </a:moveTo>
                  <a:arcTo wR="-6988" hR="-6988" stAng="10426379" swAng="-16762627"/>
                  <a:lnTo>
                    <a:pt x="13705" y="21202"/>
                  </a:lnTo>
                  <a:arcTo wR="10800" hR="10800" stAng="4463752" swAng="16762627"/>
                  <a:lnTo>
                    <a:pt x="24220" y="9336"/>
                  </a:lnTo>
                  <a:lnTo>
                    <a:pt x="20141" y="14414"/>
                  </a:lnTo>
                  <a:lnTo>
                    <a:pt x="15063" y="10335"/>
                  </a:lnTo>
                  <a:close/>
                </a:path>
              </a:pathLst>
            </a:custGeom>
            <a:solidFill>
              <a:srgbClr val="0099cc"/>
            </a:solidFill>
            <a:ln w="2844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rot="17445600">
              <a:off x="2915640" y="2086200"/>
              <a:ext cx="792000" cy="792000"/>
            </a:xfrm>
            <a:custGeom>
              <a:avLst/>
              <a:gdLst>
                <a:gd name="textAreaLeft" fmla="*/ 360 w 792000"/>
                <a:gd name="textAreaRight" fmla="*/ 792720 w 792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53" y="11558"/>
                  </a:moveTo>
                  <a:arcTo wR="-6988" hR="-6988" stAng="10426379" swAng="-16762627"/>
                  <a:lnTo>
                    <a:pt x="13705" y="21202"/>
                  </a:lnTo>
                  <a:arcTo wR="10800" hR="10800" stAng="4463752" swAng="16762627"/>
                  <a:lnTo>
                    <a:pt x="24220" y="9336"/>
                  </a:lnTo>
                  <a:lnTo>
                    <a:pt x="20141" y="14414"/>
                  </a:lnTo>
                  <a:lnTo>
                    <a:pt x="15063" y="10335"/>
                  </a:lnTo>
                  <a:close/>
                </a:path>
              </a:pathLst>
            </a:custGeom>
            <a:solidFill>
              <a:srgbClr val="0099cc"/>
            </a:solidFill>
            <a:ln w="2844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xing on the c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08000" y="83664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Arial Narrow"/>
              </a:rPr>
              <a:t>The workers temporarily divert the wo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971640" y="3729600"/>
            <a:ext cx="2192760" cy="1022400"/>
            <a:chOff x="971640" y="3729600"/>
            <a:chExt cx="2192760" cy="1022400"/>
          </a:xfrm>
        </p:grpSpPr>
        <p:sp>
          <p:nvSpPr>
            <p:cNvPr id="237" name=""/>
            <p:cNvSpPr/>
            <p:nvPr/>
          </p:nvSpPr>
          <p:spPr>
            <a:xfrm rot="19549800">
              <a:off x="2339640" y="3920760"/>
              <a:ext cx="792000" cy="360360"/>
            </a:xfrm>
            <a:prstGeom prst="rightArrow">
              <a:avLst>
                <a:gd name="adj1" fmla="val 50000"/>
                <a:gd name="adj2" fmla="val 54945"/>
              </a:avLst>
            </a:prstGeom>
            <a:solidFill>
              <a:srgbClr val="0099cc"/>
            </a:solidFill>
            <a:ln w="2844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71640" y="4353120"/>
              <a:ext cx="151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Wool flow 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420280" y="1468800"/>
            <a:ext cx="4664520" cy="4690440"/>
            <a:chOff x="2420280" y="1468800"/>
            <a:chExt cx="4664520" cy="4690440"/>
          </a:xfrm>
        </p:grpSpPr>
        <p:sp>
          <p:nvSpPr>
            <p:cNvPr id="240" name=""/>
            <p:cNvSpPr/>
            <p:nvPr/>
          </p:nvSpPr>
          <p:spPr>
            <a:xfrm rot="8985000">
              <a:off x="3060000" y="2085840"/>
              <a:ext cx="3384360" cy="3456000"/>
            </a:xfrm>
            <a:custGeom>
              <a:avLst/>
              <a:gdLst>
                <a:gd name="textAreaLeft" fmla="*/ 0 w 3384360"/>
                <a:gd name="textAreaRight" fmla="*/ 3384720 w 3384360"/>
                <a:gd name="textAreaTop" fmla="*/ 0 h 3456000"/>
                <a:gd name="textAreaBottom" fmla="*/ 3456360 h 345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706" y="10839"/>
                  </a:moveTo>
                  <a:arcTo wR="-7094" hR="-7094" stAng="10781101" swAng="-19790905"/>
                  <a:lnTo>
                    <a:pt x="20168" y="16173"/>
                  </a:lnTo>
                  <a:arcTo wR="10800" hR="10800" stAng="1790196" swAng="19790905"/>
                  <a:lnTo>
                    <a:pt x="24300" y="10726"/>
                  </a:lnTo>
                  <a:lnTo>
                    <a:pt x="19772" y="15304"/>
                  </a:lnTo>
                  <a:lnTo>
                    <a:pt x="15194" y="10776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40360" y="357336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cc"/>
                  </a:solidFill>
                  <a:latin typeface="Arial Narrow"/>
                </a:rPr>
                <a:t>SWI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619280" y="49658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Narrow"/>
              </a:rPr>
              <a:t>Wool not captured by doffer continues in the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37E43-2A2E-4761-8F8A-E9377CAC850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4920" y="-27360"/>
            <a:ext cx="80010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moothing effect of the c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136000" cy="3611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82560" y="69228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apid change in input results in a slow change in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07C4B-5A78-4B6D-BE27-C0301516375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4:52:09Z</dcterms:created>
  <dc:creator>ES</dc:creator>
  <dc:description/>
  <dc:language>en-US</dc:language>
  <cp:lastModifiedBy>rroberts</cp:lastModifiedBy>
  <dcterms:modified xsi:type="dcterms:W3CDTF">2006-08-11T02:19:11Z</dcterms:modified>
  <cp:revision>64</cp:revision>
  <dc:subject/>
  <dc:title>PowerPoint Presentation</dc:title>
</cp:coreProperties>
</file>