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C2B3-8E25-437C-AA14-F41BF204E61C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51A3-C559-4E04-AC76-38E3419DE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FC96-14E7-45B6-A6C4-5BA457560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AE03-6C6C-4F8F-A653-4005CE43E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7C44-4D0B-4CFA-83D1-23F2AB984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D727-8005-4108-9332-72417EC644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17E2-E195-4718-923D-3E0BC301E0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10A9-AC27-4B9C-9194-1270828A64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9A70-7E20-444A-B702-21CF4E7991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D656-904E-4353-BFE2-F9DE2D67E4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4D7D-54A9-4D78-B65B-5A1E92ADA7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9D6B-90B1-4AB5-9496-57CA289D50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EC85-23D8-4130-88C7-605056797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2F98-61F1-45C5-A5C4-9F5126E943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075B-C3F7-447B-9EA7-8921535B4D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521E-DED9-478E-A822-0EBAA86519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2834-B027-4E9F-A270-7B773DFF57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82D0-7D5B-48A8-9931-0FDE4FAD25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2A73-C877-4008-A38D-03834A4AD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D516-A714-490B-8411-393920BB1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16C0-0F5B-4ED0-AAE2-F6F984805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D1BE-21CA-401F-B2F0-EFED952CF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3106-8F1D-428F-B329-7D5C28F75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6B5F-D1F6-4F4F-90F1-2B5D18A15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19DF-E3E3-4A28-A314-E4B094FAC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5EF5-2005-41C1-B05F-F82C97C9253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2092-F832-47FE-8E81-94DB65BDF56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772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Drafting and gilling of </a:t>
            </a: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fibrous assemb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48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4110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l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3911-40F8-4627-A350-2E9906ACCA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50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in gill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684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type of machine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67120" y="2060640"/>
            <a:ext cx="4197600" cy="3267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5360" y="2438280"/>
            <a:ext cx="3924360" cy="29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7C1C-0285-4FF4-AAB2-7030133715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4661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ummary Slides - Clos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8672-1706-49B6-914C-F01BAEE4CF6C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-10044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urposes of drafting and gi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22360"/>
            <a:ext cx="830736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duce thickness of fibrous strand to that required for worsted and semniworsted sp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duce level of fibre straightening and alignment for spinning a smooth, even y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so, by doubling, good mixing is achie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6633-6E88-4CC5-9597-92E8C972713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720" y="-27000"/>
            <a:ext cx="2880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f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54900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drawing out a sliver or roving to form a thinner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arried out by rollers operating at different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draft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 = speed of front roller/speed of back 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draft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’ = input count / output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0560" y="3287880"/>
            <a:ext cx="532944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389E-F692-47A5-8AFC-6460B6C168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315288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001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eding of two or more ends into a drafting zone to prom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re al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28720" y="3860640"/>
            <a:ext cx="7775640" cy="1447920"/>
            <a:chOff x="828720" y="3860640"/>
            <a:chExt cx="7775640" cy="1447920"/>
          </a:xfrm>
        </p:grpSpPr>
        <p:sp>
          <p:nvSpPr>
            <p:cNvPr id="102" name=""/>
            <p:cNvSpPr/>
            <p:nvPr/>
          </p:nvSpPr>
          <p:spPr>
            <a:xfrm>
              <a:off x="3922560" y="3939840"/>
              <a:ext cx="433440" cy="1297080"/>
            </a:xfrm>
            <a:prstGeom prst="can">
              <a:avLst>
                <a:gd name="adj" fmla="val 8078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81840" y="3939840"/>
              <a:ext cx="433440" cy="1297080"/>
            </a:xfrm>
            <a:prstGeom prst="can">
              <a:avLst>
                <a:gd name="adj" fmla="val 8078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0000" y="401292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0000" y="415584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40000" y="4300200"/>
              <a:ext cx="1727280" cy="2876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340000" y="473220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340000" y="487656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340000" y="501948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4967280" y="3687480"/>
              <a:ext cx="719280" cy="1944720"/>
            </a:xfrm>
            <a:custGeom>
              <a:avLst/>
              <a:gdLst>
                <a:gd name="textAreaLeft" fmla="*/ 180000 w 719280"/>
                <a:gd name="textAreaRight" fmla="*/ 539280 w 719280"/>
                <a:gd name="textAreaTop" fmla="*/ 486720 h 1944720"/>
                <a:gd name="textAreaBottom" fmla="*/ 145800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021" y="21600"/>
                  </a:lnTo>
                  <a:lnTo>
                    <a:pt x="6579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95640" y="4011480"/>
              <a:ext cx="433440" cy="1297080"/>
            </a:xfrm>
            <a:prstGeom prst="can">
              <a:avLst>
                <a:gd name="adj" fmla="val 8078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88000" y="4587840"/>
              <a:ext cx="1584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6200" y="4011480"/>
              <a:ext cx="433440" cy="1297080"/>
            </a:xfrm>
            <a:prstGeom prst="can">
              <a:avLst>
                <a:gd name="adj" fmla="val 8078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8720" y="4324320"/>
              <a:ext cx="16556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6 ends x 12 kt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= 72 kt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6360" y="386064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ft =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48360" y="4155840"/>
              <a:ext cx="165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1 end @ 9 kt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93080" y="4660560"/>
              <a:ext cx="79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3C28-09E8-4929-80A5-FD5AAFD574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0010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drafting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691920"/>
            <a:ext cx="770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Fibres longer than the ratch setting may break due to stretch by the front 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Floating fibres’ uncontrolled by either rollers can exit in bunches, producing drafting waves (periodic unevenne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35280" y="3213000"/>
            <a:ext cx="5832360" cy="2384280"/>
            <a:chOff x="1835280" y="3213000"/>
            <a:chExt cx="5832360" cy="2384280"/>
          </a:xfrm>
        </p:grpSpPr>
        <p:sp>
          <p:nvSpPr>
            <p:cNvPr id="121" name=""/>
            <p:cNvSpPr/>
            <p:nvPr/>
          </p:nvSpPr>
          <p:spPr>
            <a:xfrm>
              <a:off x="3417840" y="3652560"/>
              <a:ext cx="433440" cy="1297080"/>
            </a:xfrm>
            <a:prstGeom prst="can">
              <a:avLst>
                <a:gd name="adj" fmla="val 8078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80000" y="3652560"/>
              <a:ext cx="433440" cy="1297080"/>
            </a:xfrm>
            <a:prstGeom prst="can">
              <a:avLst>
                <a:gd name="adj" fmla="val 8078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5280" y="372564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35280" y="386856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5280" y="401292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835280" y="444492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835280" y="458928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835280" y="4732200"/>
              <a:ext cx="1727280" cy="2872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4462560" y="3400200"/>
              <a:ext cx="719280" cy="1944720"/>
            </a:xfrm>
            <a:custGeom>
              <a:avLst/>
              <a:gdLst>
                <a:gd name="textAreaLeft" fmla="*/ 180000 w 719280"/>
                <a:gd name="textAreaRight" fmla="*/ 539280 w 719280"/>
                <a:gd name="textAreaTop" fmla="*/ 486720 h 1944720"/>
                <a:gd name="textAreaBottom" fmla="*/ 145800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021" y="21600"/>
                  </a:lnTo>
                  <a:lnTo>
                    <a:pt x="6579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83280" y="4300200"/>
              <a:ext cx="158436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88360" y="4373280"/>
              <a:ext cx="79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32360" y="4352760"/>
              <a:ext cx="3240000" cy="228600"/>
            </a:xfrm>
            <a:custGeom>
              <a:avLst/>
              <a:gdLst/>
              <a:ahLst/>
              <a:rect l="l" t="t" r="r" b="b"/>
              <a:pathLst>
                <a:path w="2041" h="144">
                  <a:moveTo>
                    <a:pt x="0" y="144"/>
                  </a:moveTo>
                  <a:cubicBezTo>
                    <a:pt x="30" y="128"/>
                    <a:pt x="60" y="113"/>
                    <a:pt x="90" y="98"/>
                  </a:cubicBezTo>
                  <a:cubicBezTo>
                    <a:pt x="120" y="83"/>
                    <a:pt x="143" y="60"/>
                    <a:pt x="181" y="53"/>
                  </a:cubicBezTo>
                  <a:cubicBezTo>
                    <a:pt x="219" y="46"/>
                    <a:pt x="272" y="53"/>
                    <a:pt x="317" y="53"/>
                  </a:cubicBezTo>
                  <a:cubicBezTo>
                    <a:pt x="362" y="53"/>
                    <a:pt x="408" y="53"/>
                    <a:pt x="453" y="53"/>
                  </a:cubicBezTo>
                  <a:cubicBezTo>
                    <a:pt x="498" y="53"/>
                    <a:pt x="551" y="53"/>
                    <a:pt x="589" y="53"/>
                  </a:cubicBezTo>
                  <a:cubicBezTo>
                    <a:pt x="627" y="53"/>
                    <a:pt x="620" y="60"/>
                    <a:pt x="680" y="53"/>
                  </a:cubicBezTo>
                  <a:cubicBezTo>
                    <a:pt x="740" y="46"/>
                    <a:pt x="876" y="16"/>
                    <a:pt x="952" y="8"/>
                  </a:cubicBezTo>
                  <a:cubicBezTo>
                    <a:pt x="1028" y="0"/>
                    <a:pt x="1074" y="8"/>
                    <a:pt x="1134" y="8"/>
                  </a:cubicBezTo>
                  <a:cubicBezTo>
                    <a:pt x="1194" y="8"/>
                    <a:pt x="1255" y="0"/>
                    <a:pt x="1315" y="8"/>
                  </a:cubicBezTo>
                  <a:cubicBezTo>
                    <a:pt x="1375" y="16"/>
                    <a:pt x="1443" y="46"/>
                    <a:pt x="1496" y="53"/>
                  </a:cubicBezTo>
                  <a:cubicBezTo>
                    <a:pt x="1549" y="60"/>
                    <a:pt x="1595" y="53"/>
                    <a:pt x="1633" y="53"/>
                  </a:cubicBezTo>
                  <a:cubicBezTo>
                    <a:pt x="1671" y="53"/>
                    <a:pt x="1655" y="60"/>
                    <a:pt x="1723" y="53"/>
                  </a:cubicBezTo>
                  <a:cubicBezTo>
                    <a:pt x="1791" y="46"/>
                    <a:pt x="1916" y="27"/>
                    <a:pt x="2041" y="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90920" y="3724200"/>
              <a:ext cx="433440" cy="1296720"/>
            </a:xfrm>
            <a:prstGeom prst="can">
              <a:avLst>
                <a:gd name="adj" fmla="val 8078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21480" y="3724200"/>
              <a:ext cx="433440" cy="1296720"/>
            </a:xfrm>
            <a:prstGeom prst="can">
              <a:avLst>
                <a:gd name="adj" fmla="val 8078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68720" y="4147920"/>
              <a:ext cx="1295640" cy="144360"/>
            </a:xfrm>
            <a:custGeom>
              <a:avLst/>
              <a:gdLst/>
              <a:ahLst/>
              <a:rect l="l" t="t" r="r" b="b"/>
              <a:pathLst>
                <a:path w="907" h="98">
                  <a:moveTo>
                    <a:pt x="0" y="46"/>
                  </a:moveTo>
                  <a:cubicBezTo>
                    <a:pt x="87" y="23"/>
                    <a:pt x="174" y="0"/>
                    <a:pt x="227" y="0"/>
                  </a:cubicBezTo>
                  <a:cubicBezTo>
                    <a:pt x="280" y="0"/>
                    <a:pt x="279" y="31"/>
                    <a:pt x="317" y="46"/>
                  </a:cubicBezTo>
                  <a:cubicBezTo>
                    <a:pt x="355" y="61"/>
                    <a:pt x="401" y="91"/>
                    <a:pt x="454" y="91"/>
                  </a:cubicBezTo>
                  <a:cubicBezTo>
                    <a:pt x="507" y="91"/>
                    <a:pt x="582" y="53"/>
                    <a:pt x="635" y="46"/>
                  </a:cubicBezTo>
                  <a:cubicBezTo>
                    <a:pt x="688" y="39"/>
                    <a:pt x="733" y="39"/>
                    <a:pt x="771" y="46"/>
                  </a:cubicBezTo>
                  <a:cubicBezTo>
                    <a:pt x="809" y="53"/>
                    <a:pt x="839" y="84"/>
                    <a:pt x="862" y="91"/>
                  </a:cubicBezTo>
                  <a:cubicBezTo>
                    <a:pt x="885" y="98"/>
                    <a:pt x="896" y="94"/>
                    <a:pt x="907" y="9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06920" y="5229000"/>
              <a:ext cx="2233440" cy="0"/>
            </a:xfrm>
            <a:prstGeom prst="line">
              <a:avLst/>
            </a:prstGeom>
            <a:ln w="57240">
              <a:solidFill>
                <a:srgbClr val="af1b6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06920" y="52290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993366"/>
                  </a:solidFill>
                  <a:latin typeface="Arial"/>
                </a:rPr>
                <a:t>Ra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35640" y="321300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a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75280" y="32130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l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42B5-668C-447F-BFDB-C6FC8EC90C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6200" y="-2700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fibre control in draf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1280" y="6206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751"/>
              </a:spcBef>
              <a:spcAft>
                <a:spcPts val="2064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n control (gill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75000"/>
              </a:lnSpc>
              <a:spcBef>
                <a:spcPts val="751"/>
              </a:spcBef>
              <a:spcAft>
                <a:spcPts val="2064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Direct pressur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arrier and tumb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pron and tumb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airs of ap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mblerdraf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27640" y="836640"/>
            <a:ext cx="2303280" cy="1809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27840" y="836640"/>
            <a:ext cx="1965240" cy="1790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884840" y="2781360"/>
            <a:ext cx="3287520" cy="23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892E-0C09-44E0-ADB3-8C55372404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396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utolev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96872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trol system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variations in sliver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s the draft to reduce these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operate mechanically (upper) or electronically (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2320920" cy="273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24320" y="3292560"/>
            <a:ext cx="3638520" cy="193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4D14-7694-4937-A360-655A54812A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50403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Gilling (pin draft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ned bars (fallers) comb the sliver in the drafting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ibre control in draf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en and alig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er driver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w g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n g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ned 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E120-A991-4C8B-9743-3E9811C595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353440" cy="4184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56023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rew gill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199D-F423-41CC-B616-457C29983CF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rroberts</cp:lastModifiedBy>
  <dcterms:modified xsi:type="dcterms:W3CDTF">2006-08-11T02:19:22Z</dcterms:modified>
  <cp:revision>65</cp:revision>
  <dc:subject/>
  <dc:title>PowerPoint Presentation</dc:title>
</cp:coreProperties>
</file>