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E31-7B4F-42CA-9F2F-C869A64D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5D8-90C6-4830-95D9-B3F3F961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9BA-098A-41FE-94FA-F97FD8B3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9D0-D354-42D4-BCC2-A848E3BC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F88-C80C-4AD9-89DD-61BF4896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8F6-C788-483A-B637-D31885F5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77E-BAAB-433A-9E9F-A7B904AA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65D-F72C-4CD8-8D10-227CA099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7F3-FF88-4C95-9817-5DD5F2E1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242-F3C1-4E78-87E9-EA6F302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414-C967-49AB-917C-5960772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50A-471D-4302-AF54-9D09B65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6D0-B7DE-413B-88AC-1765AA0EB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atest Developments in Sco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r. Jock Chris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179-7D2B-4F2D-A8CA-74F9607544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orking Points in a B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5160" y="1989000"/>
            <a:ext cx="7751880" cy="39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421400" y="3629160"/>
            <a:ext cx="892080" cy="655560"/>
            <a:chOff x="7421400" y="3629160"/>
            <a:chExt cx="892080" cy="655560"/>
          </a:xfrm>
        </p:grpSpPr>
        <p:sp>
          <p:nvSpPr>
            <p:cNvPr id="243" name=""/>
            <p:cNvSpPr/>
            <p:nvPr/>
          </p:nvSpPr>
          <p:spPr>
            <a:xfrm>
              <a:off x="7421400" y="4098960"/>
              <a:ext cx="192240" cy="18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551720" y="3804840"/>
              <a:ext cx="761760" cy="47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443720" y="3629160"/>
              <a:ext cx="761760" cy="47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344600" y="3927600"/>
            <a:ext cx="47782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643800" y="3306600"/>
            <a:ext cx="841320" cy="1665000"/>
            <a:chOff x="6643800" y="3306600"/>
            <a:chExt cx="841320" cy="1665000"/>
          </a:xfrm>
        </p:grpSpPr>
        <p:sp>
          <p:nvSpPr>
            <p:cNvPr id="248" name=""/>
            <p:cNvSpPr/>
            <p:nvPr/>
          </p:nvSpPr>
          <p:spPr>
            <a:xfrm>
              <a:off x="6643800" y="4152600"/>
              <a:ext cx="841320" cy="819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43800" y="3306600"/>
              <a:ext cx="841320" cy="820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357200" y="3728880"/>
            <a:ext cx="336600" cy="53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06400" y="4280040"/>
            <a:ext cx="36925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398920" y="3927240"/>
            <a:ext cx="723960" cy="352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2880" y="3927600"/>
            <a:ext cx="723960" cy="212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996560" y="3733920"/>
            <a:ext cx="2945160" cy="404640"/>
            <a:chOff x="1996560" y="3733920"/>
            <a:chExt cx="2945160" cy="404640"/>
          </a:xfrm>
        </p:grpSpPr>
        <p:sp>
          <p:nvSpPr>
            <p:cNvPr id="255" name=""/>
            <p:cNvSpPr/>
            <p:nvPr/>
          </p:nvSpPr>
          <p:spPr>
            <a:xfrm>
              <a:off x="2124000" y="3733920"/>
              <a:ext cx="2817720" cy="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5896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4632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9884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8772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912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476080" y="3741840"/>
              <a:ext cx="289080" cy="396720"/>
              <a:chOff x="2476080" y="3741840"/>
              <a:chExt cx="289080" cy="396720"/>
            </a:xfrm>
          </p:grpSpPr>
          <p:sp>
            <p:nvSpPr>
              <p:cNvPr id="262" name=""/>
              <p:cNvSpPr/>
              <p:nvPr/>
            </p:nvSpPr>
            <p:spPr>
              <a:xfrm>
                <a:off x="2620800" y="3741840"/>
                <a:ext cx="0" cy="257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2476080" y="3990960"/>
                <a:ext cx="289080" cy="147600"/>
                <a:chOff x="2476080" y="3990960"/>
                <a:chExt cx="289080" cy="147600"/>
              </a:xfrm>
            </p:grpSpPr>
            <p:sp>
              <p:nvSpPr>
                <p:cNvPr id="264" name=""/>
                <p:cNvSpPr/>
                <p:nvPr/>
              </p:nvSpPr>
              <p:spPr>
                <a:xfrm flipH="1">
                  <a:off x="2476080" y="3995640"/>
                  <a:ext cx="144360" cy="1429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620800" y="3990960"/>
                  <a:ext cx="144360" cy="1429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996560" y="3733920"/>
              <a:ext cx="290880" cy="398520"/>
              <a:chOff x="1996560" y="3733920"/>
              <a:chExt cx="290880" cy="398520"/>
            </a:xfrm>
          </p:grpSpPr>
          <p:sp>
            <p:nvSpPr>
              <p:cNvPr id="267" name=""/>
              <p:cNvSpPr/>
              <p:nvPr/>
            </p:nvSpPr>
            <p:spPr>
              <a:xfrm>
                <a:off x="2141280" y="3733920"/>
                <a:ext cx="0" cy="258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1996560" y="3983040"/>
                <a:ext cx="290880" cy="149400"/>
                <a:chOff x="1996560" y="3983040"/>
                <a:chExt cx="290880" cy="149400"/>
              </a:xfrm>
            </p:grpSpPr>
            <p:sp>
              <p:nvSpPr>
                <p:cNvPr id="269" name=""/>
                <p:cNvSpPr/>
                <p:nvPr/>
              </p:nvSpPr>
              <p:spPr>
                <a:xfrm flipH="1">
                  <a:off x="1996560" y="3987720"/>
                  <a:ext cx="144360" cy="144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141280" y="3983040"/>
                  <a:ext cx="146160" cy="1429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1" name=""/>
          <p:cNvGrpSpPr/>
          <p:nvPr/>
        </p:nvGrpSpPr>
        <p:grpSpPr>
          <a:xfrm>
            <a:off x="5322960" y="3681360"/>
            <a:ext cx="819000" cy="328680"/>
            <a:chOff x="5322960" y="3681360"/>
            <a:chExt cx="819000" cy="328680"/>
          </a:xfrm>
        </p:grpSpPr>
        <p:sp>
          <p:nvSpPr>
            <p:cNvPr id="272" name=""/>
            <p:cNvSpPr/>
            <p:nvPr/>
          </p:nvSpPr>
          <p:spPr>
            <a:xfrm>
              <a:off x="5322960" y="3692520"/>
              <a:ext cx="0" cy="31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30840" y="3699000"/>
              <a:ext cx="0" cy="217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10280" y="3699000"/>
              <a:ext cx="7560" cy="135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22960" y="3681360"/>
              <a:ext cx="819000" cy="11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860400" y="2652840"/>
            <a:ext cx="1645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1. SPRAY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031480" y="2889360"/>
            <a:ext cx="236520" cy="73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03360" y="3306600"/>
            <a:ext cx="190440" cy="185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02800" y="3311640"/>
            <a:ext cx="760680" cy="47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1160" y="3487680"/>
            <a:ext cx="758880" cy="47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00160" y="2228760"/>
            <a:ext cx="144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2. DUN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32640" y="2884320"/>
            <a:ext cx="117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3.R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287440" y="2747880"/>
            <a:ext cx="416160" cy="123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52840" y="3241800"/>
            <a:ext cx="128520" cy="42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37360" y="2390760"/>
            <a:ext cx="15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4.BOW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94400" y="2871720"/>
            <a:ext cx="434880" cy="105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66200" y="2232000"/>
            <a:ext cx="120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5.W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26000" y="2959200"/>
            <a:ext cx="3985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44480" y="2673360"/>
            <a:ext cx="12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6.SQU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9960" y="3205080"/>
            <a:ext cx="560520" cy="89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04080" y="219708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7.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05880" y="2641680"/>
            <a:ext cx="0" cy="102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874160" y="4088880"/>
            <a:ext cx="2910240" cy="180000"/>
            <a:chOff x="1874160" y="4088880"/>
            <a:chExt cx="2910240" cy="180000"/>
          </a:xfrm>
        </p:grpSpPr>
        <p:grpSp>
          <p:nvGrpSpPr>
            <p:cNvPr id="294" name=""/>
            <p:cNvGrpSpPr/>
            <p:nvPr/>
          </p:nvGrpSpPr>
          <p:grpSpPr>
            <a:xfrm>
              <a:off x="3270960" y="4098240"/>
              <a:ext cx="1513440" cy="170640"/>
              <a:chOff x="3270960" y="4098240"/>
              <a:chExt cx="1513440" cy="1706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965400" y="4101840"/>
                <a:ext cx="819000" cy="167040"/>
                <a:chOff x="3965400" y="4101840"/>
                <a:chExt cx="819000" cy="16704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4336920" y="4102200"/>
                  <a:ext cx="447480" cy="163440"/>
                  <a:chOff x="4336920" y="4102200"/>
                  <a:chExt cx="447480" cy="16344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21240000">
                    <a:off x="4507920" y="4115520"/>
                    <a:ext cx="270000" cy="1360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21240000">
                    <a:off x="4343040" y="4115880"/>
                    <a:ext cx="268200" cy="1360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965400" y="4101840"/>
                  <a:ext cx="451080" cy="167040"/>
                  <a:chOff x="3965400" y="4101840"/>
                  <a:chExt cx="451080" cy="16704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21240000">
                    <a:off x="4140000" y="4115520"/>
                    <a:ext cx="27000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1240000">
                    <a:off x="3971520" y="4115520"/>
                    <a:ext cx="271440" cy="1360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"/>
              <p:cNvGrpSpPr/>
              <p:nvPr/>
            </p:nvGrpSpPr>
            <p:grpSpPr>
              <a:xfrm>
                <a:off x="3270960" y="4098240"/>
                <a:ext cx="817200" cy="165240"/>
                <a:chOff x="3270960" y="4098240"/>
                <a:chExt cx="817200" cy="16524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637800" y="4099320"/>
                  <a:ext cx="450360" cy="164160"/>
                  <a:chOff x="3637800" y="4099320"/>
                  <a:chExt cx="450360" cy="16416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21300000">
                    <a:off x="3808440" y="4113720"/>
                    <a:ext cx="274320" cy="1378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21300000">
                    <a:off x="3643200" y="4110840"/>
                    <a:ext cx="27468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3270960" y="4098240"/>
                  <a:ext cx="446400" cy="163440"/>
                  <a:chOff x="3270960" y="4098240"/>
                  <a:chExt cx="446400" cy="163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21300000">
                    <a:off x="3443040" y="4110480"/>
                    <a:ext cx="26856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21300000">
                    <a:off x="3276360" y="4109400"/>
                    <a:ext cx="270000" cy="1378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9" name=""/>
            <p:cNvGrpSpPr/>
            <p:nvPr/>
          </p:nvGrpSpPr>
          <p:grpSpPr>
            <a:xfrm>
              <a:off x="1874160" y="4088880"/>
              <a:ext cx="1516680" cy="170640"/>
              <a:chOff x="1874160" y="4088880"/>
              <a:chExt cx="1516680" cy="1706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2571480" y="4092840"/>
                <a:ext cx="819360" cy="166680"/>
                <a:chOff x="2571480" y="4092840"/>
                <a:chExt cx="819360" cy="16668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2941200" y="4092840"/>
                  <a:ext cx="449640" cy="166680"/>
                  <a:chOff x="2941200" y="4092840"/>
                  <a:chExt cx="449640" cy="16668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rot="21240000">
                    <a:off x="3114000" y="4107600"/>
                    <a:ext cx="270000" cy="1375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rot="21240000">
                    <a:off x="2947680" y="4106160"/>
                    <a:ext cx="27000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571480" y="4093920"/>
                  <a:ext cx="449640" cy="165240"/>
                  <a:chOff x="2571480" y="4093920"/>
                  <a:chExt cx="449640" cy="1652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rot="21240000">
                    <a:off x="2745720" y="4107600"/>
                    <a:ext cx="268560" cy="1375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21240000">
                    <a:off x="2577600" y="4107600"/>
                    <a:ext cx="271440" cy="1375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"/>
              <p:cNvGrpSpPr/>
              <p:nvPr/>
            </p:nvGrpSpPr>
            <p:grpSpPr>
              <a:xfrm>
                <a:off x="1874160" y="4088880"/>
                <a:ext cx="820800" cy="168480"/>
                <a:chOff x="1874160" y="4088880"/>
                <a:chExt cx="820800" cy="16848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2243520" y="4090320"/>
                  <a:ext cx="451440" cy="167040"/>
                  <a:chOff x="2243520" y="4090320"/>
                  <a:chExt cx="451440" cy="1670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21300000">
                    <a:off x="2414520" y="4106160"/>
                    <a:ext cx="27468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21300000">
                    <a:off x="2248920" y="4101840"/>
                    <a:ext cx="273240" cy="1425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1874160" y="4088880"/>
                  <a:ext cx="450360" cy="165600"/>
                  <a:chOff x="1874160" y="4088880"/>
                  <a:chExt cx="450360" cy="165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21300000">
                    <a:off x="2044080" y="4101840"/>
                    <a:ext cx="274680" cy="1407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21300000">
                    <a:off x="1879560" y="4100400"/>
                    <a:ext cx="272880" cy="1378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4" name=""/>
          <p:cNvGrpSpPr/>
          <p:nvPr/>
        </p:nvGrpSpPr>
        <p:grpSpPr>
          <a:xfrm>
            <a:off x="4636800" y="4102200"/>
            <a:ext cx="819000" cy="167400"/>
            <a:chOff x="4636800" y="4102200"/>
            <a:chExt cx="819000" cy="167400"/>
          </a:xfrm>
        </p:grpSpPr>
        <p:grpSp>
          <p:nvGrpSpPr>
            <p:cNvPr id="325" name=""/>
            <p:cNvGrpSpPr/>
            <p:nvPr/>
          </p:nvGrpSpPr>
          <p:grpSpPr>
            <a:xfrm>
              <a:off x="5005080" y="4102200"/>
              <a:ext cx="450720" cy="164160"/>
              <a:chOff x="5005080" y="4102200"/>
              <a:chExt cx="450720" cy="164160"/>
            </a:xfrm>
          </p:grpSpPr>
          <p:sp>
            <p:nvSpPr>
              <p:cNvPr id="326" name=""/>
              <p:cNvSpPr/>
              <p:nvPr/>
            </p:nvSpPr>
            <p:spPr>
              <a:xfrm rot="21240000">
                <a:off x="5177880" y="4115880"/>
                <a:ext cx="271440" cy="1364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1240000">
                <a:off x="5011200" y="4115880"/>
                <a:ext cx="270000" cy="1364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636800" y="4102560"/>
              <a:ext cx="449640" cy="167040"/>
              <a:chOff x="4636800" y="4102560"/>
              <a:chExt cx="449640" cy="167040"/>
            </a:xfrm>
          </p:grpSpPr>
          <p:sp>
            <p:nvSpPr>
              <p:cNvPr id="329" name=""/>
              <p:cNvSpPr/>
              <p:nvPr/>
            </p:nvSpPr>
            <p:spPr>
              <a:xfrm rot="21240000">
                <a:off x="4809960" y="4115880"/>
                <a:ext cx="270000" cy="1396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240000">
                <a:off x="4642920" y="4115880"/>
                <a:ext cx="270000" cy="1364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6063480" y="3773880"/>
            <a:ext cx="802800" cy="390240"/>
            <a:chOff x="6063480" y="3773880"/>
            <a:chExt cx="802800" cy="390240"/>
          </a:xfrm>
        </p:grpSpPr>
        <p:grpSp>
          <p:nvGrpSpPr>
            <p:cNvPr id="332" name=""/>
            <p:cNvGrpSpPr/>
            <p:nvPr/>
          </p:nvGrpSpPr>
          <p:grpSpPr>
            <a:xfrm>
              <a:off x="6407640" y="3899880"/>
              <a:ext cx="458640" cy="264240"/>
              <a:chOff x="6407640" y="3899880"/>
              <a:chExt cx="458640" cy="264240"/>
            </a:xfrm>
          </p:grpSpPr>
          <p:sp>
            <p:nvSpPr>
              <p:cNvPr id="333" name=""/>
              <p:cNvSpPr/>
              <p:nvPr/>
            </p:nvSpPr>
            <p:spPr>
              <a:xfrm rot="900000">
                <a:off x="6575400" y="3992760"/>
                <a:ext cx="277560" cy="1378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900000">
                <a:off x="6420960" y="3933360"/>
                <a:ext cx="279360" cy="1414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063480" y="3773880"/>
              <a:ext cx="459000" cy="268200"/>
              <a:chOff x="6063480" y="3773880"/>
              <a:chExt cx="459000" cy="268200"/>
            </a:xfrm>
          </p:grpSpPr>
          <p:sp>
            <p:nvSpPr>
              <p:cNvPr id="336" name=""/>
              <p:cNvSpPr/>
              <p:nvPr/>
            </p:nvSpPr>
            <p:spPr>
              <a:xfrm rot="900000">
                <a:off x="6231960" y="3863880"/>
                <a:ext cx="276120" cy="1447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900000">
                <a:off x="6076440" y="3807000"/>
                <a:ext cx="274680" cy="1396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1902240" y="3814560"/>
            <a:ext cx="168480" cy="444960"/>
            <a:chOff x="1902240" y="3814560"/>
            <a:chExt cx="168480" cy="444960"/>
          </a:xfrm>
        </p:grpSpPr>
        <p:sp>
          <p:nvSpPr>
            <p:cNvPr id="339" name=""/>
            <p:cNvSpPr/>
            <p:nvPr/>
          </p:nvSpPr>
          <p:spPr>
            <a:xfrm rot="5040000">
              <a:off x="1850400" y="4049640"/>
              <a:ext cx="268200" cy="137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040000">
              <a:off x="1851120" y="3886920"/>
              <a:ext cx="271440" cy="139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10440" y="3649680"/>
            <a:ext cx="167040" cy="444600"/>
            <a:chOff x="1810440" y="3649680"/>
            <a:chExt cx="167040" cy="444600"/>
          </a:xfrm>
        </p:grpSpPr>
        <p:sp>
          <p:nvSpPr>
            <p:cNvPr id="342" name=""/>
            <p:cNvSpPr/>
            <p:nvPr/>
          </p:nvSpPr>
          <p:spPr>
            <a:xfrm rot="5040000">
              <a:off x="1758960" y="3882960"/>
              <a:ext cx="269640" cy="139680"/>
            </a:xfrm>
            <a:prstGeom prst="ellipse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040000">
              <a:off x="1758960" y="3722400"/>
              <a:ext cx="269640" cy="136440"/>
            </a:xfrm>
            <a:prstGeom prst="ellipse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746360" y="3383640"/>
            <a:ext cx="164520" cy="444960"/>
            <a:chOff x="1746360" y="3383640"/>
            <a:chExt cx="164520" cy="444960"/>
          </a:xfrm>
        </p:grpSpPr>
        <p:sp>
          <p:nvSpPr>
            <p:cNvPr id="345" name=""/>
            <p:cNvSpPr/>
            <p:nvPr/>
          </p:nvSpPr>
          <p:spPr>
            <a:xfrm flipH="1" rot="5700000">
              <a:off x="1691280" y="3455280"/>
              <a:ext cx="271440" cy="139320"/>
            </a:xfrm>
            <a:prstGeom prst="ellipse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rot="5700000">
              <a:off x="1693800" y="3617640"/>
              <a:ext cx="270000" cy="140400"/>
            </a:xfrm>
            <a:prstGeom prst="ellipse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07120" y="3809880"/>
            <a:ext cx="798120" cy="461520"/>
            <a:chOff x="5307120" y="3809880"/>
            <a:chExt cx="798120" cy="461520"/>
          </a:xfrm>
        </p:grpSpPr>
        <p:grpSp>
          <p:nvGrpSpPr>
            <p:cNvPr id="348" name=""/>
            <p:cNvGrpSpPr/>
            <p:nvPr/>
          </p:nvGrpSpPr>
          <p:grpSpPr>
            <a:xfrm>
              <a:off x="5645520" y="3809880"/>
              <a:ext cx="459720" cy="317520"/>
              <a:chOff x="5645520" y="3809880"/>
              <a:chExt cx="459720" cy="317520"/>
            </a:xfrm>
          </p:grpSpPr>
          <p:sp>
            <p:nvSpPr>
              <p:cNvPr id="349" name=""/>
              <p:cNvSpPr/>
              <p:nvPr/>
            </p:nvSpPr>
            <p:spPr>
              <a:xfrm rot="19860000">
                <a:off x="5812920" y="3868200"/>
                <a:ext cx="276120" cy="1364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60000">
                <a:off x="5662080" y="3930120"/>
                <a:ext cx="273240" cy="1396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307120" y="3951000"/>
              <a:ext cx="458280" cy="320400"/>
              <a:chOff x="5307120" y="3951000"/>
              <a:chExt cx="458280" cy="320400"/>
            </a:xfrm>
          </p:grpSpPr>
          <p:sp>
            <p:nvSpPr>
              <p:cNvPr id="352" name=""/>
              <p:cNvSpPr/>
              <p:nvPr/>
            </p:nvSpPr>
            <p:spPr>
              <a:xfrm rot="19860000">
                <a:off x="5476320" y="4007880"/>
                <a:ext cx="271440" cy="1411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860000">
                <a:off x="5324040" y="4073040"/>
                <a:ext cx="271440" cy="1411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7360920" y="3574080"/>
            <a:ext cx="741600" cy="578880"/>
            <a:chOff x="7360920" y="3574080"/>
            <a:chExt cx="741600" cy="578880"/>
          </a:xfrm>
        </p:grpSpPr>
        <p:grpSp>
          <p:nvGrpSpPr>
            <p:cNvPr id="355" name=""/>
            <p:cNvGrpSpPr/>
            <p:nvPr/>
          </p:nvGrpSpPr>
          <p:grpSpPr>
            <a:xfrm>
              <a:off x="7665480" y="3574080"/>
              <a:ext cx="437040" cy="374400"/>
              <a:chOff x="7665480" y="3574080"/>
              <a:chExt cx="437040" cy="374400"/>
            </a:xfrm>
          </p:grpSpPr>
          <p:sp>
            <p:nvSpPr>
              <p:cNvPr id="356" name=""/>
              <p:cNvSpPr/>
              <p:nvPr/>
            </p:nvSpPr>
            <p:spPr>
              <a:xfrm rot="19200000">
                <a:off x="7813080" y="3646080"/>
                <a:ext cx="276120" cy="1414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200000">
                <a:off x="7678080" y="3736800"/>
                <a:ext cx="274320" cy="1396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360920" y="3779280"/>
              <a:ext cx="439560" cy="373680"/>
              <a:chOff x="7360920" y="3779280"/>
              <a:chExt cx="439560" cy="373680"/>
            </a:xfrm>
          </p:grpSpPr>
          <p:sp>
            <p:nvSpPr>
              <p:cNvPr id="359" name=""/>
              <p:cNvSpPr/>
              <p:nvPr/>
            </p:nvSpPr>
            <p:spPr>
              <a:xfrm rot="19200000">
                <a:off x="7515000" y="3849480"/>
                <a:ext cx="271080" cy="1429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200000">
                <a:off x="7375320" y="3938400"/>
                <a:ext cx="271080" cy="14436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979560" y="3085560"/>
            <a:ext cx="762840" cy="536400"/>
            <a:chOff x="979560" y="3085560"/>
            <a:chExt cx="762840" cy="536400"/>
          </a:xfrm>
        </p:grpSpPr>
        <p:grpSp>
          <p:nvGrpSpPr>
            <p:cNvPr id="362" name=""/>
            <p:cNvGrpSpPr/>
            <p:nvPr/>
          </p:nvGrpSpPr>
          <p:grpSpPr>
            <a:xfrm>
              <a:off x="1297080" y="3085560"/>
              <a:ext cx="445320" cy="352800"/>
              <a:chOff x="1297080" y="3085560"/>
              <a:chExt cx="445320" cy="352800"/>
            </a:xfrm>
          </p:grpSpPr>
          <p:sp>
            <p:nvSpPr>
              <p:cNvPr id="363" name=""/>
              <p:cNvSpPr/>
              <p:nvPr/>
            </p:nvSpPr>
            <p:spPr>
              <a:xfrm rot="19440000">
                <a:off x="1453680" y="3152880"/>
                <a:ext cx="274320" cy="1382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440000">
                <a:off x="1312200" y="3230280"/>
                <a:ext cx="272880" cy="1411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979560" y="3268800"/>
              <a:ext cx="445320" cy="353160"/>
              <a:chOff x="979560" y="3268800"/>
              <a:chExt cx="445320" cy="353160"/>
            </a:xfrm>
          </p:grpSpPr>
          <p:sp>
            <p:nvSpPr>
              <p:cNvPr id="366" name=""/>
              <p:cNvSpPr/>
              <p:nvPr/>
            </p:nvSpPr>
            <p:spPr>
              <a:xfrm rot="19440000">
                <a:off x="1141200" y="3333600"/>
                <a:ext cx="267840" cy="1411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440000">
                <a:off x="995400" y="3412800"/>
                <a:ext cx="271440" cy="1429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 flipH="1" rot="5880000">
            <a:off x="1658160" y="3278880"/>
            <a:ext cx="273240" cy="14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rot="3540000">
            <a:off x="1598400" y="3194640"/>
            <a:ext cx="270000" cy="1414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706400" y="3963960"/>
            <a:ext cx="4416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44600" y="3927600"/>
            <a:ext cx="4780080" cy="1199880"/>
          </a:xfrm>
          <a:custGeom>
            <a:avLst/>
            <a:gdLst/>
            <a:ahLst/>
            <a:rect l="l" t="t" r="r" b="b"/>
            <a:pathLst>
              <a:path w="3011" h="756">
                <a:moveTo>
                  <a:pt x="0" y="0"/>
                </a:moveTo>
                <a:lnTo>
                  <a:pt x="0" y="755"/>
                </a:lnTo>
                <a:lnTo>
                  <a:pt x="3010" y="755"/>
                </a:lnTo>
                <a:lnTo>
                  <a:pt x="301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924120" cy="10000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2124000" y="43657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4788000" y="4221000"/>
            <a:ext cx="1485720" cy="1067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6372360" y="4221000"/>
            <a:ext cx="1266840" cy="11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CFE-A380-414F-B34A-12E3A3D557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irosc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590840" y="1305000"/>
            <a:ext cx="59623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AA5-B2AE-4188-9CE4-7780F71204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nvironmentally-Related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90600" y="2023560"/>
            <a:ext cx="6562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insewater re-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irolan 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irolan CF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tal effluent treat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518-48FA-43F1-AF0E-6ED7D319AF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insewater Re-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195280" y="1844640"/>
            <a:ext cx="382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crofil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loc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E29-E010-4BA2-B87C-21F9927BB3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leari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48690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ource: Courtesy of ANDAR, 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647800" y="1986120"/>
            <a:ext cx="3848400" cy="288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165-5A6C-47FE-A287-34AFA452CF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irolan 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4360" y="472428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ource: Courtesy of ANDAR, 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2867040" cy="25052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2867040" cy="22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A57-C498-4647-94C6-9A4BDB70CD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irolan CF-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14560" y="515772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ource: Courtesy of ANDAR, 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305080" y="1919160"/>
            <a:ext cx="4533840" cy="30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5F5-960E-403E-8FC4-53292E1AD6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otal Effluent Trea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901880" y="2154240"/>
            <a:ext cx="53388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vaporation/Pyr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W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Jandakot 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viro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BB5-5673-4E81-8D7B-A760BE6C04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nviro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7805880" y="2475000"/>
            <a:ext cx="0" cy="102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-1829160" y="3492720"/>
            <a:ext cx="4935240" cy="774720"/>
          </a:xfrm>
          <a:prstGeom prst="rect">
            <a:avLst/>
          </a:prstGeom>
          <a:solidFill>
            <a:srgbClr val="cc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O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00360" y="1844640"/>
            <a:ext cx="1584360" cy="5875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eari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05640" y="2475000"/>
            <a:ext cx="0" cy="102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88000" y="3114720"/>
            <a:ext cx="1584360" cy="6271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27280" y="3122640"/>
            <a:ext cx="1441440" cy="6112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rolan 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35640" y="3122640"/>
            <a:ext cx="1584000" cy="6112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rolan CF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92360" y="24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68720" y="3429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56360" y="3429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84720" y="2133720"/>
            <a:ext cx="4319640" cy="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04360" y="2133720"/>
            <a:ext cx="0" cy="367164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72360" y="3429000"/>
            <a:ext cx="432000" cy="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1916280"/>
            <a:ext cx="11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inse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16000" y="3092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rong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95640" y="2133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24000" y="343548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042920" y="5805360"/>
            <a:ext cx="7561440" cy="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3716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08720" y="3716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2852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492000" y="285264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3429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lud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1636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59640" y="42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24360" y="5445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Water to sc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A00-5EFB-473A-B797-4DC38271E6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ypes of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92000" y="1916280"/>
            <a:ext cx="598644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chinery-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cess-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vironmentally-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8A4-3EDF-4F45-B306-4B348ADB25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achinery-Related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1880" y="2060640"/>
            <a:ext cx="5338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ybrid scour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nidr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6B0-35BF-4E6F-AF97-CF2A66AF96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Normal Scour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220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21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ction D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515772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ource: Courtesy of ANDAR, 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5157720"/>
            <a:ext cx="33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ource: Courtesy of ANDAR, 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881080" cy="259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2360" y="2565360"/>
            <a:ext cx="2736720" cy="24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7DB-A841-4DD0-B839-86580C5159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ybrid Scour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116000" y="2781360"/>
            <a:ext cx="7416720" cy="863640"/>
            <a:chOff x="1116000" y="2781360"/>
            <a:chExt cx="7416720" cy="863640"/>
          </a:xfrm>
        </p:grpSpPr>
        <p:grpSp>
          <p:nvGrpSpPr>
            <p:cNvPr id="56" name=""/>
            <p:cNvGrpSpPr/>
            <p:nvPr/>
          </p:nvGrpSpPr>
          <p:grpSpPr>
            <a:xfrm>
              <a:off x="2598840" y="2781360"/>
              <a:ext cx="863640" cy="863640"/>
              <a:chOff x="2598840" y="2781360"/>
              <a:chExt cx="863640" cy="863640"/>
            </a:xfrm>
          </p:grpSpPr>
          <p:sp>
            <p:nvSpPr>
              <p:cNvPr id="57" name=""/>
              <p:cNvSpPr/>
              <p:nvPr/>
            </p:nvSpPr>
            <p:spPr>
              <a:xfrm>
                <a:off x="3102120" y="2781360"/>
                <a:ext cx="288720" cy="288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70120" y="2781360"/>
                <a:ext cx="289080" cy="288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98840" y="2924280"/>
                <a:ext cx="863640" cy="720720"/>
              </a:xfrm>
              <a:custGeom>
                <a:avLst/>
                <a:gdLst/>
                <a:ahLst/>
                <a:rect l="l" t="t" r="r" b="b"/>
                <a:pathLst>
                  <a:path w="544" h="454">
                    <a:moveTo>
                      <a:pt x="0" y="0"/>
                    </a:moveTo>
                    <a:lnTo>
                      <a:pt x="0" y="182"/>
                    </a:lnTo>
                    <a:lnTo>
                      <a:pt x="136" y="454"/>
                    </a:lnTo>
                    <a:lnTo>
                      <a:pt x="272" y="182"/>
                    </a:lnTo>
                    <a:lnTo>
                      <a:pt x="408" y="454"/>
                    </a:lnTo>
                    <a:lnTo>
                      <a:pt x="544" y="182"/>
                    </a:lnTo>
                    <a:lnTo>
                      <a:pt x="544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649680" y="2781360"/>
              <a:ext cx="863640" cy="863640"/>
              <a:chOff x="3649680" y="2781360"/>
              <a:chExt cx="863640" cy="863640"/>
            </a:xfrm>
          </p:grpSpPr>
          <p:sp>
            <p:nvSpPr>
              <p:cNvPr id="61" name=""/>
              <p:cNvSpPr/>
              <p:nvPr/>
            </p:nvSpPr>
            <p:spPr>
              <a:xfrm>
                <a:off x="4152960" y="2781360"/>
                <a:ext cx="288720" cy="288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20960" y="2781360"/>
                <a:ext cx="289080" cy="288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49680" y="2924280"/>
                <a:ext cx="863640" cy="720720"/>
              </a:xfrm>
              <a:custGeom>
                <a:avLst/>
                <a:gdLst/>
                <a:ahLst/>
                <a:rect l="l" t="t" r="r" b="b"/>
                <a:pathLst>
                  <a:path w="544" h="454">
                    <a:moveTo>
                      <a:pt x="0" y="0"/>
                    </a:moveTo>
                    <a:lnTo>
                      <a:pt x="0" y="182"/>
                    </a:lnTo>
                    <a:lnTo>
                      <a:pt x="136" y="454"/>
                    </a:lnTo>
                    <a:lnTo>
                      <a:pt x="272" y="182"/>
                    </a:lnTo>
                    <a:lnTo>
                      <a:pt x="408" y="454"/>
                    </a:lnTo>
                    <a:lnTo>
                      <a:pt x="544" y="182"/>
                    </a:lnTo>
                    <a:lnTo>
                      <a:pt x="544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700520" y="2781360"/>
              <a:ext cx="863640" cy="863640"/>
              <a:chOff x="4700520" y="2781360"/>
              <a:chExt cx="863640" cy="863640"/>
            </a:xfrm>
          </p:grpSpPr>
          <p:sp>
            <p:nvSpPr>
              <p:cNvPr id="65" name=""/>
              <p:cNvSpPr/>
              <p:nvPr/>
            </p:nvSpPr>
            <p:spPr>
              <a:xfrm>
                <a:off x="5203800" y="2781360"/>
                <a:ext cx="288720" cy="288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771800" y="2781360"/>
                <a:ext cx="289080" cy="288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00520" y="2924280"/>
                <a:ext cx="863640" cy="720720"/>
              </a:xfrm>
              <a:custGeom>
                <a:avLst/>
                <a:gdLst/>
                <a:ahLst/>
                <a:rect l="l" t="t" r="r" b="b"/>
                <a:pathLst>
                  <a:path w="544" h="454">
                    <a:moveTo>
                      <a:pt x="0" y="0"/>
                    </a:moveTo>
                    <a:lnTo>
                      <a:pt x="0" y="182"/>
                    </a:lnTo>
                    <a:lnTo>
                      <a:pt x="136" y="454"/>
                    </a:lnTo>
                    <a:lnTo>
                      <a:pt x="272" y="182"/>
                    </a:lnTo>
                    <a:lnTo>
                      <a:pt x="408" y="454"/>
                    </a:lnTo>
                    <a:lnTo>
                      <a:pt x="544" y="182"/>
                    </a:lnTo>
                    <a:lnTo>
                      <a:pt x="544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1116000" y="2852640"/>
              <a:ext cx="1297080" cy="792360"/>
              <a:chOff x="1116000" y="2852640"/>
              <a:chExt cx="1297080" cy="792360"/>
            </a:xfrm>
          </p:grpSpPr>
          <p:sp>
            <p:nvSpPr>
              <p:cNvPr id="69" name=""/>
              <p:cNvSpPr/>
              <p:nvPr/>
            </p:nvSpPr>
            <p:spPr>
              <a:xfrm>
                <a:off x="1116000" y="2924280"/>
                <a:ext cx="1297080" cy="720720"/>
              </a:xfrm>
              <a:custGeom>
                <a:avLst/>
                <a:gdLst/>
                <a:ahLst/>
                <a:rect l="l" t="t" r="r" b="b"/>
                <a:pathLst>
                  <a:path w="817" h="454">
                    <a:moveTo>
                      <a:pt x="0" y="0"/>
                    </a:moveTo>
                    <a:lnTo>
                      <a:pt x="0" y="182"/>
                    </a:lnTo>
                    <a:lnTo>
                      <a:pt x="136" y="454"/>
                    </a:lnTo>
                    <a:lnTo>
                      <a:pt x="273" y="182"/>
                    </a:lnTo>
                    <a:lnTo>
                      <a:pt x="409" y="454"/>
                    </a:lnTo>
                    <a:lnTo>
                      <a:pt x="545" y="182"/>
                    </a:lnTo>
                    <a:lnTo>
                      <a:pt x="681" y="454"/>
                    </a:lnTo>
                    <a:lnTo>
                      <a:pt x="817" y="182"/>
                    </a:lnTo>
                    <a:lnTo>
                      <a:pt x="81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32000" y="28526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0328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4620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9056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3528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7964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2400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6836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236000" y="2852640"/>
              <a:ext cx="1296720" cy="792360"/>
              <a:chOff x="7236000" y="2852640"/>
              <a:chExt cx="1296720" cy="792360"/>
            </a:xfrm>
          </p:grpSpPr>
          <p:sp>
            <p:nvSpPr>
              <p:cNvPr id="79" name=""/>
              <p:cNvSpPr/>
              <p:nvPr/>
            </p:nvSpPr>
            <p:spPr>
              <a:xfrm>
                <a:off x="7236000" y="2924280"/>
                <a:ext cx="1296720" cy="720720"/>
              </a:xfrm>
              <a:custGeom>
                <a:avLst/>
                <a:gdLst/>
                <a:ahLst/>
                <a:rect l="l" t="t" r="r" b="b"/>
                <a:pathLst>
                  <a:path w="817" h="454">
                    <a:moveTo>
                      <a:pt x="0" y="0"/>
                    </a:moveTo>
                    <a:lnTo>
                      <a:pt x="0" y="182"/>
                    </a:lnTo>
                    <a:lnTo>
                      <a:pt x="136" y="454"/>
                    </a:lnTo>
                    <a:lnTo>
                      <a:pt x="273" y="182"/>
                    </a:lnTo>
                    <a:lnTo>
                      <a:pt x="409" y="454"/>
                    </a:lnTo>
                    <a:lnTo>
                      <a:pt x="545" y="182"/>
                    </a:lnTo>
                    <a:lnTo>
                      <a:pt x="681" y="454"/>
                    </a:lnTo>
                    <a:lnTo>
                      <a:pt x="817" y="182"/>
                    </a:lnTo>
                    <a:lnTo>
                      <a:pt x="81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51640" y="2852640"/>
                <a:ext cx="100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2292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6584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81020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95492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09928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24364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800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751360" y="2852640"/>
              <a:ext cx="1297080" cy="792360"/>
              <a:chOff x="5751360" y="2852640"/>
              <a:chExt cx="1297080" cy="792360"/>
            </a:xfrm>
          </p:grpSpPr>
          <p:sp>
            <p:nvSpPr>
              <p:cNvPr id="89" name=""/>
              <p:cNvSpPr/>
              <p:nvPr/>
            </p:nvSpPr>
            <p:spPr>
              <a:xfrm>
                <a:off x="5751360" y="2924280"/>
                <a:ext cx="1297080" cy="720720"/>
              </a:xfrm>
              <a:custGeom>
                <a:avLst/>
                <a:gdLst/>
                <a:ahLst/>
                <a:rect l="l" t="t" r="r" b="b"/>
                <a:pathLst>
                  <a:path w="817" h="454">
                    <a:moveTo>
                      <a:pt x="0" y="0"/>
                    </a:moveTo>
                    <a:lnTo>
                      <a:pt x="0" y="182"/>
                    </a:lnTo>
                    <a:lnTo>
                      <a:pt x="136" y="454"/>
                    </a:lnTo>
                    <a:lnTo>
                      <a:pt x="273" y="182"/>
                    </a:lnTo>
                    <a:lnTo>
                      <a:pt x="409" y="454"/>
                    </a:lnTo>
                    <a:lnTo>
                      <a:pt x="545" y="182"/>
                    </a:lnTo>
                    <a:lnTo>
                      <a:pt x="681" y="454"/>
                    </a:lnTo>
                    <a:lnTo>
                      <a:pt x="817" y="182"/>
                    </a:lnTo>
                    <a:lnTo>
                      <a:pt x="81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967360" y="28526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3864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8156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2592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7064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1500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5936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903720" y="2852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9D8-64D0-4618-9CB3-F4236AE56A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idr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4560" y="537372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ource: Courtesy of ANDAR, 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71880" y="162864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D5F-D108-43DB-909D-EC9FF0FBD3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cess-Related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30240" y="1844640"/>
            <a:ext cx="548352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u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cept of working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iros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236-3D5A-49A6-8E37-6C2FC6DC0D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puter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08464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ource: Courtesy of ANDAR, 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3080" y="1809720"/>
            <a:ext cx="3057840" cy="32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F32-7ECC-416A-B907-FA8AED431F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orking Points in a B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5160" y="1989000"/>
            <a:ext cx="7751880" cy="39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421400" y="3629160"/>
            <a:ext cx="892080" cy="655560"/>
            <a:chOff x="7421400" y="3629160"/>
            <a:chExt cx="892080" cy="655560"/>
          </a:xfrm>
        </p:grpSpPr>
        <p:sp>
          <p:nvSpPr>
            <p:cNvPr id="109" name=""/>
            <p:cNvSpPr/>
            <p:nvPr/>
          </p:nvSpPr>
          <p:spPr>
            <a:xfrm>
              <a:off x="7421400" y="4098960"/>
              <a:ext cx="192240" cy="18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551720" y="3804840"/>
              <a:ext cx="761760" cy="47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443720" y="3629160"/>
              <a:ext cx="761760" cy="47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344600" y="3927600"/>
            <a:ext cx="47782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43800" y="3306600"/>
            <a:ext cx="841320" cy="1665000"/>
            <a:chOff x="6643800" y="3306600"/>
            <a:chExt cx="841320" cy="1665000"/>
          </a:xfrm>
        </p:grpSpPr>
        <p:sp>
          <p:nvSpPr>
            <p:cNvPr id="114" name=""/>
            <p:cNvSpPr/>
            <p:nvPr/>
          </p:nvSpPr>
          <p:spPr>
            <a:xfrm>
              <a:off x="6643800" y="4152600"/>
              <a:ext cx="841320" cy="819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43800" y="3306600"/>
              <a:ext cx="841320" cy="820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357200" y="3728880"/>
            <a:ext cx="336600" cy="53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06400" y="4280040"/>
            <a:ext cx="36925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8920" y="3927240"/>
            <a:ext cx="723960" cy="352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2880" y="3927600"/>
            <a:ext cx="723960" cy="212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96560" y="3733920"/>
            <a:ext cx="2945160" cy="404640"/>
            <a:chOff x="1996560" y="3733920"/>
            <a:chExt cx="2945160" cy="404640"/>
          </a:xfrm>
        </p:grpSpPr>
        <p:sp>
          <p:nvSpPr>
            <p:cNvPr id="121" name=""/>
            <p:cNvSpPr/>
            <p:nvPr/>
          </p:nvSpPr>
          <p:spPr>
            <a:xfrm>
              <a:off x="2124000" y="3733920"/>
              <a:ext cx="2817720" cy="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5896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4632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9884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8772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29120" y="3733920"/>
              <a:ext cx="0" cy="40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76080" y="3741840"/>
              <a:ext cx="289080" cy="396720"/>
              <a:chOff x="2476080" y="3741840"/>
              <a:chExt cx="289080" cy="396720"/>
            </a:xfrm>
          </p:grpSpPr>
          <p:sp>
            <p:nvSpPr>
              <p:cNvPr id="128" name=""/>
              <p:cNvSpPr/>
              <p:nvPr/>
            </p:nvSpPr>
            <p:spPr>
              <a:xfrm>
                <a:off x="2620800" y="3741840"/>
                <a:ext cx="0" cy="257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2476080" y="3990960"/>
                <a:ext cx="289080" cy="147600"/>
                <a:chOff x="2476080" y="3990960"/>
                <a:chExt cx="289080" cy="147600"/>
              </a:xfrm>
            </p:grpSpPr>
            <p:sp>
              <p:nvSpPr>
                <p:cNvPr id="130" name=""/>
                <p:cNvSpPr/>
                <p:nvPr/>
              </p:nvSpPr>
              <p:spPr>
                <a:xfrm flipH="1">
                  <a:off x="2476080" y="3995640"/>
                  <a:ext cx="144360" cy="1429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620800" y="3990960"/>
                  <a:ext cx="144360" cy="1429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1996560" y="3733920"/>
              <a:ext cx="290880" cy="398520"/>
              <a:chOff x="1996560" y="3733920"/>
              <a:chExt cx="290880" cy="398520"/>
            </a:xfrm>
          </p:grpSpPr>
          <p:sp>
            <p:nvSpPr>
              <p:cNvPr id="133" name=""/>
              <p:cNvSpPr/>
              <p:nvPr/>
            </p:nvSpPr>
            <p:spPr>
              <a:xfrm>
                <a:off x="2141280" y="3733920"/>
                <a:ext cx="0" cy="258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1996560" y="3983040"/>
                <a:ext cx="290880" cy="149400"/>
                <a:chOff x="1996560" y="3983040"/>
                <a:chExt cx="290880" cy="14940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1996560" y="3987720"/>
                  <a:ext cx="144360" cy="144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41280" y="3983040"/>
                  <a:ext cx="146160" cy="1429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" name=""/>
          <p:cNvGrpSpPr/>
          <p:nvPr/>
        </p:nvGrpSpPr>
        <p:grpSpPr>
          <a:xfrm>
            <a:off x="5322960" y="3681360"/>
            <a:ext cx="819000" cy="328680"/>
            <a:chOff x="5322960" y="3681360"/>
            <a:chExt cx="819000" cy="328680"/>
          </a:xfrm>
        </p:grpSpPr>
        <p:sp>
          <p:nvSpPr>
            <p:cNvPr id="138" name=""/>
            <p:cNvSpPr/>
            <p:nvPr/>
          </p:nvSpPr>
          <p:spPr>
            <a:xfrm>
              <a:off x="5322960" y="3692520"/>
              <a:ext cx="0" cy="31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30840" y="3699000"/>
              <a:ext cx="0" cy="217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0280" y="3699000"/>
              <a:ext cx="7560" cy="135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22960" y="3681360"/>
              <a:ext cx="819000" cy="11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60400" y="2652840"/>
            <a:ext cx="1645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1. SPRAY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031480" y="2889360"/>
            <a:ext cx="236520" cy="73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03360" y="3306600"/>
            <a:ext cx="190440" cy="185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02800" y="3311640"/>
            <a:ext cx="760680" cy="47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911160" y="3487680"/>
            <a:ext cx="758880" cy="47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00160" y="2228760"/>
            <a:ext cx="144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 Narrow"/>
              </a:rPr>
              <a:t>2. DUN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32640" y="2884320"/>
            <a:ext cx="117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3.R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287440" y="2747880"/>
            <a:ext cx="416160" cy="123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52840" y="3241800"/>
            <a:ext cx="128520" cy="42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37360" y="2390760"/>
            <a:ext cx="15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4.BOW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94400" y="2871720"/>
            <a:ext cx="434880" cy="105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66200" y="2232000"/>
            <a:ext cx="120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5.W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26000" y="2959200"/>
            <a:ext cx="3985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44480" y="2673360"/>
            <a:ext cx="12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6.SQU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9960" y="3205080"/>
            <a:ext cx="560520" cy="89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04080" y="219708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Narrow"/>
              </a:rPr>
              <a:t>7.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05880" y="2641680"/>
            <a:ext cx="0" cy="102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874160" y="4088880"/>
            <a:ext cx="2910240" cy="180000"/>
            <a:chOff x="1874160" y="4088880"/>
            <a:chExt cx="2910240" cy="180000"/>
          </a:xfrm>
        </p:grpSpPr>
        <p:grpSp>
          <p:nvGrpSpPr>
            <p:cNvPr id="160" name=""/>
            <p:cNvGrpSpPr/>
            <p:nvPr/>
          </p:nvGrpSpPr>
          <p:grpSpPr>
            <a:xfrm>
              <a:off x="3270960" y="4098240"/>
              <a:ext cx="1513440" cy="170640"/>
              <a:chOff x="3270960" y="4098240"/>
              <a:chExt cx="1513440" cy="1706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65400" y="4101840"/>
                <a:ext cx="819000" cy="167040"/>
                <a:chOff x="3965400" y="4101840"/>
                <a:chExt cx="819000" cy="16704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4336920" y="4102200"/>
                  <a:ext cx="447480" cy="163440"/>
                  <a:chOff x="4336920" y="4102200"/>
                  <a:chExt cx="447480" cy="16344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1240000">
                    <a:off x="4507920" y="4115520"/>
                    <a:ext cx="270000" cy="1360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1240000">
                    <a:off x="4343040" y="4115880"/>
                    <a:ext cx="268200" cy="1360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3965400" y="4101840"/>
                  <a:ext cx="451080" cy="167040"/>
                  <a:chOff x="3965400" y="4101840"/>
                  <a:chExt cx="451080" cy="1670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1240000">
                    <a:off x="4140000" y="4115520"/>
                    <a:ext cx="27000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1240000">
                    <a:off x="3971520" y="4115520"/>
                    <a:ext cx="271440" cy="1360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3270960" y="4098240"/>
                <a:ext cx="817200" cy="165240"/>
                <a:chOff x="3270960" y="4098240"/>
                <a:chExt cx="817200" cy="165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3637800" y="4099320"/>
                  <a:ext cx="450360" cy="164160"/>
                  <a:chOff x="3637800" y="4099320"/>
                  <a:chExt cx="450360" cy="164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1300000">
                    <a:off x="3808440" y="4113720"/>
                    <a:ext cx="274320" cy="1378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1300000">
                    <a:off x="3643200" y="4110840"/>
                    <a:ext cx="27468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3270960" y="4098240"/>
                  <a:ext cx="446400" cy="163440"/>
                  <a:chOff x="3270960" y="4098240"/>
                  <a:chExt cx="446400" cy="1634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21300000">
                    <a:off x="3443040" y="4110480"/>
                    <a:ext cx="26856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21300000">
                    <a:off x="3276360" y="4109400"/>
                    <a:ext cx="270000" cy="1378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5" name=""/>
            <p:cNvGrpSpPr/>
            <p:nvPr/>
          </p:nvGrpSpPr>
          <p:grpSpPr>
            <a:xfrm>
              <a:off x="1874160" y="4088880"/>
              <a:ext cx="1516680" cy="170640"/>
              <a:chOff x="1874160" y="4088880"/>
              <a:chExt cx="1516680" cy="1706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571480" y="4092840"/>
                <a:ext cx="819360" cy="166680"/>
                <a:chOff x="2571480" y="4092840"/>
                <a:chExt cx="819360" cy="16668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2941200" y="4092840"/>
                  <a:ext cx="449640" cy="166680"/>
                  <a:chOff x="2941200" y="4092840"/>
                  <a:chExt cx="449640" cy="1666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21240000">
                    <a:off x="3114000" y="4107600"/>
                    <a:ext cx="270000" cy="1375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21240000">
                    <a:off x="2947680" y="4106160"/>
                    <a:ext cx="27000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2571480" y="4093920"/>
                  <a:ext cx="449640" cy="165240"/>
                  <a:chOff x="2571480" y="4093920"/>
                  <a:chExt cx="449640" cy="1652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21240000">
                    <a:off x="2745720" y="4107600"/>
                    <a:ext cx="268560" cy="1375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21240000">
                    <a:off x="2577600" y="4107600"/>
                    <a:ext cx="271440" cy="1375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1874160" y="4088880"/>
                <a:ext cx="820800" cy="168480"/>
                <a:chOff x="1874160" y="4088880"/>
                <a:chExt cx="820800" cy="16848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2243520" y="4090320"/>
                  <a:ext cx="451440" cy="167040"/>
                  <a:chOff x="2243520" y="4090320"/>
                  <a:chExt cx="451440" cy="1670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21300000">
                    <a:off x="2414520" y="4106160"/>
                    <a:ext cx="274680" cy="139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21300000">
                    <a:off x="2248920" y="4101840"/>
                    <a:ext cx="273240" cy="1425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1874160" y="4088880"/>
                  <a:ext cx="450360" cy="165600"/>
                  <a:chOff x="1874160" y="4088880"/>
                  <a:chExt cx="450360" cy="1656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21300000">
                    <a:off x="2044080" y="4101840"/>
                    <a:ext cx="274680" cy="1407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21300000">
                    <a:off x="1879560" y="4100400"/>
                    <a:ext cx="272880" cy="1378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90" name=""/>
          <p:cNvGrpSpPr/>
          <p:nvPr/>
        </p:nvGrpSpPr>
        <p:grpSpPr>
          <a:xfrm>
            <a:off x="4636800" y="4102200"/>
            <a:ext cx="819000" cy="167400"/>
            <a:chOff x="4636800" y="4102200"/>
            <a:chExt cx="819000" cy="167400"/>
          </a:xfrm>
        </p:grpSpPr>
        <p:grpSp>
          <p:nvGrpSpPr>
            <p:cNvPr id="191" name=""/>
            <p:cNvGrpSpPr/>
            <p:nvPr/>
          </p:nvGrpSpPr>
          <p:grpSpPr>
            <a:xfrm>
              <a:off x="5005080" y="4102200"/>
              <a:ext cx="450720" cy="164160"/>
              <a:chOff x="5005080" y="4102200"/>
              <a:chExt cx="450720" cy="164160"/>
            </a:xfrm>
          </p:grpSpPr>
          <p:sp>
            <p:nvSpPr>
              <p:cNvPr id="192" name=""/>
              <p:cNvSpPr/>
              <p:nvPr/>
            </p:nvSpPr>
            <p:spPr>
              <a:xfrm rot="21240000">
                <a:off x="5177880" y="4115880"/>
                <a:ext cx="271440" cy="1364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1240000">
                <a:off x="5011200" y="4115880"/>
                <a:ext cx="270000" cy="1364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636800" y="4102560"/>
              <a:ext cx="449640" cy="167040"/>
              <a:chOff x="4636800" y="4102560"/>
              <a:chExt cx="449640" cy="167040"/>
            </a:xfrm>
          </p:grpSpPr>
          <p:sp>
            <p:nvSpPr>
              <p:cNvPr id="195" name=""/>
              <p:cNvSpPr/>
              <p:nvPr/>
            </p:nvSpPr>
            <p:spPr>
              <a:xfrm rot="21240000">
                <a:off x="4809960" y="4115880"/>
                <a:ext cx="270000" cy="1396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1240000">
                <a:off x="4642920" y="4115880"/>
                <a:ext cx="270000" cy="1364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6063480" y="3773880"/>
            <a:ext cx="802800" cy="390240"/>
            <a:chOff x="6063480" y="3773880"/>
            <a:chExt cx="802800" cy="390240"/>
          </a:xfrm>
        </p:grpSpPr>
        <p:grpSp>
          <p:nvGrpSpPr>
            <p:cNvPr id="198" name=""/>
            <p:cNvGrpSpPr/>
            <p:nvPr/>
          </p:nvGrpSpPr>
          <p:grpSpPr>
            <a:xfrm>
              <a:off x="6407640" y="3899880"/>
              <a:ext cx="458640" cy="264240"/>
              <a:chOff x="6407640" y="3899880"/>
              <a:chExt cx="458640" cy="264240"/>
            </a:xfrm>
          </p:grpSpPr>
          <p:sp>
            <p:nvSpPr>
              <p:cNvPr id="199" name=""/>
              <p:cNvSpPr/>
              <p:nvPr/>
            </p:nvSpPr>
            <p:spPr>
              <a:xfrm rot="900000">
                <a:off x="6575400" y="3992760"/>
                <a:ext cx="277560" cy="1378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900000">
                <a:off x="6420960" y="3933360"/>
                <a:ext cx="279360" cy="1414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063480" y="3773880"/>
              <a:ext cx="459000" cy="268200"/>
              <a:chOff x="6063480" y="3773880"/>
              <a:chExt cx="459000" cy="268200"/>
            </a:xfrm>
          </p:grpSpPr>
          <p:sp>
            <p:nvSpPr>
              <p:cNvPr id="202" name=""/>
              <p:cNvSpPr/>
              <p:nvPr/>
            </p:nvSpPr>
            <p:spPr>
              <a:xfrm rot="900000">
                <a:off x="6231960" y="3863880"/>
                <a:ext cx="276120" cy="1447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900000">
                <a:off x="6076440" y="3807000"/>
                <a:ext cx="274680" cy="1396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1902240" y="3814560"/>
            <a:ext cx="168480" cy="444960"/>
            <a:chOff x="1902240" y="3814560"/>
            <a:chExt cx="168480" cy="444960"/>
          </a:xfrm>
        </p:grpSpPr>
        <p:sp>
          <p:nvSpPr>
            <p:cNvPr id="205" name=""/>
            <p:cNvSpPr/>
            <p:nvPr/>
          </p:nvSpPr>
          <p:spPr>
            <a:xfrm rot="5040000">
              <a:off x="1850400" y="4049640"/>
              <a:ext cx="268200" cy="137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040000">
              <a:off x="1851120" y="3886920"/>
              <a:ext cx="271440" cy="139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810440" y="3649680"/>
            <a:ext cx="167040" cy="444600"/>
            <a:chOff x="1810440" y="3649680"/>
            <a:chExt cx="167040" cy="444600"/>
          </a:xfrm>
        </p:grpSpPr>
        <p:sp>
          <p:nvSpPr>
            <p:cNvPr id="208" name=""/>
            <p:cNvSpPr/>
            <p:nvPr/>
          </p:nvSpPr>
          <p:spPr>
            <a:xfrm rot="5040000">
              <a:off x="1758960" y="3882960"/>
              <a:ext cx="269640" cy="139680"/>
            </a:xfrm>
            <a:prstGeom prst="ellipse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040000">
              <a:off x="1758960" y="3722400"/>
              <a:ext cx="269640" cy="136440"/>
            </a:xfrm>
            <a:prstGeom prst="ellipse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46360" y="3383640"/>
            <a:ext cx="164520" cy="444960"/>
            <a:chOff x="1746360" y="3383640"/>
            <a:chExt cx="164520" cy="444960"/>
          </a:xfrm>
        </p:grpSpPr>
        <p:sp>
          <p:nvSpPr>
            <p:cNvPr id="211" name=""/>
            <p:cNvSpPr/>
            <p:nvPr/>
          </p:nvSpPr>
          <p:spPr>
            <a:xfrm flipH="1" rot="5700000">
              <a:off x="1691280" y="3455280"/>
              <a:ext cx="271440" cy="139320"/>
            </a:xfrm>
            <a:prstGeom prst="ellipse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rot="5700000">
              <a:off x="1693800" y="3617640"/>
              <a:ext cx="270000" cy="140400"/>
            </a:xfrm>
            <a:prstGeom prst="ellipse">
              <a:avLst/>
            </a:prstGeom>
            <a:noFill/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307120" y="3809880"/>
            <a:ext cx="798120" cy="461520"/>
            <a:chOff x="5307120" y="3809880"/>
            <a:chExt cx="798120" cy="461520"/>
          </a:xfrm>
        </p:grpSpPr>
        <p:grpSp>
          <p:nvGrpSpPr>
            <p:cNvPr id="214" name=""/>
            <p:cNvGrpSpPr/>
            <p:nvPr/>
          </p:nvGrpSpPr>
          <p:grpSpPr>
            <a:xfrm>
              <a:off x="5645520" y="3809880"/>
              <a:ext cx="459720" cy="317520"/>
              <a:chOff x="5645520" y="3809880"/>
              <a:chExt cx="459720" cy="317520"/>
            </a:xfrm>
          </p:grpSpPr>
          <p:sp>
            <p:nvSpPr>
              <p:cNvPr id="215" name=""/>
              <p:cNvSpPr/>
              <p:nvPr/>
            </p:nvSpPr>
            <p:spPr>
              <a:xfrm rot="19860000">
                <a:off x="5812920" y="3868200"/>
                <a:ext cx="276120" cy="1364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860000">
                <a:off x="5662080" y="3930120"/>
                <a:ext cx="273240" cy="1396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307120" y="3951000"/>
              <a:ext cx="458280" cy="320400"/>
              <a:chOff x="5307120" y="3951000"/>
              <a:chExt cx="458280" cy="320400"/>
            </a:xfrm>
          </p:grpSpPr>
          <p:sp>
            <p:nvSpPr>
              <p:cNvPr id="218" name=""/>
              <p:cNvSpPr/>
              <p:nvPr/>
            </p:nvSpPr>
            <p:spPr>
              <a:xfrm rot="19860000">
                <a:off x="5476320" y="4007880"/>
                <a:ext cx="271440" cy="1411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9860000">
                <a:off x="5324040" y="4073040"/>
                <a:ext cx="271440" cy="1411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7360920" y="3574080"/>
            <a:ext cx="741600" cy="578880"/>
            <a:chOff x="7360920" y="3574080"/>
            <a:chExt cx="741600" cy="578880"/>
          </a:xfrm>
        </p:grpSpPr>
        <p:grpSp>
          <p:nvGrpSpPr>
            <p:cNvPr id="221" name=""/>
            <p:cNvGrpSpPr/>
            <p:nvPr/>
          </p:nvGrpSpPr>
          <p:grpSpPr>
            <a:xfrm>
              <a:off x="7665480" y="3574080"/>
              <a:ext cx="437040" cy="374400"/>
              <a:chOff x="7665480" y="3574080"/>
              <a:chExt cx="437040" cy="374400"/>
            </a:xfrm>
          </p:grpSpPr>
          <p:sp>
            <p:nvSpPr>
              <p:cNvPr id="222" name=""/>
              <p:cNvSpPr/>
              <p:nvPr/>
            </p:nvSpPr>
            <p:spPr>
              <a:xfrm rot="19200000">
                <a:off x="7813080" y="3646080"/>
                <a:ext cx="276120" cy="1414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9200000">
                <a:off x="7678080" y="3736800"/>
                <a:ext cx="274320" cy="13968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7360920" y="3779280"/>
              <a:ext cx="439560" cy="373680"/>
              <a:chOff x="7360920" y="3779280"/>
              <a:chExt cx="439560" cy="373680"/>
            </a:xfrm>
          </p:grpSpPr>
          <p:sp>
            <p:nvSpPr>
              <p:cNvPr id="225" name=""/>
              <p:cNvSpPr/>
              <p:nvPr/>
            </p:nvSpPr>
            <p:spPr>
              <a:xfrm rot="19200000">
                <a:off x="7515000" y="3849480"/>
                <a:ext cx="271080" cy="1429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9200000">
                <a:off x="7375320" y="3938400"/>
                <a:ext cx="271080" cy="14436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979560" y="3085560"/>
            <a:ext cx="762840" cy="536400"/>
            <a:chOff x="979560" y="3085560"/>
            <a:chExt cx="762840" cy="536400"/>
          </a:xfrm>
        </p:grpSpPr>
        <p:grpSp>
          <p:nvGrpSpPr>
            <p:cNvPr id="228" name=""/>
            <p:cNvGrpSpPr/>
            <p:nvPr/>
          </p:nvGrpSpPr>
          <p:grpSpPr>
            <a:xfrm>
              <a:off x="1297080" y="3085560"/>
              <a:ext cx="445320" cy="352800"/>
              <a:chOff x="1297080" y="3085560"/>
              <a:chExt cx="445320" cy="352800"/>
            </a:xfrm>
          </p:grpSpPr>
          <p:sp>
            <p:nvSpPr>
              <p:cNvPr id="229" name=""/>
              <p:cNvSpPr/>
              <p:nvPr/>
            </p:nvSpPr>
            <p:spPr>
              <a:xfrm rot="19440000">
                <a:off x="1453680" y="3152880"/>
                <a:ext cx="274320" cy="13824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9440000">
                <a:off x="1312200" y="3230280"/>
                <a:ext cx="272880" cy="1411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979560" y="3268800"/>
              <a:ext cx="445320" cy="353160"/>
              <a:chOff x="979560" y="3268800"/>
              <a:chExt cx="445320" cy="353160"/>
            </a:xfrm>
          </p:grpSpPr>
          <p:sp>
            <p:nvSpPr>
              <p:cNvPr id="232" name=""/>
              <p:cNvSpPr/>
              <p:nvPr/>
            </p:nvSpPr>
            <p:spPr>
              <a:xfrm rot="19440000">
                <a:off x="1141200" y="3333600"/>
                <a:ext cx="267840" cy="1411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9440000">
                <a:off x="995400" y="3412800"/>
                <a:ext cx="271440" cy="142920"/>
              </a:xfrm>
              <a:prstGeom prst="ellipse">
                <a:avLst/>
              </a:prstGeom>
              <a:noFill/>
              <a:ln w="255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 flipH="1" rot="5880000">
            <a:off x="1658160" y="3278880"/>
            <a:ext cx="273240" cy="140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rot="3540000">
            <a:off x="1598400" y="3194640"/>
            <a:ext cx="270000" cy="1414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706400" y="3963960"/>
            <a:ext cx="4416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44600" y="3927600"/>
            <a:ext cx="4780080" cy="1199880"/>
          </a:xfrm>
          <a:custGeom>
            <a:avLst/>
            <a:gdLst/>
            <a:ahLst/>
            <a:rect l="l" t="t" r="r" b="b"/>
            <a:pathLst>
              <a:path w="3011" h="756">
                <a:moveTo>
                  <a:pt x="0" y="0"/>
                </a:moveTo>
                <a:lnTo>
                  <a:pt x="0" y="755"/>
                </a:lnTo>
                <a:lnTo>
                  <a:pt x="3010" y="755"/>
                </a:lnTo>
                <a:lnTo>
                  <a:pt x="301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6040" y="5429160"/>
            <a:ext cx="169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als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595600" y="4316400"/>
            <a:ext cx="631800" cy="1162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toe Consul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7CF-858C-4EC4-A65B-DE9FE27E9D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2:51:06Z</dcterms:created>
  <dc:creator>Jock Christoe</dc:creator>
  <dc:description/>
  <dc:language>en-US</dc:language>
  <cp:lastModifiedBy>rroberts</cp:lastModifiedBy>
  <dcterms:modified xsi:type="dcterms:W3CDTF">2006-08-11T02:20:24Z</dcterms:modified>
  <cp:revision>7</cp:revision>
  <dc:subject/>
  <dc:title>Latest Developments in Scouring</dc:title>
</cp:coreProperties>
</file>