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ADF-9882-4704-84DB-B7D8241437F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C60A-760F-448C-9118-E0772AF2C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7D7C-3049-4A02-8D22-773D073A5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FB1A-6F4E-4A4D-AC2E-D21445798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D80E-BF16-4111-A5AC-9CED11A70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6A11-E900-4921-A0FC-5AA5FDF2F0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B613-BC5C-45A4-B4FB-AF9C1BC93F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793D-86AF-4C6A-BD60-6893F132D2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B065-C903-443A-9168-05D620DE0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08E8-F4CD-4093-B941-012A009D55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C7BD-B146-40C8-9E17-EF58472087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333B-FEB1-4335-B5C2-FDDEA00D7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DFAF-A423-47E4-AAAC-FC904D1E1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82F3-5188-4280-BB85-3376AF1830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33A6-2EC8-461A-9080-44579C8F64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B0BA-B30D-4BA1-8AB8-FCF6F8CB15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3134-A21D-4C00-8FD2-3C8A355E77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A1BC-C455-4C26-830C-EEAA2BBB0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A501-E0CC-4137-A672-91679BF9A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7818-AC1B-439A-ACFE-CCB3289A6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C5CC-CC37-4026-9485-001962FC0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F822-47CC-428F-8ABF-E59821884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BD0E-EC3F-4200-9895-B58DF5FBD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AD3D-5BE6-4D22-8A45-9EA414BF9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F4AE-3350-4348-B904-4FE61465F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075-75B0-40F2-88E5-943E14A800E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9CD-EAD4-4FAD-87F6-B2C12F83A4D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g spinning of ya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77EC-F434-4BB9-A46F-9B273B6EFE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6697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emiworsted spinning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4573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high draft machine for converting sliver into yarn in on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zone drafting devices ofte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carpet and knitting y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560" y="981000"/>
            <a:ext cx="3448080" cy="4608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054160" cy="20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585D-F73B-4CF1-9649-3B0B3FC804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A274-63C7-4A99-BF9B-6066D64CBF94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100080"/>
            <a:ext cx="6048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tion for spi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ollen sp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lubbing from c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miworsted sp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liver after 3 gil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metimes sliver is drafted to form a 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sted sp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p (gilled and combed sli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rawn (drafted and gilled) to form a 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BEC1-76BF-4775-932A-93CCBD32CD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27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sted dra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lling of top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duction in linear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lending and regular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ibre straigh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fting to form 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duction in linear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mprovement of strand strength/cohesion by rubbing or inserting tw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ackage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11880" y="1495440"/>
            <a:ext cx="323352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64000" y="53737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of rub r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D27A-CB61-404F-8A35-DDA2A3A3D6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280" y="18900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ng spin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pin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68360" y="619920"/>
            <a:ext cx="6048360" cy="4967640"/>
            <a:chOff x="2268360" y="619920"/>
            <a:chExt cx="6048360" cy="4967640"/>
          </a:xfrm>
        </p:grpSpPr>
        <p:sp>
          <p:nvSpPr>
            <p:cNvPr id="102" name=""/>
            <p:cNvSpPr/>
            <p:nvPr/>
          </p:nvSpPr>
          <p:spPr>
            <a:xfrm>
              <a:off x="4306680" y="2172600"/>
              <a:ext cx="191880" cy="34149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06680" y="5215680"/>
              <a:ext cx="2227320" cy="186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43320" y="5401800"/>
              <a:ext cx="31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43320" y="5215680"/>
              <a:ext cx="31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16960" y="4221720"/>
              <a:ext cx="572040" cy="807480"/>
            </a:xfrm>
            <a:custGeom>
              <a:avLst/>
              <a:gdLst>
                <a:gd name="textAreaLeft" fmla="*/ 138240 w 572040"/>
                <a:gd name="textAreaRight" fmla="*/ 433800 w 572040"/>
                <a:gd name="textAreaTop" fmla="*/ 195120 h 807480"/>
                <a:gd name="textAreaBottom" fmla="*/ 612360 h 80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353" y="21600"/>
                  </a:lnTo>
                  <a:lnTo>
                    <a:pt x="6247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115880" y="2854800"/>
              <a:ext cx="572040" cy="807480"/>
            </a:xfrm>
            <a:custGeom>
              <a:avLst/>
              <a:gdLst>
                <a:gd name="textAreaLeft" fmla="*/ 138240 w 572040"/>
                <a:gd name="textAreaRight" fmla="*/ 433800 w 572040"/>
                <a:gd name="textAreaTop" fmla="*/ 195120 h 807480"/>
                <a:gd name="textAreaBottom" fmla="*/ 612360 h 80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353" y="21600"/>
                  </a:lnTo>
                  <a:lnTo>
                    <a:pt x="6247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5880" y="3663360"/>
              <a:ext cx="573480" cy="558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43480" y="3911040"/>
              <a:ext cx="1653480" cy="6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98720" y="3848040"/>
              <a:ext cx="63000" cy="63000"/>
            </a:xfrm>
            <a:prstGeom prst="rect">
              <a:avLst/>
            </a:prstGeom>
            <a:solidFill>
              <a:srgbClr val="5490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43520" y="3848040"/>
              <a:ext cx="62640" cy="63000"/>
            </a:xfrm>
            <a:prstGeom prst="rect">
              <a:avLst/>
            </a:prstGeom>
            <a:solidFill>
              <a:srgbClr val="5490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97280" y="3787920"/>
              <a:ext cx="64440" cy="61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3105000"/>
              <a:ext cx="1653480" cy="155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61720" y="3787920"/>
              <a:ext cx="381240" cy="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97360" y="3352680"/>
              <a:ext cx="1081440" cy="10551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32560" y="3849480"/>
              <a:ext cx="64440" cy="6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1160" y="3600360"/>
              <a:ext cx="573480" cy="55980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41600" y="3786480"/>
              <a:ext cx="192240" cy="1861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24640" y="3974040"/>
              <a:ext cx="190800" cy="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4640" y="3787920"/>
              <a:ext cx="190800" cy="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2600" y="3787920"/>
              <a:ext cx="382680" cy="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34040" y="3974040"/>
              <a:ext cx="382680" cy="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97360" y="3912480"/>
              <a:ext cx="382680" cy="18576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915600" y="3724200"/>
              <a:ext cx="445680" cy="37332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-360 h 373320"/>
                <a:gd name="textAreaBottom" fmla="*/ 373320 h 37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86" y="12106"/>
                  </a:moveTo>
                  <a:arcTo wR="-8120" hR="-8120" stAng="10244718" swAng="-10244718"/>
                  <a:lnTo>
                    <a:pt x="0" y="10800"/>
                  </a:lnTo>
                  <a:arcTo wR="10800" hR="10800" stAng="10800000" swAng="10244718"/>
                  <a:lnTo>
                    <a:pt x="24124" y="8629"/>
                  </a:lnTo>
                  <a:lnTo>
                    <a:pt x="20787" y="13266"/>
                  </a:lnTo>
                  <a:lnTo>
                    <a:pt x="16149" y="9928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1480" y="40359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997400" y="3724920"/>
              <a:ext cx="25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74280" y="1740240"/>
              <a:ext cx="350640" cy="122760"/>
            </a:xfrm>
            <a:custGeom>
              <a:avLst/>
              <a:gdLst/>
              <a:ahLst/>
              <a:rect l="l" t="t" r="r" b="b"/>
              <a:pathLst>
                <a:path w="386" h="196">
                  <a:moveTo>
                    <a:pt x="23" y="0"/>
                  </a:moveTo>
                  <a:cubicBezTo>
                    <a:pt x="114" y="15"/>
                    <a:pt x="205" y="30"/>
                    <a:pt x="250" y="45"/>
                  </a:cubicBezTo>
                  <a:cubicBezTo>
                    <a:pt x="295" y="60"/>
                    <a:pt x="295" y="75"/>
                    <a:pt x="295" y="90"/>
                  </a:cubicBezTo>
                  <a:cubicBezTo>
                    <a:pt x="295" y="105"/>
                    <a:pt x="280" y="121"/>
                    <a:pt x="250" y="136"/>
                  </a:cubicBezTo>
                  <a:cubicBezTo>
                    <a:pt x="220" y="151"/>
                    <a:pt x="152" y="174"/>
                    <a:pt x="114" y="181"/>
                  </a:cubicBezTo>
                  <a:cubicBezTo>
                    <a:pt x="76" y="188"/>
                    <a:pt x="38" y="196"/>
                    <a:pt x="23" y="181"/>
                  </a:cubicBezTo>
                  <a:cubicBezTo>
                    <a:pt x="8" y="166"/>
                    <a:pt x="0" y="105"/>
                    <a:pt x="23" y="90"/>
                  </a:cubicBezTo>
                  <a:cubicBezTo>
                    <a:pt x="46" y="75"/>
                    <a:pt x="114" y="82"/>
                    <a:pt x="159" y="90"/>
                  </a:cubicBezTo>
                  <a:cubicBezTo>
                    <a:pt x="204" y="98"/>
                    <a:pt x="257" y="121"/>
                    <a:pt x="295" y="136"/>
                  </a:cubicBezTo>
                  <a:cubicBezTo>
                    <a:pt x="333" y="151"/>
                    <a:pt x="359" y="166"/>
                    <a:pt x="386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07560" y="1800720"/>
              <a:ext cx="795240" cy="1986840"/>
            </a:xfrm>
            <a:custGeom>
              <a:avLst/>
              <a:gdLst/>
              <a:ahLst/>
              <a:rect l="l" t="t" r="r" b="b"/>
              <a:pathLst>
                <a:path w="567" h="1452">
                  <a:moveTo>
                    <a:pt x="136" y="1452"/>
                  </a:moveTo>
                  <a:cubicBezTo>
                    <a:pt x="102" y="1418"/>
                    <a:pt x="68" y="1384"/>
                    <a:pt x="45" y="1316"/>
                  </a:cubicBezTo>
                  <a:cubicBezTo>
                    <a:pt x="22" y="1248"/>
                    <a:pt x="0" y="1150"/>
                    <a:pt x="0" y="1044"/>
                  </a:cubicBezTo>
                  <a:cubicBezTo>
                    <a:pt x="0" y="938"/>
                    <a:pt x="7" y="787"/>
                    <a:pt x="45" y="681"/>
                  </a:cubicBezTo>
                  <a:cubicBezTo>
                    <a:pt x="83" y="575"/>
                    <a:pt x="166" y="491"/>
                    <a:pt x="226" y="408"/>
                  </a:cubicBezTo>
                  <a:cubicBezTo>
                    <a:pt x="286" y="325"/>
                    <a:pt x="355" y="242"/>
                    <a:pt x="408" y="182"/>
                  </a:cubicBezTo>
                  <a:cubicBezTo>
                    <a:pt x="461" y="122"/>
                    <a:pt x="521" y="76"/>
                    <a:pt x="544" y="46"/>
                  </a:cubicBezTo>
                  <a:cubicBezTo>
                    <a:pt x="567" y="16"/>
                    <a:pt x="555" y="8"/>
                    <a:pt x="544" y="0"/>
                  </a:cubicBezTo>
                </a:path>
              </a:pathLst>
            </a:custGeom>
            <a:noFill/>
            <a:ln w="2844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 rot="16200000">
              <a:off x="4501440" y="550080"/>
              <a:ext cx="310680" cy="572400"/>
            </a:xfrm>
            <a:prstGeom prst="can">
              <a:avLst>
                <a:gd name="adj" fmla="val 1482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 rot="16200000">
              <a:off x="4373280" y="488880"/>
              <a:ext cx="310680" cy="572040"/>
            </a:xfrm>
            <a:prstGeom prst="can">
              <a:avLst>
                <a:gd name="adj" fmla="val 1482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434120" y="930960"/>
              <a:ext cx="127440" cy="80748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0960" y="62064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nt roll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53800" y="1662120"/>
              <a:ext cx="12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arn gu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24760" y="490608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3320" y="4580640"/>
              <a:ext cx="101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60480" y="2357280"/>
              <a:ext cx="83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bb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7320" y="3229200"/>
              <a:ext cx="57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006160" y="3477240"/>
              <a:ext cx="255240" cy="37224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0360" y="3477240"/>
              <a:ext cx="1016640" cy="24768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80280" y="3649680"/>
              <a:ext cx="10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ve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80120" y="3787920"/>
              <a:ext cx="253800" cy="0"/>
            </a:xfrm>
            <a:prstGeom prst="line">
              <a:avLst/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0200" y="3105000"/>
              <a:ext cx="165348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80200" y="4657320"/>
              <a:ext cx="165348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05080" y="4223160"/>
              <a:ext cx="10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ng r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6360" y="4346640"/>
              <a:ext cx="57384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815720" y="3974040"/>
              <a:ext cx="190800" cy="37224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52480" y="2855520"/>
              <a:ext cx="0" cy="217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1678320" y="3755520"/>
              <a:ext cx="142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ng rail m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5680" y="2546640"/>
              <a:ext cx="127800" cy="930240"/>
            </a:xfrm>
            <a:custGeom>
              <a:avLst/>
              <a:gdLst/>
              <a:ahLst/>
              <a:rect l="l" t="t" r="r" b="b"/>
              <a:pathLst>
                <a:path w="99" h="635">
                  <a:moveTo>
                    <a:pt x="99" y="0"/>
                  </a:moveTo>
                  <a:cubicBezTo>
                    <a:pt x="84" y="23"/>
                    <a:pt x="69" y="46"/>
                    <a:pt x="54" y="91"/>
                  </a:cubicBezTo>
                  <a:cubicBezTo>
                    <a:pt x="39" y="136"/>
                    <a:pt x="16" y="219"/>
                    <a:pt x="8" y="272"/>
                  </a:cubicBezTo>
                  <a:cubicBezTo>
                    <a:pt x="0" y="325"/>
                    <a:pt x="0" y="348"/>
                    <a:pt x="8" y="408"/>
                  </a:cubicBezTo>
                  <a:cubicBezTo>
                    <a:pt x="16" y="468"/>
                    <a:pt x="35" y="551"/>
                    <a:pt x="54" y="6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A630-9A89-4DC9-9A92-CD8225B907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35272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ve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4248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spcAft>
                <a:spcPts val="11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 small clip that rotates around the ring at up to 45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spcAft>
                <a:spcPts val="11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Guides the yarn onto the bobb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spcAft>
                <a:spcPts val="11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The heavier the yarn the heavier the travell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06396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A753-75A7-4B83-8806-F2B9222FFC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648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spinning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6560" y="765000"/>
          <a:ext cx="8642520" cy="4527720"/>
        </p:xfrm>
        <a:graphic>
          <a:graphicData uri="http://schemas.openxmlformats.org/drawingml/2006/table">
            <a:tbl>
              <a:tblPr/>
              <a:tblGrid>
                <a:gridCol w="2160720"/>
                <a:gridCol w="2089080"/>
                <a:gridCol w="2519640"/>
                <a:gridCol w="1873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wor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ver (or rov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bb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ing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rs + apr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rs + apr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– 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 di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– 65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– 180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300 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dle speed (r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-17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-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-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0517-361B-4223-A6DC-E9DC814D95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8280" y="115920"/>
            <a:ext cx="8001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len spinning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620640"/>
            <a:ext cx="460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low draft machine to handle weak strands (slubb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lubbing delivered from s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ft minimal: ~ 1.2 -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neumafil tube sucks up broken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lse twist device gives cohesion to strand, aids drafting of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62600" y="836640"/>
            <a:ext cx="385740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9D02-2D80-41B1-A497-6387B6CDDD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 twist de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9193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310-0BC0-4698-9FD5-31B8A4BEE6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65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sted spinning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 high-draft machine to convert a very regular strand (roving) into a fine, smooth yarn for appa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airs of rovings drawn from pack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rafting section: draft 15-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ound onto package at 7,000 – 17,000 rp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461960" cy="511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2B10-1ADF-4266-A526-4AAA633A67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9:44Z</dcterms:modified>
  <cp:revision>63</cp:revision>
  <dc:subject/>
  <dc:title>PowerPoint Presentation</dc:title>
</cp:coreProperties>
</file>