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4F3AF-51EE-44C4-A655-8444B5906B49}" type="slidenum"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 Chair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the 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dies and Gentle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 Chair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the 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dies and Gentle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8636D-5FC2-4581-A2EE-117887DDF5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88920" y="4878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8D064-75C2-407B-8AB6-F3230E0139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6888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88920" y="4878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268880" y="4878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11807-ADFB-4054-B566-1753DFF4E3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52880" y="3962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17200" y="3962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88920" y="4878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52880" y="4878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17200" y="4878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CD27F-1AB7-44E0-AEC3-0C5BC2753C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81FF9-E303-4AE9-B646-C24560C05EA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8892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42C05-8F59-40E4-A962-7F4D2D127A4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B17CA-7F5B-4A84-B534-6F5E1F889FB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268880" y="3962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BF690-B914-44A4-AC45-698F669F608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97C23-94E0-40C9-9678-905EB4C59A2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95400" y="312840"/>
            <a:ext cx="7772400" cy="806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DB248-985E-4B02-BB2B-5C6C19D5605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268880" y="3962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88920" y="4878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DFFB3-128B-4AB4-8143-5B3BC0E59C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8892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0D112-63D7-4536-8B54-7C2D57ECBA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6888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268880" y="4878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A2D6E-33FB-4CB9-A9D8-7ECB8D7EAAA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6888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88920" y="4878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963B8-0327-457C-A965-30ABFBEA5E5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988920" y="4878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91F44-79A3-4973-B194-96EB62C88C0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6888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88920" y="4878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268880" y="4878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71B87-57A6-471A-87A5-AE25D8AF979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52880" y="3962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17200" y="3962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988920" y="4878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52880" y="4878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17200" y="4878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3017A-6568-47A9-AB8D-9A21979FDC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31BC4-A16D-4D01-A900-C7D57B66D9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268880" y="3962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C69D0-35FE-4069-B1AB-ACA8CF2AAF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A3BF8-1083-45C6-9D3E-0F8CE05053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5400" y="312840"/>
            <a:ext cx="7772400" cy="806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9D49D-50EC-427A-B2FE-EBBFC7B857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68880" y="3962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88920" y="4878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33B32-D5EE-4D71-B3F5-77C5A2E889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6888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268880" y="4878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6AD95-2C46-43EA-A489-8D97E8023C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6888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88920" y="4878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D91CB-54F2-458D-89E2-C954E48BB0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565164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350040" y="5270400"/>
            <a:ext cx="1127160" cy="1600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5D354-2ADB-4990-8F8E-A0DDBADFDB02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D9DE0-3650-4F42-9CF0-9C6EBC95D77B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380880" cy="213372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9144000" cy="1749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3479760"/>
            <a:ext cx="380880" cy="337824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7240" y="442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et Processing of Slivers, Tops and Yar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71600" y="137484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pic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47640" y="41101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rol W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C3ECB-D9DE-4D6E-B2F8-E3B77062900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00100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pe scour cond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50920" y="2500200"/>
            <a:ext cx="8424720" cy="2441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95F99-F156-4D22-944A-A2934E809C8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280" y="4428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bilisation of yarn tw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4000" y="620280"/>
            <a:ext cx="8001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pparel ya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spcAft>
                <a:spcPts val="5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Autoclave setting for eliminating snar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Carpet yarns – for superior appearance and appearance retention in u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spcAft>
                <a:spcPts val="5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Autoclave (steam) se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spcAft>
                <a:spcPts val="5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Boil set in dye b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spcAft>
                <a:spcPts val="5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Chemical setting (sodium metabisulphite)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649"/>
              </a:spcBef>
              <a:spcAft>
                <a:spcPts val="488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Tape scou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649"/>
              </a:spcBef>
              <a:spcAft>
                <a:spcPts val="488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Twistset li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70230-6045-45B8-9EB6-D730D50B3AB5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10920" y="43920"/>
            <a:ext cx="80010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Twistset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620640"/>
            <a:ext cx="56880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49"/>
              </a:spcBef>
              <a:spcAft>
                <a:spcPts val="649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most advanced chemical setting 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49"/>
              </a:spcBef>
              <a:spcAft>
                <a:spcPts val="649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arn wound off packages to form continuous blanket for process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49"/>
              </a:spcBef>
              <a:spcAft>
                <a:spcPts val="649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ported through series of bowl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wl 1 – detergent scouring (6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wl 2 – MBS setting (8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wls 3, 4 – rinsing (8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49"/>
              </a:spcBef>
              <a:spcAft>
                <a:spcPts val="649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fter drying, yarn rewound onto c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343560" y="2049480"/>
            <a:ext cx="2571840" cy="269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2C5CF-A0EE-4E58-97C9-4B2FE8424BEA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71640" y="980640"/>
            <a:ext cx="691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Twistset processing 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95280" y="2565360"/>
            <a:ext cx="8353440" cy="223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E1EFC-7662-48D0-845B-AEF7E2BC981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85800" y="466164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of Summary Slides - Close Wind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7C4FE-C5C9-4241-A850-064290932A00}" type="slidenum">
              <a:t>14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7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t processes for slivers and to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18640" y="2268360"/>
            <a:ext cx="80010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1400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was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1400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rink resist trea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1400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etching of slivers and t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CEBFE-FF8F-4266-A9F2-A679C7F4782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-27000"/>
            <a:ext cx="4392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s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549360"/>
            <a:ext cx="820728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49"/>
              </a:spcBef>
              <a:spcAft>
                <a:spcPts val="814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A sliver washing process, traditionally for removing dirt before Nobel comb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spcAft>
                <a:spcPts val="814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Now an optional treatment for enhancing the appearance of a to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Removes dirt and processing lubric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Relax tensions on fibres introduced in carding, gilling, comb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spcAft>
                <a:spcPts val="814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Followed by gilling to restore fibre align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11280" y="3789360"/>
            <a:ext cx="7920000" cy="1685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25C35-30A6-4DE9-BD9F-69988CE29CD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-171360"/>
            <a:ext cx="5976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rink resist treat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9280" y="763200"/>
            <a:ext cx="80010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spcAft>
                <a:spcPts val="1576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Involves modification of wool fibre surface to reduce differential friction effec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spcAft>
                <a:spcPts val="1576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Hence propensity for felting is redu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spcAft>
                <a:spcPts val="1576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Chlorine-Hercosett Proces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49"/>
              </a:spcBef>
              <a:spcAft>
                <a:spcPts val="1463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Chlorine treatment degrades scale edges, th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49"/>
              </a:spcBef>
              <a:spcAft>
                <a:spcPts val="1463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Resin applied to cover sc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49"/>
              </a:spcBef>
              <a:spcAft>
                <a:spcPts val="1463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Basis of easy care treatments for wool apparel, such as the Superwash syst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CC178-B0A8-4C88-BE98-78BEB951795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6408720" cy="52484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91720" y="547560"/>
            <a:ext cx="8001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Andar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Superwash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7972A-3F62-4400-9791-5BB0BD77FD0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4920" y="-98280"/>
            <a:ext cx="80010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ver stretching proc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3000" y="549360"/>
            <a:ext cx="80010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OPTIM Fin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stretching of wool 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fibres permanently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produces finer, silk-like w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OPTIM Max and lincLI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Stretching and temporary se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Fibres blended with unstretched fibres for spi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When stretched fibres retract (in steam or water) produce bulking effect in ya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AB2B5-7B84-44EC-94DD-DF16FF2CC59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4920" y="466560"/>
            <a:ext cx="80010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lincLITE</a:t>
            </a:r>
            <a:br>
              <a:rPr sz="4400"/>
            </a:b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924360" y="115920"/>
            <a:ext cx="4680000" cy="547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8E1F9-8F9B-40E6-8EB5-E3EE33CBD60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000" y="-27000"/>
            <a:ext cx="8001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t processing of wool yar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10920" y="691920"/>
            <a:ext cx="80010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u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ist se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cla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ect res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static trea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ame retardant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to stabil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in blo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EB43E-B4CD-44B5-9AD9-483270A8E72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473688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arn scou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4920" y="907920"/>
            <a:ext cx="80010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spcAft>
                <a:spcPts val="1400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Washing treatment for removing processing lubricants, dirt etc. in woollen spun ya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spcAft>
                <a:spcPts val="1400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Metho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49"/>
              </a:spcBef>
              <a:spcAft>
                <a:spcPts val="13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Dye-ba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49"/>
              </a:spcBef>
              <a:spcAft>
                <a:spcPts val="13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Tape scouring of han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49"/>
              </a:spcBef>
              <a:spcAft>
                <a:spcPts val="13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Package-to-package system (Twistse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spcAft>
                <a:spcPts val="1400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Other treatments (insect-resist, texturising also may be carried ou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C65A7-7040-476B-9A8E-0212D49C0BA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04:52:09Z</dcterms:created>
  <dc:creator>ES</dc:creator>
  <dc:description/>
  <dc:language>en-US</dc:language>
  <cp:lastModifiedBy>Sally Mahony</cp:lastModifiedBy>
  <dcterms:modified xsi:type="dcterms:W3CDTF">2005-07-07T04:53:26Z</dcterms:modified>
  <cp:revision>62</cp:revision>
  <dc:subject/>
  <dc:title>PowerPoint Presentation</dc:title>
</cp:coreProperties>
</file>