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EFD7-C167-4E65-8B36-9A712B271298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9B81-CE4A-458D-8F99-A6A4B9C0E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0AF2-E558-4B55-9CC4-F360E0BBA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80E7-40B2-41C5-9C17-1A2064AB7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56CA-5E64-429F-9669-A33BCBC6E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AE2C-8476-4909-8666-686C55DCE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CE22-FC06-4630-82FF-6BC339CCC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04F7-385C-4638-8EA2-9EAD560FA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BDE4-6DB8-4801-94FA-EFCFBD1AA6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AE99-AAFC-487F-89B2-D488613CB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47B6-5EAB-426D-89E8-F512A30A5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2BAB-19D2-4A2E-B163-6B49615D8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8059-EDBD-486F-905C-A256C1AA9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E275-6E93-49C5-B2A8-E22AC1EE2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4374-F2F5-4326-9E4B-F8B01E5D63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8AC0-84C9-4F45-AD4B-A164E0EF9C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84A8-A7F7-4A25-994D-78EB0E2B8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5E9C-86B9-4AF7-857C-B159C6F11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89DD-BEC4-4774-BE77-2FC1EAFDB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293F-BA5C-45BB-B9AF-F4D31A2AF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F5DE-DBEE-4507-90F9-E7DB22F54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0F9A-E418-4017-AEBC-BF1D21225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89D2-AB97-4B1A-869E-8E65BF6AC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F410-F174-48BE-BB4C-0D7F1408C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B626-DA57-4F7D-8139-E11DACE11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A53-03B6-48C7-98EF-F4A150BAD48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5B4-07B7-41E0-81DC-F88775F85FA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661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Wool Yarn Manufa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458136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65DB-3699-407E-8BC4-CB33203425A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sted route has more ste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9640" y="399960"/>
            <a:ext cx="7489440" cy="5336640"/>
            <a:chOff x="539640" y="399960"/>
            <a:chExt cx="7489440" cy="5336640"/>
          </a:xfrm>
        </p:grpSpPr>
        <p:grpSp>
          <p:nvGrpSpPr>
            <p:cNvPr id="261" name=""/>
            <p:cNvGrpSpPr/>
            <p:nvPr/>
          </p:nvGrpSpPr>
          <p:grpSpPr>
            <a:xfrm>
              <a:off x="539640" y="655560"/>
              <a:ext cx="2286000" cy="3200400"/>
              <a:chOff x="539640" y="655560"/>
              <a:chExt cx="2286000" cy="3200400"/>
            </a:xfrm>
          </p:grpSpPr>
          <p:sp>
            <p:nvSpPr>
              <p:cNvPr id="262" name=""/>
              <p:cNvSpPr/>
              <p:nvPr/>
            </p:nvSpPr>
            <p:spPr>
              <a:xfrm>
                <a:off x="691920" y="286524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cou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9640" y="18748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lend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77720" y="2408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30360" y="3322440"/>
                <a:ext cx="0" cy="53352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30360" y="3855960"/>
                <a:ext cx="83808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68440" y="655560"/>
                <a:ext cx="0" cy="32004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30360" y="3322440"/>
                <a:ext cx="0" cy="457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68440" y="655560"/>
                <a:ext cx="45720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823840" y="399960"/>
              <a:ext cx="2362320" cy="5336640"/>
              <a:chOff x="2823840" y="399960"/>
              <a:chExt cx="2362320" cy="5336640"/>
            </a:xfrm>
          </p:grpSpPr>
          <p:sp>
            <p:nvSpPr>
              <p:cNvPr id="271" name=""/>
              <p:cNvSpPr/>
              <p:nvPr/>
            </p:nvSpPr>
            <p:spPr>
              <a:xfrm>
                <a:off x="3433680" y="8571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il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28760" y="15429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ard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76480" y="3067200"/>
                <a:ext cx="19810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illing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Prepar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81040" y="421020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mb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52440" y="4971960"/>
                <a:ext cx="182880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illing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inish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52440" y="23050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ckwas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23840" y="399960"/>
                <a:ext cx="2210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ffff"/>
                    </a:solidFill>
                    <a:latin typeface="Arial"/>
                  </a:rPr>
                  <a:t>TOPMAKING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90880" y="1238400"/>
                <a:ext cx="0" cy="4572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90880" y="1924200"/>
                <a:ext cx="0" cy="4572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0880" y="2685960"/>
                <a:ext cx="0" cy="4572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90880" y="3828960"/>
                <a:ext cx="0" cy="4572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90880" y="4591080"/>
                <a:ext cx="0" cy="45720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981320" y="399960"/>
              <a:ext cx="3047760" cy="4984560"/>
              <a:chOff x="4981320" y="399960"/>
              <a:chExt cx="3047760" cy="4984560"/>
            </a:xfrm>
          </p:grpSpPr>
          <p:sp>
            <p:nvSpPr>
              <p:cNvPr id="284" name=""/>
              <p:cNvSpPr/>
              <p:nvPr/>
            </p:nvSpPr>
            <p:spPr>
              <a:xfrm>
                <a:off x="5971680" y="399960"/>
                <a:ext cx="2057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ff00"/>
                    </a:solidFill>
                    <a:latin typeface="Arial"/>
                  </a:rPr>
                  <a:t>SPINNING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71680" y="964800"/>
                <a:ext cx="175284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illing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Drawing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00280" y="20314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v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48000" y="27936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inn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24320" y="357156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inding &amp; Cle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24320" y="477468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wis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81320" y="5384520"/>
                <a:ext cx="60948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590800" y="659520"/>
                <a:ext cx="0" cy="472428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90800" y="659880"/>
                <a:ext cx="45720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10120" y="4393800"/>
                <a:ext cx="0" cy="45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10120" y="3174480"/>
                <a:ext cx="0" cy="45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10120" y="2412720"/>
                <a:ext cx="0" cy="45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0120" y="1650600"/>
                <a:ext cx="0" cy="456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ACED-841B-492D-B779-08740C9193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 rot="20652600">
            <a:off x="1274400" y="731880"/>
            <a:ext cx="6985080" cy="4021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748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orsted card for wool is more compact but has the same basic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2000" y="3357720"/>
            <a:ext cx="1727280" cy="71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42960" y="3357720"/>
            <a:ext cx="1768320" cy="768240"/>
            <a:chOff x="642960" y="3357720"/>
            <a:chExt cx="1768320" cy="768240"/>
          </a:xfrm>
        </p:grpSpPr>
        <p:sp>
          <p:nvSpPr>
            <p:cNvPr id="301" name=""/>
            <p:cNvSpPr/>
            <p:nvPr/>
          </p:nvSpPr>
          <p:spPr>
            <a:xfrm>
              <a:off x="642960" y="3727080"/>
              <a:ext cx="176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pper fe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42960" y="3357720"/>
              <a:ext cx="1631880" cy="612360"/>
              <a:chOff x="642960" y="3357720"/>
              <a:chExt cx="1631880" cy="612360"/>
            </a:xfrm>
          </p:grpSpPr>
          <p:sp>
            <p:nvSpPr>
              <p:cNvPr id="303" name=""/>
              <p:cNvSpPr/>
              <p:nvPr/>
            </p:nvSpPr>
            <p:spPr>
              <a:xfrm>
                <a:off x="642960" y="3603600"/>
                <a:ext cx="16318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1254240" y="3357720"/>
                <a:ext cx="205200" cy="36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7248600" y="162864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o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4941720"/>
            <a:ext cx="84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hick rope of carded fibres, a 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sli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wound into a can for the nex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07CF-2EA0-47A5-9B4E-BE248389EF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-27360"/>
            <a:ext cx="849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 of gi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320040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90a8"/>
                </a:solidFill>
                <a:latin typeface="Arial Narrow"/>
              </a:rPr>
              <a:t>The front rollers rotate faster than the back rollers to </a:t>
            </a:r>
            <a:r>
              <a:rPr b="0" lang="en-US" sz="2200" spc="-1" strike="noStrike" u="sng">
                <a:solidFill>
                  <a:srgbClr val="5490a8"/>
                </a:solidFill>
                <a:uFillTx/>
                <a:latin typeface="Arial Narrow"/>
              </a:rPr>
              <a:t>draft</a:t>
            </a:r>
            <a:r>
              <a:rPr b="0" lang="en-US" sz="2200" spc="-1" strike="noStrike">
                <a:solidFill>
                  <a:srgbClr val="5490a8"/>
                </a:solidFill>
                <a:latin typeface="Arial Narrow"/>
              </a:rPr>
              <a:t> the fi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5000" y="2144880"/>
            <a:ext cx="2437920" cy="2440800"/>
            <a:chOff x="5715000" y="2144880"/>
            <a:chExt cx="2437920" cy="2440800"/>
          </a:xfrm>
        </p:grpSpPr>
        <p:sp>
          <p:nvSpPr>
            <p:cNvPr id="310" name=""/>
            <p:cNvSpPr/>
            <p:nvPr/>
          </p:nvSpPr>
          <p:spPr>
            <a:xfrm>
              <a:off x="6019560" y="214488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1b65"/>
                  </a:solidFill>
                  <a:latin typeface="Arial"/>
                </a:rPr>
                <a:t>Back roll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5880" y="412596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1b65"/>
                  </a:solidFill>
                  <a:latin typeface="Arial"/>
                </a:rPr>
                <a:t>Front roll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715000" y="237348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790960" y="4354560"/>
              <a:ext cx="3045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143000" y="2525760"/>
            <a:ext cx="2514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 Narrow"/>
              </a:rPr>
              <a:t>Lines of pins are pulled through the combined  slivers to straighten and align  the fi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962520" y="620640"/>
            <a:ext cx="1980720" cy="4876920"/>
            <a:chOff x="3962520" y="620640"/>
            <a:chExt cx="1980720" cy="4876920"/>
          </a:xfrm>
        </p:grpSpPr>
        <p:grpSp>
          <p:nvGrpSpPr>
            <p:cNvPr id="316" name=""/>
            <p:cNvGrpSpPr/>
            <p:nvPr/>
          </p:nvGrpSpPr>
          <p:grpSpPr>
            <a:xfrm>
              <a:off x="4191120" y="3745080"/>
              <a:ext cx="1447560" cy="152280"/>
              <a:chOff x="4191120" y="3745080"/>
              <a:chExt cx="1447560" cy="152280"/>
            </a:xfrm>
          </p:grpSpPr>
          <p:sp>
            <p:nvSpPr>
              <p:cNvPr id="317" name=""/>
              <p:cNvSpPr/>
              <p:nvPr/>
            </p:nvSpPr>
            <p:spPr>
              <a:xfrm>
                <a:off x="4191120" y="3745080"/>
                <a:ext cx="144756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67080" y="37450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10080" y="37450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181480" y="37450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95680" y="37450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191120" y="3516480"/>
              <a:ext cx="1447560" cy="152280"/>
              <a:chOff x="4191120" y="3516480"/>
              <a:chExt cx="144756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4191120" y="3516480"/>
                <a:ext cx="144756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67080" y="35164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10080" y="35164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81480" y="35164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95680" y="35164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191120" y="3287880"/>
              <a:ext cx="1447560" cy="152280"/>
              <a:chOff x="4191120" y="3287880"/>
              <a:chExt cx="1447560" cy="152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191120" y="3287880"/>
                <a:ext cx="144756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67080" y="32878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32878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480" y="32878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95680" y="32878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191120" y="3059280"/>
              <a:ext cx="1447560" cy="152280"/>
              <a:chOff x="4191120" y="3059280"/>
              <a:chExt cx="1447560" cy="152280"/>
            </a:xfrm>
          </p:grpSpPr>
          <p:sp>
            <p:nvSpPr>
              <p:cNvPr id="335" name=""/>
              <p:cNvSpPr/>
              <p:nvPr/>
            </p:nvSpPr>
            <p:spPr>
              <a:xfrm>
                <a:off x="4191120" y="3059280"/>
                <a:ext cx="144756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67080" y="30592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10080" y="30592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30592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95680" y="30592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191120" y="2830680"/>
              <a:ext cx="1447560" cy="152280"/>
              <a:chOff x="4191120" y="2830680"/>
              <a:chExt cx="144756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91120" y="2830680"/>
                <a:ext cx="1447560" cy="152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67080" y="28306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10080" y="28306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81480" y="28306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95680" y="2830680"/>
                <a:ext cx="152640" cy="152280"/>
              </a:xfrm>
              <a:prstGeom prst="ellipse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4114800" y="199224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91120" y="21448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1120" y="404964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4202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2520" y="696960"/>
              <a:ext cx="609480" cy="16002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7080" y="620640"/>
              <a:ext cx="457200" cy="16765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24280" y="620640"/>
              <a:ext cx="152640" cy="16765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028840" y="620640"/>
              <a:ext cx="152280" cy="16002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105520" y="620640"/>
              <a:ext cx="457200" cy="16765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257440" y="696960"/>
              <a:ext cx="685800" cy="15238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1448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0" y="2602080"/>
              <a:ext cx="685800" cy="1600200"/>
            </a:xfrm>
            <a:custGeom>
              <a:avLst/>
              <a:gdLst>
                <a:gd name="textAreaLeft" fmla="*/ 176040 w 685800"/>
                <a:gd name="textAreaRight" fmla="*/ 509760 w 685800"/>
                <a:gd name="textAreaTop" fmla="*/ 411120 h 1600200"/>
                <a:gd name="textAreaBottom" fmla="*/ 11890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760" y="21600"/>
                  </a:lnTo>
                  <a:lnTo>
                    <a:pt x="6840" y="216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24280" y="4659480"/>
              <a:ext cx="381240" cy="838080"/>
            </a:xfrm>
            <a:prstGeom prst="downArrow">
              <a:avLst>
                <a:gd name="adj1" fmla="val 50000"/>
                <a:gd name="adj2" fmla="val 54958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28306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4280" y="28306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4280" y="30592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30592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24280" y="32878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32878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24280" y="35164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35164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37450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3745080"/>
              <a:ext cx="152640" cy="152280"/>
            </a:xfrm>
            <a:prstGeom prst="ellipse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38480" y="283068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91320" y="2830680"/>
              <a:ext cx="0" cy="106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68360" y="1022400"/>
            <a:ext cx="33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 Narrow"/>
              </a:rPr>
              <a:t>Multiple ends of sliver entering the gillbox together facilitate good fibre bl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4406760"/>
            <a:ext cx="417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65"/>
                </a:solidFill>
                <a:latin typeface="Arial Narrow"/>
              </a:rPr>
              <a:t>By the drafting the gilled sliver exits with a lower linear density than the combined slivers entering th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A6B1-782E-44DA-AE25-D9B06F8A27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7556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535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mportant step in the worsted process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long fibres (top) and short fibres (noi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wool (or cotton) faults – neps, burrs and vegetabl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material (noil) recycled back to woolle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20 slivers fed simultaneously so get good blending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87760" cy="22100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508720" y="3141720"/>
            <a:ext cx="3406680" cy="22827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746B-47EC-45CC-925E-FD09A1DBEF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554508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ing (or draf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655200"/>
            <a:ext cx="483552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worsted process a thick rope of fibres is drafted to a thin uniform strand, called a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o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may be performed by pairs of roller running at different sp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drafting steps may be required to achieve the right roving thickness for spi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819760" y="4680000"/>
            <a:ext cx="3059280" cy="49536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6156360" y="549360"/>
            <a:ext cx="2376360" cy="4394160"/>
            <a:chOff x="6156360" y="549360"/>
            <a:chExt cx="2376360" cy="4394160"/>
          </a:xfrm>
        </p:grpSpPr>
        <p:sp>
          <p:nvSpPr>
            <p:cNvPr id="381" name=""/>
            <p:cNvSpPr/>
            <p:nvPr/>
          </p:nvSpPr>
          <p:spPr>
            <a:xfrm>
              <a:off x="6157800" y="2062080"/>
              <a:ext cx="1366920" cy="2872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56360" y="3286080"/>
              <a:ext cx="1368360" cy="2872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59640" y="1052640"/>
              <a:ext cx="360360" cy="10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59640" y="2060640"/>
              <a:ext cx="360360" cy="1368360"/>
            </a:xfrm>
            <a:custGeom>
              <a:avLst/>
              <a:gdLst>
                <a:gd name="textAreaLeft" fmla="*/ 102240 w 360360"/>
                <a:gd name="textAreaRight" fmla="*/ 258120 w 360360"/>
                <a:gd name="textAreaTop" fmla="*/ 388800 h 1368360"/>
                <a:gd name="textAreaBottom" fmla="*/ 97956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702" y="21600"/>
                  </a:lnTo>
                  <a:lnTo>
                    <a:pt x="7898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04000" y="3429000"/>
              <a:ext cx="73080" cy="1008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56360" y="1989000"/>
              <a:ext cx="1368360" cy="2876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56360" y="3213000"/>
              <a:ext cx="1368360" cy="2872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24720" y="18446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Slow roll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24720" y="307512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 Narrow"/>
                </a:rPr>
                <a:t>Fast roll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77080" y="4508640"/>
              <a:ext cx="0" cy="433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77080" y="549360"/>
              <a:ext cx="0" cy="503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3080" y="5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Sliver 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93080" y="45752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Roving 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EC98-5F42-43BE-BE1D-FF81BA0EDF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38512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681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ing spinning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most common method, involv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rafting of roving down to thickness required in y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yarn by insertion of tw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yarn package on fast rotating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spi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397480" y="44280"/>
            <a:ext cx="1766880" cy="6216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308720" y="549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Roving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6000" y="1916280"/>
            <a:ext cx="15127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rafting z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(for thinning the rov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4360" y="4365720"/>
            <a:ext cx="1447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pindle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(up to  17,000 r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BD04-B88B-46D0-A89A-E93117D85A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-100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steps in worsted spi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942480"/>
            <a:ext cx="598644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oclaving or chemical set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minates tendency of yarn to ‘snarl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ea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volves automatically detecting and removing faults (thick or thin place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wis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bines two (or more) yarns to provide improved strength and even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yarn is ready for weaving, knitting or tuf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516720" y="765000"/>
            <a:ext cx="2015640" cy="4392720"/>
            <a:chOff x="6516720" y="765000"/>
            <a:chExt cx="2015640" cy="439272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7272360" y="765000"/>
              <a:ext cx="1260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516720" y="3648600"/>
              <a:ext cx="10072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978-06FF-4F1A-B072-D0C753861D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-171720"/>
            <a:ext cx="66675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sted yarn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arison with woollen spun yarns, worsted yar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very high level of fibre alignment with almost all fibres following the helical path imposed by tw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are very reg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very few fibre ends protruding from the yarn surface, so have a smooth feel and appea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ow bulk and firm han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 to be stronger (for similar twist and fibre lengt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of around 40 fibres in yarn cross-section (compared to a lower limit of around 110 fibres needed for a typical woollen-spun yar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8112240" y="404640"/>
            <a:ext cx="636480" cy="46832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F0E5-4311-4702-AF53-85701C5C80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3640" y="-27000"/>
            <a:ext cx="8001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worsted spi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er version of worsted, without comb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sound wool of good length with no vegetable m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s a yarn with properties between woollen and worsted (smooth, even, stro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568840" y="981000"/>
            <a:ext cx="339588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8ACA-4667-4CD5-A4E4-19CA052F592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1FE6-9302-4A14-B524-FD42EECE19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steps in textile proc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4360" y="1628640"/>
            <a:ext cx="7848000" cy="3962520"/>
            <a:chOff x="684360" y="1628640"/>
            <a:chExt cx="7848000" cy="3962520"/>
          </a:xfrm>
        </p:grpSpPr>
        <p:sp>
          <p:nvSpPr>
            <p:cNvPr id="95" name=""/>
            <p:cNvSpPr/>
            <p:nvPr/>
          </p:nvSpPr>
          <p:spPr>
            <a:xfrm flipV="1">
              <a:off x="5869080" y="4508280"/>
              <a:ext cx="1080720" cy="433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8360" y="2637000"/>
              <a:ext cx="1152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13080" y="2421000"/>
              <a:ext cx="1150560" cy="36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4720" y="1844640"/>
              <a:ext cx="57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4360" y="1628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Arial"/>
                </a:rPr>
                <a:t>Staple fib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2720" y="2990880"/>
              <a:ext cx="1223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pi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65800" y="3573360"/>
              <a:ext cx="115056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1440" y="1982880"/>
              <a:ext cx="1510920" cy="36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wove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21440" y="2990880"/>
              <a:ext cx="1510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ni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21440" y="4141800"/>
              <a:ext cx="1510920" cy="36828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21440" y="5222880"/>
              <a:ext cx="151092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f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360" y="400536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Arial"/>
                </a:rPr>
                <a:t>Continuous fil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9440" y="1989000"/>
              <a:ext cx="718560" cy="432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484360" y="3860640"/>
              <a:ext cx="2808000" cy="432000"/>
            </a:xfrm>
            <a:prstGeom prst="line">
              <a:avLst/>
            </a:prstGeom>
            <a:ln w="381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2360" y="2852640"/>
              <a:ext cx="288720" cy="1447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440" y="3429000"/>
              <a:ext cx="286920" cy="144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637080" y="2133360"/>
              <a:ext cx="3312720" cy="431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589800" y="3357720"/>
              <a:ext cx="286920" cy="14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16720" y="3933720"/>
              <a:ext cx="433080" cy="216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3800" y="4076640"/>
              <a:ext cx="576000" cy="1081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57800" y="4724280"/>
              <a:ext cx="14392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ur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4360" y="4508640"/>
              <a:ext cx="1800000" cy="36036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9080" y="5084640"/>
              <a:ext cx="1080720" cy="289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67280" y="3429000"/>
              <a:ext cx="1298160" cy="1295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522A-377B-46D2-BD24-166F1198A3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3920"/>
            <a:ext cx="80010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nning of staple fib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lternative conventional ro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lle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st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-worst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vary 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steps involved (complex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irements for the raw materials (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acteristics of the yarns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-products made from the ya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771-D1F1-4D7F-8A06-DE0517F82F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features of th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507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 most severe process on the fibr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and disentangles the clumps of f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s the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vegetabl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s the fibres appropriately for the nex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s twist in the strand of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an even, twisted strand of the required th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wo or more yarns together for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D148-ABB1-476A-B049-53D1CAEB6A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7000" y="-100080"/>
            <a:ext cx="8001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hanical processing of w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576360"/>
            <a:ext cx="88200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liver or slubbing formation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- achieved by card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isentangling and mixing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moving vegetable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ming continuous web, sliver or slub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26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eparing carded sliver for spinning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(omitted from woollen spinning route) – achieved by gilling, combing and draw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bre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moval of short fibres, neps and other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arn 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mparting cohesion through twist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wisting for folded yarn, package formation,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51E5-1E05-4E5D-BBEB-2BE49D404C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66520" y="-27360"/>
            <a:ext cx="67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city of the woollen rou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62320" y="620640"/>
            <a:ext cx="3657600" cy="5250960"/>
            <a:chOff x="2362320" y="620640"/>
            <a:chExt cx="3657600" cy="5250960"/>
          </a:xfrm>
        </p:grpSpPr>
        <p:sp>
          <p:nvSpPr>
            <p:cNvPr id="127" name=""/>
            <p:cNvSpPr/>
            <p:nvPr/>
          </p:nvSpPr>
          <p:spPr>
            <a:xfrm>
              <a:off x="4114800" y="5040360"/>
              <a:ext cx="0" cy="3808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4278240"/>
              <a:ext cx="0" cy="3808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4800" y="3516120"/>
              <a:ext cx="0" cy="381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754360"/>
              <a:ext cx="0" cy="3808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1992240"/>
              <a:ext cx="0" cy="3808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95480" y="620640"/>
              <a:ext cx="24386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Wool sco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1611360"/>
              <a:ext cx="3657600" cy="459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lending and lubrica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2373120"/>
              <a:ext cx="1676520" cy="459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Car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3135240"/>
              <a:ext cx="1676520" cy="459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Spi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19520" y="4649760"/>
              <a:ext cx="274320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Scouring / S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3887640"/>
              <a:ext cx="1676520" cy="459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wi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76720" y="5411880"/>
              <a:ext cx="1676160" cy="459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C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1077840"/>
              <a:ext cx="0" cy="5335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79960" y="1054080"/>
            <a:ext cx="4495680" cy="4361400"/>
            <a:chOff x="4179960" y="1054080"/>
            <a:chExt cx="4495680" cy="4361400"/>
          </a:xfrm>
        </p:grpSpPr>
        <p:sp>
          <p:nvSpPr>
            <p:cNvPr id="141" name=""/>
            <p:cNvSpPr/>
            <p:nvPr/>
          </p:nvSpPr>
          <p:spPr>
            <a:xfrm flipH="1">
              <a:off x="4179960" y="5245200"/>
              <a:ext cx="2362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331880" y="135900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6840" y="1054080"/>
              <a:ext cx="152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oose stock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dye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9640" y="50166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Hank dye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89640" y="2425680"/>
              <a:ext cx="2286000" cy="1472400"/>
            </a:xfrm>
            <a:prstGeom prst="rect">
              <a:avLst/>
            </a:prstGeom>
            <a:noFill/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 Narrow"/>
                </a:rPr>
                <a:t>Blue indicates essential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 Narrow"/>
                </a:rPr>
                <a:t>Red italics indicates optional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960" y="425448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Hanking   (unless Twistse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08200" y="4483080"/>
              <a:ext cx="2438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E074-E170-4C51-B907-9F71148DBB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74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ng is achieved by the interaction of toothed rollers with the fib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498840" cy="183672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357800" y="2052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43480" y="3716280"/>
            <a:ext cx="1415880" cy="1657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720880" y="434664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10280" y="1981080"/>
            <a:ext cx="1665360" cy="23385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164360" y="45021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F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67CA-2D1E-4D26-A436-6A7AF9769D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9296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yout of a typical woollen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6640" y="3213000"/>
            <a:ext cx="7314840" cy="2136240"/>
            <a:chOff x="836640" y="3213000"/>
            <a:chExt cx="7314840" cy="2136240"/>
          </a:xfrm>
        </p:grpSpPr>
        <p:sp>
          <p:nvSpPr>
            <p:cNvPr id="157" name=""/>
            <p:cNvSpPr/>
            <p:nvPr/>
          </p:nvSpPr>
          <p:spPr>
            <a:xfrm>
              <a:off x="1751040" y="4127400"/>
              <a:ext cx="304920" cy="152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50000">
                  <a:srgbClr val="969696"/>
                </a:gs>
                <a:gs pos="100000">
                  <a:srgbClr val="29292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1040" y="3898800"/>
              <a:ext cx="304920" cy="1522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50000">
                  <a:srgbClr val="969696"/>
                </a:gs>
                <a:gs pos="100000">
                  <a:srgbClr val="29292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6640" y="3517920"/>
              <a:ext cx="914400" cy="7596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6640" y="33652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36840" y="4279680"/>
              <a:ext cx="304920" cy="304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1760" y="4279680"/>
              <a:ext cx="304560" cy="304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0360" y="3670200"/>
              <a:ext cx="914400" cy="9144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8440" y="4203720"/>
              <a:ext cx="609480" cy="609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6520" y="3670200"/>
              <a:ext cx="914400" cy="9144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17920" y="4279680"/>
              <a:ext cx="304920" cy="304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4960" y="4203720"/>
              <a:ext cx="609480" cy="609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674720" y="4356000"/>
              <a:ext cx="685800" cy="7632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551640" y="3441600"/>
              <a:ext cx="1295280" cy="1295280"/>
              <a:chOff x="6551640" y="3441600"/>
              <a:chExt cx="1295280" cy="1295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551640" y="3441600"/>
                <a:ext cx="1295280" cy="1295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6551640" y="35168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008480" y="35168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465680" y="35168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551640" y="35938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008480" y="35938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65680" y="35938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6551640" y="38224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7008480" y="38224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465680" y="38224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551640" y="38977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008480" y="38977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465680" y="38977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551640" y="41263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551640" y="42026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008480" y="41263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008480" y="42026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465680" y="412632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7465680" y="42026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551640" y="44312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551640" y="45082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008480" y="44312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008480" y="45082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465680" y="4431240"/>
                <a:ext cx="380880" cy="759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465680" y="4508280"/>
                <a:ext cx="380880" cy="7560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7922520" y="3441600"/>
              <a:ext cx="228600" cy="22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22520" y="3746520"/>
              <a:ext cx="228600" cy="22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922520" y="4051080"/>
              <a:ext cx="228600" cy="22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922520" y="4356000"/>
              <a:ext cx="228600" cy="22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46720" y="38988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46720" y="4127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323040" y="35935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99360" y="4356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9360" y="389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399360" y="42033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6920" y="3593880"/>
              <a:ext cx="152640" cy="152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46920" y="3898800"/>
              <a:ext cx="15264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46920" y="4203720"/>
              <a:ext cx="152640" cy="15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46920" y="4508280"/>
              <a:ext cx="152640" cy="152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9120" y="32130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1760" y="405108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4040" y="36702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8960" y="34416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9840" y="351792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440" y="36702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7920" y="397512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0560" y="36702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5120" y="344160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6360" y="351792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0920" y="3746520"/>
              <a:ext cx="228600" cy="2286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65440" y="4813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Arial Narrow"/>
                </a:rPr>
                <a:t>Carder s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6720" y="4889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Conden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6640" y="450828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Narrow"/>
                </a:rPr>
                <a:t>Intermediate f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6640" y="43560"/>
            <a:ext cx="7696080" cy="2517480"/>
            <a:chOff x="836640" y="43560"/>
            <a:chExt cx="7696080" cy="2517480"/>
          </a:xfrm>
        </p:grpSpPr>
        <p:grpSp>
          <p:nvGrpSpPr>
            <p:cNvPr id="224" name=""/>
            <p:cNvGrpSpPr/>
            <p:nvPr/>
          </p:nvGrpSpPr>
          <p:grpSpPr>
            <a:xfrm>
              <a:off x="912960" y="1187280"/>
              <a:ext cx="990000" cy="1143000"/>
              <a:chOff x="912960" y="1187280"/>
              <a:chExt cx="990000" cy="1143000"/>
            </a:xfrm>
          </p:grpSpPr>
          <p:sp>
            <p:nvSpPr>
              <p:cNvPr id="225" name=""/>
              <p:cNvSpPr/>
              <p:nvPr/>
            </p:nvSpPr>
            <p:spPr>
              <a:xfrm>
                <a:off x="912960" y="1187280"/>
                <a:ext cx="540000" cy="114300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52960" y="1187280"/>
                <a:ext cx="450000" cy="6098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52960" y="1187280"/>
                <a:ext cx="0" cy="60984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665440" y="1720800"/>
              <a:ext cx="380880" cy="38088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6320" y="1568160"/>
              <a:ext cx="609840" cy="6098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79840" y="1949400"/>
              <a:ext cx="380880" cy="38088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4760" y="1415880"/>
              <a:ext cx="838080" cy="83808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2840" y="1720800"/>
              <a:ext cx="685800" cy="6858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0720" y="126360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5640" y="118728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0560" y="133956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70360" y="141588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74920" y="133956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2120" y="1492200"/>
              <a:ext cx="228600" cy="228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37240" y="1796760"/>
              <a:ext cx="30492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7240" y="21016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7971200">
              <a:off x="836640" y="1796400"/>
              <a:ext cx="990720" cy="76320"/>
            </a:xfrm>
            <a:prstGeom prst="roundRect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74720" y="1949400"/>
              <a:ext cx="990720" cy="75960"/>
            </a:xfrm>
            <a:prstGeom prst="roundRect">
              <a:avLst>
                <a:gd name="adj" fmla="val 50000"/>
              </a:avLst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6094440" y="1491840"/>
              <a:ext cx="990360" cy="7632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6323040" y="1568160"/>
              <a:ext cx="838080" cy="7632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0760" y="2101680"/>
              <a:ext cx="533160" cy="7632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56560" y="1187280"/>
              <a:ext cx="914400" cy="76320"/>
            </a:xfrm>
            <a:prstGeom prst="roundRect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2520" y="1035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6560" y="14158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 Narrow"/>
                </a:rPr>
                <a:t>Intermediate f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11400">
              <a:off x="4914360" y="690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Arial Narrow"/>
                </a:rPr>
                <a:t>Peralta roll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5440" y="577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cc0066"/>
                  </a:solidFill>
                  <a:latin typeface="Arial Narrow"/>
                </a:rPr>
                <a:t>Scribbler s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6640" y="577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3366cc"/>
                  </a:solidFill>
                  <a:latin typeface="Arial Narrow"/>
                </a:rPr>
                <a:t>Feed h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71800" y="21621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cc0066"/>
                  </a:solidFill>
                  <a:latin typeface="Arial Narrow"/>
                </a:rPr>
                <a:t>Breast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3A9E-F10A-4AF6-94F2-0379AECE89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22160" y="692280"/>
            <a:ext cx="3129120" cy="4897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24360" y="763560"/>
            <a:ext cx="3129120" cy="4753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718160" y="2913120"/>
            <a:ext cx="290520" cy="1941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57840" y="4010040"/>
            <a:ext cx="372960" cy="3207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234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singles y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ollen ring spinning fr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2A5E-482F-4FAB-ABB4-34602FDF7A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rroberts</cp:lastModifiedBy>
  <dcterms:modified xsi:type="dcterms:W3CDTF">2006-08-11T02:17:55Z</dcterms:modified>
  <cp:revision>63</cp:revision>
  <dc:subject/>
  <dc:title>PowerPoint Presentation</dc:title>
</cp:coreProperties>
</file>